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78F-7C78-485D-ACDB-91C4EA5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0A3-8744-4EE1-869F-2754DA66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C73-6AE2-4B97-99A6-3EE80039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F6B-1110-42F5-8C63-9CEBD277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CBD0-33B7-4178-A8F9-DBF882E4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39F5-5A7C-450B-9D84-3C0680C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EC6-FB40-4343-A680-973613C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F023-03EA-4BE7-87E0-9A6017E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31E7-538C-4DDB-8BEF-E646F0FC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232A-7A96-4B2F-9E27-2F42FE24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8FAF-C43E-46F6-80D1-E9F5F5C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4C8-0B3E-449E-8425-13ABCB4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97C7-A76B-47C0-8DB5-77D81B7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E33D-F5ED-4072-BCE8-4419BFB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94C-69B3-4116-A986-628F1EC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4B0-BC18-4CF7-8B05-DFB8051B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490B-9ED2-496F-BBCD-B2AF4C3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26D9-8F39-4E8D-98DF-42601EB2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A1B2-472A-419B-8387-DB4BB36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B44B-0D4F-41E2-890E-2A30CAE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A2D5-0D27-49FB-B1AA-0166B462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2319-C50B-40B3-AAE5-11CEFEF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DC2-F8A9-409E-ABE6-0ABCC48E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A64D-556B-4861-8647-5914163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94D2-B9DA-439E-A4E5-E4F7EF3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E3F1-393C-4DB4-A46E-AFB61B9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25FB-CC20-41F3-B2B4-4AF2C54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C4E2-1350-48D7-91FB-EE5C74E3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9D5D-7232-4EC3-867C-D2861B39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3676-8997-407F-BBCC-D71AD57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7132-9C07-41AC-8E8C-5372913C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90F9-60A4-4A96-86B2-C04A4C88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FE85-4DEB-4162-A064-4FEEEC2F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E66-CE14-4B70-9843-C825E9F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F133-C7D3-4B18-BF15-10B8278F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6FEE-CF70-4BE3-B3A2-ABD7346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C85F-3DA8-4A5A-989D-546AE91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4E4E-8AD7-4DCD-8FC8-753094C4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41CC-339A-460C-B3ED-34736168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111F-01ED-4605-AF7C-A769384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F79A-71E3-4541-97B9-D71A7030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0E3F-7F3E-47E8-AB38-76C03241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05CB-D8BE-4744-B46B-68EBB367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104-E86B-4C23-9BCB-66F8C19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21F-B5BB-4DAC-8A38-ADCB070C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DAF-2382-4E80-BA31-DB45823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1B8-9E96-483B-BC22-637BBF85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CF6-369D-4228-B5CF-5E22004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7D3DD4-17C9-40E6-8E30-ADA79A1A0E83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90EBBF-14AF-41A0-B816-358EE147F7D5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4E3D9A-7C06-4F80-A307-E896E598BF76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E334138-5BD2-4791-9F13-3FF8DC9A1AF4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01hotels.ru/main/cities/Syktyvkar/points" TargetMode="External"/><Relationship Id="rId2" Type="http://schemas.openxmlformats.org/officeDocument/2006/relationships/hyperlink" Target="http://www.komandirovka.ru/dostoprim/detail.php?ID=124534836" TargetMode="External"/><Relationship Id="rId3" Type="http://schemas.openxmlformats.org/officeDocument/2006/relationships/hyperlink" Target="http://mp3tusovk/" TargetMode="External"/><Relationship Id="rId4" Type="http://schemas.openxmlformats.org/officeDocument/2006/relationships/hyperlink" Target="http://mp3tusovk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oldsyktyvkar.ru/new/?page_id=2601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3640" y="404640"/>
            <a:ext cx="662436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Вчера, сегодня: из погоста Усть- Сысольск в город Сыктывк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5724000" y="5661360"/>
            <a:ext cx="33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Усо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ДОУ «ЦРР – Д/С№1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7" name="Picture 4" descr="http://respublika11.ru/wp-content/uploads/2020/02/10660-777x437.jpg"/>
          <p:cNvPicPr/>
          <p:nvPr/>
        </p:nvPicPr>
        <p:blipFill>
          <a:blip r:embed="rId1"/>
          <a:stretch/>
        </p:blipFill>
        <p:spPr>
          <a:xfrm>
            <a:off x="899280" y="1268640"/>
            <a:ext cx="6279840" cy="35316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http://oldsyktyvkar.ru/new/wp-content/uploads/photo_120_1.jpg"/>
          <p:cNvPicPr/>
          <p:nvPr/>
        </p:nvPicPr>
        <p:blipFill>
          <a:blip r:embed="rId1"/>
          <a:stretch/>
        </p:blipFill>
        <p:spPr>
          <a:xfrm>
            <a:off x="460440" y="167400"/>
            <a:ext cx="3524040" cy="4533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oldsyktyvkar.ru/new/wp-content/uploads/photo_120_2-850x623.jpg"/>
          <p:cNvPicPr/>
          <p:nvPr/>
        </p:nvPicPr>
        <p:blipFill>
          <a:blip r:embed="rId2"/>
          <a:stretch/>
        </p:blipFill>
        <p:spPr>
          <a:xfrm>
            <a:off x="4428000" y="3069000"/>
            <a:ext cx="4413600" cy="32346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539640" y="5013000"/>
            <a:ext cx="352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м купца Г.Д. Оплеснина, был построен 1908 году, с магазином на первом эт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s://nailizakon.com/fotogalereya/city18_s/syktyvkar/shkola_13_1930.jpg"/>
          <p:cNvPicPr/>
          <p:nvPr/>
        </p:nvPicPr>
        <p:blipFill>
          <a:blip r:embed="rId1"/>
          <a:stretch/>
        </p:blipFill>
        <p:spPr>
          <a:xfrm>
            <a:off x="827640" y="1052640"/>
            <a:ext cx="7848360" cy="516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33" name="TextBox 1"/>
          <p:cNvSpPr/>
          <p:nvPr/>
        </p:nvSpPr>
        <p:spPr>
          <a:xfrm>
            <a:off x="755640" y="40464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кола, местечко Кир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oldsyktyvkar.ru/new/wp-content/uploads/photo_087_1-850x591.jpg"/>
          <p:cNvPicPr/>
          <p:nvPr/>
        </p:nvPicPr>
        <p:blipFill>
          <a:blip r:embed="rId1"/>
          <a:stretch/>
        </p:blipFill>
        <p:spPr>
          <a:xfrm>
            <a:off x="390960" y="404640"/>
            <a:ext cx="3954600" cy="2749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5" name="Picture 4" descr="http://oldsyktyvkar.ru/new/wp-content/uploads/photo_087_2-850x614.jpg"/>
          <p:cNvPicPr/>
          <p:nvPr/>
        </p:nvPicPr>
        <p:blipFill>
          <a:blip r:embed="rId2"/>
          <a:stretch/>
        </p:blipFill>
        <p:spPr>
          <a:xfrm>
            <a:off x="238680" y="3501000"/>
            <a:ext cx="4078080" cy="2945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6" name="Picture 2" descr="https://www.bnkomi.ru/content/news/images/46900/Sobor_prev_original.jpg"/>
          <p:cNvPicPr/>
          <p:nvPr/>
        </p:nvPicPr>
        <p:blipFill>
          <a:blip r:embed="rId3"/>
          <a:stretch/>
        </p:blipFill>
        <p:spPr>
          <a:xfrm>
            <a:off x="4932000" y="260640"/>
            <a:ext cx="3888000" cy="246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37" name="TextBox 1"/>
          <p:cNvSpPr/>
          <p:nvPr/>
        </p:nvSpPr>
        <p:spPr>
          <a:xfrm>
            <a:off x="5004000" y="2781000"/>
            <a:ext cx="38160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Стефановская собор — самая большая церковь Коми края - строился в 1856-81 гг. по инициативе и в основном на средства горожан как памятник Стефану Пермском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осле 1918 г. Стефановская церковь стала приходской, а в 1923-24 была закры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С 1927 г. Стефановский собор стал кафедральным храмом обновленческого епископа Усть-Сысольского, который функционировал до 192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 1932 г. Стефановский собор был разрушен, кирпич использован при строительстве каменных домов Сыктывка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899640" y="188640"/>
            <a:ext cx="784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ой из главных в Сыктывкаре является улица Коммунистическая, до советских времен именуемая Трехсветитель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https://oldsyktyvkar.ru/new/wp-content/uploads/photo_351_1.jpg"/>
          <p:cNvPicPr/>
          <p:nvPr/>
        </p:nvPicPr>
        <p:blipFill>
          <a:blip r:embed="rId1"/>
          <a:stretch/>
        </p:blipFill>
        <p:spPr>
          <a:xfrm>
            <a:off x="623520" y="1071360"/>
            <a:ext cx="4028040" cy="2671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0" name="Picture 2" descr="https://oldsyktyvkar.ru/new/wp-content/uploads/photo_428_1-850x695.jpg"/>
          <p:cNvPicPr/>
          <p:nvPr/>
        </p:nvPicPr>
        <p:blipFill>
          <a:blip r:embed="rId2"/>
          <a:stretch/>
        </p:blipFill>
        <p:spPr>
          <a:xfrm>
            <a:off x="5292000" y="1052640"/>
            <a:ext cx="3457080" cy="2628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1" name="Picture 18" descr="https://oldsyktyvkar.ru/new/wp-content/uploads/photo_006_1.jpg"/>
          <p:cNvPicPr/>
          <p:nvPr/>
        </p:nvPicPr>
        <p:blipFill>
          <a:blip r:embed="rId3"/>
          <a:stretch/>
        </p:blipFill>
        <p:spPr>
          <a:xfrm>
            <a:off x="5004000" y="4024080"/>
            <a:ext cx="4019400" cy="25149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2" name="Picture 20" descr="https://oldsyktyvkar.ru/new/wp-content/uploads/photo_007_1.jpg"/>
          <p:cNvPicPr/>
          <p:nvPr/>
        </p:nvPicPr>
        <p:blipFill>
          <a:blip r:embed="rId4"/>
          <a:stretch/>
        </p:blipFill>
        <p:spPr>
          <a:xfrm>
            <a:off x="660600" y="4024080"/>
            <a:ext cx="4025520" cy="2521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2" descr="https://pg11.ru/userfiles/articles/_cke/0/img15777181669147.jpg"/>
          <p:cNvPicPr/>
          <p:nvPr/>
        </p:nvPicPr>
        <p:blipFill>
          <a:blip r:embed="rId1"/>
          <a:stretch/>
        </p:blipFill>
        <p:spPr>
          <a:xfrm>
            <a:off x="5436000" y="4149000"/>
            <a:ext cx="3228120" cy="2152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4" name="Picture 14" descr="https://sun9-east.userapi.com/sun9-44/s/v1/ig2/ex1DQ3oj1AvrhO_-lQ7QBk_fJyl6ty-fsO50tuo6qz3L-jnPVHopn-IHzGPDQeO_jTCTd5jyJpyCkBqrbHDwE8zE.jpg?size=2371x942&amp;quality=95&amp;type=album"/>
          <p:cNvPicPr/>
          <p:nvPr/>
        </p:nvPicPr>
        <p:blipFill>
          <a:blip r:embed="rId2"/>
          <a:stretch/>
        </p:blipFill>
        <p:spPr>
          <a:xfrm>
            <a:off x="398880" y="4581000"/>
            <a:ext cx="4649040" cy="1846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5" name="Picture 16" descr="https://oldsyktyvkar.ru/new/wp-content/uploads/photo_431_1-850x852.jpg"/>
          <p:cNvPicPr/>
          <p:nvPr/>
        </p:nvPicPr>
        <p:blipFill>
          <a:blip r:embed="rId3"/>
          <a:stretch/>
        </p:blipFill>
        <p:spPr>
          <a:xfrm>
            <a:off x="5580000" y="1052640"/>
            <a:ext cx="2720520" cy="2727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6" name="Picture 4" descr="https://sun9-east.userapi.com/sun9-57/s/v1/ig2/pd9ZnmtDp69CNbjxGvWt-dBYg9WUmG_aa2_S9JOVr08jTResJ8ysXsGA-3GBaZJFFWpKuUp1RnlbMZCiFYpj-6sv.jpg?size=1136x590&amp;quality=96&amp;type=album"/>
          <p:cNvPicPr/>
          <p:nvPr/>
        </p:nvPicPr>
        <p:blipFill>
          <a:blip r:embed="rId4"/>
          <a:stretch/>
        </p:blipFill>
        <p:spPr>
          <a:xfrm>
            <a:off x="398880" y="2016000"/>
            <a:ext cx="4297680" cy="223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9640" y="692640"/>
            <a:ext cx="3788640" cy="3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ыктывкар, который был о нас</a:t>
            </a: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071800" y="500040"/>
            <a:ext cx="415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чера и сегодн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3" descr="C:\Users\1\Downloads\Стефановский собор Вид с улицы Троицкои(ныне Ленина.).jpg"/>
          <p:cNvPicPr/>
          <p:nvPr/>
        </p:nvPicPr>
        <p:blipFill>
          <a:blip r:embed="rId1"/>
          <a:stretch/>
        </p:blipFill>
        <p:spPr>
          <a:xfrm>
            <a:off x="214200" y="1285920"/>
            <a:ext cx="3642840" cy="2428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Стефановский кафедральный собор.jpg"/>
          <p:cNvPicPr/>
          <p:nvPr/>
        </p:nvPicPr>
        <p:blipFill>
          <a:blip r:embed="rId2"/>
          <a:stretch/>
        </p:blipFill>
        <p:spPr>
          <a:xfrm>
            <a:off x="4786200" y="1214280"/>
            <a:ext cx="3785760" cy="29998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8"/>
          <p:cNvSpPr/>
          <p:nvPr/>
        </p:nvSpPr>
        <p:spPr>
          <a:xfrm>
            <a:off x="1071360" y="4429080"/>
            <a:ext cx="742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вято - Стефановский кафедральны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285840" y="521496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ысота пятиглавого собора с крестом примерно 64 метра. Строительство этого храма посвятили 500-летию кончины святителя Стефана Пермского, положившего в 1379 году начало христианизации народов ко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1\Downloads\Трехсвятительская улица (ныне коммунистическая) (2).jpg"/>
          <p:cNvPicPr/>
          <p:nvPr/>
        </p:nvPicPr>
        <p:blipFill>
          <a:blip r:embed="rId1"/>
          <a:stretch/>
        </p:blipFill>
        <p:spPr>
          <a:xfrm>
            <a:off x="357120" y="785880"/>
            <a:ext cx="3642840" cy="25714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428760" y="3643200"/>
            <a:ext cx="3071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ёхсвятительская 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http://triumph11.ru/pictures/thumb/ti_870034449019.63.jpg"/>
          <p:cNvPicPr/>
          <p:nvPr/>
        </p:nvPicPr>
        <p:blipFill>
          <a:blip r:embed="rId2"/>
          <a:stretch/>
        </p:blipFill>
        <p:spPr>
          <a:xfrm>
            <a:off x="5072040" y="785880"/>
            <a:ext cx="3214440" cy="2714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 flipV="1" rot="10800000">
            <a:off x="5072400" y="3643920"/>
            <a:ext cx="3357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мунистическая улица –главный проспект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364760" y="214200"/>
            <a:ext cx="138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ш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6008760" y="285840"/>
            <a:ext cx="159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стоя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30800" y="5214960"/>
            <a:ext cx="3587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теченская – Кур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ьская –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хановская - Баб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4876200" y="5214960"/>
            <a:ext cx="3902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асская – Сов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ережная – Ки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ровская - Орджоникид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-"/>
          <p:cNvPicPr/>
          <p:nvPr/>
        </p:nvPicPr>
        <p:blipFill>
          <a:blip r:embed="rId1"/>
          <a:stretch/>
        </p:blipFill>
        <p:spPr>
          <a:xfrm>
            <a:off x="500040" y="928800"/>
            <a:ext cx="3285720" cy="337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im7-tub-ru.yandex.net/i?id=428281560-67-72&amp;n=17"/>
          <p:cNvPicPr/>
          <p:nvPr/>
        </p:nvPicPr>
        <p:blipFill>
          <a:blip r:embed="rId2"/>
          <a:stretch/>
        </p:blipFill>
        <p:spPr>
          <a:xfrm>
            <a:off x="5000760" y="1071720"/>
            <a:ext cx="3428640" cy="3357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2214720" y="4643280"/>
            <a:ext cx="3642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жарная калан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357120" y="5500800"/>
            <a:ext cx="85723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асы, расположенные на каланче, каждый час встречают музыкой. Это песня коми композитора Якова Перепелицы о городе Сыктывк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143000" y="642960"/>
            <a:ext cx="678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714240" y="1928880"/>
            <a:ext cx="785772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аеведение. Методическое пособ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Я иду землёю коми». Хрестоматия по литературному чтению. 4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1"/>
              </a:rPr>
              <a:t>http://www.101hotels.ru/main/cities/Syktyvkar/points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памя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http://www.komandirovka.ru/dostoprim/detail.php?ID=124534836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пожарная калан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4"/>
              </a:rPr>
              <a:t>://mp3tusovk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respublika11.ru/wp-content/uploads/2020/02/Generalnyiy_plan_zastroyki_g._Ust_Syisolska._1784_god.jpg"/>
          <p:cNvPicPr/>
          <p:nvPr/>
        </p:nvPicPr>
        <p:blipFill>
          <a:blip r:embed="rId1"/>
          <a:stretch/>
        </p:blipFill>
        <p:spPr>
          <a:xfrm>
            <a:off x="4644000" y="3412080"/>
            <a:ext cx="4289400" cy="2936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89" name="Picture 4"/>
          <p:cNvSpPr/>
          <p:nvPr/>
        </p:nvSpPr>
        <p:spPr>
          <a:xfrm>
            <a:off x="899640" y="620640"/>
            <a:ext cx="2409480" cy="30477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611640" y="4653000"/>
            <a:ext cx="396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5 января 1780 – именным указом Екатерины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гост Усть -Сысольск преобразован в город – центр Усть –Сысольского уезда вологодской губер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s://avatars.mds.yandex.net/i?id=9f90850ec521bc4bbc76bb552dd5ed14_l-5234562-images-thumbs&amp;n=13"/>
          <p:cNvPicPr/>
          <p:nvPr/>
        </p:nvPicPr>
        <p:blipFill>
          <a:blip r:embed="rId3"/>
          <a:stretch/>
        </p:blipFill>
        <p:spPr>
          <a:xfrm>
            <a:off x="4716000" y="260640"/>
            <a:ext cx="4068000" cy="2714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https://www.mybio.ru/archives/foto/vol1/part4/mybio-1-4-040.jpg"/>
          <p:cNvPicPr/>
          <p:nvPr/>
        </p:nvPicPr>
        <p:blipFill>
          <a:blip r:embed="rId1"/>
          <a:stretch/>
        </p:blipFill>
        <p:spPr>
          <a:xfrm>
            <a:off x="611640" y="387360"/>
            <a:ext cx="3640320" cy="2804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3" name="Picture 10" descr="https://korona-severa.ru/wp-content/uploads/f/2/9/f2911aa76709683adfd8808a852c6e45.jpeg"/>
          <p:cNvPicPr/>
          <p:nvPr/>
        </p:nvPicPr>
        <p:blipFill>
          <a:blip r:embed="rId2"/>
          <a:stretch/>
        </p:blipFill>
        <p:spPr>
          <a:xfrm>
            <a:off x="467640" y="3484080"/>
            <a:ext cx="4063320" cy="2978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4" name="Picture 12" descr="https://textarchive.ru/images/1384/2767293/1f9d2c11.jpg"/>
          <p:cNvPicPr/>
          <p:nvPr/>
        </p:nvPicPr>
        <p:blipFill>
          <a:blip r:embed="rId3"/>
          <a:stretch/>
        </p:blipFill>
        <p:spPr>
          <a:xfrm>
            <a:off x="4753080" y="404640"/>
            <a:ext cx="4248000" cy="2769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5" name="Picture 14" descr="https://avatars.mds.yandex.net/i?id=c9dba4727db9e8258e3b6edd41cee118_l-5231332-images-thumbs&amp;n=13"/>
          <p:cNvPicPr/>
          <p:nvPr/>
        </p:nvPicPr>
        <p:blipFill>
          <a:blip r:embed="rId4"/>
          <a:stretch/>
        </p:blipFill>
        <p:spPr>
          <a:xfrm>
            <a:off x="4788000" y="3508200"/>
            <a:ext cx="4178520" cy="2954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 flipH="1" flipV="1" rot="10800000">
            <a:off x="1300680" y="5532120"/>
            <a:ext cx="636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0 марта 1930 - город Уст- Сысольск  переименован в Сыктывкар постановлением Президиума ЦИК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5940000" y="1340640"/>
            <a:ext cx="309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 языке коми — Сыктывкар, которое означает «город на реке Сысол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«Переименование Усть-Сысольска в Сыктывкар». Художник Размыслов Аркадий Алексеевич ; Фото: Фото с сайта http://www.kraevidenie.ru "/>
          <p:cNvPicPr/>
          <p:nvPr/>
        </p:nvPicPr>
        <p:blipFill>
          <a:blip r:embed="rId1"/>
          <a:stretch/>
        </p:blipFill>
        <p:spPr>
          <a:xfrm>
            <a:off x="741960" y="332640"/>
            <a:ext cx="3683160" cy="25934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741960" y="3069000"/>
            <a:ext cx="39016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ереименование Усть- Сысольска в Сыктывкар». Художник Размыслов Аркадий 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https://sun9-west.userapi.com/sun9-40/s/v1/if1/i9q59uq4gMKTxKhx1q2q8ro-iRos3qKTlQ1x8O9p0Ljps15Ls6Mz5hRzwGKVuk06F1yrV7XG.jpg?size=1024x682&amp;quality=96&amp;type=album"/>
          <p:cNvPicPr/>
          <p:nvPr/>
        </p:nvPicPr>
        <p:blipFill>
          <a:blip r:embed="rId2"/>
          <a:stretch/>
        </p:blipFill>
        <p:spPr>
          <a:xfrm>
            <a:off x="5004000" y="2781000"/>
            <a:ext cx="3998160" cy="2662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403640" y="731520"/>
            <a:ext cx="71283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  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02" name="Picture 2" descr="http://oldsyktyvkar.ru/new/wp-content/uploads/photo_085_1-850x606.jpg"/>
          <p:cNvPicPr/>
          <p:nvPr/>
        </p:nvPicPr>
        <p:blipFill>
          <a:blip r:embed="rId1"/>
          <a:stretch/>
        </p:blipFill>
        <p:spPr>
          <a:xfrm>
            <a:off x="827640" y="726480"/>
            <a:ext cx="3861000" cy="27525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203" name="TextBox 1"/>
          <p:cNvSpPr/>
          <p:nvPr/>
        </p:nvSpPr>
        <p:spPr>
          <a:xfrm>
            <a:off x="1979640" y="188640"/>
            <a:ext cx="648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лица Спасская (с ноября 1918 г. - ул. Совет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http://oldsyktyvkar.ru/new/wp-content/uploads/photo_085_2-850x605.jpg"/>
          <p:cNvPicPr/>
          <p:nvPr/>
        </p:nvPicPr>
        <p:blipFill>
          <a:blip r:embed="rId2"/>
          <a:stretch/>
        </p:blipFill>
        <p:spPr>
          <a:xfrm>
            <a:off x="771120" y="3763080"/>
            <a:ext cx="3944520" cy="28076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205" name="TextBox 3"/>
          <p:cNvSpPr/>
          <p:nvPr/>
        </p:nvSpPr>
        <p:spPr>
          <a:xfrm>
            <a:off x="4932000" y="558000"/>
            <a:ext cx="3888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лица Спасская — центральная улица г. Усть-Сысольска. В темное время суток она освещалась газовыми фонарями. Застроена деревянными и каменными двухэтажными домами, большинство из которых не сохранилось до наших дней. Башня справа — </a:t>
            </a:r>
            <a:r>
              <a:rPr b="0" lang="ru-RU" sz="14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пожарная каланча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. Улицы города в то время не были мощеными, и ничем не отличались от сельских грунтовых дорог. Но вдоль улиц были построены деревянные тротуары и мостки, чтобы можно было ходить, не пачкая обу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https://oldsyktyvkar.ru/new/wp-content/uploads/photo_409_1.jpg"/>
          <p:cNvPicPr/>
          <p:nvPr/>
        </p:nvPicPr>
        <p:blipFill>
          <a:blip r:embed="rId4"/>
          <a:stretch/>
        </p:blipFill>
        <p:spPr>
          <a:xfrm>
            <a:off x="5048280" y="3467520"/>
            <a:ext cx="3655800" cy="30092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07" name="TextBox 4"/>
          <p:cNvSpPr/>
          <p:nvPr/>
        </p:nvSpPr>
        <p:spPr>
          <a:xfrm>
            <a:off x="5364000" y="6570720"/>
            <a:ext cx="345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ид с пожарной калан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s://oldsyktyvkar.ru/new/wp-content/uploads/photo_177_1-850x578.jpg"/>
          <p:cNvPicPr/>
          <p:nvPr/>
        </p:nvPicPr>
        <p:blipFill>
          <a:blip r:embed="rId1"/>
          <a:stretch/>
        </p:blipFill>
        <p:spPr>
          <a:xfrm>
            <a:off x="331560" y="908640"/>
            <a:ext cx="3952080" cy="2687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3640" y="260640"/>
            <a:ext cx="793152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лица Куратова, в сторону перекрестка с ул. Интернациональная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0" name="Picture 4" descr="https://oldsyktyvkar.ru/new/wp-content/uploads/photo_177_2-850x582.jpg"/>
          <p:cNvPicPr/>
          <p:nvPr/>
        </p:nvPicPr>
        <p:blipFill>
          <a:blip r:embed="rId2"/>
          <a:stretch/>
        </p:blipFill>
        <p:spPr>
          <a:xfrm>
            <a:off x="268560" y="3803760"/>
            <a:ext cx="4078080" cy="2792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1" name="Picture 6" descr="https://oldsyktyvkar.ru/new/wp-content/uploads/photo_176_1-850x526.jpg"/>
          <p:cNvPicPr/>
          <p:nvPr/>
        </p:nvPicPr>
        <p:blipFill>
          <a:blip r:embed="rId3"/>
          <a:stretch/>
        </p:blipFill>
        <p:spPr>
          <a:xfrm>
            <a:off x="4641840" y="908640"/>
            <a:ext cx="4305240" cy="266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2" name="Picture 8" descr="https://oldsyktyvkar.ru/new/wp-content/uploads/photo_176_2-850x526.jpg"/>
          <p:cNvPicPr/>
          <p:nvPr/>
        </p:nvPicPr>
        <p:blipFill>
          <a:blip r:embed="rId4"/>
          <a:stretch/>
        </p:blipFill>
        <p:spPr>
          <a:xfrm>
            <a:off x="4610880" y="3858120"/>
            <a:ext cx="4336200" cy="268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13" name="Стрелка вниз 4"/>
          <p:cNvSpPr/>
          <p:nvPr/>
        </p:nvSpPr>
        <p:spPr>
          <a:xfrm>
            <a:off x="2295720" y="3429000"/>
            <a:ext cx="24192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14" name="Стрелка вниз 9"/>
          <p:cNvSpPr/>
          <p:nvPr/>
        </p:nvSpPr>
        <p:spPr>
          <a:xfrm>
            <a:off x="6516720" y="3429000"/>
            <a:ext cx="24192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95640" y="3573000"/>
            <a:ext cx="3744000" cy="27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ru-RU" sz="3500" spc="-1" strike="noStrike">
                <a:solidFill>
                  <a:srgbClr val="212745"/>
                </a:solidFill>
                <a:latin typeface="Trebuchet MS"/>
              </a:rPr>
              <a:t>Это здание было самым большим в дореволюционном Усть-Сысольске. Строилось оно для духовного училища, которое и помещалось в нем более 25 лет. Строительство здания под руководством архитектора Федорова осуществлено за 3 года: 20 мая 1888 г. начата закладка фундамента, а 28 октября 1890 г. состоялось торжественное открытие здания. В 1918 г. здание будет передано уездному отделу народного образования и с сентября 1919 г. часть помещений будет занята педагогическими курс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547640" y="332640"/>
            <a:ext cx="644508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уховная семинария</a:t>
            </a:r>
            <a:br>
              <a:rPr sz="1600"/>
            </a:b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icture 2"/>
          <p:cNvSpPr/>
          <p:nvPr/>
        </p:nvSpPr>
        <p:spPr>
          <a:xfrm>
            <a:off x="234000" y="980640"/>
            <a:ext cx="4193640" cy="230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icture 6"/>
          <p:cNvSpPr/>
          <p:nvPr/>
        </p:nvSpPr>
        <p:spPr>
          <a:xfrm>
            <a:off x="4449960" y="3285000"/>
            <a:ext cx="4104000" cy="307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860000" y="980640"/>
            <a:ext cx="4032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2 августа 1993 года на двух этажах реконструированного здания бывшего Духовного училища разместилась Национальная галерея Республики Коми. С 2001 года на территории, примыкающей к зданию галереи, открыт «Сад скульптур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Здание внесено в список объектов культурного наследия Республики Коми как редкий для Сыктывкара образец каменного зодчества конца XIX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sun9-10.userapi.com/impg/K5kHe1-8q_WmuHqYpki2dUtBZYs7yj74XLIRAw/kXqwYgCGs-4.jpg?size=1100x736&amp;quality=96&amp;sign=a03082645a9ffb8cd3a49152df544a20&amp;c_uniq_tag=QkUXAKyJ2jDQdVOcZLBnG62jCE_He84-OJyGHQnQVGY&amp;type=album"/>
          <p:cNvPicPr/>
          <p:nvPr/>
        </p:nvPicPr>
        <p:blipFill>
          <a:blip r:embed="rId1"/>
          <a:stretch/>
        </p:blipFill>
        <p:spPr>
          <a:xfrm>
            <a:off x="683640" y="1196640"/>
            <a:ext cx="7953120" cy="5321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24000" y="332640"/>
            <a:ext cx="4381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ица Ленина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oldsyktyvkar.ru/new/wp-content/uploads/photo_086_1-850x486.jpg"/>
          <p:cNvPicPr/>
          <p:nvPr/>
        </p:nvPicPr>
        <p:blipFill>
          <a:blip r:embed="rId1"/>
          <a:stretch/>
        </p:blipFill>
        <p:spPr>
          <a:xfrm>
            <a:off x="467640" y="1052640"/>
            <a:ext cx="3528000" cy="2099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3" name="TextBox 3"/>
          <p:cNvSpPr/>
          <p:nvPr/>
        </p:nvSpPr>
        <p:spPr>
          <a:xfrm>
            <a:off x="1763640" y="332640"/>
            <a:ext cx="612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лица Покровская – улица Республиканская – улица Оржоникид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http://oldsyktyvkar.ru/new/wp-content/uploads/photo_107_1-850x647.jpg"/>
          <p:cNvPicPr/>
          <p:nvPr/>
        </p:nvPicPr>
        <p:blipFill>
          <a:blip r:embed="rId2"/>
          <a:stretch/>
        </p:blipFill>
        <p:spPr>
          <a:xfrm>
            <a:off x="467640" y="3424320"/>
            <a:ext cx="3487320" cy="2654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5" name="Picture 6" descr="http://oldsyktyvkar.ru/new/wp-content/uploads/photo_086_21-850x619.jpg"/>
          <p:cNvPicPr/>
          <p:nvPr/>
        </p:nvPicPr>
        <p:blipFill>
          <a:blip r:embed="rId3"/>
          <a:stretch/>
        </p:blipFill>
        <p:spPr>
          <a:xfrm>
            <a:off x="5154480" y="3407760"/>
            <a:ext cx="3668040" cy="2670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6" name="TextBox 5"/>
          <p:cNvSpPr/>
          <p:nvPr/>
        </p:nvSpPr>
        <p:spPr>
          <a:xfrm>
            <a:off x="2988000" y="6268680"/>
            <a:ext cx="48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 с пожарной кала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824000" y="1268640"/>
            <a:ext cx="392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 ноября 1918 г. улица Покровская стала называться Республиканской , а с 1937 г. стала носить имя Серго Орджоникидз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925</TotalTime>
  <Application>LibreOffice/7.4.7.2$Linux_X86_64 LibreOffice_project/40$Build-2</Application>
  <AppVersion>15.0000</AppVersion>
  <Words>458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0:35:56Z</dcterms:created>
  <dc:creator>1</dc:creator>
  <dc:description/>
  <dc:language>en-US</dc:language>
  <cp:lastModifiedBy>Сергей</cp:lastModifiedBy>
  <dcterms:modified xsi:type="dcterms:W3CDTF">2023-02-10T00:38:41Z</dcterms:modified>
  <cp:revision>130</cp:revision>
  <dc:subject/>
  <dc:title>УКП «РДБ» ГВ (с) ОУ «РЦО»  Фестиваль учебных презентац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