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69F-F8D0-4E1C-A1C7-C0FF94B6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123-13AE-46D5-8D5C-869B0905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0FE-9CA1-40EC-ACCC-98BADB4E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E02-85E5-4183-8443-5C82A442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9263-B1FE-4F48-B7FE-10416FC5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7BFD-8670-476A-9F97-6BDCB7ED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8F08-E6A8-4A98-AC59-AC005A1B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E4BA-3655-4766-83AB-B8586D5C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AB77-3A7B-4892-BBFD-E48497E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89F2-816B-419E-9846-CE0F4DA1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67B9-061F-4CEE-9E89-43039F4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CEC-8C1D-49C2-AE33-588F3553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8B57-5E5B-4048-AB73-B1CEA2B3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7C6E-1EB2-4D9D-BA7C-6FB6983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FE4F-FA45-4B29-B417-CAEA2412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BD28-B3B5-4DD1-A9E4-0579511D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DF47-058B-4A01-9A91-2645AC7D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7D47-C63C-443F-B275-61746C57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01BE-79CC-4AF5-AB27-A03B51A2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2520-E250-4A59-9FF5-BB579822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7B51-3ABD-4954-8241-AC2DBF05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9790-0EB9-4089-BC8D-6577B4C2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B49-FC03-4188-9DA1-A91DAE3A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D03C-2232-4213-8F82-22230C70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799F2-C189-43FA-B294-1106FBB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520A-F91B-48FC-A4A9-804F34C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DB77-7AF6-4341-B6F0-1DA5CB8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35EF-F423-43B1-9F22-A11A4A3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6DBB-CCA6-4878-8AA0-FAAB3274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29120-2768-4879-B00C-AE3D2D18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DB4C-C094-4E0B-890B-5229377A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31C9-70EE-4A7A-8A3C-D5EBBCF4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C15B2-9603-4E4D-97C7-5132B15E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D83-A581-4AB6-AB7E-D6628B33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E8CF4-E0B0-4402-B883-1C951802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C3ADB-D140-464E-BAE9-382C4E79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9E76-7F74-478D-8057-5B9AF93A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D7BC-9B12-400C-95DB-D8FC2DCD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3014-C487-46EB-BDCC-790A11F2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23FC-C36B-4AEB-A598-717FB34F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B43C-F972-4386-A3A8-8EA9831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53F3-018A-471C-B6CD-7B4044C8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8A01-52A7-47F2-927E-9D37DD1A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9DC-23D2-475E-8C19-AEA2D71A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204-835A-4473-AAED-E41AACF2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844-97C0-45E5-B904-E07C7E64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22A-385F-4F90-B484-E7F1B95D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730-5C13-4242-967F-1E0C356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5AEB4E-43FC-4102-BBB4-96B4D4CD8457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EADF637-B3B6-4097-AAC1-E0B5AA680C99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7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673FED-BD81-4BAC-801F-B4B886CF1B4F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863119-0665-47C4-9FC3-72D5980C26B1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01hotels.ru/main/cities/Syktyvkar/points" TargetMode="External"/><Relationship Id="rId2" Type="http://schemas.openxmlformats.org/officeDocument/2006/relationships/hyperlink" Target="http://www.komandirovka.ru/dostoprim/detail.php?ID=124534836" TargetMode="External"/><Relationship Id="rId3" Type="http://schemas.openxmlformats.org/officeDocument/2006/relationships/hyperlink" Target="http://mp3tusovk/" TargetMode="External"/><Relationship Id="rId4" Type="http://schemas.openxmlformats.org/officeDocument/2006/relationships/hyperlink" Target="http://mp3tusovk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oldsyktyvkar.ru/new/?page_id=2601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3640" y="404640"/>
            <a:ext cx="662436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Вчера, сегодня: из погоста Усть- Сысольск в город Сыктывк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5724000" y="5661360"/>
            <a:ext cx="331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Усова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ДОУ «ЦРР – Д/С№11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7" name="Picture 4" descr="http://respublika11.ru/wp-content/uploads/2020/02/10660-777x437.jpg"/>
          <p:cNvPicPr/>
          <p:nvPr/>
        </p:nvPicPr>
        <p:blipFill>
          <a:blip r:embed="rId1"/>
          <a:stretch/>
        </p:blipFill>
        <p:spPr>
          <a:xfrm>
            <a:off x="899280" y="1268640"/>
            <a:ext cx="6279840" cy="35316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http://oldsyktyvkar.ru/new/wp-content/uploads/photo_120_1.jpg"/>
          <p:cNvPicPr/>
          <p:nvPr/>
        </p:nvPicPr>
        <p:blipFill>
          <a:blip r:embed="rId1"/>
          <a:stretch/>
        </p:blipFill>
        <p:spPr>
          <a:xfrm>
            <a:off x="460440" y="167400"/>
            <a:ext cx="3524040" cy="4533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oldsyktyvkar.ru/new/wp-content/uploads/photo_120_2-850x623.jpg"/>
          <p:cNvPicPr/>
          <p:nvPr/>
        </p:nvPicPr>
        <p:blipFill>
          <a:blip r:embed="rId2"/>
          <a:stretch/>
        </p:blipFill>
        <p:spPr>
          <a:xfrm>
            <a:off x="4428000" y="3069000"/>
            <a:ext cx="4413600" cy="32346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539640" y="5013000"/>
            <a:ext cx="3528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м купца Г.Д. Оплеснина, был построен 1908 году, с магазином на первом эт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https://nailizakon.com/fotogalereya/city18_s/syktyvkar/shkola_13_1930.jpg"/>
          <p:cNvPicPr/>
          <p:nvPr/>
        </p:nvPicPr>
        <p:blipFill>
          <a:blip r:embed="rId1"/>
          <a:stretch/>
        </p:blipFill>
        <p:spPr>
          <a:xfrm>
            <a:off x="827640" y="1052640"/>
            <a:ext cx="7848360" cy="5166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33" name="TextBox 1"/>
          <p:cNvSpPr/>
          <p:nvPr/>
        </p:nvSpPr>
        <p:spPr>
          <a:xfrm>
            <a:off x="755640" y="40464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Школа, местечко Кир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oldsyktyvkar.ru/new/wp-content/uploads/photo_087_1-850x591.jpg"/>
          <p:cNvPicPr/>
          <p:nvPr/>
        </p:nvPicPr>
        <p:blipFill>
          <a:blip r:embed="rId1"/>
          <a:stretch/>
        </p:blipFill>
        <p:spPr>
          <a:xfrm>
            <a:off x="390960" y="404640"/>
            <a:ext cx="3954600" cy="2749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35" name="Picture 4" descr="http://oldsyktyvkar.ru/new/wp-content/uploads/photo_087_2-850x614.jpg"/>
          <p:cNvPicPr/>
          <p:nvPr/>
        </p:nvPicPr>
        <p:blipFill>
          <a:blip r:embed="rId2"/>
          <a:stretch/>
        </p:blipFill>
        <p:spPr>
          <a:xfrm>
            <a:off x="238680" y="3501000"/>
            <a:ext cx="4078080" cy="2945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36" name="Picture 2" descr="https://www.bnkomi.ru/content/news/images/46900/Sobor_prev_original.jpg"/>
          <p:cNvPicPr/>
          <p:nvPr/>
        </p:nvPicPr>
        <p:blipFill>
          <a:blip r:embed="rId3"/>
          <a:stretch/>
        </p:blipFill>
        <p:spPr>
          <a:xfrm>
            <a:off x="4932000" y="260640"/>
            <a:ext cx="3888000" cy="2465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37" name="TextBox 1"/>
          <p:cNvSpPr/>
          <p:nvPr/>
        </p:nvSpPr>
        <p:spPr>
          <a:xfrm>
            <a:off x="5004000" y="2781000"/>
            <a:ext cx="381600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Стефановская собор — самая большая церковь Коми края - строился в 1856-81 гг. по инициативе и в основном на средства горожан как памятник Стефану Пермском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После 1918 г. Стефановская церковь стала приходской, а в 1923-24 была закры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С 1927 г. Стефановский собор стал кафедральным храмом обновленческого епископа Усть-Сысольского, который функционировал до 1929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 1932 г. Стефановский собор был разрушен, кирпич использован при строительстве каменных домов Сыктывка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899640" y="188640"/>
            <a:ext cx="784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ой из главных в Сыктывкаре является улица Коммунистическая, до советских времен именуемая Трехсветитель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https://oldsyktyvkar.ru/new/wp-content/uploads/photo_351_1.jpg"/>
          <p:cNvPicPr/>
          <p:nvPr/>
        </p:nvPicPr>
        <p:blipFill>
          <a:blip r:embed="rId1"/>
          <a:stretch/>
        </p:blipFill>
        <p:spPr>
          <a:xfrm>
            <a:off x="623520" y="1071360"/>
            <a:ext cx="4028040" cy="2671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0" name="Picture 2" descr="https://oldsyktyvkar.ru/new/wp-content/uploads/photo_428_1-850x695.jpg"/>
          <p:cNvPicPr/>
          <p:nvPr/>
        </p:nvPicPr>
        <p:blipFill>
          <a:blip r:embed="rId2"/>
          <a:stretch/>
        </p:blipFill>
        <p:spPr>
          <a:xfrm>
            <a:off x="5292000" y="1052640"/>
            <a:ext cx="3457080" cy="2628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1" name="Picture 18" descr="https://oldsyktyvkar.ru/new/wp-content/uploads/photo_006_1.jpg"/>
          <p:cNvPicPr/>
          <p:nvPr/>
        </p:nvPicPr>
        <p:blipFill>
          <a:blip r:embed="rId3"/>
          <a:stretch/>
        </p:blipFill>
        <p:spPr>
          <a:xfrm>
            <a:off x="5004000" y="4024080"/>
            <a:ext cx="4019400" cy="25149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2" name="Picture 20" descr="https://oldsyktyvkar.ru/new/wp-content/uploads/photo_007_1.jpg"/>
          <p:cNvPicPr/>
          <p:nvPr/>
        </p:nvPicPr>
        <p:blipFill>
          <a:blip r:embed="rId4"/>
          <a:stretch/>
        </p:blipFill>
        <p:spPr>
          <a:xfrm>
            <a:off x="660600" y="4024080"/>
            <a:ext cx="4025520" cy="2521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2" descr="https://pg11.ru/userfiles/articles/_cke/0/img15777181669147.jpg"/>
          <p:cNvPicPr/>
          <p:nvPr/>
        </p:nvPicPr>
        <p:blipFill>
          <a:blip r:embed="rId1"/>
          <a:stretch/>
        </p:blipFill>
        <p:spPr>
          <a:xfrm>
            <a:off x="5436000" y="4149000"/>
            <a:ext cx="3228120" cy="2152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4" name="Picture 14" descr="https://sun9-east.userapi.com/sun9-44/s/v1/ig2/ex1DQ3oj1AvrhO_-lQ7QBk_fJyl6ty-fsO50tuo6qz3L-jnPVHopn-IHzGPDQeO_jTCTd5jyJpyCkBqrbHDwE8zE.jpg?size=2371x942&amp;quality=95&amp;type=album"/>
          <p:cNvPicPr/>
          <p:nvPr/>
        </p:nvPicPr>
        <p:blipFill>
          <a:blip r:embed="rId2"/>
          <a:stretch/>
        </p:blipFill>
        <p:spPr>
          <a:xfrm>
            <a:off x="398880" y="4581000"/>
            <a:ext cx="4649040" cy="1846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5" name="Picture 16" descr="https://oldsyktyvkar.ru/new/wp-content/uploads/photo_431_1-850x852.jpg"/>
          <p:cNvPicPr/>
          <p:nvPr/>
        </p:nvPicPr>
        <p:blipFill>
          <a:blip r:embed="rId3"/>
          <a:stretch/>
        </p:blipFill>
        <p:spPr>
          <a:xfrm>
            <a:off x="5580000" y="1052640"/>
            <a:ext cx="2720520" cy="2727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6" name="Picture 4" descr="https://sun9-east.userapi.com/sun9-57/s/v1/ig2/pd9ZnmtDp69CNbjxGvWt-dBYg9WUmG_aa2_S9JOVr08jTResJ8ysXsGA-3GBaZJFFWpKuUp1RnlbMZCiFYpj-6sv.jpg?size=1136x590&amp;quality=96&amp;type=album"/>
          <p:cNvPicPr/>
          <p:nvPr/>
        </p:nvPicPr>
        <p:blipFill>
          <a:blip r:embed="rId4"/>
          <a:stretch/>
        </p:blipFill>
        <p:spPr>
          <a:xfrm>
            <a:off x="398880" y="2016000"/>
            <a:ext cx="4297680" cy="223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9640" y="692640"/>
            <a:ext cx="3788640" cy="3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ыктывкар, который был о нас</a:t>
            </a: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071800" y="500040"/>
            <a:ext cx="4155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чера и сегодня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3" descr="C:\Users\1\Downloads\Стефановский собор Вид с улицы Троицкои(ныне Ленина.).jpg"/>
          <p:cNvPicPr/>
          <p:nvPr/>
        </p:nvPicPr>
        <p:blipFill>
          <a:blip r:embed="rId1"/>
          <a:stretch/>
        </p:blipFill>
        <p:spPr>
          <a:xfrm>
            <a:off x="214200" y="1285920"/>
            <a:ext cx="3642840" cy="24285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Стефановский кафедральный собор.jpg"/>
          <p:cNvPicPr/>
          <p:nvPr/>
        </p:nvPicPr>
        <p:blipFill>
          <a:blip r:embed="rId2"/>
          <a:stretch/>
        </p:blipFill>
        <p:spPr>
          <a:xfrm>
            <a:off x="4786200" y="1214280"/>
            <a:ext cx="3785760" cy="29998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8"/>
          <p:cNvSpPr/>
          <p:nvPr/>
        </p:nvSpPr>
        <p:spPr>
          <a:xfrm>
            <a:off x="1071360" y="4429080"/>
            <a:ext cx="742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вято - Стефановский кафедральный со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285840" y="521496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ысота пятиглавого собора с крестом примерно 64 метра. Строительство этого храма посвятили 500-летию кончины святителя Стефана Пермского, положившего в 1379 году начало христианизации народов ко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1\Downloads\Трехсвятительская улица (ныне коммунистическая) (2).jpg"/>
          <p:cNvPicPr/>
          <p:nvPr/>
        </p:nvPicPr>
        <p:blipFill>
          <a:blip r:embed="rId1"/>
          <a:stretch/>
        </p:blipFill>
        <p:spPr>
          <a:xfrm>
            <a:off x="357120" y="785880"/>
            <a:ext cx="3642840" cy="25714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428760" y="3643200"/>
            <a:ext cx="3071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ёхсвятительская у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http://triumph11.ru/pictures/thumb/ti_870034449019.63.jpg"/>
          <p:cNvPicPr/>
          <p:nvPr/>
        </p:nvPicPr>
        <p:blipFill>
          <a:blip r:embed="rId2"/>
          <a:stretch/>
        </p:blipFill>
        <p:spPr>
          <a:xfrm>
            <a:off x="5072040" y="785880"/>
            <a:ext cx="3214440" cy="27144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 flipV="1" rot="10800000">
            <a:off x="5072400" y="3643920"/>
            <a:ext cx="3357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ммунистическая улица –главный проспект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364760" y="214200"/>
            <a:ext cx="1380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ош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6008760" y="285840"/>
            <a:ext cx="159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стоя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730800" y="5214960"/>
            <a:ext cx="3587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теченская – Кур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льская –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хановская - Баб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4876200" y="5214960"/>
            <a:ext cx="3902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асская – Сов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ережная – Ки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ровская - Орджоникид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-"/>
          <p:cNvPicPr/>
          <p:nvPr/>
        </p:nvPicPr>
        <p:blipFill>
          <a:blip r:embed="rId1"/>
          <a:stretch/>
        </p:blipFill>
        <p:spPr>
          <a:xfrm>
            <a:off x="500040" y="928800"/>
            <a:ext cx="3285720" cy="3376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im7-tub-ru.yandex.net/i?id=428281560-67-72&amp;n=17"/>
          <p:cNvPicPr/>
          <p:nvPr/>
        </p:nvPicPr>
        <p:blipFill>
          <a:blip r:embed="rId2"/>
          <a:stretch/>
        </p:blipFill>
        <p:spPr>
          <a:xfrm>
            <a:off x="5000760" y="1071720"/>
            <a:ext cx="3428640" cy="3357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2214720" y="4643280"/>
            <a:ext cx="3642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жарная калан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357120" y="5500800"/>
            <a:ext cx="85723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асы, расположенные на каланче, каждый час встречают музыкой. Это песня коми композитора Якова Перепелицы о городе Сыктывк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1143000" y="642960"/>
            <a:ext cx="678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спользованн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714240" y="1928880"/>
            <a:ext cx="785772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раеведение. Методическое пособ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Я иду землёю коми». Хрестоматия по литературному чтению. 4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 u="sng">
                <a:solidFill>
                  <a:srgbClr val="56c7aa"/>
                </a:solidFill>
                <a:uFillTx/>
                <a:latin typeface="Trebuchet MS"/>
                <a:hlinkClick r:id="rId1"/>
              </a:rPr>
              <a:t>http://www.101hotels.ru/main/cities/Syktyvkar/points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памя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 u="sng">
                <a:solidFill>
                  <a:srgbClr val="56c7aa"/>
                </a:solidFill>
                <a:uFillTx/>
                <a:latin typeface="Trebuchet MS"/>
                <a:hlinkClick r:id="rId2"/>
              </a:rPr>
              <a:t>http://www.komandirovka.ru/dostoprim/detail.php?ID=124534836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- пожарная калан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56c7aa"/>
                </a:solidFill>
                <a:uFillTx/>
                <a:latin typeface="Trebuchet MS"/>
                <a:hlinkClick r:id="rId4"/>
              </a:rPr>
              <a:t>://mp3tusovk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://respublika11.ru/wp-content/uploads/2020/02/Generalnyiy_plan_zastroyki_g._Ust_Syisolska._1784_god.jpg"/>
          <p:cNvPicPr/>
          <p:nvPr/>
        </p:nvPicPr>
        <p:blipFill>
          <a:blip r:embed="rId1"/>
          <a:stretch/>
        </p:blipFill>
        <p:spPr>
          <a:xfrm>
            <a:off x="4644000" y="3412080"/>
            <a:ext cx="4289400" cy="29361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89" name="Picture 4"/>
          <p:cNvSpPr/>
          <p:nvPr/>
        </p:nvSpPr>
        <p:spPr>
          <a:xfrm>
            <a:off x="899640" y="620640"/>
            <a:ext cx="2409480" cy="30477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611640" y="4653000"/>
            <a:ext cx="396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5 января 1780 – именным указом Екатерины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I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гост Усть -Сысольск преобразован в город – центр Усть –Сысольского уезда вологодской губер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s://avatars.mds.yandex.net/i?id=9f90850ec521bc4bbc76bb552dd5ed14_l-5234562-images-thumbs&amp;n=13"/>
          <p:cNvPicPr/>
          <p:nvPr/>
        </p:nvPicPr>
        <p:blipFill>
          <a:blip r:embed="rId3"/>
          <a:stretch/>
        </p:blipFill>
        <p:spPr>
          <a:xfrm>
            <a:off x="4716000" y="260640"/>
            <a:ext cx="4068000" cy="2714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https://www.mybio.ru/archives/foto/vol1/part4/mybio-1-4-040.jpg"/>
          <p:cNvPicPr/>
          <p:nvPr/>
        </p:nvPicPr>
        <p:blipFill>
          <a:blip r:embed="rId1"/>
          <a:stretch/>
        </p:blipFill>
        <p:spPr>
          <a:xfrm>
            <a:off x="611640" y="387360"/>
            <a:ext cx="3640320" cy="2804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93" name="Picture 10" descr="https://korona-severa.ru/wp-content/uploads/f/2/9/f2911aa76709683adfd8808a852c6e45.jpeg"/>
          <p:cNvPicPr/>
          <p:nvPr/>
        </p:nvPicPr>
        <p:blipFill>
          <a:blip r:embed="rId2"/>
          <a:stretch/>
        </p:blipFill>
        <p:spPr>
          <a:xfrm>
            <a:off x="467640" y="3484080"/>
            <a:ext cx="4063320" cy="2978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94" name="Picture 12" descr="https://textarchive.ru/images/1384/2767293/1f9d2c11.jpg"/>
          <p:cNvPicPr/>
          <p:nvPr/>
        </p:nvPicPr>
        <p:blipFill>
          <a:blip r:embed="rId3"/>
          <a:stretch/>
        </p:blipFill>
        <p:spPr>
          <a:xfrm>
            <a:off x="4753080" y="404640"/>
            <a:ext cx="4248000" cy="2769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95" name="Picture 14" descr="https://avatars.mds.yandex.net/i?id=c9dba4727db9e8258e3b6edd41cee118_l-5231332-images-thumbs&amp;n=13"/>
          <p:cNvPicPr/>
          <p:nvPr/>
        </p:nvPicPr>
        <p:blipFill>
          <a:blip r:embed="rId4"/>
          <a:stretch/>
        </p:blipFill>
        <p:spPr>
          <a:xfrm>
            <a:off x="4788000" y="3508200"/>
            <a:ext cx="4178520" cy="29541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 flipH="1" flipV="1" rot="10800000">
            <a:off x="1300680" y="5532120"/>
            <a:ext cx="6367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0 марта 1930 - город Уст- Сысольск  переименован в Сыктывкар постановлением Президиума ЦИК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5940000" y="1340640"/>
            <a:ext cx="309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 языке коми — Сыктывкар, которое означает «город на реке Сысол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«Переименование Усть-Сысольска в Сыктывкар». Художник Размыслов Аркадий Алексеевич ; Фото: Фото с сайта http://www.kraevidenie.ru "/>
          <p:cNvPicPr/>
          <p:nvPr/>
        </p:nvPicPr>
        <p:blipFill>
          <a:blip r:embed="rId1"/>
          <a:stretch/>
        </p:blipFill>
        <p:spPr>
          <a:xfrm>
            <a:off x="741960" y="332640"/>
            <a:ext cx="3683160" cy="25934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741960" y="3069000"/>
            <a:ext cx="39016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ереименование Усть- Сысольска в Сыктывкар». Художник Размыслов Аркадий 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https://sun9-west.userapi.com/sun9-40/s/v1/if1/i9q59uq4gMKTxKhx1q2q8ro-iRos3qKTlQ1x8O9p0Ljps15Ls6Mz5hRzwGKVuk06F1yrV7XG.jpg?size=1024x682&amp;quality=96&amp;type=album"/>
          <p:cNvPicPr/>
          <p:nvPr/>
        </p:nvPicPr>
        <p:blipFill>
          <a:blip r:embed="rId2"/>
          <a:stretch/>
        </p:blipFill>
        <p:spPr>
          <a:xfrm>
            <a:off x="5004000" y="2781000"/>
            <a:ext cx="3998160" cy="26625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403640" y="731520"/>
            <a:ext cx="7128360" cy="7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  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02" name="Picture 2" descr="http://oldsyktyvkar.ru/new/wp-content/uploads/photo_085_1-850x606.jpg"/>
          <p:cNvPicPr/>
          <p:nvPr/>
        </p:nvPicPr>
        <p:blipFill>
          <a:blip r:embed="rId1"/>
          <a:stretch/>
        </p:blipFill>
        <p:spPr>
          <a:xfrm>
            <a:off x="827640" y="726480"/>
            <a:ext cx="3861000" cy="27525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sp>
        <p:nvSpPr>
          <p:cNvPr id="203" name="TextBox 1"/>
          <p:cNvSpPr/>
          <p:nvPr/>
        </p:nvSpPr>
        <p:spPr>
          <a:xfrm>
            <a:off x="1979640" y="188640"/>
            <a:ext cx="648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лица Спасская (с ноября 1918 г. - ул. Совет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http://oldsyktyvkar.ru/new/wp-content/uploads/photo_085_2-850x605.jpg"/>
          <p:cNvPicPr/>
          <p:nvPr/>
        </p:nvPicPr>
        <p:blipFill>
          <a:blip r:embed="rId2"/>
          <a:stretch/>
        </p:blipFill>
        <p:spPr>
          <a:xfrm>
            <a:off x="771120" y="3763080"/>
            <a:ext cx="3944520" cy="28076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sp>
        <p:nvSpPr>
          <p:cNvPr id="205" name="TextBox 3"/>
          <p:cNvSpPr/>
          <p:nvPr/>
        </p:nvSpPr>
        <p:spPr>
          <a:xfrm>
            <a:off x="4932000" y="558000"/>
            <a:ext cx="3888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лица Спасская — центральная улица г. Усть-Сысольска. В темное время суток она освещалась газовыми фонарями. Застроена деревянными и каменными двухэтажными домами, большинство из которых не сохранилось до наших дней. Башня справа — </a:t>
            </a:r>
            <a:r>
              <a:rPr b="0" lang="ru-RU" sz="14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пожарная каланча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. Улицы города в то время не были мощеными, и ничем не отличались от сельских грунтовых дорог. Но вдоль улиц были построены деревянные тротуары и мостки, чтобы можно было ходить, не пачкая обу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https://oldsyktyvkar.ru/new/wp-content/uploads/photo_409_1.jpg"/>
          <p:cNvPicPr/>
          <p:nvPr/>
        </p:nvPicPr>
        <p:blipFill>
          <a:blip r:embed="rId4"/>
          <a:stretch/>
        </p:blipFill>
        <p:spPr>
          <a:xfrm>
            <a:off x="5048280" y="3467520"/>
            <a:ext cx="3655800" cy="30092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07" name="TextBox 4"/>
          <p:cNvSpPr/>
          <p:nvPr/>
        </p:nvSpPr>
        <p:spPr>
          <a:xfrm>
            <a:off x="5364000" y="6570720"/>
            <a:ext cx="345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ид с пожарной калан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s://oldsyktyvkar.ru/new/wp-content/uploads/photo_177_1-850x578.jpg"/>
          <p:cNvPicPr/>
          <p:nvPr/>
        </p:nvPicPr>
        <p:blipFill>
          <a:blip r:embed="rId1"/>
          <a:stretch/>
        </p:blipFill>
        <p:spPr>
          <a:xfrm>
            <a:off x="331560" y="908640"/>
            <a:ext cx="3952080" cy="26874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3640" y="260640"/>
            <a:ext cx="793152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Улица Куратова, в сторону перекрестка с ул. Интернациональная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0" name="Picture 4" descr="https://oldsyktyvkar.ru/new/wp-content/uploads/photo_177_2-850x582.jpg"/>
          <p:cNvPicPr/>
          <p:nvPr/>
        </p:nvPicPr>
        <p:blipFill>
          <a:blip r:embed="rId2"/>
          <a:stretch/>
        </p:blipFill>
        <p:spPr>
          <a:xfrm>
            <a:off x="268560" y="3803760"/>
            <a:ext cx="4078080" cy="27921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11" name="Picture 6" descr="https://oldsyktyvkar.ru/new/wp-content/uploads/photo_176_1-850x526.jpg"/>
          <p:cNvPicPr/>
          <p:nvPr/>
        </p:nvPicPr>
        <p:blipFill>
          <a:blip r:embed="rId3"/>
          <a:stretch/>
        </p:blipFill>
        <p:spPr>
          <a:xfrm>
            <a:off x="4641840" y="908640"/>
            <a:ext cx="4305240" cy="266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12" name="Picture 8" descr="https://oldsyktyvkar.ru/new/wp-content/uploads/photo_176_2-850x526.jpg"/>
          <p:cNvPicPr/>
          <p:nvPr/>
        </p:nvPicPr>
        <p:blipFill>
          <a:blip r:embed="rId4"/>
          <a:stretch/>
        </p:blipFill>
        <p:spPr>
          <a:xfrm>
            <a:off x="4610880" y="3858120"/>
            <a:ext cx="4336200" cy="2683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13" name="Стрелка вниз 4"/>
          <p:cNvSpPr/>
          <p:nvPr/>
        </p:nvSpPr>
        <p:spPr>
          <a:xfrm>
            <a:off x="2295720" y="3429000"/>
            <a:ext cx="241920" cy="546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14" name="Стрелка вниз 9"/>
          <p:cNvSpPr/>
          <p:nvPr/>
        </p:nvSpPr>
        <p:spPr>
          <a:xfrm>
            <a:off x="6516720" y="3429000"/>
            <a:ext cx="241920" cy="546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95640" y="3573000"/>
            <a:ext cx="3744000" cy="27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ru-RU" sz="3500" spc="-1" strike="noStrike">
                <a:solidFill>
                  <a:srgbClr val="212745"/>
                </a:solidFill>
                <a:latin typeface="Trebuchet MS"/>
              </a:rPr>
              <a:t>Это здание было самым большим в дореволюционном Усть-Сысольске. Строилось оно для духовного училища, которое и помещалось в нем более 25 лет. Строительство здания под руководством архитектора Федорова осуществлено за 3 года: 20 мая 1888 г. начата закладка фундамента, а 28 октября 1890 г. состоялось торжественное открытие здания. В 1918 г. здание будет передано уездному отделу народного образования и с сентября 1919 г. часть помещений будет занята педагогическими курс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tabLst>
                <a:tab algn="l" pos="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547640" y="332640"/>
            <a:ext cx="644508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уховная семинария</a:t>
            </a:r>
            <a:br>
              <a:rPr sz="1600"/>
            </a:b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icture 2"/>
          <p:cNvSpPr/>
          <p:nvPr/>
        </p:nvSpPr>
        <p:spPr>
          <a:xfrm>
            <a:off x="234000" y="980640"/>
            <a:ext cx="4193640" cy="2304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icture 6"/>
          <p:cNvSpPr/>
          <p:nvPr/>
        </p:nvSpPr>
        <p:spPr>
          <a:xfrm>
            <a:off x="4449960" y="3285000"/>
            <a:ext cx="4104000" cy="307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4860000" y="980640"/>
            <a:ext cx="4032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2 августа 1993 года на двух этажах реконструированного здания бывшего Духовного училища разместилась Национальная галерея Республики Коми. С 2001 года на территории, примыкающей к зданию галереи, открыт «Сад скульптур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Здание внесено в список объектов культурного наследия Республики Коми как редкий для Сыктывкара образец каменного зодчества конца XIX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sun9-10.userapi.com/impg/K5kHe1-8q_WmuHqYpki2dUtBZYs7yj74XLIRAw/kXqwYgCGs-4.jpg?size=1100x736&amp;quality=96&amp;sign=a03082645a9ffb8cd3a49152df544a20&amp;c_uniq_tag=QkUXAKyJ2jDQdVOcZLBnG62jCE_He84-OJyGHQnQVGY&amp;type=album"/>
          <p:cNvPicPr/>
          <p:nvPr/>
        </p:nvPicPr>
        <p:blipFill>
          <a:blip r:embed="rId1"/>
          <a:stretch/>
        </p:blipFill>
        <p:spPr>
          <a:xfrm>
            <a:off x="683640" y="1196640"/>
            <a:ext cx="7953120" cy="5321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24000" y="332640"/>
            <a:ext cx="4381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ица Ленина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oldsyktyvkar.ru/new/wp-content/uploads/photo_086_1-850x486.jpg"/>
          <p:cNvPicPr/>
          <p:nvPr/>
        </p:nvPicPr>
        <p:blipFill>
          <a:blip r:embed="rId1"/>
          <a:stretch/>
        </p:blipFill>
        <p:spPr>
          <a:xfrm>
            <a:off x="467640" y="1052640"/>
            <a:ext cx="3528000" cy="2099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23" name="TextBox 3"/>
          <p:cNvSpPr/>
          <p:nvPr/>
        </p:nvSpPr>
        <p:spPr>
          <a:xfrm>
            <a:off x="1763640" y="332640"/>
            <a:ext cx="612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лица Покровская – улица Республиканская – улица Оржоникид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http://oldsyktyvkar.ru/new/wp-content/uploads/photo_107_1-850x647.jpg"/>
          <p:cNvPicPr/>
          <p:nvPr/>
        </p:nvPicPr>
        <p:blipFill>
          <a:blip r:embed="rId2"/>
          <a:stretch/>
        </p:blipFill>
        <p:spPr>
          <a:xfrm>
            <a:off x="467640" y="3424320"/>
            <a:ext cx="3487320" cy="2654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25" name="Picture 6" descr="http://oldsyktyvkar.ru/new/wp-content/uploads/photo_086_21-850x619.jpg"/>
          <p:cNvPicPr/>
          <p:nvPr/>
        </p:nvPicPr>
        <p:blipFill>
          <a:blip r:embed="rId3"/>
          <a:stretch/>
        </p:blipFill>
        <p:spPr>
          <a:xfrm>
            <a:off x="5154480" y="3407760"/>
            <a:ext cx="3668040" cy="2670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26" name="TextBox 5"/>
          <p:cNvSpPr/>
          <p:nvPr/>
        </p:nvSpPr>
        <p:spPr>
          <a:xfrm>
            <a:off x="2988000" y="6268680"/>
            <a:ext cx="482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д с пожарной кала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824000" y="1268640"/>
            <a:ext cx="3924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 ноября 1918 г. улица Покровская стала называться Республиканской , а с 1937 г. стала носить имя Серго Орджоникидз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925</TotalTime>
  <Application>LibreOffice/7.4.7.2$Linux_X86_64 LibreOffice_project/40$Build-2</Application>
  <AppVersion>15.0000</AppVersion>
  <Words>458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0:35:56Z</dcterms:created>
  <dc:creator>1</dc:creator>
  <dc:description/>
  <dc:language>en-US</dc:language>
  <cp:lastModifiedBy>Сергей</cp:lastModifiedBy>
  <dcterms:modified xsi:type="dcterms:W3CDTF">2023-02-10T00:38:41Z</dcterms:modified>
  <cp:revision>130</cp:revision>
  <dc:subject/>
  <dc:title>УКП «РДБ» ГВ (с) ОУ «РЦО»  Фестиваль учебных презентац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