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7E4-C14B-4886-A1F6-B09CA3CB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4E9-6899-4A33-ACC8-87A294E0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35F-644D-4F03-B073-7F3AA5B4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18A-6CD4-4D24-BBE3-A7184D5C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E47-6DCB-4829-A8D4-68F839FA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615-64FE-41D1-8199-CDFA243A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D39-9C45-438D-802C-732B774D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9BD-1FC9-45BD-98A2-D6E63ABB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B37-C3B7-4A45-A6CD-3699DD69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552-9940-428C-BDAC-5C50E26D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180-B8A5-4F3E-84C7-084A6435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8F5-0F33-4A7C-AC36-0F01BAE7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5E2A-DBAB-4B16-AD21-14E5AA73C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d2d8a"/>
                </a:solidFill>
                <a:latin typeface="Cambria"/>
              </a:rPr>
              <a:t>Зима</a:t>
            </a:r>
            <a:r>
              <a:rPr b="1" lang="ru-RU" sz="5400" spc="-1" strike="noStrike">
                <a:solidFill>
                  <a:srgbClr val="000066"/>
                </a:solidFill>
                <a:latin typeface="Cambria"/>
              </a:rPr>
              <a:t> в картинах русских худож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23736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ambria"/>
              </a:rPr>
              <a:t>Подготовила воспитатель старшей (логопедической)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ambria"/>
              </a:rPr>
              <a:t>Семенченко Н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1683_or"/>
          <p:cNvPicPr/>
          <p:nvPr/>
        </p:nvPicPr>
        <p:blipFill>
          <a:blip r:embed="rId1"/>
          <a:stretch/>
        </p:blipFill>
        <p:spPr>
          <a:xfrm>
            <a:off x="2124000" y="1989000"/>
            <a:ext cx="503244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651640" y="4797000"/>
            <a:ext cx="304632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игорий Аванесов,  «Хрустальный ручей»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fec6076c2124e9a54aac8bef89760e85f482c74982328"/>
          <p:cNvPicPr/>
          <p:nvPr/>
        </p:nvPicPr>
        <p:blipFill>
          <a:blip r:embed="rId1"/>
          <a:stretch/>
        </p:blipFill>
        <p:spPr>
          <a:xfrm>
            <a:off x="250920" y="189000"/>
            <a:ext cx="539568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476000" y="5877000"/>
            <a:ext cx="58323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ва́н Ши́шкин, «Зимой в лесу», 1877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de13fa14bbb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85676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a9652206fd2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8424720" cy="5334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476360" y="609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ван Шишкин. «Первый снег», 1875 г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623700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поллинарий Васнецов, «Зимний сон», 1908 – 1914 г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Васнецов Зминий сон"/>
          <p:cNvPicPr/>
          <p:nvPr/>
        </p:nvPicPr>
        <p:blipFill>
          <a:blip r:embed="rId1"/>
          <a:stretch/>
        </p:blipFill>
        <p:spPr>
          <a:xfrm>
            <a:off x="285840" y="395280"/>
            <a:ext cx="79581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1280" y="5805360"/>
            <a:ext cx="8137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лексей Саврасов, «Зима», конец 1870-х, начало 1880-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f31a362bef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89000"/>
            <a:ext cx="72010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92360" y="333360"/>
            <a:ext cx="3476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горь Грабарь, «Февральская лазурь», 1904 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grabar26"/>
          <p:cNvPicPr/>
          <p:nvPr/>
        </p:nvPicPr>
        <p:blipFill>
          <a:blip r:embed="rId1"/>
          <a:stretch/>
        </p:blipFill>
        <p:spPr>
          <a:xfrm>
            <a:off x="250920" y="189000"/>
            <a:ext cx="44654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594972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горь Грабарь, «Иней. Восход солнца», 194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grabar14"/>
          <p:cNvPicPr/>
          <p:nvPr/>
        </p:nvPicPr>
        <p:blipFill>
          <a:blip r:embed="rId1"/>
          <a:stretch/>
        </p:blipFill>
        <p:spPr>
          <a:xfrm>
            <a:off x="324000" y="189000"/>
            <a:ext cx="84340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6237000"/>
            <a:ext cx="83628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иколай Крымов, «Зимний вечер», 191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Krimov_Zimniy_vecher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4292280"/>
            <a:ext cx="3240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саак Левитан, «Зимой в лесу», 188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Изображение"/>
          <p:cNvPicPr/>
          <p:nvPr/>
        </p:nvPicPr>
        <p:blipFill>
          <a:blip r:embed="rId1"/>
          <a:stretch/>
        </p:blipFill>
        <p:spPr>
          <a:xfrm>
            <a:off x="3708360" y="189000"/>
            <a:ext cx="523872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8:21:46Z</dcterms:created>
  <dc:creator>User</dc:creator>
  <dc:description/>
  <dc:language>en-US</dc:language>
  <cp:lastModifiedBy>1111</cp:lastModifiedBy>
  <dcterms:modified xsi:type="dcterms:W3CDTF">2018-01-18T16:39:17Z</dcterms:modified>
  <cp:revision>58</cp:revision>
  <dc:subject/>
  <dc:title>Зима в картинах художников</dc:title>
</cp:coreProperties>
</file>