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5287-5A6E-4E30-A002-8AFBB315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085A-13B6-42B0-B7AA-628FE290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3EB-C354-4597-8721-CEA427EB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EE7-9293-4F37-A038-B020CD56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A565-AE27-40AB-B06A-166EFE80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D8B-4FB7-414F-8193-592C8B7A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5DD3-71CD-4067-BF8D-1FB9C67D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333-B26F-424E-96BC-00C582C2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490-955A-4789-9F0B-6C74B224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FE8-8E95-4DAA-8B09-FCC033AE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B55-D638-4833-9BE8-FF4754B7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FAE0-7210-4AAB-9C8D-F5BDA3BA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AC83-5AB7-4F98-AC20-855D258F5A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d2d8a"/>
                </a:solidFill>
                <a:latin typeface="Cambria"/>
              </a:rPr>
              <a:t>Зима</a:t>
            </a:r>
            <a:r>
              <a:rPr b="1" lang="ru-RU" sz="5400" spc="-1" strike="noStrike">
                <a:solidFill>
                  <a:srgbClr val="000066"/>
                </a:solidFill>
                <a:latin typeface="Cambria"/>
              </a:rPr>
              <a:t> в картинах русских художни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6237360"/>
            <a:ext cx="6400800" cy="26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Cambria"/>
              </a:rPr>
              <a:t>Подготовила воспитатель старшей (логопедической)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Cambria"/>
              </a:rPr>
              <a:t>Семенченко Н.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71683_or"/>
          <p:cNvPicPr/>
          <p:nvPr/>
        </p:nvPicPr>
        <p:blipFill>
          <a:blip r:embed="rId1"/>
          <a:stretch/>
        </p:blipFill>
        <p:spPr>
          <a:xfrm>
            <a:off x="2124000" y="1989000"/>
            <a:ext cx="503244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651640" y="4797000"/>
            <a:ext cx="304632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Григорий Аванесов,  «Хрустальный ручей»,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fec6076c2124e9a54aac8bef89760e85f482c74982328"/>
          <p:cNvPicPr/>
          <p:nvPr/>
        </p:nvPicPr>
        <p:blipFill>
          <a:blip r:embed="rId1"/>
          <a:stretch/>
        </p:blipFill>
        <p:spPr>
          <a:xfrm>
            <a:off x="250920" y="189000"/>
            <a:ext cx="5395680" cy="64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476000" y="5877000"/>
            <a:ext cx="583236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ва́н Ши́шкин, «Зимой в лесу», 1877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de13fa14bbb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76280"/>
            <a:ext cx="85676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a9652206fd2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8424720" cy="53341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476360" y="6093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Иван Шишкин. «Первый снег», 1875 г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623700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поллинарий Васнецов, «Зимний сон», 1908 – 1914 г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Васнецов Зминий сон"/>
          <p:cNvPicPr/>
          <p:nvPr/>
        </p:nvPicPr>
        <p:blipFill>
          <a:blip r:embed="rId1"/>
          <a:stretch/>
        </p:blipFill>
        <p:spPr>
          <a:xfrm>
            <a:off x="285840" y="395280"/>
            <a:ext cx="795816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1280" y="5805360"/>
            <a:ext cx="81374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лексей Саврасов, «Зима», конец 1870-х, начало 1880-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f31a362bef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89000"/>
            <a:ext cx="72010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292360" y="333360"/>
            <a:ext cx="34765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горь Грабарь, «Февральская лазурь», 1904 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grabar26"/>
          <p:cNvPicPr/>
          <p:nvPr/>
        </p:nvPicPr>
        <p:blipFill>
          <a:blip r:embed="rId1"/>
          <a:stretch/>
        </p:blipFill>
        <p:spPr>
          <a:xfrm>
            <a:off x="250920" y="189000"/>
            <a:ext cx="446544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594972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Игорь Грабарь, «Иней. Восход солнца», 1941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grabar14"/>
          <p:cNvPicPr/>
          <p:nvPr/>
        </p:nvPicPr>
        <p:blipFill>
          <a:blip r:embed="rId1"/>
          <a:stretch/>
        </p:blipFill>
        <p:spPr>
          <a:xfrm>
            <a:off x="324000" y="189000"/>
            <a:ext cx="843408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4000" y="6237000"/>
            <a:ext cx="836280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иколай Крымов, «Зимний вечер», 1919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Krimov_Zimniy_vecher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4292280"/>
            <a:ext cx="32400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Исаак Левитан, «Зимой в лесу», 1885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Изображение"/>
          <p:cNvPicPr/>
          <p:nvPr/>
        </p:nvPicPr>
        <p:blipFill>
          <a:blip r:embed="rId1"/>
          <a:stretch/>
        </p:blipFill>
        <p:spPr>
          <a:xfrm>
            <a:off x="3708360" y="189000"/>
            <a:ext cx="5238720" cy="64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8:21:46Z</dcterms:created>
  <dc:creator>User</dc:creator>
  <dc:description/>
  <dc:language>en-US</dc:language>
  <cp:lastModifiedBy>1111</cp:lastModifiedBy>
  <dcterms:modified xsi:type="dcterms:W3CDTF">2018-01-18T16:39:17Z</dcterms:modified>
  <cp:revision>58</cp:revision>
  <dc:subject/>
  <dc:title>Зима в картинах художников</dc:title>
</cp:coreProperties>
</file>