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94AF6-4D1A-4A4A-B79D-90FFFFC8E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5E728C-A14F-40C9-A73A-5F0FB8E58FD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2050F-D239-4EDA-80C5-C37776871E4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866-033C-41A6-8A8F-84D63CCE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B88-8E47-490A-980A-1307B80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6C9-5E8B-4675-A239-CA053B07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E87-9927-46E4-A591-6B2B4855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F9B2-E658-4595-A962-AB8BFC42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183A-676C-4438-A1BF-CDE5223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274-0E45-4241-9F6C-3922F07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8FB8-51F3-4EFA-B782-AB6E56D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6B5-17D1-4268-9687-07AA8D1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5A96-A2DC-432F-A45A-9CBF85D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E32A-9845-42F7-AF72-8A1242D7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E8A-0BB8-4984-BEF1-E8C6A58A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4407-6AE8-4005-A85D-3518BEF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754F-1803-4880-A028-172E2D6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C70D-973C-4598-BB92-2AE4C271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9C72-760C-4AD4-81BC-9A1CA6C4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5F0-F2B5-4758-8DDB-84021101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B0A9-206E-4C48-807F-5713967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FE33-4199-40CE-9882-F14F627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73AB-ACF9-482E-A40C-1FB86D83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D064-2C91-458E-A19E-311C41D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1116-A90A-4323-9DCC-D1498614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A46-FECD-4767-9526-FD43546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B272-DAA8-4D37-9441-50B58993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8AFE-BF6D-40F9-9843-893772A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5EA4-FA52-4F76-BD7F-BCCF263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8D7D-A9DF-4825-882A-0D902DE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43C1-B014-46E6-82D5-B4024E69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CF94-52C2-4AF9-A724-BDF4EE3D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1E93-E4AE-43CA-BF7A-028C1B00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4FF0-BED2-42AB-A6A8-1BD6CC33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3B9D-5D33-49C8-B84D-B3EE4E80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DAD7-BEBA-4B78-9E32-28EF290A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0B3-F308-4487-910D-A754B48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0C9F-D272-473A-A20D-3ED4F2B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626B-E14B-4F64-94D3-8B9CF86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1B97-530C-46D6-9F23-59243B0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655C-EACC-4AAF-A5CC-8E5FB01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238D-C664-4CAC-8B73-DDBE3AB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731B-DE64-4ED1-9CE9-4776520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38D2-C30D-4886-9CBE-26829A2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FDB1-04DA-4516-985B-89A527DC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5050-E27B-47B3-9844-2E3C6903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B70-4534-4720-A42A-11C0A5D6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8C2-6FB4-4CCD-A0C5-98E46FEA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239-A96B-4A15-891F-939A760B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84E-298D-40AF-816D-C93FD66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2EF-1CDB-4797-A503-615551C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459BC-802C-42ED-A172-9878EAFDE6F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DED21E-C84C-4144-A78E-35EC77BF4E3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7014F9-1B33-407B-B885-63A47F2CE56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BD0933-DE47-40FB-AEA2-DB08FDA9B2A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1.jpeg"/><Relationship Id="rId6" Type="http://schemas.openxmlformats.org/officeDocument/2006/relationships/image" Target="../media/image1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6.jpeg"/><Relationship Id="rId10" Type="http://schemas.openxmlformats.org/officeDocument/2006/relationships/image" Target="../media/image13.jpeg"/><Relationship Id="rId11" Type="http://schemas.openxmlformats.org/officeDocument/2006/relationships/image" Target="../media/image15.jpeg"/><Relationship Id="rId12" Type="http://schemas.openxmlformats.org/officeDocument/2006/relationships/image" Target="../media/image12.jpeg"/><Relationship Id="rId13" Type="http://schemas.openxmlformats.org/officeDocument/2006/relationships/image" Target="../media/image25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05560" cy="100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Интеллектуальная викторина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«Привет от Умки»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5076000" y="5060160"/>
            <a:ext cx="3762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одготовила: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брам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Шарья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395640" y="123120"/>
            <a:ext cx="84434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етский сад №11 «Звездочка»» городского округа город Шарья Костром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Маринка\Desktop\УМКА\57138decaf50bbaa9e22306c1a075803.jpg"/>
          <p:cNvPicPr/>
          <p:nvPr/>
        </p:nvPicPr>
        <p:blipFill>
          <a:blip r:embed="rId1"/>
          <a:stretch/>
        </p:blipFill>
        <p:spPr>
          <a:xfrm>
            <a:off x="1043640" y="1804320"/>
            <a:ext cx="3456000" cy="46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704160"/>
            <a:ext cx="74163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Фантазии от Умки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Users\Маринка\Desktop\УМКА\6bb7af191d8d48b707c32cadc921d695 - копия.jpg"/>
          <p:cNvPicPr/>
          <p:nvPr/>
        </p:nvPicPr>
        <p:blipFill>
          <a:blip r:embed="rId1"/>
          <a:stretch/>
        </p:blipFill>
        <p:spPr>
          <a:xfrm>
            <a:off x="4428000" y="1536480"/>
            <a:ext cx="3549240" cy="4906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1403640" y="240228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7640" y="476640"/>
            <a:ext cx="5760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Нарисуй в каждом кружке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Овал 3"/>
          <p:cNvSpPr/>
          <p:nvPr/>
        </p:nvSpPr>
        <p:spPr>
          <a:xfrm>
            <a:off x="963720" y="4511160"/>
            <a:ext cx="1728000" cy="165600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Овал 4"/>
          <p:cNvSpPr/>
          <p:nvPr/>
        </p:nvSpPr>
        <p:spPr>
          <a:xfrm>
            <a:off x="3852000" y="4509000"/>
            <a:ext cx="1728000" cy="164736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Овал 5"/>
          <p:cNvSpPr/>
          <p:nvPr/>
        </p:nvSpPr>
        <p:spPr>
          <a:xfrm>
            <a:off x="6624360" y="4509000"/>
            <a:ext cx="1800000" cy="172800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Овал 6"/>
          <p:cNvSpPr/>
          <p:nvPr/>
        </p:nvSpPr>
        <p:spPr>
          <a:xfrm>
            <a:off x="1187640" y="278100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092480" y="279720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7020360" y="280296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1118160" y="119664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Овал 11"/>
          <p:cNvSpPr/>
          <p:nvPr/>
        </p:nvSpPr>
        <p:spPr>
          <a:xfrm>
            <a:off x="2988000" y="1214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Овал 12"/>
          <p:cNvSpPr/>
          <p:nvPr/>
        </p:nvSpPr>
        <p:spPr>
          <a:xfrm>
            <a:off x="5136480" y="1214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Овал 13"/>
          <p:cNvSpPr/>
          <p:nvPr/>
        </p:nvSpPr>
        <p:spPr>
          <a:xfrm>
            <a:off x="7020360" y="1169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1640" y="704160"/>
            <a:ext cx="61203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До новых встреч!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Содержимое 5" descr="https://i.ytimg.com/vi/KU_bMBxbia8/hqdefault.jpg"/>
          <p:cNvPicPr/>
          <p:nvPr/>
        </p:nvPicPr>
        <p:blipFill>
          <a:blip r:embed="rId1"/>
          <a:stretch/>
        </p:blipFill>
        <p:spPr>
          <a:xfrm>
            <a:off x="1835640" y="1989000"/>
            <a:ext cx="5810040" cy="429732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32836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рктик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Рисунок 6" descr="https://www.soest.hawaii.edu/HMRG/Aagruuk/Images/globe2_small.jpg"/>
          <p:cNvPicPr/>
          <p:nvPr/>
        </p:nvPicPr>
        <p:blipFill>
          <a:blip r:embed="rId1"/>
          <a:stretch/>
        </p:blipFill>
        <p:spPr>
          <a:xfrm>
            <a:off x="683640" y="849600"/>
            <a:ext cx="3168000" cy="282420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2" descr="http://www.kp.ru/f/12/image/77/11/4371177.jpg"/>
          <p:cNvPicPr/>
          <p:nvPr/>
        </p:nvPicPr>
        <p:blipFill>
          <a:blip r:embed="rId2"/>
          <a:stretch/>
        </p:blipFill>
        <p:spPr>
          <a:xfrm>
            <a:off x="4572000" y="999720"/>
            <a:ext cx="3816000" cy="254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8" name="Picture 2" descr="РАРАН - Российская академия ракетных и артиллерийских наук - Новости"/>
          <p:cNvPicPr/>
          <p:nvPr/>
        </p:nvPicPr>
        <p:blipFill>
          <a:blip r:embed="rId3"/>
          <a:stretch/>
        </p:blipFill>
        <p:spPr>
          <a:xfrm>
            <a:off x="4284000" y="3646800"/>
            <a:ext cx="4526640" cy="2981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9" name="Рисунок 11" descr="http://mykoshka.ru/wp-content/uploads/2017/03/ymka.jpg"/>
          <p:cNvPicPr/>
          <p:nvPr/>
        </p:nvPicPr>
        <p:blipFill>
          <a:blip r:embed="rId4"/>
          <a:stretch/>
        </p:blipFill>
        <p:spPr>
          <a:xfrm>
            <a:off x="709200" y="3771720"/>
            <a:ext cx="3142440" cy="269496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Users\Маринка\Desktop\УМКА\bd867d58de014620e31fddcad4963f7d.jpg"/>
          <p:cNvPicPr/>
          <p:nvPr/>
        </p:nvPicPr>
        <p:blipFill>
          <a:blip r:embed="rId1"/>
          <a:stretch/>
        </p:blipFill>
        <p:spPr>
          <a:xfrm>
            <a:off x="4068000" y="1432080"/>
            <a:ext cx="3960000" cy="52005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2195640" y="908640"/>
            <a:ext cx="43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Наложенный конту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1259640" y="270900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1835640" y="1340640"/>
            <a:ext cx="496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Картинки с отлич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http://t3.gstatic.com/images?q=tbn:ANd9GcTwTIKmaeimWhytpiugQAf6Z9D-H_zkvGlYtekq1w2yWyPavD7mrg"/>
          <p:cNvPicPr/>
          <p:nvPr/>
        </p:nvPicPr>
        <p:blipFill>
          <a:blip r:embed="rId1"/>
          <a:stretch/>
        </p:blipFill>
        <p:spPr>
          <a:xfrm>
            <a:off x="1259640" y="306900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5" name="Picture 4" descr="C:\Users\Маринка\Desktop\УМКА\7acd8cd8f15a9b71cca6230fba565d49 - копия.jpg"/>
          <p:cNvPicPr/>
          <p:nvPr/>
        </p:nvPicPr>
        <p:blipFill>
          <a:blip r:embed="rId2"/>
          <a:stretch/>
        </p:blipFill>
        <p:spPr>
          <a:xfrm>
            <a:off x="4068000" y="1989000"/>
            <a:ext cx="4272120" cy="458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Маринка\Desktop\УМКА\cce2afcc0388057c4351c8437909cb85.jpg"/>
          <p:cNvPicPr/>
          <p:nvPr/>
        </p:nvPicPr>
        <p:blipFill>
          <a:blip r:embed="rId1"/>
          <a:stretch/>
        </p:blipFill>
        <p:spPr>
          <a:xfrm>
            <a:off x="2385000" y="1196640"/>
            <a:ext cx="4320000" cy="43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1640" y="704160"/>
            <a:ext cx="56883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смотри и запомни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https://img.novosti-n.org/upload/ukraine/147933.jpg"/>
          <p:cNvPicPr/>
          <p:nvPr/>
        </p:nvPicPr>
        <p:blipFill>
          <a:blip r:embed="rId1"/>
          <a:stretch/>
        </p:blipFill>
        <p:spPr>
          <a:xfrm>
            <a:off x="294120" y="1700640"/>
            <a:ext cx="1944360" cy="1510200"/>
          </a:xfrm>
          <a:prstGeom prst="rect">
            <a:avLst/>
          </a:prstGeom>
          <a:ln w="9525">
            <a:noFill/>
          </a:ln>
        </p:spPr>
      </p:pic>
      <p:pic>
        <p:nvPicPr>
          <p:cNvPr id="209" name="Рисунок 4" descr="ÐÐµÐ»ÑÑÐ°"/>
          <p:cNvPicPr/>
          <p:nvPr/>
        </p:nvPicPr>
        <p:blipFill>
          <a:blip r:embed="rId2"/>
          <a:stretch/>
        </p:blipFill>
        <p:spPr>
          <a:xfrm>
            <a:off x="4449960" y="3347280"/>
            <a:ext cx="1747440" cy="1377360"/>
          </a:xfrm>
          <a:prstGeom prst="rect">
            <a:avLst/>
          </a:prstGeom>
          <a:ln w="9525">
            <a:noFill/>
          </a:ln>
        </p:spPr>
      </p:pic>
      <p:pic>
        <p:nvPicPr>
          <p:cNvPr id="210" name="Рисунок 5" descr="ÐÐ¸Ð²Ð¾ÑÐ½ÑÐµ ÐÑÐºÑÐ¸ÐºÐ¸: Ð¡ÐµÐ²ÐµÑÐ½ÑÐ¹ Ð¾Ð»ÐµÐ½Ñ"/>
          <p:cNvPicPr/>
          <p:nvPr/>
        </p:nvPicPr>
        <p:blipFill>
          <a:blip r:embed="rId3"/>
          <a:stretch/>
        </p:blipFill>
        <p:spPr>
          <a:xfrm>
            <a:off x="4500000" y="1700640"/>
            <a:ext cx="1697400" cy="1523880"/>
          </a:xfrm>
          <a:prstGeom prst="rect">
            <a:avLst/>
          </a:prstGeom>
          <a:ln w="9525">
            <a:noFill/>
          </a:ln>
        </p:spPr>
      </p:pic>
      <p:pic>
        <p:nvPicPr>
          <p:cNvPr id="211" name="Содержимое 4" descr="poljarnaja-lisa"/>
          <p:cNvPicPr/>
          <p:nvPr/>
        </p:nvPicPr>
        <p:blipFill>
          <a:blip r:embed="rId4"/>
          <a:stretch/>
        </p:blipFill>
        <p:spPr>
          <a:xfrm>
            <a:off x="294120" y="3357000"/>
            <a:ext cx="1944360" cy="1367640"/>
          </a:xfrm>
          <a:prstGeom prst="rect">
            <a:avLst/>
          </a:prstGeom>
          <a:ln w="9525">
            <a:noFill/>
          </a:ln>
        </p:spPr>
      </p:pic>
      <p:pic>
        <p:nvPicPr>
          <p:cNvPr id="212" name="Содержимое 4" descr="ÐÐ¾Ð»ÑÑÐ½Ð°Ñ ÐºÑÐ°ÑÐºÐ°"/>
          <p:cNvPicPr/>
          <p:nvPr/>
        </p:nvPicPr>
        <p:blipFill>
          <a:blip r:embed="rId5"/>
          <a:stretch/>
        </p:blipFill>
        <p:spPr>
          <a:xfrm>
            <a:off x="2411640" y="1700640"/>
            <a:ext cx="1872000" cy="1510200"/>
          </a:xfrm>
          <a:prstGeom prst="rect">
            <a:avLst/>
          </a:prstGeom>
          <a:ln w="9525">
            <a:noFill/>
          </a:ln>
        </p:spPr>
      </p:pic>
      <p:pic>
        <p:nvPicPr>
          <p:cNvPr id="213" name="Содержимое 4" descr="ÐÑÐºÑÐ¸ÑÐµÑÐºÐ¸Ð¹ Ð±ÐµÐ»ÑÐº"/>
          <p:cNvPicPr/>
          <p:nvPr/>
        </p:nvPicPr>
        <p:blipFill>
          <a:blip r:embed="rId6"/>
          <a:stretch/>
        </p:blipFill>
        <p:spPr>
          <a:xfrm>
            <a:off x="2411640" y="3351600"/>
            <a:ext cx="1872000" cy="1335960"/>
          </a:xfrm>
          <a:prstGeom prst="rect">
            <a:avLst/>
          </a:prstGeom>
          <a:ln w="9525">
            <a:noFill/>
          </a:ln>
        </p:spPr>
      </p:pic>
      <p:pic>
        <p:nvPicPr>
          <p:cNvPr id="214" name="Рисунок 10" descr="http://www.photoforum.ru/f/photo/000/615/615759_48.jpg"/>
          <p:cNvPicPr/>
          <p:nvPr/>
        </p:nvPicPr>
        <p:blipFill>
          <a:blip r:embed="rId7"/>
          <a:stretch/>
        </p:blipFill>
        <p:spPr>
          <a:xfrm>
            <a:off x="6414840" y="1779480"/>
            <a:ext cx="2090160" cy="13662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http://bygaga.com.ua/uploads/posts/1351431930_takie_zabavnie_morskie_kotiki_459-32.jpg"/>
          <p:cNvPicPr/>
          <p:nvPr/>
        </p:nvPicPr>
        <p:blipFill>
          <a:blip r:embed="rId8"/>
          <a:stretch/>
        </p:blipFill>
        <p:spPr>
          <a:xfrm>
            <a:off x="1475640" y="4947480"/>
            <a:ext cx="2114640" cy="1585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6" name="Picture 2" descr="C:\Users\Маринка\Desktop\УМКА\8730095484a3f8ee61be4f42e67bf350.jpg"/>
          <p:cNvPicPr/>
          <p:nvPr/>
        </p:nvPicPr>
        <p:blipFill>
          <a:blip r:embed="rId9"/>
          <a:stretch/>
        </p:blipFill>
        <p:spPr>
          <a:xfrm>
            <a:off x="6414840" y="3357000"/>
            <a:ext cx="2090160" cy="14770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3" descr="http://www.sakhanews.ru/files/38773.jpg"/>
          <p:cNvPicPr/>
          <p:nvPr/>
        </p:nvPicPr>
        <p:blipFill>
          <a:blip r:embed="rId10"/>
          <a:stretch/>
        </p:blipFill>
        <p:spPr>
          <a:xfrm>
            <a:off x="4284000" y="5137560"/>
            <a:ext cx="1564560" cy="1205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770436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Какие картинки были на предыдущем слайде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Еж ежик животное"/>
          <p:cNvPicPr/>
          <p:nvPr/>
        </p:nvPicPr>
        <p:blipFill>
          <a:blip r:embed="rId1"/>
          <a:stretch/>
        </p:blipFill>
        <p:spPr>
          <a:xfrm>
            <a:off x="243000" y="1324080"/>
            <a:ext cx="1370160" cy="102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Андрей\Desktop\Новая папка\40198314.jpg"/>
          <p:cNvPicPr/>
          <p:nvPr/>
        </p:nvPicPr>
        <p:blipFill>
          <a:blip r:embed="rId2"/>
          <a:stretch/>
        </p:blipFill>
        <p:spPr>
          <a:xfrm>
            <a:off x="5457960" y="3020760"/>
            <a:ext cx="1726920" cy="132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Андрей\Desktop\Новая папка\p62.jpg"/>
          <p:cNvPicPr/>
          <p:nvPr/>
        </p:nvPicPr>
        <p:blipFill>
          <a:blip r:embed="rId3"/>
          <a:stretch/>
        </p:blipFill>
        <p:spPr>
          <a:xfrm>
            <a:off x="6998760" y="1333080"/>
            <a:ext cx="1439640" cy="1029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животные - Страница 3 - Форум"/>
          <p:cNvPicPr/>
          <p:nvPr/>
        </p:nvPicPr>
        <p:blipFill>
          <a:blip r:embed="rId4"/>
          <a:stretch/>
        </p:blipFill>
        <p:spPr>
          <a:xfrm>
            <a:off x="7262640" y="4804200"/>
            <a:ext cx="1621080" cy="12196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6" descr="https://img.novosti-n.org/upload/ukraine/147933.jpg"/>
          <p:cNvPicPr/>
          <p:nvPr/>
        </p:nvPicPr>
        <p:blipFill>
          <a:blip r:embed="rId5"/>
          <a:stretch/>
        </p:blipFill>
        <p:spPr>
          <a:xfrm>
            <a:off x="1772640" y="1323720"/>
            <a:ext cx="1446840" cy="102780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2" descr="http://bygaga.com.ua/uploads/posts/1351431930_takie_zabavnie_morskie_kotiki_459-32.jpg"/>
          <p:cNvPicPr/>
          <p:nvPr/>
        </p:nvPicPr>
        <p:blipFill>
          <a:blip r:embed="rId6"/>
          <a:stretch/>
        </p:blipFill>
        <p:spPr>
          <a:xfrm>
            <a:off x="4816440" y="1145880"/>
            <a:ext cx="1607760" cy="120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5" name="Рисунок 18" descr="http://www.photoforum.ru/f/photo/000/615/615759_48.jpg"/>
          <p:cNvPicPr/>
          <p:nvPr/>
        </p:nvPicPr>
        <p:blipFill>
          <a:blip r:embed="rId7"/>
          <a:stretch/>
        </p:blipFill>
        <p:spPr>
          <a:xfrm>
            <a:off x="243000" y="2959560"/>
            <a:ext cx="1736280" cy="1155240"/>
          </a:xfrm>
          <a:prstGeom prst="rect">
            <a:avLst/>
          </a:prstGeom>
          <a:ln w="9525">
            <a:noFill/>
          </a:ln>
        </p:spPr>
      </p:pic>
      <p:pic>
        <p:nvPicPr>
          <p:cNvPr id="226" name="Содержимое 4" descr="poljarnaja-lisa"/>
          <p:cNvPicPr/>
          <p:nvPr/>
        </p:nvPicPr>
        <p:blipFill>
          <a:blip r:embed="rId8"/>
          <a:stretch/>
        </p:blipFill>
        <p:spPr>
          <a:xfrm>
            <a:off x="7317000" y="3091680"/>
            <a:ext cx="1351080" cy="1187640"/>
          </a:xfrm>
          <a:prstGeom prst="rect">
            <a:avLst/>
          </a:prstGeom>
          <a:ln w="9525">
            <a:noFill/>
          </a:ln>
        </p:spPr>
      </p:pic>
      <p:pic>
        <p:nvPicPr>
          <p:cNvPr id="227" name="Содержимое 4" descr="ÐÑÐºÑÐ¸ÑÐµÑÐºÐ¸Ð¹ Ð±ÐµÐ»ÑÐº"/>
          <p:cNvPicPr/>
          <p:nvPr/>
        </p:nvPicPr>
        <p:blipFill>
          <a:blip r:embed="rId9"/>
          <a:stretch/>
        </p:blipFill>
        <p:spPr>
          <a:xfrm>
            <a:off x="3608640" y="4782960"/>
            <a:ext cx="1728000" cy="1226880"/>
          </a:xfrm>
          <a:prstGeom prst="rect">
            <a:avLst/>
          </a:prstGeom>
          <a:ln w="9525">
            <a:noFill/>
          </a:ln>
        </p:spPr>
      </p:pic>
      <p:pic>
        <p:nvPicPr>
          <p:cNvPr id="228" name="Рисунок 21" descr="ÐÐ¸Ð²Ð¾ÑÐ½ÑÐµ ÐÑÐºÑÐ¸ÐºÐ¸: Ð¡ÐµÐ²ÐµÑÐ½ÑÐ¹ Ð¾Ð»ÐµÐ½Ñ"/>
          <p:cNvPicPr/>
          <p:nvPr/>
        </p:nvPicPr>
        <p:blipFill>
          <a:blip r:embed="rId10"/>
          <a:stretch/>
        </p:blipFill>
        <p:spPr>
          <a:xfrm>
            <a:off x="151920" y="4670640"/>
            <a:ext cx="1552680" cy="1307880"/>
          </a:xfrm>
          <a:prstGeom prst="rect">
            <a:avLst/>
          </a:prstGeom>
          <a:ln w="9525">
            <a:noFill/>
          </a:ln>
        </p:spPr>
      </p:pic>
      <p:pic>
        <p:nvPicPr>
          <p:cNvPr id="229" name="Содержимое 4" descr="ÐÐ¾Ð»ÑÑÐ½Ð°Ñ ÐºÑÐ°ÑÐºÐ°"/>
          <p:cNvPicPr/>
          <p:nvPr/>
        </p:nvPicPr>
        <p:blipFill>
          <a:blip r:embed="rId11"/>
          <a:stretch/>
        </p:blipFill>
        <p:spPr>
          <a:xfrm>
            <a:off x="5513400" y="4782960"/>
            <a:ext cx="1615680" cy="1129680"/>
          </a:xfrm>
          <a:prstGeom prst="rect">
            <a:avLst/>
          </a:prstGeom>
          <a:ln w="9525">
            <a:noFill/>
          </a:ln>
        </p:spPr>
      </p:pic>
      <p:pic>
        <p:nvPicPr>
          <p:cNvPr id="230" name="Рисунок 23" descr="ÐÐµÐ»ÑÑÐ°"/>
          <p:cNvPicPr/>
          <p:nvPr/>
        </p:nvPicPr>
        <p:blipFill>
          <a:blip r:embed="rId12"/>
          <a:stretch/>
        </p:blipFill>
        <p:spPr>
          <a:xfrm>
            <a:off x="2195640" y="2941560"/>
            <a:ext cx="1412280" cy="126756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2" descr="C:\Users\Маринка\Desktop\УМКА\26456cc2fd19e7d665d91b936aeefbac - копия.jpg"/>
          <p:cNvPicPr/>
          <p:nvPr/>
        </p:nvPicPr>
        <p:blipFill>
          <a:blip r:embed="rId13"/>
          <a:stretch/>
        </p:blipFill>
        <p:spPr>
          <a:xfrm>
            <a:off x="3495240" y="1197000"/>
            <a:ext cx="1159200" cy="1154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Маринка\Desktop\УМКА\8730095484a3f8ee61be4f42e67bf350.jpg"/>
          <p:cNvPicPr/>
          <p:nvPr/>
        </p:nvPicPr>
        <p:blipFill>
          <a:blip r:embed="rId14"/>
          <a:stretch/>
        </p:blipFill>
        <p:spPr>
          <a:xfrm>
            <a:off x="3693960" y="2970720"/>
            <a:ext cx="1556640" cy="1100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6" descr="http://www.sakhanews.ru/files/38773.jpg"/>
          <p:cNvPicPr/>
          <p:nvPr/>
        </p:nvPicPr>
        <p:blipFill>
          <a:blip r:embed="rId15"/>
          <a:stretch/>
        </p:blipFill>
        <p:spPr>
          <a:xfrm>
            <a:off x="1930320" y="4804200"/>
            <a:ext cx="1564560" cy="1205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640" y="836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Найди лишний предме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C:\Users\Маринка\Desktop\УМКА\img21 - копия.jpg"/>
          <p:cNvPicPr/>
          <p:nvPr/>
        </p:nvPicPr>
        <p:blipFill>
          <a:blip r:embed="rId1"/>
          <a:stretch/>
        </p:blipFill>
        <p:spPr>
          <a:xfrm>
            <a:off x="2544480" y="1772640"/>
            <a:ext cx="6199920" cy="408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611640" y="282888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35640" y="704160"/>
            <a:ext cx="5616360" cy="56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Северное сия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3" descr="https://avatars.mds.yandex.net/get-pdb/1340633/51c5b7e9-18d9-4284-9b1a-bacad64d8d89/s1200?webp=false"/>
          <p:cNvPicPr/>
          <p:nvPr/>
        </p:nvPicPr>
        <p:blipFill>
          <a:blip r:embed="rId1"/>
          <a:stretch/>
        </p:blipFill>
        <p:spPr>
          <a:xfrm>
            <a:off x="395640" y="1340640"/>
            <a:ext cx="4073400" cy="2448000"/>
          </a:xfrm>
          <a:prstGeom prst="rect">
            <a:avLst/>
          </a:prstGeom>
          <a:ln w="9525">
            <a:noFill/>
          </a:ln>
        </p:spPr>
      </p:pic>
      <p:pic>
        <p:nvPicPr>
          <p:cNvPr id="239" name="Рисунок 4" descr="http://www.sakhanews.ru/files/38773.jpg"/>
          <p:cNvPicPr/>
          <p:nvPr/>
        </p:nvPicPr>
        <p:blipFill>
          <a:blip r:embed="rId2"/>
          <a:stretch/>
        </p:blipFill>
        <p:spPr>
          <a:xfrm>
            <a:off x="4572000" y="1340640"/>
            <a:ext cx="3744000" cy="244800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6" descr="http://im0-tub-ru.yandex.net/i?id=32103be3670bfaa40e7deba04cd0a7c5-15-144&amp;n=33&amp;h=190"/>
          <p:cNvPicPr/>
          <p:nvPr/>
        </p:nvPicPr>
        <p:blipFill>
          <a:blip r:embed="rId3"/>
          <a:stretch/>
        </p:blipFill>
        <p:spPr>
          <a:xfrm>
            <a:off x="398520" y="3891240"/>
            <a:ext cx="4088520" cy="2596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41" name="Picture 2" descr="http://im1-tub-ru.yandex.net/i?id=19f26fc906323b601b66c1cca1fb86cd-25-144&amp;n=33&amp;h=190"/>
          <p:cNvPicPr/>
          <p:nvPr/>
        </p:nvPicPr>
        <p:blipFill>
          <a:blip r:embed="rId4"/>
          <a:stretch/>
        </p:blipFill>
        <p:spPr>
          <a:xfrm>
            <a:off x="4572000" y="3789000"/>
            <a:ext cx="3744000" cy="280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163</TotalTime>
  <Application>LibreOffice/7.4.7.2$Linux_X86_64 LibreOffice_project/40$Build-2</Application>
  <AppVersion>15.0000</AppVersion>
  <Words>53</Words>
  <Paragraphs>20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3:55:55Z</dcterms:created>
  <dc:creator>Zver</dc:creator>
  <dc:description/>
  <dc:language>en-US</dc:language>
  <cp:lastModifiedBy>Маринка</cp:lastModifiedBy>
  <dcterms:modified xsi:type="dcterms:W3CDTF">2021-04-23T09:28:47Z</dcterms:modified>
  <cp:revision>129</cp:revision>
  <dc:subject/>
  <dc:title>Квест-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