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EF105B-CCED-4AD6-AEA2-701339FF5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1C3CA9-536E-4C94-86D4-AB4D8A65BF3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FC6AE4-C404-4487-ADF6-63382048F48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24A-23DB-4488-8090-2CDA0ED4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979-61EE-4185-B2A8-F43A59E9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CF1-5754-46F2-8B66-B9FAEF72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949-CCC1-4591-B691-BD26AE1B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DE7E-DDA9-4EA3-9436-EC1B83CE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817-F92F-4FFA-ACD8-6ACD9170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90E-4DF5-4D68-A67E-6EF81FDA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3CD4-C908-4E45-B96D-DA17D1C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73F4-F193-42D8-ABDD-8A534498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D184-1167-4A9B-8885-F223764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212E-E13B-473D-A9DD-C470E826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D2E-A01A-4B2E-8A4C-EB03B22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36F0-54B1-4FDA-A19D-CB72EF51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EA4F-3134-423E-8266-D56CE18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B9A3-F070-413F-A813-C2C8A53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9228-3155-4E41-9636-7198BE37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C2F1-B768-4C1D-A5FB-55181EC9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55DE-F318-4999-80F8-B93DF29D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4FB5-ECDF-4C63-ABD2-568F253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8F12-8D05-47C7-882D-82FDFC1D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33A2-A86F-4070-8184-01221FCA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8BD8-D16D-4E4C-81A5-DEF3669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B2A-D92D-4353-81EB-2F51FD3B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1095-D84E-4638-991B-310ABFDC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BF08-4C6C-457C-B9A1-034A818E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953F-9CCF-4BA0-9F2B-3F30B49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E91A-5863-42B2-B994-D920446C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3F85-FCEC-477F-B41A-924D5B78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52C7-510D-424C-9BC6-3C121942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D9CB-2E47-4E2F-B50D-9E82DA1A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75BE-0D05-4C30-B4C2-74D834F3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D98C-F710-4C72-9ED5-30EC743F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F9C21-5B08-4139-A410-677B061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830-BB70-4E27-8D9A-2B3DF737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E7A7C-2146-4CB2-935B-6E7D71DD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FCDC-FF7D-41C8-B538-431CE636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B898-A4D9-4DF5-B99C-AF9636B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88E5-F87E-4B25-A90E-ACDD4BA2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BA10-72D9-4692-A557-795E6CD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3142-5B89-4327-BF38-B0EBF14D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1F10-7DA4-43EA-8E1E-59E53D32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8B19-DFFA-4CE0-8A5B-3B7139BD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9DA2-F2ED-4FA6-A388-1D77978F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9F2-964C-445C-B5C5-E193CE9C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EFA-2DDB-4EC5-AD38-A5E35187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468-38E6-48C1-9E4F-231E2267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B40-0108-4FD2-A107-6BE9838A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A25-008E-4AB0-A3A0-93B3A41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E6387F-B003-4B6E-881F-347E7E8FD154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1A8782-C5C7-49F9-877E-A1C7D75132A3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5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6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853517-AE26-49E0-9042-9458817B1F4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1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2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3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62483F-F406-4B7B-B68A-EAB01FAE6E4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1.jpeg"/><Relationship Id="rId6" Type="http://schemas.openxmlformats.org/officeDocument/2006/relationships/image" Target="../media/image1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6.jpeg"/><Relationship Id="rId10" Type="http://schemas.openxmlformats.org/officeDocument/2006/relationships/image" Target="../media/image13.jpeg"/><Relationship Id="rId11" Type="http://schemas.openxmlformats.org/officeDocument/2006/relationships/image" Target="../media/image15.jpeg"/><Relationship Id="rId12" Type="http://schemas.openxmlformats.org/officeDocument/2006/relationships/image" Target="../media/image12.jpeg"/><Relationship Id="rId13" Type="http://schemas.openxmlformats.org/officeDocument/2006/relationships/image" Target="../media/image25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05560" cy="100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Интеллектуальная викторина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«Привет от Умки»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5076000" y="5060160"/>
            <a:ext cx="3762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одготовила: 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Абрамова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 Шарья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"/>
          <p:cNvSpPr/>
          <p:nvPr/>
        </p:nvSpPr>
        <p:spPr>
          <a:xfrm>
            <a:off x="395640" y="123120"/>
            <a:ext cx="84434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етский сад №11 «Звездочка»» городского округа город Шарья Костром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C:\Users\Маринка\Desktop\УМКА\57138decaf50bbaa9e22306c1a075803.jpg"/>
          <p:cNvPicPr/>
          <p:nvPr/>
        </p:nvPicPr>
        <p:blipFill>
          <a:blip r:embed="rId1"/>
          <a:stretch/>
        </p:blipFill>
        <p:spPr>
          <a:xfrm>
            <a:off x="1043640" y="1804320"/>
            <a:ext cx="3456000" cy="464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9640" y="704160"/>
            <a:ext cx="741636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Фантазии от Умки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Users\Маринка\Desktop\УМКА\6bb7af191d8d48b707c32cadc921d695 - копия.jpg"/>
          <p:cNvPicPr/>
          <p:nvPr/>
        </p:nvPicPr>
        <p:blipFill>
          <a:blip r:embed="rId1"/>
          <a:stretch/>
        </p:blipFill>
        <p:spPr>
          <a:xfrm>
            <a:off x="4428000" y="1536480"/>
            <a:ext cx="3549240" cy="4906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http://t3.gstatic.com/images?q=tbn:ANd9GcTwTIKmaeimWhytpiugQAf6Z9D-H_zkvGlYtekq1w2yWyPavD7mrg"/>
          <p:cNvPicPr/>
          <p:nvPr/>
        </p:nvPicPr>
        <p:blipFill>
          <a:blip r:embed="rId2"/>
          <a:stretch/>
        </p:blipFill>
        <p:spPr>
          <a:xfrm>
            <a:off x="1403640" y="2402280"/>
            <a:ext cx="1523520" cy="2133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7640" y="476640"/>
            <a:ext cx="5760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Нарисуй в каждом кружке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Овал 3"/>
          <p:cNvSpPr/>
          <p:nvPr/>
        </p:nvSpPr>
        <p:spPr>
          <a:xfrm>
            <a:off x="963720" y="4511160"/>
            <a:ext cx="1728000" cy="165600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Овал 4"/>
          <p:cNvSpPr/>
          <p:nvPr/>
        </p:nvSpPr>
        <p:spPr>
          <a:xfrm>
            <a:off x="3852000" y="4509000"/>
            <a:ext cx="1728000" cy="164736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Овал 5"/>
          <p:cNvSpPr/>
          <p:nvPr/>
        </p:nvSpPr>
        <p:spPr>
          <a:xfrm>
            <a:off x="6624360" y="4509000"/>
            <a:ext cx="1800000" cy="172800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Овал 6"/>
          <p:cNvSpPr/>
          <p:nvPr/>
        </p:nvSpPr>
        <p:spPr>
          <a:xfrm>
            <a:off x="1187640" y="2781000"/>
            <a:ext cx="1007640" cy="1050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Овал 7"/>
          <p:cNvSpPr/>
          <p:nvPr/>
        </p:nvSpPr>
        <p:spPr>
          <a:xfrm>
            <a:off x="4092480" y="2797200"/>
            <a:ext cx="1007640" cy="1050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Овал 8"/>
          <p:cNvSpPr/>
          <p:nvPr/>
        </p:nvSpPr>
        <p:spPr>
          <a:xfrm>
            <a:off x="7020360" y="2802960"/>
            <a:ext cx="1007640" cy="1050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Овал 9"/>
          <p:cNvSpPr/>
          <p:nvPr/>
        </p:nvSpPr>
        <p:spPr>
          <a:xfrm>
            <a:off x="1118160" y="1196640"/>
            <a:ext cx="719640" cy="762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Овал 11"/>
          <p:cNvSpPr/>
          <p:nvPr/>
        </p:nvSpPr>
        <p:spPr>
          <a:xfrm>
            <a:off x="2988000" y="1214280"/>
            <a:ext cx="719640" cy="762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Овал 12"/>
          <p:cNvSpPr/>
          <p:nvPr/>
        </p:nvSpPr>
        <p:spPr>
          <a:xfrm>
            <a:off x="5136480" y="1214280"/>
            <a:ext cx="719640" cy="762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Овал 13"/>
          <p:cNvSpPr/>
          <p:nvPr/>
        </p:nvSpPr>
        <p:spPr>
          <a:xfrm>
            <a:off x="7020360" y="1169280"/>
            <a:ext cx="719640" cy="762840"/>
          </a:xfrm>
          <a:prstGeom prst="ellipse">
            <a:avLst/>
          </a:prstGeom>
          <a:solidFill>
            <a:srgbClr val="eeece1"/>
          </a:solidFill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1640" y="704160"/>
            <a:ext cx="61203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До новых встреч!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Содержимое 5" descr="https://i.ytimg.com/vi/KU_bMBxbia8/hqdefault.jpg"/>
          <p:cNvPicPr/>
          <p:nvPr/>
        </p:nvPicPr>
        <p:blipFill>
          <a:blip r:embed="rId1"/>
          <a:stretch/>
        </p:blipFill>
        <p:spPr>
          <a:xfrm>
            <a:off x="1835640" y="1989000"/>
            <a:ext cx="5810040" cy="429732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32836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Арктика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Рисунок 6" descr="https://www.soest.hawaii.edu/HMRG/Aagruuk/Images/globe2_small.jpg"/>
          <p:cNvPicPr/>
          <p:nvPr/>
        </p:nvPicPr>
        <p:blipFill>
          <a:blip r:embed="rId1"/>
          <a:stretch/>
        </p:blipFill>
        <p:spPr>
          <a:xfrm>
            <a:off x="683640" y="849600"/>
            <a:ext cx="3168000" cy="2824200"/>
          </a:xfrm>
          <a:prstGeom prst="rect">
            <a:avLst/>
          </a:prstGeom>
          <a:ln w="9525">
            <a:noFill/>
          </a:ln>
        </p:spPr>
      </p:pic>
      <p:pic>
        <p:nvPicPr>
          <p:cNvPr id="197" name="Picture 2" descr="http://www.kp.ru/f/12/image/77/11/4371177.jpg"/>
          <p:cNvPicPr/>
          <p:nvPr/>
        </p:nvPicPr>
        <p:blipFill>
          <a:blip r:embed="rId2"/>
          <a:stretch/>
        </p:blipFill>
        <p:spPr>
          <a:xfrm>
            <a:off x="4572000" y="999720"/>
            <a:ext cx="3816000" cy="2547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98" name="Picture 2" descr="РАРАН - Российская академия ракетных и артиллерийских наук - Новости"/>
          <p:cNvPicPr/>
          <p:nvPr/>
        </p:nvPicPr>
        <p:blipFill>
          <a:blip r:embed="rId3"/>
          <a:stretch/>
        </p:blipFill>
        <p:spPr>
          <a:xfrm>
            <a:off x="4284000" y="3646800"/>
            <a:ext cx="4526640" cy="2981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99" name="Рисунок 11" descr="http://mykoshka.ru/wp-content/uploads/2017/03/ymka.jpg"/>
          <p:cNvPicPr/>
          <p:nvPr/>
        </p:nvPicPr>
        <p:blipFill>
          <a:blip r:embed="rId4"/>
          <a:stretch/>
        </p:blipFill>
        <p:spPr>
          <a:xfrm>
            <a:off x="709200" y="3771720"/>
            <a:ext cx="3142440" cy="269496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C:\Users\Маринка\Desktop\УМКА\bd867d58de014620e31fddcad4963f7d.jpg"/>
          <p:cNvPicPr/>
          <p:nvPr/>
        </p:nvPicPr>
        <p:blipFill>
          <a:blip r:embed="rId1"/>
          <a:stretch/>
        </p:blipFill>
        <p:spPr>
          <a:xfrm>
            <a:off x="4068000" y="1432080"/>
            <a:ext cx="3960000" cy="52005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2195640" y="908640"/>
            <a:ext cx="43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Наложенный конту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http://t3.gstatic.com/images?q=tbn:ANd9GcTwTIKmaeimWhytpiugQAf6Z9D-H_zkvGlYtekq1w2yWyPavD7mrg"/>
          <p:cNvPicPr/>
          <p:nvPr/>
        </p:nvPicPr>
        <p:blipFill>
          <a:blip r:embed="rId2"/>
          <a:stretch/>
        </p:blipFill>
        <p:spPr>
          <a:xfrm>
            <a:off x="1259640" y="2709000"/>
            <a:ext cx="1523520" cy="2133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4"/>
          <p:cNvSpPr/>
          <p:nvPr/>
        </p:nvSpPr>
        <p:spPr>
          <a:xfrm>
            <a:off x="1835640" y="1340640"/>
            <a:ext cx="4968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Картинки с отлич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http://t3.gstatic.com/images?q=tbn:ANd9GcTwTIKmaeimWhytpiugQAf6Z9D-H_zkvGlYtekq1w2yWyPavD7mrg"/>
          <p:cNvPicPr/>
          <p:nvPr/>
        </p:nvPicPr>
        <p:blipFill>
          <a:blip r:embed="rId1"/>
          <a:stretch/>
        </p:blipFill>
        <p:spPr>
          <a:xfrm>
            <a:off x="1259640" y="3069000"/>
            <a:ext cx="1523520" cy="2133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5" name="Picture 4" descr="C:\Users\Маринка\Desktop\УМКА\7acd8cd8f15a9b71cca6230fba565d49 - копия.jpg"/>
          <p:cNvPicPr/>
          <p:nvPr/>
        </p:nvPicPr>
        <p:blipFill>
          <a:blip r:embed="rId2"/>
          <a:stretch/>
        </p:blipFill>
        <p:spPr>
          <a:xfrm>
            <a:off x="4068000" y="1989000"/>
            <a:ext cx="4272120" cy="458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Маринка\Desktop\УМКА\cce2afcc0388057c4351c8437909cb85.jpg"/>
          <p:cNvPicPr/>
          <p:nvPr/>
        </p:nvPicPr>
        <p:blipFill>
          <a:blip r:embed="rId1"/>
          <a:stretch/>
        </p:blipFill>
        <p:spPr>
          <a:xfrm>
            <a:off x="2385000" y="1196640"/>
            <a:ext cx="4320000" cy="43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1640" y="704160"/>
            <a:ext cx="568836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смотри и запомни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3" descr="https://img.novosti-n.org/upload/ukraine/147933.jpg"/>
          <p:cNvPicPr/>
          <p:nvPr/>
        </p:nvPicPr>
        <p:blipFill>
          <a:blip r:embed="rId1"/>
          <a:stretch/>
        </p:blipFill>
        <p:spPr>
          <a:xfrm>
            <a:off x="294120" y="1700640"/>
            <a:ext cx="1944360" cy="1510200"/>
          </a:xfrm>
          <a:prstGeom prst="rect">
            <a:avLst/>
          </a:prstGeom>
          <a:ln w="9525">
            <a:noFill/>
          </a:ln>
        </p:spPr>
      </p:pic>
      <p:pic>
        <p:nvPicPr>
          <p:cNvPr id="209" name="Рисунок 4" descr="ÐÐµÐ»ÑÑÐ°"/>
          <p:cNvPicPr/>
          <p:nvPr/>
        </p:nvPicPr>
        <p:blipFill>
          <a:blip r:embed="rId2"/>
          <a:stretch/>
        </p:blipFill>
        <p:spPr>
          <a:xfrm>
            <a:off x="4449960" y="3347280"/>
            <a:ext cx="1747440" cy="1377360"/>
          </a:xfrm>
          <a:prstGeom prst="rect">
            <a:avLst/>
          </a:prstGeom>
          <a:ln w="9525">
            <a:noFill/>
          </a:ln>
        </p:spPr>
      </p:pic>
      <p:pic>
        <p:nvPicPr>
          <p:cNvPr id="210" name="Рисунок 5" descr="ÐÐ¸Ð²Ð¾ÑÐ½ÑÐµ ÐÑÐºÑÐ¸ÐºÐ¸: Ð¡ÐµÐ²ÐµÑÐ½ÑÐ¹ Ð¾Ð»ÐµÐ½Ñ"/>
          <p:cNvPicPr/>
          <p:nvPr/>
        </p:nvPicPr>
        <p:blipFill>
          <a:blip r:embed="rId3"/>
          <a:stretch/>
        </p:blipFill>
        <p:spPr>
          <a:xfrm>
            <a:off x="4500000" y="1700640"/>
            <a:ext cx="1697400" cy="1523880"/>
          </a:xfrm>
          <a:prstGeom prst="rect">
            <a:avLst/>
          </a:prstGeom>
          <a:ln w="9525">
            <a:noFill/>
          </a:ln>
        </p:spPr>
      </p:pic>
      <p:pic>
        <p:nvPicPr>
          <p:cNvPr id="211" name="Содержимое 4" descr="poljarnaja-lisa"/>
          <p:cNvPicPr/>
          <p:nvPr/>
        </p:nvPicPr>
        <p:blipFill>
          <a:blip r:embed="rId4"/>
          <a:stretch/>
        </p:blipFill>
        <p:spPr>
          <a:xfrm>
            <a:off x="294120" y="3357000"/>
            <a:ext cx="1944360" cy="1367640"/>
          </a:xfrm>
          <a:prstGeom prst="rect">
            <a:avLst/>
          </a:prstGeom>
          <a:ln w="9525">
            <a:noFill/>
          </a:ln>
        </p:spPr>
      </p:pic>
      <p:pic>
        <p:nvPicPr>
          <p:cNvPr id="212" name="Содержимое 4" descr="ÐÐ¾Ð»ÑÑÐ½Ð°Ñ ÐºÑÐ°ÑÐºÐ°"/>
          <p:cNvPicPr/>
          <p:nvPr/>
        </p:nvPicPr>
        <p:blipFill>
          <a:blip r:embed="rId5"/>
          <a:stretch/>
        </p:blipFill>
        <p:spPr>
          <a:xfrm>
            <a:off x="2411640" y="1700640"/>
            <a:ext cx="1872000" cy="1510200"/>
          </a:xfrm>
          <a:prstGeom prst="rect">
            <a:avLst/>
          </a:prstGeom>
          <a:ln w="9525">
            <a:noFill/>
          </a:ln>
        </p:spPr>
      </p:pic>
      <p:pic>
        <p:nvPicPr>
          <p:cNvPr id="213" name="Содержимое 4" descr="ÐÑÐºÑÐ¸ÑÐµÑÐºÐ¸Ð¹ Ð±ÐµÐ»ÑÐº"/>
          <p:cNvPicPr/>
          <p:nvPr/>
        </p:nvPicPr>
        <p:blipFill>
          <a:blip r:embed="rId6"/>
          <a:stretch/>
        </p:blipFill>
        <p:spPr>
          <a:xfrm>
            <a:off x="2411640" y="3351600"/>
            <a:ext cx="1872000" cy="1335960"/>
          </a:xfrm>
          <a:prstGeom prst="rect">
            <a:avLst/>
          </a:prstGeom>
          <a:ln w="9525">
            <a:noFill/>
          </a:ln>
        </p:spPr>
      </p:pic>
      <p:pic>
        <p:nvPicPr>
          <p:cNvPr id="214" name="Рисунок 10" descr="http://www.photoforum.ru/f/photo/000/615/615759_48.jpg"/>
          <p:cNvPicPr/>
          <p:nvPr/>
        </p:nvPicPr>
        <p:blipFill>
          <a:blip r:embed="rId7"/>
          <a:stretch/>
        </p:blipFill>
        <p:spPr>
          <a:xfrm>
            <a:off x="6414840" y="1779480"/>
            <a:ext cx="2090160" cy="136620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2" descr="http://bygaga.com.ua/uploads/posts/1351431930_takie_zabavnie_morskie_kotiki_459-32.jpg"/>
          <p:cNvPicPr/>
          <p:nvPr/>
        </p:nvPicPr>
        <p:blipFill>
          <a:blip r:embed="rId8"/>
          <a:stretch/>
        </p:blipFill>
        <p:spPr>
          <a:xfrm>
            <a:off x="1475640" y="4947480"/>
            <a:ext cx="2114640" cy="1585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16" name="Picture 2" descr="C:\Users\Маринка\Desktop\УМКА\8730095484a3f8ee61be4f42e67bf350.jpg"/>
          <p:cNvPicPr/>
          <p:nvPr/>
        </p:nvPicPr>
        <p:blipFill>
          <a:blip r:embed="rId9"/>
          <a:stretch/>
        </p:blipFill>
        <p:spPr>
          <a:xfrm>
            <a:off x="6414840" y="3357000"/>
            <a:ext cx="2090160" cy="14770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3" descr="http://www.sakhanews.ru/files/38773.jpg"/>
          <p:cNvPicPr/>
          <p:nvPr/>
        </p:nvPicPr>
        <p:blipFill>
          <a:blip r:embed="rId10"/>
          <a:stretch/>
        </p:blipFill>
        <p:spPr>
          <a:xfrm>
            <a:off x="4284000" y="5137560"/>
            <a:ext cx="1564560" cy="120564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3640" y="260640"/>
            <a:ext cx="770436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Какие картинки были на предыдущем слайде</a:t>
            </a: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Еж ежик животное"/>
          <p:cNvPicPr/>
          <p:nvPr/>
        </p:nvPicPr>
        <p:blipFill>
          <a:blip r:embed="rId1"/>
          <a:stretch/>
        </p:blipFill>
        <p:spPr>
          <a:xfrm>
            <a:off x="243000" y="1324080"/>
            <a:ext cx="1370160" cy="1027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Андрей\Desktop\Новая папка\40198314.jpg"/>
          <p:cNvPicPr/>
          <p:nvPr/>
        </p:nvPicPr>
        <p:blipFill>
          <a:blip r:embed="rId2"/>
          <a:stretch/>
        </p:blipFill>
        <p:spPr>
          <a:xfrm>
            <a:off x="5457960" y="3020760"/>
            <a:ext cx="1726920" cy="1329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Андрей\Desktop\Новая папка\p62.jpg"/>
          <p:cNvPicPr/>
          <p:nvPr/>
        </p:nvPicPr>
        <p:blipFill>
          <a:blip r:embed="rId3"/>
          <a:stretch/>
        </p:blipFill>
        <p:spPr>
          <a:xfrm>
            <a:off x="6998760" y="1333080"/>
            <a:ext cx="1439640" cy="1029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животные - Страница 3 - Форум"/>
          <p:cNvPicPr/>
          <p:nvPr/>
        </p:nvPicPr>
        <p:blipFill>
          <a:blip r:embed="rId4"/>
          <a:stretch/>
        </p:blipFill>
        <p:spPr>
          <a:xfrm>
            <a:off x="7262640" y="4804200"/>
            <a:ext cx="1621080" cy="12196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6" descr="https://img.novosti-n.org/upload/ukraine/147933.jpg"/>
          <p:cNvPicPr/>
          <p:nvPr/>
        </p:nvPicPr>
        <p:blipFill>
          <a:blip r:embed="rId5"/>
          <a:stretch/>
        </p:blipFill>
        <p:spPr>
          <a:xfrm>
            <a:off x="1772640" y="1323720"/>
            <a:ext cx="1446840" cy="1027800"/>
          </a:xfrm>
          <a:prstGeom prst="rect">
            <a:avLst/>
          </a:prstGeom>
          <a:ln w="9525">
            <a:noFill/>
          </a:ln>
        </p:spPr>
      </p:pic>
      <p:pic>
        <p:nvPicPr>
          <p:cNvPr id="224" name="Picture 2" descr="http://bygaga.com.ua/uploads/posts/1351431930_takie_zabavnie_morskie_kotiki_459-32.jpg"/>
          <p:cNvPicPr/>
          <p:nvPr/>
        </p:nvPicPr>
        <p:blipFill>
          <a:blip r:embed="rId6"/>
          <a:stretch/>
        </p:blipFill>
        <p:spPr>
          <a:xfrm>
            <a:off x="4816440" y="1145880"/>
            <a:ext cx="1607760" cy="120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25" name="Рисунок 18" descr="http://www.photoforum.ru/f/photo/000/615/615759_48.jpg"/>
          <p:cNvPicPr/>
          <p:nvPr/>
        </p:nvPicPr>
        <p:blipFill>
          <a:blip r:embed="rId7"/>
          <a:stretch/>
        </p:blipFill>
        <p:spPr>
          <a:xfrm>
            <a:off x="243000" y="2959560"/>
            <a:ext cx="1736280" cy="1155240"/>
          </a:xfrm>
          <a:prstGeom prst="rect">
            <a:avLst/>
          </a:prstGeom>
          <a:ln w="9525">
            <a:noFill/>
          </a:ln>
        </p:spPr>
      </p:pic>
      <p:pic>
        <p:nvPicPr>
          <p:cNvPr id="226" name="Содержимое 4" descr="poljarnaja-lisa"/>
          <p:cNvPicPr/>
          <p:nvPr/>
        </p:nvPicPr>
        <p:blipFill>
          <a:blip r:embed="rId8"/>
          <a:stretch/>
        </p:blipFill>
        <p:spPr>
          <a:xfrm>
            <a:off x="7317000" y="3091680"/>
            <a:ext cx="1351080" cy="1187640"/>
          </a:xfrm>
          <a:prstGeom prst="rect">
            <a:avLst/>
          </a:prstGeom>
          <a:ln w="9525">
            <a:noFill/>
          </a:ln>
        </p:spPr>
      </p:pic>
      <p:pic>
        <p:nvPicPr>
          <p:cNvPr id="227" name="Содержимое 4" descr="ÐÑÐºÑÐ¸ÑÐµÑÐºÐ¸Ð¹ Ð±ÐµÐ»ÑÐº"/>
          <p:cNvPicPr/>
          <p:nvPr/>
        </p:nvPicPr>
        <p:blipFill>
          <a:blip r:embed="rId9"/>
          <a:stretch/>
        </p:blipFill>
        <p:spPr>
          <a:xfrm>
            <a:off x="3608640" y="4782960"/>
            <a:ext cx="1728000" cy="1226880"/>
          </a:xfrm>
          <a:prstGeom prst="rect">
            <a:avLst/>
          </a:prstGeom>
          <a:ln w="9525">
            <a:noFill/>
          </a:ln>
        </p:spPr>
      </p:pic>
      <p:pic>
        <p:nvPicPr>
          <p:cNvPr id="228" name="Рисунок 21" descr="ÐÐ¸Ð²Ð¾ÑÐ½ÑÐµ ÐÑÐºÑÐ¸ÐºÐ¸: Ð¡ÐµÐ²ÐµÑÐ½ÑÐ¹ Ð¾Ð»ÐµÐ½Ñ"/>
          <p:cNvPicPr/>
          <p:nvPr/>
        </p:nvPicPr>
        <p:blipFill>
          <a:blip r:embed="rId10"/>
          <a:stretch/>
        </p:blipFill>
        <p:spPr>
          <a:xfrm>
            <a:off x="151920" y="4670640"/>
            <a:ext cx="1552680" cy="1307880"/>
          </a:xfrm>
          <a:prstGeom prst="rect">
            <a:avLst/>
          </a:prstGeom>
          <a:ln w="9525">
            <a:noFill/>
          </a:ln>
        </p:spPr>
      </p:pic>
      <p:pic>
        <p:nvPicPr>
          <p:cNvPr id="229" name="Содержимое 4" descr="ÐÐ¾Ð»ÑÑÐ½Ð°Ñ ÐºÑÐ°ÑÐºÐ°"/>
          <p:cNvPicPr/>
          <p:nvPr/>
        </p:nvPicPr>
        <p:blipFill>
          <a:blip r:embed="rId11"/>
          <a:stretch/>
        </p:blipFill>
        <p:spPr>
          <a:xfrm>
            <a:off x="5513400" y="4782960"/>
            <a:ext cx="1615680" cy="1129680"/>
          </a:xfrm>
          <a:prstGeom prst="rect">
            <a:avLst/>
          </a:prstGeom>
          <a:ln w="9525">
            <a:noFill/>
          </a:ln>
        </p:spPr>
      </p:pic>
      <p:pic>
        <p:nvPicPr>
          <p:cNvPr id="230" name="Рисунок 23" descr="ÐÐµÐ»ÑÑÐ°"/>
          <p:cNvPicPr/>
          <p:nvPr/>
        </p:nvPicPr>
        <p:blipFill>
          <a:blip r:embed="rId12"/>
          <a:stretch/>
        </p:blipFill>
        <p:spPr>
          <a:xfrm>
            <a:off x="2195640" y="2941560"/>
            <a:ext cx="1412280" cy="1267560"/>
          </a:xfrm>
          <a:prstGeom prst="rect">
            <a:avLst/>
          </a:prstGeom>
          <a:ln w="9525">
            <a:noFill/>
          </a:ln>
        </p:spPr>
      </p:pic>
      <p:pic>
        <p:nvPicPr>
          <p:cNvPr id="231" name="Picture 2" descr="C:\Users\Маринка\Desktop\УМКА\26456cc2fd19e7d665d91b936aeefbac - копия.jpg"/>
          <p:cNvPicPr/>
          <p:nvPr/>
        </p:nvPicPr>
        <p:blipFill>
          <a:blip r:embed="rId13"/>
          <a:stretch/>
        </p:blipFill>
        <p:spPr>
          <a:xfrm>
            <a:off x="3495240" y="1197000"/>
            <a:ext cx="1159200" cy="1154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Маринка\Desktop\УМКА\8730095484a3f8ee61be4f42e67bf350.jpg"/>
          <p:cNvPicPr/>
          <p:nvPr/>
        </p:nvPicPr>
        <p:blipFill>
          <a:blip r:embed="rId14"/>
          <a:stretch/>
        </p:blipFill>
        <p:spPr>
          <a:xfrm>
            <a:off x="3693960" y="2970720"/>
            <a:ext cx="1556640" cy="11001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6" descr="http://www.sakhanews.ru/files/38773.jpg"/>
          <p:cNvPicPr/>
          <p:nvPr/>
        </p:nvPicPr>
        <p:blipFill>
          <a:blip r:embed="rId15"/>
          <a:stretch/>
        </p:blipFill>
        <p:spPr>
          <a:xfrm>
            <a:off x="1930320" y="4804200"/>
            <a:ext cx="1564560" cy="120564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640" y="83664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Найди лишний предмет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2" descr="C:\Users\Маринка\Desktop\УМКА\img21 - копия.jpg"/>
          <p:cNvPicPr/>
          <p:nvPr/>
        </p:nvPicPr>
        <p:blipFill>
          <a:blip r:embed="rId1"/>
          <a:stretch/>
        </p:blipFill>
        <p:spPr>
          <a:xfrm>
            <a:off x="2544480" y="1772640"/>
            <a:ext cx="6199920" cy="408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http://t3.gstatic.com/images?q=tbn:ANd9GcTwTIKmaeimWhytpiugQAf6Z9D-H_zkvGlYtekq1w2yWyPavD7mrg"/>
          <p:cNvPicPr/>
          <p:nvPr/>
        </p:nvPicPr>
        <p:blipFill>
          <a:blip r:embed="rId2"/>
          <a:stretch/>
        </p:blipFill>
        <p:spPr>
          <a:xfrm>
            <a:off x="611640" y="2828880"/>
            <a:ext cx="1523520" cy="2133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35640" y="704160"/>
            <a:ext cx="5616360" cy="56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</a:rPr>
              <a:t>Северное сия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Рисунок 3" descr="https://avatars.mds.yandex.net/get-pdb/1340633/51c5b7e9-18d9-4284-9b1a-bacad64d8d89/s1200?webp=false"/>
          <p:cNvPicPr/>
          <p:nvPr/>
        </p:nvPicPr>
        <p:blipFill>
          <a:blip r:embed="rId1"/>
          <a:stretch/>
        </p:blipFill>
        <p:spPr>
          <a:xfrm>
            <a:off x="395640" y="1340640"/>
            <a:ext cx="4073400" cy="2448000"/>
          </a:xfrm>
          <a:prstGeom prst="rect">
            <a:avLst/>
          </a:prstGeom>
          <a:ln w="9525">
            <a:noFill/>
          </a:ln>
        </p:spPr>
      </p:pic>
      <p:pic>
        <p:nvPicPr>
          <p:cNvPr id="239" name="Рисунок 4" descr="http://www.sakhanews.ru/files/38773.jpg"/>
          <p:cNvPicPr/>
          <p:nvPr/>
        </p:nvPicPr>
        <p:blipFill>
          <a:blip r:embed="rId2"/>
          <a:stretch/>
        </p:blipFill>
        <p:spPr>
          <a:xfrm>
            <a:off x="4572000" y="1340640"/>
            <a:ext cx="3744000" cy="244800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6" descr="http://im0-tub-ru.yandex.net/i?id=32103be3670bfaa40e7deba04cd0a7c5-15-144&amp;n=33&amp;h=190"/>
          <p:cNvPicPr/>
          <p:nvPr/>
        </p:nvPicPr>
        <p:blipFill>
          <a:blip r:embed="rId3"/>
          <a:stretch/>
        </p:blipFill>
        <p:spPr>
          <a:xfrm>
            <a:off x="398520" y="3891240"/>
            <a:ext cx="4088520" cy="2596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41" name="Picture 2" descr="http://im1-tub-ru.yandex.net/i?id=19f26fc906323b601b66c1cca1fb86cd-25-144&amp;n=33&amp;h=190"/>
          <p:cNvPicPr/>
          <p:nvPr/>
        </p:nvPicPr>
        <p:blipFill>
          <a:blip r:embed="rId4"/>
          <a:stretch/>
        </p:blipFill>
        <p:spPr>
          <a:xfrm>
            <a:off x="4572000" y="3789000"/>
            <a:ext cx="3744000" cy="2800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163</TotalTime>
  <Application>LibreOffice/7.4.7.2$Linux_X86_64 LibreOffice_project/40$Build-2</Application>
  <AppVersion>15.0000</AppVersion>
  <Words>53</Words>
  <Paragraphs>20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03:55:55Z</dcterms:created>
  <dc:creator>Zver</dc:creator>
  <dc:description/>
  <dc:language>en-US</dc:language>
  <cp:lastModifiedBy>Маринка</cp:lastModifiedBy>
  <dcterms:modified xsi:type="dcterms:W3CDTF">2021-04-23T09:28:47Z</dcterms:modified>
  <cp:revision>129</cp:revision>
  <dc:subject/>
  <dc:title>Квест-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