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2E4F-4EE7-4E99-9CB4-5BF70958D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ED1E-4587-4A5B-A821-3B98D3F6C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98EC-B336-4041-BD51-AB37C4372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D6E4-0993-40EF-BD52-959FF042D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66EEA-BA5B-4C0F-AA64-8184897A8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7C57A-6268-4D2F-81FF-F4B4F0BB0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65F4E-5D26-4C87-9232-0533FE622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EEB81-8C02-45C1-9A73-158A71167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619DB-A121-4B76-944E-BC6C4B522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0995A-9098-4578-A31D-AF193470A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A278D-B1B2-46EE-9161-D20C9CE5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1FB8-BD44-4AAB-B42B-1CF1FDAB7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10A2E-E5CD-4DB2-9482-1F1DE38E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BD6A3-DD67-4028-B8FF-3D371955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B9355-38E2-46CD-B6EC-ED9E6770F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2C85D-F056-4BAE-A7ED-D714BB2DC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EC3FF-9F2C-484F-A6C3-37FE0CD39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48632-C34D-4AE2-A9DB-4B99A3D49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40DA6-4807-4EA5-B13C-028CA8E2A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4CCD5-C7FE-4BD3-B409-9A6D02876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24269-1C29-4561-A042-1F643FA0F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CC7FF-1B22-4491-8123-74C772F69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6F0E-E5AC-4F5F-9E5C-4DBFD97B1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AFDB1-BA3D-4A82-884F-CA1733519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762AF-DCA0-4167-91FE-A0B7B4F9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6A9F1-49D3-4605-A5F3-235489E0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2FB4A-F6D4-4CD9-AA55-986CCA7A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A3CAE-B349-42EC-A9DD-E94BE5D50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2A52D-4B56-4D5F-B528-07B7E79A4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80303-CDE3-48BA-88C0-44250F2E5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97CFD-4E57-4197-B3DC-65B9ED1E8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9CF08-2931-4704-A019-0F6AE67DB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8461B-5169-4357-80BA-4DDA55320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DD55-973B-42A0-9AC2-4ADC3DF1D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678C4-647F-4475-B7F8-A10E251D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1640E-3967-441D-979A-DCA444993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2CDA6-341B-4960-8502-78E49507A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D585D-D97A-4F59-B80A-BA154252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52EA9-3CAD-4960-B525-3504B052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AAFA8-2E14-4D25-803F-D4DDF9BC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FAAF3-B5F8-41FD-998C-D1BBADDA8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D68FD-C6DA-42E3-9A8C-5BABBD4BA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630F0-B8C1-457E-9D1D-6845A6FD2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B3F27-0D66-4464-94A8-AC95F5DA2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6CAC-FECB-4C02-922E-95C71D4CB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EE5F9-B0B1-4A06-85E0-61170768F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A77C3-855A-48B2-AA30-066F14CE6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4D1F2-6B29-462E-8638-380BD6E72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DD44F-8324-4851-B87A-C113CDA9D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3F091-AC94-47B0-BD37-581A09DC9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089171-3FDA-4D04-A7EF-32A9B737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70B49-1A3F-4727-A720-91709516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A8970-8686-4459-BC33-03DAED1B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77A3C-5171-4E98-B30D-6355AE83C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4C4BE-B83F-42CC-B314-6DEB2FDE9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BC0A-418E-4F67-BE33-087FBBF2B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7F8F0-8DD1-4686-838A-5F77FFD6F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381DE9-8DB4-4CFA-8EF0-046574883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4C769-509E-45A4-8F22-A3B9A8DCF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61168-7E4C-438E-8060-443BE56B3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7F7AE-16E3-4A37-B9CF-EF74971CC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76D89-31E2-412F-A43B-B5A828BD7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B294C-C67F-4A25-8B1C-4E4801A76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E966F-B154-45BF-ABFC-F6E6ED67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A0F342-2B68-424F-99C1-28223740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207E9-7D66-4B0B-8BB3-70C02699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93B6-BC9A-4B26-863E-C0F08481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3B9C9-35E4-4C25-BC76-B2E2BBD76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641DF9-F59E-4E95-B934-36733B56F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90524-DD73-4345-BD18-B0C47B1DF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CF4753-B844-425A-B5DF-90D5870F8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B980A6-5544-4266-A15C-5B87F468E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19C83-51AE-4B0E-8AB4-D9C048F33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B848AE-34D4-4CAD-BC94-EC1AF47F5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BE5296-AC45-4C5B-9154-0855AD139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0B8EA7-BA1C-439D-97B0-C610911E4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BC782-53FA-461A-83B5-DBF9697A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93B6-496A-42C6-91CF-940DDC2F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45DDE-5925-47D5-92C9-1C35A5D8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933335-E74E-4C8D-B949-66CBBEE5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8C313-3D24-4F6B-AF5E-7DF8D89D6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9DB07-3616-421E-8A43-42E98F99B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9F56C-6160-4BEA-ACFB-0FE1CAFD4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A823-53C1-4F5D-9C98-E5451673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0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3E902-CB59-4BBF-893A-E9EA41B957C3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0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C6265-C5A8-4C6A-9368-E6580299260F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0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4D119-090A-489C-893C-C2E94157485D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0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6E0C6-73CD-4C81-8140-2437C6E732EA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0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2292E-615C-4DAF-AE14-CB3116A9694A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0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8B5F-7494-43D3-8717-1798D5B0A823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0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0EB46-90AA-469B-9EA8-341DFFB7A230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11280" y="155700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bf0000"/>
                </a:solidFill>
                <a:latin typeface="Monotype Corsiva"/>
                <a:ea typeface="Times New Roman"/>
              </a:rPr>
              <a:t>Устаревшие слова в речи</a:t>
            </a:r>
            <a:br>
              <a:rPr sz="5400"/>
            </a:br>
            <a:r>
              <a:rPr b="0" lang="ru-RU" sz="5400" spc="-1" strike="noStrike">
                <a:solidFill>
                  <a:srgbClr val="bf0000"/>
                </a:solidFill>
                <a:latin typeface="Monotype Corsiva"/>
                <a:ea typeface="Times New Roman"/>
              </a:rPr>
              <a:t>жителей села Макаринино</a:t>
            </a:r>
            <a:endParaRPr b="0" lang="en-US" sz="5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4149720"/>
            <a:ext cx="64008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1e2e"/>
                </a:solidFill>
                <a:latin typeface="Times New Roman"/>
                <a:ea typeface="Times New Roman"/>
              </a:rPr>
              <a:t>Автор: Коневина Юлиана 3 класс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1e2e"/>
                </a:solidFill>
                <a:latin typeface="Times New Roman"/>
                <a:ea typeface="Times New Roman"/>
              </a:rPr>
              <a:t>Руководитель: Коневина О.А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1e2e"/>
                </a:solidFill>
                <a:latin typeface="Times New Roman"/>
                <a:ea typeface="Times New Roman"/>
              </a:rPr>
              <a:t>МБОУ «Адамовская ООШ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Monotype Corsiva"/>
              </a:rPr>
              <a:t>Процент использования устаревших слов в селе Макаринино по возрастным группам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0" name="Диаграмма 3" descr=""/>
          <p:cNvPicPr/>
          <p:nvPr/>
        </p:nvPicPr>
        <p:blipFill>
          <a:blip r:embed="rId1"/>
          <a:stretch/>
        </p:blipFill>
        <p:spPr>
          <a:xfrm>
            <a:off x="469800" y="1627200"/>
            <a:ext cx="3956040" cy="2736720"/>
          </a:xfrm>
          <a:prstGeom prst="rect">
            <a:avLst/>
          </a:prstGeom>
          <a:ln w="0">
            <a:noFill/>
          </a:ln>
        </p:spPr>
      </p:pic>
      <p:pic>
        <p:nvPicPr>
          <p:cNvPr id="361" name="Диаграмма 4" descr=""/>
          <p:cNvPicPr/>
          <p:nvPr/>
        </p:nvPicPr>
        <p:blipFill>
          <a:blip r:embed="rId2"/>
          <a:stretch/>
        </p:blipFill>
        <p:spPr>
          <a:xfrm>
            <a:off x="4784760" y="1700280"/>
            <a:ext cx="4035240" cy="2523960"/>
          </a:xfrm>
          <a:prstGeom prst="rect">
            <a:avLst/>
          </a:prstGeom>
          <a:ln w="0">
            <a:noFill/>
          </a:ln>
        </p:spPr>
      </p:pic>
      <p:pic>
        <p:nvPicPr>
          <p:cNvPr id="362" name="Диаграмма 5" descr=""/>
          <p:cNvPicPr/>
          <p:nvPr/>
        </p:nvPicPr>
        <p:blipFill>
          <a:blip r:embed="rId3"/>
          <a:stretch/>
        </p:blipFill>
        <p:spPr>
          <a:xfrm>
            <a:off x="2414520" y="4114800"/>
            <a:ext cx="4572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871560" y="1700280"/>
            <a:ext cx="74088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1. Переновка  - небольшой снежок, упавший на старый снег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2.  Быгать - вялиться на солнце, проветриваться. 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3.  Миска - маленький тазик. 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4. Рукомойник - умывальник. 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5. Крынка - стеклянная банка. 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6. Пена, пенка - деревянные сани без полозьев для перевозки рыбы. 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7. Пошевни - маленькие саночки без полозьев для перевозки грузов. 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8. Френчик - пиджак. 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9. Пряженое - хворост. 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10. Шумовка – поварешка. 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11. Оболокаться -  одеваться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12. Приплеск – берег Байкала 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13. Маячить – ходить туда-сюда 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14. Толкун – место, где встречаются два ветра на Байкале (волна на волну) 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15. Вставать сосранья – очень рано </a:t>
            </a:r>
            <a:br>
              <a:rPr sz="1800"/>
            </a:b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Monotype Corsiva"/>
              </a:rPr>
              <a:t>Сборник устаревших слов села Макаринино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871560" y="549360"/>
            <a:ext cx="74088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16. Брешешь – говоришь неправду </a:t>
            </a:r>
            <a:br>
              <a:rPr sz="2000"/>
            </a:b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17. Не турусить – не болтать </a:t>
            </a:r>
            <a:br>
              <a:rPr sz="2000"/>
            </a:b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18. Солянка – тушеная капуста с мясом </a:t>
            </a:r>
            <a:br>
              <a:rPr sz="2000"/>
            </a:b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19. Запачать – сильно захотеть </a:t>
            </a:r>
            <a:br>
              <a:rPr sz="2000"/>
            </a:b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20. Ставить на попа – ставить вертикально, стоя </a:t>
            </a:r>
            <a:br>
              <a:rPr sz="2000"/>
            </a:b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21. Перетощала – очень захотела есть. </a:t>
            </a:r>
            <a:br>
              <a:rPr sz="2000"/>
            </a:b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22. Весёлка – небольшая палочка, которой замешивают и подбивают тесто </a:t>
            </a:r>
            <a:br>
              <a:rPr sz="2000"/>
            </a:b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23. Матница– потолочная балка </a:t>
            </a:r>
            <a:br>
              <a:rPr sz="2000"/>
            </a:b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24. Мотня- мешок из мерёги, в который собирается собранная неводом рыба </a:t>
            </a:r>
            <a:br>
              <a:rPr sz="2000"/>
            </a:b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25. Мерёга, мерёжка – вязаная сеть </a:t>
            </a:r>
            <a:br>
              <a:rPr sz="2000"/>
            </a:b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26. Сакать – выгребать рыбу из невода сачком </a:t>
            </a:r>
            <a:br>
              <a:rPr sz="2000"/>
            </a:b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27. Наладить – приготовить </a:t>
            </a:r>
            <a:br>
              <a:rPr sz="2000"/>
            </a:b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28. Близирный – тот, кто льстит и притворяется </a:t>
            </a:r>
            <a:br>
              <a:rPr sz="2000"/>
            </a:b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29. Вали - иди </a:t>
            </a:r>
            <a:br>
              <a:rPr sz="2000"/>
            </a:b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30. Кавкает - лает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31. Мякина - ботва. 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32. Сыпун – рыхлый снег</a:t>
            </a:r>
            <a:br>
              <a:rPr sz="2000"/>
            </a:b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871560" y="981000"/>
            <a:ext cx="74088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 </a:t>
            </a: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33.Тонь - место на реке или озере, на котором производится лов рыбы неводом или другими рыболовными снастями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34. Зауголок – угол тони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35. Гундера - длинный ствол дерева средней толщины, очищенный от сучьев и ветвей, используемый для крепления ставного  невода. 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36. Берданить – наниматься рыбачить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37. Рожен – шампур, строганный из деревянной тонкой щепы, заостренный с обоих концов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38.Давече – недавно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39. Тепереча – сейчас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33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Monotype Corsiva"/>
              </a:rPr>
              <a:t>Процент использования устаревших слов в селе Макаринино по всем возрастным группам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0" name="Диаграмма 6" descr=""/>
          <p:cNvPicPr/>
          <p:nvPr/>
        </p:nvPicPr>
        <p:blipFill>
          <a:blip r:embed="rId1"/>
          <a:stretch/>
        </p:blipFill>
        <p:spPr>
          <a:xfrm>
            <a:off x="1116000" y="1627200"/>
            <a:ext cx="69120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428760" y="857160"/>
            <a:ext cx="850104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Monotype Corsiva"/>
              </a:rPr>
              <a:t>Спасибо за внимание!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-70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179280" y="1628280"/>
            <a:ext cx="85694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Цель моего исследования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: познакомиться с устаревшими словами и их разновидностями</a:t>
            </a:r>
            <a:r>
              <a:rPr b="0" i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Для достижения цели я поставила следующие </a:t>
            </a: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задачи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1. Узнать что такое устаревшие слова и  их виды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2. Провести опрос разных возрастов по данному вопросу, проанализировать результаты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3. Создание сборник устаревших слов моего села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4. Поделиться результатами моего исследования с моими сверстниками, односельчанам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Методы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исследования: наблюдение, опрос, анализ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f0000"/>
                </a:solidFill>
                <a:latin typeface="Times New Roman"/>
                <a:ea typeface="Times New Roman"/>
              </a:rPr>
              <a:t>Гипотеза исследования</a:t>
            </a:r>
            <a:r>
              <a:rPr b="0" lang="ru-RU" sz="3200" spc="-1" strike="noStrike">
                <a:solidFill>
                  <a:srgbClr val="bf0000"/>
                </a:solidFill>
                <a:latin typeface="Times New Roman"/>
                <a:ea typeface="Times New Roman"/>
              </a:rPr>
              <a:t>: </a:t>
            </a:r>
            <a:br>
              <a:rPr sz="32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старевшие слова  не утратили своей значимости в современной жизни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871560" y="2674440"/>
            <a:ext cx="7408800" cy="345132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611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11e2e"/>
                </a:solidFill>
                <a:latin typeface="Times New Roman"/>
                <a:ea typeface="Times New Roman"/>
              </a:rPr>
              <a:t>УСТАРЕВШИЕ СЛОВА  - слова современного русского  языка, вышедшие из активного употребления, но сохранившиеся в пассивном словаре и в большинстве своем понятные носителям язык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	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	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1" lang="ru-RU" sz="3600" spc="-1" strike="noStrike">
                <a:solidFill>
                  <a:srgbClr val="073e87"/>
                </a:solidFill>
                <a:latin typeface="Candara"/>
              </a:rPr>
              <a:t>Архаизмы</a:t>
            </a:r>
            <a:r>
              <a:rPr b="1" lang="ru-RU" sz="36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1" lang="ru-RU" sz="36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1" lang="ru-RU" sz="36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1" lang="ru-RU" sz="3600" spc="-1" strike="noStrike">
                <a:solidFill>
                  <a:srgbClr val="073e87"/>
                </a:solidFill>
                <a:latin typeface="Candara"/>
              </a:rPr>
              <a:t>Историзмы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	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85480" y="428760"/>
            <a:ext cx="8358120" cy="102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c00000"/>
                </a:solidFill>
                <a:latin typeface="Monotype Corsiva"/>
              </a:rPr>
              <a:t>Устаревшие слова</a:t>
            </a:r>
            <a:endParaRPr b="0" lang="en-US" sz="6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Стрелка вниз 3"/>
          <p:cNvSpPr/>
          <p:nvPr/>
        </p:nvSpPr>
        <p:spPr>
          <a:xfrm>
            <a:off x="1785960" y="2500200"/>
            <a:ext cx="484200" cy="152892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ff0000"/>
          </a:solidFill>
          <a:ln w="15840">
            <a:solidFill>
              <a:srgbClr val="8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Стрелка вниз 7"/>
          <p:cNvSpPr/>
          <p:nvPr/>
        </p:nvSpPr>
        <p:spPr>
          <a:xfrm>
            <a:off x="6300720" y="2637000"/>
            <a:ext cx="484200" cy="152856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ff0000"/>
          </a:solidFill>
          <a:ln w="15840">
            <a:solidFill>
              <a:srgbClr val="8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1" descr="C:\Users\Татьяна\Desktop\книга.jpg"/>
          <p:cNvPicPr/>
          <p:nvPr/>
        </p:nvPicPr>
        <p:blipFill>
          <a:blip r:embed="rId1"/>
          <a:stretch/>
        </p:blipFill>
        <p:spPr>
          <a:xfrm>
            <a:off x="3357720" y="5143680"/>
            <a:ext cx="22860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3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c00000"/>
                </a:solidFill>
                <a:latin typeface="Monotype Corsiva"/>
              </a:rPr>
              <a:t>Архаизмы</a:t>
            </a:r>
            <a:endParaRPr b="0" lang="en-US" sz="6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871560" y="2674440"/>
            <a:ext cx="7408800" cy="345132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2" descr="C:\Users\Оля\Desktop\36971.jpg"/>
          <p:cNvPicPr/>
          <p:nvPr/>
        </p:nvPicPr>
        <p:blipFill>
          <a:blip r:embed="rId2"/>
          <a:stretch/>
        </p:blipFill>
        <p:spPr>
          <a:xfrm>
            <a:off x="1187280" y="1413000"/>
            <a:ext cx="676944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571680" y="2428560"/>
            <a:ext cx="492912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00000"/>
                </a:solidFill>
                <a:uFillTx/>
                <a:latin typeface="Monotype Corsiva"/>
              </a:rPr>
              <a:t>Зипун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36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верхняя одежда у крестьян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36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36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3636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00000"/>
                </a:solidFill>
                <a:uFillTx/>
                <a:latin typeface="Monotype Corsiva"/>
              </a:rPr>
              <a:t>Братина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36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сосуд, предназначенный, для братского, товарищеского питья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13840" y="500040"/>
            <a:ext cx="864396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31f43"/>
                </a:solidFill>
                <a:latin typeface="Monotype Corsiva"/>
              </a:rPr>
              <a:t>         </a:t>
            </a:r>
            <a:r>
              <a:rPr b="0" lang="ru-RU" sz="6600" spc="-1" strike="noStrike">
                <a:solidFill>
                  <a:srgbClr val="c00000"/>
                </a:solidFill>
                <a:latin typeface="Monotype Corsiva"/>
              </a:rPr>
              <a:t>Историзмы</a:t>
            </a:r>
            <a:endParaRPr b="0" lang="en-US" sz="6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1" name="Picture 10" descr="&amp;Icy;&amp;zcy;&amp;ocy;&amp;bcy;&amp;rcy;&amp;acy;&amp;zhcy;&amp;iecy;&amp;ncy;&amp;icy;&amp;iecy;"/>
          <p:cNvPicPr/>
          <p:nvPr/>
        </p:nvPicPr>
        <p:blipFill>
          <a:blip r:embed="rId1"/>
          <a:stretch/>
        </p:blipFill>
        <p:spPr>
          <a:xfrm>
            <a:off x="5929200" y="1928880"/>
            <a:ext cx="3071880" cy="25002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1" descr="C:\Users\Татьяна\Desktop\ьратина.jpg"/>
          <p:cNvPicPr/>
          <p:nvPr/>
        </p:nvPicPr>
        <p:blipFill>
          <a:blip r:embed="rId2"/>
          <a:stretch/>
        </p:blipFill>
        <p:spPr>
          <a:xfrm>
            <a:off x="5857920" y="4667400"/>
            <a:ext cx="328608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Анкета</a:t>
            </a:r>
            <a:br>
              <a:rPr sz="3200"/>
            </a:b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1.Знаете ли вы, что такое устаревшие слова?</a:t>
            </a:r>
            <a:br>
              <a:rPr sz="3200"/>
            </a:b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2.Знаете ли вы, что такое архаизмы?</a:t>
            </a:r>
            <a:br>
              <a:rPr sz="3200"/>
            </a:b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3.Знаете ли вы, что такое историзмы?</a:t>
            </a:r>
            <a:br>
              <a:rPr sz="3200"/>
            </a:b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4.Где будете искать помощь в толковании слов?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Объект 3" descr=""/>
          <p:cNvPicPr/>
          <p:nvPr/>
        </p:nvPicPr>
        <p:blipFill>
          <a:blip r:embed="rId1"/>
          <a:stretch/>
        </p:blipFill>
        <p:spPr>
          <a:xfrm>
            <a:off x="820800" y="2592360"/>
            <a:ext cx="8159760" cy="358452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Monotype Corsiva"/>
              </a:rPr>
              <a:t>Знает ли вы, что такое устаревшие слова ?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Объект 3" descr=""/>
          <p:cNvPicPr/>
          <p:nvPr/>
        </p:nvPicPr>
        <p:blipFill>
          <a:blip r:embed="rId1"/>
          <a:stretch/>
        </p:blipFill>
        <p:spPr>
          <a:xfrm>
            <a:off x="520560" y="1949400"/>
            <a:ext cx="8197920" cy="495288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Monotype Corsiva"/>
              </a:rPr>
              <a:t>Где будешь искать помощь в толковании слов ?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4T16:30:04Z</dcterms:created>
  <dc:creator>User</dc:creator>
  <dc:description/>
  <dc:language>en-US</dc:language>
  <cp:lastModifiedBy>RePack by Diakov</cp:lastModifiedBy>
  <dcterms:modified xsi:type="dcterms:W3CDTF">2023-02-11T08:29:27Z</dcterms:modified>
  <cp:revision>151</cp:revision>
  <dc:subject/>
  <dc:title>Устаревшие слова</dc:title>
</cp:coreProperties>
</file>