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78D-A9F7-4DBF-B22C-2798047F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425-ED87-4CAD-8B82-3CC20AF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E7F-7B95-4A82-9AE8-6B23FF97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0C1-BDEE-40B8-8A22-5C3D6F8A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9151-FD83-451F-BA7D-C559C821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B859-D19E-4310-9162-78CE66E7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C172-8F94-44D8-BE1B-FBDF535C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3040-9D98-45B9-8006-882E39F4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AD9F-E98F-4A96-B2A5-D6DE01F7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F3DB-98B3-4C75-8CF4-DC29B33B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C7D7-2EB3-4427-BC96-BEBB6EB2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D03-6E21-4823-882C-0E525427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8113-C98D-42CD-A99F-ED4623AA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0D49-47D4-4DE2-8E3D-68DD02E9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5ACE-B0A3-411E-A47A-D7DF3C88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C109-B399-47EC-A855-98DF45E4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B10B-5DB7-4D69-949E-9DD5A86E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E0E6-7CFA-4A1E-9E77-CE2DC384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F0D2-E9C7-4B50-8925-4C56748F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B09F-50F1-44EB-9DCF-D303A99B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5A08-62B1-42DE-A61A-A0FD98D4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7EE3-0311-4E5C-BFD2-88EAE9B6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190-8797-4B93-9F6A-36B710D9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043D-97F9-469B-BD10-570ECB6D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00809-EAFC-43F9-82A6-0B216B17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D156-79C9-414A-B493-F152C682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4859-DECD-4967-86DF-04E688A3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D4AA6-6D6B-4A81-AF89-44A76528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53D8-5D73-46EC-BC4D-F84CEC80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C7CC-C053-4A71-B6B8-457CBC1A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E0EA7-B083-435E-B513-5F6B91C2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8C830-48C5-46F1-8CAB-E53697F9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184E-DE08-4D58-9C09-63DA9BB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AC3-3541-4AE0-8A45-D39A13EA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FB85-5257-4290-B913-94DDDA92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2132-931B-4380-BF61-C499B60D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EE903-6B79-4CC8-95CC-913EA3DF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3336-EF77-46BA-BA71-766B9876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3D06-ABC8-4336-B079-3C83843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CB16-E4EA-4FDA-9CB6-C291A41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A5CDE-2F13-4DA3-A219-1BEE5B1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4E22C-7C3E-4B30-AC9A-61685835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6B952-9A25-4BE1-9C34-2B4F774B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B427-8C8F-4048-8D78-49374D71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026-9FC1-474D-8388-7AF31C88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A079-5E0C-4C67-AC06-1376C802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53736-B38D-4DEC-9F79-B8713973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B5B39-767E-4EF6-8EE8-C4247DEB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B650-5273-4A25-BF86-D161D249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F987-D798-4182-991B-24A750B1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1E0D-8017-47D4-824C-6921FF3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33FDA-040C-48C5-9B75-807A6B12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27C11-9389-480D-A8FF-35F8C2A3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5AE56-EF09-4012-95D6-6A4AF97B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FE410-E5AF-493C-A88A-58FDB847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9AB-8F30-4B19-8E24-C1EA4C32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4037F-243A-4036-A218-8D884891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F299F-8772-46B8-AA34-5C5601AD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75CEB-CAB4-48B2-A21E-BF7C843F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F12EE-1719-4F54-AC79-A1D510D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64C7-6FEA-4381-A11A-9B7DAFEE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6C1F0-CF98-48F3-8C81-C508125A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98993-4D5B-4626-9337-7F1961EA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FC8E-5774-45EC-856F-82AF915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A01C-0465-4122-9EB7-F4F5262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EC18D-CC6A-47B8-A2E6-B4163EB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6F3-514D-4755-AB71-DD2AE97E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500C4-A615-4A2A-9F2C-0539AC4E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5B6F-E455-48CE-B856-A3F403BC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CBA3C-7870-4B01-BDC8-186B1870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9768-5356-487A-AC6F-235C3B26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03119-C94E-4F84-9FDD-4118B024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4E10-FCA8-4B20-9DE1-0A229B90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BB5D1-005B-49FD-8AE7-8712EDB6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9E5A5-DF6D-4864-B41B-4238D206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7CF54-BD15-458D-BFC7-EDE2085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EB102-DAA2-49D5-B41C-7B4FC013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0A1-84F9-47F9-BF02-BF7E7AFB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CFEA3-C2FA-41B4-8D79-2E86F253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4E44A-50D6-4D7A-B657-D27C32B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671D8-1D8F-40C9-9005-06DDFA93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1404C-A7C0-4EF1-A6E0-D55294F3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6464-90F4-4C7D-80E9-347D70B4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497-88CB-4AD4-9E4F-A1FD4F39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C902-BC41-4706-AAEC-9AB5B427201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8633-8B0A-462F-AB4D-F27D66AD86A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A822-AF5A-4205-89EA-DB6832FEB95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D2B1-17F2-4E83-BD34-6833A20A778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C7CD-FD0B-4E8C-8165-A7D7446A382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416-8367-4A96-A8B3-A7FED22FA71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A7DA-401F-4AC6-83C8-E6A00C8FE8A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f0000"/>
                </a:solidFill>
                <a:latin typeface="Monotype Corsiva"/>
                <a:ea typeface="Times New Roman"/>
              </a:rPr>
              <a:t>Устаревшие слова в речи</a:t>
            </a:r>
            <a:br>
              <a:rPr sz="5400"/>
            </a:br>
            <a:r>
              <a:rPr b="0" lang="ru-RU" sz="5400" spc="-1" strike="noStrike">
                <a:solidFill>
                  <a:srgbClr val="bf0000"/>
                </a:solidFill>
                <a:latin typeface="Monotype Corsiva"/>
                <a:ea typeface="Times New Roman"/>
              </a:rPr>
              <a:t>жителей села Макаринино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e2e"/>
                </a:solidFill>
                <a:latin typeface="Times New Roman"/>
                <a:ea typeface="Times New Roman"/>
              </a:rPr>
              <a:t>Автор: Коневина Юлиана 3 класс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e2e"/>
                </a:solidFill>
                <a:latin typeface="Times New Roman"/>
                <a:ea typeface="Times New Roman"/>
              </a:rPr>
              <a:t>Руководитель: Коневина О.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1e2e"/>
                </a:solidFill>
                <a:latin typeface="Times New Roman"/>
                <a:ea typeface="Times New Roman"/>
              </a:rPr>
              <a:t>МБОУ «Адамовская ООШ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Процент использования устаревших слов в селе Макаринино по возрастным группам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Диаграмма 3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3956040" cy="2736720"/>
          </a:xfrm>
          <a:prstGeom prst="rect">
            <a:avLst/>
          </a:prstGeom>
          <a:ln w="0">
            <a:noFill/>
          </a:ln>
        </p:spPr>
      </p:pic>
      <p:pic>
        <p:nvPicPr>
          <p:cNvPr id="361" name="Диаграмма 4" descr=""/>
          <p:cNvPicPr/>
          <p:nvPr/>
        </p:nvPicPr>
        <p:blipFill>
          <a:blip r:embed="rId2"/>
          <a:stretch/>
        </p:blipFill>
        <p:spPr>
          <a:xfrm>
            <a:off x="4784760" y="1700280"/>
            <a:ext cx="4035240" cy="2523960"/>
          </a:xfrm>
          <a:prstGeom prst="rect">
            <a:avLst/>
          </a:prstGeom>
          <a:ln w="0">
            <a:noFill/>
          </a:ln>
        </p:spPr>
      </p:pic>
      <p:pic>
        <p:nvPicPr>
          <p:cNvPr id="362" name="Диаграмма 5" descr=""/>
          <p:cNvPicPr/>
          <p:nvPr/>
        </p:nvPicPr>
        <p:blipFill>
          <a:blip r:embed="rId3"/>
          <a:stretch/>
        </p:blipFill>
        <p:spPr>
          <a:xfrm>
            <a:off x="2414520" y="41148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Переновка  - небольшой снежок, упавший на старый снег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 Быгать - вялиться на солнце, проветриваться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 Миска - маленький тазик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Рукомойник - умывальник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5. Крынка - стеклянная банка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6. Пена, пенка - деревянные сани без полозьев для перевозки рыбы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7. Пошевни - маленькие саночки без полозьев для перевозки грузов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8. Френчик - пиджак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9. Пряженое - хворост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0. Шумовка – поварешка.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1. Оболокаться -  одеваться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2. Приплеск – берег Байкала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3. Маячить – ходить туда-сюда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4. Толкун – место, где встречаются два ветра на Байкале (волна на волну) 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5. Вставать сосранья – очень рано 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Сборник устаревших слов села Макаринин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549360"/>
            <a:ext cx="7408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6. Брешешь – говоришь неправду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7. Не турусить – не болтать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8. Солянка – тушеная капуста с мясом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9. Запачать – сильно захотеть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0. Ставить на попа – ставить вертикально, стоя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1. Перетощала – очень захотела есть.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2. Весёлка – небольшая палочка, которой замешивают и подбивают тесто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3. Матница– потолочная балка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4. Мотня- мешок из мерёги, в который собирается собранная неводом рыба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5. Мерёга, мерёжка – вязаная сеть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6. Сакать – выгребать рыбу из невода сачком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7. Наладить – приготовить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8. Близирный – тот, кто льстит и притворяется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9. Вали - иди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0. Кавкает - лает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1. Мякина - ботва.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2. Сыпун – рыхлый снег</a:t>
            </a:r>
            <a:br>
              <a:rPr sz="2000"/>
            </a:b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981000"/>
            <a:ext cx="7408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3.Тонь - место на реке или озере, на котором производится лов рыбы неводом или другими рыболовными снастя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4. Зауголок – угол тон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5. Гундера - длинный ствол дерева средней толщины, очищенный от сучьев и ветвей, используемый для крепления ставного  невода.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6. Берданить – наниматься рыбачи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7. Рожен – шампур, строганный из деревянной тонкой щепы, заостренный с обоих конц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8.Давече – недавно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9. Тепереча – сейчас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Процент использования устаревших слов в селе Макаринино по всем возрастным группам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Диаграмма 6" descr=""/>
          <p:cNvPicPr/>
          <p:nvPr/>
        </p:nvPicPr>
        <p:blipFill>
          <a:blip r:embed="rId1"/>
          <a:stretch/>
        </p:blipFill>
        <p:spPr>
          <a:xfrm>
            <a:off x="1116000" y="1627200"/>
            <a:ext cx="691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28760" y="857160"/>
            <a:ext cx="85010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Monotype Corsiva"/>
              </a:rPr>
              <a:t>Спасибо за внимание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70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79280" y="1628280"/>
            <a:ext cx="8569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Цель моего исследова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 познакомиться с устаревшими словами и их разновидностями</a:t>
            </a: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достижения цели я поставила следующие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задачи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Узнать что такое устаревшие слова и  их вид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Провести опрос разных возрастов по данному вопросу, проанализировать результа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Создание сборник устаревших слов моего сел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Поделиться результатами моего исследования с моими сверстниками, односельчана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ы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исследования: наблюдение, опрос, анализ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Гипотеза исследования</a:t>
            </a:r>
            <a:r>
              <a:rPr b="0" lang="ru-RU" sz="32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ревшие слова  не утратили своей значимости в современной жизн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1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e2e"/>
                </a:solidFill>
                <a:latin typeface="Times New Roman"/>
                <a:ea typeface="Times New Roman"/>
              </a:rPr>
              <a:t>УСТАРЕВШИЕ СЛОВА  - слова современного русского  языка, вышедшие из активного употребления, но сохранившиеся в пассивном словаре и в большинстве своем понятные носителям язы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Архаизмы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Историзмы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835812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Monotype Corsiva"/>
              </a:rPr>
              <a:t>Устаревшие слова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Стрелка вниз 3"/>
          <p:cNvSpPr/>
          <p:nvPr/>
        </p:nvSpPr>
        <p:spPr>
          <a:xfrm>
            <a:off x="1785960" y="2500200"/>
            <a:ext cx="484200" cy="15289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15840">
            <a:solidFill>
              <a:srgbClr val="8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низ 7"/>
          <p:cNvSpPr/>
          <p:nvPr/>
        </p:nvSpPr>
        <p:spPr>
          <a:xfrm>
            <a:off x="6300720" y="2637000"/>
            <a:ext cx="484200" cy="15285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15840">
            <a:solidFill>
              <a:srgbClr val="8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" descr="C:\Users\Татьяна\Desktop\книга.jpg"/>
          <p:cNvPicPr/>
          <p:nvPr/>
        </p:nvPicPr>
        <p:blipFill>
          <a:blip r:embed="rId1"/>
          <a:stretch/>
        </p:blipFill>
        <p:spPr>
          <a:xfrm>
            <a:off x="3357720" y="51436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Monotype Corsiva"/>
              </a:rPr>
              <a:t>Архаизмы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Users\Оля\Desktop\36971.jpg"/>
          <p:cNvPicPr/>
          <p:nvPr/>
        </p:nvPicPr>
        <p:blipFill>
          <a:blip r:embed="rId2"/>
          <a:stretch/>
        </p:blipFill>
        <p:spPr>
          <a:xfrm>
            <a:off x="1187280" y="1413000"/>
            <a:ext cx="6769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71680" y="2428560"/>
            <a:ext cx="4929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Monotype Corsiva"/>
              </a:rPr>
              <a:t>Зипун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рхняя одежда у крестья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36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Monotype Corsiva"/>
              </a:rPr>
              <a:t>Братин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36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суд, предназначенный, для братского, товарищеского пить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31f43"/>
                </a:solidFill>
                <a:latin typeface="Monotype Corsiva"/>
              </a:rPr>
              <a:t>         </a:t>
            </a:r>
            <a:r>
              <a:rPr b="0" lang="ru-RU" sz="6600" spc="-1" strike="noStrike">
                <a:solidFill>
                  <a:srgbClr val="c00000"/>
                </a:solidFill>
                <a:latin typeface="Monotype Corsiva"/>
              </a:rPr>
              <a:t>Историзмы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10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5929200" y="192888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C:\Users\Татьяна\Desktop\ьратина.jpg"/>
          <p:cNvPicPr/>
          <p:nvPr/>
        </p:nvPicPr>
        <p:blipFill>
          <a:blip r:embed="rId2"/>
          <a:stretch/>
        </p:blipFill>
        <p:spPr>
          <a:xfrm>
            <a:off x="5857920" y="4667400"/>
            <a:ext cx="32860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нкета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Знаете ли вы, что такое устаревшие слова?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Знаете ли вы, что такое архаизмы?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Знаете ли вы, что такое историзмы?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Где будете искать помощь в толковании слов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820800" y="2592360"/>
            <a:ext cx="8159760" cy="35845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Monotype Corsiva"/>
              </a:rPr>
              <a:t>Знает ли вы, что такое устаревшие слова ?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Объект 3" descr=""/>
          <p:cNvPicPr/>
          <p:nvPr/>
        </p:nvPicPr>
        <p:blipFill>
          <a:blip r:embed="rId1"/>
          <a:stretch/>
        </p:blipFill>
        <p:spPr>
          <a:xfrm>
            <a:off x="520560" y="1949400"/>
            <a:ext cx="8197920" cy="49528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Monotype Corsiva"/>
              </a:rPr>
              <a:t>Где будешь искать помощь в толковании слов ?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0:04Z</dcterms:created>
  <dc:creator>User</dc:creator>
  <dc:description/>
  <dc:language>en-US</dc:language>
  <cp:lastModifiedBy>RePack by Diakov</cp:lastModifiedBy>
  <dcterms:modified xsi:type="dcterms:W3CDTF">2023-02-11T08:29:27Z</dcterms:modified>
  <cp:revision>151</cp:revision>
  <dc:subject/>
  <dc:title>Устаревшие слова</dc:title>
</cp:coreProperties>
</file>