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396-C34B-44E7-8BF4-F0DDCE03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98-6A21-4274-AAD9-93A53844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2FE-04CF-4DD8-A304-B7203CB4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737-17F5-4D65-AA00-6087A856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49D9-921E-4D0B-9822-8A145037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1969-7C28-499B-96A4-AD508888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78BF-D278-4C34-9CDC-BAD3024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4A2B-7A2A-4A6D-84D4-DDA4E87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27E8-9FC3-4F57-8C99-0735135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CF3-B6E4-449D-A6F3-4CF5230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6E5-D3FC-4A48-BFA2-F7811EC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1B0-CFC7-4830-84FA-9D6C7A4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935F-ABEB-419A-BB66-925A659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518-478B-4D8D-BBA6-442D752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9EC-7512-4F41-AB11-D677003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F63-9289-4B11-944F-4E525867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8A31-2EA7-4C6D-9F79-1AC3ECE2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F3D2-24AA-4C60-A848-51906B58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595C-037C-465C-94D9-E9A76A8D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C4DD-EF82-4576-9A4E-03BF375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A5D0-58D4-45FB-A1E5-3434F3BE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CDE7-838F-44A1-A5D1-449AB47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FE6-8C67-413A-9D79-314A05B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F1E7-28E2-4F08-9716-00A640E5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FC6D-0075-438B-8B46-F9E1EA9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1970-C9DE-41DB-9ABD-083D8ACB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DC71-750B-4DB1-B10B-4049F517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4EB3-83CB-4EF8-83B6-11CE27A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F6B1-CFAC-4F5D-BB9E-4CDC3B8C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6212-D4E6-4AB5-AB4C-308332DE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40A9-9B08-4CFB-BDAE-4913725C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6944-45AE-4F30-802B-A79B429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D31C-EB0D-4035-B033-6C5D6F59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14C-09CF-4124-A0B9-D2C8251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17BD-B91A-4D92-8F3D-42BEDD7E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C01E-B03A-466E-9A79-683E6983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13DC-79FB-443F-9577-43750BDE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E17F-A47C-47FE-8F88-D054E5F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DFFD-4277-4F48-84DD-788B2D6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2403-9975-478B-90BE-8FF0C3A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08E8-8FC6-457A-8577-49F70C8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8DA6-E2FC-4B63-9088-77D232F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A6C8-BF36-4EDB-A75C-B45C8652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565A-508C-43B7-AF23-C4EB56B8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2AE-438A-4152-9AD2-8742A0A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443C-72C2-4B95-AD14-DE7EB4F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9954-CCA2-44C7-A6F2-1B3EEB26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85E0-D60D-4EF2-B5D6-B5B5A22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06DD-76F4-47C0-93D7-B832DC8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56C6-184A-4CF7-BB7F-237EE9C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A029-4567-46D4-A840-766B86CE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849D-A661-4FE3-8284-A95E145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72DD-A4D4-46C1-B987-FB14D24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1C4D-C8C5-4542-ADE4-56ADDC8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5AC9-0FB5-4A0D-A4C9-93AB4431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76C-6607-4551-9EEA-93C94C8F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BFCE2-5A64-43BC-9E8E-38F30CCC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3CC-A5B5-4D0F-AC7A-A1DB452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820-743D-473E-AB0A-82F1208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94D-CCE7-45A6-9307-2FEE92C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817-0323-40E9-AA15-1B921527D430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C30-F760-4308-8375-F9BD67912AE1}" type="slidenum">
              <a:rPr b="0" lang="ru-RU" sz="11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166-7ADA-4C37-9D5A-528264DAF1E0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E07-374C-40D7-80E0-1CA1E84CB105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510-3CF0-40B4-8A8D-6A8995B1E53D}" type="slidenum">
              <a:rPr b="0" lang="ru-RU" sz="1100" spc="-1" strike="noStrike">
                <a:solidFill>
                  <a:srgbClr val="b13f9a"/>
                </a:solidFill>
                <a:latin typeface="Georg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04096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333000"/>
            <a:ext cx="763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3. Выполнять и оформлять операции с сомнительными, неплатежеспособными и имеющими признаки подделки денежными знаками Банка России и иностранных государст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4. Выполнять и оформлять операции с памятными монетами и драгоценными металл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5. Осуществлять контроль кассовых операц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6. Выполнять и осуществлять операции в наличной иностранной валютой и чек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F:\Для презентухи\скачанные файлы (7).jpg"/>
          <p:cNvPicPr/>
          <p:nvPr/>
        </p:nvPicPr>
        <p:blipFill>
          <a:blip r:embed="rId1"/>
          <a:stretch/>
        </p:blipFill>
        <p:spPr>
          <a:xfrm>
            <a:off x="2771640" y="422100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79280" y="115560"/>
            <a:ext cx="7777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7. Консультировать клиентов по депозитным операци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8. Выполнять и оформлять депозитные операции с физическими лицами в валюте Российской Федерации и иностранной валю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9. Выполнять и оформлять депозитные операции с юридическими лиц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10. Выполнять и оформлять операции по привлечению во вклады драгоценных металлов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F:\Для презентухи\images (22).jpg"/>
          <p:cNvPicPr/>
          <p:nvPr/>
        </p:nvPicPr>
        <p:blipFill>
          <a:blip r:embed="rId1"/>
          <a:stretch/>
        </p:blipFill>
        <p:spPr>
          <a:xfrm>
            <a:off x="2484360" y="3720960"/>
            <a:ext cx="381960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92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ходите к нам учиться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.Смоленск,ул.Попова,40/2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л. +7 4812 55-21-2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.Смоленск, ул.Ленина, 3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л.+7 4812 38-32-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айт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http://www.spk.edu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чт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smolpoliteh@yandex.r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F:\Для презентухи\0020-020-Spasibo-za-vnimanie.jpg"/>
          <p:cNvPicPr/>
          <p:nvPr/>
        </p:nvPicPr>
        <p:blipFill>
          <a:blip r:embed="rId1"/>
          <a:stretch/>
        </p:blipFill>
        <p:spPr>
          <a:xfrm>
            <a:off x="250920" y="31680"/>
            <a:ext cx="865980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55280" y="402840"/>
            <a:ext cx="715644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Специальность: 38.02.07.</a:t>
            </a:r>
            <a:r>
              <a:rPr b="1" lang="ru-RU" sz="28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 Банковское дел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Квалификация: Специалист банковского д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F:\Для презентухи\images (5).jpg"/>
          <p:cNvPicPr/>
          <p:nvPr/>
        </p:nvPicPr>
        <p:blipFill>
          <a:blip r:embed="rId1"/>
          <a:stretch/>
        </p:blipFill>
        <p:spPr>
          <a:xfrm>
            <a:off x="468360" y="3141720"/>
            <a:ext cx="3355920" cy="289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F:\Для презентухи\images (3).jpg"/>
          <p:cNvPicPr/>
          <p:nvPr/>
        </p:nvPicPr>
        <p:blipFill>
          <a:blip r:embed="rId2"/>
          <a:stretch/>
        </p:blipFill>
        <p:spPr>
          <a:xfrm>
            <a:off x="5292720" y="2205000"/>
            <a:ext cx="2705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712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Мой любимый город-герой Смоленс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6" descr="F:\images (1).jpg"/>
          <p:cNvPicPr/>
          <p:nvPr/>
        </p:nvPicPr>
        <p:blipFill>
          <a:blip r:embed="rId1"/>
          <a:stretch/>
        </p:blipFill>
        <p:spPr>
          <a:xfrm>
            <a:off x="285840" y="92880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F:\images (2).jpg"/>
          <p:cNvPicPr/>
          <p:nvPr/>
        </p:nvPicPr>
        <p:blipFill>
          <a:blip r:embed="rId2"/>
          <a:stretch/>
        </p:blipFill>
        <p:spPr>
          <a:xfrm>
            <a:off x="4714920" y="642960"/>
            <a:ext cx="3349440" cy="250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F:\images (3).jpg"/>
          <p:cNvPicPr/>
          <p:nvPr/>
        </p:nvPicPr>
        <p:blipFill>
          <a:blip r:embed="rId3"/>
          <a:stretch/>
        </p:blipFill>
        <p:spPr>
          <a:xfrm>
            <a:off x="142920" y="40719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F:\images.jpg"/>
          <p:cNvPicPr/>
          <p:nvPr/>
        </p:nvPicPr>
        <p:blipFill>
          <a:blip r:embed="rId4"/>
          <a:stretch/>
        </p:blipFill>
        <p:spPr>
          <a:xfrm>
            <a:off x="5715000" y="5286240"/>
            <a:ext cx="3286080" cy="1390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F:\stena_d_1.jpg"/>
          <p:cNvPicPr/>
          <p:nvPr/>
        </p:nvPicPr>
        <p:blipFill>
          <a:blip r:embed="rId5"/>
          <a:stretch/>
        </p:blipFill>
        <p:spPr>
          <a:xfrm>
            <a:off x="2928960" y="3214800"/>
            <a:ext cx="2690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5280" y="188640"/>
            <a:ext cx="73008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Моя любимая СО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5" descr="24.JPG"/>
          <p:cNvPicPr/>
          <p:nvPr/>
        </p:nvPicPr>
        <p:blipFill>
          <a:blip r:embed="rId1"/>
          <a:stretch/>
        </p:blipFill>
        <p:spPr>
          <a:xfrm>
            <a:off x="250920" y="1160640"/>
            <a:ext cx="3384360" cy="2538360"/>
          </a:xfrm>
          <a:prstGeom prst="rect">
            <a:avLst/>
          </a:prstGeom>
          <a:ln w="44280">
            <a:solidFill>
              <a:srgbClr val="b83d68"/>
            </a:solidFill>
            <a:miter/>
          </a:ln>
        </p:spPr>
      </p:pic>
      <p:pic>
        <p:nvPicPr>
          <p:cNvPr id="232" name="Рисунок 6" descr="25.JPG"/>
          <p:cNvPicPr/>
          <p:nvPr/>
        </p:nvPicPr>
        <p:blipFill>
          <a:blip r:embed="rId2"/>
          <a:srcRect l="0" t="0" r="7349" b="0"/>
          <a:stretch/>
        </p:blipFill>
        <p:spPr>
          <a:xfrm>
            <a:off x="330120" y="4149720"/>
            <a:ext cx="3000600" cy="2428920"/>
          </a:xfrm>
          <a:prstGeom prst="rect">
            <a:avLst/>
          </a:prstGeom>
          <a:ln w="44280">
            <a:solidFill>
              <a:srgbClr val="b83d68"/>
            </a:solidFill>
            <a:miter/>
          </a:ln>
        </p:spPr>
      </p:pic>
      <p:pic>
        <p:nvPicPr>
          <p:cNvPr id="233" name="Содержимое 4" descr="F:\Ира\IMG_2838.JPG"/>
          <p:cNvPicPr/>
          <p:nvPr/>
        </p:nvPicPr>
        <p:blipFill>
          <a:blip r:embed="rId3"/>
          <a:stretch/>
        </p:blipFill>
        <p:spPr>
          <a:xfrm>
            <a:off x="4148280" y="3481560"/>
            <a:ext cx="3665520" cy="3097080"/>
          </a:xfrm>
          <a:prstGeom prst="rect">
            <a:avLst/>
          </a:prstGeom>
          <a:ln w="38160">
            <a:solidFill>
              <a:srgbClr val="7030a0"/>
            </a:solidFill>
            <a:round/>
          </a:ln>
        </p:spPr>
      </p:pic>
      <p:pic>
        <p:nvPicPr>
          <p:cNvPr id="234" name="Picture 6" descr=""/>
          <p:cNvPicPr/>
          <p:nvPr/>
        </p:nvPicPr>
        <p:blipFill>
          <a:blip r:embed="rId4"/>
          <a:stretch/>
        </p:blipFill>
        <p:spPr>
          <a:xfrm>
            <a:off x="4646520" y="1341360"/>
            <a:ext cx="2965680" cy="1768680"/>
          </a:xfrm>
          <a:prstGeom prst="rect">
            <a:avLst/>
          </a:prstGeom>
          <a:ln w="28440">
            <a:solidFill>
              <a:srgbClr val="874396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000" y="188640"/>
            <a:ext cx="722772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Назначение моей будущей професс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туденты проводят и документально оформляют основные  виды банковских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пераций (депозитные, кредитные, операции с ценными бумагами, операции с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драгоценными металлами, по расчетно-кассовому обслуживанию и друг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перации и сделки банков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отражают на счетах бухгалтерского учета банковские операции и услуги, 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также внутрихозяйственные операции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F:\Для презентухи\images (20).jpg"/>
          <p:cNvPicPr/>
          <p:nvPr/>
        </p:nvPicPr>
        <p:blipFill>
          <a:blip r:embed="rId1"/>
          <a:stretch/>
        </p:blipFill>
        <p:spPr>
          <a:xfrm>
            <a:off x="5435640" y="488304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89000"/>
            <a:ext cx="7777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составляют бухгалтерскую и статистическую отчетность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проводят анализ кредитоспособности клиентов бан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используют в работе нормативные документы и методические материалы  Центрального Банка РФ. Министерства финансов РФ, Министерства Российской Федерации по налогам и сборам и других государственных органов, регулирующих порядок проведения банковских операций и сделок и их бухгалтерского учета, отчетность и налогооблож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F:\Для презентухи\images (19).jpg"/>
          <p:cNvPicPr/>
          <p:nvPr/>
        </p:nvPicPr>
        <p:blipFill>
          <a:blip r:embed="rId1"/>
          <a:stretch/>
        </p:blipFill>
        <p:spPr>
          <a:xfrm>
            <a:off x="4859280" y="42926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920" y="189000"/>
            <a:ext cx="8137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Дальнейшее трудоустройств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туденты, окончившие ОГБПОУ СОТА» устраиваются на работу в Смоленское отделение Сберегательного банка № 8609 г. Смоленска и в отделения сберегательного банка Смоленской области. Выпускники работают в банках различных форм собствен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F:\Для презентухи\images (2).jpg"/>
          <p:cNvPicPr/>
          <p:nvPr/>
        </p:nvPicPr>
        <p:blipFill>
          <a:blip r:embed="rId1"/>
          <a:stretch/>
        </p:blipFill>
        <p:spPr>
          <a:xfrm>
            <a:off x="539640" y="3147840"/>
            <a:ext cx="4176720" cy="324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F:\Для презентухи\скачанные файлы (16).jpg"/>
          <p:cNvPicPr/>
          <p:nvPr/>
        </p:nvPicPr>
        <p:blipFill>
          <a:blip r:embed="rId2"/>
          <a:stretch/>
        </p:blipFill>
        <p:spPr>
          <a:xfrm>
            <a:off x="5940360" y="3243240"/>
            <a:ext cx="240048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8000" y="115560"/>
            <a:ext cx="7559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2e4e"/>
                </a:solidFill>
                <a:uFillTx/>
                <a:latin typeface="Times New Roman"/>
                <a:ea typeface="Times New Roman"/>
              </a:rPr>
              <a:t>Профессиональные компетен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1. Осуществлять расчетно-кассовое обслуживание клиент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2. Осуществлять безналичные платежей использованием различных форм расчетов в национальной и иностранной валюта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3. Осуществлять расчетное обслуживание счетов бюджетов различных уровн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F:\Для презентухи\images (10).jpg"/>
          <p:cNvPicPr/>
          <p:nvPr/>
        </p:nvPicPr>
        <p:blipFill>
          <a:blip r:embed="rId1"/>
          <a:stretch/>
        </p:blipFill>
        <p:spPr>
          <a:xfrm>
            <a:off x="1835280" y="4005360"/>
            <a:ext cx="3389040" cy="22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115920"/>
            <a:ext cx="737208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4. Осуществлять межбанковские расче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5. Осуществлять международные расчеты по экспортно-импортным операциям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1.6. Обслуживать расчетные операции с использованием различных видов платежных кар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1. Выполнять и оформлять приходные и расходные кассовые опер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К 3.2. Выполнять операции с наличными деньгами при использовании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F:\Для презентухи\скачанные файлы (14).jpg"/>
          <p:cNvPicPr/>
          <p:nvPr/>
        </p:nvPicPr>
        <p:blipFill>
          <a:blip r:embed="rId1"/>
          <a:stretch/>
        </p:blipFill>
        <p:spPr>
          <a:xfrm>
            <a:off x="2556000" y="4005360"/>
            <a:ext cx="3595680" cy="26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08:24Z</dcterms:created>
  <dc:creator>Сергей</dc:creator>
  <dc:description/>
  <dc:language>en-US</dc:language>
  <cp:lastModifiedBy>student405</cp:lastModifiedBy>
  <dcterms:modified xsi:type="dcterms:W3CDTF">2023-02-11T08:24:28Z</dcterms:modified>
  <cp:revision>263</cp:revision>
  <dc:subject/>
  <dc:title>Профессия: «Электромонтер по ремонту и обслуживанию                                электрооборудования»</dc:title>
</cp:coreProperties>
</file>