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6D5-A135-4E9E-AE27-D8770442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B47-367F-4EAE-989F-1AED595E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E6B-37CF-4D39-BCD9-DD34D343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13E-ED2A-4322-9EC4-BC67CD4D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C831-4624-4D13-A1A8-D7DCD6C4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F300-F7DC-46E6-8F22-05DDB4C3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E1AF-FB42-48C2-84AA-3C264C28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B769-5D4E-4602-A44F-F514C914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C62C-EDC5-4840-A881-2E4E0DB5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02A9-A0A7-4B81-9111-215229F6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41F9-7306-4AC5-AB4D-D66163EF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18D-2C0F-40C9-A5A1-CFAA6340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F35E-8730-4091-A487-CBB7E9C4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DC06-4491-4F3D-A575-13DD19D6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B3FB-1339-4DE0-86F1-914640D8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B1C6-D1E1-4E08-BB64-35E3FC01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AE12-CA4C-47A1-8ED3-20A8B998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A4C93-A055-4FC8-BC2B-278997FF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12B3-3BAF-4F0B-8AE2-A9220487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2FE0A-CF3A-4D03-A2BC-2D7672B4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AA47-6222-4BE3-A135-5AB56CC1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C6A3-0808-45C9-8683-58EE7065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BF5B-E353-4DBD-A1CE-A2FDBDE2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5060C-FBDE-4954-A32B-69E0041E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EC93-7BF3-421E-8DD1-700C78F3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8BB1C-3B95-4E24-A801-22CA29BA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7731-7499-4DF1-A268-CBE3FCB8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ECD9F-1148-4579-9BA8-C108A416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03F94-400A-4DFC-BA2F-48AA2CE5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9094B-CFB1-4D93-AD39-9C8F5271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C1303-96F4-41A6-910A-0EDD03F8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0F551-ABA9-4AF4-9455-B8115D91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BCF64-DB75-4746-8BBF-C4196E31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4F6-FFA9-4420-9057-50E1F402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5DCCA-7CB2-489D-9AE9-50C5384B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FE750-6474-4773-8AE0-D59858F8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30A1F-5BB2-4C9C-B18C-EBB06047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F96AB-1237-428E-B003-7A5B7CF4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593A9-E3CC-4E3A-9C70-9B76D300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168EC-96AB-4908-BA2B-B0F18570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0443C-503E-4C5D-9805-F5A753C5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4DCB7-C201-450F-B579-06D18326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6249F-F267-4180-8D08-092C8E9E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2250B-0788-4CCB-9D08-15ED8F86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2D1-649A-4C1E-96B0-9B5A723D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89BF4-F76E-44DA-9C95-97BA6DE9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F49B4-8B6C-48E6-B462-C21CB7FD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B88E7-2D86-4ED8-9745-755E3C25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6E7D4-BCD0-495E-977D-76587839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3579B-DCDE-4ABF-9873-F3496C04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6233D-D59A-4166-887E-D2BB6ED1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24376-FD63-4609-8AAD-3CB6B80C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90E85-988D-4C41-878F-404771EC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150CB-3DE2-4DF8-9484-B01A58E0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4FE81-50C6-499E-AFF2-6792E84C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0E8-6F18-42C1-A752-6BAFACE7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249D2-C151-4B94-9FB3-03AF8027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06C-D4A9-4726-BF48-6C0D82D0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0CE-957E-41D0-A210-147AD78B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2CC-F2A0-4B26-977E-3655DE5F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4FCD-EFBF-4184-BBC3-8A878B5A9B8C}" type="slidenum">
              <a:rPr b="0" lang="ru-RU" sz="1100" spc="-1" strike="noStrike">
                <a:solidFill>
                  <a:srgbClr val="b13f9a"/>
                </a:solidFill>
                <a:latin typeface="Georg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E3DA-8E78-4079-8194-910F684B20B1}" type="slidenum">
              <a:rPr b="0" lang="ru-RU" sz="11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9D27-E6D4-44EE-AFF7-50F1B431025A}" type="slidenum">
              <a:rPr b="0" lang="ru-RU" sz="1100" spc="-1" strike="noStrike">
                <a:solidFill>
                  <a:srgbClr val="b13f9a"/>
                </a:solidFill>
                <a:latin typeface="Georg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6049-E82E-4B46-9022-FA1AEEBC7510}" type="slidenum">
              <a:rPr b="0" lang="ru-RU" sz="1100" spc="-1" strike="noStrike">
                <a:solidFill>
                  <a:srgbClr val="b13f9a"/>
                </a:solidFill>
                <a:latin typeface="Georg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4227-F041-4EEC-8756-2944291C693B}" type="slidenum">
              <a:rPr b="0" lang="ru-RU" sz="1100" spc="-1" strike="noStrike">
                <a:solidFill>
                  <a:srgbClr val="b13f9a"/>
                </a:solidFill>
                <a:latin typeface="Georg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040960" cy="58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68360" y="333000"/>
            <a:ext cx="7632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3. Выполнять и оформлять операции с сомнительными, неплатежеспособными и имеющими признаки подделки денежными знаками Банка России и иностранных государст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4. Выполнять и оформлять операции с памятными монетами и драгоценными металла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5. Осуществлять контроль кассовых операц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6. Выполнять и осуществлять операции в наличной иностранной валютой и чека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2" descr="F:\Для презентухи\скачанные файлы (7).jpg"/>
          <p:cNvPicPr/>
          <p:nvPr/>
        </p:nvPicPr>
        <p:blipFill>
          <a:blip r:embed="rId1"/>
          <a:stretch/>
        </p:blipFill>
        <p:spPr>
          <a:xfrm>
            <a:off x="2771640" y="4221000"/>
            <a:ext cx="3384720" cy="25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79280" y="115560"/>
            <a:ext cx="77774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7. Консультировать клиентов по депозитным операция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8. Выполнять и оформлять депозитные операции с физическими лицами в валюте Российской Федерации и иностранной валют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9. Выполнять и оформлять депозитные операции с юридическими лица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10. Выполнять и оформлять операции по привлечению во вклады драгоценных металлов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2" descr="F:\Для презентухи\images (22).jpg"/>
          <p:cNvPicPr/>
          <p:nvPr/>
        </p:nvPicPr>
        <p:blipFill>
          <a:blip r:embed="rId1"/>
          <a:stretch/>
        </p:blipFill>
        <p:spPr>
          <a:xfrm>
            <a:off x="2484360" y="3720960"/>
            <a:ext cx="3819600" cy="28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5092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ходите к нам учиться!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онтакты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г.Смоленск,ул.Попова,40/2,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ел. +7 4812 55-21-25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г.Смоленск, ул.Ленина, 37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ел.+7 4812 38-32-13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айт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http://www.spk.edu.ru/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чта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smolpoliteh@yandex.ru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F:\Для презентухи\0020-020-Spasibo-za-vnimanie.jpg"/>
          <p:cNvPicPr/>
          <p:nvPr/>
        </p:nvPicPr>
        <p:blipFill>
          <a:blip r:embed="rId1"/>
          <a:stretch/>
        </p:blipFill>
        <p:spPr>
          <a:xfrm>
            <a:off x="250920" y="31680"/>
            <a:ext cx="8659800" cy="649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755280" y="402840"/>
            <a:ext cx="7156440" cy="61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a2e4e"/>
                </a:solidFill>
                <a:uFillTx/>
                <a:latin typeface="Times New Roman"/>
                <a:ea typeface="Times New Roman"/>
              </a:rPr>
              <a:t>Специальность: 38.02.07.</a:t>
            </a:r>
            <a:r>
              <a:rPr b="1" lang="ru-RU" sz="28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 Банковское дел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Квалификация: Специалист банковского де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2" descr="F:\Для презентухи\images (5).jpg"/>
          <p:cNvPicPr/>
          <p:nvPr/>
        </p:nvPicPr>
        <p:blipFill>
          <a:blip r:embed="rId1"/>
          <a:stretch/>
        </p:blipFill>
        <p:spPr>
          <a:xfrm>
            <a:off x="468360" y="3141720"/>
            <a:ext cx="3355920" cy="2898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F:\Для презентухи\images (3).jpg"/>
          <p:cNvPicPr/>
          <p:nvPr/>
        </p:nvPicPr>
        <p:blipFill>
          <a:blip r:embed="rId2"/>
          <a:stretch/>
        </p:blipFill>
        <p:spPr>
          <a:xfrm>
            <a:off x="5292720" y="2205000"/>
            <a:ext cx="27050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7120" y="142560"/>
            <a:ext cx="81439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a2e4e"/>
                </a:solidFill>
                <a:uFillTx/>
                <a:latin typeface="Times New Roman"/>
                <a:ea typeface="Times New Roman"/>
              </a:rPr>
              <a:t>Мой любимый город-герой Смоленс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6" descr="F:\images (1).jpg"/>
          <p:cNvPicPr/>
          <p:nvPr/>
        </p:nvPicPr>
        <p:blipFill>
          <a:blip r:embed="rId1"/>
          <a:stretch/>
        </p:blipFill>
        <p:spPr>
          <a:xfrm>
            <a:off x="285840" y="928800"/>
            <a:ext cx="2847960" cy="2133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F:\images (2).jpg"/>
          <p:cNvPicPr/>
          <p:nvPr/>
        </p:nvPicPr>
        <p:blipFill>
          <a:blip r:embed="rId2"/>
          <a:stretch/>
        </p:blipFill>
        <p:spPr>
          <a:xfrm>
            <a:off x="4714920" y="642960"/>
            <a:ext cx="3349440" cy="2508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F:\images (3).jpg"/>
          <p:cNvPicPr/>
          <p:nvPr/>
        </p:nvPicPr>
        <p:blipFill>
          <a:blip r:embed="rId3"/>
          <a:stretch/>
        </p:blipFill>
        <p:spPr>
          <a:xfrm>
            <a:off x="142920" y="40719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F:\images.jpg"/>
          <p:cNvPicPr/>
          <p:nvPr/>
        </p:nvPicPr>
        <p:blipFill>
          <a:blip r:embed="rId4"/>
          <a:stretch/>
        </p:blipFill>
        <p:spPr>
          <a:xfrm>
            <a:off x="5715000" y="5286240"/>
            <a:ext cx="3286080" cy="1390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F:\stena_d_1.jpg"/>
          <p:cNvPicPr/>
          <p:nvPr/>
        </p:nvPicPr>
        <p:blipFill>
          <a:blip r:embed="rId5"/>
          <a:stretch/>
        </p:blipFill>
        <p:spPr>
          <a:xfrm>
            <a:off x="2928960" y="3214800"/>
            <a:ext cx="269064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95280" y="188640"/>
            <a:ext cx="730080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8a2e4e"/>
                </a:solidFill>
                <a:uFillTx/>
                <a:latin typeface="Times New Roman"/>
                <a:ea typeface="Times New Roman"/>
              </a:rPr>
              <a:t>Моя любимая СОТ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Рисунок 5" descr="24.JPG"/>
          <p:cNvPicPr/>
          <p:nvPr/>
        </p:nvPicPr>
        <p:blipFill>
          <a:blip r:embed="rId1"/>
          <a:stretch/>
        </p:blipFill>
        <p:spPr>
          <a:xfrm>
            <a:off x="250920" y="1160640"/>
            <a:ext cx="3384360" cy="2538360"/>
          </a:xfrm>
          <a:prstGeom prst="rect">
            <a:avLst/>
          </a:prstGeom>
          <a:ln w="44280">
            <a:solidFill>
              <a:srgbClr val="b83d68"/>
            </a:solidFill>
            <a:miter/>
          </a:ln>
        </p:spPr>
      </p:pic>
      <p:pic>
        <p:nvPicPr>
          <p:cNvPr id="232" name="Рисунок 6" descr="25.JPG"/>
          <p:cNvPicPr/>
          <p:nvPr/>
        </p:nvPicPr>
        <p:blipFill>
          <a:blip r:embed="rId2"/>
          <a:srcRect l="0" t="0" r="7349" b="0"/>
          <a:stretch/>
        </p:blipFill>
        <p:spPr>
          <a:xfrm>
            <a:off x="330120" y="4149720"/>
            <a:ext cx="3000600" cy="2428920"/>
          </a:xfrm>
          <a:prstGeom prst="rect">
            <a:avLst/>
          </a:prstGeom>
          <a:ln w="44280">
            <a:solidFill>
              <a:srgbClr val="b83d68"/>
            </a:solidFill>
            <a:miter/>
          </a:ln>
        </p:spPr>
      </p:pic>
      <p:pic>
        <p:nvPicPr>
          <p:cNvPr id="233" name="Содержимое 4" descr="F:\Ира\IMG_2838.JPG"/>
          <p:cNvPicPr/>
          <p:nvPr/>
        </p:nvPicPr>
        <p:blipFill>
          <a:blip r:embed="rId3"/>
          <a:stretch/>
        </p:blipFill>
        <p:spPr>
          <a:xfrm>
            <a:off x="4148280" y="3481560"/>
            <a:ext cx="3665520" cy="3097080"/>
          </a:xfrm>
          <a:prstGeom prst="rect">
            <a:avLst/>
          </a:prstGeom>
          <a:ln w="38160">
            <a:solidFill>
              <a:srgbClr val="7030a0"/>
            </a:solidFill>
            <a:round/>
          </a:ln>
        </p:spPr>
      </p:pic>
      <p:pic>
        <p:nvPicPr>
          <p:cNvPr id="234" name="Picture 6" descr=""/>
          <p:cNvPicPr/>
          <p:nvPr/>
        </p:nvPicPr>
        <p:blipFill>
          <a:blip r:embed="rId4"/>
          <a:stretch/>
        </p:blipFill>
        <p:spPr>
          <a:xfrm>
            <a:off x="4646520" y="1341360"/>
            <a:ext cx="2965680" cy="1768680"/>
          </a:xfrm>
          <a:prstGeom prst="rect">
            <a:avLst/>
          </a:prstGeom>
          <a:ln w="28440">
            <a:solidFill>
              <a:srgbClr val="874396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68000" y="188640"/>
            <a:ext cx="722772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a2e4e"/>
                </a:solidFill>
                <a:uFillTx/>
                <a:latin typeface="Times New Roman"/>
                <a:ea typeface="Times New Roman"/>
              </a:rPr>
              <a:t>Назначение моей будущей професс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студенты проводят и документально оформляют основные  виды банковских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операций (депозитные, кредитные, операции с ценными бумагами, операции с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драгоценными металлами, по расчетно-кассовому обслуживанию и друг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операции и сделки банков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- отражают на счетах бухгалтерского учета банковские операции и услуги, 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также внутрихозяйственные операции банк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Picture 2" descr="F:\Для презентухи\images (20).jpg"/>
          <p:cNvPicPr/>
          <p:nvPr/>
        </p:nvPicPr>
        <p:blipFill>
          <a:blip r:embed="rId1"/>
          <a:stretch/>
        </p:blipFill>
        <p:spPr>
          <a:xfrm>
            <a:off x="5435640" y="4883040"/>
            <a:ext cx="29512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89000"/>
            <a:ext cx="7777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- составляют бухгалтерскую и статистическую отчетность банк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- проводят анализ кредитоспособности клиентов банк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- используют в работе нормативные документы и методические материалы  Центрального Банка РФ. Министерства финансов РФ, Министерства Российской Федерации по налогам и сборам и других государственных органов, регулирующих порядок проведения банковских операций и сделок и их бухгалтерского учета, отчетность и налогооблож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2" descr="F:\Для презентухи\images (19).jpg"/>
          <p:cNvPicPr/>
          <p:nvPr/>
        </p:nvPicPr>
        <p:blipFill>
          <a:blip r:embed="rId1"/>
          <a:stretch/>
        </p:blipFill>
        <p:spPr>
          <a:xfrm>
            <a:off x="4859280" y="429264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920" y="189000"/>
            <a:ext cx="8137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a2e4e"/>
                </a:solidFill>
                <a:uFillTx/>
                <a:latin typeface="Times New Roman"/>
                <a:ea typeface="Times New Roman"/>
              </a:rPr>
              <a:t>Дальнейшее трудоустройств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Студенты, окончившие ОГБПОУ СОТА» устраиваются на работу в Смоленское отделение Сберегательного банка № 8609 г. Смоленска и в отделения сберегательного банка Смоленской области. Выпускники работают в банках различных форм собственнос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2" descr="F:\Для презентухи\images (2).jpg"/>
          <p:cNvPicPr/>
          <p:nvPr/>
        </p:nvPicPr>
        <p:blipFill>
          <a:blip r:embed="rId1"/>
          <a:stretch/>
        </p:blipFill>
        <p:spPr>
          <a:xfrm>
            <a:off x="539640" y="3147840"/>
            <a:ext cx="4176720" cy="3243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F:\Для презентухи\скачанные файлы (16).jpg"/>
          <p:cNvPicPr/>
          <p:nvPr/>
        </p:nvPicPr>
        <p:blipFill>
          <a:blip r:embed="rId2"/>
          <a:stretch/>
        </p:blipFill>
        <p:spPr>
          <a:xfrm>
            <a:off x="5940360" y="3243240"/>
            <a:ext cx="2400480" cy="31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68000" y="115560"/>
            <a:ext cx="75596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a2e4e"/>
                </a:solidFill>
                <a:uFillTx/>
                <a:latin typeface="Times New Roman"/>
                <a:ea typeface="Times New Roman"/>
              </a:rPr>
              <a:t>Профессиональные компетен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1.1. Осуществлять расчетно-кассовое обслуживание клиенто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1.2. Осуществлять безналичные платежей использованием различных форм расчетов в национальной и иностранной валюта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1.3. Осуществлять расчетное обслуживание счетов бюджетов различных уровне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Picture 2" descr="F:\Для презентухи\images (10).jpg"/>
          <p:cNvPicPr/>
          <p:nvPr/>
        </p:nvPicPr>
        <p:blipFill>
          <a:blip r:embed="rId1"/>
          <a:stretch/>
        </p:blipFill>
        <p:spPr>
          <a:xfrm>
            <a:off x="1835280" y="4005360"/>
            <a:ext cx="3389040" cy="22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24000" y="115920"/>
            <a:ext cx="737208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1.4. Осуществлять межбанковские расчет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1.5. Осуществлять международные расчеты по экспортно-импортным операциям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1.6. Обслуживать расчетные операции с использованием различных видов платежных кар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1. Выполнять и оформлять приходные и расходные кассовые опера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2. Выполнять операции с наличными деньгами при использовании технических средст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F:\Для презентухи\скачанные файлы (14).jpg"/>
          <p:cNvPicPr/>
          <p:nvPr/>
        </p:nvPicPr>
        <p:blipFill>
          <a:blip r:embed="rId1"/>
          <a:stretch/>
        </p:blipFill>
        <p:spPr>
          <a:xfrm>
            <a:off x="2556000" y="4005360"/>
            <a:ext cx="3595680" cy="261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08:24Z</dcterms:created>
  <dc:creator>Сергей</dc:creator>
  <dc:description/>
  <dc:language>en-US</dc:language>
  <cp:lastModifiedBy>student405</cp:lastModifiedBy>
  <dcterms:modified xsi:type="dcterms:W3CDTF">2023-02-11T08:24:28Z</dcterms:modified>
  <cp:revision>263</cp:revision>
  <dc:subject/>
  <dc:title>Профессия: «Электромонтер по ремонту и обслуживанию                                электрооборудования»</dc:title>
</cp:coreProperties>
</file>