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43C-15D7-4819-816C-DD3B14D8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999-ABBC-4799-B0A0-14DBF60E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455-934C-4EE8-8E04-5B063AB2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251-991B-44E3-B86B-AD4A9A12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3A99-DF33-42BD-970E-DFC9593A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1BAE-80CA-42CB-AF26-EE1E4B10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35CE-17EB-4074-9177-11280B12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A7D3-79B8-4CDE-B2EB-FB0B0BFB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E83F-0748-4EDC-A242-A96F7FB2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EF3D-032C-4056-8E55-44033B99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5EA4-D8BC-4EC7-B40B-D1F4720B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01B-0217-473A-A47D-B7BE5F13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4A53-CA27-4ED1-8CF3-CB71B6D3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B581-2222-43ED-8E1E-B03C6EDA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9DFC-E52C-4AC8-BFDF-C93FD7CE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AB8F-0F16-4545-B706-835E0752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078E-13C3-4AD4-A4DA-0C889BF0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61F0E-9B76-4633-9F57-7D5E6B76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8D160-B952-4D54-B70B-2CC971F1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7227A-30EC-43F2-BB51-BEB88014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5582F-E53B-4B2D-A74D-441A88B1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D6671-66D8-4AE4-AB62-D4242976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051-069A-48AF-853E-22E8F702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F112-4B4C-4773-B59F-C4C96D12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D18C1-8216-4553-B935-1FBADFB0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99A53-88CE-409A-B60A-6AC11A36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0C90-C305-4839-9388-CD1D122D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3D67-3614-48F5-988B-7E7B7EBF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16B11-6282-4ADD-B68C-9FDBA416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4A02-A96F-43E2-9D55-6D4DE00E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588D6-EC66-4D07-B0AB-90A47371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3582E-6CAC-4458-AF30-8B4C5E60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A0AF8-8D4F-407E-B547-A2A95869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A83-21A8-4BD8-BD47-5EA83F16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A8062-4179-4BC7-82A5-78F3AFF9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4FF3F-2720-4B0F-9641-21160A3C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F4200-2A1D-4AE3-BB16-F30C06A3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4B62D-EB0E-445F-AEA3-E4100F19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CB0F3-0942-4841-9A80-2A41A50F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E570-EB62-48FD-B05E-DFF07BFE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4B521-C28B-44E7-8F0C-D2DF4C13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A87B5-3B75-48F4-A940-C17F6FA2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830BE-398C-4D76-85D4-A9EABA0B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B7C-E739-4345-A978-7B154542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EE0-C05C-42C4-B98B-60CD04AA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30D-E363-415F-91F9-B58B5725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D57-603F-4094-B76D-592845EB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F65-8488-4A68-9D18-FBFDA08D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9F30-15F3-4E51-AE1C-BBCF8F446A70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B3E4-34D8-42F6-860B-BE885A735ED5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FE01-CD7C-4A74-A96C-EB9EF7447FE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7775-04FA-4261-815D-0AEEFEB9B9C6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entury Gothic"/>
              </a:rPr>
              <a:t>ЭНЕРГИЯ МАГНИТНОГО ПОЛЯ. ЭНЕРГИЯ ЭЛЕКТРИЧЕСКОГО ПОЛЯ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629400" y="3733920"/>
            <a:ext cx="2286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Технология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7 класс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Учитель: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Панина О.В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4" name="Picture 5" descr="004734482_1-2887db2d8e4a08501360c5dee79a7284"/>
          <p:cNvPicPr/>
          <p:nvPr/>
        </p:nvPicPr>
        <p:blipFill>
          <a:blip r:embed="rId1"/>
          <a:stretch/>
        </p:blipFill>
        <p:spPr>
          <a:xfrm>
            <a:off x="762120" y="182880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3439080" y="6324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осибирск 202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Вы узнаете, как проявляются свойства магнитного и электрического полей. Вы научитесь: применять в быту и практической деятельности знания свойств магнитных, электрических полей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2640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04560" y="30492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Некоторые металлы взаимодействуют друг с другом на расстоянии посредством магнитного поля. Электрическое поле создаётся заряженными частицами — электронами и протонами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0" name="Picture 5" descr="296372d30f08be787144b0a7f9d89c10"/>
          <p:cNvPicPr/>
          <p:nvPr/>
        </p:nvPicPr>
        <p:blipFill>
          <a:blip r:embed="rId1"/>
          <a:stretch/>
        </p:blipFill>
        <p:spPr>
          <a:xfrm>
            <a:off x="1371600" y="2514600"/>
            <a:ext cx="63244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Для того, чтобы создать электрическое поле, необходимо создать электрический заряд. Натрите какой-нибудь диэлектрик о шерсть или что-нибудь подобное, например, пластиковую ручку о собственные чистые волосы. На ручке создастся заряд, а вокруг — электрическое поле. Заряженная ручка будет притягивать к себе мелкие обрывки бумаги. Если натирать о шерсть предмет большей ширины, например, резиновую ленту, то в темноте можно будет видеть мелкие искры, возникающие вследствие электрических разрядов.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0880" y="3805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Магнитное поле — это особый вид материи, которая не осязается человеком. Посредством магнитного поля можно воздействовать на некоторые другие тела.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Одно из наиболее часто встречающихся в обычной жизни проявлений магнитного поля — взаимодействие двух магнитов: одинаковые полюса отталкиваются, противоположные притягиваются. 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5553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9T10:42:02Z</dcterms:created>
  <dc:creator>Бизон</dc:creator>
  <dc:description/>
  <dc:language>en-US</dc:language>
  <cp:lastModifiedBy>1</cp:lastModifiedBy>
  <dcterms:modified xsi:type="dcterms:W3CDTF">2023-02-10T15:31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