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42B-0AEC-4295-96F7-90BB5198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8B17-C3D8-4B78-8A39-8AF8C040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94E8-C971-414C-A1CF-E81C49C6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A728-A71A-4D9E-9680-44193F1D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E305-1AE7-4F8F-9502-62D7B36E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0C61-D635-43E8-BAC7-37A9CD36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89AF-CE30-4D6A-BEA5-C7DEF1D5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7E6F-0344-4611-B588-D81B7A9E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AC4D-85E7-489F-809C-19AD3E5A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BDFC-B01E-4013-925B-D4717240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B125-0698-4EAA-BF97-BA7FBECA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1631-DEEC-4904-80A8-31D2338E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2EC5-C2EE-4180-AC1A-5353B554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31D7-BA98-4629-991E-148643DF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B4D4-D9D9-4C89-9ABF-EDD999DD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17B3-FBB7-4DC7-8E6A-3114114B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9CB5-F193-4F1D-9C31-DF03BE3D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70A61-AC71-42A7-93ED-511FE3A4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7821B-183F-42A2-843C-2E8E7E28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5F0BE-0FAD-4723-A5C2-FA2F5F05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9E0CD-D271-4E88-A428-E10BCD58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32BE6-B474-4D80-A455-241C9C5A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CA88-83F4-4B06-A727-26B8979E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DD568-0C1C-4C78-A800-3210D12D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8BE33-4FDB-45CE-A8C7-DD21F6FB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E5047-F489-4399-8375-C97FE3FB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2AD36-6979-49D4-9479-BC3E7505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5F6F0-D93D-4712-A64B-D5A17E06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65201-B278-4D8B-A066-7590C16B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22AFB-7B10-4C38-9ED3-B80FFFCC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4DA02-2F8F-4B08-B66E-1F100848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BD84B-7593-420C-B08F-754BF4C6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3E4CC-B22D-414B-A8FC-CE9C76AE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92E9-3768-44B8-BA19-873CA1BD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37CEC-E795-4BB7-BDC8-06E98B0A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240C0-749C-4C76-B5C9-712C9C3C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2CCE2-D14E-418D-865D-9C2673B4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AE39C-5B0A-4FF8-8CC7-9B56A189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54AF9-9229-4DCB-8894-B399904C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E01C5-19BD-4EE8-8B0A-413122AC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62639-8CF1-4E0E-8707-958E5A81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564A3-A227-4146-B198-B9F3A36E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3A510-C11D-4A34-90DC-7B47DDD9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4CDE-54E1-4A06-B9C9-B38C77A9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58F7-E3E2-40C9-B8B9-CBF847E9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AFB8-AB73-475F-A71A-B8E08614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FD4F-008F-4BAC-8318-A21EA775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AF84-9B3A-4DCA-AA36-9BACB001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9BE4-F9C7-47F3-BE9C-A066DE05D136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7652-022B-43F6-89EE-D8835FAD2CA3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A4DD-F46B-4E1A-82E9-70C50D73C1DD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002E-9FCB-46FB-A9AA-086489C13E9D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entury Gothic"/>
              </a:rPr>
              <a:t>ЭНЕРГИЯ МАГНИТНОГО ПОЛЯ. ЭНЕРГИЯ ЭЛЕКТРИЧЕСКОГО ПОЛЯ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629400" y="3733920"/>
            <a:ext cx="2286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Технология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7 класс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Учитель: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Панина О.В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194" name="Picture 5" descr="004734482_1-2887db2d8e4a08501360c5dee79a7284"/>
          <p:cNvPicPr/>
          <p:nvPr/>
        </p:nvPicPr>
        <p:blipFill>
          <a:blip r:embed="rId1"/>
          <a:stretch/>
        </p:blipFill>
        <p:spPr>
          <a:xfrm>
            <a:off x="762120" y="182880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3439080" y="6324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осибирск 202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Вы узнаете, как проявляются свойства магнитного и электрического полей. Вы научитесь: применять в быту и практической деятельности знания свойств магнитных, электрических полей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188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26400" cy="43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04560" y="30492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f496f"/>
                </a:solidFill>
                <a:latin typeface="Century Gothic"/>
              </a:rPr>
              <a:t>Некоторые металлы взаимодействуют друг с другом на расстоянии посредством магнитного поля. Электрическое поле создаётся заряженными частицами — электронами и протонами.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0" name="Picture 5" descr="296372d30f08be787144b0a7f9d89c10"/>
          <p:cNvPicPr/>
          <p:nvPr/>
        </p:nvPicPr>
        <p:blipFill>
          <a:blip r:embed="rId1"/>
          <a:stretch/>
        </p:blipFill>
        <p:spPr>
          <a:xfrm>
            <a:off x="1371600" y="2514600"/>
            <a:ext cx="63244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0456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f496f"/>
                </a:solidFill>
                <a:latin typeface="Century Gothic"/>
              </a:rPr>
              <a:t>Для того, чтобы создать электрическое поле, необходимо создать электрический заряд. Натрите какой-нибудь диэлектрик о шерсть или что-нибудь подобное, например, пластиковую ручку о собственные чистые волосы. На ручке создастся заряд, а вокруг — электрическое поле. Заряженная ручка будет притягивать к себе мелкие обрывки бумаги. Если натирать о шерсть предмет большей ширины, например, резиновую ленту, то в темноте можно будет видеть мелкие искры, возникающие вследствие электрических разрядов.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0880" y="38052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Century Gothic"/>
              </a:rPr>
              <a:t>Магнитное поле — это особый вид материи, которая не осязается человеком. Посредством магнитного поля можно воздействовать на некоторые другие тела.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Century Gothic"/>
              </a:rPr>
              <a:t>Одно из наиболее часто встречающихся в обычной жизни проявлений магнитного поля — взаимодействие двух магнитов: одинаковые полюса отталкиваются, противоположные притягиваются. 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5553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9T10:42:02Z</dcterms:created>
  <dc:creator>Бизон</dc:creator>
  <dc:description/>
  <dc:language>en-US</dc:language>
  <cp:lastModifiedBy>1</cp:lastModifiedBy>
  <dcterms:modified xsi:type="dcterms:W3CDTF">2023-02-10T15:31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