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10.png" ContentType="image/png"/>
  <Override PartName="/ppt/media/image4.wmf" ContentType="image/x-wmf"/>
  <Override PartName="/ppt/media/image3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.png" ContentType="image/png"/>
  <Override PartName="/ppt/media/image2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5B1E-ACBB-42AF-B5E6-1AD67EFA13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0580-B255-4D7D-8F9C-59D2ADBD1A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7D31-7ACA-4761-9947-1B7CE33E76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E81E-7EA3-4535-AACC-3DE4018E32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521E-02D6-409D-9CA6-7D01DED280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FDE0-5013-40CC-90DE-511D1D7827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F536-67BB-426F-8A60-173DA419CE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CC40-1249-4B82-9AAA-F9D4CFD009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A390-4C40-4FDA-8828-C9CE982C32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5AC2-2869-49AB-8DA1-01D2531397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6E7B-AC94-4588-8260-8B83F284A2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D7F8-B2E5-4D61-A75C-8C8BC218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4CE-5600-4281-A7E4-EB0EC111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E12-BAF0-4371-8150-9D3B77E5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668-2EB3-4CF1-9D01-C14BD1BF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8C7-722C-4ABE-99F9-4FD5D959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778-B818-44B2-ABCD-AC486B6B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E2F-DF8A-493D-95D0-872305E0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2E3-4B29-4FAB-A78F-5B764A2E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93C-16F1-4796-BBB7-C3AB2749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1C9-B2AB-4E66-AE49-3A83D168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2EE-74AF-4448-8D95-FCE912E6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01F-7A61-447C-8D48-8D91B5FA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791E-D1CC-4463-9FE5-5E57F92104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7"/>
          <p:cNvSpPr/>
          <p:nvPr/>
        </p:nvSpPr>
        <p:spPr>
          <a:xfrm>
            <a:off x="0" y="285840"/>
            <a:ext cx="9144000" cy="657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85920" y="785520"/>
            <a:ext cx="6286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1852560" y="1670040"/>
            <a:ext cx="5334120" cy="261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Users\viki\AppData\Local\Microsoft\Windows\Temporary Internet Files\Content.IE5\QYIAUPJ1\MCj04376360000[1].png"/>
          <p:cNvPicPr/>
          <p:nvPr/>
        </p:nvPicPr>
        <p:blipFill>
          <a:blip r:embed="rId2"/>
          <a:stretch/>
        </p:blipFill>
        <p:spPr>
          <a:xfrm>
            <a:off x="3214800" y="4643280"/>
            <a:ext cx="2571480" cy="2571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viki\AppData\Local\Microsoft\Windows\Temporary Internet Files\Content.IE5\YN4VUU4O\MCj04376550000[1].wmf"/>
          <p:cNvPicPr/>
          <p:nvPr/>
        </p:nvPicPr>
        <p:blipFill>
          <a:blip r:embed="rId3"/>
          <a:stretch/>
        </p:blipFill>
        <p:spPr>
          <a:xfrm>
            <a:off x="642960" y="714240"/>
            <a:ext cx="1257120" cy="125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viki\AppData\Local\Microsoft\Windows\Temporary Internet Files\Content.IE5\YHBMSOS7\MCj04376590000[1].wmf"/>
          <p:cNvPicPr/>
          <p:nvPr/>
        </p:nvPicPr>
        <p:blipFill>
          <a:blip r:embed="rId4"/>
          <a:stretch/>
        </p:blipFill>
        <p:spPr>
          <a:xfrm flipH="1" rot="706800">
            <a:off x="7260840" y="460440"/>
            <a:ext cx="1144440" cy="127476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1357200" y="3571920"/>
            <a:ext cx="64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</a:rPr>
              <a:t>(Герань, аспарагус, бегония, агава, алоэ,  фиал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5" descr="20090126183752.jpg"/>
          <p:cNvPicPr/>
          <p:nvPr/>
        </p:nvPicPr>
        <p:blipFill>
          <a:blip r:embed="rId1"/>
          <a:stretch/>
        </p:blipFill>
        <p:spPr>
          <a:xfrm>
            <a:off x="2143080" y="1643040"/>
            <a:ext cx="4849920" cy="51516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6430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Группа 26"/>
          <p:cNvGrpSpPr/>
          <p:nvPr/>
        </p:nvGrpSpPr>
        <p:grpSpPr>
          <a:xfrm>
            <a:off x="4071960" y="2928960"/>
            <a:ext cx="1857240" cy="817560"/>
            <a:chOff x="4071960" y="2928960"/>
            <a:chExt cx="1857240" cy="817560"/>
          </a:xfrm>
        </p:grpSpPr>
        <p:sp>
          <p:nvSpPr>
            <p:cNvPr id="401" name="Скругленный прямоугольник 4"/>
            <p:cNvSpPr/>
            <p:nvPr/>
          </p:nvSpPr>
          <p:spPr>
            <a:xfrm>
              <a:off x="4071960" y="2928960"/>
              <a:ext cx="1768680" cy="81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Группа 16"/>
            <p:cNvGrpSpPr/>
            <p:nvPr/>
          </p:nvGrpSpPr>
          <p:grpSpPr>
            <a:xfrm>
              <a:off x="4111200" y="3090240"/>
              <a:ext cx="345600" cy="394560"/>
              <a:chOff x="4111200" y="3090240"/>
              <a:chExt cx="345600" cy="394560"/>
            </a:xfrm>
          </p:grpSpPr>
          <p:sp>
            <p:nvSpPr>
              <p:cNvPr id="403" name="Овал 93"/>
              <p:cNvSpPr/>
              <p:nvPr/>
            </p:nvSpPr>
            <p:spPr>
              <a:xfrm>
                <a:off x="4111200" y="3090240"/>
                <a:ext cx="345600" cy="394560"/>
              </a:xfrm>
              <a:prstGeom prst="ellipse">
                <a:avLst/>
              </a:prstGeom>
              <a:solidFill>
                <a:srgbClr val="feb80a"/>
              </a:solidFill>
              <a:ln w="25560">
                <a:solidFill>
                  <a:srgbClr val="bb86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Овал 94"/>
              <p:cNvSpPr/>
              <p:nvPr/>
            </p:nvSpPr>
            <p:spPr>
              <a:xfrm>
                <a:off x="4214520" y="3207960"/>
                <a:ext cx="34920" cy="39600"/>
              </a:xfrm>
              <a:prstGeom prst="ellipse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Овал 95"/>
              <p:cNvSpPr/>
              <p:nvPr/>
            </p:nvSpPr>
            <p:spPr>
              <a:xfrm>
                <a:off x="4318200" y="3207960"/>
                <a:ext cx="34920" cy="39600"/>
              </a:xfrm>
              <a:prstGeom prst="ellipse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Дуга 96"/>
              <p:cNvSpPr/>
              <p:nvPr/>
            </p:nvSpPr>
            <p:spPr>
              <a:xfrm rot="7134600">
                <a:off x="4202640" y="3202920"/>
                <a:ext cx="154440" cy="170280"/>
              </a:xfrm>
              <a:custGeom>
                <a:avLst/>
                <a:gdLst>
                  <a:gd name="textAreaLeft" fmla="*/ 77400 w 154440"/>
                  <a:gd name="textAreaRight" fmla="*/ 154800 w 154440"/>
                  <a:gd name="textAreaTop" fmla="*/ 0 h 170280"/>
                  <a:gd name="textAreaBottom" fmla="*/ 85320 h 170280"/>
                </a:gdLst>
                <a:ahLst/>
                <a:rect l="textAreaLeft" t="textAreaTop" r="textAreaRight" b="textAreaBottom"/>
                <a:pathLst>
                  <a:path stroke="0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  <a:lnTo>
                      <a:pt x="139701" y="176214"/>
                    </a:lnTo>
                    <a:close/>
                  </a:path>
                  <a:path fill="none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</a:path>
                </a:pathLst>
              </a:custGeom>
              <a:noFill/>
              <a:ln w="38160">
                <a:solidFill>
                  <a:srgbClr val="c32d2e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TextBox 102"/>
            <p:cNvSpPr/>
            <p:nvPr/>
          </p:nvSpPr>
          <p:spPr>
            <a:xfrm>
              <a:off x="4780440" y="3484800"/>
              <a:ext cx="114876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Группа 55"/>
            <p:cNvGrpSpPr/>
            <p:nvPr/>
          </p:nvGrpSpPr>
          <p:grpSpPr>
            <a:xfrm>
              <a:off x="4854240" y="3084480"/>
              <a:ext cx="524160" cy="400320"/>
              <a:chOff x="4854240" y="3084480"/>
              <a:chExt cx="524160" cy="400320"/>
            </a:xfrm>
          </p:grpSpPr>
          <p:sp>
            <p:nvSpPr>
              <p:cNvPr id="409" name="Трапеция 158"/>
              <p:cNvSpPr/>
              <p:nvPr/>
            </p:nvSpPr>
            <p:spPr>
              <a:xfrm rot="18300000">
                <a:off x="4907160" y="3102480"/>
                <a:ext cx="153720" cy="209880"/>
              </a:xfrm>
              <a:custGeom>
                <a:avLst/>
                <a:gdLst>
                  <a:gd name="textAreaLeft" fmla="*/ 25560 w 153720"/>
                  <a:gd name="textAreaRight" fmla="*/ 128160 w 153720"/>
                  <a:gd name="textAreaTop" fmla="*/ 3492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254002" h="539475">
                    <a:moveTo>
                      <a:pt x="0" y="539475"/>
                    </a:moveTo>
                    <a:lnTo>
                      <a:pt x="63501" y="0"/>
                    </a:lnTo>
                    <a:lnTo>
                      <a:pt x="190502" y="0"/>
                    </a:lnTo>
                    <a:lnTo>
                      <a:pt x="254002" y="5394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a7287"/>
                  </a:gs>
                  <a:gs pos="100000">
                    <a:srgbClr val="2398b5"/>
                  </a:gs>
                </a:gsLst>
                <a:lin ang="19500000"/>
              </a:gradFill>
              <a:ln w="9360">
                <a:solidFill>
                  <a:srgbClr val="348fa6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Прямоугольник 159"/>
              <p:cNvSpPr/>
              <p:nvPr/>
            </p:nvSpPr>
            <p:spPr>
              <a:xfrm>
                <a:off x="5046480" y="3096000"/>
                <a:ext cx="248040" cy="388800"/>
              </a:xfrm>
              <a:prstGeom prst="rect">
                <a:avLst/>
              </a:prstGeom>
              <a:gradFill rotWithShape="0">
                <a:gsLst>
                  <a:gs pos="0">
                    <a:srgbClr val="1a7287"/>
                  </a:gs>
                  <a:gs pos="100000">
                    <a:srgbClr val="2398b5"/>
                  </a:gs>
                </a:gsLst>
                <a:lin ang="16200000"/>
              </a:gradFill>
              <a:ln w="9360">
                <a:solidFill>
                  <a:srgbClr val="348fa6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Месяц 160"/>
              <p:cNvSpPr/>
              <p:nvPr/>
            </p:nvSpPr>
            <p:spPr>
              <a:xfrm rot="10800000">
                <a:off x="5295960" y="3096000"/>
                <a:ext cx="82440" cy="388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a7287"/>
                  </a:gs>
                  <a:gs pos="100000">
                    <a:srgbClr val="2398b5"/>
                  </a:gs>
                </a:gsLst>
                <a:lin ang="5400000"/>
              </a:gradFill>
              <a:ln w="9360">
                <a:solidFill>
                  <a:srgbClr val="348fa6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Группа 16"/>
            <p:cNvGrpSpPr/>
            <p:nvPr/>
          </p:nvGrpSpPr>
          <p:grpSpPr>
            <a:xfrm>
              <a:off x="4529520" y="3182400"/>
              <a:ext cx="349560" cy="302400"/>
              <a:chOff x="4529520" y="3182400"/>
              <a:chExt cx="349560" cy="302400"/>
            </a:xfrm>
          </p:grpSpPr>
          <p:sp>
            <p:nvSpPr>
              <p:cNvPr id="413" name="Блок-схема: ручное управление 162"/>
              <p:cNvSpPr/>
              <p:nvPr/>
            </p:nvSpPr>
            <p:spPr>
              <a:xfrm rot="5211600">
                <a:off x="4541400" y="3255120"/>
                <a:ext cx="135000" cy="152280"/>
              </a:xfrm>
              <a:prstGeom prst="flowChartManualOperation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0986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4" name="Группа 83"/>
              <p:cNvGrpSpPr/>
              <p:nvPr/>
            </p:nvGrpSpPr>
            <p:grpSpPr>
              <a:xfrm>
                <a:off x="4721040" y="3182400"/>
                <a:ext cx="158040" cy="302400"/>
                <a:chOff x="4721040" y="3182400"/>
                <a:chExt cx="158040" cy="302400"/>
              </a:xfrm>
            </p:grpSpPr>
            <p:sp>
              <p:nvSpPr>
                <p:cNvPr id="415" name="Прямая соединительная линия 164"/>
                <p:cNvSpPr/>
                <p:nvPr/>
              </p:nvSpPr>
              <p:spPr>
                <a:xfrm flipV="1">
                  <a:off x="4721040" y="3182400"/>
                  <a:ext cx="69480" cy="60480"/>
                </a:xfrm>
                <a:prstGeom prst="line">
                  <a:avLst/>
                </a:prstGeom>
                <a:ln w="25560">
                  <a:solidFill>
                    <a:srgbClr val="475a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Прямая соединительная линия 165"/>
                <p:cNvSpPr/>
                <p:nvPr/>
              </p:nvSpPr>
              <p:spPr>
                <a:xfrm flipV="1">
                  <a:off x="4721040" y="3303360"/>
                  <a:ext cx="91800" cy="2880"/>
                </a:xfrm>
                <a:prstGeom prst="line">
                  <a:avLst/>
                </a:prstGeom>
                <a:ln w="25560">
                  <a:solidFill>
                    <a:srgbClr val="475a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Прямая соединительная линия 166"/>
                <p:cNvSpPr/>
                <p:nvPr/>
              </p:nvSpPr>
              <p:spPr>
                <a:xfrm>
                  <a:off x="4721040" y="3371760"/>
                  <a:ext cx="88560" cy="21960"/>
                </a:xfrm>
                <a:prstGeom prst="line">
                  <a:avLst/>
                </a:prstGeom>
                <a:ln w="25560">
                  <a:solidFill>
                    <a:srgbClr val="475a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Прямая соединительная линия 167"/>
                <p:cNvSpPr/>
                <p:nvPr/>
              </p:nvSpPr>
              <p:spPr>
                <a:xfrm>
                  <a:off x="4790520" y="3341520"/>
                  <a:ext cx="88560" cy="21960"/>
                </a:xfrm>
                <a:prstGeom prst="line">
                  <a:avLst/>
                </a:prstGeom>
                <a:ln w="25560">
                  <a:solidFill>
                    <a:srgbClr val="475a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Прямая соединительная линия 168"/>
                <p:cNvSpPr/>
                <p:nvPr/>
              </p:nvSpPr>
              <p:spPr>
                <a:xfrm flipV="1">
                  <a:off x="4790520" y="3212640"/>
                  <a:ext cx="88560" cy="30240"/>
                </a:xfrm>
                <a:prstGeom prst="line">
                  <a:avLst/>
                </a:prstGeom>
                <a:ln w="25560">
                  <a:solidFill>
                    <a:srgbClr val="475a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Прямая соединительная линия 169"/>
                <p:cNvSpPr/>
                <p:nvPr/>
              </p:nvSpPr>
              <p:spPr>
                <a:xfrm>
                  <a:off x="4721040" y="3424320"/>
                  <a:ext cx="69480" cy="60480"/>
                </a:xfrm>
                <a:prstGeom prst="line">
                  <a:avLst/>
                </a:prstGeom>
                <a:ln w="25560">
                  <a:solidFill>
                    <a:srgbClr val="475a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Прямая соединительная линия 170"/>
                <p:cNvSpPr/>
                <p:nvPr/>
              </p:nvSpPr>
              <p:spPr>
                <a:xfrm>
                  <a:off x="4790520" y="3424320"/>
                  <a:ext cx="88560" cy="52560"/>
                </a:xfrm>
                <a:prstGeom prst="line">
                  <a:avLst/>
                </a:prstGeom>
                <a:ln w="25560">
                  <a:solidFill>
                    <a:srgbClr val="475a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2" name="Овал 26"/>
            <p:cNvSpPr/>
            <p:nvPr/>
          </p:nvSpPr>
          <p:spPr>
            <a:xfrm>
              <a:off x="5459400" y="3076560"/>
              <a:ext cx="349200" cy="387360"/>
            </a:xfrm>
            <a:prstGeom prst="ellipse">
              <a:avLst/>
            </a:prstGeom>
            <a:gradFill rotWithShape="0">
              <a:gsLst>
                <a:gs pos="0">
                  <a:srgbClr val="d89300"/>
                </a:gs>
                <a:gs pos="100000">
                  <a:srgbClr val="ffc500">
                    <a:alpha val="15294"/>
                  </a:srgbClr>
                </a:gs>
              </a:gsLst>
              <a:lin ang="2700000"/>
            </a:gradFill>
            <a:ln w="9360">
              <a:solidFill>
                <a:srgbClr val="feb60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Цилиндр 30"/>
          <p:cNvSpPr/>
          <p:nvPr/>
        </p:nvSpPr>
        <p:spPr>
          <a:xfrm>
            <a:off x="4714920" y="3643200"/>
            <a:ext cx="142920" cy="1009800"/>
          </a:xfrm>
          <a:prstGeom prst="can">
            <a:avLst>
              <a:gd name="adj" fmla="val 5935"/>
            </a:avLst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СПАРАГУС ПЕРИСТЫ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214560" y="4785840"/>
            <a:ext cx="935820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flower_img_625"/>
          <p:cNvPicPr/>
          <p:nvPr/>
        </p:nvPicPr>
        <p:blipFill>
          <a:blip r:embed="rId1"/>
          <a:stretch/>
        </p:blipFill>
        <p:spPr>
          <a:xfrm>
            <a:off x="5857920" y="819000"/>
            <a:ext cx="2922480" cy="389592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58" name="Прямоугольник 4"/>
          <p:cNvSpPr/>
          <p:nvPr/>
        </p:nvSpPr>
        <p:spPr>
          <a:xfrm>
            <a:off x="250920" y="826920"/>
            <a:ext cx="540072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, рассеянный, может расти и в т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ренная,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20-25°C (не выше 25°С), в осенне-зимний период 12-15°С, не ниже 5-8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етом обильный, в зимнее время полив сокращают, следя, чтобы субстрат не пересох, но и так же не был сильно переувлажн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ысок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285840" y="3429000"/>
            <a:ext cx="4357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Группа 16"/>
          <p:cNvGrpSpPr/>
          <p:nvPr/>
        </p:nvGrpSpPr>
        <p:grpSpPr>
          <a:xfrm>
            <a:off x="428760" y="3571920"/>
            <a:ext cx="714240" cy="714240"/>
            <a:chOff x="428760" y="3571920"/>
            <a:chExt cx="714240" cy="714240"/>
          </a:xfrm>
        </p:grpSpPr>
        <p:sp>
          <p:nvSpPr>
            <p:cNvPr id="61" name="Овал 7"/>
            <p:cNvSpPr/>
            <p:nvPr/>
          </p:nvSpPr>
          <p:spPr>
            <a:xfrm>
              <a:off x="428760" y="3571920"/>
              <a:ext cx="714240" cy="71424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Овал 8"/>
            <p:cNvSpPr/>
            <p:nvPr/>
          </p:nvSpPr>
          <p:spPr>
            <a:xfrm>
              <a:off x="642960" y="37861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Овал 9"/>
            <p:cNvSpPr/>
            <p:nvPr/>
          </p:nvSpPr>
          <p:spPr>
            <a:xfrm>
              <a:off x="857160" y="37861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Дуга 10"/>
            <p:cNvSpPr/>
            <p:nvPr/>
          </p:nvSpPr>
          <p:spPr>
            <a:xfrm rot="7134600">
              <a:off x="637560" y="3754080"/>
              <a:ext cx="279360" cy="352440"/>
            </a:xfrm>
            <a:custGeom>
              <a:avLst/>
              <a:gdLst>
                <a:gd name="textAreaLeft" fmla="*/ 139680 w 279360"/>
                <a:gd name="textAreaRight" fmla="*/ 279720 w 27936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  <a:lnTo>
                    <a:pt x="139701" y="176214"/>
                  </a:lnTo>
                  <a:close/>
                </a:path>
                <a:path fill="none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Овал 11"/>
          <p:cNvSpPr/>
          <p:nvPr/>
        </p:nvSpPr>
        <p:spPr>
          <a:xfrm>
            <a:off x="3786120" y="3500280"/>
            <a:ext cx="785880" cy="785880"/>
          </a:xfrm>
          <a:prstGeom prst="ellipse">
            <a:avLst/>
          </a:prstGeom>
          <a:gradFill rotWithShape="0">
            <a:gsLst>
              <a:gs pos="0">
                <a:srgbClr val="d89300"/>
              </a:gs>
              <a:gs pos="100000">
                <a:srgbClr val="ffc500">
                  <a:alpha val="15294"/>
                </a:srgbClr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Группа 55"/>
          <p:cNvGrpSpPr/>
          <p:nvPr/>
        </p:nvGrpSpPr>
        <p:grpSpPr>
          <a:xfrm>
            <a:off x="2190960" y="3567960"/>
            <a:ext cx="1307520" cy="718200"/>
            <a:chOff x="2190960" y="3567960"/>
            <a:chExt cx="1307520" cy="718200"/>
          </a:xfrm>
        </p:grpSpPr>
        <p:sp>
          <p:nvSpPr>
            <p:cNvPr id="67" name="Трапеция 13"/>
            <p:cNvSpPr/>
            <p:nvPr/>
          </p:nvSpPr>
          <p:spPr>
            <a:xfrm rot="18300000">
              <a:off x="2357640" y="3556800"/>
              <a:ext cx="253800" cy="53964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9000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54002" h="539475">
                  <a:moveTo>
                    <a:pt x="0" y="539475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475"/>
                  </a:lnTo>
                  <a:close/>
                </a:path>
              </a:pathLst>
            </a:cu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95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оугольник 14"/>
            <p:cNvSpPr/>
            <p:nvPr/>
          </p:nvSpPr>
          <p:spPr>
            <a:xfrm>
              <a:off x="2641680" y="364320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Месяц 15"/>
            <p:cNvSpPr/>
            <p:nvPr/>
          </p:nvSpPr>
          <p:spPr>
            <a:xfrm rot="10800000">
              <a:off x="3284280" y="364320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Группа 16"/>
          <p:cNvGrpSpPr/>
          <p:nvPr/>
        </p:nvGrpSpPr>
        <p:grpSpPr>
          <a:xfrm>
            <a:off x="1279080" y="3642840"/>
            <a:ext cx="767160" cy="572040"/>
            <a:chOff x="1279080" y="3642840"/>
            <a:chExt cx="767160" cy="572040"/>
          </a:xfrm>
        </p:grpSpPr>
        <p:sp>
          <p:nvSpPr>
            <p:cNvPr id="71" name="Блок-схема: ручное управление 17"/>
            <p:cNvSpPr/>
            <p:nvPr/>
          </p:nvSpPr>
          <p:spPr>
            <a:xfrm rot="5211600">
              <a:off x="1324440" y="3756600"/>
              <a:ext cx="257400" cy="334800"/>
            </a:xfrm>
            <a:prstGeom prst="flowChartManualOperation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0986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Группа 83"/>
            <p:cNvGrpSpPr/>
            <p:nvPr/>
          </p:nvGrpSpPr>
          <p:grpSpPr>
            <a:xfrm>
              <a:off x="1698480" y="3642840"/>
              <a:ext cx="347760" cy="572040"/>
              <a:chOff x="1698480" y="3642840"/>
              <a:chExt cx="347760" cy="572040"/>
            </a:xfrm>
          </p:grpSpPr>
          <p:sp>
            <p:nvSpPr>
              <p:cNvPr id="73" name="Прямая соединительная линия 19"/>
              <p:cNvSpPr/>
              <p:nvPr/>
            </p:nvSpPr>
            <p:spPr>
              <a:xfrm flipV="1">
                <a:off x="1698480" y="3642840"/>
                <a:ext cx="152280" cy="1141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Прямая соединительная линия 20"/>
              <p:cNvSpPr/>
              <p:nvPr/>
            </p:nvSpPr>
            <p:spPr>
              <a:xfrm flipV="1">
                <a:off x="1698480" y="3871800"/>
                <a:ext cx="203400" cy="79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Прямая соединительная линия 21"/>
              <p:cNvSpPr/>
              <p:nvPr/>
            </p:nvSpPr>
            <p:spPr>
              <a:xfrm>
                <a:off x="1698480" y="4002120"/>
                <a:ext cx="195480" cy="4104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22"/>
              <p:cNvSpPr/>
              <p:nvPr/>
            </p:nvSpPr>
            <p:spPr>
              <a:xfrm>
                <a:off x="1850760" y="3944880"/>
                <a:ext cx="195480" cy="4104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23"/>
              <p:cNvSpPr/>
              <p:nvPr/>
            </p:nvSpPr>
            <p:spPr>
              <a:xfrm flipV="1">
                <a:off x="1850760" y="3700080"/>
                <a:ext cx="195480" cy="5688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Прямая соединительная линия 24"/>
              <p:cNvSpPr/>
              <p:nvPr/>
            </p:nvSpPr>
            <p:spPr>
              <a:xfrm>
                <a:off x="1698480" y="4100760"/>
                <a:ext cx="152280" cy="1141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Прямая соединительная линия 25"/>
              <p:cNvSpPr/>
              <p:nvPr/>
            </p:nvSpPr>
            <p:spPr>
              <a:xfrm>
                <a:off x="1850760" y="4100760"/>
                <a:ext cx="195480" cy="9828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ЛОЭ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214560" y="4785840"/>
            <a:ext cx="935820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250920" y="826920"/>
            <a:ext cx="540072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, в зимнее время при недостатке солнечного света необходимо создать искусственное освещение люминесцентными ламп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22-26°C, зимой оптимальная температура 12-14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етом обильный, в зимнее время полив сокращают, следя, чтобы между поливами субстрат выс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редняя или низк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/>
          <p:cNvSpPr/>
          <p:nvPr/>
        </p:nvSpPr>
        <p:spPr>
          <a:xfrm>
            <a:off x="285840" y="3643200"/>
            <a:ext cx="4357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Группа 16"/>
          <p:cNvGrpSpPr/>
          <p:nvPr/>
        </p:nvGrpSpPr>
        <p:grpSpPr>
          <a:xfrm>
            <a:off x="428760" y="3786120"/>
            <a:ext cx="714240" cy="714600"/>
            <a:chOff x="428760" y="3786120"/>
            <a:chExt cx="714240" cy="714600"/>
          </a:xfrm>
        </p:grpSpPr>
        <p:sp>
          <p:nvSpPr>
            <p:cNvPr id="85" name="Овал 7"/>
            <p:cNvSpPr/>
            <p:nvPr/>
          </p:nvSpPr>
          <p:spPr>
            <a:xfrm>
              <a:off x="428760" y="378612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Овал 8"/>
            <p:cNvSpPr/>
            <p:nvPr/>
          </p:nvSpPr>
          <p:spPr>
            <a:xfrm>
              <a:off x="642960" y="4000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Овал 9"/>
            <p:cNvSpPr/>
            <p:nvPr/>
          </p:nvSpPr>
          <p:spPr>
            <a:xfrm>
              <a:off x="857160" y="4000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Дуга 10"/>
            <p:cNvSpPr/>
            <p:nvPr/>
          </p:nvSpPr>
          <p:spPr>
            <a:xfrm rot="7134600">
              <a:off x="637560" y="3968640"/>
              <a:ext cx="279360" cy="352440"/>
            </a:xfrm>
            <a:custGeom>
              <a:avLst/>
              <a:gdLst>
                <a:gd name="textAreaLeft" fmla="*/ 139680 w 279360"/>
                <a:gd name="textAreaRight" fmla="*/ 279720 w 27936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  <a:lnTo>
                    <a:pt x="139701" y="176214"/>
                  </a:lnTo>
                  <a:close/>
                </a:path>
                <a:path fill="none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5786280" y="785880"/>
            <a:ext cx="3071880" cy="3929040"/>
          </a:xfrm>
          <a:prstGeom prst="rect">
            <a:avLst/>
          </a:prstGeom>
          <a:ln w="0">
            <a:noFill/>
          </a:ln>
        </p:spPr>
      </p:pic>
      <p:grpSp>
        <p:nvGrpSpPr>
          <p:cNvPr id="90" name="Группа 76"/>
          <p:cNvGrpSpPr/>
          <p:nvPr/>
        </p:nvGrpSpPr>
        <p:grpSpPr>
          <a:xfrm>
            <a:off x="1428840" y="3786120"/>
            <a:ext cx="642960" cy="714600"/>
            <a:chOff x="1428840" y="3786120"/>
            <a:chExt cx="642960" cy="714600"/>
          </a:xfrm>
        </p:grpSpPr>
        <p:sp>
          <p:nvSpPr>
            <p:cNvPr id="91" name="Прямоугольник 31"/>
            <p:cNvSpPr/>
            <p:nvPr/>
          </p:nvSpPr>
          <p:spPr>
            <a:xfrm>
              <a:off x="1428840" y="378612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рямая соединительная линия 32"/>
            <p:cNvSpPr/>
            <p:nvPr/>
          </p:nvSpPr>
          <p:spPr>
            <a:xfrm flipH="1">
              <a:off x="1641600" y="4143240"/>
              <a:ext cx="1440" cy="35748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Овал 33"/>
            <p:cNvSpPr/>
            <p:nvPr/>
          </p:nvSpPr>
          <p:spPr>
            <a:xfrm>
              <a:off x="1571760" y="4357800"/>
              <a:ext cx="142920" cy="14292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65"/>
            <p:cNvSpPr/>
            <p:nvPr/>
          </p:nvSpPr>
          <p:spPr>
            <a:xfrm>
              <a:off x="1428840" y="38098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Группа 78"/>
          <p:cNvGrpSpPr/>
          <p:nvPr/>
        </p:nvGrpSpPr>
        <p:grpSpPr>
          <a:xfrm>
            <a:off x="1905120" y="3782520"/>
            <a:ext cx="1307520" cy="718200"/>
            <a:chOff x="1905120" y="3782520"/>
            <a:chExt cx="1307520" cy="718200"/>
          </a:xfrm>
        </p:grpSpPr>
        <p:sp>
          <p:nvSpPr>
            <p:cNvPr id="96" name="Трапеция 36"/>
            <p:cNvSpPr/>
            <p:nvPr/>
          </p:nvSpPr>
          <p:spPr>
            <a:xfrm rot="18300000">
              <a:off x="2071800" y="3771360"/>
              <a:ext cx="253800" cy="53964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8964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54000" h="539750">
                  <a:moveTo>
                    <a:pt x="0" y="539750"/>
                  </a:moveTo>
                  <a:lnTo>
                    <a:pt x="63500" y="0"/>
                  </a:lnTo>
                  <a:lnTo>
                    <a:pt x="190500" y="0"/>
                  </a:lnTo>
                  <a:lnTo>
                    <a:pt x="254000" y="539750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Прямоугольник 37"/>
            <p:cNvSpPr/>
            <p:nvPr/>
          </p:nvSpPr>
          <p:spPr>
            <a:xfrm>
              <a:off x="2355840" y="38577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Месяц 38"/>
            <p:cNvSpPr/>
            <p:nvPr/>
          </p:nvSpPr>
          <p:spPr>
            <a:xfrm rot="10800000">
              <a:off x="2998440" y="38577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Пятно 1 39"/>
          <p:cNvGrpSpPr/>
          <p:nvPr/>
        </p:nvGrpSpPr>
        <p:grpSpPr>
          <a:xfrm>
            <a:off x="3224160" y="3608280"/>
            <a:ext cx="1262160" cy="1176480"/>
            <a:chOff x="3224160" y="3608280"/>
            <a:chExt cx="1262160" cy="1176480"/>
          </a:xfrm>
        </p:grpSpPr>
        <p:pic>
          <p:nvPicPr>
            <p:cNvPr id="100" name="Пятно 1 39" descr=""/>
            <p:cNvPicPr/>
            <p:nvPr/>
          </p:nvPicPr>
          <p:blipFill>
            <a:blip r:embed="rId2"/>
            <a:stretch/>
          </p:blipFill>
          <p:spPr>
            <a:xfrm>
              <a:off x="3224160" y="3608280"/>
              <a:ext cx="12621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530520" y="3957480"/>
              <a:ext cx="639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ГАВ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214560" y="5643720"/>
            <a:ext cx="93582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250920" y="826920"/>
            <a:ext cx="5321160" cy="36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, без притенения. Можно выращивать без солнечного света, используя лампы в течение 16 часов в с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ренная с весны до осени. Зимой (октябрь-февраль) устойчивые виды содержат при температуре 6-8°С, а теплолюбивые при 10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весны до осени по мере подсыхания почвы, зимой умеренно. Не переносит переувлажнения почвы, поэтому необходим хороший дрена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еобходим свежий воздух - летом помещение следует проветривать. В опрыскивании не нужд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5"/>
          <p:cNvSpPr/>
          <p:nvPr/>
        </p:nvSpPr>
        <p:spPr>
          <a:xfrm>
            <a:off x="285840" y="4643280"/>
            <a:ext cx="4357440" cy="100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Группа 16"/>
          <p:cNvGrpSpPr/>
          <p:nvPr/>
        </p:nvGrpSpPr>
        <p:grpSpPr>
          <a:xfrm>
            <a:off x="428760" y="4786200"/>
            <a:ext cx="714240" cy="714600"/>
            <a:chOff x="428760" y="4786200"/>
            <a:chExt cx="714240" cy="714600"/>
          </a:xfrm>
        </p:grpSpPr>
        <p:sp>
          <p:nvSpPr>
            <p:cNvPr id="107" name="Овал 7"/>
            <p:cNvSpPr/>
            <p:nvPr/>
          </p:nvSpPr>
          <p:spPr>
            <a:xfrm>
              <a:off x="428760" y="478620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Овал 8"/>
            <p:cNvSpPr/>
            <p:nvPr/>
          </p:nvSpPr>
          <p:spPr>
            <a:xfrm>
              <a:off x="642960" y="500040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Овал 9"/>
            <p:cNvSpPr/>
            <p:nvPr/>
          </p:nvSpPr>
          <p:spPr>
            <a:xfrm>
              <a:off x="857160" y="500040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Дуга 10"/>
            <p:cNvSpPr/>
            <p:nvPr/>
          </p:nvSpPr>
          <p:spPr>
            <a:xfrm rot="7134600">
              <a:off x="637560" y="4968720"/>
              <a:ext cx="279360" cy="352440"/>
            </a:xfrm>
            <a:custGeom>
              <a:avLst/>
              <a:gdLst>
                <a:gd name="textAreaLeft" fmla="*/ 139680 w 279360"/>
                <a:gd name="textAreaRight" fmla="*/ 279720 w 27936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  <a:lnTo>
                    <a:pt x="139701" y="176214"/>
                  </a:lnTo>
                  <a:close/>
                </a:path>
                <a:path fill="none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76"/>
          <p:cNvGrpSpPr/>
          <p:nvPr/>
        </p:nvGrpSpPr>
        <p:grpSpPr>
          <a:xfrm>
            <a:off x="1428840" y="4786200"/>
            <a:ext cx="642960" cy="714600"/>
            <a:chOff x="1428840" y="4786200"/>
            <a:chExt cx="642960" cy="714600"/>
          </a:xfrm>
        </p:grpSpPr>
        <p:sp>
          <p:nvSpPr>
            <p:cNvPr id="112" name="Прямоугольник 31"/>
            <p:cNvSpPr/>
            <p:nvPr/>
          </p:nvSpPr>
          <p:spPr>
            <a:xfrm>
              <a:off x="1428840" y="478620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рямая соединительная линия 32"/>
            <p:cNvSpPr/>
            <p:nvPr/>
          </p:nvSpPr>
          <p:spPr>
            <a:xfrm flipH="1">
              <a:off x="1641600" y="5143320"/>
              <a:ext cx="1440" cy="35748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Овал 33"/>
            <p:cNvSpPr/>
            <p:nvPr/>
          </p:nvSpPr>
          <p:spPr>
            <a:xfrm>
              <a:off x="1571760" y="5357880"/>
              <a:ext cx="142920" cy="14292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65"/>
            <p:cNvSpPr/>
            <p:nvPr/>
          </p:nvSpPr>
          <p:spPr>
            <a:xfrm>
              <a:off x="1428840" y="480996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Группа 78"/>
          <p:cNvGrpSpPr/>
          <p:nvPr/>
        </p:nvGrpSpPr>
        <p:grpSpPr>
          <a:xfrm>
            <a:off x="1905120" y="4782600"/>
            <a:ext cx="1307520" cy="718200"/>
            <a:chOff x="1905120" y="4782600"/>
            <a:chExt cx="1307520" cy="718200"/>
          </a:xfrm>
        </p:grpSpPr>
        <p:sp>
          <p:nvSpPr>
            <p:cNvPr id="117" name="Трапеция 36"/>
            <p:cNvSpPr/>
            <p:nvPr/>
          </p:nvSpPr>
          <p:spPr>
            <a:xfrm rot="18300000">
              <a:off x="2071800" y="4771440"/>
              <a:ext cx="253800" cy="53964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8964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54000" h="539750">
                  <a:moveTo>
                    <a:pt x="0" y="539750"/>
                  </a:moveTo>
                  <a:lnTo>
                    <a:pt x="63500" y="0"/>
                  </a:lnTo>
                  <a:lnTo>
                    <a:pt x="190500" y="0"/>
                  </a:lnTo>
                  <a:lnTo>
                    <a:pt x="254000" y="539750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оугольник 37"/>
            <p:cNvSpPr/>
            <p:nvPr/>
          </p:nvSpPr>
          <p:spPr>
            <a:xfrm>
              <a:off x="2355840" y="485784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Месяц 38"/>
            <p:cNvSpPr/>
            <p:nvPr/>
          </p:nvSpPr>
          <p:spPr>
            <a:xfrm rot="10800000">
              <a:off x="2998440" y="485784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Пятно 1 39"/>
          <p:cNvGrpSpPr/>
          <p:nvPr/>
        </p:nvGrpSpPr>
        <p:grpSpPr>
          <a:xfrm>
            <a:off x="3224160" y="4608360"/>
            <a:ext cx="1262160" cy="1182960"/>
            <a:chOff x="3224160" y="4608360"/>
            <a:chExt cx="1262160" cy="1182960"/>
          </a:xfrm>
        </p:grpSpPr>
        <p:pic>
          <p:nvPicPr>
            <p:cNvPr id="121" name="Пятно 1 39" descr=""/>
            <p:cNvPicPr/>
            <p:nvPr/>
          </p:nvPicPr>
          <p:blipFill>
            <a:blip r:embed="rId1"/>
            <a:stretch/>
          </p:blipFill>
          <p:spPr>
            <a:xfrm>
              <a:off x="3224160" y="4608360"/>
              <a:ext cx="126216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530520" y="4957920"/>
              <a:ext cx="6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857920" y="785880"/>
            <a:ext cx="30765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словные обозна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285840" y="2428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285840" y="377352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тношение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285840" y="1285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ынослив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357120" y="53452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л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Группа 16"/>
          <p:cNvGrpSpPr/>
          <p:nvPr/>
        </p:nvGrpSpPr>
        <p:grpSpPr>
          <a:xfrm>
            <a:off x="2928960" y="1000080"/>
            <a:ext cx="714240" cy="714600"/>
            <a:chOff x="2928960" y="1000080"/>
            <a:chExt cx="714240" cy="714600"/>
          </a:xfrm>
        </p:grpSpPr>
        <p:sp>
          <p:nvSpPr>
            <p:cNvPr id="130" name="Овал 8"/>
            <p:cNvSpPr/>
            <p:nvPr/>
          </p:nvSpPr>
          <p:spPr>
            <a:xfrm>
              <a:off x="2928960" y="100008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Овал 9"/>
            <p:cNvSpPr/>
            <p:nvPr/>
          </p:nvSpPr>
          <p:spPr>
            <a:xfrm>
              <a:off x="3143160" y="12142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Овал 10"/>
            <p:cNvSpPr/>
            <p:nvPr/>
          </p:nvSpPr>
          <p:spPr>
            <a:xfrm>
              <a:off x="3357360" y="12142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Дуга 11"/>
            <p:cNvSpPr/>
            <p:nvPr/>
          </p:nvSpPr>
          <p:spPr>
            <a:xfrm rot="7134600">
              <a:off x="3137760" y="1182600"/>
              <a:ext cx="279360" cy="352440"/>
            </a:xfrm>
            <a:custGeom>
              <a:avLst/>
              <a:gdLst>
                <a:gd name="textAreaLeft" fmla="*/ 139680 w 279360"/>
                <a:gd name="textAreaRight" fmla="*/ 279720 w 27936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  <a:lnTo>
                    <a:pt x="139701" y="176214"/>
                  </a:lnTo>
                  <a:close/>
                </a:path>
                <a:path fill="none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Группа 17"/>
          <p:cNvGrpSpPr/>
          <p:nvPr/>
        </p:nvGrpSpPr>
        <p:grpSpPr>
          <a:xfrm>
            <a:off x="4714920" y="1000080"/>
            <a:ext cx="714240" cy="857160"/>
            <a:chOff x="4714920" y="1000080"/>
            <a:chExt cx="714240" cy="857160"/>
          </a:xfrm>
        </p:grpSpPr>
        <p:sp>
          <p:nvSpPr>
            <p:cNvPr id="135" name="Овал 12"/>
            <p:cNvSpPr/>
            <p:nvPr/>
          </p:nvSpPr>
          <p:spPr>
            <a:xfrm>
              <a:off x="4714920" y="100008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Овал 13"/>
            <p:cNvSpPr/>
            <p:nvPr/>
          </p:nvSpPr>
          <p:spPr>
            <a:xfrm>
              <a:off x="4929120" y="12142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Овал 14"/>
            <p:cNvSpPr/>
            <p:nvPr/>
          </p:nvSpPr>
          <p:spPr>
            <a:xfrm>
              <a:off x="5143320" y="12142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Дуга 15"/>
            <p:cNvSpPr/>
            <p:nvPr/>
          </p:nvSpPr>
          <p:spPr>
            <a:xfrm rot="18406200">
              <a:off x="4991760" y="1463040"/>
              <a:ext cx="280800" cy="352440"/>
            </a:xfrm>
            <a:custGeom>
              <a:avLst/>
              <a:gdLst>
                <a:gd name="textAreaLeft" fmla="*/ 140400 w 280800"/>
                <a:gd name="textAreaRight" fmla="*/ 281160 w 28080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81011" h="352427">
                  <a:moveTo>
                    <a:pt x="140506" y="0"/>
                  </a:moveTo>
                  <a:lnTo>
                    <a:pt x="140506" y="0"/>
                  </a:lnTo>
                  <a:arcTo wR="140506" hR="176214" stAng="-5400000" swAng="5400000"/>
                  <a:lnTo>
                    <a:pt x="140506" y="176214"/>
                  </a:lnTo>
                  <a:close/>
                </a:path>
                <a:path fill="none" w="281011" h="352427">
                  <a:moveTo>
                    <a:pt x="140506" y="0"/>
                  </a:moveTo>
                  <a:lnTo>
                    <a:pt x="140506" y="0"/>
                  </a:lnTo>
                  <a:arcTo wR="140506" hR="176214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ая соединительная линия 19"/>
          <p:cNvSpPr/>
          <p:nvPr/>
        </p:nvSpPr>
        <p:spPr>
          <a:xfrm>
            <a:off x="285840" y="2071800"/>
            <a:ext cx="8715240" cy="144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0"/>
          <p:cNvSpPr/>
          <p:nvPr/>
        </p:nvSpPr>
        <p:spPr>
          <a:xfrm>
            <a:off x="285840" y="3284640"/>
            <a:ext cx="8715240" cy="144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1"/>
          <p:cNvSpPr/>
          <p:nvPr/>
        </p:nvSpPr>
        <p:spPr>
          <a:xfrm>
            <a:off x="285840" y="4713120"/>
            <a:ext cx="8715240" cy="180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2"/>
          <p:cNvSpPr/>
          <p:nvPr/>
        </p:nvSpPr>
        <p:spPr>
          <a:xfrm>
            <a:off x="285840" y="6427800"/>
            <a:ext cx="8715240" cy="144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23"/>
          <p:cNvSpPr/>
          <p:nvPr/>
        </p:nvSpPr>
        <p:spPr>
          <a:xfrm>
            <a:off x="285840" y="785880"/>
            <a:ext cx="8715240" cy="144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24"/>
          <p:cNvSpPr/>
          <p:nvPr/>
        </p:nvSpPr>
        <p:spPr>
          <a:xfrm>
            <a:off x="285840" y="785880"/>
            <a:ext cx="0" cy="56433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27"/>
          <p:cNvSpPr/>
          <p:nvPr/>
        </p:nvSpPr>
        <p:spPr>
          <a:xfrm>
            <a:off x="2500200" y="785880"/>
            <a:ext cx="0" cy="56433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28"/>
          <p:cNvSpPr/>
          <p:nvPr/>
        </p:nvSpPr>
        <p:spPr>
          <a:xfrm>
            <a:off x="4143240" y="785880"/>
            <a:ext cx="0" cy="56433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29"/>
          <p:cNvSpPr/>
          <p:nvPr/>
        </p:nvSpPr>
        <p:spPr>
          <a:xfrm flipH="1">
            <a:off x="5785920" y="785880"/>
            <a:ext cx="1800" cy="56451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0"/>
          <p:cNvSpPr/>
          <p:nvPr/>
        </p:nvSpPr>
        <p:spPr>
          <a:xfrm flipH="1">
            <a:off x="7358040" y="785880"/>
            <a:ext cx="1440" cy="56451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1"/>
          <p:cNvSpPr/>
          <p:nvPr/>
        </p:nvSpPr>
        <p:spPr>
          <a:xfrm flipH="1">
            <a:off x="9000720" y="785880"/>
            <a:ext cx="1800" cy="56451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2"/>
          <p:cNvSpPr/>
          <p:nvPr/>
        </p:nvSpPr>
        <p:spPr>
          <a:xfrm>
            <a:off x="2643120" y="17859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ыносли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3"/>
          <p:cNvSpPr/>
          <p:nvPr/>
        </p:nvSpPr>
        <p:spPr>
          <a:xfrm>
            <a:off x="4357800" y="178596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приз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4"/>
          <p:cNvSpPr/>
          <p:nvPr/>
        </p:nvSpPr>
        <p:spPr>
          <a:xfrm>
            <a:off x="2500200" y="294804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ычная  тем-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5"/>
          <p:cNvSpPr/>
          <p:nvPr/>
        </p:nvSpPr>
        <p:spPr>
          <a:xfrm>
            <a:off x="4214880" y="2786040"/>
            <a:ext cx="17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улярное опрыск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6"/>
          <p:cNvSpPr/>
          <p:nvPr/>
        </p:nvSpPr>
        <p:spPr>
          <a:xfrm>
            <a:off x="2500200" y="567072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роше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5"/>
          <p:cNvSpPr/>
          <p:nvPr/>
        </p:nvSpPr>
        <p:spPr>
          <a:xfrm>
            <a:off x="4143240" y="564372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гко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6"/>
          <p:cNvSpPr/>
          <p:nvPr/>
        </p:nvSpPr>
        <p:spPr>
          <a:xfrm>
            <a:off x="5715000" y="5845320"/>
            <a:ext cx="178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оянно влажная  зем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7"/>
          <p:cNvSpPr/>
          <p:nvPr/>
        </p:nvSpPr>
        <p:spPr>
          <a:xfrm>
            <a:off x="7286760" y="5845320"/>
            <a:ext cx="178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воды в поддо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8"/>
          <p:cNvSpPr/>
          <p:nvPr/>
        </p:nvSpPr>
        <p:spPr>
          <a:xfrm>
            <a:off x="2550960" y="4376880"/>
            <a:ext cx="15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ямые лу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9"/>
          <p:cNvSpPr/>
          <p:nvPr/>
        </p:nvSpPr>
        <p:spPr>
          <a:xfrm>
            <a:off x="4140360" y="436572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еянный с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0"/>
          <p:cNvSpPr/>
          <p:nvPr/>
        </p:nvSpPr>
        <p:spPr>
          <a:xfrm>
            <a:off x="6000840" y="435780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ут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1"/>
          <p:cNvSpPr/>
          <p:nvPr/>
        </p:nvSpPr>
        <p:spPr>
          <a:xfrm>
            <a:off x="7715160" y="435780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н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Пятно 1 40"/>
          <p:cNvGrpSpPr/>
          <p:nvPr/>
        </p:nvGrpSpPr>
        <p:grpSpPr>
          <a:xfrm>
            <a:off x="2724120" y="3322800"/>
            <a:ext cx="1262160" cy="1182600"/>
            <a:chOff x="2724120" y="3322800"/>
            <a:chExt cx="1262160" cy="1182600"/>
          </a:xfrm>
        </p:grpSpPr>
        <p:pic>
          <p:nvPicPr>
            <p:cNvPr id="163" name="Пятно 1 40" descr=""/>
            <p:cNvPicPr/>
            <p:nvPr/>
          </p:nvPicPr>
          <p:blipFill>
            <a:blip r:embed="rId1"/>
            <a:stretch/>
          </p:blipFill>
          <p:spPr>
            <a:xfrm>
              <a:off x="2724120" y="3322800"/>
              <a:ext cx="12621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3030480" y="3672000"/>
              <a:ext cx="6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Овал 41"/>
          <p:cNvSpPr/>
          <p:nvPr/>
        </p:nvSpPr>
        <p:spPr>
          <a:xfrm>
            <a:off x="4572000" y="3500280"/>
            <a:ext cx="785880" cy="785880"/>
          </a:xfrm>
          <a:prstGeom prst="ellipse">
            <a:avLst/>
          </a:prstGeom>
          <a:gradFill rotWithShape="0">
            <a:gsLst>
              <a:gs pos="0">
                <a:srgbClr val="d89300"/>
              </a:gs>
              <a:gs pos="100000">
                <a:srgbClr val="ffc500">
                  <a:alpha val="15294"/>
                </a:srgbClr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42"/>
          <p:cNvSpPr/>
          <p:nvPr/>
        </p:nvSpPr>
        <p:spPr>
          <a:xfrm>
            <a:off x="6215040" y="3500280"/>
            <a:ext cx="785880" cy="78588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Овал 43"/>
          <p:cNvGrpSpPr/>
          <p:nvPr/>
        </p:nvGrpSpPr>
        <p:grpSpPr>
          <a:xfrm>
            <a:off x="7796160" y="3462480"/>
            <a:ext cx="903240" cy="896760"/>
            <a:chOff x="7796160" y="3462480"/>
            <a:chExt cx="903240" cy="896760"/>
          </a:xfrm>
        </p:grpSpPr>
        <p:pic>
          <p:nvPicPr>
            <p:cNvPr id="168" name="Овал 43" descr=""/>
            <p:cNvPicPr/>
            <p:nvPr/>
          </p:nvPicPr>
          <p:blipFill>
            <a:blip r:embed="rId2"/>
            <a:stretch/>
          </p:blipFill>
          <p:spPr>
            <a:xfrm>
              <a:off x="7796160" y="3462480"/>
              <a:ext cx="90324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974000" y="361476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Группа 78"/>
          <p:cNvGrpSpPr/>
          <p:nvPr/>
        </p:nvGrpSpPr>
        <p:grpSpPr>
          <a:xfrm>
            <a:off x="2621160" y="4925520"/>
            <a:ext cx="1307520" cy="718200"/>
            <a:chOff x="2621160" y="4925520"/>
            <a:chExt cx="1307520" cy="718200"/>
          </a:xfrm>
        </p:grpSpPr>
        <p:sp>
          <p:nvSpPr>
            <p:cNvPr id="171" name="Трапеция 46"/>
            <p:cNvSpPr/>
            <p:nvPr/>
          </p:nvSpPr>
          <p:spPr>
            <a:xfrm rot="18300000">
              <a:off x="2787840" y="4914360"/>
              <a:ext cx="253800" cy="53964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8964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54000" h="539750">
                  <a:moveTo>
                    <a:pt x="0" y="539750"/>
                  </a:moveTo>
                  <a:lnTo>
                    <a:pt x="63500" y="0"/>
                  </a:lnTo>
                  <a:lnTo>
                    <a:pt x="190500" y="0"/>
                  </a:lnTo>
                  <a:lnTo>
                    <a:pt x="254000" y="539750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Прямоугольник 44"/>
            <p:cNvSpPr/>
            <p:nvPr/>
          </p:nvSpPr>
          <p:spPr>
            <a:xfrm>
              <a:off x="3071880" y="50007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Месяц 45"/>
            <p:cNvSpPr/>
            <p:nvPr/>
          </p:nvSpPr>
          <p:spPr>
            <a:xfrm rot="10800000">
              <a:off x="3714480" y="50007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Группа 55"/>
          <p:cNvGrpSpPr/>
          <p:nvPr/>
        </p:nvGrpSpPr>
        <p:grpSpPr>
          <a:xfrm>
            <a:off x="5857920" y="4925520"/>
            <a:ext cx="1307520" cy="718200"/>
            <a:chOff x="5857920" y="4925520"/>
            <a:chExt cx="1307520" cy="718200"/>
          </a:xfrm>
        </p:grpSpPr>
        <p:sp>
          <p:nvSpPr>
            <p:cNvPr id="175" name="Трапеция 50"/>
            <p:cNvSpPr/>
            <p:nvPr/>
          </p:nvSpPr>
          <p:spPr>
            <a:xfrm rot="18300000">
              <a:off x="6024600" y="4914360"/>
              <a:ext cx="253800" cy="53964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9000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54002" h="539475">
                  <a:moveTo>
                    <a:pt x="0" y="539475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475"/>
                  </a:lnTo>
                  <a:close/>
                </a:path>
              </a:pathLst>
            </a:cu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95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оугольник 51"/>
            <p:cNvSpPr/>
            <p:nvPr/>
          </p:nvSpPr>
          <p:spPr>
            <a:xfrm>
              <a:off x="6308640" y="50007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Месяц 52"/>
            <p:cNvSpPr/>
            <p:nvPr/>
          </p:nvSpPr>
          <p:spPr>
            <a:xfrm rot="10800000">
              <a:off x="6951240" y="50007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Группа 56"/>
          <p:cNvGrpSpPr/>
          <p:nvPr/>
        </p:nvGrpSpPr>
        <p:grpSpPr>
          <a:xfrm>
            <a:off x="4214880" y="4928400"/>
            <a:ext cx="1285560" cy="718200"/>
            <a:chOff x="4214880" y="4928400"/>
            <a:chExt cx="1285560" cy="718200"/>
          </a:xfrm>
        </p:grpSpPr>
        <p:sp>
          <p:nvSpPr>
            <p:cNvPr id="179" name="Трапеция 47"/>
            <p:cNvSpPr/>
            <p:nvPr/>
          </p:nvSpPr>
          <p:spPr>
            <a:xfrm rot="18300000">
              <a:off x="4381560" y="4917240"/>
              <a:ext cx="253800" cy="53964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90000 h 539640"/>
                <a:gd name="textAreaBottom" fmla="*/ 539640 h 53964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Прямоугольник 48"/>
            <p:cNvSpPr/>
            <p:nvPr/>
          </p:nvSpPr>
          <p:spPr>
            <a:xfrm>
              <a:off x="4643280" y="500364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Месяц 49"/>
            <p:cNvSpPr/>
            <p:nvPr/>
          </p:nvSpPr>
          <p:spPr>
            <a:xfrm rot="10800000">
              <a:off x="5286240" y="500364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Прямоугольник 53"/>
            <p:cNvSpPr/>
            <p:nvPr/>
          </p:nvSpPr>
          <p:spPr>
            <a:xfrm>
              <a:off x="4643280" y="5357520"/>
              <a:ext cx="642960" cy="28584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Группа 73"/>
          <p:cNvGrpSpPr/>
          <p:nvPr/>
        </p:nvGrpSpPr>
        <p:grpSpPr>
          <a:xfrm>
            <a:off x="7786800" y="4903920"/>
            <a:ext cx="701640" cy="761400"/>
            <a:chOff x="7786800" y="4903920"/>
            <a:chExt cx="701640" cy="761400"/>
          </a:xfrm>
        </p:grpSpPr>
        <p:grpSp>
          <p:nvGrpSpPr>
            <p:cNvPr id="184" name="Месяц 59"/>
            <p:cNvGrpSpPr/>
            <p:nvPr/>
          </p:nvGrpSpPr>
          <p:grpSpPr>
            <a:xfrm>
              <a:off x="7839360" y="4950000"/>
              <a:ext cx="384120" cy="289800"/>
              <a:chOff x="7839360" y="4950000"/>
              <a:chExt cx="384120" cy="289800"/>
            </a:xfrm>
          </p:grpSpPr>
          <p:pic>
            <p:nvPicPr>
              <p:cNvPr id="185" name="Месяц 59" descr=""/>
              <p:cNvPicPr/>
              <p:nvPr/>
            </p:nvPicPr>
            <p:blipFill>
              <a:blip r:embed="rId3"/>
              <a:stretch/>
            </p:blipFill>
            <p:spPr>
              <a:xfrm>
                <a:off x="7839360" y="4950000"/>
                <a:ext cx="384120" cy="28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 rot="17451000">
                <a:off x="8041320" y="4959000"/>
                <a:ext cx="47880" cy="1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Месяц 58"/>
            <p:cNvGrpSpPr/>
            <p:nvPr/>
          </p:nvGrpSpPr>
          <p:grpSpPr>
            <a:xfrm>
              <a:off x="8052840" y="4903920"/>
              <a:ext cx="390240" cy="289800"/>
              <a:chOff x="8052840" y="4903920"/>
              <a:chExt cx="390240" cy="289800"/>
            </a:xfrm>
          </p:grpSpPr>
          <p:pic>
            <p:nvPicPr>
              <p:cNvPr id="188" name="Месяц 58" descr=""/>
              <p:cNvPicPr/>
              <p:nvPr/>
            </p:nvPicPr>
            <p:blipFill>
              <a:blip r:embed="rId4"/>
              <a:stretch/>
            </p:blipFill>
            <p:spPr>
              <a:xfrm>
                <a:off x="8052840" y="4903920"/>
                <a:ext cx="390240" cy="28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 rot="4148400">
                <a:off x="8198280" y="4911840"/>
                <a:ext cx="47880" cy="1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Трапеция 57"/>
            <p:cNvSpPr/>
            <p:nvPr/>
          </p:nvSpPr>
          <p:spPr>
            <a:xfrm rot="10800000">
              <a:off x="7786800" y="5101200"/>
              <a:ext cx="642960" cy="437760"/>
            </a:xfrm>
            <a:custGeom>
              <a:avLst/>
              <a:gdLst>
                <a:gd name="textAreaLeft" fmla="*/ 76680 w 642960"/>
                <a:gd name="textAreaRight" fmla="*/ 566280 w 642960"/>
                <a:gd name="textAreaTop" fmla="*/ 5220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642937" h="460278">
                  <a:moveTo>
                    <a:pt x="0" y="460278"/>
                  </a:moveTo>
                  <a:lnTo>
                    <a:pt x="115070" y="0"/>
                  </a:lnTo>
                  <a:lnTo>
                    <a:pt x="527868" y="0"/>
                  </a:lnTo>
                  <a:lnTo>
                    <a:pt x="642937" y="460278"/>
                  </a:lnTo>
                  <a:close/>
                </a:path>
              </a:pathLst>
            </a:custGeom>
            <a:gradFill rotWithShape="0">
              <a:gsLst>
                <a:gs pos="0">
                  <a:srgbClr val="ffe379"/>
                </a:gs>
                <a:gs pos="100000">
                  <a:srgbClr val="fff6d8"/>
                </a:gs>
              </a:gsLst>
              <a:lin ang="5400000"/>
            </a:gradFill>
            <a:ln w="9360">
              <a:solidFill>
                <a:srgbClr val="feb60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Трапеция 54"/>
            <p:cNvSpPr/>
            <p:nvPr/>
          </p:nvSpPr>
          <p:spPr>
            <a:xfrm rot="10800000">
              <a:off x="7792920" y="5440320"/>
              <a:ext cx="695520" cy="225000"/>
            </a:xfrm>
            <a:custGeom>
              <a:avLst/>
              <a:gdLst>
                <a:gd name="textAreaLeft" fmla="*/ 39240 w 695520"/>
                <a:gd name="textAreaRight" fmla="*/ 656280 w 695520"/>
                <a:gd name="textAreaTop" fmla="*/ 1260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695325" h="236488">
                  <a:moveTo>
                    <a:pt x="0" y="236488"/>
                  </a:moveTo>
                  <a:lnTo>
                    <a:pt x="59122" y="0"/>
                  </a:lnTo>
                  <a:lnTo>
                    <a:pt x="636203" y="0"/>
                  </a:lnTo>
                  <a:lnTo>
                    <a:pt x="695325" y="2364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76"/>
          <p:cNvGrpSpPr/>
          <p:nvPr/>
        </p:nvGrpSpPr>
        <p:grpSpPr>
          <a:xfrm>
            <a:off x="3071880" y="2214720"/>
            <a:ext cx="642960" cy="714240"/>
            <a:chOff x="3071880" y="2214720"/>
            <a:chExt cx="642960" cy="714240"/>
          </a:xfrm>
        </p:grpSpPr>
        <p:sp>
          <p:nvSpPr>
            <p:cNvPr id="193" name="Прямоугольник 60"/>
            <p:cNvSpPr/>
            <p:nvPr/>
          </p:nvSpPr>
          <p:spPr>
            <a:xfrm>
              <a:off x="3071880" y="2214720"/>
              <a:ext cx="428760" cy="71424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Прямая соединительная линия 62"/>
            <p:cNvSpPr/>
            <p:nvPr/>
          </p:nvSpPr>
          <p:spPr>
            <a:xfrm flipH="1">
              <a:off x="3284640" y="2571840"/>
              <a:ext cx="1440" cy="35712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Овал 64"/>
            <p:cNvSpPr/>
            <p:nvPr/>
          </p:nvSpPr>
          <p:spPr>
            <a:xfrm>
              <a:off x="3214800" y="2786040"/>
              <a:ext cx="142920" cy="14256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65"/>
            <p:cNvSpPr/>
            <p:nvPr/>
          </p:nvSpPr>
          <p:spPr>
            <a:xfrm>
              <a:off x="3071880" y="22384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Группа 80"/>
          <p:cNvGrpSpPr/>
          <p:nvPr/>
        </p:nvGrpSpPr>
        <p:grpSpPr>
          <a:xfrm>
            <a:off x="4581000" y="2214360"/>
            <a:ext cx="767160" cy="571680"/>
            <a:chOff x="4581000" y="2214360"/>
            <a:chExt cx="767160" cy="571680"/>
          </a:xfrm>
        </p:grpSpPr>
        <p:sp>
          <p:nvSpPr>
            <p:cNvPr id="198" name="Блок-схема: ручное управление 66"/>
            <p:cNvSpPr/>
            <p:nvPr/>
          </p:nvSpPr>
          <p:spPr>
            <a:xfrm rot="5211600">
              <a:off x="4626720" y="2327760"/>
              <a:ext cx="257040" cy="334800"/>
            </a:xfrm>
            <a:prstGeom prst="flowChartManualOperation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0986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Группа 83"/>
            <p:cNvGrpSpPr/>
            <p:nvPr/>
          </p:nvGrpSpPr>
          <p:grpSpPr>
            <a:xfrm>
              <a:off x="5000400" y="2214360"/>
              <a:ext cx="347760" cy="571680"/>
              <a:chOff x="5000400" y="2214360"/>
              <a:chExt cx="347760" cy="571680"/>
            </a:xfrm>
          </p:grpSpPr>
          <p:sp>
            <p:nvSpPr>
              <p:cNvPr id="200" name="Прямая соединительная линия 68"/>
              <p:cNvSpPr/>
              <p:nvPr/>
            </p:nvSpPr>
            <p:spPr>
              <a:xfrm flipV="1">
                <a:off x="5000400" y="2214360"/>
                <a:ext cx="152280" cy="1141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Прямая соединительная линия 70"/>
              <p:cNvSpPr/>
              <p:nvPr/>
            </p:nvSpPr>
            <p:spPr>
              <a:xfrm flipV="1">
                <a:off x="5000400" y="2443320"/>
                <a:ext cx="203400" cy="79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Прямая соединительная линия 72"/>
              <p:cNvSpPr/>
              <p:nvPr/>
            </p:nvSpPr>
            <p:spPr>
              <a:xfrm>
                <a:off x="5000400" y="2573280"/>
                <a:ext cx="195480" cy="4104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Прямая соединительная линия 74"/>
              <p:cNvSpPr/>
              <p:nvPr/>
            </p:nvSpPr>
            <p:spPr>
              <a:xfrm>
                <a:off x="5152680" y="2516400"/>
                <a:ext cx="195480" cy="4104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Прямая соединительная линия 75"/>
              <p:cNvSpPr/>
              <p:nvPr/>
            </p:nvSpPr>
            <p:spPr>
              <a:xfrm flipV="1">
                <a:off x="5152680" y="2271600"/>
                <a:ext cx="195480" cy="5688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Прямая соединительная линия 77"/>
              <p:cNvSpPr/>
              <p:nvPr/>
            </p:nvSpPr>
            <p:spPr>
              <a:xfrm>
                <a:off x="5000400" y="2671920"/>
                <a:ext cx="152280" cy="1141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Прямая соединительная линия 79"/>
              <p:cNvSpPr/>
              <p:nvPr/>
            </p:nvSpPr>
            <p:spPr>
              <a:xfrm>
                <a:off x="5152680" y="2671920"/>
                <a:ext cx="195480" cy="9828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Скругленный прямоугольник 21"/>
          <p:cNvSpPr/>
          <p:nvPr/>
        </p:nvSpPr>
        <p:spPr>
          <a:xfrm>
            <a:off x="285840" y="2500200"/>
            <a:ext cx="38574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УЗУМБАРСКАЯ 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ФИАЛ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Рисунок 4" descr="fialki-ru543-stereo.gif"/>
          <p:cNvPicPr/>
          <p:nvPr/>
        </p:nvPicPr>
        <p:blipFill>
          <a:blip r:embed="rId1"/>
          <a:stretch/>
        </p:blipFill>
        <p:spPr>
          <a:xfrm>
            <a:off x="4776840" y="3438360"/>
            <a:ext cx="4367160" cy="327672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5"/>
          <p:cNvSpPr/>
          <p:nvPr/>
        </p:nvSpPr>
        <p:spPr>
          <a:xfrm>
            <a:off x="71280" y="3887640"/>
            <a:ext cx="4786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214200" y="1085760"/>
            <a:ext cx="8786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. Растение способно переносить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риод активного роста 18-25°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ода наливается в поддон летом через день, зимой дважды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е играет существенной р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Группа 16"/>
          <p:cNvGrpSpPr/>
          <p:nvPr/>
        </p:nvGrpSpPr>
        <p:grpSpPr>
          <a:xfrm>
            <a:off x="428760" y="2643120"/>
            <a:ext cx="714240" cy="714600"/>
            <a:chOff x="428760" y="2643120"/>
            <a:chExt cx="714240" cy="714600"/>
          </a:xfrm>
        </p:grpSpPr>
        <p:sp>
          <p:nvSpPr>
            <p:cNvPr id="213" name="Овал 6"/>
            <p:cNvSpPr/>
            <p:nvPr/>
          </p:nvSpPr>
          <p:spPr>
            <a:xfrm>
              <a:off x="428760" y="264312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Овал 7"/>
            <p:cNvSpPr/>
            <p:nvPr/>
          </p:nvSpPr>
          <p:spPr>
            <a:xfrm>
              <a:off x="642960" y="2857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Овал 8"/>
            <p:cNvSpPr/>
            <p:nvPr/>
          </p:nvSpPr>
          <p:spPr>
            <a:xfrm>
              <a:off x="857160" y="2857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Дуга 9"/>
            <p:cNvSpPr/>
            <p:nvPr/>
          </p:nvSpPr>
          <p:spPr>
            <a:xfrm rot="7134600">
              <a:off x="637560" y="2825640"/>
              <a:ext cx="279360" cy="352440"/>
            </a:xfrm>
            <a:custGeom>
              <a:avLst/>
              <a:gdLst>
                <a:gd name="textAreaLeft" fmla="*/ 139680 w 279360"/>
                <a:gd name="textAreaRight" fmla="*/ 279720 w 27936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  <a:lnTo>
                    <a:pt x="139701" y="176214"/>
                  </a:lnTo>
                  <a:close/>
                </a:path>
                <a:path fill="none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Овал 10"/>
          <p:cNvSpPr/>
          <p:nvPr/>
        </p:nvSpPr>
        <p:spPr>
          <a:xfrm>
            <a:off x="3286080" y="2643120"/>
            <a:ext cx="714600" cy="714600"/>
          </a:xfrm>
          <a:prstGeom prst="ellipse">
            <a:avLst/>
          </a:prstGeom>
          <a:gradFill rotWithShape="0">
            <a:gsLst>
              <a:gs pos="0">
                <a:srgbClr val="d89300"/>
              </a:gs>
              <a:gs pos="100000">
                <a:srgbClr val="ffc500">
                  <a:alpha val="15294"/>
                </a:srgbClr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Группа 11"/>
          <p:cNvGrpSpPr/>
          <p:nvPr/>
        </p:nvGrpSpPr>
        <p:grpSpPr>
          <a:xfrm>
            <a:off x="2285640" y="2643120"/>
            <a:ext cx="714240" cy="714600"/>
            <a:chOff x="2285640" y="2643120"/>
            <a:chExt cx="714240" cy="714600"/>
          </a:xfrm>
        </p:grpSpPr>
        <p:grpSp>
          <p:nvGrpSpPr>
            <p:cNvPr id="219" name="Месяц 12"/>
            <p:cNvGrpSpPr/>
            <p:nvPr/>
          </p:nvGrpSpPr>
          <p:grpSpPr>
            <a:xfrm>
              <a:off x="2340720" y="2689200"/>
              <a:ext cx="390240" cy="277200"/>
              <a:chOff x="2340720" y="2689200"/>
              <a:chExt cx="390240" cy="277200"/>
            </a:xfrm>
          </p:grpSpPr>
          <p:pic>
            <p:nvPicPr>
              <p:cNvPr id="220" name="Меся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0720" y="2689200"/>
                <a:ext cx="390240" cy="27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 rot="17451000">
                <a:off x="2546280" y="2692080"/>
                <a:ext cx="44640" cy="15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Месяц 13"/>
            <p:cNvGrpSpPr/>
            <p:nvPr/>
          </p:nvGrpSpPr>
          <p:grpSpPr>
            <a:xfrm>
              <a:off x="2560320" y="2643120"/>
              <a:ext cx="390240" cy="282960"/>
              <a:chOff x="2560320" y="2643120"/>
              <a:chExt cx="390240" cy="282960"/>
            </a:xfrm>
          </p:grpSpPr>
          <p:pic>
            <p:nvPicPr>
              <p:cNvPr id="223" name="Меся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560320" y="2643120"/>
                <a:ext cx="390240" cy="28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 rot="4148400">
                <a:off x="2707560" y="2647440"/>
                <a:ext cx="44640" cy="15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Трапеция 14"/>
            <p:cNvSpPr/>
            <p:nvPr/>
          </p:nvSpPr>
          <p:spPr>
            <a:xfrm rot="10800000">
              <a:off x="2285640" y="2829960"/>
              <a:ext cx="654120" cy="408960"/>
            </a:xfrm>
            <a:custGeom>
              <a:avLst/>
              <a:gdLst>
                <a:gd name="textAreaLeft" fmla="*/ 78120 w 654120"/>
                <a:gd name="textAreaRight" fmla="*/ 576000 w 654120"/>
                <a:gd name="textAreaTop" fmla="*/ 4860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642422" h="460489">
                  <a:moveTo>
                    <a:pt x="0" y="460489"/>
                  </a:moveTo>
                  <a:lnTo>
                    <a:pt x="115122" y="0"/>
                  </a:lnTo>
                  <a:lnTo>
                    <a:pt x="527300" y="0"/>
                  </a:lnTo>
                  <a:lnTo>
                    <a:pt x="642422" y="460489"/>
                  </a:lnTo>
                  <a:close/>
                </a:path>
              </a:pathLst>
            </a:custGeom>
            <a:gradFill rotWithShape="0">
              <a:gsLst>
                <a:gs pos="0">
                  <a:srgbClr val="ffe379"/>
                </a:gs>
                <a:gs pos="100000">
                  <a:srgbClr val="fff6d8"/>
                </a:gs>
              </a:gsLst>
              <a:lin ang="5400000"/>
            </a:gradFill>
            <a:ln w="9360">
              <a:solidFill>
                <a:srgbClr val="feb60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Трапеция 15"/>
            <p:cNvSpPr/>
            <p:nvPr/>
          </p:nvSpPr>
          <p:spPr>
            <a:xfrm rot="10800000">
              <a:off x="2291760" y="3147480"/>
              <a:ext cx="708120" cy="210240"/>
            </a:xfrm>
            <a:custGeom>
              <a:avLst/>
              <a:gdLst>
                <a:gd name="textAreaLeft" fmla="*/ 39960 w 708120"/>
                <a:gd name="textAreaRight" fmla="*/ 668160 w 708120"/>
                <a:gd name="textAreaTop" fmla="*/ 1188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695438" h="237017">
                  <a:moveTo>
                    <a:pt x="0" y="237017"/>
                  </a:moveTo>
                  <a:lnTo>
                    <a:pt x="59254" y="0"/>
                  </a:lnTo>
                  <a:lnTo>
                    <a:pt x="636184" y="0"/>
                  </a:lnTo>
                  <a:lnTo>
                    <a:pt x="695438" y="23701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Группа 16"/>
          <p:cNvGrpSpPr/>
          <p:nvPr/>
        </p:nvGrpSpPr>
        <p:grpSpPr>
          <a:xfrm>
            <a:off x="1357200" y="2643120"/>
            <a:ext cx="642960" cy="714600"/>
            <a:chOff x="1357200" y="2643120"/>
            <a:chExt cx="642960" cy="714600"/>
          </a:xfrm>
        </p:grpSpPr>
        <p:sp>
          <p:nvSpPr>
            <p:cNvPr id="228" name="Прямоугольник 17"/>
            <p:cNvSpPr/>
            <p:nvPr/>
          </p:nvSpPr>
          <p:spPr>
            <a:xfrm>
              <a:off x="1357200" y="264312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8"/>
            <p:cNvSpPr/>
            <p:nvPr/>
          </p:nvSpPr>
          <p:spPr>
            <a:xfrm flipH="1">
              <a:off x="1569960" y="3000240"/>
              <a:ext cx="1440" cy="35748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Овал 19"/>
            <p:cNvSpPr/>
            <p:nvPr/>
          </p:nvSpPr>
          <p:spPr>
            <a:xfrm>
              <a:off x="1500120" y="3214800"/>
              <a:ext cx="142920" cy="14292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65"/>
            <p:cNvSpPr/>
            <p:nvPr/>
          </p:nvSpPr>
          <p:spPr>
            <a:xfrm>
              <a:off x="1357200" y="26668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28"/>
          <p:cNvSpPr/>
          <p:nvPr/>
        </p:nvSpPr>
        <p:spPr>
          <a:xfrm>
            <a:off x="8317080" y="6381720"/>
            <a:ext cx="8269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Бегония тигров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3"/>
          <p:cNvSpPr/>
          <p:nvPr/>
        </p:nvSpPr>
        <p:spPr>
          <a:xfrm>
            <a:off x="285840" y="928800"/>
            <a:ext cx="857232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тень. От прямых солнечных лучей растение следует прит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бильного цветения желательна температура не ниже 18°C, лучше 20-25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егуляр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тение хорошо переносит опрыск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4" descr="21.jpg"/>
          <p:cNvPicPr/>
          <p:nvPr/>
        </p:nvPicPr>
        <p:blipFill>
          <a:blip r:embed="rId1"/>
          <a:stretch/>
        </p:blipFill>
        <p:spPr>
          <a:xfrm>
            <a:off x="5907240" y="3054240"/>
            <a:ext cx="3120840" cy="371808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5"/>
          <p:cNvSpPr/>
          <p:nvPr/>
        </p:nvSpPr>
        <p:spPr>
          <a:xfrm>
            <a:off x="142920" y="3500280"/>
            <a:ext cx="5715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5"/>
          <p:cNvSpPr/>
          <p:nvPr/>
        </p:nvSpPr>
        <p:spPr>
          <a:xfrm>
            <a:off x="357120" y="2500200"/>
            <a:ext cx="385776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Группа 16"/>
          <p:cNvGrpSpPr/>
          <p:nvPr/>
        </p:nvGrpSpPr>
        <p:grpSpPr>
          <a:xfrm>
            <a:off x="500040" y="2643120"/>
            <a:ext cx="714240" cy="714600"/>
            <a:chOff x="500040" y="2643120"/>
            <a:chExt cx="714240" cy="714600"/>
          </a:xfrm>
        </p:grpSpPr>
        <p:sp>
          <p:nvSpPr>
            <p:cNvPr id="239" name="Овал 7"/>
            <p:cNvSpPr/>
            <p:nvPr/>
          </p:nvSpPr>
          <p:spPr>
            <a:xfrm>
              <a:off x="500040" y="264312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Овал 8"/>
            <p:cNvSpPr/>
            <p:nvPr/>
          </p:nvSpPr>
          <p:spPr>
            <a:xfrm>
              <a:off x="714240" y="2857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Овал 9"/>
            <p:cNvSpPr/>
            <p:nvPr/>
          </p:nvSpPr>
          <p:spPr>
            <a:xfrm>
              <a:off x="928440" y="2857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Дуга 10"/>
            <p:cNvSpPr/>
            <p:nvPr/>
          </p:nvSpPr>
          <p:spPr>
            <a:xfrm rot="7134600">
              <a:off x="708840" y="2825640"/>
              <a:ext cx="279360" cy="352440"/>
            </a:xfrm>
            <a:custGeom>
              <a:avLst/>
              <a:gdLst>
                <a:gd name="textAreaLeft" fmla="*/ 139680 w 279360"/>
                <a:gd name="textAreaRight" fmla="*/ 279720 w 27936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  <a:lnTo>
                    <a:pt x="139701" y="176214"/>
                  </a:lnTo>
                  <a:close/>
                </a:path>
                <a:path fill="none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Овал 11"/>
          <p:cNvSpPr/>
          <p:nvPr/>
        </p:nvSpPr>
        <p:spPr>
          <a:xfrm>
            <a:off x="3286080" y="2571840"/>
            <a:ext cx="785880" cy="78588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Группа 56"/>
          <p:cNvGrpSpPr/>
          <p:nvPr/>
        </p:nvGrpSpPr>
        <p:grpSpPr>
          <a:xfrm>
            <a:off x="1833480" y="2639520"/>
            <a:ext cx="1285560" cy="718200"/>
            <a:chOff x="1833480" y="2639520"/>
            <a:chExt cx="1285560" cy="718200"/>
          </a:xfrm>
        </p:grpSpPr>
        <p:sp>
          <p:nvSpPr>
            <p:cNvPr id="245" name="Трапеция 13"/>
            <p:cNvSpPr/>
            <p:nvPr/>
          </p:nvSpPr>
          <p:spPr>
            <a:xfrm rot="18300000">
              <a:off x="2000160" y="2628360"/>
              <a:ext cx="253800" cy="53964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90000 h 539640"/>
                <a:gd name="textAreaBottom" fmla="*/ 539640 h 53964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Прямоугольник 14"/>
            <p:cNvSpPr/>
            <p:nvPr/>
          </p:nvSpPr>
          <p:spPr>
            <a:xfrm>
              <a:off x="2261880" y="27147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Месяц 15"/>
            <p:cNvSpPr/>
            <p:nvPr/>
          </p:nvSpPr>
          <p:spPr>
            <a:xfrm rot="10800000">
              <a:off x="2904840" y="27147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оугольник 16"/>
            <p:cNvSpPr/>
            <p:nvPr/>
          </p:nvSpPr>
          <p:spPr>
            <a:xfrm>
              <a:off x="2261880" y="3068640"/>
              <a:ext cx="642960" cy="28584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Группа 17"/>
          <p:cNvGrpSpPr/>
          <p:nvPr/>
        </p:nvGrpSpPr>
        <p:grpSpPr>
          <a:xfrm>
            <a:off x="1357200" y="2643120"/>
            <a:ext cx="642960" cy="714600"/>
            <a:chOff x="1357200" y="2643120"/>
            <a:chExt cx="642960" cy="714600"/>
          </a:xfrm>
        </p:grpSpPr>
        <p:sp>
          <p:nvSpPr>
            <p:cNvPr id="250" name="Прямоугольник 18"/>
            <p:cNvSpPr/>
            <p:nvPr/>
          </p:nvSpPr>
          <p:spPr>
            <a:xfrm>
              <a:off x="1357200" y="264312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Прямая соединительная линия 19"/>
            <p:cNvSpPr/>
            <p:nvPr/>
          </p:nvSpPr>
          <p:spPr>
            <a:xfrm flipH="1">
              <a:off x="1569960" y="3000240"/>
              <a:ext cx="1440" cy="35748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Овал 20"/>
            <p:cNvSpPr/>
            <p:nvPr/>
          </p:nvSpPr>
          <p:spPr>
            <a:xfrm>
              <a:off x="1500120" y="3214800"/>
              <a:ext cx="142920" cy="14292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65"/>
            <p:cNvSpPr/>
            <p:nvPr/>
          </p:nvSpPr>
          <p:spPr>
            <a:xfrm>
              <a:off x="1357200" y="26668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ГЕРАНЬ 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пеларгония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8" descr="IMG_0913"/>
          <p:cNvPicPr/>
          <p:nvPr/>
        </p:nvPicPr>
        <p:blipFill>
          <a:blip r:embed="rId1"/>
          <a:stretch/>
        </p:blipFill>
        <p:spPr>
          <a:xfrm>
            <a:off x="4788000" y="3591000"/>
            <a:ext cx="4147920" cy="311148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256" name="Прямоугольник 4"/>
          <p:cNvSpPr/>
          <p:nvPr/>
        </p:nvSpPr>
        <p:spPr>
          <a:xfrm>
            <a:off x="0" y="3789360"/>
            <a:ext cx="47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5"/>
          <p:cNvSpPr/>
          <p:nvPr/>
        </p:nvSpPr>
        <p:spPr>
          <a:xfrm>
            <a:off x="0" y="857160"/>
            <a:ext cx="91440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. Растение переносит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жаркие дни можно опрыск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6"/>
          <p:cNvSpPr/>
          <p:nvPr/>
        </p:nvSpPr>
        <p:spPr>
          <a:xfrm>
            <a:off x="142920" y="2714760"/>
            <a:ext cx="4357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Группа 16"/>
          <p:cNvGrpSpPr/>
          <p:nvPr/>
        </p:nvGrpSpPr>
        <p:grpSpPr>
          <a:xfrm>
            <a:off x="285840" y="2857680"/>
            <a:ext cx="714240" cy="714240"/>
            <a:chOff x="285840" y="2857680"/>
            <a:chExt cx="714240" cy="714240"/>
          </a:xfrm>
        </p:grpSpPr>
        <p:sp>
          <p:nvSpPr>
            <p:cNvPr id="260" name="Овал 8"/>
            <p:cNvSpPr/>
            <p:nvPr/>
          </p:nvSpPr>
          <p:spPr>
            <a:xfrm>
              <a:off x="285840" y="2857680"/>
              <a:ext cx="714240" cy="71424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Овал 9"/>
            <p:cNvSpPr/>
            <p:nvPr/>
          </p:nvSpPr>
          <p:spPr>
            <a:xfrm>
              <a:off x="500040" y="30718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Овал 10"/>
            <p:cNvSpPr/>
            <p:nvPr/>
          </p:nvSpPr>
          <p:spPr>
            <a:xfrm>
              <a:off x="714240" y="30718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Дуга 11"/>
            <p:cNvSpPr/>
            <p:nvPr/>
          </p:nvSpPr>
          <p:spPr>
            <a:xfrm rot="7134600">
              <a:off x="494640" y="3039840"/>
              <a:ext cx="279360" cy="352440"/>
            </a:xfrm>
            <a:custGeom>
              <a:avLst/>
              <a:gdLst>
                <a:gd name="textAreaLeft" fmla="*/ 139680 w 279360"/>
                <a:gd name="textAreaRight" fmla="*/ 279720 w 27936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  <a:lnTo>
                    <a:pt x="139701" y="176214"/>
                  </a:lnTo>
                  <a:close/>
                </a:path>
                <a:path fill="none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56"/>
          <p:cNvGrpSpPr/>
          <p:nvPr/>
        </p:nvGrpSpPr>
        <p:grpSpPr>
          <a:xfrm>
            <a:off x="1905120" y="2853720"/>
            <a:ext cx="1285560" cy="718200"/>
            <a:chOff x="1905120" y="2853720"/>
            <a:chExt cx="1285560" cy="718200"/>
          </a:xfrm>
        </p:grpSpPr>
        <p:sp>
          <p:nvSpPr>
            <p:cNvPr id="265" name="Трапеция 24"/>
            <p:cNvSpPr/>
            <p:nvPr/>
          </p:nvSpPr>
          <p:spPr>
            <a:xfrm rot="18300000">
              <a:off x="2071800" y="2842560"/>
              <a:ext cx="253800" cy="53964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90000 h 539640"/>
                <a:gd name="textAreaBottom" fmla="*/ 539640 h 53964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оугольник 25"/>
            <p:cNvSpPr/>
            <p:nvPr/>
          </p:nvSpPr>
          <p:spPr>
            <a:xfrm>
              <a:off x="2333520" y="29289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Месяц 26"/>
            <p:cNvSpPr/>
            <p:nvPr/>
          </p:nvSpPr>
          <p:spPr>
            <a:xfrm rot="10800000">
              <a:off x="2976480" y="29289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Прямоугольник 27"/>
            <p:cNvSpPr/>
            <p:nvPr/>
          </p:nvSpPr>
          <p:spPr>
            <a:xfrm>
              <a:off x="2333520" y="3282840"/>
              <a:ext cx="642960" cy="28584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Пятно 1 28"/>
          <p:cNvGrpSpPr/>
          <p:nvPr/>
        </p:nvGrpSpPr>
        <p:grpSpPr>
          <a:xfrm>
            <a:off x="3297240" y="2749680"/>
            <a:ext cx="1116000" cy="1036440"/>
            <a:chOff x="3297240" y="2749680"/>
            <a:chExt cx="1116000" cy="1036440"/>
          </a:xfrm>
        </p:grpSpPr>
        <p:pic>
          <p:nvPicPr>
            <p:cNvPr id="270" name="Пятно 1 28" descr=""/>
            <p:cNvPicPr/>
            <p:nvPr/>
          </p:nvPicPr>
          <p:blipFill>
            <a:blip r:embed="rId2"/>
            <a:stretch/>
          </p:blipFill>
          <p:spPr>
            <a:xfrm>
              <a:off x="3297240" y="2749680"/>
              <a:ext cx="111600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3571920" y="3057480"/>
              <a:ext cx="5587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Группа 29"/>
          <p:cNvGrpSpPr/>
          <p:nvPr/>
        </p:nvGrpSpPr>
        <p:grpSpPr>
          <a:xfrm>
            <a:off x="1357200" y="2857680"/>
            <a:ext cx="642960" cy="714240"/>
            <a:chOff x="1357200" y="2857680"/>
            <a:chExt cx="642960" cy="714240"/>
          </a:xfrm>
        </p:grpSpPr>
        <p:sp>
          <p:nvSpPr>
            <p:cNvPr id="273" name="Прямоугольник 30"/>
            <p:cNvSpPr/>
            <p:nvPr/>
          </p:nvSpPr>
          <p:spPr>
            <a:xfrm>
              <a:off x="1357200" y="2857680"/>
              <a:ext cx="428760" cy="71424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Прямая соединительная линия 31"/>
            <p:cNvSpPr/>
            <p:nvPr/>
          </p:nvSpPr>
          <p:spPr>
            <a:xfrm flipH="1">
              <a:off x="1569960" y="3214800"/>
              <a:ext cx="1440" cy="35712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Овал 32"/>
            <p:cNvSpPr/>
            <p:nvPr/>
          </p:nvSpPr>
          <p:spPr>
            <a:xfrm>
              <a:off x="1500120" y="3429000"/>
              <a:ext cx="142920" cy="14256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65"/>
            <p:cNvSpPr/>
            <p:nvPr/>
          </p:nvSpPr>
          <p:spPr>
            <a:xfrm>
              <a:off x="1357200" y="288144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Скругленный прямоугольник 3"/>
          <p:cNvSpPr/>
          <p:nvPr/>
        </p:nvSpPr>
        <p:spPr>
          <a:xfrm>
            <a:off x="357120" y="214200"/>
            <a:ext cx="3286080" cy="13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Группа 16"/>
          <p:cNvGrpSpPr/>
          <p:nvPr/>
        </p:nvGrpSpPr>
        <p:grpSpPr>
          <a:xfrm>
            <a:off x="500040" y="419040"/>
            <a:ext cx="642960" cy="652680"/>
            <a:chOff x="500040" y="419040"/>
            <a:chExt cx="642960" cy="652680"/>
          </a:xfrm>
        </p:grpSpPr>
        <p:sp>
          <p:nvSpPr>
            <p:cNvPr id="279" name="Овал 5"/>
            <p:cNvSpPr/>
            <p:nvPr/>
          </p:nvSpPr>
          <p:spPr>
            <a:xfrm>
              <a:off x="500040" y="419040"/>
              <a:ext cx="642960" cy="65268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Овал 6"/>
            <p:cNvSpPr/>
            <p:nvPr/>
          </p:nvSpPr>
          <p:spPr>
            <a:xfrm>
              <a:off x="693720" y="614160"/>
              <a:ext cx="63360" cy="6480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Овал 7"/>
            <p:cNvSpPr/>
            <p:nvPr/>
          </p:nvSpPr>
          <p:spPr>
            <a:xfrm>
              <a:off x="885960" y="614160"/>
              <a:ext cx="64800" cy="6480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Дуга 8"/>
            <p:cNvSpPr/>
            <p:nvPr/>
          </p:nvSpPr>
          <p:spPr>
            <a:xfrm rot="7134600">
              <a:off x="686520" y="587880"/>
              <a:ext cx="255600" cy="317520"/>
            </a:xfrm>
            <a:custGeom>
              <a:avLst/>
              <a:gdLst>
                <a:gd name="textAreaLeft" fmla="*/ 127800 w 255600"/>
                <a:gd name="textAreaRight" fmla="*/ 255600 w 255600"/>
                <a:gd name="textAreaTop" fmla="*/ 0 h 317520"/>
                <a:gd name="textAreaBottom" fmla="*/ 158760 h 317520"/>
              </a:gdLst>
              <a:ahLst/>
              <a:rect l="textAreaLeft" t="textAreaTop" r="textAreaRight" b="textAreaBottom"/>
              <a:pathLst>
                <a:path stroke="0" w="279843" h="352781">
                  <a:moveTo>
                    <a:pt x="139922" y="0"/>
                  </a:moveTo>
                  <a:lnTo>
                    <a:pt x="139922" y="0"/>
                  </a:lnTo>
                  <a:arcTo wR="139922" hR="176391" stAng="-5400000" swAng="5400000"/>
                  <a:lnTo>
                    <a:pt x="139922" y="176391"/>
                  </a:lnTo>
                  <a:close/>
                </a:path>
                <a:path fill="none" w="279843" h="352781">
                  <a:moveTo>
                    <a:pt x="139922" y="0"/>
                  </a:moveTo>
                  <a:lnTo>
                    <a:pt x="139922" y="0"/>
                  </a:lnTo>
                  <a:arcTo wR="139922" hR="176391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Овал 9"/>
          <p:cNvSpPr/>
          <p:nvPr/>
        </p:nvSpPr>
        <p:spPr>
          <a:xfrm>
            <a:off x="2857680" y="419040"/>
            <a:ext cx="642600" cy="652680"/>
          </a:xfrm>
          <a:prstGeom prst="ellipse">
            <a:avLst/>
          </a:prstGeom>
          <a:gradFill rotWithShape="0">
            <a:gsLst>
              <a:gs pos="0">
                <a:srgbClr val="d89300"/>
              </a:gs>
              <a:gs pos="100000">
                <a:srgbClr val="ffc500">
                  <a:alpha val="15294"/>
                </a:srgbClr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11"/>
          <p:cNvGrpSpPr/>
          <p:nvPr/>
        </p:nvGrpSpPr>
        <p:grpSpPr>
          <a:xfrm>
            <a:off x="2071800" y="419040"/>
            <a:ext cx="642600" cy="652320"/>
            <a:chOff x="2071800" y="419040"/>
            <a:chExt cx="642600" cy="652320"/>
          </a:xfrm>
        </p:grpSpPr>
        <p:grpSp>
          <p:nvGrpSpPr>
            <p:cNvPr id="285" name="Месяц 11"/>
            <p:cNvGrpSpPr/>
            <p:nvPr/>
          </p:nvGrpSpPr>
          <p:grpSpPr>
            <a:xfrm>
              <a:off x="2115360" y="459000"/>
              <a:ext cx="365760" cy="263880"/>
              <a:chOff x="2115360" y="459000"/>
              <a:chExt cx="365760" cy="263880"/>
            </a:xfrm>
          </p:grpSpPr>
          <p:pic>
            <p:nvPicPr>
              <p:cNvPr id="286" name="Месяц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2115360" y="459000"/>
                <a:ext cx="365760" cy="26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 rot="17451000">
                <a:off x="2305800" y="468000"/>
                <a:ext cx="4068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Месяц 12"/>
            <p:cNvGrpSpPr/>
            <p:nvPr/>
          </p:nvGrpSpPr>
          <p:grpSpPr>
            <a:xfrm>
              <a:off x="2310480" y="419040"/>
              <a:ext cx="365760" cy="263880"/>
              <a:chOff x="2310480" y="419040"/>
              <a:chExt cx="365760" cy="263880"/>
            </a:xfrm>
          </p:grpSpPr>
          <p:pic>
            <p:nvPicPr>
              <p:cNvPr id="289" name="Меся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310480" y="419040"/>
                <a:ext cx="365760" cy="26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 rot="4148400">
                <a:off x="2450880" y="427680"/>
                <a:ext cx="4068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Трапеция 13"/>
            <p:cNvSpPr/>
            <p:nvPr/>
          </p:nvSpPr>
          <p:spPr>
            <a:xfrm rot="10800000">
              <a:off x="2071800" y="591840"/>
              <a:ext cx="588960" cy="371880"/>
            </a:xfrm>
            <a:custGeom>
              <a:avLst/>
              <a:gdLst>
                <a:gd name="textAreaLeft" fmla="*/ 70200 w 588960"/>
                <a:gd name="textAreaRight" fmla="*/ 518760 w 588960"/>
                <a:gd name="textAreaTop" fmla="*/ 4428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642769" h="461552">
                  <a:moveTo>
                    <a:pt x="0" y="461552"/>
                  </a:moveTo>
                  <a:lnTo>
                    <a:pt x="115388" y="0"/>
                  </a:lnTo>
                  <a:lnTo>
                    <a:pt x="527381" y="0"/>
                  </a:lnTo>
                  <a:lnTo>
                    <a:pt x="642769" y="461552"/>
                  </a:lnTo>
                  <a:close/>
                </a:path>
              </a:pathLst>
            </a:custGeom>
            <a:gradFill rotWithShape="0">
              <a:gsLst>
                <a:gs pos="0">
                  <a:srgbClr val="ffe379"/>
                </a:gs>
                <a:gs pos="100000">
                  <a:srgbClr val="fff6d8"/>
                </a:gs>
              </a:gsLst>
              <a:lin ang="5400000"/>
            </a:gradFill>
            <a:ln w="9360">
              <a:solidFill>
                <a:srgbClr val="feb60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Трапеция 14"/>
            <p:cNvSpPr/>
            <p:nvPr/>
          </p:nvSpPr>
          <p:spPr>
            <a:xfrm rot="10800000">
              <a:off x="2077560" y="880200"/>
              <a:ext cx="636840" cy="191160"/>
            </a:xfrm>
            <a:custGeom>
              <a:avLst/>
              <a:gdLst>
                <a:gd name="textAreaLeft" fmla="*/ 36000 w 636840"/>
                <a:gd name="textAreaRight" fmla="*/ 600840 w 636840"/>
                <a:gd name="textAreaTop" fmla="*/ 1080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694745" h="237264">
                  <a:moveTo>
                    <a:pt x="0" y="237264"/>
                  </a:moveTo>
                  <a:lnTo>
                    <a:pt x="59316" y="0"/>
                  </a:lnTo>
                  <a:lnTo>
                    <a:pt x="635429" y="0"/>
                  </a:lnTo>
                  <a:lnTo>
                    <a:pt x="694745" y="2372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Группа 16"/>
          <p:cNvGrpSpPr/>
          <p:nvPr/>
        </p:nvGrpSpPr>
        <p:grpSpPr>
          <a:xfrm>
            <a:off x="1317600" y="276120"/>
            <a:ext cx="682560" cy="820800"/>
            <a:chOff x="1317600" y="276120"/>
            <a:chExt cx="682560" cy="820800"/>
          </a:xfrm>
        </p:grpSpPr>
        <p:sp>
          <p:nvSpPr>
            <p:cNvPr id="294" name="Прямоугольник 16"/>
            <p:cNvSpPr/>
            <p:nvPr/>
          </p:nvSpPr>
          <p:spPr>
            <a:xfrm>
              <a:off x="1317600" y="276120"/>
              <a:ext cx="455760" cy="8208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17"/>
            <p:cNvSpPr/>
            <p:nvPr/>
          </p:nvSpPr>
          <p:spPr>
            <a:xfrm flipH="1">
              <a:off x="1542960" y="685800"/>
              <a:ext cx="1440" cy="41112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Овал 18"/>
            <p:cNvSpPr/>
            <p:nvPr/>
          </p:nvSpPr>
          <p:spPr>
            <a:xfrm>
              <a:off x="1469880" y="933480"/>
              <a:ext cx="150840" cy="16344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65"/>
            <p:cNvSpPr/>
            <p:nvPr/>
          </p:nvSpPr>
          <p:spPr>
            <a:xfrm>
              <a:off x="1317600" y="303480"/>
              <a:ext cx="682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Box 20"/>
          <p:cNvSpPr/>
          <p:nvPr/>
        </p:nvSpPr>
        <p:spPr>
          <a:xfrm>
            <a:off x="2124000" y="1133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кругленный прямоугольник 57"/>
          <p:cNvSpPr/>
          <p:nvPr/>
        </p:nvSpPr>
        <p:spPr>
          <a:xfrm>
            <a:off x="4214880" y="214200"/>
            <a:ext cx="3286080" cy="13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Группа 16"/>
          <p:cNvGrpSpPr/>
          <p:nvPr/>
        </p:nvGrpSpPr>
        <p:grpSpPr>
          <a:xfrm>
            <a:off x="4357800" y="419040"/>
            <a:ext cx="642960" cy="652680"/>
            <a:chOff x="4357800" y="419040"/>
            <a:chExt cx="642960" cy="652680"/>
          </a:xfrm>
        </p:grpSpPr>
        <p:sp>
          <p:nvSpPr>
            <p:cNvPr id="301" name="Овал 59"/>
            <p:cNvSpPr/>
            <p:nvPr/>
          </p:nvSpPr>
          <p:spPr>
            <a:xfrm>
              <a:off x="4357800" y="419040"/>
              <a:ext cx="642960" cy="65268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Овал 60"/>
            <p:cNvSpPr/>
            <p:nvPr/>
          </p:nvSpPr>
          <p:spPr>
            <a:xfrm>
              <a:off x="4551480" y="614160"/>
              <a:ext cx="63360" cy="6480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Овал 61"/>
            <p:cNvSpPr/>
            <p:nvPr/>
          </p:nvSpPr>
          <p:spPr>
            <a:xfrm>
              <a:off x="4743720" y="614160"/>
              <a:ext cx="64800" cy="6480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Дуга 62"/>
            <p:cNvSpPr/>
            <p:nvPr/>
          </p:nvSpPr>
          <p:spPr>
            <a:xfrm rot="7134600">
              <a:off x="4544280" y="587880"/>
              <a:ext cx="255600" cy="317520"/>
            </a:xfrm>
            <a:custGeom>
              <a:avLst/>
              <a:gdLst>
                <a:gd name="textAreaLeft" fmla="*/ 127800 w 255600"/>
                <a:gd name="textAreaRight" fmla="*/ 255600 w 255600"/>
                <a:gd name="textAreaTop" fmla="*/ 0 h 317520"/>
                <a:gd name="textAreaBottom" fmla="*/ 158760 h 317520"/>
              </a:gdLst>
              <a:ahLst/>
              <a:rect l="textAreaLeft" t="textAreaTop" r="textAreaRight" b="textAreaBottom"/>
              <a:pathLst>
                <a:path stroke="0" w="279843" h="352781">
                  <a:moveTo>
                    <a:pt x="139922" y="0"/>
                  </a:moveTo>
                  <a:lnTo>
                    <a:pt x="139922" y="0"/>
                  </a:lnTo>
                  <a:arcTo wR="139922" hR="176391" stAng="-5400000" swAng="5400000"/>
                  <a:lnTo>
                    <a:pt x="139922" y="176391"/>
                  </a:lnTo>
                  <a:close/>
                </a:path>
                <a:path fill="none" w="279843" h="352781">
                  <a:moveTo>
                    <a:pt x="139922" y="0"/>
                  </a:moveTo>
                  <a:lnTo>
                    <a:pt x="139922" y="0"/>
                  </a:lnTo>
                  <a:arcTo wR="139922" hR="176391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Группа 16"/>
          <p:cNvGrpSpPr/>
          <p:nvPr/>
        </p:nvGrpSpPr>
        <p:grpSpPr>
          <a:xfrm>
            <a:off x="5175360" y="276120"/>
            <a:ext cx="682560" cy="820800"/>
            <a:chOff x="5175360" y="276120"/>
            <a:chExt cx="682560" cy="820800"/>
          </a:xfrm>
        </p:grpSpPr>
        <p:sp>
          <p:nvSpPr>
            <p:cNvPr id="306" name="Прямоугольник 70"/>
            <p:cNvSpPr/>
            <p:nvPr/>
          </p:nvSpPr>
          <p:spPr>
            <a:xfrm>
              <a:off x="5175360" y="276120"/>
              <a:ext cx="455760" cy="8208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Прямая соединительная линия 71"/>
            <p:cNvSpPr/>
            <p:nvPr/>
          </p:nvSpPr>
          <p:spPr>
            <a:xfrm flipH="1">
              <a:off x="5400720" y="685800"/>
              <a:ext cx="1440" cy="41112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Овал 72"/>
            <p:cNvSpPr/>
            <p:nvPr/>
          </p:nvSpPr>
          <p:spPr>
            <a:xfrm>
              <a:off x="5327640" y="933480"/>
              <a:ext cx="150840" cy="16344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65"/>
            <p:cNvSpPr/>
            <p:nvPr/>
          </p:nvSpPr>
          <p:spPr>
            <a:xfrm>
              <a:off x="5175360" y="303480"/>
              <a:ext cx="682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Box 74"/>
          <p:cNvSpPr/>
          <p:nvPr/>
        </p:nvSpPr>
        <p:spPr>
          <a:xfrm>
            <a:off x="6043680" y="113364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о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84"/>
          <p:cNvSpPr/>
          <p:nvPr/>
        </p:nvSpPr>
        <p:spPr>
          <a:xfrm>
            <a:off x="6786720" y="419040"/>
            <a:ext cx="642960" cy="64296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Группа 56"/>
          <p:cNvGrpSpPr/>
          <p:nvPr/>
        </p:nvGrpSpPr>
        <p:grpSpPr>
          <a:xfrm>
            <a:off x="5826600" y="456480"/>
            <a:ext cx="888120" cy="605520"/>
            <a:chOff x="5826600" y="456480"/>
            <a:chExt cx="888120" cy="605520"/>
          </a:xfrm>
        </p:grpSpPr>
        <p:sp>
          <p:nvSpPr>
            <p:cNvPr id="313" name="Трапеция 14"/>
            <p:cNvSpPr/>
            <p:nvPr/>
          </p:nvSpPr>
          <p:spPr>
            <a:xfrm rot="18300000">
              <a:off x="5928480" y="470520"/>
              <a:ext cx="225360" cy="366480"/>
            </a:xfrm>
            <a:custGeom>
              <a:avLst/>
              <a:gdLst>
                <a:gd name="textAreaLeft" fmla="*/ 37440 w 225360"/>
                <a:gd name="textAreaRight" fmla="*/ 187920 w 225360"/>
                <a:gd name="textAreaTop" fmla="*/ 6084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Прямоугольник 88"/>
            <p:cNvSpPr/>
            <p:nvPr/>
          </p:nvSpPr>
          <p:spPr>
            <a:xfrm>
              <a:off x="6132600" y="490680"/>
              <a:ext cx="436680" cy="57132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Месяц 89"/>
            <p:cNvSpPr/>
            <p:nvPr/>
          </p:nvSpPr>
          <p:spPr>
            <a:xfrm rot="10800000">
              <a:off x="6568920" y="490320"/>
              <a:ext cx="145800" cy="57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Прямоугольник 90"/>
            <p:cNvSpPr/>
            <p:nvPr/>
          </p:nvSpPr>
          <p:spPr>
            <a:xfrm>
              <a:off x="6132600" y="804960"/>
              <a:ext cx="436680" cy="25380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Скругленный прямоугольник 109"/>
          <p:cNvSpPr/>
          <p:nvPr/>
        </p:nvSpPr>
        <p:spPr>
          <a:xfrm>
            <a:off x="4213080" y="3295800"/>
            <a:ext cx="328788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Группа 16"/>
          <p:cNvGrpSpPr/>
          <p:nvPr/>
        </p:nvGrpSpPr>
        <p:grpSpPr>
          <a:xfrm>
            <a:off x="4286160" y="3562200"/>
            <a:ext cx="642960" cy="652680"/>
            <a:chOff x="4286160" y="3562200"/>
            <a:chExt cx="642960" cy="652680"/>
          </a:xfrm>
        </p:grpSpPr>
        <p:sp>
          <p:nvSpPr>
            <p:cNvPr id="319" name="Овал 111"/>
            <p:cNvSpPr/>
            <p:nvPr/>
          </p:nvSpPr>
          <p:spPr>
            <a:xfrm>
              <a:off x="4286160" y="3562200"/>
              <a:ext cx="642960" cy="65268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Овал 112"/>
            <p:cNvSpPr/>
            <p:nvPr/>
          </p:nvSpPr>
          <p:spPr>
            <a:xfrm>
              <a:off x="4479840" y="3757320"/>
              <a:ext cx="63360" cy="6480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Овал 113"/>
            <p:cNvSpPr/>
            <p:nvPr/>
          </p:nvSpPr>
          <p:spPr>
            <a:xfrm>
              <a:off x="4672080" y="3757320"/>
              <a:ext cx="64800" cy="6480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Дуга 114"/>
            <p:cNvSpPr/>
            <p:nvPr/>
          </p:nvSpPr>
          <p:spPr>
            <a:xfrm rot="7134600">
              <a:off x="4472640" y="3731040"/>
              <a:ext cx="255600" cy="317520"/>
            </a:xfrm>
            <a:custGeom>
              <a:avLst/>
              <a:gdLst>
                <a:gd name="textAreaLeft" fmla="*/ 127800 w 255600"/>
                <a:gd name="textAreaRight" fmla="*/ 255600 w 255600"/>
                <a:gd name="textAreaTop" fmla="*/ 0 h 317520"/>
                <a:gd name="textAreaBottom" fmla="*/ 158760 h 317520"/>
              </a:gdLst>
              <a:ahLst/>
              <a:rect l="textAreaLeft" t="textAreaTop" r="textAreaRight" b="textAreaBottom"/>
              <a:pathLst>
                <a:path stroke="0" w="279843" h="352780">
                  <a:moveTo>
                    <a:pt x="139922" y="0"/>
                  </a:moveTo>
                  <a:lnTo>
                    <a:pt x="139922" y="0"/>
                  </a:lnTo>
                  <a:arcTo wR="139922" hR="176390" stAng="-5400000" swAng="5400000"/>
                  <a:lnTo>
                    <a:pt x="139922" y="176390"/>
                  </a:lnTo>
                  <a:close/>
                </a:path>
                <a:path fill="none" w="279843" h="352780">
                  <a:moveTo>
                    <a:pt x="139922" y="0"/>
                  </a:moveTo>
                  <a:lnTo>
                    <a:pt x="139922" y="0"/>
                  </a:lnTo>
                  <a:arcTo wR="139922" hR="176390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Box 120"/>
          <p:cNvSpPr/>
          <p:nvPr/>
        </p:nvSpPr>
        <p:spPr>
          <a:xfrm>
            <a:off x="6249960" y="4214880"/>
            <a:ext cx="9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а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кругленный прямоугольник 127"/>
          <p:cNvSpPr/>
          <p:nvPr/>
        </p:nvSpPr>
        <p:spPr>
          <a:xfrm>
            <a:off x="4214880" y="1714680"/>
            <a:ext cx="328608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Группа 16"/>
          <p:cNvGrpSpPr/>
          <p:nvPr/>
        </p:nvGrpSpPr>
        <p:grpSpPr>
          <a:xfrm>
            <a:off x="4357800" y="1919160"/>
            <a:ext cx="642960" cy="652680"/>
            <a:chOff x="4357800" y="1919160"/>
            <a:chExt cx="642960" cy="652680"/>
          </a:xfrm>
        </p:grpSpPr>
        <p:sp>
          <p:nvSpPr>
            <p:cNvPr id="326" name="Овал 129"/>
            <p:cNvSpPr/>
            <p:nvPr/>
          </p:nvSpPr>
          <p:spPr>
            <a:xfrm>
              <a:off x="4357800" y="1919160"/>
              <a:ext cx="642960" cy="65268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Овал 130"/>
            <p:cNvSpPr/>
            <p:nvPr/>
          </p:nvSpPr>
          <p:spPr>
            <a:xfrm>
              <a:off x="4551480" y="2114280"/>
              <a:ext cx="63360" cy="6480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Овал 131"/>
            <p:cNvSpPr/>
            <p:nvPr/>
          </p:nvSpPr>
          <p:spPr>
            <a:xfrm>
              <a:off x="4743720" y="2114280"/>
              <a:ext cx="64800" cy="6480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Дуга 132"/>
            <p:cNvSpPr/>
            <p:nvPr/>
          </p:nvSpPr>
          <p:spPr>
            <a:xfrm rot="7134600">
              <a:off x="4544280" y="2088000"/>
              <a:ext cx="255600" cy="317520"/>
            </a:xfrm>
            <a:custGeom>
              <a:avLst/>
              <a:gdLst>
                <a:gd name="textAreaLeft" fmla="*/ 127800 w 255600"/>
                <a:gd name="textAreaRight" fmla="*/ 255960 w 255600"/>
                <a:gd name="textAreaTop" fmla="*/ 0 h 317520"/>
                <a:gd name="textAreaBottom" fmla="*/ 158760 h 317520"/>
              </a:gdLst>
              <a:ahLst/>
              <a:rect l="textAreaLeft" t="textAreaTop" r="textAreaRight" b="textAreaBottom"/>
              <a:pathLst>
                <a:path stroke="0" w="279842" h="352781">
                  <a:moveTo>
                    <a:pt x="139921" y="0"/>
                  </a:moveTo>
                  <a:lnTo>
                    <a:pt x="139921" y="0"/>
                  </a:lnTo>
                  <a:arcTo wR="139921" hR="176391" stAng="-5400000" swAng="5400000"/>
                  <a:lnTo>
                    <a:pt x="139921" y="176391"/>
                  </a:lnTo>
                  <a:close/>
                </a:path>
                <a:path fill="none" w="279842" h="352781">
                  <a:moveTo>
                    <a:pt x="139921" y="0"/>
                  </a:moveTo>
                  <a:lnTo>
                    <a:pt x="139921" y="0"/>
                  </a:lnTo>
                  <a:arcTo wR="139921" hR="176391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Группа 16"/>
          <p:cNvGrpSpPr/>
          <p:nvPr/>
        </p:nvGrpSpPr>
        <p:grpSpPr>
          <a:xfrm>
            <a:off x="5175360" y="1785960"/>
            <a:ext cx="682560" cy="811080"/>
            <a:chOff x="5175360" y="1785960"/>
            <a:chExt cx="682560" cy="811080"/>
          </a:xfrm>
        </p:grpSpPr>
        <p:sp>
          <p:nvSpPr>
            <p:cNvPr id="331" name="Прямоугольник 134"/>
            <p:cNvSpPr/>
            <p:nvPr/>
          </p:nvSpPr>
          <p:spPr>
            <a:xfrm>
              <a:off x="5175360" y="1785960"/>
              <a:ext cx="455760" cy="81108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Прямая соединительная линия 135"/>
            <p:cNvSpPr/>
            <p:nvPr/>
          </p:nvSpPr>
          <p:spPr>
            <a:xfrm flipH="1">
              <a:off x="5400720" y="2190600"/>
              <a:ext cx="1440" cy="40644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Овал 136"/>
            <p:cNvSpPr/>
            <p:nvPr/>
          </p:nvSpPr>
          <p:spPr>
            <a:xfrm>
              <a:off x="5327640" y="2435400"/>
              <a:ext cx="150840" cy="16164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65"/>
            <p:cNvSpPr/>
            <p:nvPr/>
          </p:nvSpPr>
          <p:spPr>
            <a:xfrm>
              <a:off x="5175360" y="1812960"/>
              <a:ext cx="682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Box 138"/>
          <p:cNvSpPr/>
          <p:nvPr/>
        </p:nvSpPr>
        <p:spPr>
          <a:xfrm>
            <a:off x="6032520" y="2633760"/>
            <a:ext cx="13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ан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Группа 56"/>
          <p:cNvGrpSpPr/>
          <p:nvPr/>
        </p:nvGrpSpPr>
        <p:grpSpPr>
          <a:xfrm>
            <a:off x="5683680" y="1956600"/>
            <a:ext cx="888120" cy="605520"/>
            <a:chOff x="5683680" y="1956600"/>
            <a:chExt cx="888120" cy="605520"/>
          </a:xfrm>
        </p:grpSpPr>
        <p:sp>
          <p:nvSpPr>
            <p:cNvPr id="337" name="Трапеция 14"/>
            <p:cNvSpPr/>
            <p:nvPr/>
          </p:nvSpPr>
          <p:spPr>
            <a:xfrm rot="18300000">
              <a:off x="5785560" y="1970640"/>
              <a:ext cx="225360" cy="366480"/>
            </a:xfrm>
            <a:custGeom>
              <a:avLst/>
              <a:gdLst>
                <a:gd name="textAreaLeft" fmla="*/ 37440 w 225360"/>
                <a:gd name="textAreaRight" fmla="*/ 187920 w 225360"/>
                <a:gd name="textAreaTop" fmla="*/ 6084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Прямоугольник 142"/>
            <p:cNvSpPr/>
            <p:nvPr/>
          </p:nvSpPr>
          <p:spPr>
            <a:xfrm>
              <a:off x="5989680" y="1990800"/>
              <a:ext cx="436680" cy="57132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Месяц 143"/>
            <p:cNvSpPr/>
            <p:nvPr/>
          </p:nvSpPr>
          <p:spPr>
            <a:xfrm rot="10800000">
              <a:off x="6426000" y="1990440"/>
              <a:ext cx="145800" cy="57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Прямоугольник 144"/>
            <p:cNvSpPr/>
            <p:nvPr/>
          </p:nvSpPr>
          <p:spPr>
            <a:xfrm>
              <a:off x="5989680" y="2305080"/>
              <a:ext cx="436680" cy="25380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Пятно 1 171"/>
          <p:cNvGrpSpPr/>
          <p:nvPr/>
        </p:nvGrpSpPr>
        <p:grpSpPr>
          <a:xfrm>
            <a:off x="6649920" y="1889280"/>
            <a:ext cx="903240" cy="830160"/>
            <a:chOff x="6649920" y="1889280"/>
            <a:chExt cx="903240" cy="830160"/>
          </a:xfrm>
        </p:grpSpPr>
        <p:pic>
          <p:nvPicPr>
            <p:cNvPr id="342" name="Пятно 1 171" descr=""/>
            <p:cNvPicPr/>
            <p:nvPr/>
          </p:nvPicPr>
          <p:blipFill>
            <a:blip r:embed="rId3"/>
            <a:stretch/>
          </p:blipFill>
          <p:spPr>
            <a:xfrm>
              <a:off x="6649920" y="1889280"/>
              <a:ext cx="90324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6883560" y="2138400"/>
              <a:ext cx="4381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Box 74"/>
          <p:cNvSpPr/>
          <p:nvPr/>
        </p:nvSpPr>
        <p:spPr>
          <a:xfrm>
            <a:off x="1425600" y="1197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кругленный прямоугольник 174"/>
          <p:cNvSpPr/>
          <p:nvPr/>
        </p:nvSpPr>
        <p:spPr>
          <a:xfrm>
            <a:off x="214200" y="1785960"/>
            <a:ext cx="3357720" cy="13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Группа 16"/>
          <p:cNvGrpSpPr/>
          <p:nvPr/>
        </p:nvGrpSpPr>
        <p:grpSpPr>
          <a:xfrm>
            <a:off x="357120" y="2000160"/>
            <a:ext cx="714600" cy="714600"/>
            <a:chOff x="357120" y="2000160"/>
            <a:chExt cx="714600" cy="714600"/>
          </a:xfrm>
        </p:grpSpPr>
        <p:sp>
          <p:nvSpPr>
            <p:cNvPr id="347" name="Овал 188"/>
            <p:cNvSpPr/>
            <p:nvPr/>
          </p:nvSpPr>
          <p:spPr>
            <a:xfrm>
              <a:off x="357120" y="2000160"/>
              <a:ext cx="71460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Овал 191"/>
            <p:cNvSpPr/>
            <p:nvPr/>
          </p:nvSpPr>
          <p:spPr>
            <a:xfrm>
              <a:off x="571320" y="221436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Овал 196"/>
            <p:cNvSpPr/>
            <p:nvPr/>
          </p:nvSpPr>
          <p:spPr>
            <a:xfrm>
              <a:off x="785880" y="221436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Дуга 200"/>
            <p:cNvSpPr/>
            <p:nvPr/>
          </p:nvSpPr>
          <p:spPr>
            <a:xfrm rot="7134600">
              <a:off x="566280" y="2182680"/>
              <a:ext cx="279360" cy="352440"/>
            </a:xfrm>
            <a:custGeom>
              <a:avLst/>
              <a:gdLst>
                <a:gd name="textAreaLeft" fmla="*/ 139680 w 279360"/>
                <a:gd name="textAreaRight" fmla="*/ 279720 w 27936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  <a:lnTo>
                    <a:pt x="139701" y="176214"/>
                  </a:lnTo>
                  <a:close/>
                </a:path>
                <a:path fill="none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Группа 76"/>
          <p:cNvGrpSpPr/>
          <p:nvPr/>
        </p:nvGrpSpPr>
        <p:grpSpPr>
          <a:xfrm>
            <a:off x="1143000" y="2000160"/>
            <a:ext cx="642960" cy="714600"/>
            <a:chOff x="1143000" y="2000160"/>
            <a:chExt cx="642960" cy="714600"/>
          </a:xfrm>
        </p:grpSpPr>
        <p:sp>
          <p:nvSpPr>
            <p:cNvPr id="352" name="Прямоугольник 211"/>
            <p:cNvSpPr/>
            <p:nvPr/>
          </p:nvSpPr>
          <p:spPr>
            <a:xfrm>
              <a:off x="1143000" y="200016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Прямая соединительная линия 216"/>
            <p:cNvSpPr/>
            <p:nvPr/>
          </p:nvSpPr>
          <p:spPr>
            <a:xfrm flipH="1">
              <a:off x="1355760" y="2357640"/>
              <a:ext cx="1440" cy="35712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Овал 217"/>
            <p:cNvSpPr/>
            <p:nvPr/>
          </p:nvSpPr>
          <p:spPr>
            <a:xfrm>
              <a:off x="1285920" y="2571840"/>
              <a:ext cx="142920" cy="14292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65"/>
            <p:cNvSpPr/>
            <p:nvPr/>
          </p:nvSpPr>
          <p:spPr>
            <a:xfrm>
              <a:off x="1143000" y="202392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Группа 78"/>
          <p:cNvGrpSpPr/>
          <p:nvPr/>
        </p:nvGrpSpPr>
        <p:grpSpPr>
          <a:xfrm>
            <a:off x="1537200" y="1958760"/>
            <a:ext cx="1034280" cy="684360"/>
            <a:chOff x="1537200" y="1958760"/>
            <a:chExt cx="1034280" cy="684360"/>
          </a:xfrm>
        </p:grpSpPr>
        <p:sp>
          <p:nvSpPr>
            <p:cNvPr id="357" name="Трапеция 228"/>
            <p:cNvSpPr/>
            <p:nvPr/>
          </p:nvSpPr>
          <p:spPr>
            <a:xfrm rot="18300000">
              <a:off x="1655280" y="1973160"/>
              <a:ext cx="253800" cy="42048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6984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54000" h="540217">
                  <a:moveTo>
                    <a:pt x="0" y="540217"/>
                  </a:moveTo>
                  <a:lnTo>
                    <a:pt x="63500" y="0"/>
                  </a:lnTo>
                  <a:lnTo>
                    <a:pt x="190500" y="0"/>
                  </a:lnTo>
                  <a:lnTo>
                    <a:pt x="254000" y="54021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оугольник 229"/>
            <p:cNvSpPr/>
            <p:nvPr/>
          </p:nvSpPr>
          <p:spPr>
            <a:xfrm>
              <a:off x="1903320" y="2000160"/>
              <a:ext cx="50148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Месяц 230"/>
            <p:cNvSpPr/>
            <p:nvPr/>
          </p:nvSpPr>
          <p:spPr>
            <a:xfrm rot="10800000">
              <a:off x="2404800" y="2000160"/>
              <a:ext cx="16668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Пятно 1 231"/>
          <p:cNvGrpSpPr/>
          <p:nvPr/>
        </p:nvGrpSpPr>
        <p:grpSpPr>
          <a:xfrm>
            <a:off x="2584440" y="1822320"/>
            <a:ext cx="1042920" cy="897120"/>
            <a:chOff x="2584440" y="1822320"/>
            <a:chExt cx="1042920" cy="897120"/>
          </a:xfrm>
        </p:grpSpPr>
        <p:pic>
          <p:nvPicPr>
            <p:cNvPr id="361" name="Пятно 1 231" descr=""/>
            <p:cNvPicPr/>
            <p:nvPr/>
          </p:nvPicPr>
          <p:blipFill>
            <a:blip r:embed="rId4"/>
            <a:stretch/>
          </p:blipFill>
          <p:spPr>
            <a:xfrm>
              <a:off x="2584440" y="1822320"/>
              <a:ext cx="104292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2841480" y="2087640"/>
              <a:ext cx="519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Box 74"/>
          <p:cNvSpPr/>
          <p:nvPr/>
        </p:nvSpPr>
        <p:spPr>
          <a:xfrm>
            <a:off x="1857240" y="271476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оэ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кругленный прямоугольник 295"/>
          <p:cNvSpPr/>
          <p:nvPr/>
        </p:nvSpPr>
        <p:spPr>
          <a:xfrm>
            <a:off x="285840" y="3429000"/>
            <a:ext cx="342900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Группа 16"/>
          <p:cNvGrpSpPr/>
          <p:nvPr/>
        </p:nvGrpSpPr>
        <p:grpSpPr>
          <a:xfrm>
            <a:off x="428760" y="3571920"/>
            <a:ext cx="714240" cy="642960"/>
            <a:chOff x="428760" y="3571920"/>
            <a:chExt cx="714240" cy="642960"/>
          </a:xfrm>
        </p:grpSpPr>
        <p:sp>
          <p:nvSpPr>
            <p:cNvPr id="366" name="Овал 297"/>
            <p:cNvSpPr/>
            <p:nvPr/>
          </p:nvSpPr>
          <p:spPr>
            <a:xfrm>
              <a:off x="428760" y="3571920"/>
              <a:ext cx="714240" cy="64296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Овал 298"/>
            <p:cNvSpPr/>
            <p:nvPr/>
          </p:nvSpPr>
          <p:spPr>
            <a:xfrm>
              <a:off x="642960" y="3765600"/>
              <a:ext cx="71280" cy="6336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Овал 299"/>
            <p:cNvSpPr/>
            <p:nvPr/>
          </p:nvSpPr>
          <p:spPr>
            <a:xfrm>
              <a:off x="857160" y="3765600"/>
              <a:ext cx="71280" cy="6336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Дуга 300"/>
            <p:cNvSpPr/>
            <p:nvPr/>
          </p:nvSpPr>
          <p:spPr>
            <a:xfrm rot="7134600">
              <a:off x="650880" y="3718440"/>
              <a:ext cx="252360" cy="352440"/>
            </a:xfrm>
            <a:custGeom>
              <a:avLst/>
              <a:gdLst>
                <a:gd name="textAreaLeft" fmla="*/ 126360 w 252360"/>
                <a:gd name="textAreaRight" fmla="*/ 252720 w 25236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80461" h="352427">
                  <a:moveTo>
                    <a:pt x="140231" y="0"/>
                  </a:moveTo>
                  <a:lnTo>
                    <a:pt x="140231" y="0"/>
                  </a:lnTo>
                  <a:arcTo wR="140231" hR="176214" stAng="-5400000" swAng="5400000"/>
                  <a:lnTo>
                    <a:pt x="140231" y="176214"/>
                  </a:lnTo>
                  <a:close/>
                </a:path>
                <a:path fill="none" w="280461" h="352427">
                  <a:moveTo>
                    <a:pt x="140231" y="0"/>
                  </a:moveTo>
                  <a:lnTo>
                    <a:pt x="140231" y="0"/>
                  </a:lnTo>
                  <a:arcTo wR="140231" hR="176214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Овал 301"/>
          <p:cNvSpPr/>
          <p:nvPr/>
        </p:nvSpPr>
        <p:spPr>
          <a:xfrm>
            <a:off x="2786040" y="3500280"/>
            <a:ext cx="785880" cy="785880"/>
          </a:xfrm>
          <a:prstGeom prst="ellipse">
            <a:avLst/>
          </a:prstGeom>
          <a:gradFill rotWithShape="0">
            <a:gsLst>
              <a:gs pos="0">
                <a:srgbClr val="d89300"/>
              </a:gs>
              <a:gs pos="100000">
                <a:srgbClr val="ffc500">
                  <a:alpha val="15294"/>
                </a:srgbClr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Группа 55"/>
          <p:cNvGrpSpPr/>
          <p:nvPr/>
        </p:nvGrpSpPr>
        <p:grpSpPr>
          <a:xfrm>
            <a:off x="1822320" y="3619800"/>
            <a:ext cx="820800" cy="595080"/>
            <a:chOff x="1822320" y="3619800"/>
            <a:chExt cx="820800" cy="595080"/>
          </a:xfrm>
        </p:grpSpPr>
        <p:sp>
          <p:nvSpPr>
            <p:cNvPr id="372" name="Трапеция 303"/>
            <p:cNvSpPr/>
            <p:nvPr/>
          </p:nvSpPr>
          <p:spPr>
            <a:xfrm rot="18300000">
              <a:off x="1909440" y="3641760"/>
              <a:ext cx="225360" cy="330120"/>
            </a:xfrm>
            <a:custGeom>
              <a:avLst/>
              <a:gdLst>
                <a:gd name="textAreaLeft" fmla="*/ 37440 w 225360"/>
                <a:gd name="textAreaRight" fmla="*/ 187920 w 225360"/>
                <a:gd name="textAreaTop" fmla="*/ 5508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53605" h="539385">
                  <a:moveTo>
                    <a:pt x="0" y="539385"/>
                  </a:moveTo>
                  <a:lnTo>
                    <a:pt x="63401" y="0"/>
                  </a:lnTo>
                  <a:lnTo>
                    <a:pt x="190204" y="0"/>
                  </a:lnTo>
                  <a:lnTo>
                    <a:pt x="253605" y="539385"/>
                  </a:lnTo>
                  <a:close/>
                </a:path>
              </a:pathLst>
            </a:cu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95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Прямоугольник 304"/>
            <p:cNvSpPr/>
            <p:nvPr/>
          </p:nvSpPr>
          <p:spPr>
            <a:xfrm>
              <a:off x="2119320" y="3643200"/>
              <a:ext cx="392040" cy="57168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Месяц 305"/>
            <p:cNvSpPr/>
            <p:nvPr/>
          </p:nvSpPr>
          <p:spPr>
            <a:xfrm rot="10800000">
              <a:off x="2511360" y="3643200"/>
              <a:ext cx="131760" cy="57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Группа 16"/>
          <p:cNvGrpSpPr/>
          <p:nvPr/>
        </p:nvGrpSpPr>
        <p:grpSpPr>
          <a:xfrm>
            <a:off x="1278720" y="3642840"/>
            <a:ext cx="578520" cy="572040"/>
            <a:chOff x="1278720" y="3642840"/>
            <a:chExt cx="578520" cy="572040"/>
          </a:xfrm>
        </p:grpSpPr>
        <p:sp>
          <p:nvSpPr>
            <p:cNvPr id="376" name="Блок-схема: ручное управление 307"/>
            <p:cNvSpPr/>
            <p:nvPr/>
          </p:nvSpPr>
          <p:spPr>
            <a:xfrm rot="5211600">
              <a:off x="1283040" y="3797640"/>
              <a:ext cx="257400" cy="252360"/>
            </a:xfrm>
            <a:prstGeom prst="flowChartManualOperation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0986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Группа 83"/>
            <p:cNvGrpSpPr/>
            <p:nvPr/>
          </p:nvGrpSpPr>
          <p:grpSpPr>
            <a:xfrm>
              <a:off x="1595880" y="3642840"/>
              <a:ext cx="261360" cy="572040"/>
              <a:chOff x="1595880" y="3642840"/>
              <a:chExt cx="261360" cy="572040"/>
            </a:xfrm>
          </p:grpSpPr>
          <p:sp>
            <p:nvSpPr>
              <p:cNvPr id="378" name="Прямая соединительная линия 309"/>
              <p:cNvSpPr/>
              <p:nvPr/>
            </p:nvSpPr>
            <p:spPr>
              <a:xfrm flipV="1">
                <a:off x="1595880" y="3642840"/>
                <a:ext cx="114120" cy="1141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Прямая соединительная линия 310"/>
              <p:cNvSpPr/>
              <p:nvPr/>
            </p:nvSpPr>
            <p:spPr>
              <a:xfrm flipV="1">
                <a:off x="1595880" y="3871800"/>
                <a:ext cx="151920" cy="79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Прямая соединительная линия 311"/>
              <p:cNvSpPr/>
              <p:nvPr/>
            </p:nvSpPr>
            <p:spPr>
              <a:xfrm>
                <a:off x="1595880" y="4002120"/>
                <a:ext cx="147240" cy="4104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Прямая соединительная линия 312"/>
              <p:cNvSpPr/>
              <p:nvPr/>
            </p:nvSpPr>
            <p:spPr>
              <a:xfrm>
                <a:off x="1710000" y="3944880"/>
                <a:ext cx="147240" cy="4104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Прямая соединительная линия 313"/>
              <p:cNvSpPr/>
              <p:nvPr/>
            </p:nvSpPr>
            <p:spPr>
              <a:xfrm flipV="1">
                <a:off x="1710000" y="3700080"/>
                <a:ext cx="147240" cy="5688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Прямая соединительная линия 314"/>
              <p:cNvSpPr/>
              <p:nvPr/>
            </p:nvSpPr>
            <p:spPr>
              <a:xfrm>
                <a:off x="1595880" y="4100760"/>
                <a:ext cx="114120" cy="1141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Прямая соединительная линия 315"/>
              <p:cNvSpPr/>
              <p:nvPr/>
            </p:nvSpPr>
            <p:spPr>
              <a:xfrm>
                <a:off x="1710000" y="4100760"/>
                <a:ext cx="147240" cy="9828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TextBox 120"/>
          <p:cNvSpPr/>
          <p:nvPr/>
        </p:nvSpPr>
        <p:spPr>
          <a:xfrm>
            <a:off x="2000160" y="428616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парагу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Группа 76"/>
          <p:cNvGrpSpPr/>
          <p:nvPr/>
        </p:nvGrpSpPr>
        <p:grpSpPr>
          <a:xfrm>
            <a:off x="5000760" y="3571920"/>
            <a:ext cx="642960" cy="714240"/>
            <a:chOff x="5000760" y="3571920"/>
            <a:chExt cx="642960" cy="714240"/>
          </a:xfrm>
        </p:grpSpPr>
        <p:sp>
          <p:nvSpPr>
            <p:cNvPr id="387" name="Прямоугольник 319"/>
            <p:cNvSpPr/>
            <p:nvPr/>
          </p:nvSpPr>
          <p:spPr>
            <a:xfrm>
              <a:off x="5000760" y="3571920"/>
              <a:ext cx="428760" cy="71424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Прямая соединительная линия 320"/>
            <p:cNvSpPr/>
            <p:nvPr/>
          </p:nvSpPr>
          <p:spPr>
            <a:xfrm flipH="1">
              <a:off x="5213520" y="3929040"/>
              <a:ext cx="1440" cy="35712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Овал 321"/>
            <p:cNvSpPr/>
            <p:nvPr/>
          </p:nvSpPr>
          <p:spPr>
            <a:xfrm>
              <a:off x="5143680" y="4143240"/>
              <a:ext cx="142920" cy="14256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Box 65"/>
            <p:cNvSpPr/>
            <p:nvPr/>
          </p:nvSpPr>
          <p:spPr>
            <a:xfrm>
              <a:off x="5000760" y="35956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Группа 78"/>
          <p:cNvGrpSpPr/>
          <p:nvPr/>
        </p:nvGrpSpPr>
        <p:grpSpPr>
          <a:xfrm>
            <a:off x="5466240" y="3530520"/>
            <a:ext cx="1034280" cy="684360"/>
            <a:chOff x="5466240" y="3530520"/>
            <a:chExt cx="1034280" cy="684360"/>
          </a:xfrm>
        </p:grpSpPr>
        <p:sp>
          <p:nvSpPr>
            <p:cNvPr id="392" name="Трапеция 324"/>
            <p:cNvSpPr/>
            <p:nvPr/>
          </p:nvSpPr>
          <p:spPr>
            <a:xfrm rot="18300000">
              <a:off x="5584320" y="3544920"/>
              <a:ext cx="253800" cy="42048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6984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54000" h="540216">
                  <a:moveTo>
                    <a:pt x="0" y="540216"/>
                  </a:moveTo>
                  <a:lnTo>
                    <a:pt x="63500" y="0"/>
                  </a:lnTo>
                  <a:lnTo>
                    <a:pt x="190500" y="0"/>
                  </a:lnTo>
                  <a:lnTo>
                    <a:pt x="254000" y="540216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Прямоугольник 325"/>
            <p:cNvSpPr/>
            <p:nvPr/>
          </p:nvSpPr>
          <p:spPr>
            <a:xfrm>
              <a:off x="5832360" y="3571920"/>
              <a:ext cx="50148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Месяц 326"/>
            <p:cNvSpPr/>
            <p:nvPr/>
          </p:nvSpPr>
          <p:spPr>
            <a:xfrm rot="10800000">
              <a:off x="6333840" y="3571920"/>
              <a:ext cx="16668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Пятно 1 327"/>
          <p:cNvGrpSpPr/>
          <p:nvPr/>
        </p:nvGrpSpPr>
        <p:grpSpPr>
          <a:xfrm>
            <a:off x="6510240" y="3462480"/>
            <a:ext cx="1042920" cy="896760"/>
            <a:chOff x="6510240" y="3462480"/>
            <a:chExt cx="1042920" cy="896760"/>
          </a:xfrm>
        </p:grpSpPr>
        <p:pic>
          <p:nvPicPr>
            <p:cNvPr id="396" name="Пятно 1 327" descr=""/>
            <p:cNvPicPr/>
            <p:nvPr/>
          </p:nvPicPr>
          <p:blipFill>
            <a:blip r:embed="rId5"/>
            <a:stretch/>
          </p:blipFill>
          <p:spPr>
            <a:xfrm>
              <a:off x="6510240" y="3462480"/>
              <a:ext cx="10429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6770520" y="3730680"/>
              <a:ext cx="519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8:13:45Z</dcterms:created>
  <dc:creator>Кузнецова Виктория</dc:creator>
  <dc:description/>
  <dc:language>en-US</dc:language>
  <cp:lastModifiedBy>Ленуся</cp:lastModifiedBy>
  <dcterms:modified xsi:type="dcterms:W3CDTF">2010-09-06T18:08:11Z</dcterms:modified>
  <cp:revision>182</cp:revision>
  <dc:subject/>
  <dc:title>«Солнышко» 6 группа</dc:title>
</cp:coreProperties>
</file>