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D455-D7FF-42D7-8371-EE9B4B9FC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52E-D31D-4309-9375-7DE1B3072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84E3-EDBB-4111-B9C5-2C2F94374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2BDA-2278-42F8-8C79-E2EB95F79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A4F5-635C-4AF4-B80A-5FBFE60EF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AC74-5BF5-4374-B748-435B5C3F8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9F30-0B20-451D-915F-0B5CB9B6C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CE1-1BC1-4EB3-AFE3-1499B829C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849-11E1-43E6-BCE1-85CB45F72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30BC-F05F-45B4-B29C-1D5C4969F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A46-7AB7-49C1-8B2A-BCF7290A7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E3B-226E-4AE2-8288-1417C60F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007-F099-43CC-ADE5-BC07834A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7EA-DAD2-4137-87B0-758B6CBD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7A7-2192-4373-9330-F49A2D88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CE9-5131-4686-B232-E8B50037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415-0E7F-4373-AC79-C0935333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961-6BE4-43AB-AB8D-B4208138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28C-639C-44BB-ACF0-9098DD96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76B-B1BA-4600-A17A-DC8FC94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F0D-66D3-41FE-8CC2-B0F2A2A2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E78-8A20-4C43-8E5E-3434500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BDF-4547-4A72-8A40-638B500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6A5-A84A-4CEC-B494-F6E534BEE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7"/>
          <p:cNvSpPr/>
          <p:nvPr/>
        </p:nvSpPr>
        <p:spPr>
          <a:xfrm>
            <a:off x="0" y="285840"/>
            <a:ext cx="9144000" cy="657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85920" y="785520"/>
            <a:ext cx="6286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852560" y="1670040"/>
            <a:ext cx="533412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viki\AppData\Local\Microsoft\Windows\Temporary Internet Files\Content.IE5\QYIAUPJ1\MCj04376360000[1].png"/>
          <p:cNvPicPr/>
          <p:nvPr/>
        </p:nvPicPr>
        <p:blipFill>
          <a:blip r:embed="rId2"/>
          <a:stretch/>
        </p:blipFill>
        <p:spPr>
          <a:xfrm>
            <a:off x="3214800" y="464328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viki\AppData\Local\Microsoft\Windows\Temporary Internet Files\Content.IE5\YN4VUU4O\MCj04376550000[1].wmf"/>
          <p:cNvPicPr/>
          <p:nvPr/>
        </p:nvPicPr>
        <p:blipFill>
          <a:blip r:embed="rId3"/>
          <a:stretch/>
        </p:blipFill>
        <p:spPr>
          <a:xfrm>
            <a:off x="642960" y="71424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viki\AppData\Local\Microsoft\Windows\Temporary Internet Files\Content.IE5\YHBMSOS7\MCj04376590000[1].wmf"/>
          <p:cNvPicPr/>
          <p:nvPr/>
        </p:nvPicPr>
        <p:blipFill>
          <a:blip r:embed="rId4"/>
          <a:stretch/>
        </p:blipFill>
        <p:spPr>
          <a:xfrm flipH="1" rot="706800">
            <a:off x="7260840" y="460440"/>
            <a:ext cx="1144440" cy="1274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357200" y="3571920"/>
            <a:ext cx="64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920" cy="51516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643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Группа 26"/>
          <p:cNvGrpSpPr/>
          <p:nvPr/>
        </p:nvGrpSpPr>
        <p:grpSpPr>
          <a:xfrm>
            <a:off x="4071960" y="2928960"/>
            <a:ext cx="1857240" cy="817560"/>
            <a:chOff x="4071960" y="2928960"/>
            <a:chExt cx="1857240" cy="817560"/>
          </a:xfrm>
        </p:grpSpPr>
        <p:sp>
          <p:nvSpPr>
            <p:cNvPr id="401" name="Скругленный прямоугольник 4"/>
            <p:cNvSpPr/>
            <p:nvPr/>
          </p:nvSpPr>
          <p:spPr>
            <a:xfrm>
              <a:off x="4071960" y="2928960"/>
              <a:ext cx="176868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Группа 16"/>
            <p:cNvGrpSpPr/>
            <p:nvPr/>
          </p:nvGrpSpPr>
          <p:grpSpPr>
            <a:xfrm>
              <a:off x="4111200" y="3090240"/>
              <a:ext cx="345600" cy="394560"/>
              <a:chOff x="4111200" y="3090240"/>
              <a:chExt cx="345600" cy="394560"/>
            </a:xfrm>
          </p:grpSpPr>
          <p:sp>
            <p:nvSpPr>
              <p:cNvPr id="403" name="Овал 93"/>
              <p:cNvSpPr/>
              <p:nvPr/>
            </p:nvSpPr>
            <p:spPr>
              <a:xfrm>
                <a:off x="4111200" y="3090240"/>
                <a:ext cx="345600" cy="394560"/>
              </a:xfrm>
              <a:prstGeom prst="ellipse">
                <a:avLst/>
              </a:prstGeom>
              <a:solidFill>
                <a:srgbClr val="feb80a"/>
              </a:solidFill>
              <a:ln w="25560">
                <a:solidFill>
                  <a:srgbClr val="bb8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Овал 94"/>
              <p:cNvSpPr/>
              <p:nvPr/>
            </p:nvSpPr>
            <p:spPr>
              <a:xfrm>
                <a:off x="4214520" y="3207960"/>
                <a:ext cx="34920" cy="3960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Овал 95"/>
              <p:cNvSpPr/>
              <p:nvPr/>
            </p:nvSpPr>
            <p:spPr>
              <a:xfrm>
                <a:off x="4318200" y="3207960"/>
                <a:ext cx="34920" cy="3960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Дуга 96"/>
              <p:cNvSpPr/>
              <p:nvPr/>
            </p:nvSpPr>
            <p:spPr>
              <a:xfrm rot="7134600">
                <a:off x="4202640" y="3202920"/>
                <a:ext cx="154440" cy="170280"/>
              </a:xfrm>
              <a:custGeom>
                <a:avLst/>
                <a:gdLst>
                  <a:gd name="textAreaLeft" fmla="*/ 77400 w 154440"/>
                  <a:gd name="textAreaRight" fmla="*/ 154800 w 154440"/>
                  <a:gd name="textAreaTop" fmla="*/ 0 h 170280"/>
                  <a:gd name="textAreaBottom" fmla="*/ 85320 h 17028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60">
                <a:solidFill>
                  <a:srgbClr val="c32d2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TextBox 102"/>
            <p:cNvSpPr/>
            <p:nvPr/>
          </p:nvSpPr>
          <p:spPr>
            <a:xfrm>
              <a:off x="4780440" y="3484800"/>
              <a:ext cx="11487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Группа 55"/>
            <p:cNvGrpSpPr/>
            <p:nvPr/>
          </p:nvGrpSpPr>
          <p:grpSpPr>
            <a:xfrm>
              <a:off x="4854240" y="3084480"/>
              <a:ext cx="524160" cy="400320"/>
              <a:chOff x="4854240" y="3084480"/>
              <a:chExt cx="524160" cy="400320"/>
            </a:xfrm>
          </p:grpSpPr>
          <p:sp>
            <p:nvSpPr>
              <p:cNvPr id="409" name="Трапеция 158"/>
              <p:cNvSpPr/>
              <p:nvPr/>
            </p:nvSpPr>
            <p:spPr>
              <a:xfrm rot="18300000">
                <a:off x="4907160" y="3102480"/>
                <a:ext cx="153720" cy="209880"/>
              </a:xfrm>
              <a:custGeom>
                <a:avLst/>
                <a:gdLst>
                  <a:gd name="textAreaLeft" fmla="*/ 25560 w 153720"/>
                  <a:gd name="textAreaRight" fmla="*/ 128160 w 153720"/>
                  <a:gd name="textAreaTop" fmla="*/ 3492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398b5"/>
                  </a:gs>
                </a:gsLst>
                <a:lin ang="19500000"/>
              </a:gradFill>
              <a:ln w="9360">
                <a:solidFill>
                  <a:srgbClr val="348fa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оугольник 159"/>
              <p:cNvSpPr/>
              <p:nvPr/>
            </p:nvSpPr>
            <p:spPr>
              <a:xfrm>
                <a:off x="5046480" y="3096000"/>
                <a:ext cx="248040" cy="388800"/>
              </a:xfrm>
              <a:prstGeom prst="rect">
                <a:avLst/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398b5"/>
                  </a:gs>
                </a:gsLst>
                <a:lin ang="16200000"/>
              </a:gradFill>
              <a:ln w="9360">
                <a:solidFill>
                  <a:srgbClr val="348fa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Месяц 160"/>
              <p:cNvSpPr/>
              <p:nvPr/>
            </p:nvSpPr>
            <p:spPr>
              <a:xfrm rot="10800000">
                <a:off x="5295960" y="3096000"/>
                <a:ext cx="82440" cy="388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398b5"/>
                  </a:gs>
                </a:gsLst>
                <a:lin ang="5400000"/>
              </a:gradFill>
              <a:ln w="9360">
                <a:solidFill>
                  <a:srgbClr val="348fa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Группа 16"/>
            <p:cNvGrpSpPr/>
            <p:nvPr/>
          </p:nvGrpSpPr>
          <p:grpSpPr>
            <a:xfrm>
              <a:off x="4529520" y="3182400"/>
              <a:ext cx="349560" cy="302400"/>
              <a:chOff x="4529520" y="3182400"/>
              <a:chExt cx="349560" cy="302400"/>
            </a:xfrm>
          </p:grpSpPr>
          <p:sp>
            <p:nvSpPr>
              <p:cNvPr id="413" name="Блок-схема: ручное управление 162"/>
              <p:cNvSpPr/>
              <p:nvPr/>
            </p:nvSpPr>
            <p:spPr>
              <a:xfrm rot="5211600">
                <a:off x="4541400" y="3255120"/>
                <a:ext cx="135000" cy="15228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0986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" name="Группа 83"/>
              <p:cNvGrpSpPr/>
              <p:nvPr/>
            </p:nvGrpSpPr>
            <p:grpSpPr>
              <a:xfrm>
                <a:off x="4721040" y="3182400"/>
                <a:ext cx="158040" cy="302400"/>
                <a:chOff x="4721040" y="3182400"/>
                <a:chExt cx="158040" cy="302400"/>
              </a:xfrm>
            </p:grpSpPr>
            <p:sp>
              <p:nvSpPr>
                <p:cNvPr id="415" name="Прямая соединительная линия 164"/>
                <p:cNvSpPr/>
                <p:nvPr/>
              </p:nvSpPr>
              <p:spPr>
                <a:xfrm flipV="1">
                  <a:off x="4721040" y="3182400"/>
                  <a:ext cx="69480" cy="6048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Прямая соединительная линия 165"/>
                <p:cNvSpPr/>
                <p:nvPr/>
              </p:nvSpPr>
              <p:spPr>
                <a:xfrm flipV="1">
                  <a:off x="4721040" y="3303360"/>
                  <a:ext cx="91800" cy="288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Прямая соединительная линия 166"/>
                <p:cNvSpPr/>
                <p:nvPr/>
              </p:nvSpPr>
              <p:spPr>
                <a:xfrm>
                  <a:off x="4721040" y="3371760"/>
                  <a:ext cx="88560" cy="2196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Прямая соединительная линия 167"/>
                <p:cNvSpPr/>
                <p:nvPr/>
              </p:nvSpPr>
              <p:spPr>
                <a:xfrm>
                  <a:off x="4790520" y="3341520"/>
                  <a:ext cx="88560" cy="2196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Прямая соединительная линия 168"/>
                <p:cNvSpPr/>
                <p:nvPr/>
              </p:nvSpPr>
              <p:spPr>
                <a:xfrm flipV="1">
                  <a:off x="4790520" y="3212640"/>
                  <a:ext cx="88560" cy="3024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Прямая соединительная линия 169"/>
                <p:cNvSpPr/>
                <p:nvPr/>
              </p:nvSpPr>
              <p:spPr>
                <a:xfrm>
                  <a:off x="4721040" y="3424320"/>
                  <a:ext cx="69480" cy="6048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Прямая соединительная линия 170"/>
                <p:cNvSpPr/>
                <p:nvPr/>
              </p:nvSpPr>
              <p:spPr>
                <a:xfrm>
                  <a:off x="4790520" y="3424320"/>
                  <a:ext cx="88560" cy="52560"/>
                </a:xfrm>
                <a:prstGeom prst="line">
                  <a:avLst/>
                </a:prstGeom>
                <a:ln w="25560">
                  <a:solidFill>
                    <a:srgbClr val="475a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" name="Овал 26"/>
            <p:cNvSpPr/>
            <p:nvPr/>
          </p:nvSpPr>
          <p:spPr>
            <a:xfrm>
              <a:off x="5459400" y="3076560"/>
              <a:ext cx="349200" cy="387360"/>
            </a:xfrm>
            <a:prstGeom prst="ellipse">
              <a:avLst/>
            </a:prstGeom>
            <a:gradFill rotWithShape="0">
              <a:gsLst>
                <a:gs pos="0">
                  <a:srgbClr val="d89300"/>
                </a:gs>
                <a:gs pos="100000">
                  <a:srgbClr val="ffc500">
                    <a:alpha val="15294"/>
                  </a:srgbClr>
                </a:gs>
              </a:gsLst>
              <a:lin ang="2700000"/>
            </a:gradFill>
            <a:ln w="9360">
              <a:solidFill>
                <a:srgbClr val="feb60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Цилиндр 30"/>
          <p:cNvSpPr/>
          <p:nvPr/>
        </p:nvSpPr>
        <p:spPr>
          <a:xfrm>
            <a:off x="4714920" y="3643200"/>
            <a:ext cx="142920" cy="1009800"/>
          </a:xfrm>
          <a:prstGeom prst="can">
            <a:avLst>
              <a:gd name="adj" fmla="val 5935"/>
            </a:avLst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214560" y="4785840"/>
            <a:ext cx="93582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480" cy="38959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50920" y="826920"/>
            <a:ext cx="54007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85840" y="3429000"/>
            <a:ext cx="4357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6"/>
          <p:cNvGrpSpPr/>
          <p:nvPr/>
        </p:nvGrpSpPr>
        <p:grpSpPr>
          <a:xfrm>
            <a:off x="428760" y="3571920"/>
            <a:ext cx="714240" cy="714240"/>
            <a:chOff x="428760" y="3571920"/>
            <a:chExt cx="714240" cy="714240"/>
          </a:xfrm>
        </p:grpSpPr>
        <p:sp>
          <p:nvSpPr>
            <p:cNvPr id="61" name="Овал 7"/>
            <p:cNvSpPr/>
            <p:nvPr/>
          </p:nvSpPr>
          <p:spPr>
            <a:xfrm>
              <a:off x="428760" y="3571920"/>
              <a:ext cx="714240" cy="71424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8"/>
            <p:cNvSpPr/>
            <p:nvPr/>
          </p:nvSpPr>
          <p:spPr>
            <a:xfrm>
              <a:off x="642960" y="37861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9"/>
            <p:cNvSpPr/>
            <p:nvPr/>
          </p:nvSpPr>
          <p:spPr>
            <a:xfrm>
              <a:off x="857160" y="37861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Дуга 10"/>
            <p:cNvSpPr/>
            <p:nvPr/>
          </p:nvSpPr>
          <p:spPr>
            <a:xfrm rot="7134600">
              <a:off x="637560" y="375408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Овал 11"/>
          <p:cNvSpPr/>
          <p:nvPr/>
        </p:nvSpPr>
        <p:spPr>
          <a:xfrm>
            <a:off x="378612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55"/>
          <p:cNvGrpSpPr/>
          <p:nvPr/>
        </p:nvGrpSpPr>
        <p:grpSpPr>
          <a:xfrm>
            <a:off x="2190960" y="3567960"/>
            <a:ext cx="1307520" cy="718200"/>
            <a:chOff x="2190960" y="3567960"/>
            <a:chExt cx="1307520" cy="718200"/>
          </a:xfrm>
        </p:grpSpPr>
        <p:sp>
          <p:nvSpPr>
            <p:cNvPr id="67" name="Трапеция 13"/>
            <p:cNvSpPr/>
            <p:nvPr/>
          </p:nvSpPr>
          <p:spPr>
            <a:xfrm rot="18300000">
              <a:off x="2357640" y="355680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4"/>
            <p:cNvSpPr/>
            <p:nvPr/>
          </p:nvSpPr>
          <p:spPr>
            <a:xfrm>
              <a:off x="2641680" y="364320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Месяц 15"/>
            <p:cNvSpPr/>
            <p:nvPr/>
          </p:nvSpPr>
          <p:spPr>
            <a:xfrm rot="10800000">
              <a:off x="3284280" y="364320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16"/>
          <p:cNvGrpSpPr/>
          <p:nvPr/>
        </p:nvGrpSpPr>
        <p:grpSpPr>
          <a:xfrm>
            <a:off x="1279080" y="3642840"/>
            <a:ext cx="767160" cy="572040"/>
            <a:chOff x="1279080" y="3642840"/>
            <a:chExt cx="767160" cy="572040"/>
          </a:xfrm>
        </p:grpSpPr>
        <p:sp>
          <p:nvSpPr>
            <p:cNvPr id="71" name="Блок-схема: ручное управление 17"/>
            <p:cNvSpPr/>
            <p:nvPr/>
          </p:nvSpPr>
          <p:spPr>
            <a:xfrm rot="5211600">
              <a:off x="1324440" y="3756600"/>
              <a:ext cx="25740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Группа 83"/>
            <p:cNvGrpSpPr/>
            <p:nvPr/>
          </p:nvGrpSpPr>
          <p:grpSpPr>
            <a:xfrm>
              <a:off x="1698480" y="3642840"/>
              <a:ext cx="347760" cy="572040"/>
              <a:chOff x="1698480" y="3642840"/>
              <a:chExt cx="347760" cy="572040"/>
            </a:xfrm>
          </p:grpSpPr>
          <p:sp>
            <p:nvSpPr>
              <p:cNvPr id="73" name="Прямая соединительная линия 19"/>
              <p:cNvSpPr/>
              <p:nvPr/>
            </p:nvSpPr>
            <p:spPr>
              <a:xfrm flipV="1">
                <a:off x="1698480" y="364284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Прямая соединительная линия 20"/>
              <p:cNvSpPr/>
              <p:nvPr/>
            </p:nvSpPr>
            <p:spPr>
              <a:xfrm flipV="1">
                <a:off x="1698480" y="387180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Прямая соединительная линия 21"/>
              <p:cNvSpPr/>
              <p:nvPr/>
            </p:nvSpPr>
            <p:spPr>
              <a:xfrm>
                <a:off x="1698480" y="400212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22"/>
              <p:cNvSpPr/>
              <p:nvPr/>
            </p:nvSpPr>
            <p:spPr>
              <a:xfrm>
                <a:off x="1850760" y="39448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23"/>
              <p:cNvSpPr/>
              <p:nvPr/>
            </p:nvSpPr>
            <p:spPr>
              <a:xfrm flipV="1">
                <a:off x="1850760" y="370008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ая соединительная линия 24"/>
              <p:cNvSpPr/>
              <p:nvPr/>
            </p:nvSpPr>
            <p:spPr>
              <a:xfrm>
                <a:off x="1698480" y="41007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Прямая соединительная линия 25"/>
              <p:cNvSpPr/>
              <p:nvPr/>
            </p:nvSpPr>
            <p:spPr>
              <a:xfrm>
                <a:off x="1850760" y="410076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214560" y="4785840"/>
            <a:ext cx="93582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250920" y="826920"/>
            <a:ext cx="54007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285840" y="3643200"/>
            <a:ext cx="4357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6"/>
          <p:cNvGrpSpPr/>
          <p:nvPr/>
        </p:nvGrpSpPr>
        <p:grpSpPr>
          <a:xfrm>
            <a:off x="428760" y="3786120"/>
            <a:ext cx="714240" cy="714600"/>
            <a:chOff x="428760" y="3786120"/>
            <a:chExt cx="714240" cy="714600"/>
          </a:xfrm>
        </p:grpSpPr>
        <p:sp>
          <p:nvSpPr>
            <p:cNvPr id="85" name="Овал 7"/>
            <p:cNvSpPr/>
            <p:nvPr/>
          </p:nvSpPr>
          <p:spPr>
            <a:xfrm>
              <a:off x="428760" y="3786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Овал 8"/>
            <p:cNvSpPr/>
            <p:nvPr/>
          </p:nvSpPr>
          <p:spPr>
            <a:xfrm>
              <a:off x="642960" y="4000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Овал 9"/>
            <p:cNvSpPr/>
            <p:nvPr/>
          </p:nvSpPr>
          <p:spPr>
            <a:xfrm>
              <a:off x="857160" y="4000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Дуга 10"/>
            <p:cNvSpPr/>
            <p:nvPr/>
          </p:nvSpPr>
          <p:spPr>
            <a:xfrm rot="7134600">
              <a:off x="637560" y="39686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880" cy="392904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76"/>
          <p:cNvGrpSpPr/>
          <p:nvPr/>
        </p:nvGrpSpPr>
        <p:grpSpPr>
          <a:xfrm>
            <a:off x="1428840" y="3786120"/>
            <a:ext cx="642960" cy="714600"/>
            <a:chOff x="1428840" y="3786120"/>
            <a:chExt cx="642960" cy="714600"/>
          </a:xfrm>
        </p:grpSpPr>
        <p:sp>
          <p:nvSpPr>
            <p:cNvPr id="91" name="Прямоугольник 31"/>
            <p:cNvSpPr/>
            <p:nvPr/>
          </p:nvSpPr>
          <p:spPr>
            <a:xfrm>
              <a:off x="1428840" y="3786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32"/>
            <p:cNvSpPr/>
            <p:nvPr/>
          </p:nvSpPr>
          <p:spPr>
            <a:xfrm flipH="1">
              <a:off x="1641600" y="4143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Овал 33"/>
            <p:cNvSpPr/>
            <p:nvPr/>
          </p:nvSpPr>
          <p:spPr>
            <a:xfrm>
              <a:off x="1571760" y="4357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5"/>
            <p:cNvSpPr/>
            <p:nvPr/>
          </p:nvSpPr>
          <p:spPr>
            <a:xfrm>
              <a:off x="1428840" y="3809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78"/>
          <p:cNvGrpSpPr/>
          <p:nvPr/>
        </p:nvGrpSpPr>
        <p:grpSpPr>
          <a:xfrm>
            <a:off x="1905120" y="3782520"/>
            <a:ext cx="1307520" cy="718200"/>
            <a:chOff x="1905120" y="3782520"/>
            <a:chExt cx="1307520" cy="718200"/>
          </a:xfrm>
        </p:grpSpPr>
        <p:sp>
          <p:nvSpPr>
            <p:cNvPr id="96" name="Трапеция 36"/>
            <p:cNvSpPr/>
            <p:nvPr/>
          </p:nvSpPr>
          <p:spPr>
            <a:xfrm rot="18300000">
              <a:off x="2071800" y="3771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8964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37"/>
            <p:cNvSpPr/>
            <p:nvPr/>
          </p:nvSpPr>
          <p:spPr>
            <a:xfrm>
              <a:off x="2355840" y="3857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Месяц 38"/>
            <p:cNvSpPr/>
            <p:nvPr/>
          </p:nvSpPr>
          <p:spPr>
            <a:xfrm rot="10800000">
              <a:off x="2998440" y="3857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ятно 1 39"/>
          <p:cNvGrpSpPr/>
          <p:nvPr/>
        </p:nvGrpSpPr>
        <p:grpSpPr>
          <a:xfrm>
            <a:off x="3224160" y="3608280"/>
            <a:ext cx="1262160" cy="1176480"/>
            <a:chOff x="3224160" y="3608280"/>
            <a:chExt cx="1262160" cy="1176480"/>
          </a:xfrm>
        </p:grpSpPr>
        <p:pic>
          <p:nvPicPr>
            <p:cNvPr id="100" name="Пятно 1 39" descr=""/>
            <p:cNvPicPr/>
            <p:nvPr/>
          </p:nvPicPr>
          <p:blipFill>
            <a:blip r:embed="rId2"/>
            <a:stretch/>
          </p:blipFill>
          <p:spPr>
            <a:xfrm>
              <a:off x="3224160" y="3608280"/>
              <a:ext cx="1262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530520" y="3957480"/>
              <a:ext cx="6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214560" y="5643720"/>
            <a:ext cx="9358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50920" y="826920"/>
            <a:ext cx="532116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285840" y="4643280"/>
            <a:ext cx="4357440" cy="100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16"/>
          <p:cNvGrpSpPr/>
          <p:nvPr/>
        </p:nvGrpSpPr>
        <p:grpSpPr>
          <a:xfrm>
            <a:off x="428760" y="4786200"/>
            <a:ext cx="714240" cy="714600"/>
            <a:chOff x="428760" y="4786200"/>
            <a:chExt cx="714240" cy="714600"/>
          </a:xfrm>
        </p:grpSpPr>
        <p:sp>
          <p:nvSpPr>
            <p:cNvPr id="107" name="Овал 7"/>
            <p:cNvSpPr/>
            <p:nvPr/>
          </p:nvSpPr>
          <p:spPr>
            <a:xfrm>
              <a:off x="428760" y="478620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8"/>
            <p:cNvSpPr/>
            <p:nvPr/>
          </p:nvSpPr>
          <p:spPr>
            <a:xfrm>
              <a:off x="642960" y="500040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9"/>
            <p:cNvSpPr/>
            <p:nvPr/>
          </p:nvSpPr>
          <p:spPr>
            <a:xfrm>
              <a:off x="857160" y="500040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Дуга 10"/>
            <p:cNvSpPr/>
            <p:nvPr/>
          </p:nvSpPr>
          <p:spPr>
            <a:xfrm rot="7134600">
              <a:off x="637560" y="496872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6"/>
          <p:cNvGrpSpPr/>
          <p:nvPr/>
        </p:nvGrpSpPr>
        <p:grpSpPr>
          <a:xfrm>
            <a:off x="1428840" y="4786200"/>
            <a:ext cx="642960" cy="714600"/>
            <a:chOff x="1428840" y="4786200"/>
            <a:chExt cx="642960" cy="714600"/>
          </a:xfrm>
        </p:grpSpPr>
        <p:sp>
          <p:nvSpPr>
            <p:cNvPr id="112" name="Прямоугольник 31"/>
            <p:cNvSpPr/>
            <p:nvPr/>
          </p:nvSpPr>
          <p:spPr>
            <a:xfrm>
              <a:off x="1428840" y="478620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32"/>
            <p:cNvSpPr/>
            <p:nvPr/>
          </p:nvSpPr>
          <p:spPr>
            <a:xfrm flipH="1">
              <a:off x="1641600" y="514332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33"/>
            <p:cNvSpPr/>
            <p:nvPr/>
          </p:nvSpPr>
          <p:spPr>
            <a:xfrm>
              <a:off x="1571760" y="535788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65"/>
            <p:cNvSpPr/>
            <p:nvPr/>
          </p:nvSpPr>
          <p:spPr>
            <a:xfrm>
              <a:off x="1428840" y="480996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78"/>
          <p:cNvGrpSpPr/>
          <p:nvPr/>
        </p:nvGrpSpPr>
        <p:grpSpPr>
          <a:xfrm>
            <a:off x="1905120" y="4782600"/>
            <a:ext cx="1307520" cy="718200"/>
            <a:chOff x="1905120" y="4782600"/>
            <a:chExt cx="1307520" cy="718200"/>
          </a:xfrm>
        </p:grpSpPr>
        <p:sp>
          <p:nvSpPr>
            <p:cNvPr id="117" name="Трапеция 36"/>
            <p:cNvSpPr/>
            <p:nvPr/>
          </p:nvSpPr>
          <p:spPr>
            <a:xfrm rot="18300000">
              <a:off x="2071800" y="477144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8964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оугольник 37"/>
            <p:cNvSpPr/>
            <p:nvPr/>
          </p:nvSpPr>
          <p:spPr>
            <a:xfrm>
              <a:off x="2355840" y="48578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Месяц 38"/>
            <p:cNvSpPr/>
            <p:nvPr/>
          </p:nvSpPr>
          <p:spPr>
            <a:xfrm rot="10800000">
              <a:off x="2998440" y="48578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ятно 1 39"/>
          <p:cNvGrpSpPr/>
          <p:nvPr/>
        </p:nvGrpSpPr>
        <p:grpSpPr>
          <a:xfrm>
            <a:off x="3224160" y="4608360"/>
            <a:ext cx="1262160" cy="1182960"/>
            <a:chOff x="3224160" y="4608360"/>
            <a:chExt cx="1262160" cy="1182960"/>
          </a:xfrm>
        </p:grpSpPr>
        <p:pic>
          <p:nvPicPr>
            <p:cNvPr id="121" name="Пятно 1 39" descr=""/>
            <p:cNvPicPr/>
            <p:nvPr/>
          </p:nvPicPr>
          <p:blipFill>
            <a:blip r:embed="rId1"/>
            <a:stretch/>
          </p:blipFill>
          <p:spPr>
            <a:xfrm>
              <a:off x="3224160" y="4608360"/>
              <a:ext cx="12621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0520" y="495792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857920" y="785880"/>
            <a:ext cx="3076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85840" y="2428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85840" y="3773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85840" y="1285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57120" y="5345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16"/>
          <p:cNvGrpSpPr/>
          <p:nvPr/>
        </p:nvGrpSpPr>
        <p:grpSpPr>
          <a:xfrm>
            <a:off x="2928960" y="1000080"/>
            <a:ext cx="714240" cy="714600"/>
            <a:chOff x="2928960" y="1000080"/>
            <a:chExt cx="714240" cy="714600"/>
          </a:xfrm>
        </p:grpSpPr>
        <p:sp>
          <p:nvSpPr>
            <p:cNvPr id="130" name="Овал 8"/>
            <p:cNvSpPr/>
            <p:nvPr/>
          </p:nvSpPr>
          <p:spPr>
            <a:xfrm>
              <a:off x="292896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9"/>
            <p:cNvSpPr/>
            <p:nvPr/>
          </p:nvSpPr>
          <p:spPr>
            <a:xfrm>
              <a:off x="31431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10"/>
            <p:cNvSpPr/>
            <p:nvPr/>
          </p:nvSpPr>
          <p:spPr>
            <a:xfrm>
              <a:off x="33573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Дуга 11"/>
            <p:cNvSpPr/>
            <p:nvPr/>
          </p:nvSpPr>
          <p:spPr>
            <a:xfrm rot="7134600">
              <a:off x="3137760" y="118260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17"/>
          <p:cNvGrpSpPr/>
          <p:nvPr/>
        </p:nvGrpSpPr>
        <p:grpSpPr>
          <a:xfrm>
            <a:off x="4714920" y="1000080"/>
            <a:ext cx="714240" cy="857160"/>
            <a:chOff x="4714920" y="1000080"/>
            <a:chExt cx="714240" cy="857160"/>
          </a:xfrm>
        </p:grpSpPr>
        <p:sp>
          <p:nvSpPr>
            <p:cNvPr id="135" name="Овал 12"/>
            <p:cNvSpPr/>
            <p:nvPr/>
          </p:nvSpPr>
          <p:spPr>
            <a:xfrm>
              <a:off x="471492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Овал 13"/>
            <p:cNvSpPr/>
            <p:nvPr/>
          </p:nvSpPr>
          <p:spPr>
            <a:xfrm>
              <a:off x="49291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14"/>
            <p:cNvSpPr/>
            <p:nvPr/>
          </p:nvSpPr>
          <p:spPr>
            <a:xfrm>
              <a:off x="51433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Дуга 15"/>
            <p:cNvSpPr/>
            <p:nvPr/>
          </p:nvSpPr>
          <p:spPr>
            <a:xfrm rot="18406200">
              <a:off x="4991760" y="1463040"/>
              <a:ext cx="280800" cy="352440"/>
            </a:xfrm>
            <a:custGeom>
              <a:avLst/>
              <a:gdLst>
                <a:gd name="textAreaLeft" fmla="*/ 140400 w 280800"/>
                <a:gd name="textAreaRight" fmla="*/ 281160 w 28080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81011" h="352427">
                  <a:moveTo>
                    <a:pt x="140506" y="0"/>
                  </a:moveTo>
                  <a:lnTo>
                    <a:pt x="140506" y="0"/>
                  </a:lnTo>
                  <a:arcTo wR="140506" hR="176214" stAng="-5400000" swAng="5400000"/>
                  <a:lnTo>
                    <a:pt x="140506" y="176214"/>
                  </a:lnTo>
                  <a:close/>
                </a:path>
                <a:path fill="none" w="281011" h="352427">
                  <a:moveTo>
                    <a:pt x="140506" y="0"/>
                  </a:moveTo>
                  <a:lnTo>
                    <a:pt x="140506" y="0"/>
                  </a:lnTo>
                  <a:arcTo wR="140506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ая соединительная линия 19"/>
          <p:cNvSpPr/>
          <p:nvPr/>
        </p:nvSpPr>
        <p:spPr>
          <a:xfrm>
            <a:off x="285840" y="2071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0"/>
          <p:cNvSpPr/>
          <p:nvPr/>
        </p:nvSpPr>
        <p:spPr>
          <a:xfrm>
            <a:off x="285840" y="328464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1"/>
          <p:cNvSpPr/>
          <p:nvPr/>
        </p:nvSpPr>
        <p:spPr>
          <a:xfrm>
            <a:off x="285840" y="4713120"/>
            <a:ext cx="8715240" cy="180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2"/>
          <p:cNvSpPr/>
          <p:nvPr/>
        </p:nvSpPr>
        <p:spPr>
          <a:xfrm>
            <a:off x="285840" y="6427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3"/>
          <p:cNvSpPr/>
          <p:nvPr/>
        </p:nvSpPr>
        <p:spPr>
          <a:xfrm>
            <a:off x="285840" y="78588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4"/>
          <p:cNvSpPr/>
          <p:nvPr/>
        </p:nvSpPr>
        <p:spPr>
          <a:xfrm>
            <a:off x="2858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27"/>
          <p:cNvSpPr/>
          <p:nvPr/>
        </p:nvSpPr>
        <p:spPr>
          <a:xfrm>
            <a:off x="250020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28"/>
          <p:cNvSpPr/>
          <p:nvPr/>
        </p:nvSpPr>
        <p:spPr>
          <a:xfrm>
            <a:off x="41432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9"/>
          <p:cNvSpPr/>
          <p:nvPr/>
        </p:nvSpPr>
        <p:spPr>
          <a:xfrm flipH="1">
            <a:off x="57859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0"/>
          <p:cNvSpPr/>
          <p:nvPr/>
        </p:nvSpPr>
        <p:spPr>
          <a:xfrm flipH="1">
            <a:off x="7358040" y="785880"/>
            <a:ext cx="144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1"/>
          <p:cNvSpPr/>
          <p:nvPr/>
        </p:nvSpPr>
        <p:spPr>
          <a:xfrm flipH="1">
            <a:off x="90007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2"/>
          <p:cNvSpPr/>
          <p:nvPr/>
        </p:nvSpPr>
        <p:spPr>
          <a:xfrm>
            <a:off x="2643120" y="17859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3"/>
          <p:cNvSpPr/>
          <p:nvPr/>
        </p:nvSpPr>
        <p:spPr>
          <a:xfrm>
            <a:off x="435780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4"/>
          <p:cNvSpPr/>
          <p:nvPr/>
        </p:nvSpPr>
        <p:spPr>
          <a:xfrm>
            <a:off x="2500200" y="294804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4214880" y="27860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6"/>
          <p:cNvSpPr/>
          <p:nvPr/>
        </p:nvSpPr>
        <p:spPr>
          <a:xfrm>
            <a:off x="2500200" y="5670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5"/>
          <p:cNvSpPr/>
          <p:nvPr/>
        </p:nvSpPr>
        <p:spPr>
          <a:xfrm>
            <a:off x="4143240" y="5643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>
            <a:off x="571500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728676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8"/>
          <p:cNvSpPr/>
          <p:nvPr/>
        </p:nvSpPr>
        <p:spPr>
          <a:xfrm>
            <a:off x="2550960" y="43768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4140360" y="43657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0"/>
          <p:cNvSpPr/>
          <p:nvPr/>
        </p:nvSpPr>
        <p:spPr>
          <a:xfrm>
            <a:off x="6000840" y="4357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7715160" y="435780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Пятно 1 40"/>
          <p:cNvGrpSpPr/>
          <p:nvPr/>
        </p:nvGrpSpPr>
        <p:grpSpPr>
          <a:xfrm>
            <a:off x="2724120" y="3322800"/>
            <a:ext cx="1262160" cy="1182600"/>
            <a:chOff x="2724120" y="3322800"/>
            <a:chExt cx="1262160" cy="1182600"/>
          </a:xfrm>
        </p:grpSpPr>
        <p:pic>
          <p:nvPicPr>
            <p:cNvPr id="163" name="Пятно 1 40" descr=""/>
            <p:cNvPicPr/>
            <p:nvPr/>
          </p:nvPicPr>
          <p:blipFill>
            <a:blip r:embed="rId1"/>
            <a:stretch/>
          </p:blipFill>
          <p:spPr>
            <a:xfrm>
              <a:off x="2724120" y="3322800"/>
              <a:ext cx="1262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030480" y="367200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Овал 41"/>
          <p:cNvSpPr/>
          <p:nvPr/>
        </p:nvSpPr>
        <p:spPr>
          <a:xfrm>
            <a:off x="457200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2"/>
          <p:cNvSpPr/>
          <p:nvPr/>
        </p:nvSpPr>
        <p:spPr>
          <a:xfrm>
            <a:off x="6215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Овал 43"/>
          <p:cNvGrpSpPr/>
          <p:nvPr/>
        </p:nvGrpSpPr>
        <p:grpSpPr>
          <a:xfrm>
            <a:off x="7796160" y="3462480"/>
            <a:ext cx="903240" cy="896760"/>
            <a:chOff x="7796160" y="3462480"/>
            <a:chExt cx="903240" cy="896760"/>
          </a:xfrm>
        </p:grpSpPr>
        <p:pic>
          <p:nvPicPr>
            <p:cNvPr id="168" name="Овал 43" descr=""/>
            <p:cNvPicPr/>
            <p:nvPr/>
          </p:nvPicPr>
          <p:blipFill>
            <a:blip r:embed="rId2"/>
            <a:stretch/>
          </p:blipFill>
          <p:spPr>
            <a:xfrm>
              <a:off x="7796160" y="3462480"/>
              <a:ext cx="9032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974000" y="361476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Группа 78"/>
          <p:cNvGrpSpPr/>
          <p:nvPr/>
        </p:nvGrpSpPr>
        <p:grpSpPr>
          <a:xfrm>
            <a:off x="2621160" y="4925520"/>
            <a:ext cx="1307520" cy="718200"/>
            <a:chOff x="2621160" y="4925520"/>
            <a:chExt cx="1307520" cy="718200"/>
          </a:xfrm>
        </p:grpSpPr>
        <p:sp>
          <p:nvSpPr>
            <p:cNvPr id="171" name="Трапеция 46"/>
            <p:cNvSpPr/>
            <p:nvPr/>
          </p:nvSpPr>
          <p:spPr>
            <a:xfrm rot="18300000">
              <a:off x="2787840" y="4914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8964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44"/>
            <p:cNvSpPr/>
            <p:nvPr/>
          </p:nvSpPr>
          <p:spPr>
            <a:xfrm>
              <a:off x="307188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Месяц 45"/>
            <p:cNvSpPr/>
            <p:nvPr/>
          </p:nvSpPr>
          <p:spPr>
            <a:xfrm rot="10800000">
              <a:off x="371448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55"/>
          <p:cNvGrpSpPr/>
          <p:nvPr/>
        </p:nvGrpSpPr>
        <p:grpSpPr>
          <a:xfrm>
            <a:off x="5857920" y="4925520"/>
            <a:ext cx="1307520" cy="718200"/>
            <a:chOff x="5857920" y="4925520"/>
            <a:chExt cx="1307520" cy="718200"/>
          </a:xfrm>
        </p:grpSpPr>
        <p:sp>
          <p:nvSpPr>
            <p:cNvPr id="175" name="Трапеция 50"/>
            <p:cNvSpPr/>
            <p:nvPr/>
          </p:nvSpPr>
          <p:spPr>
            <a:xfrm rot="18300000">
              <a:off x="6024600" y="4914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51"/>
            <p:cNvSpPr/>
            <p:nvPr/>
          </p:nvSpPr>
          <p:spPr>
            <a:xfrm>
              <a:off x="630864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Месяц 52"/>
            <p:cNvSpPr/>
            <p:nvPr/>
          </p:nvSpPr>
          <p:spPr>
            <a:xfrm rot="10800000">
              <a:off x="695124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Группа 56"/>
          <p:cNvGrpSpPr/>
          <p:nvPr/>
        </p:nvGrpSpPr>
        <p:grpSpPr>
          <a:xfrm>
            <a:off x="4214880" y="4928400"/>
            <a:ext cx="1285560" cy="718200"/>
            <a:chOff x="4214880" y="4928400"/>
            <a:chExt cx="1285560" cy="718200"/>
          </a:xfrm>
        </p:grpSpPr>
        <p:sp>
          <p:nvSpPr>
            <p:cNvPr id="179" name="Трапеция 47"/>
            <p:cNvSpPr/>
            <p:nvPr/>
          </p:nvSpPr>
          <p:spPr>
            <a:xfrm rot="18300000">
              <a:off x="4381560" y="491724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оугольник 48"/>
            <p:cNvSpPr/>
            <p:nvPr/>
          </p:nvSpPr>
          <p:spPr>
            <a:xfrm>
              <a:off x="4643280" y="50036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Месяц 49"/>
            <p:cNvSpPr/>
            <p:nvPr/>
          </p:nvSpPr>
          <p:spPr>
            <a:xfrm rot="10800000">
              <a:off x="5286240" y="50036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оугольник 53"/>
            <p:cNvSpPr/>
            <p:nvPr/>
          </p:nvSpPr>
          <p:spPr>
            <a:xfrm>
              <a:off x="4643280" y="535752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73"/>
          <p:cNvGrpSpPr/>
          <p:nvPr/>
        </p:nvGrpSpPr>
        <p:grpSpPr>
          <a:xfrm>
            <a:off x="7786800" y="4903920"/>
            <a:ext cx="701640" cy="761400"/>
            <a:chOff x="7786800" y="4903920"/>
            <a:chExt cx="701640" cy="761400"/>
          </a:xfrm>
        </p:grpSpPr>
        <p:grpSp>
          <p:nvGrpSpPr>
            <p:cNvPr id="184" name="Месяц 59"/>
            <p:cNvGrpSpPr/>
            <p:nvPr/>
          </p:nvGrpSpPr>
          <p:grpSpPr>
            <a:xfrm>
              <a:off x="7839360" y="4950000"/>
              <a:ext cx="384120" cy="289800"/>
              <a:chOff x="7839360" y="4950000"/>
              <a:chExt cx="384120" cy="289800"/>
            </a:xfrm>
          </p:grpSpPr>
          <p:pic>
            <p:nvPicPr>
              <p:cNvPr id="185" name="Месяц 59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9360" y="4950000"/>
                <a:ext cx="38412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 rot="17451000">
                <a:off x="8041320" y="4959000"/>
                <a:ext cx="4788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Месяц 58"/>
            <p:cNvGrpSpPr/>
            <p:nvPr/>
          </p:nvGrpSpPr>
          <p:grpSpPr>
            <a:xfrm>
              <a:off x="8052840" y="4903920"/>
              <a:ext cx="390240" cy="289800"/>
              <a:chOff x="8052840" y="4903920"/>
              <a:chExt cx="390240" cy="289800"/>
            </a:xfrm>
          </p:grpSpPr>
          <p:pic>
            <p:nvPicPr>
              <p:cNvPr id="188" name="Месяц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2840" y="4903920"/>
                <a:ext cx="390240" cy="28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 rot="4148400">
                <a:off x="8198280" y="4911840"/>
                <a:ext cx="4788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Трапеция 57"/>
            <p:cNvSpPr/>
            <p:nvPr/>
          </p:nvSpPr>
          <p:spPr>
            <a:xfrm rot="10800000">
              <a:off x="7786800" y="5101200"/>
              <a:ext cx="642960" cy="437760"/>
            </a:xfrm>
            <a:custGeom>
              <a:avLst/>
              <a:gdLst>
                <a:gd name="textAreaLeft" fmla="*/ 76680 w 642960"/>
                <a:gd name="textAreaRight" fmla="*/ 566280 w 642960"/>
                <a:gd name="textAreaTop" fmla="*/ 5220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642937" h="460278">
                  <a:moveTo>
                    <a:pt x="0" y="460278"/>
                  </a:moveTo>
                  <a:lnTo>
                    <a:pt x="115070" y="0"/>
                  </a:lnTo>
                  <a:lnTo>
                    <a:pt x="527868" y="0"/>
                  </a:lnTo>
                  <a:lnTo>
                    <a:pt x="642937" y="460278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Трапеция 54"/>
            <p:cNvSpPr/>
            <p:nvPr/>
          </p:nvSpPr>
          <p:spPr>
            <a:xfrm rot="10800000">
              <a:off x="7792920" y="5440320"/>
              <a:ext cx="695520" cy="225000"/>
            </a:xfrm>
            <a:custGeom>
              <a:avLst/>
              <a:gdLst>
                <a:gd name="textAreaLeft" fmla="*/ 39240 w 695520"/>
                <a:gd name="textAreaRight" fmla="*/ 656280 w 695520"/>
                <a:gd name="textAreaTop" fmla="*/ 1260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695325" h="236488">
                  <a:moveTo>
                    <a:pt x="0" y="236488"/>
                  </a:moveTo>
                  <a:lnTo>
                    <a:pt x="59122" y="0"/>
                  </a:lnTo>
                  <a:lnTo>
                    <a:pt x="636203" y="0"/>
                  </a:lnTo>
                  <a:lnTo>
                    <a:pt x="695325" y="2364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76"/>
          <p:cNvGrpSpPr/>
          <p:nvPr/>
        </p:nvGrpSpPr>
        <p:grpSpPr>
          <a:xfrm>
            <a:off x="3071880" y="2214720"/>
            <a:ext cx="642960" cy="714240"/>
            <a:chOff x="3071880" y="2214720"/>
            <a:chExt cx="642960" cy="714240"/>
          </a:xfrm>
        </p:grpSpPr>
        <p:sp>
          <p:nvSpPr>
            <p:cNvPr id="193" name="Прямоугольник 60"/>
            <p:cNvSpPr/>
            <p:nvPr/>
          </p:nvSpPr>
          <p:spPr>
            <a:xfrm>
              <a:off x="3071880" y="22147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62"/>
            <p:cNvSpPr/>
            <p:nvPr/>
          </p:nvSpPr>
          <p:spPr>
            <a:xfrm flipH="1">
              <a:off x="3284640" y="25718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Овал 64"/>
            <p:cNvSpPr/>
            <p:nvPr/>
          </p:nvSpPr>
          <p:spPr>
            <a:xfrm>
              <a:off x="3214800" y="278604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65"/>
            <p:cNvSpPr/>
            <p:nvPr/>
          </p:nvSpPr>
          <p:spPr>
            <a:xfrm>
              <a:off x="3071880" y="22384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Группа 80"/>
          <p:cNvGrpSpPr/>
          <p:nvPr/>
        </p:nvGrpSpPr>
        <p:grpSpPr>
          <a:xfrm>
            <a:off x="4581000" y="2214360"/>
            <a:ext cx="767160" cy="571680"/>
            <a:chOff x="4581000" y="2214360"/>
            <a:chExt cx="767160" cy="571680"/>
          </a:xfrm>
        </p:grpSpPr>
        <p:sp>
          <p:nvSpPr>
            <p:cNvPr id="198" name="Блок-схема: ручное управление 66"/>
            <p:cNvSpPr/>
            <p:nvPr/>
          </p:nvSpPr>
          <p:spPr>
            <a:xfrm rot="5211600">
              <a:off x="4626720" y="2327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sp>
            <p:nvSpPr>
              <p:cNvPr id="200" name="Прямая соединительная линия 68"/>
              <p:cNvSpPr/>
              <p:nvPr/>
            </p:nvSpPr>
            <p:spPr>
              <a:xfrm flipV="1">
                <a:off x="5000400" y="22143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ая соединительная линия 70"/>
              <p:cNvSpPr/>
              <p:nvPr/>
            </p:nvSpPr>
            <p:spPr>
              <a:xfrm flipV="1">
                <a:off x="5000400" y="244332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Прямая соединительная линия 72"/>
              <p:cNvSpPr/>
              <p:nvPr/>
            </p:nvSpPr>
            <p:spPr>
              <a:xfrm>
                <a:off x="5000400" y="25732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Прямая соединительная линия 74"/>
              <p:cNvSpPr/>
              <p:nvPr/>
            </p:nvSpPr>
            <p:spPr>
              <a:xfrm>
                <a:off x="5152680" y="251640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Прямая соединительная линия 75"/>
              <p:cNvSpPr/>
              <p:nvPr/>
            </p:nvSpPr>
            <p:spPr>
              <a:xfrm flipV="1">
                <a:off x="5152680" y="227160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Прямая соединительная линия 77"/>
              <p:cNvSpPr/>
              <p:nvPr/>
            </p:nvSpPr>
            <p:spPr>
              <a:xfrm>
                <a:off x="5000400" y="267192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Прямая соединительная линия 79"/>
              <p:cNvSpPr/>
              <p:nvPr/>
            </p:nvSpPr>
            <p:spPr>
              <a:xfrm>
                <a:off x="5152680" y="267192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21"/>
          <p:cNvSpPr/>
          <p:nvPr/>
        </p:nvSpPr>
        <p:spPr>
          <a:xfrm>
            <a:off x="285840" y="250020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7160" cy="32767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5"/>
          <p:cNvSpPr/>
          <p:nvPr/>
        </p:nvSpPr>
        <p:spPr>
          <a:xfrm>
            <a:off x="71280" y="3887640"/>
            <a:ext cx="4786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214200" y="1085760"/>
            <a:ext cx="8786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16"/>
          <p:cNvGrpSpPr/>
          <p:nvPr/>
        </p:nvGrpSpPr>
        <p:grpSpPr>
          <a:xfrm>
            <a:off x="428760" y="2643120"/>
            <a:ext cx="714240" cy="714600"/>
            <a:chOff x="428760" y="2643120"/>
            <a:chExt cx="714240" cy="714600"/>
          </a:xfrm>
        </p:grpSpPr>
        <p:sp>
          <p:nvSpPr>
            <p:cNvPr id="213" name="Овал 6"/>
            <p:cNvSpPr/>
            <p:nvPr/>
          </p:nvSpPr>
          <p:spPr>
            <a:xfrm>
              <a:off x="42876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Овал 7"/>
            <p:cNvSpPr/>
            <p:nvPr/>
          </p:nvSpPr>
          <p:spPr>
            <a:xfrm>
              <a:off x="6429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Овал 8"/>
            <p:cNvSpPr/>
            <p:nvPr/>
          </p:nvSpPr>
          <p:spPr>
            <a:xfrm>
              <a:off x="8571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Дуга 9"/>
            <p:cNvSpPr/>
            <p:nvPr/>
          </p:nvSpPr>
          <p:spPr>
            <a:xfrm rot="7134600">
              <a:off x="637560" y="28256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Овал 10"/>
          <p:cNvSpPr/>
          <p:nvPr/>
        </p:nvSpPr>
        <p:spPr>
          <a:xfrm>
            <a:off x="3286080" y="2643120"/>
            <a:ext cx="714600" cy="71460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11"/>
          <p:cNvGrpSpPr/>
          <p:nvPr/>
        </p:nvGrpSpPr>
        <p:grpSpPr>
          <a:xfrm>
            <a:off x="2285640" y="2643120"/>
            <a:ext cx="714240" cy="714600"/>
            <a:chOff x="2285640" y="2643120"/>
            <a:chExt cx="714240" cy="714600"/>
          </a:xfrm>
        </p:grpSpPr>
        <p:grpSp>
          <p:nvGrpSpPr>
            <p:cNvPr id="219" name="Месяц 12"/>
            <p:cNvGrpSpPr/>
            <p:nvPr/>
          </p:nvGrpSpPr>
          <p:grpSpPr>
            <a:xfrm>
              <a:off x="2340720" y="2689200"/>
              <a:ext cx="390240" cy="277200"/>
              <a:chOff x="2340720" y="2689200"/>
              <a:chExt cx="390240" cy="277200"/>
            </a:xfrm>
          </p:grpSpPr>
          <p:pic>
            <p:nvPicPr>
              <p:cNvPr id="220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720" y="2689200"/>
                <a:ext cx="390240" cy="27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 rot="17451000">
                <a:off x="2546280" y="2692080"/>
                <a:ext cx="4464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Месяц 13"/>
            <p:cNvGrpSpPr/>
            <p:nvPr/>
          </p:nvGrpSpPr>
          <p:grpSpPr>
            <a:xfrm>
              <a:off x="2560320" y="2643120"/>
              <a:ext cx="390240" cy="282960"/>
              <a:chOff x="2560320" y="2643120"/>
              <a:chExt cx="390240" cy="282960"/>
            </a:xfrm>
          </p:grpSpPr>
          <p:pic>
            <p:nvPicPr>
              <p:cNvPr id="223" name="Меся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0320" y="2643120"/>
                <a:ext cx="390240" cy="2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 rot="4148400">
                <a:off x="2707560" y="2647440"/>
                <a:ext cx="4464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Трапеция 14"/>
            <p:cNvSpPr/>
            <p:nvPr/>
          </p:nvSpPr>
          <p:spPr>
            <a:xfrm rot="10800000">
              <a:off x="2285640" y="2829960"/>
              <a:ext cx="654120" cy="408960"/>
            </a:xfrm>
            <a:custGeom>
              <a:avLst/>
              <a:gdLst>
                <a:gd name="textAreaLeft" fmla="*/ 78120 w 654120"/>
                <a:gd name="textAreaRight" fmla="*/ 576000 w 654120"/>
                <a:gd name="textAreaTop" fmla="*/ 4860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642422" h="460489">
                  <a:moveTo>
                    <a:pt x="0" y="460489"/>
                  </a:moveTo>
                  <a:lnTo>
                    <a:pt x="115122" y="0"/>
                  </a:lnTo>
                  <a:lnTo>
                    <a:pt x="527300" y="0"/>
                  </a:lnTo>
                  <a:lnTo>
                    <a:pt x="642422" y="460489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Трапеция 15"/>
            <p:cNvSpPr/>
            <p:nvPr/>
          </p:nvSpPr>
          <p:spPr>
            <a:xfrm rot="10800000">
              <a:off x="2291760" y="3147480"/>
              <a:ext cx="708120" cy="210240"/>
            </a:xfrm>
            <a:custGeom>
              <a:avLst/>
              <a:gdLst>
                <a:gd name="textAreaLeft" fmla="*/ 39960 w 708120"/>
                <a:gd name="textAreaRight" fmla="*/ 668160 w 708120"/>
                <a:gd name="textAreaTop" fmla="*/ 1188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695438" h="237017">
                  <a:moveTo>
                    <a:pt x="0" y="237017"/>
                  </a:moveTo>
                  <a:lnTo>
                    <a:pt x="59254" y="0"/>
                  </a:lnTo>
                  <a:lnTo>
                    <a:pt x="636184" y="0"/>
                  </a:lnTo>
                  <a:lnTo>
                    <a:pt x="695438" y="2370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16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228" name="Прямоугольник 17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8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Овал 19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28"/>
          <p:cNvSpPr/>
          <p:nvPr/>
        </p:nvSpPr>
        <p:spPr>
          <a:xfrm>
            <a:off x="8317080" y="6381720"/>
            <a:ext cx="826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285840" y="928800"/>
            <a:ext cx="85723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4" descr="21.jpg"/>
          <p:cNvPicPr/>
          <p:nvPr/>
        </p:nvPicPr>
        <p:blipFill>
          <a:blip r:embed="rId1"/>
          <a:stretch/>
        </p:blipFill>
        <p:spPr>
          <a:xfrm>
            <a:off x="5907240" y="3054240"/>
            <a:ext cx="3120840" cy="37180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142920" y="350028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5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239" name="Овал 7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8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Овал 9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Дуга 10"/>
            <p:cNvSpPr/>
            <p:nvPr/>
          </p:nvSpPr>
          <p:spPr>
            <a:xfrm rot="7134600">
              <a:off x="708840" y="28256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Овал 11"/>
          <p:cNvSpPr/>
          <p:nvPr/>
        </p:nvSpPr>
        <p:spPr>
          <a:xfrm>
            <a:off x="3286080" y="257184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56"/>
          <p:cNvGrpSpPr/>
          <p:nvPr/>
        </p:nvGrpSpPr>
        <p:grpSpPr>
          <a:xfrm>
            <a:off x="1833480" y="2639520"/>
            <a:ext cx="1285560" cy="718200"/>
            <a:chOff x="1833480" y="2639520"/>
            <a:chExt cx="1285560" cy="718200"/>
          </a:xfrm>
        </p:grpSpPr>
        <p:sp>
          <p:nvSpPr>
            <p:cNvPr id="245" name="Трапеция 13"/>
            <p:cNvSpPr/>
            <p:nvPr/>
          </p:nvSpPr>
          <p:spPr>
            <a:xfrm rot="18300000">
              <a:off x="2000160" y="26283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оугольник 14"/>
            <p:cNvSpPr/>
            <p:nvPr/>
          </p:nvSpPr>
          <p:spPr>
            <a:xfrm>
              <a:off x="226188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Месяц 15"/>
            <p:cNvSpPr/>
            <p:nvPr/>
          </p:nvSpPr>
          <p:spPr>
            <a:xfrm rot="10800000">
              <a:off x="290484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6"/>
            <p:cNvSpPr/>
            <p:nvPr/>
          </p:nvSpPr>
          <p:spPr>
            <a:xfrm>
              <a:off x="226188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7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250" name="Прямоугольник 18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19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20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4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256" name="Прямоугольник 4"/>
          <p:cNvSpPr/>
          <p:nvPr/>
        </p:nvSpPr>
        <p:spPr>
          <a:xfrm>
            <a:off x="0" y="378936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0" y="857160"/>
            <a:ext cx="9144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6"/>
          <p:cNvSpPr/>
          <p:nvPr/>
        </p:nvSpPr>
        <p:spPr>
          <a:xfrm>
            <a:off x="142920" y="271476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16"/>
          <p:cNvGrpSpPr/>
          <p:nvPr/>
        </p:nvGrpSpPr>
        <p:grpSpPr>
          <a:xfrm>
            <a:off x="285840" y="2857680"/>
            <a:ext cx="714240" cy="714240"/>
            <a:chOff x="285840" y="2857680"/>
            <a:chExt cx="714240" cy="714240"/>
          </a:xfrm>
        </p:grpSpPr>
        <p:sp>
          <p:nvSpPr>
            <p:cNvPr id="260" name="Овал 8"/>
            <p:cNvSpPr/>
            <p:nvPr/>
          </p:nvSpPr>
          <p:spPr>
            <a:xfrm>
              <a:off x="285840" y="2857680"/>
              <a:ext cx="714240" cy="71424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Овал 9"/>
            <p:cNvSpPr/>
            <p:nvPr/>
          </p:nvSpPr>
          <p:spPr>
            <a:xfrm>
              <a:off x="500040" y="30718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Овал 10"/>
            <p:cNvSpPr/>
            <p:nvPr/>
          </p:nvSpPr>
          <p:spPr>
            <a:xfrm>
              <a:off x="714240" y="30718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Дуга 11"/>
            <p:cNvSpPr/>
            <p:nvPr/>
          </p:nvSpPr>
          <p:spPr>
            <a:xfrm rot="7134600">
              <a:off x="494640" y="303984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56"/>
          <p:cNvGrpSpPr/>
          <p:nvPr/>
        </p:nvGrpSpPr>
        <p:grpSpPr>
          <a:xfrm>
            <a:off x="1905120" y="2853720"/>
            <a:ext cx="1285560" cy="718200"/>
            <a:chOff x="1905120" y="2853720"/>
            <a:chExt cx="1285560" cy="718200"/>
          </a:xfrm>
        </p:grpSpPr>
        <p:sp>
          <p:nvSpPr>
            <p:cNvPr id="265" name="Трапеция 24"/>
            <p:cNvSpPr/>
            <p:nvPr/>
          </p:nvSpPr>
          <p:spPr>
            <a:xfrm rot="18300000">
              <a:off x="2071800" y="284256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25"/>
            <p:cNvSpPr/>
            <p:nvPr/>
          </p:nvSpPr>
          <p:spPr>
            <a:xfrm>
              <a:off x="2333520" y="29289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Месяц 26"/>
            <p:cNvSpPr/>
            <p:nvPr/>
          </p:nvSpPr>
          <p:spPr>
            <a:xfrm rot="10800000">
              <a:off x="2976480" y="29289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оугольник 27"/>
            <p:cNvSpPr/>
            <p:nvPr/>
          </p:nvSpPr>
          <p:spPr>
            <a:xfrm>
              <a:off x="2333520" y="32828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Пятно 1 28"/>
          <p:cNvGrpSpPr/>
          <p:nvPr/>
        </p:nvGrpSpPr>
        <p:grpSpPr>
          <a:xfrm>
            <a:off x="3297240" y="2749680"/>
            <a:ext cx="1116000" cy="1036440"/>
            <a:chOff x="3297240" y="2749680"/>
            <a:chExt cx="1116000" cy="1036440"/>
          </a:xfrm>
        </p:grpSpPr>
        <p:pic>
          <p:nvPicPr>
            <p:cNvPr id="270" name="Пятно 1 28" descr=""/>
            <p:cNvPicPr/>
            <p:nvPr/>
          </p:nvPicPr>
          <p:blipFill>
            <a:blip r:embed="rId2"/>
            <a:stretch/>
          </p:blipFill>
          <p:spPr>
            <a:xfrm>
              <a:off x="3297240" y="2749680"/>
              <a:ext cx="1116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571920" y="3057480"/>
              <a:ext cx="5587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29"/>
          <p:cNvGrpSpPr/>
          <p:nvPr/>
        </p:nvGrpSpPr>
        <p:grpSpPr>
          <a:xfrm>
            <a:off x="1357200" y="2857680"/>
            <a:ext cx="642960" cy="714240"/>
            <a:chOff x="1357200" y="2857680"/>
            <a:chExt cx="642960" cy="714240"/>
          </a:xfrm>
        </p:grpSpPr>
        <p:sp>
          <p:nvSpPr>
            <p:cNvPr id="273" name="Прямоугольник 30"/>
            <p:cNvSpPr/>
            <p:nvPr/>
          </p:nvSpPr>
          <p:spPr>
            <a:xfrm>
              <a:off x="1357200" y="285768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ая соединительная линия 31"/>
            <p:cNvSpPr/>
            <p:nvPr/>
          </p:nvSpPr>
          <p:spPr>
            <a:xfrm flipH="1">
              <a:off x="1569960" y="321480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Овал 32"/>
            <p:cNvSpPr/>
            <p:nvPr/>
          </p:nvSpPr>
          <p:spPr>
            <a:xfrm>
              <a:off x="1500120" y="342900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65"/>
            <p:cNvSpPr/>
            <p:nvPr/>
          </p:nvSpPr>
          <p:spPr>
            <a:xfrm>
              <a:off x="1357200" y="288144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3"/>
          <p:cNvSpPr/>
          <p:nvPr/>
        </p:nvSpPr>
        <p:spPr>
          <a:xfrm>
            <a:off x="357120" y="214200"/>
            <a:ext cx="3286080" cy="13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6"/>
          <p:cNvGrpSpPr/>
          <p:nvPr/>
        </p:nvGrpSpPr>
        <p:grpSpPr>
          <a:xfrm>
            <a:off x="500040" y="419040"/>
            <a:ext cx="642960" cy="652680"/>
            <a:chOff x="500040" y="419040"/>
            <a:chExt cx="642960" cy="652680"/>
          </a:xfrm>
        </p:grpSpPr>
        <p:sp>
          <p:nvSpPr>
            <p:cNvPr id="279" name="Овал 5"/>
            <p:cNvSpPr/>
            <p:nvPr/>
          </p:nvSpPr>
          <p:spPr>
            <a:xfrm>
              <a:off x="500040" y="41904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Овал 6"/>
            <p:cNvSpPr/>
            <p:nvPr/>
          </p:nvSpPr>
          <p:spPr>
            <a:xfrm>
              <a:off x="693720" y="61416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Овал 7"/>
            <p:cNvSpPr/>
            <p:nvPr/>
          </p:nvSpPr>
          <p:spPr>
            <a:xfrm>
              <a:off x="885960" y="61416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Дуга 8"/>
            <p:cNvSpPr/>
            <p:nvPr/>
          </p:nvSpPr>
          <p:spPr>
            <a:xfrm rot="7134600">
              <a:off x="686520" y="587880"/>
              <a:ext cx="255600" cy="317520"/>
            </a:xfrm>
            <a:custGeom>
              <a:avLst/>
              <a:gdLst>
                <a:gd name="textAreaLeft" fmla="*/ 127800 w 255600"/>
                <a:gd name="textAreaRight" fmla="*/ 25560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  <a:lnTo>
                    <a:pt x="139922" y="176391"/>
                  </a:lnTo>
                  <a:close/>
                </a:path>
                <a:path fill="none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9"/>
          <p:cNvSpPr/>
          <p:nvPr/>
        </p:nvSpPr>
        <p:spPr>
          <a:xfrm>
            <a:off x="2857680" y="419040"/>
            <a:ext cx="642600" cy="6526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1"/>
          <p:cNvGrpSpPr/>
          <p:nvPr/>
        </p:nvGrpSpPr>
        <p:grpSpPr>
          <a:xfrm>
            <a:off x="2071800" y="419040"/>
            <a:ext cx="642600" cy="652320"/>
            <a:chOff x="2071800" y="419040"/>
            <a:chExt cx="642600" cy="652320"/>
          </a:xfrm>
        </p:grpSpPr>
        <p:grpSp>
          <p:nvGrpSpPr>
            <p:cNvPr id="285" name="Месяц 11"/>
            <p:cNvGrpSpPr/>
            <p:nvPr/>
          </p:nvGrpSpPr>
          <p:grpSpPr>
            <a:xfrm>
              <a:off x="2115360" y="459000"/>
              <a:ext cx="365760" cy="263880"/>
              <a:chOff x="2115360" y="459000"/>
              <a:chExt cx="365760" cy="263880"/>
            </a:xfrm>
          </p:grpSpPr>
          <p:pic>
            <p:nvPicPr>
              <p:cNvPr id="286" name="Месяц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115360" y="459000"/>
                <a:ext cx="365760" cy="26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17451000">
                <a:off x="2305800" y="468000"/>
                <a:ext cx="4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Месяц 12"/>
            <p:cNvGrpSpPr/>
            <p:nvPr/>
          </p:nvGrpSpPr>
          <p:grpSpPr>
            <a:xfrm>
              <a:off x="2310480" y="419040"/>
              <a:ext cx="365760" cy="263880"/>
              <a:chOff x="2310480" y="419040"/>
              <a:chExt cx="365760" cy="263880"/>
            </a:xfrm>
          </p:grpSpPr>
          <p:pic>
            <p:nvPicPr>
              <p:cNvPr id="289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10480" y="419040"/>
                <a:ext cx="365760" cy="26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4148400">
                <a:off x="2450880" y="427680"/>
                <a:ext cx="4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Трапеция 13"/>
            <p:cNvSpPr/>
            <p:nvPr/>
          </p:nvSpPr>
          <p:spPr>
            <a:xfrm rot="10800000">
              <a:off x="2071800" y="591840"/>
              <a:ext cx="588960" cy="371880"/>
            </a:xfrm>
            <a:custGeom>
              <a:avLst/>
              <a:gdLst>
                <a:gd name="textAreaLeft" fmla="*/ 70200 w 588960"/>
                <a:gd name="textAreaRight" fmla="*/ 518760 w 588960"/>
                <a:gd name="textAreaTop" fmla="*/ 4428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642769" h="461552">
                  <a:moveTo>
                    <a:pt x="0" y="461552"/>
                  </a:moveTo>
                  <a:lnTo>
                    <a:pt x="115388" y="0"/>
                  </a:lnTo>
                  <a:lnTo>
                    <a:pt x="527381" y="0"/>
                  </a:lnTo>
                  <a:lnTo>
                    <a:pt x="642769" y="461552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Трапеция 14"/>
            <p:cNvSpPr/>
            <p:nvPr/>
          </p:nvSpPr>
          <p:spPr>
            <a:xfrm rot="10800000">
              <a:off x="2077560" y="880200"/>
              <a:ext cx="636840" cy="191160"/>
            </a:xfrm>
            <a:custGeom>
              <a:avLst/>
              <a:gdLst>
                <a:gd name="textAreaLeft" fmla="*/ 36000 w 636840"/>
                <a:gd name="textAreaRight" fmla="*/ 600840 w 636840"/>
                <a:gd name="textAreaTop" fmla="*/ 1080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694745" h="237264">
                  <a:moveTo>
                    <a:pt x="0" y="237264"/>
                  </a:moveTo>
                  <a:lnTo>
                    <a:pt x="59316" y="0"/>
                  </a:lnTo>
                  <a:lnTo>
                    <a:pt x="635429" y="0"/>
                  </a:lnTo>
                  <a:lnTo>
                    <a:pt x="694745" y="2372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Группа 16"/>
          <p:cNvGrpSpPr/>
          <p:nvPr/>
        </p:nvGrpSpPr>
        <p:grpSpPr>
          <a:xfrm>
            <a:off x="1317600" y="276120"/>
            <a:ext cx="682560" cy="820800"/>
            <a:chOff x="1317600" y="276120"/>
            <a:chExt cx="682560" cy="820800"/>
          </a:xfrm>
        </p:grpSpPr>
        <p:sp>
          <p:nvSpPr>
            <p:cNvPr id="294" name="Прямоугольник 16"/>
            <p:cNvSpPr/>
            <p:nvPr/>
          </p:nvSpPr>
          <p:spPr>
            <a:xfrm>
              <a:off x="1317600" y="276120"/>
              <a:ext cx="455760" cy="8208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"/>
            <p:cNvSpPr/>
            <p:nvPr/>
          </p:nvSpPr>
          <p:spPr>
            <a:xfrm flipH="1">
              <a:off x="1542960" y="685800"/>
              <a:ext cx="1440" cy="411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Овал 18"/>
            <p:cNvSpPr/>
            <p:nvPr/>
          </p:nvSpPr>
          <p:spPr>
            <a:xfrm>
              <a:off x="1469880" y="933480"/>
              <a:ext cx="150840" cy="16344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5"/>
            <p:cNvSpPr/>
            <p:nvPr/>
          </p:nvSpPr>
          <p:spPr>
            <a:xfrm>
              <a:off x="1317600" y="303480"/>
              <a:ext cx="68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2124000" y="1133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57"/>
          <p:cNvSpPr/>
          <p:nvPr/>
        </p:nvSpPr>
        <p:spPr>
          <a:xfrm>
            <a:off x="4214880" y="214200"/>
            <a:ext cx="3286080" cy="13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16"/>
          <p:cNvGrpSpPr/>
          <p:nvPr/>
        </p:nvGrpSpPr>
        <p:grpSpPr>
          <a:xfrm>
            <a:off x="4357800" y="419040"/>
            <a:ext cx="642960" cy="652680"/>
            <a:chOff x="4357800" y="419040"/>
            <a:chExt cx="642960" cy="652680"/>
          </a:xfrm>
        </p:grpSpPr>
        <p:sp>
          <p:nvSpPr>
            <p:cNvPr id="301" name="Овал 59"/>
            <p:cNvSpPr/>
            <p:nvPr/>
          </p:nvSpPr>
          <p:spPr>
            <a:xfrm>
              <a:off x="4357800" y="41904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Овал 60"/>
            <p:cNvSpPr/>
            <p:nvPr/>
          </p:nvSpPr>
          <p:spPr>
            <a:xfrm>
              <a:off x="4551480" y="61416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61"/>
            <p:cNvSpPr/>
            <p:nvPr/>
          </p:nvSpPr>
          <p:spPr>
            <a:xfrm>
              <a:off x="4743720" y="61416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Дуга 62"/>
            <p:cNvSpPr/>
            <p:nvPr/>
          </p:nvSpPr>
          <p:spPr>
            <a:xfrm rot="7134600">
              <a:off x="4544280" y="587880"/>
              <a:ext cx="255600" cy="317520"/>
            </a:xfrm>
            <a:custGeom>
              <a:avLst/>
              <a:gdLst>
                <a:gd name="textAreaLeft" fmla="*/ 127800 w 255600"/>
                <a:gd name="textAreaRight" fmla="*/ 25560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  <a:lnTo>
                    <a:pt x="139922" y="176391"/>
                  </a:lnTo>
                  <a:close/>
                </a:path>
                <a:path fill="none" w="279843" h="352781">
                  <a:moveTo>
                    <a:pt x="139922" y="0"/>
                  </a:moveTo>
                  <a:lnTo>
                    <a:pt x="139922" y="0"/>
                  </a:lnTo>
                  <a:arcTo wR="139922" hR="176391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Группа 16"/>
          <p:cNvGrpSpPr/>
          <p:nvPr/>
        </p:nvGrpSpPr>
        <p:grpSpPr>
          <a:xfrm>
            <a:off x="5175360" y="276120"/>
            <a:ext cx="682560" cy="820800"/>
            <a:chOff x="5175360" y="276120"/>
            <a:chExt cx="682560" cy="820800"/>
          </a:xfrm>
        </p:grpSpPr>
        <p:sp>
          <p:nvSpPr>
            <p:cNvPr id="306" name="Прямоугольник 70"/>
            <p:cNvSpPr/>
            <p:nvPr/>
          </p:nvSpPr>
          <p:spPr>
            <a:xfrm>
              <a:off x="5175360" y="276120"/>
              <a:ext cx="455760" cy="8208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Прямая соединительная линия 71"/>
            <p:cNvSpPr/>
            <p:nvPr/>
          </p:nvSpPr>
          <p:spPr>
            <a:xfrm flipH="1">
              <a:off x="5400720" y="685800"/>
              <a:ext cx="1440" cy="411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Овал 72"/>
            <p:cNvSpPr/>
            <p:nvPr/>
          </p:nvSpPr>
          <p:spPr>
            <a:xfrm>
              <a:off x="5327640" y="933480"/>
              <a:ext cx="150840" cy="16344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65"/>
            <p:cNvSpPr/>
            <p:nvPr/>
          </p:nvSpPr>
          <p:spPr>
            <a:xfrm>
              <a:off x="5175360" y="303480"/>
              <a:ext cx="68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74"/>
          <p:cNvSpPr/>
          <p:nvPr/>
        </p:nvSpPr>
        <p:spPr>
          <a:xfrm>
            <a:off x="6043680" y="113364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84"/>
          <p:cNvSpPr/>
          <p:nvPr/>
        </p:nvSpPr>
        <p:spPr>
          <a:xfrm>
            <a:off x="6786720" y="419040"/>
            <a:ext cx="642960" cy="64296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56"/>
          <p:cNvGrpSpPr/>
          <p:nvPr/>
        </p:nvGrpSpPr>
        <p:grpSpPr>
          <a:xfrm>
            <a:off x="5826600" y="456480"/>
            <a:ext cx="888120" cy="605520"/>
            <a:chOff x="5826600" y="456480"/>
            <a:chExt cx="888120" cy="605520"/>
          </a:xfrm>
        </p:grpSpPr>
        <p:sp>
          <p:nvSpPr>
            <p:cNvPr id="313" name="Трапеция 14"/>
            <p:cNvSpPr/>
            <p:nvPr/>
          </p:nvSpPr>
          <p:spPr>
            <a:xfrm rot="18300000">
              <a:off x="5928480" y="470520"/>
              <a:ext cx="225360" cy="366480"/>
            </a:xfrm>
            <a:custGeom>
              <a:avLst/>
              <a:gdLst>
                <a:gd name="textAreaLeft" fmla="*/ 37440 w 225360"/>
                <a:gd name="textAreaRight" fmla="*/ 187920 w 225360"/>
                <a:gd name="textAreaTop" fmla="*/ 6084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88"/>
            <p:cNvSpPr/>
            <p:nvPr/>
          </p:nvSpPr>
          <p:spPr>
            <a:xfrm>
              <a:off x="6132600" y="490680"/>
              <a:ext cx="436680" cy="57132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Месяц 89"/>
            <p:cNvSpPr/>
            <p:nvPr/>
          </p:nvSpPr>
          <p:spPr>
            <a:xfrm rot="10800000">
              <a:off x="6568920" y="490320"/>
              <a:ext cx="14580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оугольник 90"/>
            <p:cNvSpPr/>
            <p:nvPr/>
          </p:nvSpPr>
          <p:spPr>
            <a:xfrm>
              <a:off x="6132600" y="804960"/>
              <a:ext cx="436680" cy="25380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Скругленный прямоугольник 109"/>
          <p:cNvSpPr/>
          <p:nvPr/>
        </p:nvSpPr>
        <p:spPr>
          <a:xfrm>
            <a:off x="4213080" y="3295800"/>
            <a:ext cx="328788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16"/>
          <p:cNvGrpSpPr/>
          <p:nvPr/>
        </p:nvGrpSpPr>
        <p:grpSpPr>
          <a:xfrm>
            <a:off x="4286160" y="3562200"/>
            <a:ext cx="642960" cy="652680"/>
            <a:chOff x="4286160" y="3562200"/>
            <a:chExt cx="642960" cy="652680"/>
          </a:xfrm>
        </p:grpSpPr>
        <p:sp>
          <p:nvSpPr>
            <p:cNvPr id="319" name="Овал 111"/>
            <p:cNvSpPr/>
            <p:nvPr/>
          </p:nvSpPr>
          <p:spPr>
            <a:xfrm>
              <a:off x="4286160" y="356220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112"/>
            <p:cNvSpPr/>
            <p:nvPr/>
          </p:nvSpPr>
          <p:spPr>
            <a:xfrm>
              <a:off x="4479840" y="375732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113"/>
            <p:cNvSpPr/>
            <p:nvPr/>
          </p:nvSpPr>
          <p:spPr>
            <a:xfrm>
              <a:off x="4672080" y="375732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Дуга 114"/>
            <p:cNvSpPr/>
            <p:nvPr/>
          </p:nvSpPr>
          <p:spPr>
            <a:xfrm rot="7134600">
              <a:off x="4472640" y="3731040"/>
              <a:ext cx="255600" cy="317520"/>
            </a:xfrm>
            <a:custGeom>
              <a:avLst/>
              <a:gdLst>
                <a:gd name="textAreaLeft" fmla="*/ 127800 w 255600"/>
                <a:gd name="textAreaRight" fmla="*/ 25560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3" h="352780">
                  <a:moveTo>
                    <a:pt x="139922" y="0"/>
                  </a:moveTo>
                  <a:lnTo>
                    <a:pt x="139922" y="0"/>
                  </a:lnTo>
                  <a:arcTo wR="139922" hR="176390" stAng="-5400000" swAng="5400000"/>
                  <a:lnTo>
                    <a:pt x="139922" y="176390"/>
                  </a:lnTo>
                  <a:close/>
                </a:path>
                <a:path fill="none" w="279843" h="352780">
                  <a:moveTo>
                    <a:pt x="139922" y="0"/>
                  </a:moveTo>
                  <a:lnTo>
                    <a:pt x="139922" y="0"/>
                  </a:lnTo>
                  <a:arcTo wR="139922" hR="176390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120"/>
          <p:cNvSpPr/>
          <p:nvPr/>
        </p:nvSpPr>
        <p:spPr>
          <a:xfrm>
            <a:off x="6249960" y="4214880"/>
            <a:ext cx="9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127"/>
          <p:cNvSpPr/>
          <p:nvPr/>
        </p:nvSpPr>
        <p:spPr>
          <a:xfrm>
            <a:off x="4214880" y="1714680"/>
            <a:ext cx="328608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Группа 16"/>
          <p:cNvGrpSpPr/>
          <p:nvPr/>
        </p:nvGrpSpPr>
        <p:grpSpPr>
          <a:xfrm>
            <a:off x="4357800" y="1919160"/>
            <a:ext cx="642960" cy="652680"/>
            <a:chOff x="4357800" y="1919160"/>
            <a:chExt cx="642960" cy="652680"/>
          </a:xfrm>
        </p:grpSpPr>
        <p:sp>
          <p:nvSpPr>
            <p:cNvPr id="326" name="Овал 129"/>
            <p:cNvSpPr/>
            <p:nvPr/>
          </p:nvSpPr>
          <p:spPr>
            <a:xfrm>
              <a:off x="4357800" y="1919160"/>
              <a:ext cx="642960" cy="65268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Овал 130"/>
            <p:cNvSpPr/>
            <p:nvPr/>
          </p:nvSpPr>
          <p:spPr>
            <a:xfrm>
              <a:off x="4551480" y="2114280"/>
              <a:ext cx="6336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131"/>
            <p:cNvSpPr/>
            <p:nvPr/>
          </p:nvSpPr>
          <p:spPr>
            <a:xfrm>
              <a:off x="4743720" y="2114280"/>
              <a:ext cx="64800" cy="6480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Дуга 132"/>
            <p:cNvSpPr/>
            <p:nvPr/>
          </p:nvSpPr>
          <p:spPr>
            <a:xfrm rot="7134600">
              <a:off x="4544280" y="2088000"/>
              <a:ext cx="255600" cy="317520"/>
            </a:xfrm>
            <a:custGeom>
              <a:avLst/>
              <a:gdLst>
                <a:gd name="textAreaLeft" fmla="*/ 127800 w 255600"/>
                <a:gd name="textAreaRight" fmla="*/ 255960 w 255600"/>
                <a:gd name="textAreaTop" fmla="*/ 0 h 317520"/>
                <a:gd name="textAreaBottom" fmla="*/ 158760 h 317520"/>
              </a:gdLst>
              <a:ahLst/>
              <a:rect l="textAreaLeft" t="textAreaTop" r="textAreaRight" b="textAreaBottom"/>
              <a:pathLst>
                <a:path stroke="0" w="279842" h="352781">
                  <a:moveTo>
                    <a:pt x="139921" y="0"/>
                  </a:moveTo>
                  <a:lnTo>
                    <a:pt x="139921" y="0"/>
                  </a:lnTo>
                  <a:arcTo wR="139921" hR="176391" stAng="-5400000" swAng="5400000"/>
                  <a:lnTo>
                    <a:pt x="139921" y="176391"/>
                  </a:lnTo>
                  <a:close/>
                </a:path>
                <a:path fill="none" w="279842" h="352781">
                  <a:moveTo>
                    <a:pt x="139921" y="0"/>
                  </a:moveTo>
                  <a:lnTo>
                    <a:pt x="139921" y="0"/>
                  </a:lnTo>
                  <a:arcTo wR="139921" hR="176391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16"/>
          <p:cNvGrpSpPr/>
          <p:nvPr/>
        </p:nvGrpSpPr>
        <p:grpSpPr>
          <a:xfrm>
            <a:off x="5175360" y="1785960"/>
            <a:ext cx="682560" cy="811080"/>
            <a:chOff x="5175360" y="1785960"/>
            <a:chExt cx="682560" cy="811080"/>
          </a:xfrm>
        </p:grpSpPr>
        <p:sp>
          <p:nvSpPr>
            <p:cNvPr id="331" name="Прямоугольник 134"/>
            <p:cNvSpPr/>
            <p:nvPr/>
          </p:nvSpPr>
          <p:spPr>
            <a:xfrm>
              <a:off x="5175360" y="1785960"/>
              <a:ext cx="455760" cy="81108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135"/>
            <p:cNvSpPr/>
            <p:nvPr/>
          </p:nvSpPr>
          <p:spPr>
            <a:xfrm flipH="1">
              <a:off x="5400720" y="2190600"/>
              <a:ext cx="1440" cy="40644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Овал 136"/>
            <p:cNvSpPr/>
            <p:nvPr/>
          </p:nvSpPr>
          <p:spPr>
            <a:xfrm>
              <a:off x="5327640" y="2435400"/>
              <a:ext cx="150840" cy="16164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5"/>
            <p:cNvSpPr/>
            <p:nvPr/>
          </p:nvSpPr>
          <p:spPr>
            <a:xfrm>
              <a:off x="5175360" y="1812960"/>
              <a:ext cx="68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138"/>
          <p:cNvSpPr/>
          <p:nvPr/>
        </p:nvSpPr>
        <p:spPr>
          <a:xfrm>
            <a:off x="6032520" y="2633760"/>
            <a:ext cx="13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Группа 56"/>
          <p:cNvGrpSpPr/>
          <p:nvPr/>
        </p:nvGrpSpPr>
        <p:grpSpPr>
          <a:xfrm>
            <a:off x="5683680" y="1956600"/>
            <a:ext cx="888120" cy="605520"/>
            <a:chOff x="5683680" y="1956600"/>
            <a:chExt cx="888120" cy="605520"/>
          </a:xfrm>
        </p:grpSpPr>
        <p:sp>
          <p:nvSpPr>
            <p:cNvPr id="337" name="Трапеция 14"/>
            <p:cNvSpPr/>
            <p:nvPr/>
          </p:nvSpPr>
          <p:spPr>
            <a:xfrm rot="18300000">
              <a:off x="5785560" y="1970640"/>
              <a:ext cx="225360" cy="366480"/>
            </a:xfrm>
            <a:custGeom>
              <a:avLst/>
              <a:gdLst>
                <a:gd name="textAreaLeft" fmla="*/ 37440 w 225360"/>
                <a:gd name="textAreaRight" fmla="*/ 187920 w 225360"/>
                <a:gd name="textAreaTop" fmla="*/ 6084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рямоугольник 142"/>
            <p:cNvSpPr/>
            <p:nvPr/>
          </p:nvSpPr>
          <p:spPr>
            <a:xfrm>
              <a:off x="5989680" y="1990800"/>
              <a:ext cx="436680" cy="57132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Месяц 143"/>
            <p:cNvSpPr/>
            <p:nvPr/>
          </p:nvSpPr>
          <p:spPr>
            <a:xfrm rot="10800000">
              <a:off x="6426000" y="1990440"/>
              <a:ext cx="14580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144"/>
            <p:cNvSpPr/>
            <p:nvPr/>
          </p:nvSpPr>
          <p:spPr>
            <a:xfrm>
              <a:off x="5989680" y="2305080"/>
              <a:ext cx="436680" cy="25380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ятно 1 171"/>
          <p:cNvGrpSpPr/>
          <p:nvPr/>
        </p:nvGrpSpPr>
        <p:grpSpPr>
          <a:xfrm>
            <a:off x="6649920" y="1889280"/>
            <a:ext cx="903240" cy="830160"/>
            <a:chOff x="6649920" y="1889280"/>
            <a:chExt cx="903240" cy="830160"/>
          </a:xfrm>
        </p:grpSpPr>
        <p:pic>
          <p:nvPicPr>
            <p:cNvPr id="342" name="Пятно 1 171" descr=""/>
            <p:cNvPicPr/>
            <p:nvPr/>
          </p:nvPicPr>
          <p:blipFill>
            <a:blip r:embed="rId3"/>
            <a:stretch/>
          </p:blipFill>
          <p:spPr>
            <a:xfrm>
              <a:off x="6649920" y="1889280"/>
              <a:ext cx="9032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83560" y="2138400"/>
              <a:ext cx="43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74"/>
          <p:cNvSpPr/>
          <p:nvPr/>
        </p:nvSpPr>
        <p:spPr>
          <a:xfrm>
            <a:off x="1425600" y="1197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74"/>
          <p:cNvSpPr/>
          <p:nvPr/>
        </p:nvSpPr>
        <p:spPr>
          <a:xfrm>
            <a:off x="214200" y="1785960"/>
            <a:ext cx="3357720" cy="13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6"/>
          <p:cNvGrpSpPr/>
          <p:nvPr/>
        </p:nvGrpSpPr>
        <p:grpSpPr>
          <a:xfrm>
            <a:off x="357120" y="2000160"/>
            <a:ext cx="714600" cy="714600"/>
            <a:chOff x="357120" y="2000160"/>
            <a:chExt cx="714600" cy="714600"/>
          </a:xfrm>
        </p:grpSpPr>
        <p:sp>
          <p:nvSpPr>
            <p:cNvPr id="347" name="Овал 188"/>
            <p:cNvSpPr/>
            <p:nvPr/>
          </p:nvSpPr>
          <p:spPr>
            <a:xfrm>
              <a:off x="357120" y="2000160"/>
              <a:ext cx="71460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Овал 191"/>
            <p:cNvSpPr/>
            <p:nvPr/>
          </p:nvSpPr>
          <p:spPr>
            <a:xfrm>
              <a:off x="571320" y="2214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Овал 196"/>
            <p:cNvSpPr/>
            <p:nvPr/>
          </p:nvSpPr>
          <p:spPr>
            <a:xfrm>
              <a:off x="785880" y="2214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Дуга 200"/>
            <p:cNvSpPr/>
            <p:nvPr/>
          </p:nvSpPr>
          <p:spPr>
            <a:xfrm rot="7134600">
              <a:off x="566280" y="218268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  <a:lnTo>
                    <a:pt x="139701" y="176214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1" y="0"/>
                  </a:lnTo>
                  <a:arcTo wR="13970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Группа 76"/>
          <p:cNvGrpSpPr/>
          <p:nvPr/>
        </p:nvGrpSpPr>
        <p:grpSpPr>
          <a:xfrm>
            <a:off x="1143000" y="2000160"/>
            <a:ext cx="642960" cy="714600"/>
            <a:chOff x="1143000" y="2000160"/>
            <a:chExt cx="642960" cy="714600"/>
          </a:xfrm>
        </p:grpSpPr>
        <p:sp>
          <p:nvSpPr>
            <p:cNvPr id="352" name="Прямоугольник 211"/>
            <p:cNvSpPr/>
            <p:nvPr/>
          </p:nvSpPr>
          <p:spPr>
            <a:xfrm>
              <a:off x="1143000" y="200016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ая соединительная линия 216"/>
            <p:cNvSpPr/>
            <p:nvPr/>
          </p:nvSpPr>
          <p:spPr>
            <a:xfrm flipH="1">
              <a:off x="1355760" y="23576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Овал 217"/>
            <p:cNvSpPr/>
            <p:nvPr/>
          </p:nvSpPr>
          <p:spPr>
            <a:xfrm>
              <a:off x="1285920" y="257184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65"/>
            <p:cNvSpPr/>
            <p:nvPr/>
          </p:nvSpPr>
          <p:spPr>
            <a:xfrm>
              <a:off x="1143000" y="202392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Группа 78"/>
          <p:cNvGrpSpPr/>
          <p:nvPr/>
        </p:nvGrpSpPr>
        <p:grpSpPr>
          <a:xfrm>
            <a:off x="1537200" y="1958760"/>
            <a:ext cx="1034280" cy="684360"/>
            <a:chOff x="1537200" y="1958760"/>
            <a:chExt cx="1034280" cy="684360"/>
          </a:xfrm>
        </p:grpSpPr>
        <p:sp>
          <p:nvSpPr>
            <p:cNvPr id="357" name="Трапеция 228"/>
            <p:cNvSpPr/>
            <p:nvPr/>
          </p:nvSpPr>
          <p:spPr>
            <a:xfrm rot="18300000">
              <a:off x="1655280" y="1973160"/>
              <a:ext cx="253800" cy="42048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6984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54000" h="540217">
                  <a:moveTo>
                    <a:pt x="0" y="540217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4021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229"/>
            <p:cNvSpPr/>
            <p:nvPr/>
          </p:nvSpPr>
          <p:spPr>
            <a:xfrm>
              <a:off x="1903320" y="2000160"/>
              <a:ext cx="50148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Месяц 230"/>
            <p:cNvSpPr/>
            <p:nvPr/>
          </p:nvSpPr>
          <p:spPr>
            <a:xfrm rot="10800000">
              <a:off x="2404800" y="2000160"/>
              <a:ext cx="16668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Пятно 1 231"/>
          <p:cNvGrpSpPr/>
          <p:nvPr/>
        </p:nvGrpSpPr>
        <p:grpSpPr>
          <a:xfrm>
            <a:off x="2584440" y="1822320"/>
            <a:ext cx="1042920" cy="897120"/>
            <a:chOff x="2584440" y="1822320"/>
            <a:chExt cx="1042920" cy="897120"/>
          </a:xfrm>
        </p:grpSpPr>
        <p:pic>
          <p:nvPicPr>
            <p:cNvPr id="361" name="Пятно 1 231" descr=""/>
            <p:cNvPicPr/>
            <p:nvPr/>
          </p:nvPicPr>
          <p:blipFill>
            <a:blip r:embed="rId4"/>
            <a:stretch/>
          </p:blipFill>
          <p:spPr>
            <a:xfrm>
              <a:off x="2584440" y="1822320"/>
              <a:ext cx="10429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2841480" y="2087640"/>
              <a:ext cx="519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74"/>
          <p:cNvSpPr/>
          <p:nvPr/>
        </p:nvSpPr>
        <p:spPr>
          <a:xfrm>
            <a:off x="1857240" y="27147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295"/>
          <p:cNvSpPr/>
          <p:nvPr/>
        </p:nvSpPr>
        <p:spPr>
          <a:xfrm>
            <a:off x="285840" y="3429000"/>
            <a:ext cx="342900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Группа 16"/>
          <p:cNvGrpSpPr/>
          <p:nvPr/>
        </p:nvGrpSpPr>
        <p:grpSpPr>
          <a:xfrm>
            <a:off x="428760" y="3571920"/>
            <a:ext cx="714240" cy="642960"/>
            <a:chOff x="428760" y="3571920"/>
            <a:chExt cx="714240" cy="642960"/>
          </a:xfrm>
        </p:grpSpPr>
        <p:sp>
          <p:nvSpPr>
            <p:cNvPr id="366" name="Овал 297"/>
            <p:cNvSpPr/>
            <p:nvPr/>
          </p:nvSpPr>
          <p:spPr>
            <a:xfrm>
              <a:off x="428760" y="3571920"/>
              <a:ext cx="714240" cy="64296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Овал 298"/>
            <p:cNvSpPr/>
            <p:nvPr/>
          </p:nvSpPr>
          <p:spPr>
            <a:xfrm>
              <a:off x="642960" y="3765600"/>
              <a:ext cx="71280" cy="6336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Овал 299"/>
            <p:cNvSpPr/>
            <p:nvPr/>
          </p:nvSpPr>
          <p:spPr>
            <a:xfrm>
              <a:off x="857160" y="3765600"/>
              <a:ext cx="71280" cy="6336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Дуга 300"/>
            <p:cNvSpPr/>
            <p:nvPr/>
          </p:nvSpPr>
          <p:spPr>
            <a:xfrm rot="7134600">
              <a:off x="650880" y="3718440"/>
              <a:ext cx="252360" cy="352440"/>
            </a:xfrm>
            <a:custGeom>
              <a:avLst/>
              <a:gdLst>
                <a:gd name="textAreaLeft" fmla="*/ 126360 w 252360"/>
                <a:gd name="textAreaRight" fmla="*/ 252720 w 252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80461" h="352427">
                  <a:moveTo>
                    <a:pt x="140231" y="0"/>
                  </a:moveTo>
                  <a:lnTo>
                    <a:pt x="140231" y="0"/>
                  </a:lnTo>
                  <a:arcTo wR="140231" hR="176214" stAng="-5400000" swAng="5400000"/>
                  <a:lnTo>
                    <a:pt x="140231" y="176214"/>
                  </a:lnTo>
                  <a:close/>
                </a:path>
                <a:path fill="none" w="280461" h="352427">
                  <a:moveTo>
                    <a:pt x="140231" y="0"/>
                  </a:moveTo>
                  <a:lnTo>
                    <a:pt x="140231" y="0"/>
                  </a:lnTo>
                  <a:arcTo wR="140231" hR="176214" stAng="-5400000" swAng="5400000"/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Овал 301"/>
          <p:cNvSpPr/>
          <p:nvPr/>
        </p:nvSpPr>
        <p:spPr>
          <a:xfrm>
            <a:off x="2786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Группа 55"/>
          <p:cNvGrpSpPr/>
          <p:nvPr/>
        </p:nvGrpSpPr>
        <p:grpSpPr>
          <a:xfrm>
            <a:off x="1822320" y="3619800"/>
            <a:ext cx="820800" cy="595080"/>
            <a:chOff x="1822320" y="3619800"/>
            <a:chExt cx="820800" cy="595080"/>
          </a:xfrm>
        </p:grpSpPr>
        <p:sp>
          <p:nvSpPr>
            <p:cNvPr id="372" name="Трапеция 303"/>
            <p:cNvSpPr/>
            <p:nvPr/>
          </p:nvSpPr>
          <p:spPr>
            <a:xfrm rot="18300000">
              <a:off x="1909440" y="3641760"/>
              <a:ext cx="225360" cy="330120"/>
            </a:xfrm>
            <a:custGeom>
              <a:avLst/>
              <a:gdLst>
                <a:gd name="textAreaLeft" fmla="*/ 37440 w 225360"/>
                <a:gd name="textAreaRight" fmla="*/ 187920 w 225360"/>
                <a:gd name="textAreaTop" fmla="*/ 5508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53605" h="539385">
                  <a:moveTo>
                    <a:pt x="0" y="539385"/>
                  </a:moveTo>
                  <a:lnTo>
                    <a:pt x="63401" y="0"/>
                  </a:lnTo>
                  <a:lnTo>
                    <a:pt x="190204" y="0"/>
                  </a:lnTo>
                  <a:lnTo>
                    <a:pt x="253605" y="53938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оугольник 304"/>
            <p:cNvSpPr/>
            <p:nvPr/>
          </p:nvSpPr>
          <p:spPr>
            <a:xfrm>
              <a:off x="2119320" y="3643200"/>
              <a:ext cx="392040" cy="57168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Месяц 305"/>
            <p:cNvSpPr/>
            <p:nvPr/>
          </p:nvSpPr>
          <p:spPr>
            <a:xfrm rot="10800000">
              <a:off x="2511360" y="3643200"/>
              <a:ext cx="13176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16"/>
          <p:cNvGrpSpPr/>
          <p:nvPr/>
        </p:nvGrpSpPr>
        <p:grpSpPr>
          <a:xfrm>
            <a:off x="1278720" y="3642840"/>
            <a:ext cx="578520" cy="572040"/>
            <a:chOff x="1278720" y="3642840"/>
            <a:chExt cx="578520" cy="572040"/>
          </a:xfrm>
        </p:grpSpPr>
        <p:sp>
          <p:nvSpPr>
            <p:cNvPr id="376" name="Блок-схема: ручное управление 307"/>
            <p:cNvSpPr/>
            <p:nvPr/>
          </p:nvSpPr>
          <p:spPr>
            <a:xfrm rot="5211600">
              <a:off x="1283040" y="3797640"/>
              <a:ext cx="257400" cy="25236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Группа 83"/>
            <p:cNvGrpSpPr/>
            <p:nvPr/>
          </p:nvGrpSpPr>
          <p:grpSpPr>
            <a:xfrm>
              <a:off x="1595880" y="3642840"/>
              <a:ext cx="261360" cy="572040"/>
              <a:chOff x="1595880" y="3642840"/>
              <a:chExt cx="261360" cy="572040"/>
            </a:xfrm>
          </p:grpSpPr>
          <p:sp>
            <p:nvSpPr>
              <p:cNvPr id="378" name="Прямая соединительная линия 309"/>
              <p:cNvSpPr/>
              <p:nvPr/>
            </p:nvSpPr>
            <p:spPr>
              <a:xfrm flipV="1">
                <a:off x="1595880" y="3642840"/>
                <a:ext cx="11412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Прямая соединительная линия 310"/>
              <p:cNvSpPr/>
              <p:nvPr/>
            </p:nvSpPr>
            <p:spPr>
              <a:xfrm flipV="1">
                <a:off x="1595880" y="3871800"/>
                <a:ext cx="15192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Прямая соединительная линия 311"/>
              <p:cNvSpPr/>
              <p:nvPr/>
            </p:nvSpPr>
            <p:spPr>
              <a:xfrm>
                <a:off x="1595880" y="4002120"/>
                <a:ext cx="14724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Прямая соединительная линия 312"/>
              <p:cNvSpPr/>
              <p:nvPr/>
            </p:nvSpPr>
            <p:spPr>
              <a:xfrm>
                <a:off x="1710000" y="3944880"/>
                <a:ext cx="14724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Прямая соединительная линия 313"/>
              <p:cNvSpPr/>
              <p:nvPr/>
            </p:nvSpPr>
            <p:spPr>
              <a:xfrm flipV="1">
                <a:off x="1710000" y="3700080"/>
                <a:ext cx="14724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Прямая соединительная линия 314"/>
              <p:cNvSpPr/>
              <p:nvPr/>
            </p:nvSpPr>
            <p:spPr>
              <a:xfrm>
                <a:off x="1595880" y="4100760"/>
                <a:ext cx="11412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315"/>
              <p:cNvSpPr/>
              <p:nvPr/>
            </p:nvSpPr>
            <p:spPr>
              <a:xfrm>
                <a:off x="1710000" y="4100760"/>
                <a:ext cx="14724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TextBox 120"/>
          <p:cNvSpPr/>
          <p:nvPr/>
        </p:nvSpPr>
        <p:spPr>
          <a:xfrm>
            <a:off x="2000160" y="428616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76"/>
          <p:cNvGrpSpPr/>
          <p:nvPr/>
        </p:nvGrpSpPr>
        <p:grpSpPr>
          <a:xfrm>
            <a:off x="5000760" y="3571920"/>
            <a:ext cx="642960" cy="714240"/>
            <a:chOff x="5000760" y="3571920"/>
            <a:chExt cx="642960" cy="714240"/>
          </a:xfrm>
        </p:grpSpPr>
        <p:sp>
          <p:nvSpPr>
            <p:cNvPr id="387" name="Прямоугольник 319"/>
            <p:cNvSpPr/>
            <p:nvPr/>
          </p:nvSpPr>
          <p:spPr>
            <a:xfrm>
              <a:off x="5000760" y="35719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320"/>
            <p:cNvSpPr/>
            <p:nvPr/>
          </p:nvSpPr>
          <p:spPr>
            <a:xfrm flipH="1">
              <a:off x="5213520" y="39290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Овал 321"/>
            <p:cNvSpPr/>
            <p:nvPr/>
          </p:nvSpPr>
          <p:spPr>
            <a:xfrm>
              <a:off x="5143680" y="414324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65"/>
            <p:cNvSpPr/>
            <p:nvPr/>
          </p:nvSpPr>
          <p:spPr>
            <a:xfrm>
              <a:off x="5000760" y="35956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78"/>
          <p:cNvGrpSpPr/>
          <p:nvPr/>
        </p:nvGrpSpPr>
        <p:grpSpPr>
          <a:xfrm>
            <a:off x="5466240" y="3530520"/>
            <a:ext cx="1034280" cy="684360"/>
            <a:chOff x="5466240" y="3530520"/>
            <a:chExt cx="1034280" cy="684360"/>
          </a:xfrm>
        </p:grpSpPr>
        <p:sp>
          <p:nvSpPr>
            <p:cNvPr id="392" name="Трапеция 324"/>
            <p:cNvSpPr/>
            <p:nvPr/>
          </p:nvSpPr>
          <p:spPr>
            <a:xfrm rot="18300000">
              <a:off x="5584320" y="3544920"/>
              <a:ext cx="253800" cy="42048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6984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54000" h="540216">
                  <a:moveTo>
                    <a:pt x="0" y="540216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40216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оугольник 325"/>
            <p:cNvSpPr/>
            <p:nvPr/>
          </p:nvSpPr>
          <p:spPr>
            <a:xfrm>
              <a:off x="5832360" y="3571920"/>
              <a:ext cx="50148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Месяц 326"/>
            <p:cNvSpPr/>
            <p:nvPr/>
          </p:nvSpPr>
          <p:spPr>
            <a:xfrm rot="10800000">
              <a:off x="6333840" y="3571920"/>
              <a:ext cx="16668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ятно 1 327"/>
          <p:cNvGrpSpPr/>
          <p:nvPr/>
        </p:nvGrpSpPr>
        <p:grpSpPr>
          <a:xfrm>
            <a:off x="6510240" y="3462480"/>
            <a:ext cx="1042920" cy="896760"/>
            <a:chOff x="6510240" y="3462480"/>
            <a:chExt cx="1042920" cy="896760"/>
          </a:xfrm>
        </p:grpSpPr>
        <p:pic>
          <p:nvPicPr>
            <p:cNvPr id="396" name="Пятно 1 327" descr=""/>
            <p:cNvPicPr/>
            <p:nvPr/>
          </p:nvPicPr>
          <p:blipFill>
            <a:blip r:embed="rId5"/>
            <a:stretch/>
          </p:blipFill>
          <p:spPr>
            <a:xfrm>
              <a:off x="6510240" y="3462480"/>
              <a:ext cx="1042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770520" y="3730680"/>
              <a:ext cx="519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Ленуся</cp:lastModifiedBy>
  <dcterms:modified xsi:type="dcterms:W3CDTF">2010-09-06T18:08:11Z</dcterms:modified>
  <cp:revision>182</cp:revision>
  <dc:subject/>
  <dc:title>«Солнышко» 6 группа</dc:title>
</cp:coreProperties>
</file>