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0610-6AD6-482A-8758-C78FC4737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98B9-AFDE-4688-912C-8DD2AB7D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16DB-0A9F-4C8F-94AB-7C4344DC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618F-20FB-4979-9A8A-1A92574F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C167-51EE-4154-B1D3-EE3BCC4C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5C71-0D05-465C-B4A8-760D8CF6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13DB-F91A-457C-870B-9A0CF7C3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EE18-E667-466B-A73E-127AF700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5FD7-69AC-41A6-9057-A1846948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504D-50B0-41E7-8CFD-90C4DC08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CC75-687B-4C6B-8887-61AAF578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855E-F1FB-4BE9-9AF4-1F419EC3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4D2B-CF64-48F1-AF59-DA745B7F11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catherineasquithgallery.com/uploads/posts/2021-03/1614603273_87-p-fon-dlya-prezentatsii-s-belim-fonom-96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Calibri"/>
              </a:rPr>
              <a:t>Здоровье и безопасност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76092"/>
                </a:solidFill>
                <a:latin typeface="Calibri"/>
              </a:rPr>
              <a:t>Проверочная рабо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s://catherineasquithgallery.com/uploads/posts/2021-03/1614603273_87-p-fon-dlya-prezentatsii-s-belim-fonom-96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rcRect l="0" t="0" r="0" b="48681"/>
          <a:stretch/>
        </p:blipFill>
        <p:spPr>
          <a:xfrm>
            <a:off x="285840" y="357120"/>
            <a:ext cx="842940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s://catherineasquithgallery.com/uploads/posts/2021-03/1614603273_87-p-fon-dlya-prezentatsii-s-belim-fonom-96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rcRect l="0" t="52654" r="0" b="0"/>
          <a:stretch/>
        </p:blipFill>
        <p:spPr>
          <a:xfrm>
            <a:off x="285840" y="642960"/>
            <a:ext cx="84787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s://catherineasquithgallery.com/uploads/posts/2021-03/1614603273_87-p-fon-dlya-prezentatsii-s-belim-fonom-96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" name="Группа 26"/>
          <p:cNvGrpSpPr/>
          <p:nvPr/>
        </p:nvGrpSpPr>
        <p:grpSpPr>
          <a:xfrm>
            <a:off x="3700800" y="428760"/>
            <a:ext cx="1014120" cy="5891040"/>
            <a:chOff x="3700800" y="428760"/>
            <a:chExt cx="1014120" cy="5891040"/>
          </a:xfrm>
        </p:grpSpPr>
        <p:sp>
          <p:nvSpPr>
            <p:cNvPr id="68" name="Овал 2"/>
            <p:cNvSpPr/>
            <p:nvPr/>
          </p:nvSpPr>
          <p:spPr>
            <a:xfrm>
              <a:off x="4372200" y="615600"/>
              <a:ext cx="342720" cy="28044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Овал 4"/>
            <p:cNvSpPr/>
            <p:nvPr/>
          </p:nvSpPr>
          <p:spPr>
            <a:xfrm>
              <a:off x="4372200" y="1270080"/>
              <a:ext cx="342720" cy="2804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Овал 6"/>
            <p:cNvSpPr/>
            <p:nvPr/>
          </p:nvSpPr>
          <p:spPr>
            <a:xfrm>
              <a:off x="4372200" y="2392560"/>
              <a:ext cx="342720" cy="280440"/>
            </a:xfrm>
            <a:prstGeom prst="ellipse">
              <a:avLst/>
            </a:prstGeom>
            <a:solidFill>
              <a:srgbClr val="00b05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Овал 8"/>
            <p:cNvSpPr/>
            <p:nvPr/>
          </p:nvSpPr>
          <p:spPr>
            <a:xfrm>
              <a:off x="4372200" y="3607920"/>
              <a:ext cx="342720" cy="280440"/>
            </a:xfrm>
            <a:prstGeom prst="ellipse">
              <a:avLst/>
            </a:prstGeom>
            <a:solidFill>
              <a:srgbClr val="00b05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Овал 9"/>
            <p:cNvSpPr/>
            <p:nvPr/>
          </p:nvSpPr>
          <p:spPr>
            <a:xfrm>
              <a:off x="4372200" y="4169160"/>
              <a:ext cx="342720" cy="280440"/>
            </a:xfrm>
            <a:prstGeom prst="ellipse">
              <a:avLst/>
            </a:prstGeom>
            <a:solidFill>
              <a:srgbClr val="f7964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Овал 10"/>
            <p:cNvSpPr/>
            <p:nvPr/>
          </p:nvSpPr>
          <p:spPr>
            <a:xfrm>
              <a:off x="4372200" y="4917240"/>
              <a:ext cx="342720" cy="2804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Овал 12"/>
            <p:cNvSpPr/>
            <p:nvPr/>
          </p:nvSpPr>
          <p:spPr>
            <a:xfrm>
              <a:off x="4372200" y="6039360"/>
              <a:ext cx="342720" cy="280440"/>
            </a:xfrm>
            <a:prstGeom prst="ellipse">
              <a:avLst/>
            </a:prstGeom>
            <a:solidFill>
              <a:srgbClr val="00b05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Прямоугольник 13"/>
            <p:cNvSpPr/>
            <p:nvPr/>
          </p:nvSpPr>
          <p:spPr>
            <a:xfrm>
              <a:off x="3778920" y="42876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Прямоугольник 14"/>
            <p:cNvSpPr/>
            <p:nvPr/>
          </p:nvSpPr>
          <p:spPr>
            <a:xfrm>
              <a:off x="3778920" y="108324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Прямоугольник 15"/>
            <p:cNvSpPr/>
            <p:nvPr/>
          </p:nvSpPr>
          <p:spPr>
            <a:xfrm>
              <a:off x="3778920" y="295344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Прямоугольник 16"/>
            <p:cNvSpPr/>
            <p:nvPr/>
          </p:nvSpPr>
          <p:spPr>
            <a:xfrm>
              <a:off x="3778920" y="229896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Прямоугольник 17"/>
            <p:cNvSpPr/>
            <p:nvPr/>
          </p:nvSpPr>
          <p:spPr>
            <a:xfrm>
              <a:off x="3778920" y="164412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Прямоугольник 18"/>
            <p:cNvSpPr/>
            <p:nvPr/>
          </p:nvSpPr>
          <p:spPr>
            <a:xfrm>
              <a:off x="3700800" y="594612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Прямоугольник 19"/>
            <p:cNvSpPr/>
            <p:nvPr/>
          </p:nvSpPr>
          <p:spPr>
            <a:xfrm>
              <a:off x="3778920" y="538488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Прямоугольник 20"/>
            <p:cNvSpPr/>
            <p:nvPr/>
          </p:nvSpPr>
          <p:spPr>
            <a:xfrm>
              <a:off x="3778920" y="473040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Прямоугольник 21"/>
            <p:cNvSpPr/>
            <p:nvPr/>
          </p:nvSpPr>
          <p:spPr>
            <a:xfrm>
              <a:off x="3778920" y="398232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Прямоугольник 22"/>
            <p:cNvSpPr/>
            <p:nvPr/>
          </p:nvSpPr>
          <p:spPr>
            <a:xfrm>
              <a:off x="3778920" y="342108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Овал 23"/>
            <p:cNvSpPr/>
            <p:nvPr/>
          </p:nvSpPr>
          <p:spPr>
            <a:xfrm>
              <a:off x="4372200" y="1737720"/>
              <a:ext cx="342720" cy="28044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Овал 24"/>
            <p:cNvSpPr/>
            <p:nvPr/>
          </p:nvSpPr>
          <p:spPr>
            <a:xfrm>
              <a:off x="4372200" y="5478480"/>
              <a:ext cx="342720" cy="28044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Овал 25"/>
            <p:cNvSpPr/>
            <p:nvPr/>
          </p:nvSpPr>
          <p:spPr>
            <a:xfrm>
              <a:off x="4372200" y="3047040"/>
              <a:ext cx="342720" cy="28044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s://catherineasquithgallery.com/uploads/posts/2021-03/1614603273_87-p-fon-dlya-prezentatsii-s-belim-fonom-96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428760" y="785880"/>
            <a:ext cx="82152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s://catherineasquithgallery.com/uploads/posts/2021-03/1614603273_87-p-fon-dlya-prezentatsii-s-belim-fonom-96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285840" y="285840"/>
            <a:ext cx="8215200" cy="2790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tretch/>
        </p:blipFill>
        <p:spPr>
          <a:xfrm>
            <a:off x="214200" y="3071880"/>
            <a:ext cx="832968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s://catherineasquithgallery.com/uploads/posts/2021-03/1614603273_87-p-fon-dlya-prezentatsii-s-belim-fonom-96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428760" y="714240"/>
            <a:ext cx="822168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s://catherineasquithgallery.com/uploads/posts/2021-03/1614603273_87-p-fon-dlya-prezentatsii-s-belim-fonom-96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142920" y="714240"/>
            <a:ext cx="86533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s://catherineasquithgallery.com/uploads/posts/2021-03/1614603273_87-p-fon-dlya-prezentatsii-s-belim-fonom-96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rcRect l="0" t="0" r="0" b="62771"/>
          <a:stretch/>
        </p:blipFill>
        <p:spPr>
          <a:xfrm>
            <a:off x="500040" y="500040"/>
            <a:ext cx="82310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s://catherineasquithgallery.com/uploads/posts/2021-03/1614603273_87-p-fon-dlya-prezentatsii-s-belim-fonom-96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rcRect l="0" t="37234" r="0" b="0"/>
          <a:stretch/>
        </p:blipFill>
        <p:spPr>
          <a:xfrm>
            <a:off x="1714680" y="0"/>
            <a:ext cx="5564160" cy="4884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3"/>
          <a:srcRect l="0" t="0" r="28474" b="90285"/>
          <a:stretch/>
        </p:blipFill>
        <p:spPr>
          <a:xfrm>
            <a:off x="1000080" y="4857840"/>
            <a:ext cx="65721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s://catherineasquithgallery.com/uploads/posts/2021-03/1614603273_87-p-fon-dlya-prezentatsii-s-belim-fonom-96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rcRect l="0" t="11160" r="0" b="38492"/>
          <a:stretch/>
        </p:blipFill>
        <p:spPr>
          <a:xfrm>
            <a:off x="428760" y="357120"/>
            <a:ext cx="80326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s://catherineasquithgallery.com/uploads/posts/2021-03/1614603273_87-p-fon-dlya-prezentatsii-s-belim-fonom-96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rcRect l="0" t="64389" r="0" b="0"/>
          <a:stretch/>
        </p:blipFill>
        <p:spPr>
          <a:xfrm>
            <a:off x="357120" y="785880"/>
            <a:ext cx="82598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11T11:52:28Z</dcterms:created>
  <dc:creator>lenovo</dc:creator>
  <dc:description/>
  <dc:language>en-US</dc:language>
  <cp:lastModifiedBy>lenovo</cp:lastModifiedBy>
  <dcterms:modified xsi:type="dcterms:W3CDTF">2023-02-11T12:19:38Z</dcterms:modified>
  <cp:revision>3</cp:revision>
  <dc:subject/>
  <dc:title>Слайд 1</dc:title>
</cp:coreProperties>
</file>