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5F3B-B2EA-4AE2-BD3A-280E89E86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88B3-C5F5-4831-9B73-8C916780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3BE2-50C0-4B40-B70C-33291EA63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1A2C-E7E3-4F1B-9F2A-C4C5D3060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9751-541A-420D-B80F-EF21E3A3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C145-4837-466B-998F-4B645BA3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CFC3-9F91-4CB3-BD6E-5A403F38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9286-028C-4A39-80BF-26C15760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DCEB-BA65-4C26-B638-5B252AC2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1364-A29A-4E01-B32F-959934AA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F4D3-1B1F-4599-9CA0-1CC2D4FC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9160-8512-4384-8451-54390D91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C046-6455-4399-A9B7-0ABB0D4A146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8808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имующие птицы области(Сибирь).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4581360"/>
            <a:ext cx="91440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ДОУ №3 «Журавушка»   г.Бердс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76720" y="1052640"/>
            <a:ext cx="40672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ять к нам Свиристели зимою прилетел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пели, и свистели наперекор метели. Кружили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иристели подобно карусели. Им кланялися ели, а подпевать не смел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4" descr="свиристель 1"/>
          <p:cNvPicPr/>
          <p:nvPr/>
        </p:nvPicPr>
        <p:blipFill>
          <a:blip r:embed="rId1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5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5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5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5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580000" y="404640"/>
            <a:ext cx="31068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Что в лесу за гам,стук да тарара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то там все воюет,злится да колду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ятел, нос как пика,с громким криком "кика!"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ёстренький мундир,чем не командир?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" descr="дятел"/>
          <p:cNvPicPr/>
          <p:nvPr/>
        </p:nvPicPr>
        <p:blipFill>
          <a:blip r:embed="rId1"/>
          <a:stretch/>
        </p:blipFill>
        <p:spPr>
          <a:xfrm>
            <a:off x="539640" y="333360"/>
            <a:ext cx="496908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27280" y="277920"/>
            <a:ext cx="4608360" cy="65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410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ропатки на ночлег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голубой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ырнули снег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до самого рассвет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этом сказочном снегу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ропаткам снилось лет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 голубикой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луг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4" descr="куропатки 1"/>
          <p:cNvPicPr/>
          <p:nvPr/>
        </p:nvPicPr>
        <p:blipFill>
          <a:blip r:embed="rId1"/>
          <a:stretch/>
        </p:blipFill>
        <p:spPr>
          <a:xfrm>
            <a:off x="4500720" y="404640"/>
            <a:ext cx="4535280" cy="62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3280" y="277560"/>
            <a:ext cx="3683160" cy="631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7e7ff"/>
                </a:solidFill>
                <a:latin typeface="Arial"/>
              </a:rPr>
              <a:t>У совы, у старой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b7e7ff"/>
                </a:solidFill>
                <a:latin typeface="Arial"/>
              </a:rPr>
              <a:t>Не глаза, а фары –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b7e7ff"/>
                </a:solidFill>
                <a:latin typeface="Arial"/>
              </a:rPr>
              <a:t>Круглые, большие,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b7e7ff"/>
                </a:solidFill>
                <a:latin typeface="Arial"/>
              </a:rPr>
              <a:t>Страшные такие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b7e7ff"/>
                </a:solidFill>
                <a:latin typeface="Arial"/>
              </a:rPr>
              <a:t>Ночь вошла в свои права,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b7e7ff"/>
                </a:solidFill>
                <a:latin typeface="Arial"/>
              </a:rPr>
              <a:t>В путь пускается сова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b7e7ff"/>
                </a:solidFill>
                <a:latin typeface="Arial"/>
              </a:rPr>
              <a:t>Все глаза огромные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b7e7ff"/>
                </a:solidFill>
                <a:latin typeface="Arial"/>
              </a:rPr>
              <a:t>видят ночью темною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b7e7ff"/>
                </a:solidFill>
                <a:latin typeface="Arial"/>
              </a:rPr>
              <a:t>А днем сова не видит,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b7e7ff"/>
                </a:solidFill>
                <a:latin typeface="Arial"/>
              </a:rPr>
              <a:t>Значит не обидит.</a:t>
            </a:r>
            <a:br>
              <a:rPr sz="1800"/>
            </a:b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89000"/>
            <a:ext cx="46083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5" descr="сова 1"/>
          <p:cNvPicPr/>
          <p:nvPr/>
        </p:nvPicPr>
        <p:blipFill>
          <a:blip r:embed="rId1"/>
          <a:stretch/>
        </p:blipFill>
        <p:spPr>
          <a:xfrm>
            <a:off x="324000" y="189000"/>
            <a:ext cx="4464000" cy="64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485928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76720" y="260280"/>
            <a:ext cx="3610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ль растет перед дворцом, А под ней хрустальный д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лка там живет ручная, Да затейница какая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лка песенки по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 орешки все грызет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4" descr="белка"/>
          <p:cNvPicPr/>
          <p:nvPr/>
        </p:nvPicPr>
        <p:blipFill>
          <a:blip r:embed="rId1"/>
          <a:stretch/>
        </p:blipFill>
        <p:spPr>
          <a:xfrm>
            <a:off x="0" y="189000"/>
            <a:ext cx="4788000" cy="666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80000" y="277920"/>
            <a:ext cx="5256000" cy="65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7640" y="260280"/>
            <a:ext cx="3600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тарый дедушка Глухарь с красными бровями в нос бубнит, как секретарь, сводку с новостями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глухарь"/>
          <p:cNvPicPr/>
          <p:nvPr/>
        </p:nvPicPr>
        <p:blipFill>
          <a:blip r:embed="rId1"/>
          <a:stretch/>
        </p:blipFill>
        <p:spPr>
          <a:xfrm>
            <a:off x="3780000" y="333360"/>
            <a:ext cx="5256000" cy="63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2746440" cy="64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Посвисти еще,</a:t>
            </a:r>
            <a:br>
              <a:rPr sz="3600"/>
            </a:b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Синичка,</a:t>
            </a:r>
            <a:br>
              <a:rPr sz="3600"/>
            </a:b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Это добрая привычка:</a:t>
            </a:r>
            <a:br>
              <a:rPr sz="3600"/>
            </a:b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Рано утром прилететь</a:t>
            </a:r>
            <a:br>
              <a:rPr sz="3600"/>
            </a:b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У окошка</a:t>
            </a:r>
            <a:br>
              <a:rPr sz="3600"/>
            </a:b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Посвистеть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59280" y="189000"/>
            <a:ext cx="6084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синица"/>
          <p:cNvPicPr/>
          <p:nvPr/>
        </p:nvPicPr>
        <p:blipFill>
          <a:blip r:embed="rId1"/>
          <a:stretch/>
        </p:blipFill>
        <p:spPr>
          <a:xfrm>
            <a:off x="2987640" y="0"/>
            <a:ext cx="61563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19280" y="0"/>
            <a:ext cx="392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ляньте, легкой стайкой Снегири К нам зимой летят на пустыри. Чёрно-белый зимний скучный св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ят птицы в тёплый алый цве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снегирь"/>
          <p:cNvPicPr/>
          <p:nvPr/>
        </p:nvPicPr>
        <p:blipFill>
          <a:blip r:embed="rId1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59280" y="0"/>
            <a:ext cx="428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00" y="0"/>
            <a:ext cx="4248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х, мороз, ах, лиходей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дных птичек пожалей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ером платье Вороб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идно, что не богате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оду нищий и нич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пнет к людям как реп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теряйся, Воробей! Бросят хлеб, хватай скор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грусти, будь веселей, Скоро лето, Воробей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5" descr="воробей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5:09:16Z</dcterms:created>
  <dc:creator>avtolux3</dc:creator>
  <dc:description/>
  <dc:language>en-US</dc:language>
  <cp:lastModifiedBy>User</cp:lastModifiedBy>
  <dcterms:modified xsi:type="dcterms:W3CDTF">2023-02-08T11:33:20Z</dcterms:modified>
  <cp:revision>8</cp:revision>
  <dc:subject/>
  <dc:title>Зимующие птицы области</dc:title>
</cp:coreProperties>
</file>