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82B-EAB8-4EE0-AF5E-1A77131E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DAD-877C-4C11-97FE-D09ED6D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390-A268-47F1-AFE6-1B6EAF4D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E21-97C8-46CA-90F8-5097064B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34A-FE5F-4E1F-8464-72F99AF8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598-08A8-4F4F-BBEA-43DBF30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5D5-BDAC-4838-BE8F-B68D910D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9EC-4F3E-4D14-8ADF-CD6E62AC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841-A61A-46C9-80C1-5E5165DB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04B-8529-4EAD-9D97-C1B6A12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025-0BEA-46E2-B04D-B2AB6BE5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B4F-268A-4C9F-8361-6E7114D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08B9-ABB0-4FBF-8BB2-CD8EB39359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88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ующие птицы области(Сибирь)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ДОУ №3 «Журавушка»   г.Бердс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720" y="1052640"/>
            <a:ext cx="406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ять к нам Свиристели зимою прилете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ели, и свистели наперекор метели. Круж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ристели подобно карусели. Им кланялися ели, а подпевать не сме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свиристель 1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80000" y="404640"/>
            <a:ext cx="3106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в лесу за гам,стук да тарар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то там все воюет,злится да колд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ятел, нос как пика,с громким криком "кика!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ёстренький мундир,чем не командир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дятел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7280" y="277920"/>
            <a:ext cx="460836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410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опатки на ночлег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олу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ырнули снег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о самого рассве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м сказочном снег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опаткам снилось лет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голубик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лу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куропатки 1"/>
          <p:cNvPicPr/>
          <p:nvPr/>
        </p:nvPicPr>
        <p:blipFill>
          <a:blip r:embed="rId1"/>
          <a:stretch/>
        </p:blipFill>
        <p:spPr>
          <a:xfrm>
            <a:off x="4500720" y="404640"/>
            <a:ext cx="45352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3280" y="277560"/>
            <a:ext cx="368316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У совы, у старо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Не глаза, а фары –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Круглые, большие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Страшные таки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Ночь вошла в свои права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В путь пускается сов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Все глаза огромные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видят ночью темно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А днем сова не видит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Значит не обидит.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4608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сова 1"/>
          <p:cNvPicPr/>
          <p:nvPr/>
        </p:nvPicPr>
        <p:blipFill>
          <a:blip r:embed="rId1"/>
          <a:stretch/>
        </p:blipFill>
        <p:spPr>
          <a:xfrm>
            <a:off x="32400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720" y="260280"/>
            <a:ext cx="3610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ль растет перед дворцом, А под ней хрустальный д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ка там живет ручная, Да затейница какая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ка песенки по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 орешки все грызе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белка"/>
          <p:cNvPicPr/>
          <p:nvPr/>
        </p:nvPicPr>
        <p:blipFill>
          <a:blip r:embed="rId1"/>
          <a:stretch/>
        </p:blipFill>
        <p:spPr>
          <a:xfrm>
            <a:off x="0" y="189000"/>
            <a:ext cx="4788000" cy="66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0" y="277920"/>
            <a:ext cx="52560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ый дедушка Глухарь с красными бровями в нос бубнит, как секретарь, сводку с новостями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глухарь"/>
          <p:cNvPicPr/>
          <p:nvPr/>
        </p:nvPicPr>
        <p:blipFill>
          <a:blip r:embed="rId1"/>
          <a:stretch/>
        </p:blipFill>
        <p:spPr>
          <a:xfrm>
            <a:off x="3780000" y="333360"/>
            <a:ext cx="525600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746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освисти еще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иничка,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Это добрая привычка: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Рано утром прилететь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У окошка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освистеть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59280" y="189000"/>
            <a:ext cx="608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синица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яньте, легкой стайкой Снегири К нам зимой летят на пустыри. Чёрно-белый зимний скучный с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ят птицы в тёплый алый цв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снегирь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9280" y="0"/>
            <a:ext cx="428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424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х, мороз, ах, лиходе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дных птичек пожале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ром платье Вороб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но, что не богат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ду нищий и нич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пнет к людям как реп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еряйся, Воробей! Бросят хлеб, хватай скор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грусти, будь веселей, Скоро лето, Вороб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воробей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5:09:16Z</dcterms:created>
  <dc:creator>avtolux3</dc:creator>
  <dc:description/>
  <dc:language>en-US</dc:language>
  <cp:lastModifiedBy>User</cp:lastModifiedBy>
  <dcterms:modified xsi:type="dcterms:W3CDTF">2023-02-08T11:33:20Z</dcterms:modified>
  <cp:revision>8</cp:revision>
  <dc:subject/>
  <dc:title>Зимующие птицы области</dc:title>
</cp:coreProperties>
</file>