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342-013F-41ED-AA1E-012A3E8B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A0F-BE2F-44B4-872E-C10E8240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5BA-B667-46BB-B0F4-E4185C1D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98-F8BB-467E-9F67-FCBB6BE4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94A3-D84C-46E8-9E73-CB91C8DD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F4ED-1B4E-49DF-933F-329354ED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7B15-6F47-4144-BBB5-6E5C7AF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583C-4494-4872-8E75-A520BA1C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F4E-6BB4-4DB3-BC72-73D09067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963-CD5A-43AC-8530-41EAD98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A3E-4107-497A-8826-A834787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4D8-3AD4-481A-AEA8-48FE3DE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DBA-0C7D-4AAF-90ED-05E5C16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8AD4-336D-44FD-95A4-EE93724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B6E4-3C22-45E9-A6D9-B37B21E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159-C895-4C66-98F1-ECB6B42E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7D5-CBED-493C-BA56-704F49E8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7D1-0069-4071-9333-23C2A7BE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819-7D91-43B6-A197-41BF5C5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FD6-1D71-4B58-B1E9-27D6BF7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C7D-D0D0-47E4-8DC7-05D27B69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779-C0B4-4A76-AEBC-76B4A02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C37-859A-49C9-9023-4727A93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A9C-352A-4008-9229-5FFBBD2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A831-6A47-4B6E-B4AC-8ECB1A69CA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243-F14F-44BA-A22C-2CBC008F0AB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Verdana"/>
              </a:rPr>
              <a:t>Артикуляционные упражнения для постановки звука </a:t>
            </a: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339933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8" descr="1281009707_trulyalya"/>
          <p:cNvPicPr/>
          <p:nvPr/>
        </p:nvPicPr>
        <p:blipFill>
          <a:blip r:embed="rId1"/>
          <a:stretch/>
        </p:blipFill>
        <p:spPr>
          <a:xfrm>
            <a:off x="2556000" y="1484280"/>
            <a:ext cx="3811320" cy="40323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Заведи мотор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ыбнись, широко открой рот, подними язык вверх, с силой ударяй кончиком языка по бугоркам за верхними зубами (альвеолам) и произноси: «дын-дын-дын…» сначала медленно, потом всё быстрее и быстрее; повторять 5-10 секунд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еперь заведём морот вот так: «ДЫН-дын, дын; ДЫН-дын, дын…» (выделенный слог надо произносить сильнее, делая на него ударение); повторить 4-5 раз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3959280" cy="2637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Verdana"/>
              </a:rPr>
              <a:t>Источни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95280" y="15573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//www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vetsakura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//detsa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itty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Качели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широко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счет «раз» - опусти кончик языка за нижние зубы, на счёт «два» - подними язык за верхние зубы.</a:t>
            </a:r>
            <a:r>
              <a:rPr b="0" lang="ru-RU" sz="2400" spc="-1" strike="noStrike">
                <a:solidFill>
                  <a:srgbClr val="cc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6" descr="4-2"/>
          <p:cNvPicPr/>
          <p:nvPr/>
        </p:nvPicPr>
        <p:blipFill>
          <a:blip r:embed="rId1"/>
          <a:stretch/>
        </p:blipFill>
        <p:spPr>
          <a:xfrm>
            <a:off x="6227640" y="2349360"/>
            <a:ext cx="2259000" cy="396252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72" name="Picture 9" descr="4-1"/>
          <p:cNvPicPr/>
          <p:nvPr/>
        </p:nvPicPr>
        <p:blipFill>
          <a:blip r:embed="rId2"/>
          <a:stretch/>
        </p:blipFill>
        <p:spPr>
          <a:xfrm>
            <a:off x="1258920" y="2349360"/>
            <a:ext cx="3209760" cy="41007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Чашечка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, высуни язык и тяни его к нос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йся, чтобы бока языка были загнуты в форме чашечки (чтобы чай не пролился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держивай язык неподвижно 5, потом 10 секунд.</a:t>
            </a:r>
            <a:r>
              <a:rPr b="0" lang="ru-RU" sz="2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55051" t="17131" r="2536" b="12823"/>
          <a:stretch/>
        </p:blipFill>
        <p:spPr>
          <a:xfrm>
            <a:off x="1546200" y="2709720"/>
            <a:ext cx="2882880" cy="31719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53383" t="7313" r="34098" b="73843"/>
          <a:stretch/>
        </p:blipFill>
        <p:spPr>
          <a:xfrm>
            <a:off x="5796000" y="3141720"/>
            <a:ext cx="1938240" cy="194472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Футбол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362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т закры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напряжением упирай язык то в одну щёку, то в другую щёку так, чтобы под щекой надувались «мячики»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401" t="9717" r="56259" b="17031"/>
          <a:stretch/>
        </p:blipFill>
        <p:spPr>
          <a:xfrm>
            <a:off x="1403280" y="2852640"/>
            <a:ext cx="3070440" cy="35388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4137" t="6211" r="83017" b="75446"/>
          <a:stretch/>
        </p:blipFill>
        <p:spPr>
          <a:xfrm>
            <a:off x="5724360" y="3284640"/>
            <a:ext cx="2086200" cy="19857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Вкусное варенье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лижи языком верхнюю, затем нижнюю губу по круг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й сначала в одну затем в другую сторон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7-2"/>
          <p:cNvPicPr/>
          <p:nvPr/>
        </p:nvPicPr>
        <p:blipFill>
          <a:blip r:embed="rId1"/>
          <a:stretch/>
        </p:blipFill>
        <p:spPr>
          <a:xfrm>
            <a:off x="6372360" y="2637000"/>
            <a:ext cx="2104920" cy="388764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4" name="Picture 9" descr="7-1"/>
          <p:cNvPicPr/>
          <p:nvPr/>
        </p:nvPicPr>
        <p:blipFill>
          <a:blip r:embed="rId2"/>
          <a:stretch/>
        </p:blipFill>
        <p:spPr>
          <a:xfrm>
            <a:off x="1403280" y="2924280"/>
            <a:ext cx="3284640" cy="3456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Маляр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, язык подними вверх и кончиком языка проводи по нёбу от верхних зубов до горла и обратн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й медлен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440080" cy="374508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087640" cy="1962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Лошадка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широко открой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ёлкай языком громко и энергичн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йся, чтобы нижняя челюсть была неподвижна и «прыгал» только язык.</a:t>
            </a:r>
            <a:r>
              <a:rPr b="0" lang="ru-RU" sz="2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C:\Users\КС\Desktop\1278947192_15-copy.jpg"/>
          <p:cNvPicPr/>
          <p:nvPr/>
        </p:nvPicPr>
        <p:blipFill>
          <a:blip r:embed="rId1"/>
          <a:stretch/>
        </p:blipFill>
        <p:spPr>
          <a:xfrm>
            <a:off x="2771640" y="2708280"/>
            <a:ext cx="3203640" cy="374508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Гармошка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широко открой рот, «присоси» язык к нёб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пуская язык, сильно опусти нижнюю челюсть, закрой рот и опять широко открой, не меняя положение язы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 4-5 раз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095640" cy="24573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Комарик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широко рот, подними язык вверх и упрись им в бугорки (альвеолы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ытайся произнести «дззз», но не отрывисто, а протяжно, в течение 10-15 секунд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ни, что комарик злой, поэтому нажимай на бугорки энергич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2808360" cy="25704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35640" y="3716280"/>
            <a:ext cx="2054160" cy="18795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я</cp:lastModifiedBy>
  <dcterms:modified xsi:type="dcterms:W3CDTF">2013-10-25T10:05:28Z</dcterms:modified>
  <cp:revision>17</cp:revision>
  <dc:subject/>
  <dc:title>PowerPoint Presentation</dc:title>
</cp:coreProperties>
</file>