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72F-0AAF-45B8-88D0-4CE9B2C5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E7E-9AEF-4CA9-9671-45AB9A39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844-EE8A-463F-82F7-3300413D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AA7-1FAD-4104-85EE-3296A377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B2A5-99F0-4C8C-8291-D465BC55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89A5-F5C7-4484-BBAB-C5B9932E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103-6DA6-4FD3-BBC5-DD429A7C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C5C1-D530-40F7-B3E4-FA0CCD9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F557-9F7E-45EC-9838-0286F47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81E-1812-4DCD-917D-585BA1B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8C6C-597D-4321-85EA-BCA9B885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E1B-D86A-4369-B49B-4414348D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BC4A-FDC3-41FC-B88B-CFC20BA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5CC6-39FB-4DAE-A81D-11B0C62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EF00-FA69-4320-8629-8C6DB81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90B-C085-47B2-AF3A-9EA76031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92D2-9658-476D-8BB9-C976C21D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793-41A1-438A-A8B6-4C75C6D9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956-3589-40AA-9B6E-68E4D99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1D7-9C0F-4738-9A49-EBF4E373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2A3-4AD0-4388-A07F-64BA552B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411-6841-4741-84F9-6A587D1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C6A-4FC7-41A5-BC7F-6ADCFC9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C62-5977-45E9-92E9-F9313A5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A9F-0B0B-413D-893F-8FF8E1B4CC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82B3-EBD2-43CC-9FD9-CF53A74F0D2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Verdana"/>
              </a:rPr>
              <a:t>Артикуляционные упражнения для постановки звука </a:t>
            </a: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339933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8" descr="1281009707_trulyalya"/>
          <p:cNvPicPr/>
          <p:nvPr/>
        </p:nvPicPr>
        <p:blipFill>
          <a:blip r:embed="rId1"/>
          <a:stretch/>
        </p:blipFill>
        <p:spPr>
          <a:xfrm>
            <a:off x="2556000" y="1484280"/>
            <a:ext cx="3811320" cy="40323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Заведи мотор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218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ыбнись, широко открой рот, подними язык вверх, с силой ударяй кончиком языка по бугоркам за верхними зубами (альвеолам) и произноси: «дын-дын-дын…» сначала медленно, потом всё быстрее и быстрее; повторять 5-10 секунд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еперь заведём морот вот так: «ДЫН-дын, дын; ДЫН-дын, дын…» (выделенный слог надо произносить сильнее, делая на него ударение); повторить 4-5 раз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27280" y="3573360"/>
            <a:ext cx="3959280" cy="26370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Verdana"/>
              </a:rPr>
              <a:t>Источни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95280" y="155736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//www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vetsakura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//detsa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kitty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Качели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широко ро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счет «раз» - опусти кончик языка за нижние зубы, на счёт «два» - подними язык за верхние зубы.</a:t>
            </a:r>
            <a:r>
              <a:rPr b="0" lang="ru-RU" sz="2400" spc="-1" strike="noStrike">
                <a:solidFill>
                  <a:srgbClr val="cc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6" descr="4-2"/>
          <p:cNvPicPr/>
          <p:nvPr/>
        </p:nvPicPr>
        <p:blipFill>
          <a:blip r:embed="rId1"/>
          <a:stretch/>
        </p:blipFill>
        <p:spPr>
          <a:xfrm>
            <a:off x="6227640" y="2349360"/>
            <a:ext cx="2259000" cy="396252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72" name="Picture 9" descr="4-1"/>
          <p:cNvPicPr/>
          <p:nvPr/>
        </p:nvPicPr>
        <p:blipFill>
          <a:blip r:embed="rId2"/>
          <a:stretch/>
        </p:blipFill>
        <p:spPr>
          <a:xfrm>
            <a:off x="1258920" y="2349360"/>
            <a:ext cx="3209760" cy="41007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Чашечка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рот, высуни язык и тяни его к нос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йся, чтобы бока языка были загнуты в форме чашечки (чтобы чай не пролился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держивай язык неподвижно 5, потом 10 секунд.</a:t>
            </a:r>
            <a:r>
              <a:rPr b="0" lang="ru-RU" sz="2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55051" t="17131" r="2536" b="12823"/>
          <a:stretch/>
        </p:blipFill>
        <p:spPr>
          <a:xfrm>
            <a:off x="1546200" y="2709720"/>
            <a:ext cx="2882880" cy="31719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53383" t="7313" r="34098" b="73843"/>
          <a:stretch/>
        </p:blipFill>
        <p:spPr>
          <a:xfrm>
            <a:off x="5796000" y="3141720"/>
            <a:ext cx="1938240" cy="194472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Футбол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362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т закры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напряжением упирай язык то в одну щёку, то в другую щёку так, чтобы под щекой надувались «мячики»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401" t="9717" r="56259" b="17031"/>
          <a:stretch/>
        </p:blipFill>
        <p:spPr>
          <a:xfrm>
            <a:off x="1403280" y="2852640"/>
            <a:ext cx="3070440" cy="35388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4137" t="6211" r="83017" b="75446"/>
          <a:stretch/>
        </p:blipFill>
        <p:spPr>
          <a:xfrm>
            <a:off x="5724360" y="3284640"/>
            <a:ext cx="2086200" cy="19857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Вкусное варенье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ро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лижи языком верхнюю, затем нижнюю губу по круг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й сначала в одну затем в другую сторон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7-2"/>
          <p:cNvPicPr/>
          <p:nvPr/>
        </p:nvPicPr>
        <p:blipFill>
          <a:blip r:embed="rId1"/>
          <a:stretch/>
        </p:blipFill>
        <p:spPr>
          <a:xfrm>
            <a:off x="6372360" y="2637000"/>
            <a:ext cx="2104920" cy="388764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84" name="Picture 9" descr="7-1"/>
          <p:cNvPicPr/>
          <p:nvPr/>
        </p:nvPicPr>
        <p:blipFill>
          <a:blip r:embed="rId2"/>
          <a:stretch/>
        </p:blipFill>
        <p:spPr>
          <a:xfrm>
            <a:off x="1403280" y="2924280"/>
            <a:ext cx="3284640" cy="34560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Маляр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рот, язык подними вверх и кончиком языка проводи по нёбу от верхних зубов до горла и обратн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й медлен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2440080" cy="374508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2087640" cy="19620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Лошадка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широко открой ро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ёлкай языком громко и энергично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йся, чтобы нижняя челюсть была неподвижна и «прыгал» только язык.</a:t>
            </a:r>
            <a:r>
              <a:rPr b="0" lang="ru-RU" sz="2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C:\Users\КС\Desktop\1278947192_15-copy.jpg"/>
          <p:cNvPicPr/>
          <p:nvPr/>
        </p:nvPicPr>
        <p:blipFill>
          <a:blip r:embed="rId1"/>
          <a:stretch/>
        </p:blipFill>
        <p:spPr>
          <a:xfrm>
            <a:off x="2771640" y="2708280"/>
            <a:ext cx="3203640" cy="374508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Гармошка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широко открой рот, «присоси» язык к нёб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пуская язык, сильно опусти нижнюю челюсть, закрой рот и опять широко открой, не меняя положение язы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 4-5 раз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095640" cy="24573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Verdana"/>
              </a:rPr>
              <a:t>«</a:t>
            </a: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Комарик</a:t>
            </a:r>
            <a:r>
              <a:rPr b="1" lang="ru-RU" sz="4000" spc="-1" strike="noStrike">
                <a:solidFill>
                  <a:srgbClr val="339933"/>
                </a:solidFill>
                <a:latin typeface="Verdana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ыбнись, открой широко рот, подними язык вверх и упрись им в бугорки (альвеолы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ытайся произнести «дззз», но не отрывисто, а протяжно, в течение 10-15 секунд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ни, что комарик злой, поэтому нажимай на бугорки энергичн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2808360" cy="257040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35640" y="3716280"/>
            <a:ext cx="2054160" cy="1879560"/>
          </a:xfrm>
          <a:prstGeom prst="rect">
            <a:avLst/>
          </a:prstGeom>
          <a:ln w="507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я</cp:lastModifiedBy>
  <dcterms:modified xsi:type="dcterms:W3CDTF">2013-10-25T10:05:28Z</dcterms:modified>
  <cp:revision>17</cp:revision>
  <dc:subject/>
  <dc:title>PowerPoint Presentation</dc:title>
</cp:coreProperties>
</file>