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B565-5440-4B51-9DD9-2C510E8540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199C-1769-455A-ABD1-9A9BDDDC7E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698-B181-4DA9-92F0-2FD294FA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87F-5127-4D4B-8670-B3CA5D0E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43333-C58E-467C-AC05-0D3B48E0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C832B-578F-438F-99FF-2EF8D859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A0EEF-939C-4ABC-A932-82A4973E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F980A-D285-434C-9D41-E72E928F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87DEC-4AD0-495A-B8AF-2DFEAE04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33D96-B65C-45DC-A25E-A0BD63ED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CD300-FD60-44F4-949E-C1D34F6C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8F8E5-5F58-413B-A5C6-8BAA36F3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BCF28-1F18-48D7-8F1D-61D69493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0FD4E-81F4-4A41-900E-BCD11C96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3B28-A2C7-418D-A0A9-B192DC07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0ED91-036E-4A56-804C-9F744D61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A95CE-DA2E-4B63-9EF8-DD696172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AB34C-C3B7-4669-9B74-8C0C70DC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A3B1D-6939-4877-93B4-0325D3B6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2FFD2-9BBE-4CB8-9245-C4FCF398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C5820-C62E-4ECD-8DB4-7F1EDFF1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BFC18-17F5-4EA7-81AF-135E18B6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3D13A-02ED-4016-ADA2-A8C18DB8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E6731-5F0B-43F5-8AF4-74EE9648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435A0-F070-4ABB-9E60-13530368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3678-41A4-42A0-B7C0-82E54710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055E2-7D3E-4767-B18B-5B373044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F7049-AF5E-4DCA-9B5E-6438E676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E7982-B5EF-498A-A96B-F4915AA7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DF43B-045F-48E7-8521-131F00E0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805B5-8B89-41B8-89DB-9860167F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C2728-4CC2-4F80-B511-07177BC7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4290A-5177-4DED-B1D0-CF259866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000A5-084F-4F87-8889-84B05066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0BEB5-A3E8-49BE-BEC6-6E6092A3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3A464-B91A-4359-8468-0E3176CC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456E-2927-4131-9CE2-A4B08A6D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C1E96-14F3-4A25-A0E3-D2F197C8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AD8FC-126E-43A4-975F-41BF531E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EACDC-28C3-47E5-B5E8-27ADE577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FA816-2162-4B75-9EB2-D0D55BC8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E1622-002D-4E8A-80CC-92E808D5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B9D63-F55B-4CDA-9F4A-C5E44049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A70C0-3D2F-4412-A214-D3D123FE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F5AE6-AD3C-4C09-A5BC-9578E0E0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04A6C-2140-4AD9-8A5B-3BF5C67D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F322F-AF8A-4AF6-B566-20CFD013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7D77-94D5-4B59-B2CD-7FBB67E7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A14F5-14E4-4544-8FEE-25D67C93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D22F5-3119-4694-8608-E567F7FE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D3A22-566D-44F8-87DA-4897FB88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B5D79-DA91-4E95-AF67-ADB9A24F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DF75E-49B8-49CB-B0AF-25178AB5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7B483-DD4F-43DA-BC52-8F85B52F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F368F-6A85-46D1-A940-A3DC9568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3DCDD5-C2D0-434F-BCF4-40FCF145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565E87-26C1-4BA5-A615-438D8A56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BC9C5-7C1C-41BF-828E-83653B86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487B-3EF2-4CAB-AAFA-BC30B718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F9278-5F72-4C31-B871-EB86DF33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30A060-0A46-4ED8-B2F1-93E3122E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BBD4B9-DF50-4B6D-A2C5-9272B2C3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DCD8D8-3FBC-4D35-967E-15C9872E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7264C0-191D-4D2F-BFA1-BD091527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88CF4C-AA8C-4E7E-AD98-A0969555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76416-12CC-450F-9E40-8BACAFE1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7136-0DA6-4BDF-8837-6132409E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9EF2-D56C-444B-8FCF-F03B91D3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3669-8C62-4464-87A7-289C8902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4EF5-AC1B-4F67-A438-442A5237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CF5-D621-43EA-A038-4BF16272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8866-0860-4173-8DF6-D5123E8D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4782-7D17-4644-A20D-260D6362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B429-24D0-4F21-AB07-61C059BB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CE6B-22CD-4896-8E9E-09BB857A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4C55-9171-4514-BC69-DC12C76F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BEFEA-5D45-4157-912A-F1A375AD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47922-C241-4873-AE4D-3D1E0DA2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7443E-B70B-47B1-B7A9-DB923892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8B4F9-D870-41C1-A044-03556980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B9C12-8996-48E2-BF33-FFBDF666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E2B-28D8-435A-8E38-6F607A1E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74433-840E-409D-B18D-8BBE48BD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6A466-B499-45E6-94F9-C2C1ED42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8A916-6B6E-428B-8267-7417EFF9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14B08-A0F3-4ABC-AAEF-83B8D7EE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530DB-FB74-4EFF-806D-233E82CF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559E1-6C51-4435-8A98-9EC20C70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51653-59BC-49A0-BF23-505A97D8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34781-2BE1-441C-B49A-4F076F41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18632-C782-4765-BC97-7328BEF2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D35E1-742E-40E4-92F4-9445B3ED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61B4-AD0F-47A7-9BDA-BEAA37DF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1C98A-5AAD-48F0-85FF-EC9E0935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34712-3968-491A-867A-94B6166C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10C79-DA1B-45BB-8D7C-3F22E302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DD8FB-0DF4-49C9-AEB5-14AA15F8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52CB0-8D11-4432-93F6-3C2A9155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C0B1D-A438-465B-9BE4-AFF63862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D1F46-97BB-483A-AD44-829C577B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2FB5C-8CA7-433E-B22A-CBED14B5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8EFE8-3E15-4910-BC22-035C8906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77735-6DDD-49A7-8753-162A5BEB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FCDD-B340-4BC3-B3C9-E57E69A7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6ECC4-3B7A-4029-A264-31273C33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7BCDD-5260-4ECD-8D52-DB13B3DD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4D017-BE13-4E84-B1B6-F5CFDB72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38C6D-4B97-4D25-9B3A-2CE0FD91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E2B10-09E2-4F0A-9E44-FD9FF9CB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1F14C-6955-4C2B-98DF-B4A462D2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1E5D0-9A64-4F8D-A48D-3F5E5CF7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704AB-7C7E-43CF-B5FF-9F794FB7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BBDB4-DA74-4C9B-B008-5E3025ED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C3C6C-8816-4D93-B75C-CE016FE9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5960-353C-46C5-A32A-A7ED4DE6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0F5C1-6F6B-46A2-832A-8E529C6B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74ED6-D2F1-4047-B2F8-ADA01352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DD3AA-C583-449F-B538-42C64E7B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068EB-3106-4541-B34A-B416C101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48519-D444-4242-BA17-92F88ED6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946E9-09C0-4694-8A99-754A66ED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B8252-637C-4A82-A624-A1918B0A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0CEF1-F338-445E-AF35-7035E7A5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B502F-3B53-478A-A7F3-D9CAFE55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55755-5BC2-4032-A478-25216DC3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9DC1-60D4-45C2-A8CE-14D02D53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BBCEC-C9B0-4A5C-BFDC-077B3845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18061-16E4-4A40-984D-18C2BDD3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F13BA-70D1-4E84-BD55-0D0DE0AA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ADB88-BADA-434F-B8BE-908965BE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C7E5C-CDAD-497B-8F03-C40ED643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BFEB1-E80D-4DC9-9103-4DC46ED8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B5FAA-5EEF-4A8D-9697-948687A1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41BDC-F00F-4B43-8639-3CE1B1C6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F4FAD-FFD4-4AD7-B0DE-4CD8FE91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8F2E0-C8F3-4E28-9A80-3F2262F6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C70F-40DC-498E-AFC7-3C46D44F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D4A85-D368-49A7-B819-5F8411D7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9B3AA-F5F4-4633-A476-43712BD6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D12F9-4113-4C9E-8A10-69969C8C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6193A-C3DF-4014-9D6E-5018B0BC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B6482-878B-4E67-B85A-F0A1B8FC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8CB4C-0283-46A1-A158-F070C289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BBEE6-F38B-4721-A411-DA06D514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63F1D-D893-42EB-B9FB-2427776E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9ECA2-A3F1-488B-9630-AC142407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913AE-F7A5-4AB1-9F41-7D598E0B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5F1D-76E9-433F-A4FC-64F01B0C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79832-3DDC-44A5-BDCD-BFD77915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9DE82-B1B2-4F30-A88D-D91B7C46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4833F-B5E8-4E46-9DDA-E7EA0CA7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3F970-6475-4C08-BD09-53755C6D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0622B-7C2D-45D7-8178-E1F4C6E8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7DBB0-59A1-4D76-A33C-A240B7DB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7868C-2BE4-4AA7-B76C-D8B0D133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C30A6-1823-4D7E-AFC3-0F4C9AC1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52AFE-9AA4-43C8-8142-716903DE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F335D-E942-4B74-99BA-CF91AF93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9ABA-60E0-4469-966C-9224312F8B4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6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180F-F1B0-4852-A48C-5B610BA573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D055-79DA-4E15-8931-016A0E8885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F764-EED7-4636-9B33-8BD2ECF75DF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9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AD22-A396-4E48-9BAC-FCC5D6CF01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CF3A-D657-4629-A821-141C440FD97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9A60-CB48-492C-BB8E-25A1BD519EF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E9A5-C455-4BB3-A852-97A316B3CC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B84E-8F05-4D57-93E7-6AD6BE040C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9D76-270C-4124-B547-4106EC8F3B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200C-A3AC-42F0-8ADC-D4EEE498833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F0F9-9243-436B-8EA7-AD770317420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9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ADA0-70FC-4235-AD4D-47D55595A6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Использование мнемотаблиц в развитии связной речи детей дошкольного возраст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755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ЧЁ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 работе методического объеди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едагогов дошкольно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УЧИВАНИЕ СТИХОВ С ИСПОЛЬЗОВАНИЕМ МНЕМОТЕХНИКИ</a:t>
            </a:r>
            <a:br>
              <a:rPr sz="44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5357880" y="1714680"/>
            <a:ext cx="35719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Давай дружок, смелей друж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Кати по снегу свой снежок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Он превратится в снежный к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И станет ком снеговик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Его улыбка так светл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Два глаза… шляпа… нос… метл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Но солнце припечет слегк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Увы!  - и нет снегов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Содержимое 7" descr="CAM01019.jpg"/>
          <p:cNvPicPr/>
          <p:nvPr/>
        </p:nvPicPr>
        <p:blipFill>
          <a:blip r:embed="rId1"/>
          <a:stretch/>
        </p:blipFill>
        <p:spPr>
          <a:xfrm>
            <a:off x="285840" y="1785960"/>
            <a:ext cx="492912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УЧИВАНИЕ СТИХОВ С ИСПОЛЬЗОВАНИЕМ МНЕМОТЕХНИК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02" name="Содержимое 7" descr="CAM01010.jpg"/>
          <p:cNvPicPr/>
          <p:nvPr/>
        </p:nvPicPr>
        <p:blipFill>
          <a:blip r:embed="rId1"/>
          <a:stretch/>
        </p:blipFill>
        <p:spPr>
          <a:xfrm>
            <a:off x="285840" y="1500120"/>
            <a:ext cx="4000320" cy="5143680"/>
          </a:xfrm>
          <a:prstGeom prst="rect">
            <a:avLst/>
          </a:prstGeom>
          <a:ln w="0">
            <a:noFill/>
          </a:ln>
        </p:spPr>
      </p:pic>
      <p:sp>
        <p:nvSpPr>
          <p:cNvPr id="1003" name="Заголовок 2"/>
          <p:cNvSpPr/>
          <p:nvPr/>
        </p:nvSpPr>
        <p:spPr>
          <a:xfrm>
            <a:off x="5286240" y="1714680"/>
            <a:ext cx="364356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«БЕЛКА-ШАЛУНИШКА»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Скачет белка – шалунишк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Рвет с еловых веток шиш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А потом на землю – пры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И отыщет борови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Гриб нанижет на сучок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Подсушись, боровичок!</a:t>
            </a:r>
            <a:br>
              <a:rPr sz="2200"/>
            </a:b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УЧИВАНИЕ СТИХОВ С ИСПОЛЬЗОВАНИЕМ МНЕМОТЕХНИК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05" name="Содержимое 6" descr="CAM01014.jpg"/>
          <p:cNvPicPr/>
          <p:nvPr/>
        </p:nvPicPr>
        <p:blipFill>
          <a:blip r:embed="rId1"/>
          <a:stretch/>
        </p:blipFill>
        <p:spPr>
          <a:xfrm>
            <a:off x="214200" y="1643040"/>
            <a:ext cx="3929040" cy="500076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 txBox="1"/>
          <p:nvPr/>
        </p:nvSpPr>
        <p:spPr>
          <a:xfrm>
            <a:off x="4644720" y="1857240"/>
            <a:ext cx="404172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В зимнем небе, сделав кру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Накренились сани в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И с подарками меш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Выпал прямо не снежок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УЧИВАНИЕ СТИХОВ С ИСПОЛЬЗОВАНИЕМ МНЕМОТЕХНИК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08" name="Содержимое 6" descr="CAM01004.jpg"/>
          <p:cNvPicPr/>
          <p:nvPr/>
        </p:nvPicPr>
        <p:blipFill>
          <a:blip r:embed="rId1"/>
          <a:stretch/>
        </p:blipFill>
        <p:spPr>
          <a:xfrm>
            <a:off x="214200" y="1571760"/>
            <a:ext cx="4357800" cy="5072040"/>
          </a:xfrm>
          <a:prstGeom prst="rect">
            <a:avLst/>
          </a:prstGeom>
          <a:ln w="0">
            <a:noFill/>
          </a:ln>
        </p:spPr>
      </p:pic>
      <p:sp>
        <p:nvSpPr>
          <p:cNvPr id="1009" name=""/>
          <p:cNvSpPr txBox="1"/>
          <p:nvPr/>
        </p:nvSpPr>
        <p:spPr>
          <a:xfrm>
            <a:off x="4571640" y="2071440"/>
            <a:ext cx="40417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«Помощники весны»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Леня с Пет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Взяв лопат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Помогать пришли вес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Разбивают лед ребя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И разбрасывают сне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Посмотрел на них с укор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Снеговик из-под вед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Этак мне придется ско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Убираться со двора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452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66"/>
                </a:solidFill>
                <a:latin typeface="Arial"/>
              </a:rPr>
              <a:t>Метод мнемотехники помогает педагогу научить детей составлять рассказы о предметах, объектах или явлениях природы.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7543800" cy="621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Непосредственную образовательную    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        деятельность по мнемотаблицам  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                 строили в три этап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   1 этап: Рассматривание таблицы и разбор того, что на ней изображено. 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   2 этап: Осуществляется перекодирование информации, т.е. преобразование из абстрактных символов  слов в образы.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  3 этап: После перекодирования осуществляется пересказ сказки или рассказа по заданной теме. 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Содержимое 3" descr="CAM01005.jpg"/>
          <p:cNvPicPr/>
          <p:nvPr/>
        </p:nvPicPr>
        <p:blipFill>
          <a:blip r:embed="rId1"/>
          <a:stretch/>
        </p:blipFill>
        <p:spPr>
          <a:xfrm>
            <a:off x="214200" y="642960"/>
            <a:ext cx="4071960" cy="6000840"/>
          </a:xfrm>
          <a:prstGeom prst="rect">
            <a:avLst/>
          </a:prstGeom>
          <a:ln w="0">
            <a:noFill/>
          </a:ln>
        </p:spPr>
      </p:pic>
      <p:sp>
        <p:nvSpPr>
          <p:cNvPr id="1013" name="Заголовок 2"/>
          <p:cNvSpPr/>
          <p:nvPr/>
        </p:nvSpPr>
        <p:spPr>
          <a:xfrm>
            <a:off x="4645080" y="357120"/>
            <a:ext cx="404172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Наступила весна. У весны три месяца: март, апрель, май. Весной ярко светит солнце и сильно пригревает. Тает снег, кругом лужи, бегут ручьи. Идет теплый весенний дождь. На деревьях набухают почки и распускаются клейкие листочки. Появляется первая травка. Прямо из-под снега распускаются подснежники – первые вестники весны. Просыпаются насекомые. Из теплых мест возвращаются перелетные птиц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Содержимое 8" descr="CAM01008.jpg"/>
          <p:cNvPicPr/>
          <p:nvPr/>
        </p:nvPicPr>
        <p:blipFill>
          <a:blip r:embed="rId1"/>
          <a:stretch/>
        </p:blipFill>
        <p:spPr>
          <a:xfrm>
            <a:off x="285840" y="714240"/>
            <a:ext cx="4214880" cy="5857920"/>
          </a:xfrm>
          <a:prstGeom prst="rect">
            <a:avLst/>
          </a:prstGeom>
          <a:ln w="0">
            <a:noFill/>
          </a:ln>
        </p:spPr>
      </p:pic>
      <p:sp>
        <p:nvSpPr>
          <p:cNvPr id="1015" name="Заголовок 2"/>
          <p:cNvSpPr/>
          <p:nvPr/>
        </p:nvSpPr>
        <p:spPr>
          <a:xfrm>
            <a:off x="4645080" y="1500120"/>
            <a:ext cx="404172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Наступила зима. Всюду белый, пушистый снег. Холодно на улице. Дети оделись тепло, и пошли погулять. Они покатались на санках, лыжах, поиграли в снежки, слепили веселого снеговика. Хорошо зим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Заголовок 2"/>
          <p:cNvSpPr/>
          <p:nvPr/>
        </p:nvSpPr>
        <p:spPr>
          <a:xfrm>
            <a:off x="4929120" y="928800"/>
            <a:ext cx="392904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Зимой повсюду лежит снег. Деревья словно в белые шубки нарядились. Солнце светит, но не греет. Морозно! В домах топят печи. Люди зимой подкармливают птиц, заботятся о домашних животных. Детям нравятся зимние развлечения: катание на санках, лыжах, коньках, игры в хоккей, снежки. Очень любят дети лепить снеговиков, строить снежные креп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Содержимое 4" descr="CAM01013.jpg"/>
          <p:cNvPicPr/>
          <p:nvPr/>
        </p:nvPicPr>
        <p:blipFill>
          <a:blip r:embed="rId1"/>
          <a:stretch/>
        </p:blipFill>
        <p:spPr>
          <a:xfrm>
            <a:off x="214200" y="1000080"/>
            <a:ext cx="4643640" cy="500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МНЕМОТАБЛИЦЫ-СХЕМЫ СЛУЖАТ ДИДАКТИЧЕСКИМ МАТЕРИАЛОМ В  РАБОТЕ ПО РАЗВИТИЮ СВЯЗНОЙ РЕЧИ ДЕТЕЙ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AutoShape 5"/>
          <p:cNvSpPr/>
          <p:nvPr/>
        </p:nvSpPr>
        <p:spPr>
          <a:xfrm>
            <a:off x="3419640" y="1924200"/>
            <a:ext cx="2087280" cy="1657080"/>
          </a:xfrm>
          <a:custGeom>
            <a:avLst/>
            <a:gdLst>
              <a:gd name="textAreaLeft" fmla="*/ 195120 w 2087280"/>
              <a:gd name="textAreaRight" fmla="*/ 1892160 w 2087280"/>
              <a:gd name="textAreaTop" fmla="*/ 195120 h 1657080"/>
              <a:gd name="textAreaBottom" fmla="*/ 1461960 h 1657080"/>
            </a:gdLst>
            <a:ahLst/>
            <a:rect l="textAreaLeft" t="textAreaTop" r="textAreaRight" b="textAreaBottom"/>
            <a:pathLst>
              <a:path w="2720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3606" y="21600"/>
                </a:lnTo>
                <a:arcTo wR="3600" hR="3600" stAng="10800000" swAng="5400000"/>
                <a:lnTo>
                  <a:pt x="2720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емотаблицы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0" name="Прямая со стрелкой 5"/>
          <p:cNvCxnSpPr/>
          <p:nvPr/>
        </p:nvCxnSpPr>
        <p:spPr>
          <a:xfrm flipH="1">
            <a:off x="2339280" y="2752200"/>
            <a:ext cx="1080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1" name="Прямая со стрелкой 6"/>
          <p:cNvCxnSpPr/>
          <p:nvPr/>
        </p:nvCxnSpPr>
        <p:spPr>
          <a:xfrm>
            <a:off x="5506560" y="2752200"/>
            <a:ext cx="12265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2" name="Прямая со стрелкой 7"/>
          <p:cNvCxnSpPr/>
          <p:nvPr/>
        </p:nvCxnSpPr>
        <p:spPr>
          <a:xfrm flipH="1">
            <a:off x="1331280" y="3284280"/>
            <a:ext cx="2088360" cy="1152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3" name="Прямая со стрелкой 8"/>
          <p:cNvCxnSpPr/>
          <p:nvPr/>
        </p:nvCxnSpPr>
        <p:spPr>
          <a:xfrm>
            <a:off x="4463640" y="3580920"/>
            <a:ext cx="1080" cy="856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4" name="Прямая со стрелкой 10"/>
          <p:cNvCxnSpPr/>
          <p:nvPr/>
        </p:nvCxnSpPr>
        <p:spPr>
          <a:xfrm>
            <a:off x="5506560" y="3284280"/>
            <a:ext cx="2234520" cy="1152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5" name="AutoShape 19"/>
          <p:cNvSpPr/>
          <p:nvPr/>
        </p:nvSpPr>
        <p:spPr>
          <a:xfrm>
            <a:off x="324000" y="1916280"/>
            <a:ext cx="1944360" cy="1633320"/>
          </a:xfrm>
          <a:custGeom>
            <a:avLst/>
            <a:gdLst>
              <a:gd name="textAreaLeft" fmla="*/ 192240 w 1944360"/>
              <a:gd name="textAreaRight" fmla="*/ 1752120 w 1944360"/>
              <a:gd name="textAreaTop" fmla="*/ 192240 h 1633320"/>
              <a:gd name="textAreaBottom" fmla="*/ 1441080 h 1633320"/>
            </a:gdLst>
            <a:ahLst/>
            <a:rect l="textAreaLeft" t="textAreaTop" r="textAreaRight" b="textAreaBottom"/>
            <a:pathLst>
              <a:path w="257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2112" y="21600"/>
                </a:lnTo>
                <a:arcTo wR="3600" hR="3600" stAng="10800000" swAng="5400000"/>
                <a:lnTo>
                  <a:pt x="257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га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вар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AutoShape 20"/>
          <p:cNvSpPr/>
          <p:nvPr/>
        </p:nvSpPr>
        <p:spPr>
          <a:xfrm>
            <a:off x="6948360" y="1924200"/>
            <a:ext cx="1944720" cy="1633320"/>
          </a:xfrm>
          <a:custGeom>
            <a:avLst/>
            <a:gdLst>
              <a:gd name="textAreaLeft" fmla="*/ 192240 w 1944720"/>
              <a:gd name="textAreaRight" fmla="*/ 1752480 w 1944720"/>
              <a:gd name="textAreaTop" fmla="*/ 192240 h 1633320"/>
              <a:gd name="textAreaBottom" fmla="*/ 1441080 h 1633320"/>
            </a:gdLst>
            <a:ahLst/>
            <a:rect l="textAreaLeft" t="textAreaTop" r="textAreaRight" b="textAreaBottom"/>
            <a:pathLst>
              <a:path w="2571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2117" y="21600"/>
                </a:lnTo>
                <a:arcTo wR="3600" hR="3600" stAng="10800000" swAng="5400000"/>
                <a:lnTo>
                  <a:pt x="25717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л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каз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AutoShape 15"/>
          <p:cNvSpPr/>
          <p:nvPr/>
        </p:nvSpPr>
        <p:spPr>
          <a:xfrm>
            <a:off x="324000" y="4581360"/>
            <a:ext cx="2016000" cy="1633680"/>
          </a:xfrm>
          <a:custGeom>
            <a:avLst/>
            <a:gdLst>
              <a:gd name="textAreaLeft" fmla="*/ 192240 w 2016000"/>
              <a:gd name="textAreaRight" fmla="*/ 1823760 w 2016000"/>
              <a:gd name="textAreaTop" fmla="*/ 192240 h 1633680"/>
              <a:gd name="textAreaBottom" fmla="*/ 1441440 h 1633680"/>
            </a:gdLst>
            <a:ahLst/>
            <a:rect l="textAreaLeft" t="textAreaTop" r="textAreaRight" b="textAreaBottom"/>
            <a:pathLst>
              <a:path w="2665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3054" y="21600"/>
                </a:lnTo>
                <a:arcTo wR="3600" hR="3600" stAng="10800000" swAng="5400000"/>
                <a:lnTo>
                  <a:pt x="26654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с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удожеств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21"/>
          <p:cNvSpPr/>
          <p:nvPr/>
        </p:nvSpPr>
        <p:spPr>
          <a:xfrm>
            <a:off x="3419640" y="4581360"/>
            <a:ext cx="2016000" cy="1633680"/>
          </a:xfrm>
          <a:custGeom>
            <a:avLst/>
            <a:gdLst>
              <a:gd name="textAreaLeft" fmla="*/ 192240 w 2016000"/>
              <a:gd name="textAreaRight" fmla="*/ 1823760 w 2016000"/>
              <a:gd name="textAreaTop" fmla="*/ 192240 h 1633680"/>
              <a:gd name="textAreaBottom" fmla="*/ 1441440 h 1633680"/>
            </a:gdLst>
            <a:ahLst/>
            <a:rect l="textAreaLeft" t="textAreaTop" r="textAreaRight" b="textAreaBottom"/>
            <a:pathLst>
              <a:path w="2665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3054" y="21600"/>
                </a:lnTo>
                <a:arcTo wR="3600" hR="3600" stAng="10800000" swAng="5400000"/>
                <a:lnTo>
                  <a:pt x="26654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гады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загады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г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AutoShape 17"/>
          <p:cNvSpPr/>
          <p:nvPr/>
        </p:nvSpPr>
        <p:spPr>
          <a:xfrm>
            <a:off x="6948360" y="4595760"/>
            <a:ext cx="1944720" cy="1633680"/>
          </a:xfrm>
          <a:custGeom>
            <a:avLst/>
            <a:gdLst>
              <a:gd name="textAreaLeft" fmla="*/ 192240 w 1944720"/>
              <a:gd name="textAreaRight" fmla="*/ 1752480 w 1944720"/>
              <a:gd name="textAreaTop" fmla="*/ 192240 h 1633680"/>
              <a:gd name="textAreaBottom" fmla="*/ 1441440 h 1633680"/>
            </a:gdLst>
            <a:ahLst/>
            <a:rect l="textAreaLeft" t="textAreaTop" r="textAreaRight" b="textAreaBottom"/>
            <a:pathLst>
              <a:path w="257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2112" y="21600"/>
                </a:lnTo>
                <a:arcTo wR="3600" hR="3600" stAng="10800000" swAng="5400000"/>
                <a:lnTo>
                  <a:pt x="257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уч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и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Заголовок 1" descr=""/>
          <p:cNvPicPr/>
          <p:nvPr/>
        </p:nvPicPr>
        <p:blipFill>
          <a:blip r:embed="rId1"/>
          <a:stretch/>
        </p:blipFill>
        <p:spPr>
          <a:xfrm>
            <a:off x="237960" y="493560"/>
            <a:ext cx="7772400" cy="93852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осложная реч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способность грамматически правильно построить предлож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достаточный словарный запа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отребление нелитературных слов и выра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дная диалогическая реч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способность построить моноло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сутствие логического обоснования своих утверждений и выво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сутствие навыков культуры ре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охая дик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7993080" cy="576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Источники:</a:t>
            </a:r>
            <a:br>
              <a:rPr sz="2800"/>
            </a:br>
            <a:br>
              <a:rPr sz="4800"/>
            </a:br>
            <a:r>
              <a:rPr b="1" lang="ru-RU" sz="1800" spc="-1" strike="noStrike">
                <a:solidFill>
                  <a:srgbClr val="330066"/>
                </a:solidFill>
                <a:latin typeface="Times New Roman"/>
              </a:rPr>
              <a:t>1. </a:t>
            </a: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Полянская Т.Б. «Использование метода мнемотехники в обучении рассказыванию детей дошкольного возраста», 2009. </a:t>
            </a:r>
            <a:br>
              <a:rPr sz="1800"/>
            </a:br>
            <a:r>
              <a:rPr b="1" lang="ru-RU" sz="1800" spc="-1" strike="noStrike">
                <a:solidFill>
                  <a:srgbClr val="330066"/>
                </a:solidFill>
                <a:latin typeface="Times New Roman"/>
              </a:rPr>
              <a:t>2. Т. В. Большева «Учимся по сказке» </a:t>
            </a:r>
            <a:br>
              <a:rPr sz="1800"/>
            </a:br>
            <a:r>
              <a:rPr b="1" lang="ru-RU" sz="1800" spc="-1" strike="noStrike">
                <a:solidFill>
                  <a:srgbClr val="330066"/>
                </a:solidFill>
                <a:latin typeface="Times New Roman"/>
              </a:rPr>
              <a:t>3. </a:t>
            </a: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Ефименкова Л.Н. Формирование речи у дошкольников.</a:t>
            </a:r>
            <a:br>
              <a:rPr sz="1800"/>
            </a:b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4. Глухов В.П. Формирование связной речи детей дошкольного возраста.</a:t>
            </a:r>
            <a:br>
              <a:rPr sz="1800"/>
            </a:b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5. Ткаченко Т.А. использование схем в составлении описательных рассказов. </a:t>
            </a:r>
            <a:br>
              <a:rPr sz="1800"/>
            </a:b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 6. </a:t>
            </a:r>
            <a:r>
              <a:rPr b="1" lang="en-US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http-skyclipart.ru – detsad.</a:t>
            </a:r>
            <a:br>
              <a:rPr sz="1800"/>
            </a:b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7</a:t>
            </a:r>
            <a:r>
              <a:rPr b="1" lang="en-US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. http</a:t>
            </a: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://</a:t>
            </a:r>
            <a:r>
              <a:rPr b="1" lang="en-US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viki.rdf.ru.</a:t>
            </a:r>
            <a:br>
              <a:rPr sz="1800"/>
            </a:b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8</a:t>
            </a:r>
            <a:r>
              <a:rPr b="1" lang="en-US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. http</a:t>
            </a: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://</a:t>
            </a:r>
            <a:r>
              <a:rPr b="1" lang="en-US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nsportal.ru.</a:t>
            </a:r>
            <a:br>
              <a:rPr sz="1800"/>
            </a:b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9</a:t>
            </a:r>
            <a:r>
              <a:rPr b="1" lang="en-US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. http</a:t>
            </a: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://</a:t>
            </a:r>
            <a:r>
              <a:rPr b="1" lang="en-US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logoburg.com.</a:t>
            </a:r>
            <a:br>
              <a:rPr sz="1800"/>
            </a:b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10</a:t>
            </a:r>
            <a:r>
              <a:rPr b="1" lang="en-US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. http</a:t>
            </a: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://</a:t>
            </a:r>
            <a:r>
              <a:rPr b="1" lang="en-US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logoportal.ru.</a:t>
            </a:r>
            <a:br>
              <a:rPr sz="1800"/>
            </a:br>
            <a:r>
              <a:rPr b="1" lang="en-US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1</a:t>
            </a: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. http</a:t>
            </a: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://</a:t>
            </a:r>
            <a:r>
              <a:rPr b="1" lang="en-US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www.logoped.ru.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72007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0066"/>
                </a:solidFill>
                <a:latin typeface="Arial"/>
              </a:rPr>
              <a:t>Мнемотехника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, или мнемоника, в переводе с греческого – «искусство запоминания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330066"/>
                </a:solidFill>
                <a:latin typeface="Arial"/>
              </a:rPr>
              <a:t>Мнемотехника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– это система методов и приемов, обеспечивающих эффективное запоминание, сохранение и воспроизведение информаци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75438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АКТУАЛЬНОСТЬ ВЫБРАННОЙ ТЕМЫ:</a:t>
            </a:r>
            <a:br>
              <a:rPr sz="40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976" name="Прямая со стрелкой 3"/>
          <p:cNvCxnSpPr/>
          <p:nvPr/>
        </p:nvCxnSpPr>
        <p:spPr>
          <a:xfrm flipH="1">
            <a:off x="2123280" y="1110960"/>
            <a:ext cx="2485080" cy="5180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7" name="Прямая со стрелкой 4"/>
          <p:cNvCxnSpPr/>
          <p:nvPr/>
        </p:nvCxnSpPr>
        <p:spPr>
          <a:xfrm>
            <a:off x="4608000" y="1110960"/>
            <a:ext cx="1080" cy="31820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8" name="Прямая со стрелкой 5"/>
          <p:cNvCxnSpPr/>
          <p:nvPr/>
        </p:nvCxnSpPr>
        <p:spPr>
          <a:xfrm>
            <a:off x="4608000" y="1110960"/>
            <a:ext cx="2125080" cy="5180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9" name="Прямоугольник 7"/>
          <p:cNvSpPr/>
          <p:nvPr/>
        </p:nvSpPr>
        <p:spPr>
          <a:xfrm>
            <a:off x="250920" y="1773360"/>
            <a:ext cx="3384360" cy="2303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Мнемотехника облегчает детям овладение связной реч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Прямоугольник 8"/>
          <p:cNvSpPr/>
          <p:nvPr/>
        </p:nvSpPr>
        <p:spPr>
          <a:xfrm>
            <a:off x="2916360" y="4437000"/>
            <a:ext cx="3384360" cy="23050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Ребёнок с опорой на образы памяти устанавливает причинно-следственные связи, делает выводы, развивая тем самым логическое мыш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Прямоугольник 10"/>
          <p:cNvSpPr/>
          <p:nvPr/>
        </p:nvSpPr>
        <p:spPr>
          <a:xfrm>
            <a:off x="5435640" y="1773360"/>
            <a:ext cx="3529080" cy="2303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рименения мнемотехники , использование обобщений позволяют ребёнку систематизировать свой непосредственный опы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5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ЗАДАЧИ:</a:t>
            </a:r>
            <a:br>
              <a:rPr sz="36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983" name="Прямая со стрелкой 4"/>
          <p:cNvCxnSpPr/>
          <p:nvPr/>
        </p:nvCxnSpPr>
        <p:spPr>
          <a:xfrm flipH="1">
            <a:off x="3142440" y="1071720"/>
            <a:ext cx="1358280" cy="786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4" name="Прямая со стрелкой 7"/>
          <p:cNvCxnSpPr/>
          <p:nvPr/>
        </p:nvCxnSpPr>
        <p:spPr>
          <a:xfrm>
            <a:off x="4500720" y="1071360"/>
            <a:ext cx="171504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5" name="Прямая со стрелкой 15"/>
          <p:cNvCxnSpPr/>
          <p:nvPr/>
        </p:nvCxnSpPr>
        <p:spPr>
          <a:xfrm flipH="1">
            <a:off x="3285720" y="1071720"/>
            <a:ext cx="1215360" cy="3000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6" name="Скругленный прямоугольник 19"/>
          <p:cNvSpPr/>
          <p:nvPr/>
        </p:nvSpPr>
        <p:spPr>
          <a:xfrm>
            <a:off x="285840" y="1928880"/>
            <a:ext cx="3071880" cy="1714320"/>
          </a:xfrm>
          <a:prstGeom prst="roundRect">
            <a:avLst>
              <a:gd name="adj" fmla="val 22764"/>
            </a:avLst>
          </a:prstGeom>
          <a:solidFill>
            <a:srgbClr val="ccffcc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обрать и использовать мнемотаблицы, направленные на развитие связной речи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Скругленный прямоугольник 20"/>
          <p:cNvSpPr/>
          <p:nvPr/>
        </p:nvSpPr>
        <p:spPr>
          <a:xfrm>
            <a:off x="5357880" y="2000160"/>
            <a:ext cx="3179520" cy="1643040"/>
          </a:xfrm>
          <a:prstGeom prst="roundRect">
            <a:avLst>
              <a:gd name="adj" fmla="val 22764"/>
            </a:avLst>
          </a:prstGeom>
          <a:solidFill>
            <a:srgbClr val="ccffcc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ть разговорную (диалогическую) речь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Скругленный прямоугольник 21"/>
          <p:cNvSpPr/>
          <p:nvPr/>
        </p:nvSpPr>
        <p:spPr>
          <a:xfrm>
            <a:off x="1000080" y="4214880"/>
            <a:ext cx="3348000" cy="1795320"/>
          </a:xfrm>
          <a:prstGeom prst="roundRect">
            <a:avLst>
              <a:gd name="adj" fmla="val 22764"/>
            </a:avLst>
          </a:prstGeom>
          <a:solidFill>
            <a:srgbClr val="ccffcc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ь детей слушать и понимать обращенную к нему речь, поддерживать разговор, отвечать на вопросы и спраши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Скругленный прямоугольник 25"/>
          <p:cNvSpPr/>
          <p:nvPr/>
        </p:nvSpPr>
        <p:spPr>
          <a:xfrm>
            <a:off x="4857840" y="4214880"/>
            <a:ext cx="3429000" cy="1785960"/>
          </a:xfrm>
          <a:prstGeom prst="roundRect">
            <a:avLst>
              <a:gd name="adj" fmla="val 22764"/>
            </a:avLst>
          </a:prstGeom>
          <a:solidFill>
            <a:srgbClr val="ccffcc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ть у детей умение слушать друг друга, не переб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0" name="Прямая со стрелкой 27"/>
          <p:cNvCxnSpPr/>
          <p:nvPr/>
        </p:nvCxnSpPr>
        <p:spPr>
          <a:xfrm>
            <a:off x="4499640" y="1071720"/>
            <a:ext cx="929160" cy="3072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slow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Прямоугольник 3"/>
          <p:cNvSpPr/>
          <p:nvPr/>
        </p:nvSpPr>
        <p:spPr>
          <a:xfrm>
            <a:off x="785880" y="1000080"/>
            <a:ext cx="742932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Мнемотех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система методов и приемов, обеспечивающих успешное освоение детьми знаний об особенностях объектов природы, об окружающем мире, эффективное запоминание структуры рассказа, сохранение и воспроизведение информации, и конечно развитие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/>
          </p:nvPr>
        </p:nvSpPr>
        <p:spPr>
          <a:xfrm>
            <a:off x="250920" y="307152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Мнемотаблиц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ускоряют процесс запоминания, активизируют речевую деятельность, развивают мышление и воображ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3"/>
          <p:cNvSpPr/>
          <p:nvPr/>
        </p:nvSpPr>
        <p:spPr>
          <a:xfrm>
            <a:off x="324000" y="642960"/>
            <a:ext cx="82296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Мнемотаблиц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это схема, в которую заложена определенная информац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6840" y="1571400"/>
            <a:ext cx="7543800" cy="37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Мнемотаблицы особенно эффективны при разучивании стихотворений. Суть заключается в следующем: на каждое слово или маленькое словосочетание придумывается картинка (изображение); таким образом, все стихотворение зарисовывается схематически.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9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УЧИВАНИЕ СТИХОВ С ИСПОЛЬЗОВАНИЕМ МНЕМОТЕХНИКИ</a:t>
            </a:r>
            <a:br>
              <a:rPr sz="40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996" name="Рисунок 4" descr="http://festival.1september.ru/articles/556663/img8.jpg"/>
          <p:cNvPicPr/>
          <p:nvPr/>
        </p:nvPicPr>
        <p:blipFill>
          <a:blip r:embed="rId1"/>
          <a:stretch/>
        </p:blipFill>
        <p:spPr>
          <a:xfrm>
            <a:off x="23760" y="1547640"/>
            <a:ext cx="5237280" cy="5231160"/>
          </a:xfrm>
          <a:prstGeom prst="rect">
            <a:avLst/>
          </a:prstGeom>
          <a:ln w="0">
            <a:noFill/>
          </a:ln>
        </p:spPr>
      </p:pic>
      <p:sp>
        <p:nvSpPr>
          <p:cNvPr id="997" name="Заголовок 2"/>
          <p:cNvSpPr/>
          <p:nvPr/>
        </p:nvSpPr>
        <p:spPr>
          <a:xfrm>
            <a:off x="5572080" y="1714680"/>
            <a:ext cx="321480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«ЁЛОЧКА»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Перед нами ёлочка: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Шишечки, иголочки.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Шарики, фонарики,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Зайчики и свечки,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Звёзды, человечки.</a:t>
            </a:r>
            <a:br>
              <a:rPr sz="2400"/>
            </a:br>
            <a:br>
              <a:rPr sz="2400"/>
            </a:b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Н.Нищ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21:18:28Z</dcterms:created>
  <dc:creator>Kseniya</dc:creator>
  <dc:description/>
  <dc:language>en-US</dc:language>
  <cp:lastModifiedBy>user</cp:lastModifiedBy>
  <dcterms:modified xsi:type="dcterms:W3CDTF">2016-02-22T14:11:39Z</dcterms:modified>
  <cp:revision>20</cp:revision>
  <dc:subject/>
  <dc:title>Использование метода мнемотехники в развитии мышления и связной речи детей дошкольного возраста</dc:title>
</cp:coreProperties>
</file>