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C1A3-9D86-4AF9-8973-3C34BC5F57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FFF5-8CD7-4489-9004-17661EBD26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4A7-6AF5-4BE5-A635-6696DF1A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309-A632-48D0-A19E-18D94FDB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59712-64A6-4CED-91D3-04222A57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3276E-D41F-4F2E-90E1-ABBAC407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A6CFB-2E09-4CF1-A900-A8828140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D9514-82B3-477B-B5A7-72267061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78677-81EF-47C8-8EF6-632D0A5B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05539-2C81-4A12-8EB2-3B648FDB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EB3BA-1B08-4957-936D-64D6626B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D3BC0-CAB7-4D7F-9767-44AE4D9A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995B9-FB3B-420D-883B-626671E2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0CE2F-132F-468E-BAA5-5CD21596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E46-01FE-40B6-B936-EEA05AB6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10BE3-BF12-4362-A066-A204BAFF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00ECA-0087-4366-A05D-244D1DFE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EAC3F-3746-4A7C-A634-7F7E4CFF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279B6-966C-46C7-A12A-9376C102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D6717-D634-48AA-A61B-1D8FE699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7F67A-D2B2-4A0B-BFAC-D77190E0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41156-B281-4423-9AB1-139BF1BD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09514-18F5-4D68-AC89-42A65A39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4BB68-1EDC-4C8B-A2D5-71079657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A0FB4-BC6C-4F4C-8D5D-5AF50A9E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7F0-3532-4ED6-B209-4BF3557A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C5231-F9F1-4C09-8BA9-176B67A7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1AF2E-20ED-44F4-A8C8-BEC9628A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45AD1-CD12-4A2A-9E78-3C3C8C8D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8D390-9D8C-437E-9A7E-161591A0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58709-2B12-42A3-B9E7-91B01EB2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02520-8B8E-43C7-BEBD-007E2B97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16840-550F-4648-86FF-010B92A0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16A9F-D5F1-4345-AD98-F66BF14D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42EE7-0611-4DB1-812B-B42A056E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B6547-69B0-48FC-B10D-6AB477D4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BDB2-C24D-4C0A-87A0-1C16FF41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E27B7-DBC2-4FB5-AA42-942A269C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471F4-177B-4A09-9697-32F55623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65AAC-2F6A-4BD3-AAEA-6AAA76C0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79F44-E021-4E38-827E-9DFA6151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07F45-C816-47AB-8A5A-EFE0A4F9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AF016-63C0-46B7-AB11-E80041E4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7C898-11CB-4A2F-B8FB-B9DD5E97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489C6-F313-467F-83C0-4563D73B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97005-8FFE-4AE7-B5E0-A2477A71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195C8-4BE6-4640-85C4-7C1DC5A3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9B1B-E61A-42CE-9BAC-974313E3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EC778-98E1-4850-966C-7C42D94F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EAB99-3CC2-4B73-89D5-1C1DA367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B6F52-C586-4152-ABE9-141D1A9A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3B110-5483-47EC-816A-2F1D96E7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D0B73-1781-4FED-9E88-4A1F1738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F7C60-7A5E-4F0A-879F-F82F55CE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C3402-D391-4EA4-9175-3EF75881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6153B-E642-4A11-81BC-BFD9E91A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D1048-2C14-4334-B3A6-406E5ED4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808FA-0890-41C7-99ED-670CE177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0C88-8268-4929-9C98-3E61A0E3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25D3A-C3F6-4836-B42E-C65C83A6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FD699-37AF-4294-80C6-D33039FA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B76D5-CCDD-40AC-87A2-96052572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DC6B8-77F4-4C17-92D4-EE7E2BE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E6CB9-D665-4A7A-999D-B1D569BB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20119-BBCE-4EAF-A6EB-3A3EBA7B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B1A6B-4B53-4DE0-9EC8-E2F42EE5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FE00-6755-434B-A859-2493DAF7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AE01-9956-4E20-928C-4FB3A030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F734-9C20-46D1-BEA5-DA8608AC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A42F-73F9-41FA-8694-955C9365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E80-746E-4EE0-ACB0-50586B51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ECA5-FB2A-4185-9C7F-D5E7E7F7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194D-0EC9-4EF0-A949-114AAD10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BFCD-0B56-4A49-9D5D-5C91902C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FAE5-702E-42F5-A4B3-CC4FFAA8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DEB6-2E10-4F9B-A8C9-C83C11E4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6A3E6-B013-4E05-846D-CD909514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902CA-C1FA-41FB-9262-C8D993BE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4E41-216B-4AA4-89B2-7B297C6C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FECA-99F5-4D9C-9444-FC42F497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8FCA8-0F55-4A27-9474-F7179A16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8BC-6F70-4D4B-8EC2-5AD80E07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7162-D8AE-45C8-824C-7608C87A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BDFB-B9C8-4822-B8D5-333B4629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872A0-F6C0-4440-9E5C-731B5CE2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170FD-E94F-492E-BCE0-DA9AD9D1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12BB-E905-4227-B2FE-EDDCD7A9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53DD-EB47-4B93-83BE-A0913464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5BA6-4885-4A90-8C57-8CAF6DA5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AE25F-4CAC-43D6-ADD5-29ADF508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09812-AA01-457A-8575-852B828E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BA917-B9B2-49E1-B0BA-1380E8A3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371-55CF-4D8D-9D20-E112A971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DEA69-6786-409C-B2F4-E733AEFC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61521-8525-46DB-9291-988CB912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EF4D3-047D-4DE6-8B49-A4740FFE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EC0B2-AC41-4D1F-9FA6-2F9D87BC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665EF-4D66-4736-BBFC-6C36BF1A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4A8D1-9C53-4982-BCBC-E634EA7A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2EA6B-3C81-4DE9-8705-94624EA9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E0082-159B-4253-B88B-E80E282D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CFBE6-4012-4D83-97F1-25508F8D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77851-748D-4BF5-8CFD-77085EBB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BA2-724E-4D46-95FC-845B0282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12D8B-D67E-469D-9A1A-2D07F720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33FB8-6439-48AA-AB77-FBC58766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43679-8BD2-432C-9DA8-546F1EF2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C41AB-DA9A-4B85-AE2C-D716F48F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D4E0E-4A4A-4FC4-9D6A-9F41B9CE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CD03D-2555-409D-9599-0F0E1BC7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0B380-B638-42D0-A434-FAEBFDF9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5C08A-7A93-4BE9-9215-DE3A678D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F881B-DAF6-4305-BAAF-50F725C5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E6159-97CB-4C04-8A0A-3E0E896B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E61-2633-4FD5-9E40-76447909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7E284-46CF-4A5F-8BA6-0DE093BD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7997A-2319-4711-AB76-AFB0C7AE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44E87-2595-482E-A796-4F61EB9F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1F229-EF8B-4EB8-8A36-31DB3973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4B16B-9B7A-4B2A-B66E-795123A5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B320A-1D0B-4F68-9718-3C999AE8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6E7C5-663D-402B-B129-9FE862D2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8BB5B-5FD3-400A-8D4D-94450F2C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03E86-AB0F-43A6-85C5-1491CB82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84AB2-C689-4025-A81B-90D09381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A78-906A-4398-8AC0-6A7AA327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F4853-5DF1-42EE-99D5-4C6F4078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73B86-21A9-4B6E-A159-B4BB735E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D12DC-FDCB-4C20-95B8-BEAE9664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52B1D-108E-434B-ACA5-D06E60F1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883DD-CDB2-431B-96E4-6DB16446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BB24C-B1B1-48DF-92C8-CA77A017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33B19-3713-497C-95BF-C6F1A0CB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97405-B0BC-4EAE-8B73-039278DF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DDC90-477D-4F19-A3F9-D0346088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0FD11-F16E-4963-94C7-C6E6D816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A8A-9FDE-4F46-9BF7-9A0D536E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E0A9D-E94E-4E1D-8B0E-4398E1FD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DB0D6-4F4B-4F67-8182-43074ADD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9BC22-BCAE-4CF2-A14D-325E0CFB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15588-E4C6-4D67-A74C-A20CE242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21C62-F24B-4797-9F49-5C1360CE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BEEDF-2A5E-42E3-A8B7-2C159E25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9AE3D-974B-4388-A2F9-B80B98C6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52DE7-5B0D-45C8-A55C-00C1A711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08EC8-0CB4-49B8-983A-6A29C1A1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42228-D0A5-4780-9462-C5388E30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1FF-7283-4184-8A81-A6078C13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56E72-E6C6-4635-99C4-EABFA863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7473B-8A80-404F-A856-AA5D4429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D1DEA-C60A-40F3-9F85-2BA754E1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C9458-3179-4F32-B472-29B4C1E5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D2073-398C-4175-B465-7558F6FE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929B2-65E8-45A5-A71D-1B715125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FF376-C40B-4C50-9CB1-69771FBD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C5864-5A89-4783-A070-9DBF1BC6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D50CC-43A9-42FA-BB4B-4079D476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9EC67-9684-41F2-88F6-9C892ABF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5BAC-4A92-4FCC-AB66-505657E713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2DE2-43BA-4E8B-B7D4-5547106459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6F39-F2B2-4C27-BF92-DE54F06F6C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7F8E-2F35-4801-BD86-7E0D0507CE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9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32D9-6C16-4C52-A353-9576724416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BAB8-7A1D-4E33-8468-03D983F06A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5C69-F037-4F12-9A0A-C5CAE09C15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B708-EC19-4864-AEAE-5AB6B72FC0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DD32-5C2B-4759-987E-1EDD717FE8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6847-A978-4708-97CA-677FFD9F02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B98C-8937-46A8-9302-F6420D9594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29FA-47E8-4970-91CC-7B75BE66F3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195B-BBFF-4CC7-A473-E316D3274B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Использование мнемотаблиц в развитии связной речи детей дошкольного возраст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755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ЧЁ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 работе методического объеди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едагогов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УЧИВАНИЕ СТИХОВ С ИСПОЛЬЗОВАНИЕМ МНЕМОТЕХНИКИ</a:t>
            </a:r>
            <a:br>
              <a:rPr sz="44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5357880" y="1714680"/>
            <a:ext cx="35719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Давай дружок, смелей друж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Кати по снегу свой снежок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Он превратится в снежный к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И станет ком снеговик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Его улыбка так светл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Два глаза… шляпа… нос… мет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Но солнце припечет слегк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Увы!  - и нет снегов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Содержимое 7" descr="CAM01019.jpg"/>
          <p:cNvPicPr/>
          <p:nvPr/>
        </p:nvPicPr>
        <p:blipFill>
          <a:blip r:embed="rId1"/>
          <a:stretch/>
        </p:blipFill>
        <p:spPr>
          <a:xfrm>
            <a:off x="285840" y="1785960"/>
            <a:ext cx="492912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УЧИВАНИЕ СТИХОВ С ИСПОЛЬЗОВАНИЕМ МНЕМОТЕХНИК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02" name="Содержимое 7" descr="CAM01010.jpg"/>
          <p:cNvPicPr/>
          <p:nvPr/>
        </p:nvPicPr>
        <p:blipFill>
          <a:blip r:embed="rId1"/>
          <a:stretch/>
        </p:blipFill>
        <p:spPr>
          <a:xfrm>
            <a:off x="285840" y="1500120"/>
            <a:ext cx="4000320" cy="5143680"/>
          </a:xfrm>
          <a:prstGeom prst="rect">
            <a:avLst/>
          </a:prstGeom>
          <a:ln w="0">
            <a:noFill/>
          </a:ln>
        </p:spPr>
      </p:pic>
      <p:sp>
        <p:nvSpPr>
          <p:cNvPr id="1003" name="Заголовок 2"/>
          <p:cNvSpPr/>
          <p:nvPr/>
        </p:nvSpPr>
        <p:spPr>
          <a:xfrm>
            <a:off x="5286240" y="1714680"/>
            <a:ext cx="36435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«БЕЛКА-ШАЛУНИШКА»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Скачет белка – шалуниш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Рвет с еловых веток шиш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А потом на землю – пры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И отыщет боров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Гриб нанижет на сучок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Подсушись, боровичок!</a:t>
            </a:r>
            <a:br>
              <a:rPr sz="2200"/>
            </a:b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УЧИВАНИЕ СТИХОВ С ИСПОЛЬЗОВАНИЕМ МНЕМОТЕХНИК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05" name="Содержимое 6" descr="CAM01014.jpg"/>
          <p:cNvPicPr/>
          <p:nvPr/>
        </p:nvPicPr>
        <p:blipFill>
          <a:blip r:embed="rId1"/>
          <a:stretch/>
        </p:blipFill>
        <p:spPr>
          <a:xfrm>
            <a:off x="214200" y="1643040"/>
            <a:ext cx="3929040" cy="500076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 txBox="1"/>
          <p:nvPr/>
        </p:nvSpPr>
        <p:spPr>
          <a:xfrm>
            <a:off x="4644720" y="1857240"/>
            <a:ext cx="40417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В зимнем небе, сделав кру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Накренились сани в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И с подарками меш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Выпал прямо не снежо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УЧИВАНИЕ СТИХОВ С ИСПОЛЬЗОВАНИЕМ МНЕМОТЕХНИК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08" name="Содержимое 6" descr="CAM01004.jpg"/>
          <p:cNvPicPr/>
          <p:nvPr/>
        </p:nvPicPr>
        <p:blipFill>
          <a:blip r:embed="rId1"/>
          <a:stretch/>
        </p:blipFill>
        <p:spPr>
          <a:xfrm>
            <a:off x="214200" y="1571760"/>
            <a:ext cx="4357800" cy="507204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 txBox="1"/>
          <p:nvPr/>
        </p:nvSpPr>
        <p:spPr>
          <a:xfrm>
            <a:off x="4571640" y="2071440"/>
            <a:ext cx="4041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«Помощники весны»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Леня с Пе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Взяв лопат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Помогать пришли вес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Разбивают лед ребя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И разбрасывают сне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Посмотрел на них с укор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Снеговик из-под вед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Этак мне придется ско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Убираться со двор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452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66"/>
                </a:solidFill>
                <a:latin typeface="Arial"/>
              </a:rPr>
              <a:t>Метод мнемотехники помогает педагогу научить детей составлять рассказы о предметах, объектах или явлениях природы.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7543800" cy="621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Непосредственную образовательную   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       деятельность по мнемотаблицам 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                строили в три этап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  1 этап: Рассматривание таблицы и разбор того, что на ней изображено.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  2 этап: Осуществляется перекодирование информации, т.е. преобразование из абстрактных символов  слов в образы.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 3 этап: После перекодирования осуществляется пересказ сказки или рассказа по заданной теме. 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Содержимое 3" descr="CAM01005.jpg"/>
          <p:cNvPicPr/>
          <p:nvPr/>
        </p:nvPicPr>
        <p:blipFill>
          <a:blip r:embed="rId1"/>
          <a:stretch/>
        </p:blipFill>
        <p:spPr>
          <a:xfrm>
            <a:off x="214200" y="642960"/>
            <a:ext cx="4071960" cy="6000840"/>
          </a:xfrm>
          <a:prstGeom prst="rect">
            <a:avLst/>
          </a:prstGeom>
          <a:ln w="0">
            <a:noFill/>
          </a:ln>
        </p:spPr>
      </p:pic>
      <p:sp>
        <p:nvSpPr>
          <p:cNvPr id="1013" name="Заголовок 2"/>
          <p:cNvSpPr/>
          <p:nvPr/>
        </p:nvSpPr>
        <p:spPr>
          <a:xfrm>
            <a:off x="4645080" y="357120"/>
            <a:ext cx="404172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Наступила весна. У весны три месяца: март, апрель, май. Весной ярко светит солнце и сильно пригревает. Тает снег, кругом лужи, бегут ручьи. Идет теплый весенний дождь. На деревьях набухают почки и распускаются клейкие листочки. Появляется первая травка. Прямо из-под снега распускаются подснежники – первые вестники весны. Просыпаются насекомые. Из теплых мест возвращаются перелетные птиц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Содержимое 8" descr="CAM01008.jpg"/>
          <p:cNvPicPr/>
          <p:nvPr/>
        </p:nvPicPr>
        <p:blipFill>
          <a:blip r:embed="rId1"/>
          <a:stretch/>
        </p:blipFill>
        <p:spPr>
          <a:xfrm>
            <a:off x="285840" y="714240"/>
            <a:ext cx="4214880" cy="5857920"/>
          </a:xfrm>
          <a:prstGeom prst="rect">
            <a:avLst/>
          </a:prstGeom>
          <a:ln w="0">
            <a:noFill/>
          </a:ln>
        </p:spPr>
      </p:pic>
      <p:sp>
        <p:nvSpPr>
          <p:cNvPr id="1015" name="Заголовок 2"/>
          <p:cNvSpPr/>
          <p:nvPr/>
        </p:nvSpPr>
        <p:spPr>
          <a:xfrm>
            <a:off x="4645080" y="1500120"/>
            <a:ext cx="404172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Наступила зима. Всюду белый, пушистый снег. Холодно на улице. Дети оделись тепло, и пошли погулять. Они покатались на санках, лыжах, поиграли в снежки, слепили веселого снеговика. Хорошо зим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Заголовок 2"/>
          <p:cNvSpPr/>
          <p:nvPr/>
        </p:nvSpPr>
        <p:spPr>
          <a:xfrm>
            <a:off x="4929120" y="928800"/>
            <a:ext cx="39290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Зимой повсюду лежит снег. Деревья словно в белые шубки нарядились. Солнце светит, но не греет. Морозно! В домах топят печи. Люди зимой подкармливают птиц, заботятся о домашних животных. Детям нравятся зимние развлечения: катание на санках, лыжах, коньках, игры в хоккей, снежки. Очень любят дети лепить снеговиков, строить снежные креп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Содержимое 4" descr="CAM01013.jpg"/>
          <p:cNvPicPr/>
          <p:nvPr/>
        </p:nvPicPr>
        <p:blipFill>
          <a:blip r:embed="rId1"/>
          <a:stretch/>
        </p:blipFill>
        <p:spPr>
          <a:xfrm>
            <a:off x="214200" y="1000080"/>
            <a:ext cx="464364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НЕМОТАБЛИЦЫ-СХЕМЫ СЛУЖАТ ДИДАКТИЧЕСКИМ МАТЕРИАЛОМ В  РАБОТЕ ПО РАЗВИТИЮ СВЯЗНОЙ РЕЧИ ДЕТЕ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AutoShape 5"/>
          <p:cNvSpPr/>
          <p:nvPr/>
        </p:nvSpPr>
        <p:spPr>
          <a:xfrm>
            <a:off x="3419640" y="1924200"/>
            <a:ext cx="2087280" cy="1657080"/>
          </a:xfrm>
          <a:custGeom>
            <a:avLst/>
            <a:gdLst>
              <a:gd name="textAreaLeft" fmla="*/ 195120 w 2087280"/>
              <a:gd name="textAreaRight" fmla="*/ 1892160 w 2087280"/>
              <a:gd name="textAreaTop" fmla="*/ 195120 h 1657080"/>
              <a:gd name="textAreaBottom" fmla="*/ 1461960 h 1657080"/>
            </a:gdLst>
            <a:ahLst/>
            <a:rect l="textAreaLeft" t="textAreaTop" r="textAreaRight" b="textAreaBottom"/>
            <a:pathLst>
              <a:path w="2720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3606" y="21600"/>
                </a:lnTo>
                <a:arcTo wR="3600" hR="3600" stAng="10800000" swAng="5400000"/>
                <a:lnTo>
                  <a:pt x="2720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емотаблицы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0" name="Прямая со стрелкой 5"/>
          <p:cNvCxnSpPr/>
          <p:nvPr/>
        </p:nvCxnSpPr>
        <p:spPr>
          <a:xfrm flipH="1">
            <a:off x="2339280" y="2752200"/>
            <a:ext cx="1080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1" name="Прямая со стрелкой 6"/>
          <p:cNvCxnSpPr/>
          <p:nvPr/>
        </p:nvCxnSpPr>
        <p:spPr>
          <a:xfrm>
            <a:off x="5506560" y="2752200"/>
            <a:ext cx="1226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2" name="Прямая со стрелкой 7"/>
          <p:cNvCxnSpPr/>
          <p:nvPr/>
        </p:nvCxnSpPr>
        <p:spPr>
          <a:xfrm flipH="1">
            <a:off x="1331280" y="3284280"/>
            <a:ext cx="2088360" cy="115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3" name="Прямая со стрелкой 8"/>
          <p:cNvCxnSpPr/>
          <p:nvPr/>
        </p:nvCxnSpPr>
        <p:spPr>
          <a:xfrm>
            <a:off x="4463640" y="3580920"/>
            <a:ext cx="1080" cy="856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4" name="Прямая со стрелкой 10"/>
          <p:cNvCxnSpPr/>
          <p:nvPr/>
        </p:nvCxnSpPr>
        <p:spPr>
          <a:xfrm>
            <a:off x="5506560" y="3284280"/>
            <a:ext cx="2234520" cy="115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5" name="AutoShape 19"/>
          <p:cNvSpPr/>
          <p:nvPr/>
        </p:nvSpPr>
        <p:spPr>
          <a:xfrm>
            <a:off x="324000" y="1916280"/>
            <a:ext cx="1944360" cy="1633320"/>
          </a:xfrm>
          <a:custGeom>
            <a:avLst/>
            <a:gdLst>
              <a:gd name="textAreaLeft" fmla="*/ 192240 w 1944360"/>
              <a:gd name="textAreaRight" fmla="*/ 1752120 w 1944360"/>
              <a:gd name="textAreaTop" fmla="*/ 192240 h 1633320"/>
              <a:gd name="textAreaBottom" fmla="*/ 1441080 h 1633320"/>
            </a:gdLst>
            <a:ahLst/>
            <a:rect l="textAreaLeft" t="textAreaTop" r="textAreaRight" b="textAreaBottom"/>
            <a:pathLst>
              <a:path w="257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112" y="21600"/>
                </a:lnTo>
                <a:arcTo wR="3600" hR="3600" stAng="10800000" swAng="5400000"/>
                <a:lnTo>
                  <a:pt x="257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га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ар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20"/>
          <p:cNvSpPr/>
          <p:nvPr/>
        </p:nvSpPr>
        <p:spPr>
          <a:xfrm>
            <a:off x="6948360" y="1924200"/>
            <a:ext cx="1944720" cy="1633320"/>
          </a:xfrm>
          <a:custGeom>
            <a:avLst/>
            <a:gdLst>
              <a:gd name="textAreaLeft" fmla="*/ 192240 w 1944720"/>
              <a:gd name="textAreaRight" fmla="*/ 1752480 w 1944720"/>
              <a:gd name="textAreaTop" fmla="*/ 192240 h 1633320"/>
              <a:gd name="textAreaBottom" fmla="*/ 1441080 h 1633320"/>
            </a:gdLst>
            <a:ahLst/>
            <a:rect l="textAreaLeft" t="textAreaTop" r="textAreaRight" b="textAreaBottom"/>
            <a:pathLst>
              <a:path w="2571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117" y="21600"/>
                </a:lnTo>
                <a:arcTo wR="3600" hR="3600" stAng="10800000" swAng="5400000"/>
                <a:lnTo>
                  <a:pt x="2571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л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каз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15"/>
          <p:cNvSpPr/>
          <p:nvPr/>
        </p:nvSpPr>
        <p:spPr>
          <a:xfrm>
            <a:off x="324000" y="4581360"/>
            <a:ext cx="2016000" cy="1633680"/>
          </a:xfrm>
          <a:custGeom>
            <a:avLst/>
            <a:gdLst>
              <a:gd name="textAreaLeft" fmla="*/ 192240 w 2016000"/>
              <a:gd name="textAreaRight" fmla="*/ 1823760 w 2016000"/>
              <a:gd name="textAreaTop" fmla="*/ 192240 h 1633680"/>
              <a:gd name="textAreaBottom" fmla="*/ 1441440 h 1633680"/>
            </a:gdLst>
            <a:ahLst/>
            <a:rect l="textAreaLeft" t="textAreaTop" r="textAreaRight" b="textAreaBottom"/>
            <a:pathLst>
              <a:path w="266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3054" y="21600"/>
                </a:lnTo>
                <a:arcTo wR="3600" hR="3600" stAng="10800000" swAng="5400000"/>
                <a:lnTo>
                  <a:pt x="26654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еств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21"/>
          <p:cNvSpPr/>
          <p:nvPr/>
        </p:nvSpPr>
        <p:spPr>
          <a:xfrm>
            <a:off x="3419640" y="4581360"/>
            <a:ext cx="2016000" cy="1633680"/>
          </a:xfrm>
          <a:custGeom>
            <a:avLst/>
            <a:gdLst>
              <a:gd name="textAreaLeft" fmla="*/ 192240 w 2016000"/>
              <a:gd name="textAreaRight" fmla="*/ 1823760 w 2016000"/>
              <a:gd name="textAreaTop" fmla="*/ 192240 h 1633680"/>
              <a:gd name="textAreaBottom" fmla="*/ 1441440 h 1633680"/>
            </a:gdLst>
            <a:ahLst/>
            <a:rect l="textAreaLeft" t="textAreaTop" r="textAreaRight" b="textAreaBottom"/>
            <a:pathLst>
              <a:path w="266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3054" y="21600"/>
                </a:lnTo>
                <a:arcTo wR="3600" hR="3600" stAng="10800000" swAng="5400000"/>
                <a:lnTo>
                  <a:pt x="26654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гады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загады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г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17"/>
          <p:cNvSpPr/>
          <p:nvPr/>
        </p:nvSpPr>
        <p:spPr>
          <a:xfrm>
            <a:off x="6948360" y="4595760"/>
            <a:ext cx="1944720" cy="1633680"/>
          </a:xfrm>
          <a:custGeom>
            <a:avLst/>
            <a:gdLst>
              <a:gd name="textAreaLeft" fmla="*/ 192240 w 1944720"/>
              <a:gd name="textAreaRight" fmla="*/ 1752480 w 1944720"/>
              <a:gd name="textAreaTop" fmla="*/ 192240 h 1633680"/>
              <a:gd name="textAreaBottom" fmla="*/ 1441440 h 1633680"/>
            </a:gdLst>
            <a:ahLst/>
            <a:rect l="textAreaLeft" t="textAreaTop" r="textAreaRight" b="textAreaBottom"/>
            <a:pathLst>
              <a:path w="257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112" y="21600"/>
                </a:lnTo>
                <a:arcTo wR="3600" hR="3600" stAng="10800000" swAng="5400000"/>
                <a:lnTo>
                  <a:pt x="257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у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и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Заголовок 1" descr=""/>
          <p:cNvPicPr/>
          <p:nvPr/>
        </p:nvPicPr>
        <p:blipFill>
          <a:blip r:embed="rId1"/>
          <a:stretch/>
        </p:blipFill>
        <p:spPr>
          <a:xfrm>
            <a:off x="237960" y="493560"/>
            <a:ext cx="7772400" cy="93852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осложная реч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пособность грамматически правильно построить предло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достаточный словарный запа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отребление нелитературных слов и выра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дная диалогическая реч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пособность построить моноло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ие логического обоснования своих утверждений и выв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ие навыков культуры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охая ди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7993080" cy="576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Источники:</a:t>
            </a:r>
            <a:br>
              <a:rPr sz="2800"/>
            </a:br>
            <a:br>
              <a:rPr sz="4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Полянская Т.Б. «Использование метода мнемотехники в обучении рассказыванию детей дошкольного возраста», 2009. 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</a:rPr>
              <a:t>2. Т. В. Большева «Учимся по сказке» 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Ефименкова Л.Н. Формирование речи у дошкольников.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4. Глухов В.П. Формирование связной речи детей дошкольного возраста.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5. Ткаченко Т.А. использование схем в составлении описательных рассказов. 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 6. 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http-skyclipart.ru – detsad.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7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. http</a:t>
            </a: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viki.rdf.ru.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8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. http</a:t>
            </a: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nsportal.ru.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9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. http</a:t>
            </a: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logoburg.com.</a:t>
            </a:r>
            <a:br>
              <a:rPr sz="18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10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. http</a:t>
            </a: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logoportal.ru.</a:t>
            </a:r>
            <a:br>
              <a:rPr sz="1800"/>
            </a:b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. http</a:t>
            </a:r>
            <a:r>
              <a:rPr b="1" lang="ru-RU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www.logoped.ru.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7200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Мнемотехник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, или мнемоника, в переводе с греческого – «искусство запоминания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Мнемотехник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– это система методов и приемов, обеспечивающих эффективное запоминание, сохранение и воспроизведение информаци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75438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АКТУАЛЬНОСТЬ ВЫБРАННОЙ ТЕМЫ:</a:t>
            </a:r>
            <a:br>
              <a:rPr sz="40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976" name="Прямая со стрелкой 3"/>
          <p:cNvCxnSpPr/>
          <p:nvPr/>
        </p:nvCxnSpPr>
        <p:spPr>
          <a:xfrm flipH="1">
            <a:off x="2123280" y="1110960"/>
            <a:ext cx="2485080" cy="518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7" name="Прямая со стрелкой 4"/>
          <p:cNvCxnSpPr/>
          <p:nvPr/>
        </p:nvCxnSpPr>
        <p:spPr>
          <a:xfrm>
            <a:off x="4608000" y="1110960"/>
            <a:ext cx="1080" cy="3182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8" name="Прямая со стрелкой 5"/>
          <p:cNvCxnSpPr/>
          <p:nvPr/>
        </p:nvCxnSpPr>
        <p:spPr>
          <a:xfrm>
            <a:off x="4608000" y="1110960"/>
            <a:ext cx="2125080" cy="518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9" name="Прямоугольник 7"/>
          <p:cNvSpPr/>
          <p:nvPr/>
        </p:nvSpPr>
        <p:spPr>
          <a:xfrm>
            <a:off x="250920" y="1773360"/>
            <a:ext cx="3384360" cy="2303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немотехника облегчает детям овладение связной ре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Прямоугольник 8"/>
          <p:cNvSpPr/>
          <p:nvPr/>
        </p:nvSpPr>
        <p:spPr>
          <a:xfrm>
            <a:off x="2916360" y="4437000"/>
            <a:ext cx="3384360" cy="23050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Ребёнок с опорой на образы памяти устанавливает причинно-следственные связи, делает выводы, развивая тем самым логическое мыш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Прямоугольник 10"/>
          <p:cNvSpPr/>
          <p:nvPr/>
        </p:nvSpPr>
        <p:spPr>
          <a:xfrm>
            <a:off x="5435640" y="1773360"/>
            <a:ext cx="3529080" cy="2303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именения мнемотехники , использование обобщений позволяют ребёнку систематизировать свой непосредственный опы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5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ЗАДАЧИ: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983" name="Прямая со стрелкой 4"/>
          <p:cNvCxnSpPr/>
          <p:nvPr/>
        </p:nvCxnSpPr>
        <p:spPr>
          <a:xfrm flipH="1">
            <a:off x="3142440" y="1071720"/>
            <a:ext cx="1358280" cy="786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4" name="Прямая со стрелкой 7"/>
          <p:cNvCxnSpPr/>
          <p:nvPr/>
        </p:nvCxnSpPr>
        <p:spPr>
          <a:xfrm>
            <a:off x="4500720" y="1071360"/>
            <a:ext cx="17150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5" name="Прямая со стрелкой 15"/>
          <p:cNvCxnSpPr/>
          <p:nvPr/>
        </p:nvCxnSpPr>
        <p:spPr>
          <a:xfrm flipH="1">
            <a:off x="3285720" y="1071720"/>
            <a:ext cx="1215360" cy="3000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6" name="Скругленный прямоугольник 19"/>
          <p:cNvSpPr/>
          <p:nvPr/>
        </p:nvSpPr>
        <p:spPr>
          <a:xfrm>
            <a:off x="285840" y="1928880"/>
            <a:ext cx="3071880" cy="1714320"/>
          </a:xfrm>
          <a:prstGeom prst="roundRect">
            <a:avLst>
              <a:gd name="adj" fmla="val 22764"/>
            </a:avLst>
          </a:prstGeom>
          <a:solidFill>
            <a:srgbClr val="ccffcc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обрать и использовать мнемотаблицы, направленные на развитие связной реч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Скругленный прямоугольник 20"/>
          <p:cNvSpPr/>
          <p:nvPr/>
        </p:nvSpPr>
        <p:spPr>
          <a:xfrm>
            <a:off x="5357880" y="2000160"/>
            <a:ext cx="3179520" cy="1643040"/>
          </a:xfrm>
          <a:prstGeom prst="roundRect">
            <a:avLst>
              <a:gd name="adj" fmla="val 22764"/>
            </a:avLst>
          </a:prstGeom>
          <a:solidFill>
            <a:srgbClr val="ccffcc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ть разговорную (диалогическую) речь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Скругленный прямоугольник 21"/>
          <p:cNvSpPr/>
          <p:nvPr/>
        </p:nvSpPr>
        <p:spPr>
          <a:xfrm>
            <a:off x="1000080" y="4214880"/>
            <a:ext cx="3348000" cy="1795320"/>
          </a:xfrm>
          <a:prstGeom prst="roundRect">
            <a:avLst>
              <a:gd name="adj" fmla="val 22764"/>
            </a:avLst>
          </a:prstGeom>
          <a:solidFill>
            <a:srgbClr val="ccffcc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ь детей слушать и понимать обращенную к нему речь, поддерживать разговор, отвечать на вопросы и спраши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Скругленный прямоугольник 25"/>
          <p:cNvSpPr/>
          <p:nvPr/>
        </p:nvSpPr>
        <p:spPr>
          <a:xfrm>
            <a:off x="4857840" y="4214880"/>
            <a:ext cx="3429000" cy="1785960"/>
          </a:xfrm>
          <a:prstGeom prst="roundRect">
            <a:avLst>
              <a:gd name="adj" fmla="val 22764"/>
            </a:avLst>
          </a:prstGeom>
          <a:solidFill>
            <a:srgbClr val="ccffcc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ть у детей умение слушать друг друга, не переб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0" name="Прямая со стрелкой 27"/>
          <p:cNvCxnSpPr/>
          <p:nvPr/>
        </p:nvCxnSpPr>
        <p:spPr>
          <a:xfrm>
            <a:off x="4499640" y="1071720"/>
            <a:ext cx="929160" cy="3072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Прямоугольник 3"/>
          <p:cNvSpPr/>
          <p:nvPr/>
        </p:nvSpPr>
        <p:spPr>
          <a:xfrm>
            <a:off x="785880" y="1000080"/>
            <a:ext cx="74293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Мнемотех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система методов и приемов, обеспечивающих успешное освоение детьми знаний об особенностях объектов природы, об окружающем мире, эффективное запоминание структуры рассказа, сохранение и воспроизведение информации, и конечно развитие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/>
          </p:nvPr>
        </p:nvSpPr>
        <p:spPr>
          <a:xfrm>
            <a:off x="250920" y="3071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Мнемотаблиц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ускоряют процесс запоминания, активизируют речевую деятельность, развивают мышление и воображ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"/>
          <p:cNvSpPr/>
          <p:nvPr/>
        </p:nvSpPr>
        <p:spPr>
          <a:xfrm>
            <a:off x="324000" y="642960"/>
            <a:ext cx="8229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немотаблиц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это схема, в которую заложена определенная информац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6840" y="1571400"/>
            <a:ext cx="754380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Мнемотаблицы особенно эффективны при разучивании стихотворений. Суть заключается в следующем: на каждое слово или маленькое словосочетание придумывается картинка (изображение); таким образом, все стихотворение зарисовывается схематически.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9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УЧИВАНИЕ СТИХОВ С ИСПОЛЬЗОВАНИЕМ МНЕМОТЕХНИКИ</a:t>
            </a:r>
            <a:br>
              <a:rPr sz="40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996" name="Рисунок 4" descr="http://festival.1september.ru/articles/556663/img8.jpg"/>
          <p:cNvPicPr/>
          <p:nvPr/>
        </p:nvPicPr>
        <p:blipFill>
          <a:blip r:embed="rId1"/>
          <a:stretch/>
        </p:blipFill>
        <p:spPr>
          <a:xfrm>
            <a:off x="23760" y="1547640"/>
            <a:ext cx="5237280" cy="5231160"/>
          </a:xfrm>
          <a:prstGeom prst="rect">
            <a:avLst/>
          </a:prstGeom>
          <a:ln w="0">
            <a:noFill/>
          </a:ln>
        </p:spPr>
      </p:pic>
      <p:sp>
        <p:nvSpPr>
          <p:cNvPr id="997" name="Заголовок 2"/>
          <p:cNvSpPr/>
          <p:nvPr/>
        </p:nvSpPr>
        <p:spPr>
          <a:xfrm>
            <a:off x="5572080" y="1714680"/>
            <a:ext cx="321480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«ЁЛОЧКА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Перед нами ёлочка: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Шишечки, иголочки.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Шарики, фонарики,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Зайчики и свечки,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Звёзды, человечки.</a:t>
            </a: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Н.Нищ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21:18:28Z</dcterms:created>
  <dc:creator>Kseniya</dc:creator>
  <dc:description/>
  <dc:language>en-US</dc:language>
  <cp:lastModifiedBy>user</cp:lastModifiedBy>
  <dcterms:modified xsi:type="dcterms:W3CDTF">2016-02-22T14:11:39Z</dcterms:modified>
  <cp:revision>20</cp:revision>
  <dc:subject/>
  <dc:title>Использование метода мнемотехники в развитии мышления и связной речи детей дошкольного возраста</dc:title>
</cp:coreProperties>
</file>