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63F-8D74-461E-8A2C-7C8D6D2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CE7-41FC-44AC-B17A-45C1A36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CD5-F05B-4DCE-87F5-81448DBF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034-4240-4F6D-8261-21235F3C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4DA-6806-47E0-BC01-EB725BD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84C-040C-4779-AE3E-AB2A758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C08-719E-4477-BF59-B6C4F82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5A6-7EDB-422D-9A30-F4DEA6AF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260-E6F7-4221-8788-CD32DCA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2CB-2815-4CC0-9775-E5FA976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E1B-2DA2-4185-929F-C800803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B8B-D905-496D-8500-B356BE1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0AD-72C2-4B4E-91D3-09300D48C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d.exdat.com/docs/index-805658.html" TargetMode="External"/><Relationship Id="rId2" Type="http://schemas.openxmlformats.org/officeDocument/2006/relationships/hyperlink" Target="http://www.samson-corp.ru/Developments/MM17/mm17-04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6370560" y="2998800"/>
            <a:ext cx="2376720" cy="3627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24000" y="51912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МЕТОДИЧЕСКИЙ СЕМИН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2920" y="4827600"/>
            <a:ext cx="477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Мальцева Надежд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МБОУ СОШ с.Балгазы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92240" y="2293920"/>
            <a:ext cx="64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«Формирование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на уроках русского языка и литерату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755640" y="692280"/>
            <a:ext cx="9361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и выделять художественные особенности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Бабель Рассказ «Коро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-задание к рассказу И. Бабеля «Коро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текста 3 ярких сравнения (пример: «факелы расцв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ёрные розы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текста 3 выражения одесского разговора (пример: «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ики начали бояться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образом Беня заставил Сендера Эйхбаума отдать деньг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ивлекает в образе Бени Крика?  Что отталкив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эпизод наиболее поразил вас? Опишите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кроссвор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4797360"/>
          <a:ext cx="7921440" cy="1800360"/>
        </p:xfrm>
        <a:graphic>
          <a:graphicData uri="http://schemas.openxmlformats.org/drawingml/2006/table">
            <a:tbl>
              <a:tblPr/>
              <a:tblGrid>
                <a:gridCol w="679320"/>
                <a:gridCol w="662040"/>
                <a:gridCol w="662040"/>
                <a:gridCol w="5918040"/>
              </a:tblGrid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я отца Б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льный инструмент на свадь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ание, чин нового начальника учас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ица, где жила тётя Х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, из чего сшита подкладка тяжёлого кошель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бещал стать Король Эйхбаум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езультативнос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042920" y="227664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тивизация познавательной и 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тивное участие в олимпиадах, конкурсах, мероприят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интереса к изучению русского языка и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мение и желание писать исследовательские проекты и создавать през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частие учеников в конкур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397160"/>
          <a:ext cx="8147160" cy="4876560"/>
        </p:xfrm>
        <a:graphic>
          <a:graphicData uri="http://schemas.openxmlformats.org/drawingml/2006/table">
            <a:tbl>
              <a:tblPr/>
              <a:tblGrid>
                <a:gridCol w="2362320"/>
                <a:gridCol w="1925640"/>
                <a:gridCol w="1257120"/>
                <a:gridCol w="1308240"/>
                <a:gridCol w="1293840"/>
              </a:tblGrid>
              <a:tr h="66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, 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очинений «Отец-отчество-Отече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1.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диктантов «Грамотей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7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0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диктантов «Грамотей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6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0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выразительного чтения «Праздник поэзии - 201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и 8-9 клас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 rot="159000">
            <a:off x="374760" y="750600"/>
            <a:ext cx="2574720" cy="3628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"/>
          <p:cNvPicPr/>
          <p:nvPr/>
        </p:nvPicPr>
        <p:blipFill>
          <a:blip r:embed="rId2"/>
          <a:stretch/>
        </p:blipFill>
        <p:spPr>
          <a:xfrm rot="175200">
            <a:off x="2362320" y="1693440"/>
            <a:ext cx="2619360" cy="3743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3"/>
          <a:stretch/>
        </p:blipFill>
        <p:spPr>
          <a:xfrm rot="196800">
            <a:off x="4452840" y="2130120"/>
            <a:ext cx="2532240" cy="3651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4"/>
          <a:stretch/>
        </p:blipFill>
        <p:spPr>
          <a:xfrm rot="162000">
            <a:off x="6384960" y="2910960"/>
            <a:ext cx="2558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611280" y="134136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средственный учитель излагает. Хороший учитель объясняет. Выдающийся учитель показывает. Великий учитель вдохновля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Уильям У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826920" y="692280"/>
            <a:ext cx="7561440" cy="64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апятая О.В. Умения коммуникации: формирование и диагностика в учебном процессе. Красноярск.,2013 г. -1 2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таева И.В. Грамотность чтения. Красноярск., 2014 г. – 6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ташник М. М. Требования к современному уроку. Методическое пособие. М.: Центр педагогического образования, 2008. - 27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енина Н.А. Русский язык «Заговори, чтобы я тебя увидел». Ростов-на Дону., 2013 г. – 233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ормирование информационно-коммуникативной компетенции на уроках русского языка и литературы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ud.exdat.com/docs/index-805658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Формирование коммуникативной концепции на уроках русского языка и литературы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mson-corp.ru/Developments/MM17/mm17-04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55640" y="1773360"/>
            <a:ext cx="70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Ни один компьютер не передаст всю гамму ощущений, радости открытий, пережитых на уроке, при прочтении художественного текста, лаконичного доказательства теоремы, изящного выведения формулы. Оно передаётся только Словом Учител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Калугина Т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6280" y="1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боснование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65240" y="10494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ирование компетенций – это не смена содерж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смена способа, смена техн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ган Е.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457200" y="2457360"/>
            <a:ext cx="324000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ния условий для целенаправленного формирования коммуникативной компетенции у учащихся в современном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5386320" y="2519280"/>
            <a:ext cx="33004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эффективных способов для создания условий обеспечивающих формирования коммуникативной компетенций у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6"/>
          <p:cNvSpPr/>
          <p:nvPr/>
        </p:nvSpPr>
        <p:spPr>
          <a:xfrm>
            <a:off x="3697200" y="3259080"/>
            <a:ext cx="836640" cy="10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право 7"/>
          <p:cNvSpPr/>
          <p:nvPr/>
        </p:nvSpPr>
        <p:spPr>
          <a:xfrm rot="10800000">
            <a:off x="4530600" y="3259080"/>
            <a:ext cx="858960" cy="10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1"/>
          <a:stretch/>
        </p:blipFill>
        <p:spPr>
          <a:xfrm>
            <a:off x="3700440" y="2298600"/>
            <a:ext cx="1530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4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коммуникативную компетенцию и сохранить интерес к предмету.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общение опыта работа и выделение наиболее интересных продуктивных метод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работка современных и инновационных методик преподавания русского языка и литератур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вышение интереса к русскому языку и литературе, активизация творческ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Федеральном государственном стандарте основного общего образования, в главе «Требования к результатам освоения основной образовательной программы» указывается на то, что «личностные результаты освоения образовательной программы основного общего образования должны отражать формирование коммуникативной компетенции в общении и сотрудничестве со сверстниками, детьми старшего и младшего возраста, взрослыми в процессе образовательной, общественно-полезной, учебно-исследовательской, творческой и других видов деятельност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670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вал 1"/>
          <p:cNvSpPr/>
          <p:nvPr/>
        </p:nvSpPr>
        <p:spPr>
          <a:xfrm>
            <a:off x="2565360" y="2627280"/>
            <a:ext cx="3807000" cy="16448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коммуникативной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468360" y="1052640"/>
            <a:ext cx="2484360" cy="208908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работать с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>
            <a:off x="3375000" y="4406760"/>
            <a:ext cx="2328840" cy="2183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"/>
          <p:cNvPicPr/>
          <p:nvPr/>
        </p:nvPicPr>
        <p:blipFill>
          <a:blip r:embed="rId2"/>
          <a:stretch/>
        </p:blipFill>
        <p:spPr>
          <a:xfrm>
            <a:off x="6066000" y="3711600"/>
            <a:ext cx="2328840" cy="2182680"/>
          </a:xfrm>
          <a:prstGeom prst="rect">
            <a:avLst/>
          </a:prstGeom>
          <a:ln w="0">
            <a:noFill/>
          </a:ln>
        </p:spPr>
      </p:pic>
      <p:sp>
        <p:nvSpPr>
          <p:cNvPr id="60" name="Овал 9"/>
          <p:cNvSpPr/>
          <p:nvPr/>
        </p:nvSpPr>
        <p:spPr>
          <a:xfrm>
            <a:off x="3171960" y="404640"/>
            <a:ext cx="2435040" cy="208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ие общ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6066000" y="1017720"/>
            <a:ext cx="2466720" cy="2124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779400" y="3813120"/>
            <a:ext cx="2233800" cy="208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ая ре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564000" y="5013360"/>
            <a:ext cx="180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амотное пись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303960" y="4176720"/>
            <a:ext cx="180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мение работать в коман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53964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текстом на уроках русского языка и литературы как средство формирования коммуникативной компетенци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нутый угол 4"/>
          <p:cNvSpPr/>
          <p:nvPr/>
        </p:nvSpPr>
        <p:spPr>
          <a:xfrm>
            <a:off x="2484360" y="3638520"/>
            <a:ext cx="4057560" cy="25988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иде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ая мысль высказы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ль и тип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ие художественных средств и фигур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Горизонтальный свиток 5"/>
          <p:cNvSpPr/>
          <p:nvPr/>
        </p:nvSpPr>
        <p:spPr>
          <a:xfrm>
            <a:off x="1835280" y="2427120"/>
            <a:ext cx="576108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Лингвистический анализ тек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ашивка 6"/>
          <p:cNvSpPr/>
          <p:nvPr/>
        </p:nvSpPr>
        <p:spPr>
          <a:xfrm>
            <a:off x="6338880" y="3814920"/>
            <a:ext cx="738360" cy="1990440"/>
          </a:xfrm>
          <a:custGeom>
            <a:avLst/>
            <a:gdLst>
              <a:gd name="textAreaLeft" fmla="*/ 0 w 738360"/>
              <a:gd name="textAreaRight" fmla="*/ 738720 w 738360"/>
              <a:gd name="textAreaTop" fmla="*/ 0 h 1990440"/>
              <a:gd name="textAreaBottom" fmla="*/ 1990800 h 19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ашивка 7"/>
          <p:cNvSpPr/>
          <p:nvPr/>
        </p:nvSpPr>
        <p:spPr>
          <a:xfrm rot="10800000">
            <a:off x="1982520" y="3939840"/>
            <a:ext cx="772920" cy="1994040"/>
          </a:xfrm>
          <a:custGeom>
            <a:avLst/>
            <a:gdLst>
              <a:gd name="textAreaLeft" fmla="*/ 0 w 772920"/>
              <a:gd name="textAreaRight" fmla="*/ 773280 w 7729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1"/>
          <a:stretch/>
        </p:blipFill>
        <p:spPr>
          <a:xfrm>
            <a:off x="158760" y="2871720"/>
            <a:ext cx="2413080" cy="3090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9"/>
          <p:cNvSpPr/>
          <p:nvPr/>
        </p:nvSpPr>
        <p:spPr>
          <a:xfrm rot="19725000">
            <a:off x="7084080" y="3056040"/>
            <a:ext cx="146016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77720" y="1197000"/>
            <a:ext cx="8229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проблемного характера к рассказу А.И. Солженицы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рёнин дво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об окружающем мире Матрё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оролась Матрёна с обидами, которые наносила ей жизн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относились к Матрёне родные, соседи, односельчан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автор отводит значительное место сцене похоро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о можно назвать самой страшной фигурой в рассказе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овата ли Матрёна, что Фаддей стал таким? Объ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ы думаете, гибель Матрёны – это стечение случайных обстоятельств или некая закономерность? Объ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Матрёна  - праведница? Можно ли назвать её свят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речались ли вам такие люди, как Матрёна? Расскажите о случаях проявления в поступках людей бескорыстия, милосердия по отношению к людям, живот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611280" y="765000"/>
            <a:ext cx="784836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понимать подтекст, видеть скрыты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.С. Тургенев «Отцы и дети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а «Приезд Базарова в родительский д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-зада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и Базарова – люди небогатые, но бедность свою старательно скрывают. Найдите в тексте эпизоды, слова, подтверждающие эту бедность. Поиск, анализ подтекста, исторические и временные подсказки помогают выяснить, что иметь во владении 22 души – это очень мало; становится понятен окрик хозяина дворовой девочке Танюшке: «На подносе, слышишь!?» ребята приходят к выводу, что раньше девочка приносила барыне стакан воды без подноса, теперь же. При госте, нужно соблюдать приличия и подать. Как полагалось в богатых домах – на подносе. В одном только этом отрывке ребята находят более  десятка таких призна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nit</cp:lastModifiedBy>
  <dcterms:modified xsi:type="dcterms:W3CDTF">2023-02-12T12:18:50Z</dcterms:modified>
  <cp:revision>41</cp:revision>
  <dc:subject/>
  <dc:title>Шаблон презентации</dc:title>
</cp:coreProperties>
</file>