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89D-F717-44CE-999F-35202B2A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F9D-D1E0-4D9E-B2F6-58A3C54E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677-773D-4083-B107-D6C571BC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F48-997D-4DF1-8508-74E09E62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75C-75A2-4FB4-A652-CF11BC25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693-5181-4D95-B754-1B88FCF4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01A-6B86-476F-B0BF-8FEF8334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F78-CB88-43FB-8E59-F90F148E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642-6A0A-45F0-856A-1C05F2E4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F5F-9623-424A-A6AA-A0CE602F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9F0-A53D-4493-901F-E10F8DB3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793-779E-4DDB-942E-B70302B1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164E-2718-47B2-B469-8FFFEDA24F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d.exdat.com/docs/index-805658.html" TargetMode="External"/><Relationship Id="rId2" Type="http://schemas.openxmlformats.org/officeDocument/2006/relationships/hyperlink" Target="http://www.samson-corp.ru/Developments/MM17/mm17-04.pd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6370560" y="2998800"/>
            <a:ext cx="2376720" cy="3627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24000" y="51912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«МЕТОДИЧЕСКИЙ СЕМИНА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042920" y="4827600"/>
            <a:ext cx="477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Мальцева Надежда Серг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МБОУ СОШ с.Балгазы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92240" y="2293920"/>
            <a:ext cx="64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«Формирование коммуникативной компетен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на уроках русского языка и литератур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755640" y="692280"/>
            <a:ext cx="9361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идеть и выделять художественные особенности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Бабель Рассказ «Король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а-задание к рассказу И. Бабеля «Король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из текста 3 ярких сравнения (пример: «факелы расцвел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ёрные розы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из текста 3 выражения одесского разговора (пример: «тог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пики начали бояться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 образом Беня заставил Сендера Эйхбаума отдать деньг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ривлекает в образе Бени Крика?  Что отталкивае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эпизод наиболее поразил вас? Опишите е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кроссвор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11280" y="4797360"/>
          <a:ext cx="7921440" cy="1800360"/>
        </p:xfrm>
        <a:graphic>
          <a:graphicData uri="http://schemas.openxmlformats.org/drawingml/2006/table">
            <a:tbl>
              <a:tblPr/>
              <a:tblGrid>
                <a:gridCol w="679320"/>
                <a:gridCol w="662040"/>
                <a:gridCol w="662040"/>
                <a:gridCol w="5918040"/>
              </a:tblGrid>
              <a:tr h="300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фессия отца Б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льный инструмент на свадь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вание, чин нового начальника учас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лица, где жила тётя Х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, из чего сшита подкладка тяжёлого кошель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ем обещал стать Король Эйхбаум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езультативност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042920" y="227664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ктивизация познавательной и творческой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ктивное участие в олимпиадах, конкурсах, мероприяти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вышение интереса к изучению русского языка и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мение и желание писать исследовательские проекты и создавать презен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Участие учеников в конкурс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9640" y="1397160"/>
          <a:ext cx="8147160" cy="4876560"/>
        </p:xfrm>
        <a:graphic>
          <a:graphicData uri="http://schemas.openxmlformats.org/drawingml/2006/table">
            <a:tbl>
              <a:tblPr/>
              <a:tblGrid>
                <a:gridCol w="2362320"/>
                <a:gridCol w="1925640"/>
                <a:gridCol w="1257120"/>
                <a:gridCol w="1308240"/>
                <a:gridCol w="1293840"/>
              </a:tblGrid>
              <a:tr h="667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, наз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ку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сочинений «Отец-отчество-Отечеств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1.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диктантов «Грамотей 201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реди 7 клас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10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диктантов «Грамотей 201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реди 6 клас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10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выразительного чтения «Праздник поэзии - 201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реди 8-9 клас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4" descr=""/>
          <p:cNvPicPr/>
          <p:nvPr/>
        </p:nvPicPr>
        <p:blipFill>
          <a:blip r:embed="rId1"/>
          <a:stretch/>
        </p:blipFill>
        <p:spPr>
          <a:xfrm rot="159000">
            <a:off x="374760" y="750600"/>
            <a:ext cx="2574720" cy="36288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" descr=""/>
          <p:cNvPicPr/>
          <p:nvPr/>
        </p:nvPicPr>
        <p:blipFill>
          <a:blip r:embed="rId2"/>
          <a:stretch/>
        </p:blipFill>
        <p:spPr>
          <a:xfrm rot="175200">
            <a:off x="2362320" y="1693440"/>
            <a:ext cx="2619360" cy="37432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"/>
          <p:cNvPicPr/>
          <p:nvPr/>
        </p:nvPicPr>
        <p:blipFill>
          <a:blip r:embed="rId3"/>
          <a:stretch/>
        </p:blipFill>
        <p:spPr>
          <a:xfrm rot="196800">
            <a:off x="4452840" y="2130120"/>
            <a:ext cx="2532240" cy="36511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"/>
          <p:cNvPicPr/>
          <p:nvPr/>
        </p:nvPicPr>
        <p:blipFill>
          <a:blip r:embed="rId4"/>
          <a:stretch/>
        </p:blipFill>
        <p:spPr>
          <a:xfrm rot="162000">
            <a:off x="6384960" y="2910960"/>
            <a:ext cx="25588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611280" y="1341360"/>
            <a:ext cx="777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Посредственный учитель излагает. Хороший учитель объясняет. Выдающийся учитель показывает. Великий учитель вдохновля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Уильям Уор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2"/>
          <p:cNvSpPr/>
          <p:nvPr/>
        </p:nvSpPr>
        <p:spPr>
          <a:xfrm>
            <a:off x="826920" y="692280"/>
            <a:ext cx="7561440" cy="64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спользуемая литерату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апятая О.В. Умения коммуникации: формирование и диагностика в учебном процессе. Красноярск.,2013 г. -1 22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таева И.В. Грамотность чтения. Красноярск., 2014 г. – 62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ташник М. М. Требования к современному уроку. Методическое пособие. М.: Центр педагогического образования, 2008. - 272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енина Н.А. Русский язык «Заговори, чтобы я тебя увидел». Ростов-на Дону., 2013 г. – 233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Формирование информационно-коммуникативной компетенции на уроках русского языка и литературы: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rud.exdat.com/docs/index-805658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Формирование коммуникативной концепции на уроках русского языка и литературы: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mson-corp.ru/Developments/MM17/mm17-04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55640" y="1773360"/>
            <a:ext cx="705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Ни один компьютер не передаст всю гамму ощущений, радости открытий, пережитых на уроке, при прочтении художественного текста, лаконичного доказательства теоремы, изящного выведения формулы. Оно передаётся только Словом Учителя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Калугина Т.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6280" y="1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боснование 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165240" y="104940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Формирование компетенций – это не смена содерж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Это смена способа, смена технолог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оган Е.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кругленный прямоугольник 3"/>
          <p:cNvSpPr/>
          <p:nvPr/>
        </p:nvSpPr>
        <p:spPr>
          <a:xfrm>
            <a:off x="457200" y="2457360"/>
            <a:ext cx="324000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создания условий для целенаправленного формирования коммуникативной компетенции у учащихся в современном образов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кругленный прямоугольник 4"/>
          <p:cNvSpPr/>
          <p:nvPr/>
        </p:nvSpPr>
        <p:spPr>
          <a:xfrm>
            <a:off x="5386320" y="2519280"/>
            <a:ext cx="33004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эффективных способов для создания условий обеспечивающих формирования коммуникативной компетенций у уча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трелка вправо 6"/>
          <p:cNvSpPr/>
          <p:nvPr/>
        </p:nvSpPr>
        <p:spPr>
          <a:xfrm>
            <a:off x="3697200" y="3259080"/>
            <a:ext cx="836640" cy="10080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трелка вправо 7"/>
          <p:cNvSpPr/>
          <p:nvPr/>
        </p:nvSpPr>
        <p:spPr>
          <a:xfrm rot="10800000">
            <a:off x="4530600" y="3259080"/>
            <a:ext cx="858960" cy="10080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Прямоугольник 8" descr=""/>
          <p:cNvPicPr/>
          <p:nvPr/>
        </p:nvPicPr>
        <p:blipFill>
          <a:blip r:embed="rId1"/>
          <a:stretch/>
        </p:blipFill>
        <p:spPr>
          <a:xfrm>
            <a:off x="3700440" y="2298600"/>
            <a:ext cx="15303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445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коммуникативную компетенцию и сохранить интерес к предмету.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общение опыта работа и выделение наиболее интересных продуктивных метод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работка современных и инновационных методик преподавания русского языка и литератур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вышение интереса к русскому языку и литературе, активизация творческой деятельности учащих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Федеральном государственном стандарте основного общего образования, в главе «Требования к результатам освоения основной образовательной программы» указывается на то, что «личностные результаты освоения образовательной программы основного общего образования должны отражать формирование коммуникативной компетенции в общении и сотрудничестве со сверстниками, детьми старшего и младшего возраста, взрослыми в процессе образовательной, общественно-полезной, учебно-исследовательской, творческой и других видов деятельност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6704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Овал 1"/>
          <p:cNvSpPr/>
          <p:nvPr/>
        </p:nvSpPr>
        <p:spPr>
          <a:xfrm>
            <a:off x="2565360" y="2627280"/>
            <a:ext cx="3807000" cy="164484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ование коммуникативной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3"/>
          <p:cNvSpPr/>
          <p:nvPr/>
        </p:nvSpPr>
        <p:spPr>
          <a:xfrm>
            <a:off x="468360" y="1052640"/>
            <a:ext cx="2484360" cy="208908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ение работать с информаци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1"/>
          <a:stretch/>
        </p:blipFill>
        <p:spPr>
          <a:xfrm>
            <a:off x="3375000" y="4406760"/>
            <a:ext cx="2328840" cy="2183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8" descr=""/>
          <p:cNvPicPr/>
          <p:nvPr/>
        </p:nvPicPr>
        <p:blipFill>
          <a:blip r:embed="rId2"/>
          <a:stretch/>
        </p:blipFill>
        <p:spPr>
          <a:xfrm>
            <a:off x="6066000" y="3711600"/>
            <a:ext cx="2328840" cy="2182680"/>
          </a:xfrm>
          <a:prstGeom prst="rect">
            <a:avLst/>
          </a:prstGeom>
          <a:ln w="0">
            <a:noFill/>
          </a:ln>
        </p:spPr>
      </p:pic>
      <p:sp>
        <p:nvSpPr>
          <p:cNvPr id="60" name="Овал 9"/>
          <p:cNvSpPr/>
          <p:nvPr/>
        </p:nvSpPr>
        <p:spPr>
          <a:xfrm>
            <a:off x="3171960" y="404640"/>
            <a:ext cx="2435040" cy="208764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ение обща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10"/>
          <p:cNvSpPr/>
          <p:nvPr/>
        </p:nvSpPr>
        <p:spPr>
          <a:xfrm>
            <a:off x="6066000" y="1017720"/>
            <a:ext cx="2466720" cy="212400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сто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11"/>
          <p:cNvSpPr/>
          <p:nvPr/>
        </p:nvSpPr>
        <p:spPr>
          <a:xfrm>
            <a:off x="779400" y="3813120"/>
            <a:ext cx="2233800" cy="208764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ьная реч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3564000" y="5013360"/>
            <a:ext cx="180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Грамотное пись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6303960" y="4176720"/>
            <a:ext cx="180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Умение работать в коман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539640" y="9079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абота с текстом на уроках русского языка и литературы как средство формирования коммуникативной компетенции учащихс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нутый угол 4"/>
          <p:cNvSpPr/>
          <p:nvPr/>
        </p:nvSpPr>
        <p:spPr>
          <a:xfrm>
            <a:off x="2484360" y="3638520"/>
            <a:ext cx="4057560" cy="25988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ение те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ение иде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ая мысль высказы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иль и тип реч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ение художественных средств и фигур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Горизонтальный свиток 5"/>
          <p:cNvSpPr/>
          <p:nvPr/>
        </p:nvSpPr>
        <p:spPr>
          <a:xfrm>
            <a:off x="1835280" y="2427120"/>
            <a:ext cx="5761080" cy="863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Лингвистический анализ текс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ашивка 6"/>
          <p:cNvSpPr/>
          <p:nvPr/>
        </p:nvSpPr>
        <p:spPr>
          <a:xfrm>
            <a:off x="6338880" y="3814920"/>
            <a:ext cx="738360" cy="1990440"/>
          </a:xfrm>
          <a:custGeom>
            <a:avLst/>
            <a:gdLst>
              <a:gd name="textAreaLeft" fmla="*/ 0 w 738360"/>
              <a:gd name="textAreaRight" fmla="*/ 738720 w 738360"/>
              <a:gd name="textAreaTop" fmla="*/ 0 h 1990440"/>
              <a:gd name="textAreaBottom" fmla="*/ 1990800 h 19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ашивка 7"/>
          <p:cNvSpPr/>
          <p:nvPr/>
        </p:nvSpPr>
        <p:spPr>
          <a:xfrm rot="10800000">
            <a:off x="1982520" y="3939840"/>
            <a:ext cx="772920" cy="1994040"/>
          </a:xfrm>
          <a:custGeom>
            <a:avLst/>
            <a:gdLst>
              <a:gd name="textAreaLeft" fmla="*/ 0 w 772920"/>
              <a:gd name="textAreaRight" fmla="*/ 773280 w 772920"/>
              <a:gd name="textAreaTop" fmla="*/ 0 h 1994040"/>
              <a:gd name="textAreaBottom" fmla="*/ 1994400 h 19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TextBox 8" descr=""/>
          <p:cNvPicPr/>
          <p:nvPr/>
        </p:nvPicPr>
        <p:blipFill>
          <a:blip r:embed="rId1"/>
          <a:stretch/>
        </p:blipFill>
        <p:spPr>
          <a:xfrm>
            <a:off x="158760" y="2871720"/>
            <a:ext cx="2413080" cy="3090960"/>
          </a:xfrm>
          <a:prstGeom prst="rect">
            <a:avLst/>
          </a:prstGeom>
          <a:ln w="0">
            <a:noFill/>
          </a:ln>
        </p:spPr>
      </p:pic>
      <p:sp>
        <p:nvSpPr>
          <p:cNvPr id="71" name="TextBox 9"/>
          <p:cNvSpPr/>
          <p:nvPr/>
        </p:nvSpPr>
        <p:spPr>
          <a:xfrm rot="19725000">
            <a:off x="7084080" y="3056040"/>
            <a:ext cx="146016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их способн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имеры 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477720" y="1197000"/>
            <a:ext cx="82296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проблемного характера к рассказу А.И. Солженицы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атрёнин двор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кажите об окружающем мире Матрё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боролась Матрёна с обидами, которые наносила ей жизн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относились к Матрёне родные, соседи, односельчан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автор отводит значительное место сцене похоро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о можно назвать самой страшной фигурой в рассказе? Почем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новата ли Матрёна, что Фаддей стал таким? Объясни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вы думаете, гибель Матрёны – это стечение случайных обстоятельств или некая закономерность? Объясни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Матрёна  - праведница? Можно ли назвать её свято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тречались ли вам такие люди, как Матрёна? Расскажите о случаях проявления в поступках людей бескорыстия, милосердия по отношению к людям, живот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611280" y="765000"/>
            <a:ext cx="7848360" cy="43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е понимать подтекст, видеть скрытый смыс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.С. Тургенев «Отцы и дети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ава «Приезд Базарова в родительский дом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-зада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тели Базарова – люди небогатые, но бедность свою старательно скрывают. Найдите в тексте эпизоды, слова, подтверждающие эту бедность. Поиск, анализ подтекста, исторические и временные подсказки помогают выяснить, что иметь во владении 22 души – это очень мало; становится понятен окрик хозяина дворовой девочке Танюшке: «На подносе, слышишь!?» ребята приходят к выводу, что раньше девочка приносила барыне стакан воды без подноса, теперь же. При госте, нужно соблюдать приличия и подать. Как полагалось в богатых домах – на подносе. В одном только этом отрывке ребята находят более  десятка таких призна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Unit</cp:lastModifiedBy>
  <dcterms:modified xsi:type="dcterms:W3CDTF">2023-02-12T12:18:50Z</dcterms:modified>
  <cp:revision>41</cp:revision>
  <dc:subject/>
  <dc:title>Шаблон презентации</dc:title>
</cp:coreProperties>
</file>