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dt" idx="6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 type="ftr" idx="6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6"/>
          <p:cNvSpPr>
            <a:spLocks noGrp="1"/>
          </p:cNvSpPr>
          <p:nvPr>
            <p:ph type="sldNum" idx="6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D525-E605-42B6-B414-42A01EAFF2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67E5-3E97-49E2-9629-81EEECA953F3}" type="slidenum">
              <a:rPr b="1" i="1" lang="ru-RU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117C-5B3E-4094-9EC3-63D6FF82B81A}" type="slidenum">
              <a:rPr b="1" i="1" lang="ru-RU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200" spc="-1" strike="noStrike">
              <a:solidFill>
                <a:srgbClr val="00ff00"/>
              </a:solidFill>
              <a:latin typeface="Arial"/>
              <a:ea typeface="Times New Roman"/>
            </a:endParaRPr>
          </a:p>
        </p:txBody>
      </p:sp>
      <p:sp>
        <p:nvSpPr>
          <p:cNvPr id="1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4D14-14E5-425B-8F6A-2D1846EC4DCA}" type="slidenum">
              <a:rPr b="1" i="1" lang="ru-RU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1E45-03CD-4458-BA01-B96F47A9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5A0A-F28C-4813-BC10-1FCA7A67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87E97-B749-4F7C-8367-9A8BED9A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5014B-0CCE-4111-B25F-DA839BCD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4D934-9B6F-49EE-820E-0F96B3F8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E1A3B7-FFC2-4E67-87B3-D230CF2A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BD04B-DAA0-4A18-A157-EF01F7EB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DE29C-4BBB-42BE-8F59-8AAD0BAA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67ED7-88AD-4565-B04D-21728B28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518E6-1098-4D5B-9357-E18EE436F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D7F1B-314E-465D-A6B1-C69A630F8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EC11ED-5164-440B-81A0-5C8ADD449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9453-01F8-481D-916C-1BC086207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BEC93-131F-4254-A23B-E6E9F33A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276440-EA3B-4A91-A029-43C8C7D6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F30ED6-CD70-474F-B43D-A56BE147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523398-3F49-4DD0-A233-5C9B429F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CFD7DD-7930-4966-8A78-5324CF6A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B375EA-8A51-47D5-8895-BF6652F1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98C28-74E6-4861-8989-5215D79F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AA231C-D2B7-47A6-9FDE-8A5C2C4B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10304B-DFF9-449D-8A1B-0197C8B2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096D9-269E-4983-9B6E-87AAED655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4082-5974-41BD-8C3D-1845F7329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4EFD7D-B854-41B0-9DA1-21C02F138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E1D3C-9085-43C8-AEBA-C9F8A79C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7DC63-B5E5-477C-9485-16EE065E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0C2AC-3FF0-4EA7-9417-2409CF80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9E25A-FB41-4A8E-8B14-3D9CD159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541BB-4CD3-4E7D-8BB2-95E6937F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395B1-0972-45B9-B864-D40C2D39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AFF59-16B4-40B9-BD13-E8E452A5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8D9D7-379D-4FB2-BA74-4EC584CE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78469-BDB0-4C66-84F0-6F2AEEBA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6C95-A78C-4D8A-89F5-D01F5C03F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0692A-DED7-48AE-8162-4FA2FA13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E4351-EFB0-4643-A7CA-F6E46E2F4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E66AF-B57A-42CE-AEF8-C96200A2D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4AB410-0124-4246-AEE7-F92CDF2E5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51C051-38D5-4639-B735-F28EE010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AA8FE-065B-46A9-988B-9725C25C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72810C-2F27-4088-95B6-1C832D3F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6AB3E2-ED62-4435-80BA-C80B33A2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D9A659-60CA-4522-84C9-8EDE9747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1DD2DE-88F4-4E18-9B81-D450D304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CB26-9A70-40AB-9B69-257A4335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57D125-A43F-41E1-91C3-52A96558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9F33F2-4365-467C-83D5-97C13EB2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DEC330-A801-42AE-8EA5-F4439E00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0D3D1-5E55-4BD1-8BE0-6AF700632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35FD9E-4527-485A-8FD5-56D907A1D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E29CC2-B941-4ED0-BA21-9B1635BDC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D4B06B-F4DC-490E-B4C7-1A681DB1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A3E2B5-C01B-4919-ABCF-BC569BA8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6A989A-06CF-4328-A944-44FE9C7D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76F3FA-1783-4181-82E2-5C4EE8B3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8201-E162-4631-8EE9-9B4ACFA9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2A648D-873B-45F4-9A54-27446F2C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520587-9114-482E-BF43-4A956DA1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ACD5B7-7B0B-4056-92A3-99FCD28E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2B9FF8-1FD6-4A9B-8A49-0E424611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509BE8-91BF-4AEC-8F53-C9158E14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DA0D54-DB62-4A31-9FEB-0272551E3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1F9D42-3F1B-44C7-BC3C-EA847FB36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C2F4EC-716F-4232-A57E-E3829BA08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19BB49-8CCD-49EA-AE67-8822CAC8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5B2ADE-CE20-4A32-8CAB-52D11896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AC4E-03A6-43A8-8E38-CE6DF740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50B1EF-F51E-485F-8B67-FA482C3F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01ABE8-433E-4086-971F-EE281E8E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D513BE-8692-4F55-A254-B6880C8E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DDD3E2-2D95-421D-9589-D3BC3A49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9A5DDF-2385-4FA5-A0C9-62536ABC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236B93-D4BB-4BB9-80F9-699B5C53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903A3D-E21D-47A1-A16E-71DA84D4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736547-4A5C-47DA-8CD2-A96300DB8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EE9F28-D3A1-4B5F-8446-217316C31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84C8B5-9851-418F-AA77-4E0C4B7A4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C217-0D6F-4742-A4F1-A4CDD780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EC2E05-283F-448D-93E2-2E922F3E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EB84BC-9B66-47DD-A901-77E95BF0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121401-EDD5-4F2C-9298-62B64ACA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CAE1A5-0439-45C0-BAF1-208F50B2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AA0E8F-557D-49DC-9794-F99A9385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F66745-AE92-4194-8D90-DDB532BE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0F0970-7F29-4887-9956-D58885CC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9BA2C2-630F-4076-BDD7-840991CF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4DC21C-5855-4980-B2F0-3E4090DC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2F7D7E-2E95-42F5-B77F-0DEFE60D5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EFF3-38E2-462B-9250-4EB45643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22FC96-B41B-4CCC-AF9F-11B11F713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C0C57E-FDCA-4A93-AC87-344953D99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B52089-4F3E-4822-A6A6-66D1BD4F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70D1AE-107B-41AD-A052-D5715A96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D555D1-93BB-435E-B57C-16FC8952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0CA38E-AA60-4D94-A747-73576F7F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AA5E3F-8116-4321-A2F6-A3EC14F2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F4736E-948A-4045-B35E-8FF2AEC4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3C950A-D62B-4980-B506-F783D195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A5ED3C-A5B1-4A35-AF46-6A0EA81A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6B18-1304-4737-9295-27271516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9E7729-8833-4D3B-A538-9DD1C6D1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720EF6-FC77-46FD-8F73-D3DE26D0C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5D3331-4265-4FDA-84D4-9AE330306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F8BF66-1A6B-45E0-8C72-B2715D112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AE3A15-4CC7-4BBD-BE8F-D792A770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A1E5FD-5727-4D44-83BD-0CB23DCE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898AAB-B3AC-41E9-9E77-29814E24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7E7CFC-46A7-44AE-9AE3-F44E009E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E7FABF-469A-4A61-ABE8-2EC658B9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825A9D-10A5-4D8C-B730-58FAFB87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F918-7BBA-4FDE-B203-FA779BC4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AC8F-D39E-4E59-9B6D-D8AB03F0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C0382F-6283-469F-BC07-A5088D40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BF3DDE-C178-4091-A99D-4E13247B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710AA3-E316-4540-A1AA-7E5BC15E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D03EE0-BE23-42E2-8CB0-95473A501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35DADA-45AA-492E-9868-E17860087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5A7E78-1D0B-4F71-8B7A-E288FE698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D78698-1DA7-4200-AEEF-6DAC7E20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95A535-3929-465F-89CE-06046A33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16DD48-6B40-414D-8CED-78FCEFCC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8D9296-593A-4223-B0F7-23CA53CE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99C4-4C4C-45C2-8643-0389CEFC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155A31-23EF-4B80-9677-5D35AF35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E9F930-592B-46C2-97FA-D1A99272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F433D4-A98C-475F-9884-5D2C6546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33F72F-9EE1-4A08-AD00-7563B75C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1CE7A5-6AFD-4D60-9382-120E7159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38ED46-C39A-4333-96D5-94ED01F05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0DA693-61CB-4CED-8A82-FAB32FE35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28DD14-50B3-4ECB-B24A-0DDE51ED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0A4C87-1ECA-42B9-BEC7-395DD9B6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3E9AE0-94CA-4A17-8076-79627248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5C79-F391-4C80-B130-4C08AEF7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3924D3-BB9B-4679-9941-5B84B98A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DCD22B-A094-4AB8-BEA6-8FD1D38D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E8401A-9A4F-42F5-AA96-6C699955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78D843-4BF9-43DB-9C62-C26871A8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C5170B-3DEA-49E9-A692-DB46B385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DE13A8-EBDF-4005-BAE6-19C2F7C8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4ED4BA-CC02-4A2A-B1A8-CD8246C9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4AE522-BC95-418E-9C02-E40E6B7B0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76A76B-1A2A-4EBB-906A-EB64080A2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AD3878-F621-40AD-A0E6-6FE109129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FC9F-FEE1-47BF-AC92-5736AD48C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F6ECA2-21CC-4828-B959-5E9DD072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8C0EFE-DCF2-455C-9772-4965993D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BB03B0-A398-48C5-9DE3-A69EB4D2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1B8B7B-1231-4F94-9579-41F28647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E6F60C-D2FB-42C6-94D3-C63740E2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68CC65-195D-43FD-AD07-F796F25F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0A6214-5636-4FB9-97CE-7A50FD45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405BF3-29E7-4EAF-9BC4-F249B5CD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3BDFF9-AD08-48B4-A1F3-4DAC9E7D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E43516-6D45-4DEE-9C2A-BAEE880A0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9E18-15F3-4610-84C8-AD0483869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3F495B-F807-4BBB-8AE4-6A10ACA0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E8E5D-A8BE-4556-A576-B98421DDA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7B63F-A021-4750-B082-1174E494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D5FE7-761F-4714-A62F-1718F40B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1F846-1C86-42F3-A08A-BACE1B31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AA0E7-C0EB-4DC4-AEE3-93473929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A697-4059-426E-A27F-3A9929A1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FF596-7A6F-4FDF-B7FB-DE90117F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4A00E-FBD3-431F-8A04-123B8A11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E8561-1511-4C93-91D2-75F9D749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A9F53-E462-4DFE-94D0-C8273CD7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6C65E-A523-4E87-92EE-0938758F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C7DC9-49F0-4D18-85EF-9B5C23119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8D1B5-08EC-4B4F-8C38-DE1650F5A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E74D8-5A21-4E8C-8DAC-A6B7C9859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4598D-FC2B-4BA3-A414-2D98A181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FBB04-C3C3-4C8F-9D3B-075D7883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3AFE-6C94-4F58-9855-F6BA8D6A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96F72-ABB3-46C1-9C78-DE0D0B0A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0FE82-A6A9-47DE-89EE-128A752D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8E9DD-104A-41F2-A087-715ACCB7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FF847-E5A0-42F4-B035-6C667C41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746A6-56B8-49D6-A4D1-F49D9DC1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C6237-78E5-4F61-AA10-A5501B3C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E9DA6-CB48-41AB-856A-A1CBB4FE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79771-7C2C-4794-B447-51B5BAD70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8E002-523B-4633-8875-5F65D3178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507F0-A505-433C-9480-947BEA470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0A8B-AA12-452A-87E4-9C1C9D1F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29037-2DCF-442C-9D70-AFE57063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C9088-2FE1-4F40-AA98-01113792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7F2AD-1F19-47B4-A940-07D815F1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92A85-FD3E-4593-A208-C714245B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59408-0C63-41AE-9D92-5BD47835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477E6-6492-4A3E-A127-A9F87288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F439A-0F1B-4CA2-8EA9-BA551AEE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12CA0-1255-4C66-B8BB-F3A25ECA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4666F-9CCC-483D-A75C-82A73CF6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09E1E-BB89-4073-87F0-D37D29BE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C6CC-610F-4A06-8C50-9BDBE088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6A8BD-A476-495C-8309-35BD21578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00C5C-94D4-419D-A748-80A86DE23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77616-8200-4753-9A7C-B2940566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77E98-2AE8-486A-8BC9-39EBFDE7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13F3D-852B-4E29-A563-A046F688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83FEE-BCD1-4F60-8E6E-965370D2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3522D-2740-4365-8FB3-59D1DA0C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BDA32-B336-4845-BF22-C7BABFCF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B82A2-D019-48D5-8A19-B07B8346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DB3CB-B374-40EC-A027-413B0EFB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D42E-A227-4DE7-95AD-737A2FDA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CA364-C329-4810-8063-380E42BF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0DDB0-3A79-4DED-AB33-3E9AE7A42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ED601-5624-4F52-9F40-0067EB6AE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477C8-86EC-403B-AAEC-11A1ACB83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1815F-339C-4F4E-81FE-A044C028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9F515-942A-4B2A-AB12-66C70244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E6CD4-8732-4146-BA54-DF0C2ECE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F1F84-3930-4F84-911E-D9D6AAC3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C8888-6735-4C8A-8802-5D8474C3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32C93-0B80-4659-9E66-3996AC08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AC4B-84F9-4DD6-8F65-61255046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20545-2BD2-4630-8DF8-7C9690D5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DE1E2-EAF7-45FA-A02C-A2CED8CC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0D9AE-2150-4D00-8986-08D2D6D8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57DF7-9EF8-4401-8AA9-756CF514B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95286-85BB-4049-B97E-22F49DF05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0F383-2E89-4414-9FB0-4BBBDEE41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4748C-D481-46F3-ACC0-C98987D6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B7ABF-2357-44BC-B1D4-FD03EB93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3AD34-A2D5-4277-8646-E3E94F3D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379A8-1A66-442F-9EBB-15C2D392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B762-B0A1-4ACB-BEA3-3BCCD068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A0F51-2E1A-48A1-B766-2C7B8CB0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0F268-11A0-4FE9-94CE-AFCAC982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C9C1E-3D99-44F2-A1CB-A6090915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08804-8CFD-48D6-A723-78722741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C7924-30CA-4FA6-AF51-E5C052B3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FF83A-998D-4E73-8A57-80F3B3DCD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05A22-AFC3-44FB-9E1B-AD797DE17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AAA51-E973-4AC3-847C-2A0099FEE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F78CA-82CF-4E1E-B736-C3F3B815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40AC9-7AD3-4686-B755-86FD07CB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33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4A25-E1C7-4540-B1E2-18E1AED6F87E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33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66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67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68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69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70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71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72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73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74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75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76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77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78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79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80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BA59-FBB2-4961-A00D-8F0A456C0BF4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33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23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24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25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26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27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28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34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35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36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37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656F-1D1A-4DC1-B312-3FF2AB9A123B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33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0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81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82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83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84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85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86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87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88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89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90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91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92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93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94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1FB9-C770-4755-BC92-69683125C20E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33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637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38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39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40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41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42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43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44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45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46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47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48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49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50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51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8833-DBB2-4187-B8A9-E7018C454B3E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33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694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95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96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97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98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99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00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01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02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03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04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05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06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07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08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3228-2E69-46DC-B591-8C9ACF0569B9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33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75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5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5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5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5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5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5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5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5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43EE-D65E-4867-A910-D45EB3DCB79B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33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0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0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1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1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1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1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1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1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1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1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1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1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2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2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2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E0B2-F43C-40FD-8407-9810A872C36C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33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65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66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67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68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69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70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71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72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grpSp>
        <p:nvGrpSpPr>
          <p:cNvPr id="87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874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75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76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77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78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79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4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5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5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D236-5BD1-4556-88D4-2D6AC5EE90C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33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1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2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23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600" spc="-1" strike="noStrike">
                  <a:solidFill>
                    <a:srgbClr val="800000"/>
                  </a:solidFill>
                  <a:latin typeface="Arial"/>
                </a:endParaRPr>
              </a:p>
            </p:txBody>
          </p:sp>
          <p:sp>
            <p:nvSpPr>
              <p:cNvPr id="924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600" spc="-1" strike="noStrike">
                  <a:solidFill>
                    <a:srgbClr val="800000"/>
                  </a:solidFill>
                  <a:latin typeface="Arial"/>
                </a:endParaRPr>
              </a:p>
            </p:txBody>
          </p:sp>
          <p:sp>
            <p:nvSpPr>
              <p:cNvPr id="925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959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600" spc="-1" strike="noStrike">
                  <a:solidFill>
                    <a:srgbClr val="800000"/>
                  </a:solidFill>
                  <a:latin typeface="Arial"/>
                </a:endParaRPr>
              </a:p>
            </p:txBody>
          </p:sp>
          <p:sp>
            <p:nvSpPr>
              <p:cNvPr id="926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600" spc="-1" strike="noStrike">
                  <a:solidFill>
                    <a:srgbClr val="800000"/>
                  </a:solidFill>
                  <a:latin typeface="Arial"/>
                </a:endParaRPr>
              </a:p>
            </p:txBody>
          </p:sp>
          <p:sp>
            <p:nvSpPr>
              <p:cNvPr id="927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4e60"/>
                  </a:gs>
                  <a:gs pos="100000">
                    <a:srgbClr val="51596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600" spc="-1" strike="noStrike">
                  <a:solidFill>
                    <a:srgbClr val="800000"/>
                  </a:solidFill>
                  <a:latin typeface="Arial"/>
                </a:endParaRPr>
              </a:p>
            </p:txBody>
          </p:sp>
        </p:grpSp>
        <p:sp>
          <p:nvSpPr>
            <p:cNvPr id="928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54b5c"/>
                </a:gs>
                <a:gs pos="100000">
                  <a:srgbClr val="5159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29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grpSp>
        <p:nvGrpSpPr>
          <p:cNvPr id="93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3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600" spc="-1" strike="noStrike">
                  <a:solidFill>
                    <a:srgbClr val="800000"/>
                  </a:solidFill>
                  <a:latin typeface="Arial"/>
                </a:endParaRPr>
              </a:p>
            </p:txBody>
          </p:sp>
          <p:sp>
            <p:nvSpPr>
              <p:cNvPr id="93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600" spc="-1" strike="noStrike">
                  <a:solidFill>
                    <a:srgbClr val="800000"/>
                  </a:solidFill>
                  <a:latin typeface="Arial"/>
                </a:endParaRPr>
              </a:p>
            </p:txBody>
          </p:sp>
          <p:sp>
            <p:nvSpPr>
              <p:cNvPr id="93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959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600" spc="-1" strike="noStrike">
                  <a:solidFill>
                    <a:srgbClr val="800000"/>
                  </a:solidFill>
                  <a:latin typeface="Arial"/>
                </a:endParaRPr>
              </a:p>
            </p:txBody>
          </p:sp>
          <p:sp>
            <p:nvSpPr>
              <p:cNvPr id="93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600" spc="-1" strike="noStrike">
                  <a:solidFill>
                    <a:srgbClr val="800000"/>
                  </a:solidFill>
                  <a:latin typeface="Arial"/>
                </a:endParaRPr>
              </a:p>
            </p:txBody>
          </p:sp>
          <p:sp>
            <p:nvSpPr>
              <p:cNvPr id="93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4e60"/>
                  </a:gs>
                  <a:gs pos="100000">
                    <a:srgbClr val="51596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600" spc="-1" strike="noStrike">
                  <a:solidFill>
                    <a:srgbClr val="800000"/>
                  </a:solidFill>
                  <a:latin typeface="Arial"/>
                </a:endParaRPr>
              </a:p>
            </p:txBody>
          </p:sp>
        </p:grpSp>
        <p:sp>
          <p:nvSpPr>
            <p:cNvPr id="93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54b5c"/>
                </a:gs>
                <a:gs pos="100000">
                  <a:srgbClr val="5159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3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 type="dt" idx="5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 type="ftr" idx="5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63AA-AF42-4679-A2D2-20D2AA945A3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33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3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1" name="Rectangle 4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3" name="Rectangle 6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4" name="Rectangle 7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5" name="Rectangle 8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6" name="Rectangle 9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7" name="Rectangle 10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8" name="Rectangle 11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9" name="Rectangle 12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90" name="Rectangle 13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991" name="Group 14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992" name="Rectangle 15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93" name="Rectangle 16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grpSp>
        <p:nvGrpSpPr>
          <p:cNvPr id="994" name="Group 21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995" name="Rectangle 22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96" name="Rectangle 23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97" name="Rectangle 24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98" name="Rectangle 25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999" name="Line 2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1001" name="Group 6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1002" name="Rectangle 7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03" name="Rectangle 8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04" name="Rectangle 9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05" name="Rectangle 10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06" name="Rectangle 11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07" name="Rectangle 12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grpSp>
        <p:nvGrpSpPr>
          <p:cNvPr id="1008" name="Group 13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1009" name="Rectangle 14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10" name="Rectangle 15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11" name="Rectangle 16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12" name="Rectangle 17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13" name="Rectangle 18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14" name="Rectangle 19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1015" name="Rectangle 20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6" name="Rectangle 21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7" name="Rectangle 22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dt" idx="55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ftr" idx="56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 type="sldNum" idx="57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568B-BA2D-4207-A790-7A9888AECC34}" type="slidenum"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33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155D-4556-49A3-B853-B3F87F6A588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33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060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8c8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61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4651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62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grpSp>
        <p:nvGrpSpPr>
          <p:cNvPr id="1063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064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65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8c8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66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4651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ffff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f8f8f8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f8f8f8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f8f8f8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f8f8f8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f8f8f8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f8f8f8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DCC1-8314-4DED-9A3A-290850C3078F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33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1A0F-9EEB-4DFF-AAF7-99ECF7CEAEF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33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FA76-7799-48B5-B405-6399F6910798}" type="slidenum"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33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ffff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f8f8f8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f8f8f8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f8f8f8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f8f8f8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f8f8f8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f8f8f8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A5F4-C848-408D-9DD0-356DC81A983E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33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2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2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2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2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2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2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2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2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3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3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3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3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3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3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3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grpSp>
        <p:nvGrpSpPr>
          <p:cNvPr id="23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3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3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4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4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4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4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4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4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4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4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4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5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5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5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A149-9D3B-4587-930F-FB5AACB0FE47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33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9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9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9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9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9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0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0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0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0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0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0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0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0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0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0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1006-2ADF-4D93-A7C1-8071CD2134C2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33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5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5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5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5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5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5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6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6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6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6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27D1-D985-4411-9FE7-F6B2B3B27C55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33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09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10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11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12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13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14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15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16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17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18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19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20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21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22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23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C8AA-E896-4E60-A0FA-A6AB05C939CB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" TargetMode="External"/><Relationship Id="rId2" Type="http://schemas.openxmlformats.org/officeDocument/2006/relationships/hyperlink" Target="http://pribaikal.ru/obl-inhabitant.html" TargetMode="External"/><Relationship Id="rId3" Type="http://schemas.openxmlformats.org/officeDocument/2006/relationships/hyperlink" Target="http://baikalart.ru/" TargetMode="External"/><Relationship Id="rId4" Type="http://schemas.openxmlformats.org/officeDocument/2006/relationships/hyperlink" Target="http://samih.narod.ru/" TargetMode="External"/><Relationship Id="rId5" Type="http://schemas.openxmlformats.org/officeDocument/2006/relationships/hyperlink" Target="http://filarmoniya.irk.ru/" TargetMode="External"/><Relationship Id="rId6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WordArt 5"/>
          <p:cNvSpPr txBox="1"/>
          <p:nvPr/>
        </p:nvSpPr>
        <p:spPr>
          <a:xfrm rot="21340200">
            <a:off x="533520" y="228600"/>
            <a:ext cx="37116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НАШ  КРАЙ</a:t>
            </a:r>
            <a:endParaRPr b="1" i="1" lang="en-US" sz="16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116" name="WordArt 6"/>
          <p:cNvSpPr txBox="1"/>
          <p:nvPr/>
        </p:nvSpPr>
        <p:spPr>
          <a:xfrm rot="21001800">
            <a:off x="2209320" y="761760"/>
            <a:ext cx="66866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БОГАТ  ТАЛАНТАМИ</a:t>
            </a:r>
            <a:endParaRPr b="1" i="1" lang="en-US" sz="16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117" name="Picture 8" descr=""/>
          <p:cNvPicPr/>
          <p:nvPr/>
        </p:nvPicPr>
        <p:blipFill>
          <a:blip r:embed="rId1"/>
          <a:stretch/>
        </p:blipFill>
        <p:spPr>
          <a:xfrm>
            <a:off x="0" y="3225960"/>
            <a:ext cx="5010120" cy="3632040"/>
          </a:xfrm>
          <a:prstGeom prst="rect">
            <a:avLst/>
          </a:prstGeom>
          <a:ln w="0">
            <a:noFill/>
          </a:ln>
        </p:spPr>
      </p:pic>
      <p:sp>
        <p:nvSpPr>
          <p:cNvPr id="1118" name="Rectangle 9"/>
          <p:cNvSpPr/>
          <p:nvPr/>
        </p:nvSpPr>
        <p:spPr>
          <a:xfrm>
            <a:off x="3585960" y="5061600"/>
            <a:ext cx="5617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                                           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Авторы: Аушева М.М., воспитатель;</a:t>
            </a:r>
            <a:endParaRPr b="1" i="1" lang="en-US" sz="1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         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Григорьева Т.С.,</a:t>
            </a:r>
            <a:endParaRPr b="1" i="1" lang="en-US" sz="1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                                 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музыкальный руководитель;</a:t>
            </a:r>
            <a:endParaRPr b="1" i="1" lang="en-US" sz="1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Москаленко В.В.,</a:t>
            </a:r>
            <a:endParaRPr b="1" i="1" lang="en-US" sz="1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                                     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заместитель заведующей по ВР</a:t>
            </a:r>
            <a:endParaRPr b="1" i="1" lang="en-US" sz="1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МБДОУ №37 «Солнышко»</a:t>
            </a:r>
            <a:endParaRPr b="1" i="1" lang="en-US" sz="1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Усть-Илимска</a:t>
            </a:r>
            <a:endParaRPr b="1" i="1" lang="en-US" sz="1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19" name="Григоруцэ Детские впечатления 25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Список использованных источников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Verdana"/>
              </a:rPr>
              <a:t>Звёзды на Байкале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ru.wikipedia.org/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Verdana"/>
              </a:rPr>
              <a:t>Прибайкалье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http://pribaikal.ru/obl-inhabitant.html</a:t>
            </a:r>
            <a:r>
              <a:rPr b="1" lang="ru-RU" sz="1600" spc="-1" strike="noStrike">
                <a:solidFill>
                  <a:srgbClr val="9933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Verdana"/>
              </a:rPr>
              <a:t>Культура Приангарья 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http://baikalart.ru/</a:t>
            </a:r>
            <a:r>
              <a:rPr b="1" lang="ru-RU" sz="1600" spc="-1" strike="noStrike">
                <a:solidFill>
                  <a:srgbClr val="9933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Композиторы Приангарья – детям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Arial"/>
                <a:hlinkClick r:id="rId4"/>
              </a:rPr>
              <a:t>http://samih.narod.ru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Губернаторский симфонический оркестр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Arial"/>
                <a:hlinkClick r:id="rId5"/>
              </a:rPr>
              <a:t>http://filarmoniya.irk.ru/</a:t>
            </a: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Picture 4" descr=""/>
          <p:cNvPicPr/>
          <p:nvPr/>
        </p:nvPicPr>
        <p:blipFill>
          <a:blip r:embed="rId1"/>
          <a:stretch/>
        </p:blipFill>
        <p:spPr>
          <a:xfrm>
            <a:off x="4648320" y="3886200"/>
            <a:ext cx="4051080" cy="2700360"/>
          </a:xfrm>
          <a:prstGeom prst="rect">
            <a:avLst/>
          </a:prstGeom>
          <a:ln w="0">
            <a:noFill/>
          </a:ln>
        </p:spPr>
      </p:pic>
      <p:sp>
        <p:nvSpPr>
          <p:cNvPr id="1121" name="Rectangle 5"/>
          <p:cNvSpPr/>
          <p:nvPr/>
        </p:nvSpPr>
        <p:spPr>
          <a:xfrm>
            <a:off x="5867280" y="689400"/>
            <a:ext cx="2832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Иркутская Областная Филармония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22" name="Picture 5" descr="ork"/>
          <p:cNvPicPr/>
          <p:nvPr/>
        </p:nvPicPr>
        <p:blipFill>
          <a:blip r:embed="rId2"/>
          <a:stretch/>
        </p:blipFill>
        <p:spPr>
          <a:xfrm>
            <a:off x="228600" y="152280"/>
            <a:ext cx="5076720" cy="3619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3" name="Picture 5" descr=""/>
          <p:cNvPicPr/>
          <p:nvPr/>
        </p:nvPicPr>
        <p:blipFill>
          <a:blip r:embed="rId1"/>
          <a:stretch/>
        </p:blipFill>
        <p:spPr>
          <a:xfrm>
            <a:off x="487440" y="693720"/>
            <a:ext cx="1933560" cy="2887560"/>
          </a:xfrm>
          <a:prstGeom prst="rect">
            <a:avLst/>
          </a:prstGeom>
          <a:ln w="0">
            <a:noFill/>
          </a:ln>
        </p:spPr>
      </p:pic>
      <p:sp>
        <p:nvSpPr>
          <p:cNvPr id="1124" name="Rectangle 7"/>
          <p:cNvSpPr/>
          <p:nvPr/>
        </p:nvSpPr>
        <p:spPr>
          <a:xfrm>
            <a:off x="2971800" y="83808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Главный дирижер и художественный руководитель Губернаторского симфонического</a:t>
            </a: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оркестра Иркутской области   Заслуженный деятель искусств РСФСР, Илмар Лапиньш</a:t>
            </a: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25" name="Picture 6" descr=""/>
          <p:cNvPicPr/>
          <p:nvPr/>
        </p:nvPicPr>
        <p:blipFill>
          <a:blip r:embed="rId2"/>
          <a:stretch/>
        </p:blipFill>
        <p:spPr>
          <a:xfrm>
            <a:off x="5867280" y="3214800"/>
            <a:ext cx="2644920" cy="3133440"/>
          </a:xfrm>
          <a:prstGeom prst="rect">
            <a:avLst/>
          </a:prstGeom>
          <a:ln w="0">
            <a:noFill/>
          </a:ln>
        </p:spPr>
      </p:pic>
      <p:sp>
        <p:nvSpPr>
          <p:cNvPr id="1126" name="Прямоугольник 1"/>
          <p:cNvSpPr/>
          <p:nvPr/>
        </p:nvSpPr>
        <p:spPr>
          <a:xfrm>
            <a:off x="838080" y="518148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Известный музыкант</a:t>
            </a: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пианист</a:t>
            </a: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Константин Сероватов</a:t>
            </a: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Picture 5" descr=""/>
          <p:cNvPicPr/>
          <p:nvPr/>
        </p:nvPicPr>
        <p:blipFill>
          <a:blip r:embed="rId1"/>
          <a:stretch/>
        </p:blipFill>
        <p:spPr>
          <a:xfrm>
            <a:off x="318960" y="1244520"/>
            <a:ext cx="4305600" cy="2421000"/>
          </a:xfrm>
          <a:prstGeom prst="rect">
            <a:avLst/>
          </a:prstGeom>
          <a:ln w="0">
            <a:noFill/>
          </a:ln>
        </p:spPr>
      </p:pic>
      <p:sp>
        <p:nvSpPr>
          <p:cNvPr id="1128" name="Rectangle 6"/>
          <p:cNvSpPr/>
          <p:nvPr/>
        </p:nvSpPr>
        <p:spPr>
          <a:xfrm>
            <a:off x="228600" y="38088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ианист, народный  артист Российской Федерации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Денис Леонидович Мацуев</a:t>
            </a: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29" name="Picture 4" descr=""/>
          <p:cNvPicPr/>
          <p:nvPr/>
        </p:nvPicPr>
        <p:blipFill>
          <a:blip r:embed="rId2"/>
          <a:stretch/>
        </p:blipFill>
        <p:spPr>
          <a:xfrm>
            <a:off x="4800600" y="371484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Picture 4" descr=""/>
          <p:cNvPicPr/>
          <p:nvPr/>
        </p:nvPicPr>
        <p:blipFill>
          <a:blip r:embed="rId1"/>
          <a:stretch/>
        </p:blipFill>
        <p:spPr>
          <a:xfrm>
            <a:off x="4419720" y="3824280"/>
            <a:ext cx="1941480" cy="273384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5" descr=""/>
          <p:cNvPicPr/>
          <p:nvPr/>
        </p:nvPicPr>
        <p:blipFill>
          <a:blip r:embed="rId2"/>
          <a:stretch/>
        </p:blipFill>
        <p:spPr>
          <a:xfrm>
            <a:off x="7010280" y="4170240"/>
            <a:ext cx="1825920" cy="25765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4" descr=""/>
          <p:cNvPicPr/>
          <p:nvPr/>
        </p:nvPicPr>
        <p:blipFill>
          <a:blip r:embed="rId3"/>
          <a:stretch/>
        </p:blipFill>
        <p:spPr>
          <a:xfrm>
            <a:off x="380880" y="378000"/>
            <a:ext cx="4810320" cy="3203280"/>
          </a:xfrm>
          <a:prstGeom prst="rect">
            <a:avLst/>
          </a:prstGeom>
          <a:ln w="0">
            <a:noFill/>
          </a:ln>
        </p:spPr>
      </p:pic>
      <p:sp>
        <p:nvSpPr>
          <p:cNvPr id="1133" name="Прямоугольник 1"/>
          <p:cNvSpPr/>
          <p:nvPr/>
        </p:nvSpPr>
        <p:spPr>
          <a:xfrm>
            <a:off x="838080" y="4127400"/>
            <a:ext cx="2667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«Звёзды на Байкале»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— ежегодный международный </a:t>
            </a: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музыкальный фестиваль в Иркутске</a:t>
            </a: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Picture 4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164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5" name="Picture 4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229600" cy="5486400"/>
          </a:xfrm>
          <a:prstGeom prst="rect">
            <a:avLst/>
          </a:prstGeom>
          <a:ln w="0">
            <a:noFill/>
          </a:ln>
        </p:spPr>
      </p:pic>
      <p:sp>
        <p:nvSpPr>
          <p:cNvPr id="1136" name="Rectangle 5"/>
          <p:cNvSpPr/>
          <p:nvPr/>
        </p:nvSpPr>
        <p:spPr>
          <a:xfrm>
            <a:off x="838080" y="594360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Юные музыканты выступили на одной сцене с  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известными музыкантами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4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4002120" cy="2667240"/>
          </a:xfrm>
          <a:prstGeom prst="rect">
            <a:avLst/>
          </a:prstGeom>
          <a:ln w="0">
            <a:noFill/>
          </a:ln>
        </p:spPr>
      </p:pic>
      <p:sp>
        <p:nvSpPr>
          <p:cNvPr id="1138" name="Rectangle 5"/>
          <p:cNvSpPr/>
          <p:nvPr/>
        </p:nvSpPr>
        <p:spPr>
          <a:xfrm>
            <a:off x="5105520" y="913320"/>
            <a:ext cx="21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Органный зал  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39" name="Picture 6" descr=""/>
          <p:cNvPicPr/>
          <p:nvPr/>
        </p:nvPicPr>
        <p:blipFill>
          <a:blip r:embed="rId2"/>
          <a:stretch/>
        </p:blipFill>
        <p:spPr>
          <a:xfrm>
            <a:off x="4397400" y="3886200"/>
            <a:ext cx="3997440" cy="2660760"/>
          </a:xfrm>
          <a:prstGeom prst="rect">
            <a:avLst/>
          </a:prstGeom>
          <a:ln w="0">
            <a:noFill/>
          </a:ln>
        </p:spPr>
      </p:pic>
      <p:sp>
        <p:nvSpPr>
          <p:cNvPr id="1140" name="Прямоугольник 1"/>
          <p:cNvSpPr/>
          <p:nvPr/>
        </p:nvSpPr>
        <p:spPr>
          <a:xfrm>
            <a:off x="785880" y="5626080"/>
            <a:ext cx="319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0000"/>
                </a:solidFill>
                <a:latin typeface="Arial"/>
              </a:rPr>
              <a:t>Органистка</a:t>
            </a: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0000"/>
                </a:solidFill>
                <a:latin typeface="Arial"/>
              </a:rPr>
              <a:t>Яна Юденкова </a:t>
            </a: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1" name="Picture 4" descr=""/>
          <p:cNvPicPr/>
          <p:nvPr/>
        </p:nvPicPr>
        <p:blipFill>
          <a:blip r:embed="rId1"/>
          <a:stretch/>
        </p:blipFill>
        <p:spPr>
          <a:xfrm>
            <a:off x="533520" y="1082520"/>
            <a:ext cx="1457280" cy="2070360"/>
          </a:xfrm>
          <a:prstGeom prst="rect">
            <a:avLst/>
          </a:prstGeom>
          <a:ln w="0">
            <a:noFill/>
          </a:ln>
        </p:spPr>
      </p:pic>
      <p:sp>
        <p:nvSpPr>
          <p:cNvPr id="1142" name="Rectangle 5"/>
          <p:cNvSpPr/>
          <p:nvPr/>
        </p:nvSpPr>
        <p:spPr>
          <a:xfrm>
            <a:off x="410400" y="3217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Зоткин В. Г.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 </a:t>
            </a:r>
            <a:r>
              <a:rPr b="1" i="1" lang="ru-RU" sz="1600" spc="-1" strike="noStrike">
                <a:solidFill>
                  <a:srgbClr val="800000"/>
                </a:solidFill>
                <a:latin typeface="Arial"/>
              </a:rPr>
              <a:t> </a:t>
            </a: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43" name="Picture 7" descr=""/>
          <p:cNvPicPr/>
          <p:nvPr/>
        </p:nvPicPr>
        <p:blipFill>
          <a:blip r:embed="rId2"/>
          <a:stretch/>
        </p:blipFill>
        <p:spPr>
          <a:xfrm>
            <a:off x="2438280" y="1082520"/>
            <a:ext cx="1382760" cy="1936800"/>
          </a:xfrm>
          <a:prstGeom prst="rect">
            <a:avLst/>
          </a:prstGeom>
          <a:ln w="0">
            <a:noFill/>
          </a:ln>
        </p:spPr>
      </p:pic>
      <p:sp>
        <p:nvSpPr>
          <p:cNvPr id="1144" name="Rectangle 8"/>
          <p:cNvSpPr/>
          <p:nvPr/>
        </p:nvSpPr>
        <p:spPr>
          <a:xfrm>
            <a:off x="2376720" y="3235320"/>
            <a:ext cx="178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Янковская Л.В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 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5" name="Rectangle 9"/>
          <p:cNvSpPr/>
          <p:nvPr/>
        </p:nvSpPr>
        <p:spPr>
          <a:xfrm>
            <a:off x="1042200" y="320040"/>
            <a:ext cx="734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Известные композиторы Прибайкалья</a:t>
            </a:r>
            <a:endParaRPr b="1" i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46" name="Picture 6" descr=""/>
          <p:cNvPicPr/>
          <p:nvPr/>
        </p:nvPicPr>
        <p:blipFill>
          <a:blip r:embed="rId3"/>
          <a:stretch/>
        </p:blipFill>
        <p:spPr>
          <a:xfrm>
            <a:off x="4411800" y="1108080"/>
            <a:ext cx="1368360" cy="2044800"/>
          </a:xfrm>
          <a:prstGeom prst="rect">
            <a:avLst/>
          </a:prstGeom>
          <a:ln w="0">
            <a:noFill/>
          </a:ln>
        </p:spPr>
      </p:pic>
      <p:sp>
        <p:nvSpPr>
          <p:cNvPr id="1147" name="Rectangle 5"/>
          <p:cNvSpPr/>
          <p:nvPr/>
        </p:nvSpPr>
        <p:spPr>
          <a:xfrm>
            <a:off x="4296600" y="3296160"/>
            <a:ext cx="159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Тепляков А.И.</a:t>
            </a: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48" name="Picture 7" descr=""/>
          <p:cNvPicPr/>
          <p:nvPr/>
        </p:nvPicPr>
        <p:blipFill>
          <a:blip r:embed="rId4"/>
          <a:stretch/>
        </p:blipFill>
        <p:spPr>
          <a:xfrm>
            <a:off x="6477120" y="1138320"/>
            <a:ext cx="1593720" cy="2125440"/>
          </a:xfrm>
          <a:prstGeom prst="rect">
            <a:avLst/>
          </a:prstGeom>
          <a:ln w="0">
            <a:noFill/>
          </a:ln>
        </p:spPr>
      </p:pic>
      <p:sp>
        <p:nvSpPr>
          <p:cNvPr id="1149" name="Прямоугольник 1"/>
          <p:cNvSpPr/>
          <p:nvPr/>
        </p:nvSpPr>
        <p:spPr>
          <a:xfrm>
            <a:off x="6471720" y="3333600"/>
            <a:ext cx="170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Григоруцэ Д.Г.</a:t>
            </a:r>
            <a:r>
              <a:rPr b="1" i="1" lang="ru-RU" sz="1600" spc="-1" strike="noStrike">
                <a:solidFill>
                  <a:srgbClr val="800000"/>
                </a:solidFill>
                <a:latin typeface="Arial"/>
              </a:rPr>
              <a:t> </a:t>
            </a: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50" name="Picture 6" descr=""/>
          <p:cNvPicPr/>
          <p:nvPr/>
        </p:nvPicPr>
        <p:blipFill>
          <a:blip r:embed="rId5"/>
          <a:stretch/>
        </p:blipFill>
        <p:spPr>
          <a:xfrm>
            <a:off x="1785960" y="3816360"/>
            <a:ext cx="1406520" cy="1949400"/>
          </a:xfrm>
          <a:prstGeom prst="rect">
            <a:avLst/>
          </a:prstGeom>
          <a:ln w="0">
            <a:noFill/>
          </a:ln>
        </p:spPr>
      </p:pic>
      <p:sp>
        <p:nvSpPr>
          <p:cNvPr id="1151" name="Прямоугольник 2"/>
          <p:cNvSpPr/>
          <p:nvPr/>
        </p:nvSpPr>
        <p:spPr>
          <a:xfrm>
            <a:off x="1510200" y="6019920"/>
            <a:ext cx="195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Горбовская О.О.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 </a:t>
            </a:r>
            <a:r>
              <a:rPr b="1" i="1" lang="ru-RU" sz="1600" spc="-1" strike="noStrike">
                <a:solidFill>
                  <a:srgbClr val="800000"/>
                </a:solidFill>
                <a:latin typeface="Arial"/>
              </a:rPr>
              <a:t> </a:t>
            </a: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52" name="Picture 4" descr=""/>
          <p:cNvPicPr/>
          <p:nvPr/>
        </p:nvPicPr>
        <p:blipFill>
          <a:blip r:embed="rId6"/>
          <a:stretch/>
        </p:blipFill>
        <p:spPr>
          <a:xfrm>
            <a:off x="4184640" y="3816360"/>
            <a:ext cx="1357200" cy="2044800"/>
          </a:xfrm>
          <a:prstGeom prst="rect">
            <a:avLst/>
          </a:prstGeom>
          <a:ln w="0">
            <a:noFill/>
          </a:ln>
        </p:spPr>
      </p:pic>
      <p:sp>
        <p:nvSpPr>
          <p:cNvPr id="1153" name="Прямоугольник 3"/>
          <p:cNvSpPr/>
          <p:nvPr/>
        </p:nvSpPr>
        <p:spPr>
          <a:xfrm>
            <a:off x="3866040" y="6019920"/>
            <a:ext cx="177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Михайлов С.А.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 </a:t>
            </a:r>
            <a:r>
              <a:rPr b="1" i="1" lang="ru-RU" sz="1600" spc="-1" strike="noStrike">
                <a:solidFill>
                  <a:srgbClr val="800000"/>
                </a:solidFill>
                <a:latin typeface="Arial"/>
              </a:rPr>
              <a:t> </a:t>
            </a: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</cp:lastModifiedBy>
  <dcterms:modified xsi:type="dcterms:W3CDTF">2023-02-12T07:42:14Z</dcterms:modified>
  <cp:revision>10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