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C5A9-E2BA-4420-8C90-20D3D2C82F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83E1-111E-46EC-9F17-008AC2BEA2DA}" type="slidenum">
              <a:rPr b="1" i="1" lang="ru-RU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F7AF-16B1-4798-A824-C248EAD225CF}" type="slidenum">
              <a:rPr b="1" i="1" lang="ru-RU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>
              <a:solidFill>
                <a:srgbClr val="00ff00"/>
              </a:solidFill>
              <a:latin typeface="Arial"/>
              <a:ea typeface="Times New Roman"/>
            </a:endParaRPr>
          </a:p>
        </p:txBody>
      </p:sp>
      <p:sp>
        <p:nvSpPr>
          <p:cNvPr id="1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5C42-8F3B-4A4E-9C91-1E0574C23482}" type="slidenum">
              <a:rPr b="1" i="1" lang="ru-RU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F05-3ABD-43AA-A8DC-59D9354F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919-AE6E-45B2-B0E6-77676DFE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F7A2D-1367-4400-A7A5-F70BD461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7085F-21F4-4F3B-BE39-7087C17D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DE776-6728-446A-9EFD-1E563AF4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53B96-D94F-4086-946C-A933374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57B29-919B-4DC9-9ADB-CBF9A118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F4116-44EB-44DA-8936-FAEB47D8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FBE6B-47C8-4624-8537-02A48CFA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F0E0E-2D69-4E23-8B83-00C5605A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7CBEC-A684-431D-9A83-B384E3CB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67B46-E6DA-4E24-BECE-2D26E456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5A8-63ED-49C2-8961-5199EEEB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06FC8-CBD0-4182-8499-6D2DF734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4D1EC-E834-4C38-A8F2-96BBE8F5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F57B3-F400-49DC-A587-6B050D70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D695A-663E-4726-9C69-D775938B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3F55E-086E-49B4-9000-56AB7673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AE4B6-F50E-4634-B17A-B23F2BF1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3E528-18AA-4FEB-A981-C979AAC3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97814-A1FA-415A-A894-C056F598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BB1B1-21B2-40F9-9C3C-8A8FAD90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402AE-027A-49DA-BD6A-66122308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216-0C92-48DB-B200-8433B5D2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C3715-529E-4933-BBB2-39D7EF12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FC848-EE05-4D70-9D92-5242A766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31B1B-76CB-4C09-9BA0-9303F6AF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632FB-65B2-495D-BB8A-B2D1AC43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1FCE1-424E-4E44-87C8-90096A8C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D1191-136F-4B51-BCF2-FB09B4E0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53CFB-696F-4708-9FB3-CF3E8519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0DB3A-4782-4C47-9996-93AA48C5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8CFCA-BB09-4F20-9E78-1E58B21A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80137-D516-498B-9C9D-76DA688E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0A30-9FD4-40C2-BD8D-E7DADDAF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DA995-7AB0-4B70-A7E8-9DD5104F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0EC86-819D-4AC2-9039-AB805982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05717-A7D4-4CA5-A3C8-F3B03492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A8F4A-472E-4D35-B462-D6616F18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C3EE3-C769-470F-8EC3-6552E083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3A3E5-2D59-47F7-8CB1-CE032B10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16DC1-6D4F-4525-905D-E7A35278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E2CD7-EC2E-44AA-AD5A-13BF5174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95A94-75D5-4006-AC0F-DE5EA392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A4DD4-275A-4498-A949-06A5FFEE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6B1F-4919-4C5D-AFE3-0BB19964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0724-177A-4D9A-910F-D4F76F4D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25A1F-CC2D-4B3E-9280-144B4953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3FA06-6851-47F0-BB6B-85EE56E2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F101F-AA83-4D86-8CE9-29138988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50B6E-CF96-4985-88E8-DBC48320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FAF47-2526-4C3A-A025-5E62A977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9FAAB-B82D-4155-8FDC-D6AF621F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77A16-ACA9-4367-BDE7-9029C8E6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FDFCD-9D35-48A8-B706-9BD2A13C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4FD0F-B768-4B25-949A-0643B7E2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987B-5441-4230-A96F-86E77D56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5F09B-74ED-42B7-B703-4AF55C04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1B9BD-5117-4E57-9612-70DFFA8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BB9ED-0ACB-4EAD-9132-20407930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85568-68BE-41C4-92EA-0C7A13CA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EE300-B8B4-43B2-A3F6-373AD91C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41D79-4F80-421B-8419-2BB77C2C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E76BC-AE49-48B7-BA69-6D1ACD22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F4BDD-7AA0-4E72-B81F-B77CCB00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36C59-B380-4E26-BBC2-6A2B2E9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444B2-846F-479C-B821-7C1B67C5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3CFC-4798-4156-882B-D6E45D95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4C550-A298-4102-8FAC-D9F6D60D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FC1D2-66F7-4BB2-A7F6-D181658A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950B1-527D-4FBC-9DCA-C33D87A8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8D122-267C-4DC0-8282-B8BCA74D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D9151-6C4F-4C0E-A2C9-3E53980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E72FA-434B-41BC-B8DE-CA826539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7941A-1A7C-4294-BD79-31018ADB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3DB27-D57F-409D-B36F-CDAF2900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B161B-07F0-4512-B727-A8074D58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55530-F48E-4C3F-9D72-30137F2C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AE22-308C-4F9D-AC99-55C6C521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550D5-99C4-4CBE-AB58-03CA1255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56615-B40A-451C-BE24-EE0B7C8D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78758-7AC7-41C0-8DB7-84197866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5555A-09A7-44BB-853C-1048E87C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EAF94-AE9F-4E01-BE37-C002C939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04F93-06B0-4887-AE8A-70D0C10F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C7B20-86B0-438C-A49B-3DAAD9D1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E9C23-2C07-444D-AD8C-7BE2142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A3EFB-BFDE-4122-ABB8-34B61F5A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34601-C76C-43B1-9CB7-79695B7D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DC26-D73F-4ACB-88A6-43352D7A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1B68F-0AD1-4FE2-B5CE-DE340CEB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5FD0D-A2E2-4829-AD3F-48F526CE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26F7F-D47B-4A51-874D-B1DC678F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39D78-5CB4-4766-93DC-4C72E49A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635D3-E8D9-4255-91CD-3C1F0DDF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4866EC-C314-45C4-8057-9BC55A63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33300-FD87-4F2E-BB32-A2F5417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5C248-D54D-4538-BEF1-A74E94E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D1AA2-68FE-44DD-9DC6-22F940A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F5C87-8186-42AD-AC10-89B4B68D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10E8-6B24-4B09-A028-C7E17734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466A9-CE7C-4366-9696-E8FB437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69175-4991-4E01-BB28-7600CAFA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63FFE-B0A1-4A99-892F-1CB9AAE6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D28D7-FCE7-43B9-A33A-B94F81D7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64702-F70B-4E04-908C-C5464CFF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7D985-085D-43E9-96BB-4BBC78F1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B8AF8-6AD4-4ADE-BC44-AEC29879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34AC5-05AE-411A-95C6-C001B0A8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78904-E17C-4D7D-9E84-B4E68125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11F44-AEBC-4992-A6EC-7BA77F58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DB8-AD50-482E-AC29-5C0C5160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7DDA-7DA2-490A-A5E0-DD07A041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2566D-928B-4E53-BB3C-BCDC00C3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A4489-91B8-43C2-8467-CF682F3D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C2E73-FBC3-4F39-8AB4-9FD12F52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62E5B-F12E-4C75-A31F-B5F88130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40C13-7D42-4E83-9FAB-20B9DAF0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DD935-E0A1-4A2C-ADFA-FB522E61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E4A6F-8A51-4C73-8060-5B0E2F3E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2F1C17-4411-4AFF-BACA-B78F666F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48DF1A-AFF6-4047-BB0D-28CDAB45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8FF7E-9C9C-468A-B499-52EF43C3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9D40-876F-4FD5-AA8A-23ABC32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5F2C4-77C9-4C68-9996-2E1656AD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598C3-E091-4120-A970-DE29E7A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147CA-9C59-4B91-A8AE-D0C51B4A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98B90-687B-4D23-820B-E713120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6B0F8-E8F7-4ED6-85FF-4C39235B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39CF9-36ED-4C2F-93C0-B963C5F8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E7211-A901-4357-A7F8-EFBAD441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1C096-D45A-4D14-9953-6A145BD7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1E6087-C637-4CD7-96C8-C02AA5AD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745F90-9950-41F4-B497-11FD60E6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2C0F-5DD9-4ECC-8FBF-8ABDCBAD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45EB9-D02E-45C5-AF36-FE32B905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6C51B-2A23-4BC6-8433-02B55D14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0C140-8928-404D-9C8B-90F6F82D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AEC319-ADBC-4413-BD37-6EB0065B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91AA4-0DC4-4C85-8319-CA6CC1B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0D3A0E-68B6-420D-8B07-01B264D2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DCAE0-0D63-4FF5-80C4-F37F6DA0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39605-D16B-4841-A14B-95153DBC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0CC71-D995-4679-A662-17B7D2CB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D91B28-41AA-428C-ACFE-64DBE8A3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0BD9-03DD-4B3B-889E-1C88F262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2DC84-06B7-4465-BB7F-B3E90A35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65FEE-CBC1-4C39-A8A6-097D1D99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72080-F9AB-479C-A3ED-FAD4553E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D41F9-BAA2-4D5D-A22B-B784A86F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3405A-2852-462D-9205-8158ED58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5E2B8-2169-41C4-858F-977DB66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BF665-070E-4DE4-9AFA-440029F3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B0522-7D16-49BE-B489-8ED4B566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DAABF-110F-487D-8893-1388B244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CF8AD-A18D-4BEE-AF80-8BFC8F53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1478-D04D-4784-9A52-9C8D0B6F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77D22B-F9A2-409F-82A5-95B28CB1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8771-14DF-4920-9674-6BFC501F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350D-4CED-4C91-AD9B-B6AA1808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4B53-8D4E-46B1-A137-7B111A98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6FA1-F582-489F-B416-17F00762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D34C-AC16-4662-BEFB-20E7266F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428-36B8-4ABB-8D44-00777E95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CEAA-17C2-4E56-91C3-246C939E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543D-C309-42AD-A5BC-3E4607E1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B3E5-C74B-41F7-9065-4F63C35C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CFEF-6A4C-45AC-8F6B-88780FB7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283C-BBDD-4FA5-A08B-8613353A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E475-9C72-4E08-9C87-1C05D062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3B7B-15B7-4641-9C2D-5993C825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944C-FE60-4C99-B1EC-B6AF79AC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7438-01B7-4027-96B0-7E5E1E33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E47C-F469-401E-B4F4-CF56F21E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0D2-29F4-45BE-8D42-40345F71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8216B-0FB6-466B-8FEB-69C8C4B9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A0F3-0B8A-4AF3-834E-71162971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E6D46-246E-4D3D-B81E-660C2E44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DA92-A023-4634-83AB-EA718355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FDEBF-8CE5-4195-91CD-FDA77D5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D2A2-6CB0-4A79-8E0E-71E520B5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E006-1277-45E6-B2FC-69C84392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CFE3-9E91-4B33-8466-8E865502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9EFDE-1592-43AE-BE12-71AF92C0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026E-2A7C-4963-A441-8C039B8C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372-F5A1-4911-888B-8C4E5325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50C5-2338-40F6-9C27-B8B0F77F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2FB73-7DA8-4D5D-8EC3-2A101AFE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8541-62B3-47E6-A9C1-234E6230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5F9D1-600A-4637-AE01-49CDED92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A1F84-76EE-45DB-84B6-92C96E34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4720-E04A-46A8-9414-8BD5C6A4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CB78F-0FE5-43AF-973E-8F57BD3A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02DB-F736-4D13-BF84-9A76AD3D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90D24-3DE7-4AB7-8F8A-3BA10F17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05AAC-389E-445C-B1BC-892C1D18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C5A-D5E3-4CA8-935A-3CCDB249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5A853-06A9-451C-BA83-B133E732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D6BA-3364-4291-921D-3D46C489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7110B-36D4-46AA-B35D-9D90042F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FA3F-48AD-4B3A-862D-3D1FE64E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05F5-E0E7-4BE7-AABF-96D6D678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35D70-8DCA-4F1C-AAB4-DFFCCE11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45AA-0779-4E06-844B-BC5E4AAC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43A78-E941-4A93-86E8-678A13AD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EB49C-3691-4FED-89B0-855127D6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D791-86C2-449A-AD13-9A68F58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FF8-97B5-4725-9461-6A97140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6C822-6FFB-42B0-917E-6FFA9CFA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12242-6FC2-4170-9D29-CE4505C4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9191-778E-460B-B401-BA30ED2F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E4561-9276-41C4-85A3-D746A5ED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F8834-DD22-4B13-A929-80CF240A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AD820-7702-42C0-B49D-59BBD622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7143C-F6C1-4250-9114-FA247DB0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09C40-BA79-46E1-ACFB-D6277F58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C4296-9477-4F0B-8FB8-17773BA1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E1CE1-6DA5-4908-8F2B-C71116A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B76-310D-433A-8783-E0D82927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4FE8B-49CC-40E9-94DE-7972F745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F39D-B612-45D9-9CD0-BF0961B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5BE97-F63A-483F-8777-01511D28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260DE-C1AD-455D-895E-0437AE31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CB5C-F6D8-4A9B-8075-6C29ED89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F2D39-ED75-41EC-A678-9EDB1B4F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32BBB-BDB3-4DE4-A511-29C8D91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D39A8-0B54-41BD-AEB1-354CF252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4D447-5101-481B-B6A9-DD7C7CBA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021C6-0B03-4446-8DA6-2B23C00E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023-831C-42B0-BD2B-65D44DED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3BF6-FCA8-4E2B-B877-DFB6FF9C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52E83-4D06-4BCC-9A84-37A8ECF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6F262-3968-4FE0-B977-3FECFBF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7248F-E02B-432D-974A-11743BB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6FA2E-AF3C-4713-9B28-BB79A80A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EA0C7-2F86-4DAC-AFBD-8B19CBC8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6221E-6FA8-4313-A78F-F2565C54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EFC81-0984-4E93-B1A7-0325FA81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68DB0-BF0D-4B6C-A50E-6630B405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D3DDC-7749-4206-B0AD-34A9CA0F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ECC1-C528-4E2A-8931-A82C5B2B23F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66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68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0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CD50-74D0-4A87-AE4C-EC52662C056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2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9886-F8A4-4591-8277-4337326075C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8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59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A914-8F4B-4DFB-A772-39D1C17D272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3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4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5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5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197E-2F5B-48CF-99C4-2913725EA37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9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8AF7-195E-4E04-9828-DBA1F4E57B2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CDE9-9867-456A-940D-945773FB3E2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0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0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2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2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2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7F1D-6D02-4C8C-AE34-4C2A052D583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8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4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5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2C8A-C952-4F5D-ADA7-508E4F7E9E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2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2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2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2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</p:grpSp>
        <p:sp>
          <p:nvSpPr>
            <p:cNvPr id="92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2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9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9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</p:grpSp>
        <p:sp>
          <p:nvSpPr>
            <p:cNvPr id="9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5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5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B16B-8298-4CE8-8FEC-E2C5D4EC77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1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3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5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6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7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8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9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0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991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992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3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994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995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6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7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8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999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01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1002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3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4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5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6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7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1008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1009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0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1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2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3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4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015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6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7D5E-8297-4E3D-8FA7-3EDFC124F031}" type="slidenum"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DAAC-E9F2-4D10-BFBF-C73345FA10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06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106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06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BF64-192B-4220-923F-C79DE5903E88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95E8-F819-44FC-A0D1-9F3C49BDB6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C659-DBBD-4581-9009-A758650FA12B}" type="slidenum"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6B37-5BC7-473B-BBE3-DD470AF4E87A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23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A334-4A8F-4D7E-A083-E15DBCEF2AE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79A-72E3-4FFC-B050-26731F47320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2B1C-A170-4A07-B5CF-45072571A6A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3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1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2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2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2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42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CBD1-C156-466B-B9A1-1925BD8A19F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pribaikal.ru/obl-inhabitant.html" TargetMode="External"/><Relationship Id="rId3" Type="http://schemas.openxmlformats.org/officeDocument/2006/relationships/hyperlink" Target="http://baikalart.ru/" TargetMode="External"/><Relationship Id="rId4" Type="http://schemas.openxmlformats.org/officeDocument/2006/relationships/hyperlink" Target="http://samih.narod.ru/" TargetMode="External"/><Relationship Id="rId5" Type="http://schemas.openxmlformats.org/officeDocument/2006/relationships/hyperlink" Target="http://filarmoniya.irk.ru/" TargetMode="External"/><Relationship Id="rId6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WordArt 5"/>
          <p:cNvSpPr txBox="1"/>
          <p:nvPr/>
        </p:nvSpPr>
        <p:spPr>
          <a:xfrm rot="21340200">
            <a:off x="533520" y="228600"/>
            <a:ext cx="3711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  КРАЙ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16" name="WordArt 6"/>
          <p:cNvSpPr txBox="1"/>
          <p:nvPr/>
        </p:nvSpPr>
        <p:spPr>
          <a:xfrm rot="21001800">
            <a:off x="2209320" y="761760"/>
            <a:ext cx="6686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ОГАТ  ТАЛАНТАМИ</a:t>
            </a:r>
            <a:endParaRPr b="1" i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117" name="Picture 8" descr=""/>
          <p:cNvPicPr/>
          <p:nvPr/>
        </p:nvPicPr>
        <p:blipFill>
          <a:blip r:embed="rId1"/>
          <a:stretch/>
        </p:blipFill>
        <p:spPr>
          <a:xfrm>
            <a:off x="0" y="3225960"/>
            <a:ext cx="5010120" cy="3632040"/>
          </a:xfrm>
          <a:prstGeom prst="rect">
            <a:avLst/>
          </a:prstGeom>
          <a:ln w="0">
            <a:noFill/>
          </a:ln>
        </p:spPr>
      </p:pic>
      <p:sp>
        <p:nvSpPr>
          <p:cNvPr id="1118" name="Rectangle 9"/>
          <p:cNvSpPr/>
          <p:nvPr/>
        </p:nvSpPr>
        <p:spPr>
          <a:xfrm>
            <a:off x="3585960" y="5061600"/>
            <a:ext cx="5617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Авторы: Аушева М.М., воспитатель;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Григорьева Т.С.,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музыкальный руководитель;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Москаленко В.В.,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заместитель заведующей по ВР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МБДОУ №37 «Солнышко»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сть-Илимска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19" name="Григоруцэ Детские впечатления 2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писок использованных источников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Звёзды на Байкале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ru.wikipedia.org/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Прибайкалье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pribaikal.ru/obl-inhabitant.html</a:t>
            </a: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Культура Приангарья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baikalart.ru/</a:t>
            </a: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омпозиторы Приангарья – детя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http://samih.narod.ru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Губернаторский симфонический оркест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http://filarmoniya.irk.ru/</a:t>
            </a: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Picture 4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4051080" cy="2700360"/>
          </a:xfrm>
          <a:prstGeom prst="rect">
            <a:avLst/>
          </a:prstGeom>
          <a:ln w="0">
            <a:noFill/>
          </a:ln>
        </p:spPr>
      </p:pic>
      <p:sp>
        <p:nvSpPr>
          <p:cNvPr id="1121" name="Rectangle 5"/>
          <p:cNvSpPr/>
          <p:nvPr/>
        </p:nvSpPr>
        <p:spPr>
          <a:xfrm>
            <a:off x="5867280" y="689400"/>
            <a:ext cx="283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Иркутская Областная Филармония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2" name="Picture 5" descr="ork"/>
          <p:cNvPicPr/>
          <p:nvPr/>
        </p:nvPicPr>
        <p:blipFill>
          <a:blip r:embed="rId2"/>
          <a:stretch/>
        </p:blipFill>
        <p:spPr>
          <a:xfrm>
            <a:off x="228600" y="152280"/>
            <a:ext cx="5076720" cy="361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Picture 5" descr=""/>
          <p:cNvPicPr/>
          <p:nvPr/>
        </p:nvPicPr>
        <p:blipFill>
          <a:blip r:embed="rId1"/>
          <a:stretch/>
        </p:blipFill>
        <p:spPr>
          <a:xfrm>
            <a:off x="487440" y="693720"/>
            <a:ext cx="1933560" cy="2887560"/>
          </a:xfrm>
          <a:prstGeom prst="rect">
            <a:avLst/>
          </a:prstGeom>
          <a:ln w="0">
            <a:noFill/>
          </a:ln>
        </p:spPr>
      </p:pic>
      <p:sp>
        <p:nvSpPr>
          <p:cNvPr id="1124" name="Rectangle 7"/>
          <p:cNvSpPr/>
          <p:nvPr/>
        </p:nvSpPr>
        <p:spPr>
          <a:xfrm>
            <a:off x="2971800" y="8380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Главный дирижер и художественный руководитель Губернаторского симфонического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оркестра Иркутской области   Заслуженный деятель искусств РСФСР, Илмар Лапиньш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5" name="Picture 6" descr=""/>
          <p:cNvPicPr/>
          <p:nvPr/>
        </p:nvPicPr>
        <p:blipFill>
          <a:blip r:embed="rId2"/>
          <a:stretch/>
        </p:blipFill>
        <p:spPr>
          <a:xfrm>
            <a:off x="5867280" y="3214800"/>
            <a:ext cx="2644920" cy="3133440"/>
          </a:xfrm>
          <a:prstGeom prst="rect">
            <a:avLst/>
          </a:prstGeom>
          <a:ln w="0">
            <a:noFill/>
          </a:ln>
        </p:spPr>
      </p:pic>
      <p:sp>
        <p:nvSpPr>
          <p:cNvPr id="1126" name="Прямоугольник 1"/>
          <p:cNvSpPr/>
          <p:nvPr/>
        </p:nvSpPr>
        <p:spPr>
          <a:xfrm>
            <a:off x="838080" y="51814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Известный музыкант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пианист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онстантин Сероватов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5" descr=""/>
          <p:cNvPicPr/>
          <p:nvPr/>
        </p:nvPicPr>
        <p:blipFill>
          <a:blip r:embed="rId1"/>
          <a:stretch/>
        </p:blipFill>
        <p:spPr>
          <a:xfrm>
            <a:off x="318960" y="1244520"/>
            <a:ext cx="4305600" cy="2421000"/>
          </a:xfrm>
          <a:prstGeom prst="rect">
            <a:avLst/>
          </a:prstGeom>
          <a:ln w="0">
            <a:noFill/>
          </a:ln>
        </p:spPr>
      </p:pic>
      <p:sp>
        <p:nvSpPr>
          <p:cNvPr id="1128" name="Rectangle 6"/>
          <p:cNvSpPr/>
          <p:nvPr/>
        </p:nvSpPr>
        <p:spPr>
          <a:xfrm>
            <a:off x="228600" y="3808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ианист, народный  артист Российской Федерации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Денис Леонидович Мацуев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9" name="Picture 4" descr=""/>
          <p:cNvPicPr/>
          <p:nvPr/>
        </p:nvPicPr>
        <p:blipFill>
          <a:blip r:embed="rId2"/>
          <a:stretch/>
        </p:blipFill>
        <p:spPr>
          <a:xfrm>
            <a:off x="4800600" y="37148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4" descr=""/>
          <p:cNvPicPr/>
          <p:nvPr/>
        </p:nvPicPr>
        <p:blipFill>
          <a:blip r:embed="rId1"/>
          <a:stretch/>
        </p:blipFill>
        <p:spPr>
          <a:xfrm>
            <a:off x="4419720" y="3824280"/>
            <a:ext cx="1941480" cy="27338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5" descr=""/>
          <p:cNvPicPr/>
          <p:nvPr/>
        </p:nvPicPr>
        <p:blipFill>
          <a:blip r:embed="rId2"/>
          <a:stretch/>
        </p:blipFill>
        <p:spPr>
          <a:xfrm>
            <a:off x="7010280" y="4170240"/>
            <a:ext cx="1825920" cy="2576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3"/>
          <a:stretch/>
        </p:blipFill>
        <p:spPr>
          <a:xfrm>
            <a:off x="380880" y="378000"/>
            <a:ext cx="4810320" cy="3203280"/>
          </a:xfrm>
          <a:prstGeom prst="rect">
            <a:avLst/>
          </a:prstGeom>
          <a:ln w="0">
            <a:noFill/>
          </a:ln>
        </p:spPr>
      </p:pic>
      <p:sp>
        <p:nvSpPr>
          <p:cNvPr id="1133" name="Прямоугольник 1"/>
          <p:cNvSpPr/>
          <p:nvPr/>
        </p:nvSpPr>
        <p:spPr>
          <a:xfrm>
            <a:off x="838080" y="4127400"/>
            <a:ext cx="2667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«Звёзды на Байкале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— ежегодный международный 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музыкальный фестиваль в Иркутске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6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4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1136" name="Rectangle 5"/>
          <p:cNvSpPr/>
          <p:nvPr/>
        </p:nvSpPr>
        <p:spPr>
          <a:xfrm>
            <a:off x="838080" y="59436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Юные музыканты выступили на одной сцене с 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известными музыкантами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4002120" cy="266724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5"/>
          <p:cNvSpPr/>
          <p:nvPr/>
        </p:nvSpPr>
        <p:spPr>
          <a:xfrm>
            <a:off x="5105520" y="9133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Органный зал 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39" name="Picture 6" descr=""/>
          <p:cNvPicPr/>
          <p:nvPr/>
        </p:nvPicPr>
        <p:blipFill>
          <a:blip r:embed="rId2"/>
          <a:stretch/>
        </p:blipFill>
        <p:spPr>
          <a:xfrm>
            <a:off x="4397400" y="3886200"/>
            <a:ext cx="3997440" cy="2660760"/>
          </a:xfrm>
          <a:prstGeom prst="rect">
            <a:avLst/>
          </a:prstGeom>
          <a:ln w="0">
            <a:noFill/>
          </a:ln>
        </p:spPr>
      </p:pic>
      <p:sp>
        <p:nvSpPr>
          <p:cNvPr id="1140" name="Прямоугольник 1"/>
          <p:cNvSpPr/>
          <p:nvPr/>
        </p:nvSpPr>
        <p:spPr>
          <a:xfrm>
            <a:off x="785880" y="5626080"/>
            <a:ext cx="319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Органистка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Яна Юденкова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Picture 4" descr=""/>
          <p:cNvPicPr/>
          <p:nvPr/>
        </p:nvPicPr>
        <p:blipFill>
          <a:blip r:embed="rId1"/>
          <a:stretch/>
        </p:blipFill>
        <p:spPr>
          <a:xfrm>
            <a:off x="533520" y="1082520"/>
            <a:ext cx="1457280" cy="2070360"/>
          </a:xfrm>
          <a:prstGeom prst="rect">
            <a:avLst/>
          </a:prstGeom>
          <a:ln w="0">
            <a:noFill/>
          </a:ln>
        </p:spPr>
      </p:pic>
      <p:sp>
        <p:nvSpPr>
          <p:cNvPr id="1142" name="Rectangle 5"/>
          <p:cNvSpPr/>
          <p:nvPr/>
        </p:nvSpPr>
        <p:spPr>
          <a:xfrm>
            <a:off x="410400" y="3217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Зоткин В. Г.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3" name="Picture 7" descr=""/>
          <p:cNvPicPr/>
          <p:nvPr/>
        </p:nvPicPr>
        <p:blipFill>
          <a:blip r:embed="rId2"/>
          <a:stretch/>
        </p:blipFill>
        <p:spPr>
          <a:xfrm>
            <a:off x="2438280" y="1082520"/>
            <a:ext cx="1382760" cy="1936800"/>
          </a:xfrm>
          <a:prstGeom prst="rect">
            <a:avLst/>
          </a:prstGeom>
          <a:ln w="0">
            <a:noFill/>
          </a:ln>
        </p:spPr>
      </p:pic>
      <p:sp>
        <p:nvSpPr>
          <p:cNvPr id="1144" name="Rectangle 8"/>
          <p:cNvSpPr/>
          <p:nvPr/>
        </p:nvSpPr>
        <p:spPr>
          <a:xfrm>
            <a:off x="2376720" y="323532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Янковская Л.В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5" name="Rectangle 9"/>
          <p:cNvSpPr/>
          <p:nvPr/>
        </p:nvSpPr>
        <p:spPr>
          <a:xfrm>
            <a:off x="1042200" y="32004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Известные композиторы Прибайкалья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3"/>
          <a:stretch/>
        </p:blipFill>
        <p:spPr>
          <a:xfrm>
            <a:off x="4411800" y="1108080"/>
            <a:ext cx="1368360" cy="2044800"/>
          </a:xfrm>
          <a:prstGeom prst="rect">
            <a:avLst/>
          </a:prstGeom>
          <a:ln w="0">
            <a:noFill/>
          </a:ln>
        </p:spPr>
      </p:pic>
      <p:sp>
        <p:nvSpPr>
          <p:cNvPr id="1147" name="Rectangle 5"/>
          <p:cNvSpPr/>
          <p:nvPr/>
        </p:nvSpPr>
        <p:spPr>
          <a:xfrm>
            <a:off x="4296600" y="32961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Тепляков А.И.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8" name="Picture 7" descr=""/>
          <p:cNvPicPr/>
          <p:nvPr/>
        </p:nvPicPr>
        <p:blipFill>
          <a:blip r:embed="rId4"/>
          <a:stretch/>
        </p:blipFill>
        <p:spPr>
          <a:xfrm>
            <a:off x="6477120" y="1138320"/>
            <a:ext cx="1593720" cy="2125440"/>
          </a:xfrm>
          <a:prstGeom prst="rect">
            <a:avLst/>
          </a:prstGeom>
          <a:ln w="0">
            <a:noFill/>
          </a:ln>
        </p:spPr>
      </p:pic>
      <p:sp>
        <p:nvSpPr>
          <p:cNvPr id="1149" name="Прямоугольник 1"/>
          <p:cNvSpPr/>
          <p:nvPr/>
        </p:nvSpPr>
        <p:spPr>
          <a:xfrm>
            <a:off x="6471720" y="333360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Григоруцэ Д.Г.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5"/>
          <a:stretch/>
        </p:blipFill>
        <p:spPr>
          <a:xfrm>
            <a:off x="1785960" y="3816360"/>
            <a:ext cx="1406520" cy="1949400"/>
          </a:xfrm>
          <a:prstGeom prst="rect">
            <a:avLst/>
          </a:prstGeom>
          <a:ln w="0">
            <a:noFill/>
          </a:ln>
        </p:spPr>
      </p:pic>
      <p:sp>
        <p:nvSpPr>
          <p:cNvPr id="1151" name="Прямоугольник 2"/>
          <p:cNvSpPr/>
          <p:nvPr/>
        </p:nvSpPr>
        <p:spPr>
          <a:xfrm>
            <a:off x="1510200" y="6019920"/>
            <a:ext cx="195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Горбовская О.О.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2" name="Picture 4" descr=""/>
          <p:cNvPicPr/>
          <p:nvPr/>
        </p:nvPicPr>
        <p:blipFill>
          <a:blip r:embed="rId6"/>
          <a:stretch/>
        </p:blipFill>
        <p:spPr>
          <a:xfrm>
            <a:off x="4184640" y="3816360"/>
            <a:ext cx="1357200" cy="2044800"/>
          </a:xfrm>
          <a:prstGeom prst="rect">
            <a:avLst/>
          </a:prstGeom>
          <a:ln w="0">
            <a:noFill/>
          </a:ln>
        </p:spPr>
      </p:pic>
      <p:sp>
        <p:nvSpPr>
          <p:cNvPr id="1153" name="Прямоугольник 3"/>
          <p:cNvSpPr/>
          <p:nvPr/>
        </p:nvSpPr>
        <p:spPr>
          <a:xfrm>
            <a:off x="3866040" y="6019920"/>
            <a:ext cx="17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Михайлов С.А.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23-02-12T07:42:14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