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3.png" ContentType="image/png"/>
  <Override PartName="/ppt/media/image19.jpeg" ContentType="image/jpeg"/>
  <Override PartName="/ppt/media/image1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7.jpeg" ContentType="image/jpeg"/>
  <Override PartName="/ppt/media/image18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306F-4DAB-44FA-8EEF-D04C5398B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98D0-2A8F-4B95-BEAF-9C1716D6E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C142-FFA8-49D8-BFFD-201182204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B940-847B-4556-ACA9-6EDAEFF90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C5DA-A545-4515-95D3-8078E03CD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3194-5993-47AB-B003-4B32CF9DD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1D33-2935-442E-A37D-C3B2D3590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2FCB-5F65-41FC-8A18-5521B7F06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FAE6-C9EE-4179-AA17-0E994A5F3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5294-0E14-462A-B71B-CA820916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0931-8BBA-4EF4-BB79-013C4266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B136-5D93-476C-8846-E126FD65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73511-7FFD-4AEA-8F3E-C7CC77ADC0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244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32523"/>
                </a:solidFill>
                <a:latin typeface="Calibri"/>
              </a:rPr>
              <a:t>Правила поведения в театр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http://cs5928.vk.me/g37728023/a_dc18dcb4.jpg"/>
          <p:cNvPicPr/>
          <p:nvPr/>
        </p:nvPicPr>
        <p:blipFill>
          <a:blip r:embed="rId1"/>
          <a:stretch/>
        </p:blipFill>
        <p:spPr>
          <a:xfrm>
            <a:off x="1785960" y="0"/>
            <a:ext cx="5429160" cy="4432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3" name="TextBox 3"/>
          <p:cNvSpPr/>
          <p:nvPr/>
        </p:nvSpPr>
        <p:spPr>
          <a:xfrm>
            <a:off x="4572000" y="559440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"/>
          <p:cNvSpPr/>
          <p:nvPr/>
        </p:nvSpPr>
        <p:spPr>
          <a:xfrm>
            <a:off x="0" y="437508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Не вставай со своего места, пока не закончится спектакль. Не торопись в гардероб за верхней одеждой, как будто тебе не понравился спектакль и ты стремишься поскорее убежать дом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http://www.zarubejom.com/news/images/4235_big.jpg"/>
          <p:cNvPicPr/>
          <p:nvPr/>
        </p:nvPicPr>
        <p:blipFill>
          <a:blip r:embed="rId1"/>
          <a:stretch/>
        </p:blipFill>
        <p:spPr>
          <a:xfrm>
            <a:off x="357120" y="1157400"/>
            <a:ext cx="4084560" cy="2843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9" name="Picture 4" descr="http://komionline.ru/media/images/2011/08/25/10.JPG"/>
          <p:cNvPicPr/>
          <p:nvPr/>
        </p:nvPicPr>
        <p:blipFill>
          <a:blip r:embed="rId2"/>
          <a:stretch/>
        </p:blipFill>
        <p:spPr>
          <a:xfrm>
            <a:off x="4656240" y="214200"/>
            <a:ext cx="4130640" cy="275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1"/>
          <p:cNvSpPr/>
          <p:nvPr/>
        </p:nvSpPr>
        <p:spPr>
          <a:xfrm>
            <a:off x="0" y="378612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Хорошие спектак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концерты классической музы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долго хранятся в памя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Пусть же впечатление от ни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не будет испорчено незна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элементарных правил пове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http://cs6004.vk.me/u53946248/155661162/y_c1f7b82f.jpg"/>
          <p:cNvPicPr/>
          <p:nvPr/>
        </p:nvPicPr>
        <p:blipFill>
          <a:blip r:embed="rId1"/>
          <a:stretch/>
        </p:blipFill>
        <p:spPr>
          <a:xfrm>
            <a:off x="5643720" y="-71280"/>
            <a:ext cx="3357360" cy="4157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2" name="Picture 4" descr="http://cs6004.vk.me/u53946248/155661162/x_e3929f4a.jpg"/>
          <p:cNvPicPr/>
          <p:nvPr/>
        </p:nvPicPr>
        <p:blipFill>
          <a:blip r:embed="rId2"/>
          <a:stretch/>
        </p:blipFill>
        <p:spPr>
          <a:xfrm>
            <a:off x="404640" y="357120"/>
            <a:ext cx="5096160" cy="3057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0" y="353376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В гардеробе подавай своё пальто гардеробщику, перекинув его через барь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Не забудь заранее проверить, не оторвалась ли вешалка на твоём пальто, чтобы не было стыдно перед окружающими за свою неряшлив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http://www.gravirka.ru/uploads/posts/2009-07/1246636382_nall1.jpg"/>
          <p:cNvPicPr/>
          <p:nvPr/>
        </p:nvPicPr>
        <p:blipFill>
          <a:blip r:embed="rId1"/>
          <a:stretch/>
        </p:blipFill>
        <p:spPr>
          <a:xfrm>
            <a:off x="5786280" y="1643040"/>
            <a:ext cx="2857680" cy="1762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6" name="Picture 6" descr="http://szala.ru/wp-content/uploads/2013/05/8654024137_5cc6ae45b8_b.jpg"/>
          <p:cNvPicPr/>
          <p:nvPr/>
        </p:nvPicPr>
        <p:blipFill>
          <a:blip r:embed="rId2"/>
          <a:stretch/>
        </p:blipFill>
        <p:spPr>
          <a:xfrm>
            <a:off x="500040" y="299880"/>
            <a:ext cx="4476600" cy="2986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1000080" y="5002200"/>
            <a:ext cx="7215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Если ты пришёл в театр с большой сумкой или пакетом, сдай их в гардеро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http://www.s2m.com.ua/pics/prod/thumb/314_big_verona.jpg"/>
          <p:cNvPicPr/>
          <p:nvPr/>
        </p:nvPicPr>
        <p:blipFill>
          <a:blip r:embed="rId1"/>
          <a:stretch/>
        </p:blipFill>
        <p:spPr>
          <a:xfrm>
            <a:off x="571680" y="1042920"/>
            <a:ext cx="3429000" cy="2600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9" name="Picture 4" descr="http://santoro.ru/39-161-large/podarochnyy-paket-ruby-bolschoy.jpg"/>
          <p:cNvPicPr/>
          <p:nvPr/>
        </p:nvPicPr>
        <p:blipFill>
          <a:blip r:embed="rId2"/>
          <a:stretch/>
        </p:blipFill>
        <p:spPr>
          <a:xfrm>
            <a:off x="4786200" y="0"/>
            <a:ext cx="4286520" cy="4286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0" y="430380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Пробираясь к своему месту, надо проход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вдоль ряда кресел лицом к уже сидящим зрител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предварительно сказав: «Разрешите пройт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Проходить к ним спиной некультур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http://primamedia.ru/f/big/352/351811.jpg"/>
          <p:cNvPicPr/>
          <p:nvPr/>
        </p:nvPicPr>
        <p:blipFill>
          <a:blip r:embed="rId1"/>
          <a:stretch/>
        </p:blipFill>
        <p:spPr>
          <a:xfrm>
            <a:off x="1643040" y="243000"/>
            <a:ext cx="6000840" cy="3971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0" y="402588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Садись на то место, которое указано в твоём билете. Если же твоё место оказалось вдруг занятым и его не хотят освобождать, не вступай в спор — попроси капельдинера уладить это недоразум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http://as.baikal.tv/news/newsmedia/32/32666/img/kapeldineri125000!.jpg"/>
          <p:cNvPicPr/>
          <p:nvPr/>
        </p:nvPicPr>
        <p:blipFill>
          <a:blip r:embed="rId1"/>
          <a:stretch/>
        </p:blipFill>
        <p:spPr>
          <a:xfrm>
            <a:off x="142920" y="357120"/>
            <a:ext cx="4222800" cy="3398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4" name="Picture 8" descr="http://as.baikal.tv/news/newsmedia/32/32666/img/kapeldineri20000!.jpg"/>
          <p:cNvPicPr/>
          <p:nvPr/>
        </p:nvPicPr>
        <p:blipFill>
          <a:blip r:embed="rId2"/>
          <a:stretch/>
        </p:blipFill>
        <p:spPr>
          <a:xfrm>
            <a:off x="4714920" y="357120"/>
            <a:ext cx="4259160" cy="342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428760" y="5218200"/>
            <a:ext cx="814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Сидя в кресле, не клади руки на оба подлокот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http://www.taberik.org/articles/simurg-2013/simurg-2013-01.jpg"/>
          <p:cNvPicPr/>
          <p:nvPr/>
        </p:nvPicPr>
        <p:blipFill>
          <a:blip r:embed="rId1"/>
          <a:stretch/>
        </p:blipFill>
        <p:spPr>
          <a:xfrm>
            <a:off x="1333440" y="452520"/>
            <a:ext cx="6667560" cy="4476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0" y="430380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В высшей степени невежливо во время спектакля обращаться с вопросами к соседям, комментировать происходящее на сцене, разговаривать, шелестеть программкой, шуршать обертками, е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https://encrypted-tbn3.gstatic.com/images?q=tbn:ANd9GcRNZNOukdUZpNfEIoXKqYAgyUwRYMDKB8zU6t7lfKb9tbpf0ohj"/>
          <p:cNvPicPr/>
          <p:nvPr/>
        </p:nvPicPr>
        <p:blipFill>
          <a:blip r:embed="rId1"/>
          <a:stretch/>
        </p:blipFill>
        <p:spPr>
          <a:xfrm>
            <a:off x="4654440" y="1346040"/>
            <a:ext cx="4203720" cy="2797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0" name="Picture 6" descr="https://encrypted-tbn2.gstatic.com/images?q=tbn:ANd9GcR3pbNYu_ZSGVUoorWhu-07AQH9qVHD9qVCXDwWQHHw1Qb02665"/>
          <p:cNvPicPr/>
          <p:nvPr/>
        </p:nvPicPr>
        <p:blipFill>
          <a:blip r:embed="rId2"/>
          <a:stretch/>
        </p:blipFill>
        <p:spPr>
          <a:xfrm>
            <a:off x="285840" y="214200"/>
            <a:ext cx="4186080" cy="2786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://www.osd.ru/ftproot/users/0013348/al0000591/0000090_big.jpg"/>
          <p:cNvPicPr/>
          <p:nvPr/>
        </p:nvPicPr>
        <p:blipFill>
          <a:blip r:embed="rId1"/>
          <a:stretch/>
        </p:blipFill>
        <p:spPr>
          <a:xfrm>
            <a:off x="1749600" y="241200"/>
            <a:ext cx="5680080" cy="4259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2" name="TextBox 2"/>
          <p:cNvSpPr/>
          <p:nvPr/>
        </p:nvSpPr>
        <p:spPr>
          <a:xfrm>
            <a:off x="0" y="450072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В антракте не мчись в буфет, расталкивая окружающих. Если тебе дали денег на пирожные, а ты пришёл в театр с друзьями, пригласи их в буфет и уг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0" y="428616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Главное правило, неукоснительно соблюдаемое воспитанным человеком в театре, — поддержание глубокой тишины. Мобильные телефоны нужно обязательно выключить до начала представл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http://mobiguru.ru/f/image/4/9/0/3/6/49036683_nokia_c2-06_1.jpg"/>
          <p:cNvPicPr/>
          <p:nvPr/>
        </p:nvPicPr>
        <p:blipFill>
          <a:blip r:embed="rId1"/>
          <a:stretch/>
        </p:blipFill>
        <p:spPr>
          <a:xfrm>
            <a:off x="5786280" y="357120"/>
            <a:ext cx="3286440" cy="3286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5" name="Picture 4" descr="http://sever.lg.ua/sites/sever.lg.ua/files/zapret_mob.jpg"/>
          <p:cNvPicPr/>
          <p:nvPr/>
        </p:nvPicPr>
        <p:blipFill>
          <a:blip r:embed="rId2"/>
          <a:stretch/>
        </p:blipFill>
        <p:spPr>
          <a:xfrm>
            <a:off x="6691320" y="2028960"/>
            <a:ext cx="2381400" cy="2400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6" name="Picture 6" descr="http://www.tnaneve.spb.ru/pic/annot/saltan/02.jpg"/>
          <p:cNvPicPr/>
          <p:nvPr/>
        </p:nvPicPr>
        <p:blipFill>
          <a:blip r:embed="rId3"/>
          <a:stretch/>
        </p:blipFill>
        <p:spPr>
          <a:xfrm>
            <a:off x="371520" y="311040"/>
            <a:ext cx="5200560" cy="3760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7T18:59:03Z</dcterms:created>
  <dc:creator>yana</dc:creator>
  <dc:description/>
  <dc:language>en-US</dc:language>
  <cp:lastModifiedBy>Dom</cp:lastModifiedBy>
  <dcterms:modified xsi:type="dcterms:W3CDTF">2015-09-24T02:39:15Z</dcterms:modified>
  <cp:revision>22</cp:revision>
  <dc:subject/>
  <dc:title>Правила поведения в театре</dc:title>
</cp:coreProperties>
</file>