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C0E-63F5-4B76-A0F5-3A2942C3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CFF-842D-4FF3-8CBB-FE4DBFF8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E55-3B66-4FA1-B0F4-CAA153AA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B95-7D9A-4FA4-A865-2FAA73E6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C8EA-1F9C-4972-88C5-49DE772A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7CBB-2D6F-439D-BB61-A04F1DA9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E842-F6D2-4A79-B8F9-7761FD6E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A1D6-5317-4574-9E66-C0ED18EE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CFE1-4194-40AE-8093-34B3B9B9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106A-E5D5-4673-853C-EA554F43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DF1E-DD15-41DE-B96F-92FAB4C3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CE0-083E-406B-BD32-78181D36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E109-CDC5-45DB-A896-DB16E370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6123-EF69-4EFE-A333-EF7F3BCA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8ED8-3760-4A3A-9E24-5E7457E1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72BD-C8ED-4095-8779-4FBF6D17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B191-FCFB-486F-9B55-7BAF8AC4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B4B-1D34-4E18-9FEE-9189C534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672-0B35-4C85-A78D-0C851FD8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F90-1D50-4EC7-81A6-00C91070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33F-3839-4B5C-9E18-6DB3120B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ADF-3B55-4872-8365-0363D2E9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076-A633-4EF3-9B62-2084FEC3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E89-CD4B-44F2-AB24-E8CA499C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9003-2C9D-417E-86C1-DB3858CF65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801E-2A01-4055-9ED6-1C8D5BFBF6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116000" y="1628640"/>
            <a:ext cx="7128000" cy="28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584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003366"/>
                </a:solidFill>
                <a:latin typeface="+mn-lt"/>
              </a:rPr>
              <a:t> </a:t>
            </a:r>
            <a:endParaRPr b="0" lang="en-US" sz="1800" spc="1" strike="noStrike">
              <a:ln cap="rnd" w="1584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003366"/>
              </a:solidFill>
              <a:latin typeface="+mn-lt"/>
              <a:ea typeface="+mn-lt"/>
            </a:endParaRPr>
          </a:p>
        </p:txBody>
      </p:sp>
      <p:sp>
        <p:nvSpPr>
          <p:cNvPr id="121" name="Прямоугольник 1"/>
          <p:cNvSpPr/>
          <p:nvPr/>
        </p:nvSpPr>
        <p:spPr>
          <a:xfrm>
            <a:off x="1547640" y="189000"/>
            <a:ext cx="531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рок окружающего мир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 класс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2286000" y="3105000"/>
            <a:ext cx="610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ла Ткаченко Ю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имназии №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00039645"/>
          <p:cNvPicPr/>
          <p:nvPr/>
        </p:nvPicPr>
        <p:blipFill>
          <a:blip r:embed="rId1"/>
          <a:stretch/>
        </p:blipFill>
        <p:spPr>
          <a:xfrm>
            <a:off x="324000" y="1125360"/>
            <a:ext cx="8459640" cy="56102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3"/>
          <p:cNvSpPr txBox="1"/>
          <p:nvPr/>
        </p:nvSpPr>
        <p:spPr>
          <a:xfrm>
            <a:off x="2340000" y="404640"/>
            <a:ext cx="439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a9a5f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a9a5f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6"/>
          <p:cNvSpPr txBox="1"/>
          <p:nvPr/>
        </p:nvSpPr>
        <p:spPr>
          <a:xfrm>
            <a:off x="755640" y="404640"/>
            <a:ext cx="1895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2916360" y="404640"/>
            <a:ext cx="515304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1116000" y="2060640"/>
            <a:ext cx="1513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1187280" y="3068640"/>
            <a:ext cx="144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10"/>
          <p:cNvSpPr txBox="1"/>
          <p:nvPr/>
        </p:nvSpPr>
        <p:spPr>
          <a:xfrm>
            <a:off x="1258920" y="4508640"/>
            <a:ext cx="136836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11"/>
          <p:cNvSpPr txBox="1"/>
          <p:nvPr/>
        </p:nvSpPr>
        <p:spPr>
          <a:xfrm>
            <a:off x="1258920" y="5516640"/>
            <a:ext cx="1511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1" name="Picture 18" descr="00039175"/>
          <p:cNvPicPr/>
          <p:nvPr/>
        </p:nvPicPr>
        <p:blipFill>
          <a:blip r:embed="rId1"/>
          <a:stretch/>
        </p:blipFill>
        <p:spPr>
          <a:xfrm>
            <a:off x="4564080" y="3424320"/>
            <a:ext cx="15840" cy="93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20"/>
          <p:cNvSpPr txBox="1"/>
          <p:nvPr/>
        </p:nvSpPr>
        <p:spPr>
          <a:xfrm>
            <a:off x="5076720" y="4581360"/>
            <a:ext cx="1800360" cy="2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4572000" y="5589720"/>
            <a:ext cx="10843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WordArt 27"/>
          <p:cNvSpPr txBox="1"/>
          <p:nvPr/>
        </p:nvSpPr>
        <p:spPr>
          <a:xfrm>
            <a:off x="6732720" y="6381720"/>
            <a:ext cx="103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5" name="Picture 28" descr="00042601"/>
          <p:cNvPicPr/>
          <p:nvPr/>
        </p:nvPicPr>
        <p:blipFill>
          <a:blip r:embed="rId2"/>
          <a:stretch/>
        </p:blipFill>
        <p:spPr>
          <a:xfrm>
            <a:off x="2843280" y="4869000"/>
            <a:ext cx="1368360" cy="9633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\ 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042920" y="189000"/>
            <a:ext cx="6913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2050920" y="5589720"/>
            <a:ext cx="511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900000" y="54936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http://mdou17.vrhost.ru/files/news/o14188979270613/o14362686756914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684360" y="83664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611280" y="476280"/>
            <a:ext cx="820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143" name="WordArt 14"/>
          <p:cNvSpPr txBox="1"/>
          <p:nvPr/>
        </p:nvSpPr>
        <p:spPr>
          <a:xfrm>
            <a:off x="3492360" y="2492280"/>
            <a:ext cx="23767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WordArt 15"/>
          <p:cNvSpPr txBox="1"/>
          <p:nvPr/>
        </p:nvSpPr>
        <p:spPr>
          <a:xfrm>
            <a:off x="1835280" y="4508640"/>
            <a:ext cx="165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WordArt 16"/>
          <p:cNvSpPr txBox="1"/>
          <p:nvPr/>
        </p:nvSpPr>
        <p:spPr>
          <a:xfrm>
            <a:off x="5364000" y="4508640"/>
            <a:ext cx="218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WordArt 19"/>
          <p:cNvSpPr txBox="1"/>
          <p:nvPr/>
        </p:nvSpPr>
        <p:spPr>
          <a:xfrm>
            <a:off x="250920" y="5805360"/>
            <a:ext cx="19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20"/>
          <p:cNvSpPr txBox="1"/>
          <p:nvPr/>
        </p:nvSpPr>
        <p:spPr>
          <a:xfrm>
            <a:off x="3059280" y="5805360"/>
            <a:ext cx="20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108000" y="476280"/>
            <a:ext cx="8712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Работа в группе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знакомиться с текст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ыбрать нужную информацию, иллюстрации и оформить страничку справочник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дготовить выступление.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1835280" y="83664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971640" y="333360"/>
            <a:ext cx="60483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1" name="Picture 6" descr="00038083"/>
          <p:cNvPicPr/>
          <p:nvPr/>
        </p:nvPicPr>
        <p:blipFill>
          <a:blip r:embed="rId1"/>
          <a:stretch/>
        </p:blipFill>
        <p:spPr>
          <a:xfrm>
            <a:off x="2340000" y="2693880"/>
            <a:ext cx="4824360" cy="31784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179280" y="3357720"/>
            <a:ext cx="180036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ляп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WordArt 9"/>
          <p:cNvSpPr txBox="1"/>
          <p:nvPr/>
        </p:nvSpPr>
        <p:spPr>
          <a:xfrm>
            <a:off x="395280" y="4508640"/>
            <a:ext cx="17272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ж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2178000" y="4662360"/>
            <a:ext cx="216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WordArt 11"/>
          <p:cNvSpPr txBox="1"/>
          <p:nvPr/>
        </p:nvSpPr>
        <p:spPr>
          <a:xfrm>
            <a:off x="3059280" y="3860640"/>
            <a:ext cx="34956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одовое тел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WordArt 12"/>
          <p:cNvSpPr txBox="1"/>
          <p:nvPr/>
        </p:nvSpPr>
        <p:spPr>
          <a:xfrm>
            <a:off x="2494080" y="404640"/>
            <a:ext cx="25257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и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WordArt 13"/>
          <p:cNvSpPr txBox="1"/>
          <p:nvPr/>
        </p:nvSpPr>
        <p:spPr>
          <a:xfrm>
            <a:off x="395280" y="1989000"/>
            <a:ext cx="209880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дзем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" name="WordArt 14"/>
          <p:cNvSpPr txBox="1"/>
          <p:nvPr/>
        </p:nvSpPr>
        <p:spPr>
          <a:xfrm>
            <a:off x="6372360" y="1762200"/>
            <a:ext cx="252072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зем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Line 15"/>
          <p:cNvSpPr/>
          <p:nvPr/>
        </p:nvSpPr>
        <p:spPr>
          <a:xfrm flipH="1">
            <a:off x="1409400" y="1474920"/>
            <a:ext cx="2376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4500720" y="1498680"/>
            <a:ext cx="2663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979640" y="3741840"/>
            <a:ext cx="22334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1189080" y="2754360"/>
            <a:ext cx="30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WordArt 22"/>
          <p:cNvSpPr txBox="1"/>
          <p:nvPr/>
        </p:nvSpPr>
        <p:spPr>
          <a:xfrm>
            <a:off x="7380360" y="4905360"/>
            <a:ext cx="176364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иб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7740720" y="2595600"/>
            <a:ext cx="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2308320" y="644400"/>
            <a:ext cx="3743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684360" y="2276640"/>
            <a:ext cx="2219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971640" y="3429000"/>
            <a:ext cx="7229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Прямоугольник 1"/>
          <p:cNvSpPr/>
          <p:nvPr/>
        </p:nvSpPr>
        <p:spPr>
          <a:xfrm>
            <a:off x="468360" y="260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 природе всё взаимосвяза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еревья и грибы дружат между соб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3" descr="post-46-1117535939"/>
          <p:cNvPicPr/>
          <p:nvPr/>
        </p:nvPicPr>
        <p:blipFill>
          <a:blip r:embed="rId1"/>
          <a:stretch/>
        </p:blipFill>
        <p:spPr>
          <a:xfrm>
            <a:off x="324000" y="314172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W327"/>
          <p:cNvPicPr/>
          <p:nvPr/>
        </p:nvPicPr>
        <p:blipFill>
          <a:blip r:embed="rId2"/>
          <a:stretch/>
        </p:blipFill>
        <p:spPr>
          <a:xfrm>
            <a:off x="4827600" y="121428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 flipV="1">
            <a:off x="826920" y="1483920"/>
            <a:ext cx="38894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5"/>
          <p:cNvSpPr/>
          <p:nvPr/>
        </p:nvSpPr>
        <p:spPr>
          <a:xfrm flipH="1">
            <a:off x="4271760" y="4149720"/>
            <a:ext cx="309564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611280" y="1484280"/>
            <a:ext cx="4425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ибы воду и со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Прямоугольник 4"/>
          <p:cNvSpPr/>
          <p:nvPr/>
        </p:nvSpPr>
        <p:spPr>
          <a:xfrm flipV="1" rot="10800000">
            <a:off x="5037120" y="5419440"/>
            <a:ext cx="41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ревья дают питатель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щества, саха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Мишка в лесу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3708360" y="404640"/>
            <a:ext cx="2376360" cy="6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5580000" y="2421000"/>
            <a:ext cx="218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WordArt 10"/>
          <p:cNvSpPr txBox="1"/>
          <p:nvPr/>
        </p:nvSpPr>
        <p:spPr>
          <a:xfrm>
            <a:off x="3274920" y="3718080"/>
            <a:ext cx="208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WordArt 13"/>
          <p:cNvSpPr txBox="1"/>
          <p:nvPr/>
        </p:nvSpPr>
        <p:spPr>
          <a:xfrm>
            <a:off x="5940360" y="3645000"/>
            <a:ext cx="15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WordArt 19"/>
          <p:cNvSpPr txBox="1"/>
          <p:nvPr/>
        </p:nvSpPr>
        <p:spPr>
          <a:xfrm>
            <a:off x="179280" y="5734080"/>
            <a:ext cx="24098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WordArt 21"/>
          <p:cNvSpPr txBox="1"/>
          <p:nvPr/>
        </p:nvSpPr>
        <p:spPr>
          <a:xfrm>
            <a:off x="6443640" y="5805360"/>
            <a:ext cx="2076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Прямоугольник 1"/>
          <p:cNvSpPr/>
          <p:nvPr/>
        </p:nvSpPr>
        <p:spPr>
          <a:xfrm>
            <a:off x="1384200" y="2276640"/>
            <a:ext cx="60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Берегите природу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06:24:56Z</dcterms:created>
  <dc:creator>ЛОПАРЕВА</dc:creator>
  <dc:description/>
  <dc:language>en-US</dc:language>
  <cp:lastModifiedBy>Алексей</cp:lastModifiedBy>
  <dcterms:modified xsi:type="dcterms:W3CDTF">2023-02-12T19:55:18Z</dcterms:modified>
  <cp:revision>9</cp:revision>
  <dc:subject/>
  <dc:title>Слайд 1</dc:title>
</cp:coreProperties>
</file>