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C2D-3097-499F-917F-D2F6821C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4F6-E69E-4344-B417-FA51E94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667-4220-4F28-B00D-34A5690E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BAD-8256-4975-9ED9-A18AAAAD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718-21C2-48C9-9271-43B01F6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AC6-5CE7-4DC6-9B75-37C3F0AE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C99-F8B1-4016-AFED-6F2484DB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A73-42F7-4CAA-A69C-547B00D8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6ED-89FF-4844-BDB2-205796F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A60-E92F-4FB4-A3A7-F2522D6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13D-DBF7-4B37-BDD2-053D4FDC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DFD-D5A1-4CAE-9B58-5EB5ABB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2D5A-C07A-494C-8703-CE6989385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95280" y="2121120"/>
            <a:ext cx="792180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19080" bIns="19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««Формирование готовности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исьму посредством игр и упражнений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:  воспитатель Незнаева Е.М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7200" y="553680"/>
            <a:ext cx="64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БУ «Пижменская основная общеобразовательная школа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9"/>
          <p:cNvSpPr/>
          <p:nvPr/>
        </p:nvSpPr>
        <p:spPr>
          <a:xfrm>
            <a:off x="0" y="10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34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2000160" y="333360"/>
            <a:ext cx="51436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5143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000160" y="333360"/>
            <a:ext cx="5143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4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446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4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53708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й из основных задач воспитания и обучения дошкольника является подготовка его к школе. Один из навыков, который должен быть сформирован к тому времени, когда ребенок пойдет в школу – это развитие точных движений пальцев рук и всей кисти (тонкой мотори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показателей интеллектуальной готовности к школьному обучению - уровень развития мелкой моторики. Ребенок, у которого этот уровень высокий, умеет логически рассуждать, у него хорошо развиты память и внимание, связная речь, он может приступать к приобретению навыков пис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руки к письму дошкольников старшего      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, способствующих развитию мелкой моторики рук для подготовки детей старшего дошкольного возраста к овладению письм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собственный уровень знаний, путём изучения необходимой литературы, ознакомиться с инновационными методиками, технолог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психолого-педагогическую литературу по данной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игровые технологии в развитии графомоторных навыков для детей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0840" y="188640"/>
            <a:ext cx="8578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и приемы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1200" y="148428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 кистей рук карандашом, массажным мяч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ов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ка из пластилина (пластилинография) Конструирование из бумаги в технике ори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конструктором «Л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ние по трафаретам , штрих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злы, моза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ну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деятельность воспитателя с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 работа с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ая самостоятельная деятельность сам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лнение предметно-развив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графических дикта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со счётными пал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с массажным мячи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 и пособия: «Собери бусы», «Поможем Золушке», «Чудесный мешочек», «Игры с термомозаикой», «Пальчиковый театр», «Игры- шнуровки», «Игрушка-моталочка», «Бильбоке», «Волчок», «Лего», «Пазлы»,мягкий конструктор «Липуч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-16236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 работы по самообразов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676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Изучить литературу по данной 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ключить  игры в конспекты разных видов занятий,  в свободную деятельнос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Мастер-класс для педагогов «Умелые пальчи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Выставка для родителей  игр и пособий по развитию мелкой моторики рук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Оформить развивающую среду для самостоятельного использования материала детьми во время всех режимных мо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86000" y="13240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345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800" y="24357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41440" y="1773360"/>
            <a:ext cx="806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могу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держать карандаш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ренно проводить прямые, наклонные и волнистые ли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штриховывать изображение, не выходя за конту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на листе в клетку, отсчитывать нужное количество кл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определять направления (вправо, влево, вниз, вверх 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организовать рабочее место при письме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ы интеллектуальны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433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12:07:43Z</dcterms:created>
  <dc:creator>BLACKGIRL</dc:creator>
  <dc:description/>
  <dc:language>en-US</dc:language>
  <cp:lastModifiedBy>Юлия</cp:lastModifiedBy>
  <dcterms:modified xsi:type="dcterms:W3CDTF">2023-02-12T17:03:36Z</dcterms:modified>
  <cp:revision>38</cp:revision>
  <dc:subject/>
  <dc:title>«Развивающая среда – как средство коррекции речевых нарушений у детей с ОНР» </dc:title>
</cp:coreProperties>
</file>