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6C9-9EEE-4762-BCD5-C46AC98F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29C-98B2-4083-96A0-7044BC72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98D-984D-410E-8457-C7DFBE89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3B2-2DE0-4C2D-94FC-595C8CED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8B8-63FD-4FD6-9DA4-871E0E6F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11C-C85C-4E90-9E52-3AABF5C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38F-E12D-4A3E-AB56-7B447D1F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30E-B36D-4C41-900D-3A63A8F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A71-AE1F-4340-AC3D-CCC449E3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E68-F508-43AF-8FB9-779EC4E0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A1D-DD83-4EDC-B1E9-7995E9E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687-0BD6-4863-A2D5-2A1C1D0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9176-B17B-4E7B-9A10-C6A0CD01C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95280" y="2121120"/>
            <a:ext cx="792180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19080" bIns="19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««Формирование готовности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исьму посредством игр и упражнений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:  воспитатель Незнаева Е.М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7200" y="553680"/>
            <a:ext cx="64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БУ «Пижменская основная общеобразовательная школа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9"/>
          <p:cNvSpPr/>
          <p:nvPr/>
        </p:nvSpPr>
        <p:spPr>
          <a:xfrm>
            <a:off x="0" y="10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34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2000160" y="333360"/>
            <a:ext cx="51436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5143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000160" y="333360"/>
            <a:ext cx="5143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4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446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4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53708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й из основных задач воспитания и обучения дошкольника является подготовка его к школе. Один из навыков, который должен быть сформирован к тому времени, когда ребенок пойдет в школу – это развитие точных движений пальцев рук и всей кисти (тонкой мотори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показателей интеллектуальной готовности к школьному обучению - уровень развития мелкой моторики. Ребенок, у которого этот уровень высокий, умеет логически рассуждать, у него хорошо развиты память и внимание, связная речь, он может приступать к приобретению навыков пис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руки к письму дошкольников старшего      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, способствующих развитию мелкой моторики рук для подготовки детей старшего дошкольного возраста к овладению письм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собственный уровень знаний, путём изучения необходимой литературы, ознакомиться с инновационными методиками, технолог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психолого-педагогическую литературу по данной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игровые технологии в развитии графомоторных навыков для детей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0840" y="188640"/>
            <a:ext cx="8578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и приемы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1200" y="148428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 кистей рук карандашом, массажным мяч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ов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ка из пластилина (пластилинография) Конструирование из бумаги в технике ори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конструктором «Л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ние по трафаретам , штрих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злы, моза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ну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деятельность воспитателя с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 работа с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ая самостоятельная деятельность сам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лнение предметно-развив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графических дикта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со счётными пал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с массажным мячи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 и пособия: «Собери бусы», «Поможем Золушке», «Чудесный мешочек», «Игры с термомозаикой», «Пальчиковый театр», «Игры- шнуровки», «Игрушка-моталочка», «Бильбоке», «Волчок», «Лего», «Пазлы»,мягкий конструктор «Липуч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-16236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 работы по самообразов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676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Изучить литературу по данной 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ключить  игры в конспекты разных видов занятий,  в свободную деятельнос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Мастер-класс для педагогов «Умелые пальчи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Выставка для родителей  игр и пособий по развитию мелкой моторики рук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Оформить развивающую среду для самостоятельного использования материала детьми во время всех режимных мо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86000" y="13240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345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800" y="24357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41440" y="1773360"/>
            <a:ext cx="806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могу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держать карандаш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ренно проводить прямые, наклонные и волнистые ли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штриховывать изображение, не выходя за конту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на листе в клетку, отсчитывать нужное количество кл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определять направления (вправо, влево, вниз, вверх 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организовать рабочее место при письме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ы интеллектуальны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433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12:07:43Z</dcterms:created>
  <dc:creator>BLACKGIRL</dc:creator>
  <dc:description/>
  <dc:language>en-US</dc:language>
  <cp:lastModifiedBy>Юлия</cp:lastModifiedBy>
  <dcterms:modified xsi:type="dcterms:W3CDTF">2023-02-12T17:03:36Z</dcterms:modified>
  <cp:revision>38</cp:revision>
  <dc:subject/>
  <dc:title>«Развивающая среда – как средство коррекции речевых нарушений у детей с ОНР» </dc:title>
</cp:coreProperties>
</file>