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E5B-3D09-473E-AB79-D5A2781B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43D-BD0E-4E8F-94DF-02BF6C22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BFE-43FD-49DA-84C7-7DBAE469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AAC-703C-4701-B47E-72394145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868-C3DB-4B50-9FAB-97F3ED2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533-B76E-4CE2-B1DC-C152274B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ADB-C6BC-480F-8FE8-89D11521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212-DD1A-4E7C-8D3D-E46C1137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039-DD5D-43B9-A375-1D591D08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3F0-600D-4EE8-BF37-28665689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F77-606A-4F77-9F91-E0861F66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A7F-10A8-440C-8A46-55592C7A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1F9-73F7-45E7-963F-1C830F4A2CB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91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800" spc="-1" strike="noStrike" u="sng">
              <a:solidFill>
                <a:srgbClr val="00b050"/>
              </a:solidFill>
              <a:uFillTx/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271440" y="981000"/>
            <a:ext cx="2892600" cy="187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User\Desktop\ислам.jpg"/>
          <p:cNvPicPr/>
          <p:nvPr/>
        </p:nvPicPr>
        <p:blipFill>
          <a:blip r:embed="rId2"/>
          <a:stretch/>
        </p:blipFill>
        <p:spPr>
          <a:xfrm>
            <a:off x="6156360" y="47628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User\Desktop\буддизм.jpg"/>
          <p:cNvPicPr/>
          <p:nvPr/>
        </p:nvPicPr>
        <p:blipFill>
          <a:blip r:embed="rId3"/>
          <a:stretch/>
        </p:blipFill>
        <p:spPr>
          <a:xfrm>
            <a:off x="112680" y="4748040"/>
            <a:ext cx="2505240" cy="170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User\Desktop\иудеи.jpg"/>
          <p:cNvPicPr/>
          <p:nvPr/>
        </p:nvPicPr>
        <p:blipFill>
          <a:blip r:embed="rId4"/>
          <a:stretch/>
        </p:blipFill>
        <p:spPr>
          <a:xfrm>
            <a:off x="6084720" y="436572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5"/>
          <a:stretch/>
        </p:blipFill>
        <p:spPr>
          <a:xfrm>
            <a:off x="2657520" y="2968560"/>
            <a:ext cx="3828960" cy="185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0" y="2599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134100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апиши рассказ о своей семье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арисуй герб своей семь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4" descr="C:\Users\User\Desktop\тень.jpg"/>
          <p:cNvPicPr/>
          <p:nvPr/>
        </p:nvPicPr>
        <p:blipFill>
          <a:blip r:embed="rId1"/>
          <a:stretch/>
        </p:blipFill>
        <p:spPr>
          <a:xfrm>
            <a:off x="5219640" y="4076640"/>
            <a:ext cx="3576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http://i003.radikal.ru/1107/6d/6a01241a7ec9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Семья-</a:t>
            </a: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основанная на браке или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кровном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родстве малая группа, члены которой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связаны общностью быта, взаимной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помощью, моральной и правовой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ответственностью.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12" descr="023413200912113"/>
          <p:cNvPicPr/>
          <p:nvPr/>
        </p:nvPicPr>
        <p:blipFill>
          <a:blip r:embed="rId1"/>
          <a:stretch/>
        </p:blipFill>
        <p:spPr>
          <a:xfrm>
            <a:off x="5364000" y="3860640"/>
            <a:ext cx="3265560" cy="24480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0" name="Picture 8" descr="48464139_789_thumb"/>
          <p:cNvPicPr/>
          <p:nvPr/>
        </p:nvPicPr>
        <p:blipFill>
          <a:blip r:embed="rId2"/>
          <a:stretch/>
        </p:blipFill>
        <p:spPr>
          <a:xfrm>
            <a:off x="108000" y="0"/>
            <a:ext cx="1120680" cy="112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1267920"/>
            <a:ext cx="71643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2d050"/>
                </a:solidFill>
                <a:latin typeface="Comic Sans MS"/>
              </a:rPr>
              <a:t>8 июля - Всероссийский день семьи, любви и верности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4" descr="Памятник Петру и Февронии - Омск"/>
          <p:cNvPicPr/>
          <p:nvPr/>
        </p:nvPicPr>
        <p:blipFill>
          <a:blip r:embed="rId1"/>
          <a:stretch/>
        </p:blipFill>
        <p:spPr>
          <a:xfrm>
            <a:off x="244440" y="3747960"/>
            <a:ext cx="360684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User\Desktop\ромашка.jpg"/>
          <p:cNvPicPr/>
          <p:nvPr/>
        </p:nvPicPr>
        <p:blipFill>
          <a:blip r:embed="rId2"/>
          <a:stretch/>
        </p:blipFill>
        <p:spPr>
          <a:xfrm>
            <a:off x="246240" y="476280"/>
            <a:ext cx="1942920" cy="1805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User\Desktop\день семьи любви.jpg"/>
          <p:cNvPicPr/>
          <p:nvPr/>
        </p:nvPicPr>
        <p:blipFill>
          <a:blip r:embed="rId3"/>
          <a:stretch/>
        </p:blipFill>
        <p:spPr>
          <a:xfrm>
            <a:off x="5889600" y="4257720"/>
            <a:ext cx="290340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7726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2247840"/>
                <a:gridCol w="1409760"/>
              </a:tblGrid>
              <a:tr h="137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Основные ценности семейной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Иуда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Будд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Правосла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Исл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вь мужа и жены друг к друг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ж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вь родителей к детя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итание родителе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2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дост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гатств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2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бо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аже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ще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ейные тради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72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omic Sans MS"/>
              </a:rPr>
              <a:t>ПРАВОСЛАВНАЯ СЕМЬ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4" descr="C:\Users\User\Desktop\библия.jpg"/>
          <p:cNvPicPr/>
          <p:nvPr/>
        </p:nvPicPr>
        <p:blipFill>
          <a:blip r:embed="rId1"/>
          <a:stretch/>
        </p:blipFill>
        <p:spPr>
          <a:xfrm>
            <a:off x="250920" y="1773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User\Desktop\прав..jpg"/>
          <p:cNvPicPr/>
          <p:nvPr/>
        </p:nvPicPr>
        <p:blipFill>
          <a:blip r:embed="rId2"/>
          <a:stretch/>
        </p:blipFill>
        <p:spPr>
          <a:xfrm>
            <a:off x="4500720" y="1557360"/>
            <a:ext cx="43131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omic Sans MS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дедушка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большой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бабушка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указательный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папочка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средний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мамочка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безымянный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я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мизинец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Вот и вся моя семья.</a:t>
            </a:r>
            <a:br>
              <a:rPr sz="3600"/>
            </a:b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Хлопать в ладош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C:\Users\User\Desktop\физра.jpg"/>
          <p:cNvPicPr/>
          <p:nvPr/>
        </p:nvPicPr>
        <p:blipFill>
          <a:blip r:embed="rId1"/>
          <a:stretch/>
        </p:blipFill>
        <p:spPr>
          <a:xfrm>
            <a:off x="6303960" y="454968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User\Desktop\кот.jpg"/>
          <p:cNvPicPr/>
          <p:nvPr/>
        </p:nvPicPr>
        <p:blipFill>
          <a:blip r:embed="rId2"/>
          <a:stretch/>
        </p:blipFill>
        <p:spPr>
          <a:xfrm>
            <a:off x="611280" y="189000"/>
            <a:ext cx="1307880" cy="142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Comic Sans MS"/>
              </a:rPr>
              <a:t>ИСЛАМСКАЯ СЕМЬЯ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C:\Users\владелец\Desktop\ОРКиСЭ\коран.jpg"/>
          <p:cNvPicPr/>
          <p:nvPr/>
        </p:nvPicPr>
        <p:blipFill>
          <a:blip r:embed="rId1"/>
          <a:stretch/>
        </p:blipFill>
        <p:spPr>
          <a:xfrm>
            <a:off x="5292720" y="1530360"/>
            <a:ext cx="3495600" cy="424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User\Desktop\и..jpg"/>
          <p:cNvPicPr/>
          <p:nvPr/>
        </p:nvPicPr>
        <p:blipFill>
          <a:blip r:embed="rId2"/>
          <a:stretch/>
        </p:blipFill>
        <p:spPr>
          <a:xfrm>
            <a:off x="395280" y="1557360"/>
            <a:ext cx="453708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omic Sans MS"/>
              </a:rPr>
              <a:t>БУДДИЙСКАЯ СЕМЬ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6" descr="типитака1"/>
          <p:cNvPicPr/>
          <p:nvPr/>
        </p:nvPicPr>
        <p:blipFill>
          <a:blip r:embed="rId1"/>
          <a:stretch/>
        </p:blipFill>
        <p:spPr>
          <a:xfrm>
            <a:off x="5724360" y="1989000"/>
            <a:ext cx="2492640" cy="383868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9" descr=""/>
          <p:cNvPicPr/>
          <p:nvPr/>
        </p:nvPicPr>
        <p:blipFill>
          <a:blip r:embed="rId2"/>
          <a:stretch/>
        </p:blipFill>
        <p:spPr>
          <a:xfrm>
            <a:off x="250920" y="1498680"/>
            <a:ext cx="3771720" cy="252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Comic Sans MS"/>
              </a:rPr>
              <a:t>ИУДЕЙСКАЯ СЕМЬЯ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Содержимое 3" descr="тора1.JPG"/>
          <p:cNvPicPr/>
          <p:nvPr/>
        </p:nvPicPr>
        <p:blipFill>
          <a:blip r:embed="rId1"/>
          <a:stretch/>
        </p:blipFill>
        <p:spPr>
          <a:xfrm>
            <a:off x="5364000" y="335772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User\Desktop\иу..jpg"/>
          <p:cNvPicPr/>
          <p:nvPr/>
        </p:nvPicPr>
        <p:blipFill>
          <a:blip r:embed="rId2"/>
          <a:stretch/>
        </p:blipFill>
        <p:spPr>
          <a:xfrm>
            <a:off x="285840" y="1347840"/>
            <a:ext cx="428616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TC20140123-3</cp:lastModifiedBy>
  <dcterms:modified xsi:type="dcterms:W3CDTF">2015-12-23T10:40:22Z</dcterms:modified>
  <cp:revision>27</cp:revision>
  <dc:subject/>
  <dc:title>Слайд 1</dc:title>
</cp:coreProperties>
</file>