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5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2D5-A1C1-40A7-8167-6EC2E791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F71-53FD-44D2-8391-651030A5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F11BB-6E58-4E04-A696-573EE5CA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760FD-A1B1-41FC-90FA-C26C7E56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FB7D1-03F4-42B2-AF70-B3F14004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CDCC0-460C-4B2D-A0BF-1E9FF0E2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EF72B-5DDF-4B16-9C35-91AE1E64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C6C34-766F-4DFA-B1E8-D3E57574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4C9CC-2BB9-4D07-96B1-C5C3F844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AC3EE-701E-4B3E-9366-2A66B147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9EC34-1A58-4480-96E8-231FEA26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205-084D-408A-9F67-F5A18887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90D-2A74-43D4-80FC-C47441DB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C9CC-6554-4708-9A56-EBA4BAE0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7D66-AB3F-4651-9BE9-ACA3B0A2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C2A6-54D9-4933-976A-C3A4C2A6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9BE0-6469-43A5-9145-84895E46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3517-AFA6-4EE5-827D-4DDADFAE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7D80-8D78-4939-9FC4-A37BE841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5E7B-85C7-47D7-8371-5A10F9B4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16E-62B6-4572-BE3B-6E56D482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8623-1964-4FDE-A032-97745184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9C66-C362-44B1-9081-032C0EE6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730E-249E-4A3D-9364-2735681D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3200-EF47-4B9D-B688-20ADA62C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4D9D-820A-4EB5-813C-5D11ECDD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920AD-58E2-4066-9C9B-7916EA17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C0700-D357-4EBC-A0FB-FC1449CF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2B863-40A7-45D6-83B9-9348F4ED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B2B11-72B1-4757-92A9-0BF92A37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57925-6E2D-4FBA-8BD7-5FF9A4E0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9CC1-F093-4DF6-B62D-8A3FA8B0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4EEC8-0A26-49DB-B398-6D3D71A3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BB419-A13C-446D-B67A-DDBB53CC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0720A-3F41-4E17-8CC8-C76295AF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20340-7BA2-46AB-AE3D-58D7A73C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4D01-B2E9-429B-B179-C9909812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3371B-E529-44C8-8A43-017E5F71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960A3-840A-44E6-B971-FBEAA480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CDA5F-B407-4770-A220-A060B45A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4CA14-8D0C-4534-9FC6-3B21BFD7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7829B-F506-4B6B-8384-04D18356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B643-D407-4EB7-8477-DAF3269B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2BBF-7E02-4A90-AD6B-8609E080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34649-1217-4C11-9D6A-7AA5428C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808B8-198F-4019-92DF-980D09E7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41676-037F-427A-A09A-987D3C19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1F31B-207E-4D26-9968-8095B733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482AA-D97B-431E-AF04-DFF7D6A2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4D42A-90D6-4A97-8DE2-66661FD3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7FDC5-DCCB-4CB3-BCB5-54A800D4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26519-18C1-4755-B8D0-1C8CED9C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BD2FE-F3E6-48A6-A8EA-E0EC131A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6D8-7AB4-4477-8CF0-F017E6B7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8AA27-91D3-40B0-999D-F2052BD1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98AB5-E33B-43EF-9DCD-A19CE2B3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CB75F-FA79-49C0-9B05-DE0C18DE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F22E7-FB4A-49F9-B147-4E2A349C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67997-81B0-4E4B-AA37-19233BEC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141B2-0100-42A7-95C3-C275BF03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39DE1-FD53-4233-931F-41AD37A6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27D8E-62B2-49EB-BA7C-2BC05B3A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B4E77-D525-4DF9-A6A7-D7E716B5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27C52-7CF0-463B-8FF4-69942AAF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556-4DF7-4C7D-9976-4A5C1BF2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F4C72-FF90-4B3E-A939-E1E98F0A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8D98F-C953-4221-8CF3-71B7BE5D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BA714-0531-495F-851F-6D9273F2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2E37A-4DF8-428D-9F88-BEF26CCA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FE919-D91B-45C0-91D1-6FF35EE9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11517-C18F-43B5-88EA-1BC29E2D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3BF11-EA90-45BF-91AB-3AA4EA3D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F26CF-4E4A-414E-AC1F-113057D5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DE846-E3E9-4C34-9397-8335BA85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6822A-B0BC-4B2E-891A-E5638636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A12-BC65-4DEE-A7CC-FEEEC5AB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076B7-A0C8-4B07-86A3-1E0878E0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C4DE3-78C3-459F-9E2B-3DDFCCCF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3ADF8-80C8-42CE-8FB3-06D6EFD9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B773E-B454-4490-8A3C-35314650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346D7-ADA2-4773-ABF2-92092C4F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FCE6A-CB85-4080-A6E3-8B1A17BF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1E70C-C03C-4507-93F7-EC6808F8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A4080-C924-4A43-9C08-2A7CFA33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C40C9-177F-4329-B3DB-A8D3F2BB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0DA98-06A3-461A-ACF9-7423025C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5D9-B274-4051-9D53-6A49C8C4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E90C4-57D9-4BA8-9B78-56E7A3F6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E895B-A1CF-457E-9580-6AEC55EA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23958-F6C8-4930-81D1-ECD3B1E2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DFAC8-E912-4230-8257-518B4A77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C583C-13ED-4B14-A26F-9960ABF5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3B31A-CF71-4864-9D37-596892A1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13AFE-A4B0-4364-B26D-1642BAFE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34554-B7FF-407A-9E49-0EAF0A3A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6ED03-40D8-4F20-AA6F-A8CB41CF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8C115-B145-47B0-ADA4-DDFF06BD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61F-C7D0-4B36-843E-EEE4E00D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A914D-41C9-4F30-9D75-F6B6639C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8EADC-9B85-494D-A920-A952E614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2099A-FAD3-423B-87E1-3EE0A43F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4C3E3-7DB8-4045-86E3-B3495658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C45DB-2B13-4820-AFE3-6439F2D0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EBFCE-5C60-44C9-807D-5CCBFB37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4D4DE-CB43-4E62-BA69-7A9A82F5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3C262-15DC-4720-8B41-926373DD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CF90B-54F8-4B2E-9197-9A95260F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38685-D05E-4D77-AB28-E44997AB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60C3-0C77-485C-A8D4-FDF706035DC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E9D4-49FB-4024-BB3D-50828DA2CBD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BE39-3683-478A-9D1C-F059C2BF8AA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3EA5-170E-41FB-9FFB-5CF048736F5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0DC1-E69E-4CFB-92F4-DB2BFB97901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928E-F31C-4E38-801E-D3510134ED5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A10D-B3E0-45FD-BD5B-0F2EBD2EC63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06C0-92AD-4201-B852-BE27852BF93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9017-1616-4BAD-A576-CF0B09C0AB7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68200" y="1536840"/>
            <a:ext cx="8663040" cy="27860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98880" y="5084280"/>
            <a:ext cx="33447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Учитель-дефектолог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Зарипова А.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826920" y="18900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униципальное автоном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АДОУ "Детский сад № 344 г. Челябинска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179280" y="1380960"/>
            <a:ext cx="4656240" cy="30704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3"/>
          <a:stretch/>
        </p:blipFill>
        <p:spPr>
          <a:xfrm>
            <a:off x="4813200" y="1380960"/>
            <a:ext cx="4151520" cy="3070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4"/>
          <a:stretch/>
        </p:blipFill>
        <p:spPr>
          <a:xfrm>
            <a:off x="2498760" y="3789360"/>
            <a:ext cx="4352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"/>
          <p:cNvPicPr/>
          <p:nvPr/>
        </p:nvPicPr>
        <p:blipFill>
          <a:blip r:embed="rId2"/>
          <a:stretch/>
        </p:blipFill>
        <p:spPr>
          <a:xfrm>
            <a:off x="318960" y="1125360"/>
            <a:ext cx="4864320" cy="2735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3"/>
          <a:stretch/>
        </p:blipFill>
        <p:spPr>
          <a:xfrm>
            <a:off x="3780000" y="3803760"/>
            <a:ext cx="52275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пасибо за внимание 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560" y="1554120"/>
            <a:ext cx="5707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истема общения при помощи обмена карточками. Разработана Лори Фрост и Энди Бонди в 1985 году для преодоления трудностей при использовании различных программ обучения навыкам общения детей-аутистов и детей с другими социально- коммуникативными отклонениями, для которых характерно отсутствие целенаправленной или социально приемлемой речи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системы PECS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 целенаправленное, самостоятельное инициируемое общени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6156360" y="2060640"/>
            <a:ext cx="28177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 начала работы с PECS необходимо 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ценить навыки общения ребенка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ределить, какие предметы ребенок любит больше всего, или какие предметы являются подкрепляющим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рганизовать игровую среду (труднодоступность желаемых предметов)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готовить материал (карточки, альбомы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ценка подкрепляющих стимулов: Поговорить с близкими о предпочтениях ребенка и составить таблицу «Перечень предпочтений»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403280" y="3284640"/>
          <a:ext cx="6096240" cy="2865240"/>
        </p:xfrm>
        <a:graphic>
          <a:graphicData uri="http://schemas.openxmlformats.org/drawingml/2006/table">
            <a:tbl>
              <a:tblPr/>
              <a:tblGrid>
                <a:gridCol w="2976480"/>
                <a:gridCol w="31197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юбимая е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юбимые напит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юбимые иг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юбимые мес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юди, с которыми любит общать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юбимые заня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50920" y="1196640"/>
            <a:ext cx="86421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 этап: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учать ребенка получать карточку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 этап: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учать ребенка отдавать карточку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 этап: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чить распознавать предметы, изображенные на карточке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2428920" y="2928960"/>
            <a:ext cx="410364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 этап: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чить ориентироваться в данной книге и находить ту или иную карточку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 этап: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ставление фразы «Я хочу…(название предмета)» или «Дай мне (предмет)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6 этап: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чить отвечать на вопросы « Что ты хочешь?», «Что ты видишь?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4444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нижка на кольцах ламинированная формата А5 (должна быть у каждого ребенка своя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Ламинированные листы формата А5 и А4 (для занятий, для визуального расписания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Ламинированные карточки 5 на 5 см (около 200шт.) 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«Базовые карточки»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(да, нет, я хочу, помоги итд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«Мой день»(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время года, день недели, время суток, фотографии знакомых людей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«Я иду на улицу»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(время года, одежда, я надену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«У меня болит»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(части тела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«План занятий»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«Мое меню»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«Саморегуляция»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(эмоции,действия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И т.д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734544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298440" y="23760"/>
            <a:ext cx="8699400" cy="14875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ммуникативная книг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иртуальное расписа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идактические игры: Найди пару, Сопоставь предмет с картинкой, Найди тень, Соедини ..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-181080" y="4270320"/>
            <a:ext cx="3256200" cy="1830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3"/>
          <a:stretch/>
        </p:blipFill>
        <p:spPr>
          <a:xfrm>
            <a:off x="2581200" y="3513240"/>
            <a:ext cx="2451240" cy="3344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"/>
          <p:cNvPicPr/>
          <p:nvPr/>
        </p:nvPicPr>
        <p:blipFill>
          <a:blip r:embed="rId4"/>
          <a:stretch/>
        </p:blipFill>
        <p:spPr>
          <a:xfrm>
            <a:off x="5032440" y="3430440"/>
            <a:ext cx="4147920" cy="13575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"/>
          <p:cNvPicPr/>
          <p:nvPr/>
        </p:nvPicPr>
        <p:blipFill>
          <a:blip r:embed="rId5"/>
          <a:stretch/>
        </p:blipFill>
        <p:spPr>
          <a:xfrm>
            <a:off x="5032440" y="4788000"/>
            <a:ext cx="37083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9T02:35:16Z</dcterms:created>
  <dc:creator>Пользователь</dc:creator>
  <dc:description/>
  <dc:language>en-US</dc:language>
  <cp:lastModifiedBy>Алия Зарипова</cp:lastModifiedBy>
  <dcterms:modified xsi:type="dcterms:W3CDTF">2023-02-12T05:42:36Z</dcterms:modified>
  <cp:revision>17</cp:revision>
  <dc:subject/>
  <dc:title>Система альтернативной коммуникации pecs как средство самовыражения и общения для детей с РА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f0000000000010292010207f7000400038000</vt:lpwstr>
  </property>
</Properties>
</file>