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5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886-468B-457F-83AB-F892C600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649B-C228-4C54-90F6-E122BE50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46765-CAF8-4D38-8F30-AEC4AE30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0221A-0FE5-4313-93B0-A0AE3218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A2831-326F-4A9B-B4CA-BC89AB57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73AAF-0968-4D81-A28F-0EA611E0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A9A83-E47D-4141-A167-B81C8273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0F99A-C149-4007-8D9D-8555EA2B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DE116-DBDA-4ABC-969A-3C19754D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C8642-8254-4762-AA2A-51D97788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DD7AA-5747-4A68-A9B7-8AF4639B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CF0-F5BC-4E99-BB29-AF7F8DF6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004-8428-49C0-B1D9-3EC122DD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11CC-46F1-4C5D-9154-F2E6BBEC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DF5D-C8F8-4EE1-A0E0-831C1036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FFB2-DBC4-411B-9EF3-01BCC637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0FC7-7336-4ADF-A691-E7C4AF34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91E2-B634-444F-A44B-113083E3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FEA3-4494-4DA9-9A01-F967E41B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8B36-C41D-4B28-BD0D-9C3AC1A5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8D5B-AE67-490A-AD64-93840B00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4707-1351-4915-8744-5AE6E10D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FC40-6633-46A6-8DE1-F11BE5D2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700F-F1B0-4F48-B655-C07FEED3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82C1-F597-442F-AEF4-40910A22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BD61-1081-4F68-A83E-CAA0AF3E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CF0DA-08B8-4BBE-9C14-390D350C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EBFF0-1227-490B-A1BE-AF936F82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91D3A-AC0B-4225-BA8A-256B7BC6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F5EF7-428B-4512-84E1-D2F36839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A789F-0F07-4C57-A53F-8E6ED66D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DE8-B03E-4E91-8217-1009BBAC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CEE63-BA20-483C-9E36-14321527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E3FC4-B6A5-4740-98B3-4A19B80D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58D50-A2A5-4634-8633-805590DA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151F8-0E06-479E-A5D0-A2555ACF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B96B1-6B2F-4DE6-8AEF-FEFEAF58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038C8-A708-4307-B3E1-89C0DFDE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05587-6D64-462B-86CB-59BBB809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6B64A-3112-4D6B-9550-756DA96E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FF642-A0FC-45CE-AF85-25687AB2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BBD0F-E242-4D0C-AEDA-23825E1F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EC2-DE66-4D60-95A1-B288B518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B9F90-2D40-4C45-94E4-9ED52219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88BAB-4D11-4628-9EAA-3AE1EEE9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9F339-DB38-4273-A8F7-47DEF2CD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7BF9B-2665-43F2-8BF8-1FDB3E1C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05C20-9BC1-4A26-9600-DC739CDE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28CCC-817E-42E0-BE32-DFBA7962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DBDE0-3316-4164-A801-D3C50AD2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59127-E9BE-4A70-8B32-1858B0A4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E0FC1-CF92-4077-B447-69AB4CA9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EC428-BF01-41F0-AA43-22730A76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E679-A0E3-4877-8C68-1F9D0C68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AD04B-48A3-446B-BED5-9DE8A813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9159C-C38D-4EB5-A84B-C4153D61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90A55-C514-42BA-8155-A5F89A77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4D063-F50A-47A9-A8E1-BDB06339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63A12-3D5C-4168-B017-712EE90C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84D4F-45A1-4DB3-8795-AE64149D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C59BD-4CFB-47A9-AD93-3DC875DF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29810-6CC0-4FCC-9D5E-B50AF198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49745-B41B-4487-8AE7-4C4ED1D3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FD6B1-E3E4-4460-AA9A-238BC7A4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6A3A-A42E-4829-9BAD-4283FCF9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F3ADF-CB1D-4DB6-947D-E6AF18FC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344B2-222F-43D7-965B-315714A9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8CDD4-0732-4836-A796-DDB708A5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23AEE-B29A-4F69-9679-B0BE938E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704C9-DECC-49D8-B727-03B62342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0BEC9-37F8-4500-A34B-E33A4D3F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57693-2627-4C18-BF76-53DE77B6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87025-6C3B-43BC-949D-69D93285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50E8F-DEDD-4D4E-B4D0-00B1A921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E04D8-6EE8-4B75-A5CA-B35305AF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C60-E394-4E52-A354-799F6CDD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4FC15-305A-474C-B12D-E5DEB16D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89D51-E3DA-4CE9-9E6A-9DD0BB1F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0DCDC-1C1F-4AEB-B356-BD026235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5E46E-91E6-453C-9FD7-C7474F64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EFAD2-7A01-4239-8E1A-331B8869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29EEF-DF29-4C12-9DFD-CF6186E3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AF702-7776-41C8-A533-D0D63233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664C1-71E5-4E91-9D7B-75B55EFB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4579F-DBD4-448F-9693-27EB2520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E13A0-E01E-41E7-B646-FFA5E9BD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386D-6F63-4F33-88F1-070FE29B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231F7-BC29-469A-8C6A-135F7F91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36A8C-BF46-4A88-B97B-15059BFA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86EE1-B349-42D1-B93A-DF35BAEB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57021-73A4-4CE8-82EE-D96F5420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869B8-AE0F-4409-AC46-1E0A39A6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B6697-CED6-41E6-B395-D24A80BC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B3E09-5C8B-4446-8226-AB11B766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BCF0A-2DDE-4100-901B-AB1D8B7D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FF09D-A1FB-43E6-BCBD-3D42C5A8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BECEB-EE57-42FD-A51B-C8813C6E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103B-31D9-4DB4-9BAE-EA6D3FA3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675AB-93F7-496E-82A8-3CB11CDA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D8F2A-545D-4408-999F-2DE78655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8154C-327A-405F-A706-004EE988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2C03C-0A51-4E17-8759-B91AF305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93859-F002-44E2-87A1-D89DA08C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F06D3-BD72-4880-AF1B-4D20B6CC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31E58-87B8-4236-9CCB-6E00E26C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C1D06-471F-4A53-9C56-6630B6ED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FBD56-D6BD-4C63-93B8-C3700520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835CE-F4D8-4F2F-B9D6-2AE6AE7C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5A6B-9852-4706-BF7C-C89461F8B14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6015-65D4-4A45-909C-9467FFE6D62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E62B-AB24-4B40-A258-424C36949B7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5DC0-9A65-47CB-B8EB-F6C0F8B7585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8CB5-562C-45F0-A91C-A585CB77116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61F8-BC55-45AF-BE8D-EFA22845C03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B72A-CE6D-4912-ACC5-49B128A15A7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FB07-7D9F-41DA-B287-F18D92A179F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4CD9-1EF9-4EEF-B013-3AD5525E5B0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68200" y="1536840"/>
            <a:ext cx="8663040" cy="27860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98880" y="5084280"/>
            <a:ext cx="334476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Учитель-дефектолог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Зарипова А.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Прямоугольник 3"/>
          <p:cNvSpPr/>
          <p:nvPr/>
        </p:nvSpPr>
        <p:spPr>
          <a:xfrm>
            <a:off x="826920" y="18900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униципальное автоном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АДОУ "Детский сад № 344 г. Челябинска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179280" y="1380960"/>
            <a:ext cx="4656240" cy="30704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3"/>
          <a:stretch/>
        </p:blipFill>
        <p:spPr>
          <a:xfrm>
            <a:off x="4813200" y="1380960"/>
            <a:ext cx="4151520" cy="3070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4"/>
          <a:stretch/>
        </p:blipFill>
        <p:spPr>
          <a:xfrm>
            <a:off x="2498760" y="3789360"/>
            <a:ext cx="4352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"/>
          <p:cNvPicPr/>
          <p:nvPr/>
        </p:nvPicPr>
        <p:blipFill>
          <a:blip r:embed="rId2"/>
          <a:stretch/>
        </p:blipFill>
        <p:spPr>
          <a:xfrm>
            <a:off x="318960" y="1125360"/>
            <a:ext cx="4864320" cy="2735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3"/>
          <a:stretch/>
        </p:blipFill>
        <p:spPr>
          <a:xfrm>
            <a:off x="3780000" y="3803760"/>
            <a:ext cx="52275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пасибо за внимание </a:t>
            </a: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560" y="1554120"/>
            <a:ext cx="5707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истема общения при помощи обмена карточками. Разработана Лори Фрост и Энди Бонди в 1985 году для преодоления трудностей при использовании различных программ обучения навыкам общения детей-аутистов и детей с другими социально- коммуникативными отклонениями, для которых характерно отсутствие целенаправленной или социально приемлемой речи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системы PECS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– целенаправленное, самостоятельное инициируемое общени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6156360" y="2060640"/>
            <a:ext cx="28177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о начала работы с PECS необходимо 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ценить навыки общения ребенка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пределить, какие предметы ребенок любит больше всего, или какие предметы являются подкрепляющим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рганизовать игровую среду (труднодоступность желаемых предметов)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готовить материал (карточки, альбомы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ценка подкрепляющих стимулов: Поговорить с близкими о предпочтениях ребенка и составить таблицу «Перечень предпочтений»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403280" y="3284640"/>
          <a:ext cx="6096240" cy="2865240"/>
        </p:xfrm>
        <a:graphic>
          <a:graphicData uri="http://schemas.openxmlformats.org/drawingml/2006/table">
            <a:tbl>
              <a:tblPr/>
              <a:tblGrid>
                <a:gridCol w="2976480"/>
                <a:gridCol w="311976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юбимая е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юбимые напит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юбимые иг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юбимые мес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юди, с которыми любит общать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юбимые заня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50920" y="1196640"/>
            <a:ext cx="86421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 этап: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учать ребенка получать карточку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 этап: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учать ребенка отдавать карточку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 этап: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чить распознавать предметы, изображенные на карточке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2"/>
          <a:stretch/>
        </p:blipFill>
        <p:spPr>
          <a:xfrm>
            <a:off x="2428920" y="2928960"/>
            <a:ext cx="410364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 этап: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чить ориентироваться в данной книге и находить ту или иную карточку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5 этап: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ставление фразы «Я хочу…(название предмета)» или «Дай мне (предмет)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6 этап: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чить отвечать на вопросы « Что ты хочешь?», «Что ты видишь?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4444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нижка на кольцах ламинированная формата А5 (должна быть у каждого ребенка своя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Ламинированные листы формата А5 и А4 (для занятий, для визуального расписания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Ламинированные карточки 5 на 5 см (около 200шт.) 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«Базовые карточки»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(да, нет, я хочу, помоги итд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«Мой день»(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время года, день недели, время суток, фотографии знакомых людей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«Я иду на улицу»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(время года, одежда, я надену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«У меня болит»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(части тела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«План занятий»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«Мое меню»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«Саморегуляция»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(эмоции,действия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И т.д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734544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298440" y="23760"/>
            <a:ext cx="8699400" cy="14875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ммуникативная книг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иртуальное расписани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идактические игры: Найди пару, Сопоставь предмет с картинкой, Найди тень, Соедини ..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-181080" y="4270320"/>
            <a:ext cx="3256200" cy="1830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3"/>
          <a:stretch/>
        </p:blipFill>
        <p:spPr>
          <a:xfrm>
            <a:off x="2581200" y="3513240"/>
            <a:ext cx="2451240" cy="3344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"/>
          <p:cNvPicPr/>
          <p:nvPr/>
        </p:nvPicPr>
        <p:blipFill>
          <a:blip r:embed="rId4"/>
          <a:stretch/>
        </p:blipFill>
        <p:spPr>
          <a:xfrm>
            <a:off x="5032440" y="3430440"/>
            <a:ext cx="4147920" cy="13575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"/>
          <p:cNvPicPr/>
          <p:nvPr/>
        </p:nvPicPr>
        <p:blipFill>
          <a:blip r:embed="rId5"/>
          <a:stretch/>
        </p:blipFill>
        <p:spPr>
          <a:xfrm>
            <a:off x="5032440" y="4788000"/>
            <a:ext cx="37083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9T02:35:16Z</dcterms:created>
  <dc:creator>Пользователь</dc:creator>
  <dc:description/>
  <dc:language>en-US</dc:language>
  <cp:lastModifiedBy>Алия Зарипова</cp:lastModifiedBy>
  <dcterms:modified xsi:type="dcterms:W3CDTF">2023-02-12T05:42:36Z</dcterms:modified>
  <cp:revision>17</cp:revision>
  <dc:subject/>
  <dc:title>Система альтернативной коммуникации pecs как средство самовыражения и общения для детей с РА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1f0000000000010292010207f7000400038000</vt:lpwstr>
  </property>
</Properties>
</file>