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13.jpeg" ContentType="image/jpeg"/>
  <Override PartName="/ppt/media/image6.png" ContentType="image/png"/>
  <Override PartName="/ppt/media/image26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7.gif" ContentType="image/gif"/>
  <Override PartName="/ppt/media/image29.jpeg" ContentType="image/jpeg"/>
  <Override PartName="/ppt/media/image25.gif" ContentType="image/gif"/>
  <Override PartName="/ppt/media/image10.jpeg" ContentType="image/jpeg"/>
  <Override PartName="/ppt/media/image5.png" ContentType="image/png"/>
  <Override PartName="/ppt/media/image20.jpeg" ContentType="image/jpeg"/>
  <Override PartName="/ppt/media/image1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4.png" ContentType="image/png"/>
  <Override PartName="/ppt/media/image2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EC8-C3C3-4005-9A37-3189DB53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BEB-D609-4407-A084-4D3ABF78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3F7-E22D-4084-8310-62F85ED9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2B7-E3AE-494C-A67E-E1C6ACE9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2059-115C-4124-9C4A-0A3B030B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1CE2-024C-4A58-AF66-1E5F5C72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9A13-2C99-4721-B06F-36B5A117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14FA-FF34-4C21-87AC-8DC24135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7505-3050-4C6B-9974-DA849D31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B384-E9C0-4465-A4AC-59A584A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1E61-85DD-4896-BC8C-40DB88E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685-B26B-4F23-A5DD-BE411294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FB47-0607-42AB-9B1F-09216392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2137-29BF-4C8A-845A-93738AEA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141D-77CC-446D-8C81-8F085BF4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C650-6256-46CC-AD29-54A38524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83CC-E258-46FC-9521-88E479EB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87F7-6E61-46F4-9879-BCFED7E6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8CD7-2634-4552-956C-EF6F080C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D9D3-C5AD-4ECE-A9FD-3A52FFE3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EAF9-735E-47C5-9E55-713126FA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ACBD-50B2-412A-988D-DA312A10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E4F-45BF-46EE-B476-266B0726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0087-658F-4E71-BEB3-B4951784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10CF-2E91-44A3-B9C0-8BD70684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7EA2-E608-4F11-AF57-8B613F9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9E50-AC14-48BF-9992-53151296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1A51-D4C8-4470-96F8-B8BA2145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BEAC-84F4-4821-B616-19BF4F8D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CD4F2-7740-4715-BEE7-B4BF47AE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716D7-59F2-4826-9E61-CB012A52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B405-CAEB-4C0D-8CA7-F8AF928C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F6A3-BCE3-4D7F-BE23-01D7E5C1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2FC-DA9E-4FC3-829F-5C52658C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2473-3A45-4B59-AD34-7DBF5034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E3F3-61C2-4641-B449-3F8AA71B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B1988-674A-42B7-BF46-AD9AA3ED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C560-7CCA-460D-BFD1-F5587F3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FCBE-57E8-4A31-9A8D-B7E1EE7F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E475-E376-4607-9DC8-C76CF8F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CF16-F811-40B6-8969-98A6D284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98B0-EDA2-4181-A1B8-27478425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9BB1B-ED2F-4AFF-8AC0-833AFB08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117C2-7F3C-4A4B-A7FE-53EBF3D8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EC2-1688-4F3D-BD32-7219D18E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0E630-C3B0-48CE-A35F-54661464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C5812-308B-4C28-8620-1DBDBBB7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B6AF-DA30-42AC-9F9C-4B6FF609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E2F3C-6553-4B6A-A259-83261BEF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B4FE-5044-45BD-BA63-A72BFE9B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A6B1-1D24-4A3C-8C37-996D94C7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5BCA-AB75-4811-96CC-B843337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0CFE-0C71-4B01-B9F3-DCB78AB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46AEF-C036-46D0-B5FE-86D5D7B8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132F9-4076-4D14-9590-8455C96B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494-E950-4141-B744-8CA54B7A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043DD-DF16-4855-94D2-1B6EECC7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767A2-507B-433B-B4EF-8A7A38FD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3575B-2170-434A-85CC-C0903213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572F8-15CB-4DE6-9AC6-90169718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C6C6A-DF30-4017-A073-FA591318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40969-BA2C-4A10-8659-34CC4F04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591BD-F0E6-4111-88CF-80DE3673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DDC1B-DC98-45DE-BF17-0429673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72FBA-829D-4E81-BB73-CE53E77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7393E-AC94-4A76-8289-5FC8D5EB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BDC-4229-43C5-85D0-A91257D8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21399-7471-4411-93BD-1008C579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A0038-5710-4F3B-B062-0A65B28E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37834-9139-47FD-8916-B7F5C712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42C53-FB7F-4927-91B7-01770E98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12783-771E-4567-9565-4FA9FD8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7E8F6-5D48-42D0-9E7E-0F81CBF1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CBAA7-F3E8-459D-A3A9-76627E58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7FBB-594A-4AD0-A165-C966A148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8443-FA47-4B94-8C70-7831CC55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7F947-E4B7-41C3-A814-A9706AA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558-8265-4B52-9E53-75A4FE7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28F6E-3DD5-498F-BF0C-D09679E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3343D-F57F-4158-B034-08D4B4F6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D4782-71CB-41E9-901C-128DFCA2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342B2-1555-4B92-BA0C-36645290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D5E9-8314-4B05-90D0-7D7569A5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762-0069-4BFD-80E5-736CBB3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38A4-2AA5-4A99-A3F2-BC7EB25A3B8C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2724-6853-4139-A52E-50520592F1C0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E63D-AD4F-43BF-A5B4-F9F34206895C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2E1E-DEC7-4044-B3AA-F22BE05C29A0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268-D850-439F-8533-BE1E61FE22A4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D320-7CD1-4418-AB56-D98D6128A7EA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F533-A2C4-436F-AACA-BA7E135F9BAF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1643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rbel"/>
              </a:rPr>
              <a:t>Сказка о Веселом Язычке  </a:t>
            </a:r>
            <a:br>
              <a:rPr sz="3900"/>
            </a:br>
            <a:endParaRPr b="0" lang="en-US" sz="72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19" name="Picture 2" descr="C:\Documents and Settings\Домашний компьютер\Рабочий стол\mariy\thing9.files\губы\TONGUE1.gif"/>
          <p:cNvPicPr/>
          <p:nvPr/>
        </p:nvPicPr>
        <p:blipFill>
          <a:blip r:embed="rId1"/>
          <a:stretch/>
        </p:blipFill>
        <p:spPr>
          <a:xfrm>
            <a:off x="357120" y="1285920"/>
            <a:ext cx="633600" cy="780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Логопед\Рабочий стол\31.gif"/>
          <p:cNvPicPr/>
          <p:nvPr/>
        </p:nvPicPr>
        <p:blipFill>
          <a:blip r:embed="rId2"/>
          <a:stretch/>
        </p:blipFill>
        <p:spPr>
          <a:xfrm>
            <a:off x="4000680" y="2857680"/>
            <a:ext cx="1574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85560" y="1213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ернулся Язычок домой, посмотрел на часы, они тикали: «тик-так»  </a:t>
            </a: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( рот открыт, губы в улыбке, кончиком языка дотрагиваемся до уголков рта).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54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1042920" y="2852640"/>
            <a:ext cx="3214800" cy="3417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237636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848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Котенок свернулся клубочком.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«Пора и мне спать» ,-подумал Язычок.</a:t>
            </a:r>
            <a:br>
              <a:rPr sz="2800"/>
            </a:b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10" descr="C:\Documents and Settings\Логопед\Рабочий стол\cat1.gif"/>
          <p:cNvPicPr/>
          <p:nvPr/>
        </p:nvPicPr>
        <p:blipFill>
          <a:blip r:embed="rId1"/>
          <a:stretch/>
        </p:blipFill>
        <p:spPr>
          <a:xfrm>
            <a:off x="3500280" y="3714840"/>
            <a:ext cx="2494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14280" y="57132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rbel"/>
              </a:rPr>
              <a:t>Жил-был в домике Веселый Язычок своем Догадайся, что это за доми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C:\Documents and Settings\Логопед\Рабочий стол\31.gif"/>
          <p:cNvPicPr/>
          <p:nvPr/>
        </p:nvPicPr>
        <p:blipFill>
          <a:blip r:embed="rId1"/>
          <a:stretch/>
        </p:blipFill>
        <p:spPr>
          <a:xfrm>
            <a:off x="6858000" y="2214720"/>
            <a:ext cx="1816200" cy="214308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11"/>
          <p:cNvSpPr/>
          <p:nvPr/>
        </p:nvSpPr>
        <p:spPr>
          <a:xfrm>
            <a:off x="1214280" y="2500200"/>
            <a:ext cx="6215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домике этом красные две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ядом с дверями белые 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юбят зверюшки конфеты и плю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1714680" y="514368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Догадались? Это домик-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Documents and Settings\Домашний компьютер\Рабочий стол\mariy\thing9.files\губы\41R4.gif"/>
          <p:cNvPicPr/>
          <p:nvPr/>
        </p:nvPicPr>
        <p:blipFill>
          <a:blip r:embed="rId2"/>
          <a:stretch/>
        </p:blipFill>
        <p:spPr>
          <a:xfrm>
            <a:off x="6500880" y="4797360"/>
            <a:ext cx="21034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Проснулся Язычок рано утром. Открыл окошко. Посмотрел налево, направо.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При открытом рте движения языка направо – налево)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7" name="Picture 4" descr="C:\Documents and Settings\Логопед\Рабочий стол\32.gif"/>
          <p:cNvPicPr/>
          <p:nvPr/>
        </p:nvPicPr>
        <p:blipFill>
          <a:blip r:embed="rId1"/>
          <a:stretch/>
        </p:blipFill>
        <p:spPr>
          <a:xfrm>
            <a:off x="1187280" y="2924280"/>
            <a:ext cx="3097440" cy="257148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6" descr="IMG_7570.JPG"/>
          <p:cNvPicPr/>
          <p:nvPr/>
        </p:nvPicPr>
        <p:blipFill>
          <a:blip r:embed="rId2"/>
          <a:stretch/>
        </p:blipFill>
        <p:spPr>
          <a:xfrm>
            <a:off x="4788000" y="3500280"/>
            <a:ext cx="2160360" cy="136872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7" descr="IMG_7569.JPG"/>
          <p:cNvPicPr/>
          <p:nvPr/>
        </p:nvPicPr>
        <p:blipFill>
          <a:blip r:embed="rId3"/>
          <a:stretch/>
        </p:blipFill>
        <p:spPr>
          <a:xfrm>
            <a:off x="6300720" y="5084640"/>
            <a:ext cx="20145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57200" y="1916280"/>
            <a:ext cx="77868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низ посмотрел : нет ли луж? 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движение  языка вниз)</a:t>
            </a: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 Вверх посмотрел: светит ли солнышко? </a:t>
            </a: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движение языка вверх).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1" name="Picture 5" descr="C:\Documents and Settings\Логопед\Рабочий стол\lu.gif"/>
          <p:cNvPicPr/>
          <p:nvPr/>
        </p:nvPicPr>
        <p:blipFill>
          <a:blip r:embed="rId1"/>
          <a:stretch/>
        </p:blipFill>
        <p:spPr>
          <a:xfrm>
            <a:off x="1187280" y="4221000"/>
            <a:ext cx="2880000" cy="1368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C:\Documents and Settings\Логопед\Рабочий стол\33.gif"/>
          <p:cNvPicPr/>
          <p:nvPr/>
        </p:nvPicPr>
        <p:blipFill>
          <a:blip r:embed="rId2"/>
          <a:stretch/>
        </p:blipFill>
        <p:spPr>
          <a:xfrm>
            <a:off x="1908000" y="0"/>
            <a:ext cx="2224440" cy="206208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6" descr="IMG_7575.JPG"/>
          <p:cNvPicPr/>
          <p:nvPr/>
        </p:nvPicPr>
        <p:blipFill>
          <a:blip r:embed="rId3"/>
          <a:stretch/>
        </p:blipFill>
        <p:spPr>
          <a:xfrm>
            <a:off x="5651640" y="476280"/>
            <a:ext cx="2160360" cy="158436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7" descr="IMG_7577.JPG"/>
          <p:cNvPicPr/>
          <p:nvPr/>
        </p:nvPicPr>
        <p:blipFill>
          <a:blip r:embed="rId4"/>
          <a:stretch/>
        </p:blipFill>
        <p:spPr>
          <a:xfrm>
            <a:off x="5364000" y="4221000"/>
            <a:ext cx="2160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999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ышел Язычок на крыльцо дома. Вокруг дома длинный забор. Во такой. 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улыбнуться, с напряжением обнажив сомкнутые губы).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6" name="Picture 7" descr="C:\Documents and Settings\Логопед\Рабочий стол\sa.gif"/>
          <p:cNvPicPr/>
          <p:nvPr/>
        </p:nvPicPr>
        <p:blipFill>
          <a:blip r:embed="rId1"/>
          <a:stretch/>
        </p:blipFill>
        <p:spPr>
          <a:xfrm>
            <a:off x="1476360" y="2781360"/>
            <a:ext cx="2951280" cy="2376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21607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70c0"/>
                </a:solidFill>
                <a:latin typeface="Corbel"/>
                <a:ea typeface="Times New Roman"/>
              </a:rPr>
              <a:t>А  в это время мама позвала язычка пить чай с блинчиками. </a:t>
            </a:r>
            <a:br>
              <a:rPr sz="2500"/>
            </a:br>
            <a:r>
              <a:rPr b="0" i="1" lang="ru-RU" sz="2500" spc="-1" strike="noStrike">
                <a:solidFill>
                  <a:srgbClr val="344e6d"/>
                </a:solidFill>
                <a:latin typeface="Corbel"/>
                <a:ea typeface="Times New Roman"/>
              </a:rPr>
              <a:t>(</a:t>
            </a:r>
            <a:r>
              <a:rPr b="0" lang="ru-RU" sz="2500" spc="-1" strike="noStrike">
                <a:solidFill>
                  <a:srgbClr val="344e6d"/>
                </a:solidFill>
                <a:latin typeface="Corbel"/>
              </a:rPr>
              <a:t>Высунуть широкий язык, положить на язык и расслабить</a:t>
            </a:r>
            <a:r>
              <a:rPr b="0" lang="ru-RU" sz="2500" spc="-1" strike="noStrike">
                <a:solidFill>
                  <a:srgbClr val="475320"/>
                </a:solidFill>
                <a:latin typeface="Corbel"/>
              </a:rPr>
              <a:t>.) </a:t>
            </a:r>
            <a:br>
              <a:rPr sz="1800"/>
            </a:br>
            <a:r>
              <a:rPr b="0" i="1" lang="ru-RU" sz="1800" spc="-1" strike="noStrike">
                <a:solidFill>
                  <a:srgbClr val="0070c0"/>
                </a:solidFill>
                <a:latin typeface="Corbel"/>
                <a:ea typeface="Times New Roman"/>
              </a:rPr>
              <a:t> </a:t>
            </a:r>
            <a:endParaRPr b="0" lang="en-US" sz="1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9" name="Picture 22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2944800" cy="2682720"/>
          </a:xfrm>
          <a:prstGeom prst="rect">
            <a:avLst/>
          </a:prstGeom>
          <a:ln w="0">
            <a:noFill/>
          </a:ln>
        </p:spPr>
      </p:pic>
      <p:pic>
        <p:nvPicPr>
          <p:cNvPr id="340" name="Содержимое 8" descr="IMG_7553.JPG"/>
          <p:cNvPicPr/>
          <p:nvPr/>
        </p:nvPicPr>
        <p:blipFill>
          <a:blip r:embed="rId2"/>
          <a:stretch/>
        </p:blipFill>
        <p:spPr>
          <a:xfrm>
            <a:off x="5724360" y="3284640"/>
            <a:ext cx="230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7499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rbel"/>
              </a:rPr>
              <a:t>Вот из такой чашечки. </a:t>
            </a:r>
            <a:br>
              <a:rPr sz="25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Открыть широко рот, широкий язык поднять кверху, потянуться боковыми краями и кончиком языка к верхним зубам.</a:t>
            </a:r>
            <a:br>
              <a:rPr sz="2500"/>
            </a:b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42" name="Содержимое 6" descr="8202009-11-2014743746.jpg"/>
          <p:cNvPicPr/>
          <p:nvPr/>
        </p:nvPicPr>
        <p:blipFill>
          <a:blip r:embed="rId1"/>
          <a:stretch/>
        </p:blipFill>
        <p:spPr>
          <a:xfrm>
            <a:off x="1258920" y="2997360"/>
            <a:ext cx="2952720" cy="180000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7" descr="IMG_7585.JPG"/>
          <p:cNvPicPr/>
          <p:nvPr/>
        </p:nvPicPr>
        <p:blipFill>
          <a:blip r:embed="rId2"/>
          <a:stretch/>
        </p:blipFill>
        <p:spPr>
          <a:xfrm>
            <a:off x="4645080" y="2803680"/>
            <a:ext cx="30225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836280"/>
            <a:ext cx="7499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orbel"/>
              </a:rPr>
              <a:t>Язычок любил блинчики с вареньем. </a:t>
            </a:r>
            <a:br>
              <a:rPr sz="2500"/>
            </a:br>
            <a:r>
              <a:rPr b="0" lang="ru-RU" sz="2500" spc="-1" strike="noStrike">
                <a:solidFill>
                  <a:srgbClr val="344e6d"/>
                </a:solidFill>
                <a:latin typeface="Corbel"/>
              </a:rPr>
              <a:t>Рот приоткрыть. Высунуть широкий язык, облизать им верхнюю, а затем нижнюю губу по кругу. Выполнять в одну, а затем в другую сторону.</a:t>
            </a:r>
            <a:br>
              <a:rPr sz="2500"/>
            </a:br>
            <a:endParaRPr b="0" lang="en-US" sz="25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1873080" cy="2089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1841400" cy="2009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18856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56840" y="1356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rbel"/>
              </a:rPr>
              <a:t>Съел Язычок блинчики с вареньем и побежал на улицу. Посмотрел он вокруг. Увидел Язычок, как </a:t>
            </a:r>
            <a:r>
              <a:rPr b="0" lang="ru-RU" sz="2400" spc="-1" strike="noStrike">
                <a:solidFill>
                  <a:srgbClr val="344e6d"/>
                </a:solidFill>
                <a:latin typeface="Corbel"/>
              </a:rPr>
              <a:t>кошка(губы в улыбке, рот открыт, кончик языка упирается в нижние зубы, язык горкой, упираясь кончиком языка в нижние зубы) </a:t>
            </a:r>
            <a:r>
              <a:rPr b="0" i="1" lang="ru-RU" sz="2400" spc="-1" strike="noStrike">
                <a:solidFill>
                  <a:srgbClr val="0070c0"/>
                </a:solidFill>
                <a:latin typeface="Corbel"/>
              </a:rPr>
              <a:t>ловит мышку за хвостик </a:t>
            </a:r>
            <a:r>
              <a:rPr b="0" lang="ru-RU" sz="2400" spc="-1" strike="noStrike">
                <a:solidFill>
                  <a:srgbClr val="344e6d"/>
                </a:solidFill>
                <a:latin typeface="Corbel"/>
              </a:rPr>
              <a:t>(губы в улыбке, приоткрыть рот, произнести «а-а» и прикусить широкий кончик языка).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49" name="Picture 9" descr="C:\Documents and Settings\Логопед\Рабочий стол\ma.gif"/>
          <p:cNvPicPr/>
          <p:nvPr/>
        </p:nvPicPr>
        <p:blipFill>
          <a:blip r:embed="rId1"/>
          <a:stretch/>
        </p:blipFill>
        <p:spPr>
          <a:xfrm>
            <a:off x="2340000" y="4724280"/>
            <a:ext cx="1125360" cy="571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C:\Documents and Settings\Логопед\Рабочий стол\cat2.gif"/>
          <p:cNvPicPr/>
          <p:nvPr/>
        </p:nvPicPr>
        <p:blipFill>
          <a:blip r:embed="rId2"/>
          <a:stretch/>
        </p:blipFill>
        <p:spPr>
          <a:xfrm>
            <a:off x="0" y="3573360"/>
            <a:ext cx="2786040" cy="1344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4"/>
          <a:stretch/>
        </p:blipFill>
        <p:spPr>
          <a:xfrm>
            <a:off x="6227640" y="414972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0:30:06Z</dcterms:created>
  <dc:creator>Мария</dc:creator>
  <dc:description/>
  <dc:language>en-US</dc:language>
  <cp:lastModifiedBy>MM1</cp:lastModifiedBy>
  <dcterms:modified xsi:type="dcterms:W3CDTF">2016-09-27T03:54:24Z</dcterms:modified>
  <cp:revision>17</cp:revision>
  <dc:subject/>
  <dc:title>Сказка о Веселом Язычке</dc:title>
</cp:coreProperties>
</file>