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13.jpeg" ContentType="image/jpeg"/>
  <Override PartName="/ppt/media/image6.png" ContentType="image/png"/>
  <Override PartName="/ppt/media/image26.jpeg" ContentType="image/jpeg"/>
  <Override PartName="/ppt/media/image14.jpeg" ContentType="image/jpeg"/>
  <Override PartName="/ppt/media/image8.png" ContentType="image/png"/>
  <Override PartName="/ppt/media/image30.gif" ContentType="image/gif"/>
  <Override PartName="/ppt/media/image7.gif" ContentType="image/gif"/>
  <Override PartName="/ppt/media/image29.jpeg" ContentType="image/jpeg"/>
  <Override PartName="/ppt/media/image25.gif" ContentType="image/gif"/>
  <Override PartName="/ppt/media/image10.jpeg" ContentType="image/jpeg"/>
  <Override PartName="/ppt/media/image5.png" ContentType="image/png"/>
  <Override PartName="/ppt/media/image20.jpeg" ContentType="image/jpeg"/>
  <Override PartName="/ppt/media/image19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media/image24.png" ContentType="image/png"/>
  <Override PartName="/ppt/media/image2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7B8-7637-46BC-A7DA-158FA7D9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1C5-01C3-4182-9810-03A8615B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A8D-610A-4D8A-B352-57696908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8665-771D-4A37-8D8C-EA83DFC5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DC5E-62F9-4F7F-9160-1A14E278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8788-404C-4262-AB13-DC6CAFDC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2CC0-5000-464C-84BF-3BA4DBFA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7BBF-5A11-4640-8B85-8231CFC3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C619-937A-4022-93C1-BD0D4CA9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AEE0-C6C1-4E91-9B90-08A84DC3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DE65-3DB9-42FE-B717-034C65F0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5CC4-0B78-4600-86EB-9CB5AEAE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CB14-9C72-4850-B7A5-66DA91EE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8AFB-9444-4CD3-B20C-159D47DC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4E5E-BA11-4650-92C0-3BDBF998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A92B-EFF6-4553-BDBD-6550D104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0C3D-306B-4A36-901E-F5DD6435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D5260-F3CE-434D-A456-4F7F8B01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1DFB6-9732-42D5-B5C6-2FBE1354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AF5AE-93B7-496B-A9C0-DEEFAE15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BC251-DF3E-455E-AF08-CA5ECA5F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E6138-569E-4298-AC0E-31C82905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06E-8B53-4FF3-B6B1-C2ACB8EE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F4C1F-D1B0-423F-9E84-3C196E7C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5171A-92FE-41C5-B5E6-9FD3D40A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1ABA2-B2ED-4438-A447-3CE5B805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18AFC-F24B-4C7C-B914-F90D3528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2883F-9992-446D-B3F2-5FE2ECF0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0F0DD-153B-42B7-AC8A-EA4B11B2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3A71C-84F7-4A3E-8DA3-7124122F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F4F87-E521-45D3-8E01-900E91BE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A2AD6-91DE-40DE-889D-4DC2A333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AEE19-FD91-47FD-9D0F-CE4F261F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83AF-73FD-44BB-95ED-EFA80061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6B708-9A37-4A50-9D49-C2FC237C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FBCDB-8FBB-4C60-AD43-07D2C208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D5886-E578-4E1D-8C21-E23904FF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92F8E-F61D-4FFB-8AE0-B3C3D955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7B2C9-10BB-4054-A547-E612A169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135D7-2886-4084-AE5D-E6D4B5D8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1B808-8BFE-447B-9E1B-51A84661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82E1C-31F7-4CD4-9EBB-892E52F8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BEE74-D57A-4D80-B780-1B861F2B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45797-ED49-4672-8071-D111E234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6D3-7A79-4D31-A136-58EF7BA3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594CE-6E0C-476B-AF67-600D569B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9B049-76CF-4C0E-A44B-115D51B5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9B1A0-B687-4524-863E-7E496486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C7593-D380-4414-A8A5-A19F94B3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9B1C0-2626-40C6-845D-A951986F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AFA04-6F69-4735-BE78-95EC44FE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03E02-A294-4204-BBEC-DD9C939F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FD677-40D8-425B-AA72-4EA81328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5ECF2-3650-4E51-BD54-CFA62E64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3D8C2-FD47-4233-A1C1-7812FF9D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D2B7-E72C-49A0-9831-F116EF39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10A54-1636-4398-9484-29258230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77304-9035-40B3-8961-E7926440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6B6F2-25D7-47AC-B2B7-7F634728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0CBCE-5815-494D-B220-D56BD3A3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AFB9B-52A9-49F5-B3D9-BD88C203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5EA71-0CA4-46CA-A59A-BB5BC71A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44EE4-5544-4C9A-8409-7E0D42A4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3C52F-E90B-492C-91BF-01C3E76A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667C7-3806-43BB-AC37-D34B2D64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D7E2C-FF15-408B-A966-ADB2FD15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AB3-FD7E-45EA-8263-F3F0DC1A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76774-9848-459C-B70F-B026FE1C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4A10B-B578-4B97-A535-42FE92E5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CE451-9AB4-495E-A3CE-CAAA7B60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CC420-3D88-4276-9E7B-1C0CA911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C2F49-9BAC-4E5F-B6E0-3BAB046F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8F6EE-DFE7-494A-BE85-D72FDFEE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F2F70-C527-4E2E-85E8-E9117AFE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A76F5-7CB7-4E9E-B3BA-59CB73CB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13061-52E2-4953-B2E7-8ABFA6CE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AC8BD-08D4-4B00-8E6F-1BE75F9B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7B8-191B-4E86-A89A-887A336F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EDBE9-9555-4243-B0AE-363B91C0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854A3-2C4D-4253-A402-666B032E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B7528-C73B-4E2F-A847-0D22FFD5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18C37-4B97-4CF3-8973-102175A0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7850B-F45A-4947-B581-89C07BB4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25CD-9C5D-4C53-B160-E7091434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05F7-6A3B-42B9-81AF-807914DD46B0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D299-3E7F-45C3-B3E6-DC90C6431B58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8DD1-0A6E-4A0D-9A42-C5A26A0C465F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D98D-9D5A-4FE9-B0BB-8CF6865597C0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A909-4FD1-47AC-8783-87762AE010E8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A71A-8AE0-4BD9-A915-EB8AD27C0299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a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efa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936A-F039-4AF8-84BC-85B6B3DB6B72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840" y="16430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rbel"/>
              </a:rPr>
              <a:t>Сказка о Веселом Язычке  </a:t>
            </a:r>
            <a:br>
              <a:rPr sz="3900"/>
            </a:br>
            <a:endParaRPr b="0" lang="en-US" sz="72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19" name="Picture 2" descr="C:\Documents and Settings\Домашний компьютер\Рабочий стол\mariy\thing9.files\губы\TONGUE1.gif"/>
          <p:cNvPicPr/>
          <p:nvPr/>
        </p:nvPicPr>
        <p:blipFill>
          <a:blip r:embed="rId1"/>
          <a:stretch/>
        </p:blipFill>
        <p:spPr>
          <a:xfrm>
            <a:off x="357120" y="1285920"/>
            <a:ext cx="633600" cy="7808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C:\Documents and Settings\Логопед\Рабочий стол\31.gif"/>
          <p:cNvPicPr/>
          <p:nvPr/>
        </p:nvPicPr>
        <p:blipFill>
          <a:blip r:embed="rId2"/>
          <a:stretch/>
        </p:blipFill>
        <p:spPr>
          <a:xfrm>
            <a:off x="4000680" y="2857680"/>
            <a:ext cx="15746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85560" y="1213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Вернулся Язычок домой, посмотрел на часы, они тикали: «тик-так»  </a:t>
            </a:r>
            <a:r>
              <a:rPr b="0" lang="ru-RU" sz="2800" spc="-1" strike="noStrike">
                <a:solidFill>
                  <a:srgbClr val="002060"/>
                </a:solidFill>
                <a:latin typeface="Corbel"/>
              </a:rPr>
              <a:t>( рот открыт, губы в улыбке, кончиком языка дотрагиваемся до уголков рта). 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54" name="Picture 2" descr="C:\Program Files\Microsoft Office\MEDIA\CAGCAT10\j0234131.wmf"/>
          <p:cNvPicPr/>
          <p:nvPr/>
        </p:nvPicPr>
        <p:blipFill>
          <a:blip r:embed="rId1"/>
          <a:stretch/>
        </p:blipFill>
        <p:spPr>
          <a:xfrm>
            <a:off x="1042920" y="2852640"/>
            <a:ext cx="3214800" cy="3417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2"/>
          <a:stretch/>
        </p:blipFill>
        <p:spPr>
          <a:xfrm>
            <a:off x="5508720" y="3645000"/>
            <a:ext cx="237636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28480" y="1142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Котенок свернулся клубочком. 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«Пора и мне спать» ,-подумал Язычок.</a:t>
            </a:r>
            <a:br>
              <a:rPr sz="2800"/>
            </a:b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10" descr="C:\Documents and Settings\Логопед\Рабочий стол\cat1.gif"/>
          <p:cNvPicPr/>
          <p:nvPr/>
        </p:nvPicPr>
        <p:blipFill>
          <a:blip r:embed="rId1"/>
          <a:stretch/>
        </p:blipFill>
        <p:spPr>
          <a:xfrm>
            <a:off x="3500280" y="3714840"/>
            <a:ext cx="2494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214280" y="57132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orbel"/>
              </a:rPr>
              <a:t>Жил-был в домике Веселый Язычок своем Догадайся, что это за доми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2" descr="C:\Documents and Settings\Логопед\Рабочий стол\31.gif"/>
          <p:cNvPicPr/>
          <p:nvPr/>
        </p:nvPicPr>
        <p:blipFill>
          <a:blip r:embed="rId1"/>
          <a:stretch/>
        </p:blipFill>
        <p:spPr>
          <a:xfrm>
            <a:off x="6858000" y="2214720"/>
            <a:ext cx="1816200" cy="214308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11"/>
          <p:cNvSpPr/>
          <p:nvPr/>
        </p:nvSpPr>
        <p:spPr>
          <a:xfrm>
            <a:off x="1214280" y="2500200"/>
            <a:ext cx="62154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домике этом красные две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ядом с дверями белые зв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юбят зверюшки конфеты и плю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2"/>
          <p:cNvSpPr/>
          <p:nvPr/>
        </p:nvSpPr>
        <p:spPr>
          <a:xfrm>
            <a:off x="1714680" y="5143680"/>
            <a:ext cx="53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Догадались? Это домик-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Documents and Settings\Домашний компьютер\Рабочий стол\mariy\thing9.files\губы\41R4.gif"/>
          <p:cNvPicPr/>
          <p:nvPr/>
        </p:nvPicPr>
        <p:blipFill>
          <a:blip r:embed="rId2"/>
          <a:stretch/>
        </p:blipFill>
        <p:spPr>
          <a:xfrm>
            <a:off x="6500880" y="4797360"/>
            <a:ext cx="210348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77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Проснулся Язычок рано утром. Открыл окошко. Посмотрел налево, направо.</a:t>
            </a:r>
            <a:br>
              <a:rPr sz="2800"/>
            </a:br>
            <a:r>
              <a:rPr b="0" lang="ru-RU" sz="2800" spc="-1" strike="noStrike">
                <a:solidFill>
                  <a:srgbClr val="344e6d"/>
                </a:solidFill>
                <a:latin typeface="Corbel"/>
              </a:rPr>
              <a:t>(При открытом рте движения языка направо – налево)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27" name="Picture 4" descr="C:\Documents and Settings\Логопед\Рабочий стол\32.gif"/>
          <p:cNvPicPr/>
          <p:nvPr/>
        </p:nvPicPr>
        <p:blipFill>
          <a:blip r:embed="rId1"/>
          <a:stretch/>
        </p:blipFill>
        <p:spPr>
          <a:xfrm>
            <a:off x="1187280" y="2924280"/>
            <a:ext cx="3097440" cy="2571480"/>
          </a:xfrm>
          <a:prstGeom prst="rect">
            <a:avLst/>
          </a:prstGeom>
          <a:ln w="0">
            <a:noFill/>
          </a:ln>
        </p:spPr>
      </p:pic>
      <p:pic>
        <p:nvPicPr>
          <p:cNvPr id="328" name="Содержимое 6" descr="IMG_7570.JPG"/>
          <p:cNvPicPr/>
          <p:nvPr/>
        </p:nvPicPr>
        <p:blipFill>
          <a:blip r:embed="rId2"/>
          <a:stretch/>
        </p:blipFill>
        <p:spPr>
          <a:xfrm>
            <a:off x="4788000" y="3500280"/>
            <a:ext cx="2160360" cy="1368720"/>
          </a:xfrm>
          <a:prstGeom prst="rect">
            <a:avLst/>
          </a:prstGeom>
          <a:ln w="0">
            <a:noFill/>
          </a:ln>
        </p:spPr>
      </p:pic>
      <p:pic>
        <p:nvPicPr>
          <p:cNvPr id="329" name="Содержимое 7" descr="IMG_7569.JPG"/>
          <p:cNvPicPr/>
          <p:nvPr/>
        </p:nvPicPr>
        <p:blipFill>
          <a:blip r:embed="rId3"/>
          <a:stretch/>
        </p:blipFill>
        <p:spPr>
          <a:xfrm>
            <a:off x="6300720" y="5084640"/>
            <a:ext cx="201456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57200" y="1916280"/>
            <a:ext cx="77868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Вниз посмотрел : нет ли луж? </a:t>
            </a:r>
            <a:br>
              <a:rPr sz="2800"/>
            </a:br>
            <a:r>
              <a:rPr b="0" lang="ru-RU" sz="2800" spc="-1" strike="noStrike">
                <a:solidFill>
                  <a:srgbClr val="344e6d"/>
                </a:solidFill>
                <a:latin typeface="Corbel"/>
              </a:rPr>
              <a:t>(движение  языка вниз)</a:t>
            </a: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.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 Вверх посмотрел: светит ли солнышко? </a:t>
            </a:r>
            <a:r>
              <a:rPr b="0" lang="ru-RU" sz="2800" spc="-1" strike="noStrike">
                <a:solidFill>
                  <a:srgbClr val="344e6d"/>
                </a:solidFill>
                <a:latin typeface="Corbel"/>
              </a:rPr>
              <a:t>(движение языка вверх). 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31" name="Picture 5" descr="C:\Documents and Settings\Логопед\Рабочий стол\lu.gif"/>
          <p:cNvPicPr/>
          <p:nvPr/>
        </p:nvPicPr>
        <p:blipFill>
          <a:blip r:embed="rId1"/>
          <a:stretch/>
        </p:blipFill>
        <p:spPr>
          <a:xfrm>
            <a:off x="1187280" y="4221000"/>
            <a:ext cx="2880000" cy="1368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C:\Documents and Settings\Логопед\Рабочий стол\33.gif"/>
          <p:cNvPicPr/>
          <p:nvPr/>
        </p:nvPicPr>
        <p:blipFill>
          <a:blip r:embed="rId2"/>
          <a:stretch/>
        </p:blipFill>
        <p:spPr>
          <a:xfrm>
            <a:off x="1908000" y="0"/>
            <a:ext cx="2224440" cy="2062080"/>
          </a:xfrm>
          <a:prstGeom prst="rect">
            <a:avLst/>
          </a:prstGeom>
          <a:ln w="0">
            <a:noFill/>
          </a:ln>
        </p:spPr>
      </p:pic>
      <p:pic>
        <p:nvPicPr>
          <p:cNvPr id="333" name="Содержимое 6" descr="IMG_7575.JPG"/>
          <p:cNvPicPr/>
          <p:nvPr/>
        </p:nvPicPr>
        <p:blipFill>
          <a:blip r:embed="rId3"/>
          <a:stretch/>
        </p:blipFill>
        <p:spPr>
          <a:xfrm>
            <a:off x="5651640" y="476280"/>
            <a:ext cx="2160360" cy="1584360"/>
          </a:xfrm>
          <a:prstGeom prst="rect">
            <a:avLst/>
          </a:prstGeom>
          <a:ln w="0">
            <a:noFill/>
          </a:ln>
        </p:spPr>
      </p:pic>
      <p:pic>
        <p:nvPicPr>
          <p:cNvPr id="334" name="Содержимое 7" descr="IMG_7577.JPG"/>
          <p:cNvPicPr/>
          <p:nvPr/>
        </p:nvPicPr>
        <p:blipFill>
          <a:blip r:embed="rId4"/>
          <a:stretch/>
        </p:blipFill>
        <p:spPr>
          <a:xfrm>
            <a:off x="5364000" y="4221000"/>
            <a:ext cx="21607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28480" y="999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Вышел Язычок на крыльцо дома. Вокруг дома длинный забор. Во такой. </a:t>
            </a:r>
            <a:br>
              <a:rPr sz="2800"/>
            </a:br>
            <a:r>
              <a:rPr b="0" lang="ru-RU" sz="2800" spc="-1" strike="noStrike">
                <a:solidFill>
                  <a:srgbClr val="344e6d"/>
                </a:solidFill>
                <a:latin typeface="Corbel"/>
              </a:rPr>
              <a:t>(улыбнуться, с напряжением обнажив сомкнутые губы).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36" name="Picture 7" descr="C:\Documents and Settings\Логопед\Рабочий стол\sa.gif"/>
          <p:cNvPicPr/>
          <p:nvPr/>
        </p:nvPicPr>
        <p:blipFill>
          <a:blip r:embed="rId1"/>
          <a:stretch/>
        </p:blipFill>
        <p:spPr>
          <a:xfrm>
            <a:off x="1476360" y="2781360"/>
            <a:ext cx="2951280" cy="2376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5364000" y="3284640"/>
            <a:ext cx="21607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70c0"/>
                </a:solidFill>
                <a:latin typeface="Corbel"/>
                <a:ea typeface="Times New Roman"/>
              </a:rPr>
              <a:t>А  в это время мама позвала язычка пить чай с блинчиками. </a:t>
            </a:r>
            <a:br>
              <a:rPr sz="2500"/>
            </a:br>
            <a:r>
              <a:rPr b="0" i="1" lang="ru-RU" sz="2500" spc="-1" strike="noStrike">
                <a:solidFill>
                  <a:srgbClr val="344e6d"/>
                </a:solidFill>
                <a:latin typeface="Corbel"/>
                <a:ea typeface="Times New Roman"/>
              </a:rPr>
              <a:t>(</a:t>
            </a:r>
            <a:r>
              <a:rPr b="0" lang="ru-RU" sz="2500" spc="-1" strike="noStrike">
                <a:solidFill>
                  <a:srgbClr val="344e6d"/>
                </a:solidFill>
                <a:latin typeface="Corbel"/>
              </a:rPr>
              <a:t>Высунуть широкий язык, положить на язык и расслабить</a:t>
            </a:r>
            <a:r>
              <a:rPr b="0" lang="ru-RU" sz="2500" spc="-1" strike="noStrike">
                <a:solidFill>
                  <a:srgbClr val="475320"/>
                </a:solidFill>
                <a:latin typeface="Corbel"/>
              </a:rPr>
              <a:t>.) </a:t>
            </a:r>
            <a:br>
              <a:rPr sz="1800"/>
            </a:br>
            <a:r>
              <a:rPr b="0" i="1" lang="ru-RU" sz="1800" spc="-1" strike="noStrike">
                <a:solidFill>
                  <a:srgbClr val="0070c0"/>
                </a:solidFill>
                <a:latin typeface="Corbel"/>
                <a:ea typeface="Times New Roman"/>
              </a:rPr>
              <a:t> </a:t>
            </a:r>
            <a:endParaRPr b="0" lang="en-US" sz="18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39" name="Picture 22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2944800" cy="2682720"/>
          </a:xfrm>
          <a:prstGeom prst="rect">
            <a:avLst/>
          </a:prstGeom>
          <a:ln w="0">
            <a:noFill/>
          </a:ln>
        </p:spPr>
      </p:pic>
      <p:pic>
        <p:nvPicPr>
          <p:cNvPr id="340" name="Содержимое 8" descr="IMG_7553.JPG"/>
          <p:cNvPicPr/>
          <p:nvPr/>
        </p:nvPicPr>
        <p:blipFill>
          <a:blip r:embed="rId2"/>
          <a:stretch/>
        </p:blipFill>
        <p:spPr>
          <a:xfrm>
            <a:off x="5724360" y="3284640"/>
            <a:ext cx="2305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31640" y="907560"/>
            <a:ext cx="749916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rbel"/>
              </a:rPr>
              <a:t>Вот из такой чашечки. </a:t>
            </a:r>
            <a:br>
              <a:rPr sz="2500"/>
            </a:br>
            <a:r>
              <a:rPr b="0" lang="ru-RU" sz="2800" spc="-1" strike="noStrike">
                <a:solidFill>
                  <a:srgbClr val="344e6d"/>
                </a:solidFill>
                <a:latin typeface="Corbel"/>
              </a:rPr>
              <a:t>Открыть широко рот, широкий язык поднять кверху, потянуться боковыми краями и кончиком языка к верхним зубам.</a:t>
            </a:r>
            <a:br>
              <a:rPr sz="2500"/>
            </a:b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42" name="Содержимое 6" descr="8202009-11-2014743746.jpg"/>
          <p:cNvPicPr/>
          <p:nvPr/>
        </p:nvPicPr>
        <p:blipFill>
          <a:blip r:embed="rId1"/>
          <a:stretch/>
        </p:blipFill>
        <p:spPr>
          <a:xfrm>
            <a:off x="1258920" y="2997360"/>
            <a:ext cx="2952720" cy="1800000"/>
          </a:xfrm>
          <a:prstGeom prst="rect">
            <a:avLst/>
          </a:prstGeom>
          <a:ln w="0">
            <a:noFill/>
          </a:ln>
        </p:spPr>
      </p:pic>
      <p:pic>
        <p:nvPicPr>
          <p:cNvPr id="343" name="Содержимое 7" descr="IMG_7585.JPG"/>
          <p:cNvPicPr/>
          <p:nvPr/>
        </p:nvPicPr>
        <p:blipFill>
          <a:blip r:embed="rId2"/>
          <a:stretch/>
        </p:blipFill>
        <p:spPr>
          <a:xfrm>
            <a:off x="4645080" y="2803680"/>
            <a:ext cx="302256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836280"/>
            <a:ext cx="7499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Corbel"/>
              </a:rPr>
              <a:t>Язычок любил блинчики с вареньем. </a:t>
            </a:r>
            <a:br>
              <a:rPr sz="2500"/>
            </a:br>
            <a:r>
              <a:rPr b="0" lang="ru-RU" sz="2500" spc="-1" strike="noStrike">
                <a:solidFill>
                  <a:srgbClr val="344e6d"/>
                </a:solidFill>
                <a:latin typeface="Corbel"/>
              </a:rPr>
              <a:t>Рот приоткрыть. Высунуть широкий язык, облизать им верхнюю, а затем нижнюю губу по кругу. Выполнять в одну, а затем в другую сторону.</a:t>
            </a:r>
            <a:br>
              <a:rPr sz="2500"/>
            </a:br>
            <a:endParaRPr b="0" lang="en-US" sz="25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45" name="Picture 6" descr=""/>
          <p:cNvPicPr/>
          <p:nvPr/>
        </p:nvPicPr>
        <p:blipFill>
          <a:blip r:embed="rId1"/>
          <a:stretch/>
        </p:blipFill>
        <p:spPr>
          <a:xfrm>
            <a:off x="3851280" y="3068640"/>
            <a:ext cx="1873080" cy="2089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"/>
          <p:cNvPicPr/>
          <p:nvPr/>
        </p:nvPicPr>
        <p:blipFill>
          <a:blip r:embed="rId2"/>
          <a:stretch/>
        </p:blipFill>
        <p:spPr>
          <a:xfrm>
            <a:off x="1332000" y="2421000"/>
            <a:ext cx="1841400" cy="20098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18856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56840" y="1356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rbel"/>
              </a:rPr>
              <a:t>Съел Язычок блинчики с вареньем и побежал на улицу. Посмотрел он вокруг. Увидел Язычок, как </a:t>
            </a:r>
            <a:r>
              <a:rPr b="0" lang="ru-RU" sz="2400" spc="-1" strike="noStrike">
                <a:solidFill>
                  <a:srgbClr val="344e6d"/>
                </a:solidFill>
                <a:latin typeface="Corbel"/>
              </a:rPr>
              <a:t>кошка(губы в улыбке, рот открыт, кончик языка упирается в нижние зубы, язык горкой, упираясь кончиком языка в нижние зубы) </a:t>
            </a:r>
            <a:r>
              <a:rPr b="0" i="1" lang="ru-RU" sz="2400" spc="-1" strike="noStrike">
                <a:solidFill>
                  <a:srgbClr val="0070c0"/>
                </a:solidFill>
                <a:latin typeface="Corbel"/>
              </a:rPr>
              <a:t>ловит мышку за хвостик </a:t>
            </a:r>
            <a:r>
              <a:rPr b="0" lang="ru-RU" sz="2400" spc="-1" strike="noStrike">
                <a:solidFill>
                  <a:srgbClr val="344e6d"/>
                </a:solidFill>
                <a:latin typeface="Corbel"/>
              </a:rPr>
              <a:t>(губы в улыбке, приоткрыть рот, произнести «а-а» и прикусить широкий кончик языка).</a:t>
            </a:r>
            <a:endParaRPr b="0" lang="en-US" sz="24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49" name="Picture 9" descr="C:\Documents and Settings\Логопед\Рабочий стол\ma.gif"/>
          <p:cNvPicPr/>
          <p:nvPr/>
        </p:nvPicPr>
        <p:blipFill>
          <a:blip r:embed="rId1"/>
          <a:stretch/>
        </p:blipFill>
        <p:spPr>
          <a:xfrm>
            <a:off x="2340000" y="4724280"/>
            <a:ext cx="1125360" cy="5716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C:\Documents and Settings\Логопед\Рабочий стол\cat2.gif"/>
          <p:cNvPicPr/>
          <p:nvPr/>
        </p:nvPicPr>
        <p:blipFill>
          <a:blip r:embed="rId2"/>
          <a:stretch/>
        </p:blipFill>
        <p:spPr>
          <a:xfrm>
            <a:off x="0" y="3573360"/>
            <a:ext cx="2786040" cy="13446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"/>
          <p:cNvPicPr/>
          <p:nvPr/>
        </p:nvPicPr>
        <p:blipFill>
          <a:blip r:embed="rId3"/>
          <a:stretch/>
        </p:blipFill>
        <p:spPr>
          <a:xfrm>
            <a:off x="3851280" y="400536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"/>
          <p:cNvPicPr/>
          <p:nvPr/>
        </p:nvPicPr>
        <p:blipFill>
          <a:blip r:embed="rId4"/>
          <a:stretch/>
        </p:blipFill>
        <p:spPr>
          <a:xfrm>
            <a:off x="6227640" y="4149720"/>
            <a:ext cx="19447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0:30:06Z</dcterms:created>
  <dc:creator>Мария</dc:creator>
  <dc:description/>
  <dc:language>en-US</dc:language>
  <cp:lastModifiedBy>MM1</cp:lastModifiedBy>
  <dcterms:modified xsi:type="dcterms:W3CDTF">2016-09-27T03:54:24Z</dcterms:modified>
  <cp:revision>17</cp:revision>
  <dc:subject/>
  <dc:title>Сказка о Веселом Язычке</dc:title>
</cp:coreProperties>
</file>