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71A-6356-4168-8672-F56B554C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F3C-E8FD-46C2-8BF3-32B4801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D72-4E85-44EB-876B-88FD4E82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4FE-B8EC-4AB3-BC0B-D7E5D384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FB9-5461-4336-8794-A2C0870C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16B-C924-4479-A467-9E10FEE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35B-8DE4-4B5B-A26B-F498E91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4EE-69CC-4DFE-8476-2BDB2FD0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67C-EE05-41F7-9F6D-FFA70B21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959-59AF-4D66-99E3-E11C6B5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BF3-07F8-47A4-9013-92DA400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1AE-DE77-4C40-BDC9-4D19D72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74F3-463B-49E1-A605-C081CA907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5356080"/>
            <a:ext cx="8226360" cy="15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ДОУ «Детский сад общеразвивающего  вида  № 82» г. Нижнекамск, НМР РТ</a:t>
            </a:r>
            <a:br>
              <a:rPr sz="1600"/>
            </a:b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атель: Московская Ирина Валерьевна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9" descr=""/>
          <p:cNvPicPr/>
          <p:nvPr/>
        </p:nvPicPr>
        <p:blipFill>
          <a:blip r:embed="rId2"/>
          <a:stretch/>
        </p:blipFill>
        <p:spPr>
          <a:xfrm>
            <a:off x="622440" y="1908000"/>
            <a:ext cx="8070840" cy="20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292720" y="13413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00000" y="236520"/>
            <a:ext cx="68407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тактильных ощущений. Сформировать у детей целостное представление о предмете (величина, форма, цвет).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603360" y="1873080"/>
            <a:ext cx="7937280" cy="472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84360" y="4508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042920" y="4508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55640" y="43657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492360" y="4437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227640" y="458136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Прямоугольник 18"/>
          <p:cNvSpPr/>
          <p:nvPr/>
        </p:nvSpPr>
        <p:spPr>
          <a:xfrm>
            <a:off x="250920" y="620640"/>
            <a:ext cx="86421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, serif"/>
              </a:rPr>
              <a:t>Задачи: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, serif"/>
              </a:rPr>
              <a:t>Образовательные: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цветоразличение, формовосприятие, умение воспринимать величину, группировать, сравнивать и обобщать предметы по этим признакам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Формировать у детей зрительные способы обследования предметов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Учить соотносить форму предметов с формой плоскостных изображений и объемных геометрических тел (шар, куб)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зрительную реакцию на предметы окружающего мира, замечать их форму, цвет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Обобщать активный и пассивный словарь детей; учить понимать и использовать в речи слова: «цвет», «такой же», «разный»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, serif"/>
              </a:rPr>
              <a:t>Развивающие: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познавательные процессы;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Развивать мелкую моторику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, serif"/>
              </a:rPr>
              <a:t>Воспитательные: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Воспитывать умение играть рядом, не мешая друг другу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, serif"/>
              </a:rPr>
              <a:t>- Формировать умение слушать и понимать инструкции педагога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Monotype Corsiva"/>
                <a:ea typeface="Arial"/>
              </a:rPr>
              <a:t>ИГРЫ НА ЗАКРЕПЛЕНИЕ Ц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1"/>
          <a:stretch/>
        </p:blipFill>
        <p:spPr>
          <a:xfrm>
            <a:off x="1055520" y="4854600"/>
            <a:ext cx="1425600" cy="190188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18" descr=""/>
          <p:cNvPicPr/>
          <p:nvPr/>
        </p:nvPicPr>
        <p:blipFill>
          <a:blip r:embed="rId2"/>
          <a:stretch/>
        </p:blipFill>
        <p:spPr>
          <a:xfrm>
            <a:off x="7597800" y="2949480"/>
            <a:ext cx="1425600" cy="1901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8" descr=""/>
          <p:cNvPicPr/>
          <p:nvPr/>
        </p:nvPicPr>
        <p:blipFill>
          <a:blip r:embed="rId3"/>
          <a:stretch/>
        </p:blipFill>
        <p:spPr>
          <a:xfrm>
            <a:off x="81000" y="2949480"/>
            <a:ext cx="1427040" cy="1901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2" descr=""/>
          <p:cNvPicPr/>
          <p:nvPr/>
        </p:nvPicPr>
        <p:blipFill>
          <a:blip r:embed="rId4"/>
          <a:stretch/>
        </p:blipFill>
        <p:spPr>
          <a:xfrm>
            <a:off x="6732720" y="4851360"/>
            <a:ext cx="1425600" cy="190044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4" descr=""/>
          <p:cNvPicPr/>
          <p:nvPr/>
        </p:nvPicPr>
        <p:blipFill>
          <a:blip r:embed="rId5"/>
          <a:stretch/>
        </p:blipFill>
        <p:spPr>
          <a:xfrm>
            <a:off x="133200" y="920880"/>
            <a:ext cx="3032280" cy="1873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6"/>
          <a:stretch/>
        </p:blipFill>
        <p:spPr>
          <a:xfrm>
            <a:off x="6483240" y="906480"/>
            <a:ext cx="2527560" cy="189216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9" descr=""/>
          <p:cNvPicPr/>
          <p:nvPr/>
        </p:nvPicPr>
        <p:blipFill>
          <a:blip r:embed="rId7"/>
          <a:stretch/>
        </p:blipFill>
        <p:spPr>
          <a:xfrm>
            <a:off x="3262320" y="920880"/>
            <a:ext cx="3100320" cy="187308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4" descr=""/>
          <p:cNvPicPr/>
          <p:nvPr/>
        </p:nvPicPr>
        <p:blipFill>
          <a:blip r:embed="rId8"/>
          <a:stretch/>
        </p:blipFill>
        <p:spPr>
          <a:xfrm>
            <a:off x="2575080" y="294948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ЗУЧАЕМ ГЕОМЕТРИЧЕСКИЕ ФОР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1674720" cy="22338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12" descr=""/>
          <p:cNvPicPr/>
          <p:nvPr/>
        </p:nvPicPr>
        <p:blipFill>
          <a:blip r:embed="rId2"/>
          <a:stretch/>
        </p:blipFill>
        <p:spPr>
          <a:xfrm>
            <a:off x="6921360" y="3521160"/>
            <a:ext cx="2057400" cy="274140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18" descr=""/>
          <p:cNvPicPr/>
          <p:nvPr/>
        </p:nvPicPr>
        <p:blipFill>
          <a:blip r:embed="rId3"/>
          <a:stretch/>
        </p:blipFill>
        <p:spPr>
          <a:xfrm>
            <a:off x="7107120" y="907920"/>
            <a:ext cx="1683000" cy="2241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6" descr=""/>
          <p:cNvPicPr/>
          <p:nvPr/>
        </p:nvPicPr>
        <p:blipFill>
          <a:blip r:embed="rId4"/>
          <a:stretch/>
        </p:blipFill>
        <p:spPr>
          <a:xfrm>
            <a:off x="2197080" y="3675240"/>
            <a:ext cx="1943280" cy="2587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2" descr=""/>
          <p:cNvPicPr/>
          <p:nvPr/>
        </p:nvPicPr>
        <p:blipFill>
          <a:blip r:embed="rId5"/>
          <a:stretch/>
        </p:blipFill>
        <p:spPr>
          <a:xfrm>
            <a:off x="2200320" y="907920"/>
            <a:ext cx="297828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6"/>
          <a:stretch/>
        </p:blipFill>
        <p:spPr>
          <a:xfrm>
            <a:off x="5319720" y="900000"/>
            <a:ext cx="1681200" cy="224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7"/>
          <a:stretch/>
        </p:blipFill>
        <p:spPr>
          <a:xfrm>
            <a:off x="154080" y="3675240"/>
            <a:ext cx="1941480" cy="258732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9" descr=""/>
          <p:cNvPicPr/>
          <p:nvPr/>
        </p:nvPicPr>
        <p:blipFill>
          <a:blip r:embed="rId8"/>
          <a:stretch/>
        </p:blipFill>
        <p:spPr>
          <a:xfrm>
            <a:off x="4202280" y="3963960"/>
            <a:ext cx="265716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МАЛЕНЬКИЙ И БОЛЬШ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6" descr=""/>
          <p:cNvPicPr/>
          <p:nvPr/>
        </p:nvPicPr>
        <p:blipFill>
          <a:blip r:embed="rId1"/>
          <a:stretch/>
        </p:blipFill>
        <p:spPr>
          <a:xfrm>
            <a:off x="900000" y="1042920"/>
            <a:ext cx="13557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12" descr=""/>
          <p:cNvPicPr/>
          <p:nvPr/>
        </p:nvPicPr>
        <p:blipFill>
          <a:blip r:embed="rId2"/>
          <a:stretch/>
        </p:blipFill>
        <p:spPr>
          <a:xfrm>
            <a:off x="6888240" y="1042920"/>
            <a:ext cx="13557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"/>
          <p:cNvPicPr/>
          <p:nvPr/>
        </p:nvPicPr>
        <p:blipFill>
          <a:blip r:embed="rId3"/>
          <a:stretch/>
        </p:blipFill>
        <p:spPr>
          <a:xfrm>
            <a:off x="3365640" y="1042920"/>
            <a:ext cx="2412720" cy="180972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479520" y="2565360"/>
            <a:ext cx="822960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Monotype Corsiva"/>
                <a:ea typeface="Times New Roman"/>
              </a:rPr>
              <a:t>СОБИРАЕМ ПИРАМИДКУ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76" name="Объект 8" descr=""/>
          <p:cNvPicPr/>
          <p:nvPr/>
        </p:nvPicPr>
        <p:blipFill>
          <a:blip r:embed="rId4"/>
          <a:stretch/>
        </p:blipFill>
        <p:spPr>
          <a:xfrm>
            <a:off x="299880" y="4145040"/>
            <a:ext cx="178452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12" descr=""/>
          <p:cNvPicPr/>
          <p:nvPr/>
        </p:nvPicPr>
        <p:blipFill>
          <a:blip r:embed="rId5"/>
          <a:stretch/>
        </p:blipFill>
        <p:spPr>
          <a:xfrm>
            <a:off x="7340760" y="4541760"/>
            <a:ext cx="1492200" cy="204156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10" descr=""/>
          <p:cNvPicPr/>
          <p:nvPr/>
        </p:nvPicPr>
        <p:blipFill>
          <a:blip r:embed="rId6"/>
          <a:stretch/>
        </p:blipFill>
        <p:spPr>
          <a:xfrm>
            <a:off x="5659560" y="3789360"/>
            <a:ext cx="1517400" cy="20239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4" descr=""/>
          <p:cNvPicPr/>
          <p:nvPr/>
        </p:nvPicPr>
        <p:blipFill>
          <a:blip r:embed="rId7"/>
          <a:stretch/>
        </p:blipFill>
        <p:spPr>
          <a:xfrm>
            <a:off x="2246400" y="3789360"/>
            <a:ext cx="32623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ГРЫ С МОЗАИ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13" descr=""/>
          <p:cNvPicPr/>
          <p:nvPr/>
        </p:nvPicPr>
        <p:blipFill>
          <a:blip r:embed="rId1"/>
          <a:stretch/>
        </p:blipFill>
        <p:spPr>
          <a:xfrm>
            <a:off x="358920" y="836640"/>
            <a:ext cx="2614320" cy="196200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25" descr=""/>
          <p:cNvPicPr/>
          <p:nvPr/>
        </p:nvPicPr>
        <p:blipFill>
          <a:blip r:embed="rId2"/>
          <a:stretch/>
        </p:blipFill>
        <p:spPr>
          <a:xfrm>
            <a:off x="3086280" y="831960"/>
            <a:ext cx="3020760" cy="1966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3"/>
          <a:stretch/>
        </p:blipFill>
        <p:spPr>
          <a:xfrm>
            <a:off x="6168960" y="831960"/>
            <a:ext cx="2616120" cy="196200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358920" y="2925720"/>
            <a:ext cx="383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ШНУРОВКА</a:t>
            </a:r>
            <a:endParaRPr b="1" lang="en-US" sz="4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586040" y="2762280"/>
            <a:ext cx="42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ЛАБИРИНТЫ</a:t>
            </a:r>
            <a:endParaRPr b="1" lang="en-US" sz="4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6" name="Объект 15" descr=""/>
          <p:cNvPicPr/>
          <p:nvPr/>
        </p:nvPicPr>
        <p:blipFill>
          <a:blip r:embed="rId4"/>
          <a:stretch/>
        </p:blipFill>
        <p:spPr>
          <a:xfrm>
            <a:off x="225360" y="3621240"/>
            <a:ext cx="1847880" cy="174924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9" descr=""/>
          <p:cNvPicPr/>
          <p:nvPr/>
        </p:nvPicPr>
        <p:blipFill>
          <a:blip r:embed="rId5"/>
          <a:stretch/>
        </p:blipFill>
        <p:spPr>
          <a:xfrm>
            <a:off x="2085840" y="4775040"/>
            <a:ext cx="2333880" cy="1749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6"/>
          <a:stretch/>
        </p:blipFill>
        <p:spPr>
          <a:xfrm>
            <a:off x="5292720" y="3600360"/>
            <a:ext cx="29433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8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ИГРУШКИ - ВКЛАДЫ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1670040" y="1268280"/>
            <a:ext cx="1792440" cy="239076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8" descr=""/>
          <p:cNvPicPr/>
          <p:nvPr/>
        </p:nvPicPr>
        <p:blipFill>
          <a:blip r:embed="rId2"/>
          <a:stretch/>
        </p:blipFill>
        <p:spPr>
          <a:xfrm>
            <a:off x="5695920" y="4265640"/>
            <a:ext cx="1765440" cy="2354400"/>
          </a:xfrm>
          <a:prstGeom prst="rect">
            <a:avLst/>
          </a:prstGeom>
          <a:ln w="0">
            <a:noFill/>
          </a:ln>
        </p:spPr>
      </p:pic>
      <p:pic>
        <p:nvPicPr>
          <p:cNvPr id="92" name="Объект 12" descr=""/>
          <p:cNvPicPr/>
          <p:nvPr/>
        </p:nvPicPr>
        <p:blipFill>
          <a:blip r:embed="rId3"/>
          <a:stretch/>
        </p:blipFill>
        <p:spPr>
          <a:xfrm>
            <a:off x="4676760" y="1341360"/>
            <a:ext cx="3803760" cy="2852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4"/>
          <a:stretch/>
        </p:blipFill>
        <p:spPr>
          <a:xfrm>
            <a:off x="663480" y="376236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ЕРЕВО            «ВРЕМЕНА ГОД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4" descr=""/>
          <p:cNvPicPr/>
          <p:nvPr/>
        </p:nvPicPr>
        <p:blipFill>
          <a:blip r:embed="rId1"/>
          <a:stretch/>
        </p:blipFill>
        <p:spPr>
          <a:xfrm>
            <a:off x="179280" y="2849400"/>
            <a:ext cx="2079720" cy="277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2424240" y="285588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3"/>
          <a:stretch/>
        </p:blipFill>
        <p:spPr>
          <a:xfrm>
            <a:off x="4645080" y="285444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"/>
          <p:cNvPicPr/>
          <p:nvPr/>
        </p:nvPicPr>
        <p:blipFill>
          <a:blip r:embed="rId4"/>
          <a:stretch/>
        </p:blipFill>
        <p:spPr>
          <a:xfrm>
            <a:off x="6889680" y="2854440"/>
            <a:ext cx="20750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5:41:07Z</dcterms:created>
  <dc:creator>mmc</dc:creator>
  <dc:description/>
  <dc:language>en-US</dc:language>
  <cp:lastModifiedBy>Admin</cp:lastModifiedBy>
  <dcterms:modified xsi:type="dcterms:W3CDTF">2023-02-11T21:22:43Z</dcterms:modified>
  <cp:revision>295</cp:revision>
  <dc:subject/>
  <dc:title>Слайд 1</dc:title>
</cp:coreProperties>
</file>