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A96B-87EC-464E-9A3A-7E92ED837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2A3F-A95D-466E-B82C-550FD2B2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7633-B3E6-4762-BDFA-69024E59C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3B06-8041-4A93-A602-E0E37A698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6A16-416A-4432-836C-29D3FD02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0041-AFA8-43AF-85C6-02028E02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02EF-214C-42B9-B6DC-7465CB4A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1195-EC21-489A-8F4B-2929C93F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FD82-AA34-4523-B998-58B7DB93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4233-B56E-4A84-90D3-7BD070D5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015C-ABD4-496B-9FD0-97C66ABA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3169-7246-434E-B446-5A3503FA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C48CD2-429F-4987-812A-D8A240F838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1158840"/>
            <a:ext cx="8388360" cy="25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Кто живет в лесу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глядный демонстрационный материал по лексической тем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«Дикие животные»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3280" y="439272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итель: учитель-дефектолог Третьякова Е.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ДОУ ЦРР д/с 87 г. Калинингр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о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62472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131840" y="3038400"/>
            <a:ext cx="69595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две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191280" cy="486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769440" cy="51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л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207280" cy="54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я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553080" cy="49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Ё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11964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904000" cy="44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б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7690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л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769080" cy="49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2T09:44:12Z</dcterms:created>
  <dc:creator>qwerty</dc:creator>
  <dc:description/>
  <dc:language>en-US</dc:language>
  <cp:lastModifiedBy>qwerty</cp:lastModifiedBy>
  <dcterms:modified xsi:type="dcterms:W3CDTF">2023-02-13T16:07:51Z</dcterms:modified>
  <cp:revision>8</cp:revision>
  <dc:subject/>
  <dc:title>Дикие животные</dc:title>
</cp:coreProperties>
</file>