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B20-FBE7-41F3-A088-C23050A8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D02-3D05-42BA-852C-73DFEF83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413-74FF-480F-BCD3-3CFD7DC9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528-7317-4F81-9D9F-393F5914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B5E-F982-4EF7-9D13-58B3FB8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EFD-610B-4A73-82FD-8C6FD64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BC8-E5BF-4193-A1EC-CD13535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8BB-ED22-46AF-85F9-43558D7F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958-706D-4467-B4E7-29C2D83F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543-EC7D-432D-8F61-E9811348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2D5-0FD4-4E1D-9A73-4D795A9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964-B473-4EA8-A3CD-C7D57B4F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7EC51-42FA-43DC-BEFA-25F29915A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158840"/>
            <a:ext cx="838836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то живет в лесу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лядный демонстрационный материал по лексической тем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Дикие животные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39272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31840" y="3038400"/>
            <a:ext cx="6959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1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2T09:44:12Z</dcterms:created>
  <dc:creator>qwerty</dc:creator>
  <dc:description/>
  <dc:language>en-US</dc:language>
  <cp:lastModifiedBy>qwerty</cp:lastModifiedBy>
  <dcterms:modified xsi:type="dcterms:W3CDTF">2023-02-13T16:07:51Z</dcterms:modified>
  <cp:revision>8</cp:revision>
  <dc:subject/>
  <dc:title>Дикие животные</dc:title>
</cp:coreProperties>
</file>