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FDB9-3917-475A-AAD7-02F51A3136A0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996D-D8D3-4191-929D-38A74BE0C8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4447-D6E4-4CB6-8B54-DAF9175EF0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9DD-03AC-470F-8B2C-0DF44A48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B8F-0D08-488A-B15A-79FB6C62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271-B1F0-4285-9482-43DBBD3C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1D8-3DCF-402C-BB5E-08181CEC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763-3F1A-417A-84DE-49EDBED4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83C-C6DB-4CC8-B416-AC29D5F4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3A0-994F-43BA-8936-82833772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B74-0AFF-483E-A0CE-8B627849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6C6-43B6-447D-AD11-2FD37631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2E8-5352-4351-97DB-5F7D16AA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657-678A-4399-8BB3-26685CD0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A9C-1A8B-4EB2-8FC3-D9608EEC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9259-E853-43A8-B73C-6285487B09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26DA-7B8A-4C7F-BBF5-568F5504E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A181-C6D2-4704-B20C-81359AFD4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Центр дополнительного образования детей Иванов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0" y="121932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Русская матре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52280" y="3200400"/>
            <a:ext cx="510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Предмет: Декоративное прикладное 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Горынцева Людмила Александровн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710040" y="624852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Иваново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0C6A-BDED-4C1E-A9A7-E9887881C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0"/>
          <p:cNvSpPr/>
          <p:nvPr/>
        </p:nvSpPr>
        <p:spPr>
          <a:xfrm>
            <a:off x="2438280" y="0"/>
            <a:ext cx="67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льшой букет цветов занимает весь фарт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сновном используют три цвета — красный, синий и желтый. Роспись выполняют анилиновыми прозрачными крас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1"/>
          <p:cNvSpPr/>
          <p:nvPr/>
        </p:nvSpPr>
        <p:spPr>
          <a:xfrm>
            <a:off x="2362320" y="16002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Семеновская матре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Нижегородская област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28600" y="3352680"/>
            <a:ext cx="388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 из тихого зеленого городка Семё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 в гости к вам приш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Букет цветов садовых розовых, бардов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В подарок прине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Documents and Settings\Администратор\Рабочий стол\оля\Рисунок24.jpg"/>
          <p:cNvPicPr/>
          <p:nvPr/>
        </p:nvPicPr>
        <p:blipFill>
          <a:blip r:embed="rId1"/>
          <a:stretch/>
        </p:blipFill>
        <p:spPr>
          <a:xfrm>
            <a:off x="3962520" y="2971800"/>
            <a:ext cx="1792080" cy="351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C:\Documents and Settings\Администратор\Рабочий стол\оля\Рисунок8.jpg"/>
          <p:cNvPicPr/>
          <p:nvPr/>
        </p:nvPicPr>
        <p:blipFill>
          <a:blip r:embed="rId2"/>
          <a:stretch/>
        </p:blipFill>
        <p:spPr>
          <a:xfrm>
            <a:off x="0" y="838080"/>
            <a:ext cx="1138320" cy="223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Администратор\Рабочий стол\оля\Рисунок9.jpg"/>
          <p:cNvPicPr/>
          <p:nvPr/>
        </p:nvPicPr>
        <p:blipFill>
          <a:blip r:embed="rId3"/>
          <a:stretch/>
        </p:blipFill>
        <p:spPr>
          <a:xfrm>
            <a:off x="1295280" y="838080"/>
            <a:ext cx="102564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семеновская1"/>
          <p:cNvPicPr/>
          <p:nvPr/>
        </p:nvPicPr>
        <p:blipFill>
          <a:blip r:embed="rId4"/>
          <a:stretch/>
        </p:blipFill>
        <p:spPr>
          <a:xfrm>
            <a:off x="5832360" y="2971800"/>
            <a:ext cx="290520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ECAD-94D4-47FB-BB84-308C660E8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362320" y="0"/>
            <a:ext cx="678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тянутые пропорции, голова небольшая, уплощенная. Овал лица с кудряшками волос, платок ниспадает с головы, на голове трилистник розана, овал, заменяющий передник, заполнен цветочной роспис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362320" y="16002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лхов-Майданская матре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Нижегородская обл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486400" y="3657600"/>
            <a:ext cx="3530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А я, подружки из Майд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Могу я стать звездой эк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Украшен мой наряд ц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С сияющими лепест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И ягодами раз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Спелыми и крас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C:\Documents and Settings\Администратор\Рабочий стол\оля\Рисунок32.jpg"/>
          <p:cNvPicPr/>
          <p:nvPr/>
        </p:nvPicPr>
        <p:blipFill>
          <a:blip r:embed="rId1"/>
          <a:stretch/>
        </p:blipFill>
        <p:spPr>
          <a:xfrm>
            <a:off x="0" y="990720"/>
            <a:ext cx="2260440" cy="30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Увеличить"/>
          <p:cNvPicPr/>
          <p:nvPr/>
        </p:nvPicPr>
        <p:blipFill>
          <a:blip r:embed="rId2"/>
          <a:stretch/>
        </p:blipFill>
        <p:spPr>
          <a:xfrm>
            <a:off x="1676520" y="4267080"/>
            <a:ext cx="3528720" cy="242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B4FB-43B7-47EC-AF8A-B902FFA42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2362320" y="0"/>
            <a:ext cx="678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иболее сложной технологией изготовления отличается другой тип матрешки – родом из Вятки. Помимо традиционной росписи, в ее оформлении используется оригинальный художественно – технологический прием, вообще характерный для изделий этого региона – инкрустация соломкой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362320" y="1600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Arial"/>
              </a:rPr>
              <a:t>Вятская (кировская)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мат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334120" y="3657600"/>
            <a:ext cx="368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губки бантиком, да щечки будто  ябло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ами издавна знаком весь народ на ярмар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матрешки вятские всех на свете кра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исные, яркие сарафаны н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Увеличить"/>
          <p:cNvPicPr/>
          <p:nvPr/>
        </p:nvPicPr>
        <p:blipFill>
          <a:blip r:embed="rId1"/>
          <a:stretch/>
        </p:blipFill>
        <p:spPr>
          <a:xfrm>
            <a:off x="152280" y="3048120"/>
            <a:ext cx="5029200" cy="289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F350-E24A-4BEA-8E76-3E64F3C56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Как рождается матре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Делают матрешек из лиственницы, липы и осины, срубленных обязательно ранней весн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Древесина выдерживается два - три года, затем обтачивается на станках, тщательно обрабатыва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Мастер придирчиво выбирает материал для куклы, ищет такой, чтобы не было ни сучка, ни трещинки, и, только убедившись в качестве заготовки, приступает к рабо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Сначала точит самую маленькую матрешечку, порой она бывает совсем крошечной, меньше ногтя, затем больше, больше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D09E-79E1-40A2-A639-6196380CC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E:\документы ольга\post-2307-1229948888.jpg"/>
          <p:cNvPicPr/>
          <p:nvPr/>
        </p:nvPicPr>
        <p:blipFill>
          <a:blip r:embed="rId1"/>
          <a:stretch/>
        </p:blipFill>
        <p:spPr>
          <a:xfrm>
            <a:off x="231840" y="0"/>
            <a:ext cx="1998720" cy="16207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7"/>
          <p:cNvSpPr/>
          <p:nvPr/>
        </p:nvSpPr>
        <p:spPr>
          <a:xfrm>
            <a:off x="0" y="3733920"/>
            <a:ext cx="899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Нанесение контуров      Покрытие основных        Наведение контура               Рисование лица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цветовых пятен               черной кра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1463400" y="6324480"/>
            <a:ext cx="610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Наведение щек                         Лакировка                                  Сбо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236232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Этапы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0"/>
          <p:cNvSpPr/>
          <p:nvPr/>
        </p:nvSpPr>
        <p:spPr>
          <a:xfrm>
            <a:off x="2362320" y="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осписи обычно используют три - четыре цвета - красный или оранжевый, жёлтый, зелёный и синий. Чёрный – обводка  лица и контуров одежды.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исывают гуашевыми крас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Администратор\Рабочий стол\оля\Рисунок21.jpg"/>
          <p:cNvPicPr/>
          <p:nvPr/>
        </p:nvPicPr>
        <p:blipFill>
          <a:blip r:embed="rId2"/>
          <a:stretch/>
        </p:blipFill>
        <p:spPr>
          <a:xfrm>
            <a:off x="6705720" y="2286000"/>
            <a:ext cx="219852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C:\Documents and Settings\Администратор\Рабочий стол\оля\Рисунок2.jpg"/>
          <p:cNvPicPr/>
          <p:nvPr/>
        </p:nvPicPr>
        <p:blipFill>
          <a:blip r:embed="rId3"/>
          <a:stretch/>
        </p:blipFill>
        <p:spPr>
          <a:xfrm>
            <a:off x="228600" y="2286000"/>
            <a:ext cx="1763640" cy="144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Администратор\Рабочий стол\оля\Рисунок3.jpg"/>
          <p:cNvPicPr/>
          <p:nvPr/>
        </p:nvPicPr>
        <p:blipFill>
          <a:blip r:embed="rId4"/>
          <a:stretch/>
        </p:blipFill>
        <p:spPr>
          <a:xfrm>
            <a:off x="2209680" y="2286000"/>
            <a:ext cx="20512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Администратор\Рабочий стол\оля\Рисунок4.jpg"/>
          <p:cNvPicPr/>
          <p:nvPr/>
        </p:nvPicPr>
        <p:blipFill>
          <a:blip r:embed="rId5"/>
          <a:stretch/>
        </p:blipFill>
        <p:spPr>
          <a:xfrm>
            <a:off x="1143000" y="4876920"/>
            <a:ext cx="197640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Администратор\Рабочий стол\оля\Рисунок5.jpg"/>
          <p:cNvPicPr/>
          <p:nvPr/>
        </p:nvPicPr>
        <p:blipFill>
          <a:blip r:embed="rId6"/>
          <a:stretch/>
        </p:blipFill>
        <p:spPr>
          <a:xfrm>
            <a:off x="4038480" y="4343400"/>
            <a:ext cx="1314720" cy="197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Администратор\Рабочий стол\оля\Рисунок6.jpg"/>
          <p:cNvPicPr/>
          <p:nvPr/>
        </p:nvPicPr>
        <p:blipFill>
          <a:blip r:embed="rId7"/>
          <a:stretch/>
        </p:blipFill>
        <p:spPr>
          <a:xfrm>
            <a:off x="6248520" y="4876920"/>
            <a:ext cx="1760400" cy="143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Администратор\Рабочий стол\оля\Рисунок7.jpg"/>
          <p:cNvPicPr/>
          <p:nvPr/>
        </p:nvPicPr>
        <p:blipFill>
          <a:blip r:embed="rId8"/>
          <a:stretch/>
        </p:blipFill>
        <p:spPr>
          <a:xfrm>
            <a:off x="4495680" y="2286000"/>
            <a:ext cx="1976400" cy="14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19DF-633D-400E-9C0C-F3F2D375D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362320" y="0"/>
            <a:ext cx="67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913 году для выставки игрушек в Петербурге была выточена 48-местная матрешка бабенским токарем Н.Булыче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362320" y="1600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амые большие матреш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116000" y="2401920"/>
            <a:ext cx="7265880" cy="405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9273-D788-41BD-9A3C-A0E84EABF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457200" y="4038480"/>
            <a:ext cx="472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Самая большая в мире матрешка-здание  построена в Китае - 30 метров в высоту , изображает китайскую, монгольскую и российскую девушек. Вокруг восемь "зданий-матрешек" поменьше, а также 200 маленьких матрешек - политических и общественных деятелей со всего ми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5715000" y="518148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c3600"/>
                </a:solidFill>
                <a:latin typeface="Times New Roman"/>
                <a:ea typeface="Times New Roman"/>
              </a:rPr>
              <a:t>Символ VII фестиваля аэростатов  в Сергиевом Посаде - летающая матрёшка высотой 30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C:\Documents and Settings\Администратор\Рабочий стол\оля\Рисунок48.jpg"/>
          <p:cNvPicPr/>
          <p:nvPr/>
        </p:nvPicPr>
        <p:blipFill>
          <a:blip r:embed="rId1"/>
          <a:stretch/>
        </p:blipFill>
        <p:spPr>
          <a:xfrm>
            <a:off x="228600" y="457200"/>
            <a:ext cx="5060880" cy="3494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Администратор\Рабочий стол\оля\Рисунок49.jpg"/>
          <p:cNvPicPr/>
          <p:nvPr/>
        </p:nvPicPr>
        <p:blipFill>
          <a:blip r:embed="rId2"/>
          <a:stretch/>
        </p:blipFill>
        <p:spPr>
          <a:xfrm>
            <a:off x="5638680" y="457200"/>
            <a:ext cx="3218040" cy="4289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6B11-EA8D-48D2-8C29-503DD8216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0" y="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970 году на выставке "Экспо-70" в Токио, Япония была представлена самая большая, когда-либо изготовленная матрешка: 72- х местная, диаметр которой 0,5 метра, а высота 1 метр, изготовленная  в Семёнове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6232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амая большая матре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C:\Documents and Settings\Администратор\Рабочий стол\оля\Рисунок30.jpg"/>
          <p:cNvPicPr/>
          <p:nvPr/>
        </p:nvPicPr>
        <p:blipFill>
          <a:blip r:embed="rId1"/>
          <a:stretch/>
        </p:blipFill>
        <p:spPr>
          <a:xfrm>
            <a:off x="457200" y="2514600"/>
            <a:ext cx="3871800" cy="3959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Администратор\Рабочий стол\оля\Рисунок31.jpg"/>
          <p:cNvPicPr/>
          <p:nvPr/>
        </p:nvPicPr>
        <p:blipFill>
          <a:blip r:embed="rId2"/>
          <a:stretch/>
        </p:blipFill>
        <p:spPr>
          <a:xfrm>
            <a:off x="4952880" y="2514600"/>
            <a:ext cx="381816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F8BB-21C3-444A-BB9D-3B5D19735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E:\матрешка\218821-824bb7c588a29fac.jpg"/>
          <p:cNvPicPr/>
          <p:nvPr/>
        </p:nvPicPr>
        <p:blipFill>
          <a:blip r:embed="rId1"/>
          <a:stretch/>
        </p:blipFill>
        <p:spPr>
          <a:xfrm>
            <a:off x="228600" y="3733920"/>
            <a:ext cx="1143000" cy="27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E:\матрешка\kukla_rospis_01.jpg"/>
          <p:cNvPicPr/>
          <p:nvPr/>
        </p:nvPicPr>
        <p:blipFill>
          <a:blip r:embed="rId2"/>
          <a:stretch/>
        </p:blipFill>
        <p:spPr>
          <a:xfrm>
            <a:off x="1523880" y="3733920"/>
            <a:ext cx="1660680" cy="27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E:\матрешка\MAO002d.jpg"/>
          <p:cNvPicPr/>
          <p:nvPr/>
        </p:nvPicPr>
        <p:blipFill>
          <a:blip r:embed="rId3"/>
          <a:stretch/>
        </p:blipFill>
        <p:spPr>
          <a:xfrm>
            <a:off x="304920" y="304920"/>
            <a:ext cx="2209680" cy="304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E:\Мои рисунки- ольга\матрешка\mp6702001.jpg"/>
          <p:cNvPicPr/>
          <p:nvPr/>
        </p:nvPicPr>
        <p:blipFill>
          <a:blip r:embed="rId4"/>
          <a:stretch/>
        </p:blipFill>
        <p:spPr>
          <a:xfrm>
            <a:off x="5257800" y="3733920"/>
            <a:ext cx="1654200" cy="270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E:\Мои рисунки- ольга\матрешка\0001520b.jpg"/>
          <p:cNvPicPr/>
          <p:nvPr/>
        </p:nvPicPr>
        <p:blipFill>
          <a:blip r:embed="rId5"/>
          <a:stretch/>
        </p:blipFill>
        <p:spPr>
          <a:xfrm>
            <a:off x="7086600" y="3733920"/>
            <a:ext cx="1782720" cy="27003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9"/>
          <p:cNvSpPr/>
          <p:nvPr/>
        </p:nvSpPr>
        <p:spPr>
          <a:xfrm>
            <a:off x="2514600" y="1600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Необычная форма авторской матр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590920" y="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родные умельцы экспериментируют и с формой матрешки: вытачивают фигуры конусовидные, в форме яйца, матрешки-неваляш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C:\Documents and Settings\Администратор\Рабочий стол\оля\Рисунок38.jpg"/>
          <p:cNvPicPr/>
          <p:nvPr/>
        </p:nvPicPr>
        <p:blipFill>
          <a:blip r:embed="rId6"/>
          <a:stretch/>
        </p:blipFill>
        <p:spPr>
          <a:xfrm>
            <a:off x="3352680" y="3733920"/>
            <a:ext cx="1727280" cy="27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A77B-3993-4E1F-804F-FA49A7806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2362320" y="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чаще можно встретить матрешки «под Хохлому» «под Федоскино», «под Жостово» и другие виды росписи по дер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2362320" y="16002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Мотивы, характерные для традицио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центров русской народ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0" y="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ская миниат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" descr="a167.jpg"/>
          <p:cNvPicPr/>
          <p:nvPr/>
        </p:nvPicPr>
        <p:blipFill>
          <a:blip r:embed="rId1"/>
          <a:stretch/>
        </p:blipFill>
        <p:spPr>
          <a:xfrm>
            <a:off x="6400800" y="2514600"/>
            <a:ext cx="2492280" cy="36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документы ольга\459-20m.jpg"/>
          <p:cNvPicPr/>
          <p:nvPr/>
        </p:nvPicPr>
        <p:blipFill>
          <a:blip r:embed="rId2"/>
          <a:stretch/>
        </p:blipFill>
        <p:spPr>
          <a:xfrm>
            <a:off x="4383000" y="2514600"/>
            <a:ext cx="1744920" cy="360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E:\Мои рисунки- ольга\хохлома\shtof_Bagater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28600" y="1752480"/>
            <a:ext cx="1676520" cy="456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C:\Documents and Settings\Администратор\Рабочий стол\оля\Рисунок39.jpg"/>
          <p:cNvPicPr/>
          <p:nvPr/>
        </p:nvPicPr>
        <p:blipFill>
          <a:blip r:embed="rId4"/>
          <a:stretch/>
        </p:blipFill>
        <p:spPr>
          <a:xfrm>
            <a:off x="2209680" y="2514600"/>
            <a:ext cx="183204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B42B-7787-41B4-8705-A5191885C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ком так говоря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120" y="1447560"/>
            <a:ext cx="57913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дом разные подруж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похожи друг на друж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они сидят друг в друж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сего одна игруш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ый, шелковый платоче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ркий сарафан в цветоче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ирается рука в деревянные б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нутри секреты е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ет три, а может ш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мянилась немножк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русская 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0036-9CA4-46CE-B920-6D10CA4BD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E:\Мои рисунки- ольга\hoh_mat_01_lg.jpg"/>
          <p:cNvPicPr/>
          <p:nvPr/>
        </p:nvPicPr>
        <p:blipFill>
          <a:blip r:embed="rId1"/>
          <a:stretch/>
        </p:blipFill>
        <p:spPr>
          <a:xfrm>
            <a:off x="228600" y="2514600"/>
            <a:ext cx="2743200" cy="3722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E:\матрешка\matrechka.JPG"/>
          <p:cNvPicPr/>
          <p:nvPr/>
        </p:nvPicPr>
        <p:blipFill>
          <a:blip r:embed="rId2"/>
          <a:stretch/>
        </p:blipFill>
        <p:spPr>
          <a:xfrm>
            <a:off x="6172200" y="2514600"/>
            <a:ext cx="2733840" cy="3733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236232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зделия в форме матре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E:\Мои рисунки- ольга\af432c896db4392817fca66cf8bf9868.jpg"/>
          <p:cNvPicPr/>
          <p:nvPr/>
        </p:nvPicPr>
        <p:blipFill>
          <a:blip r:embed="rId3"/>
          <a:stretch/>
        </p:blipFill>
        <p:spPr>
          <a:xfrm>
            <a:off x="3505320" y="2286000"/>
            <a:ext cx="2203200" cy="2895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2438280" y="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укла-матрешка – источник творчества для оформления шкатулок, деревянных ручек, брелков, фартуков, прихваток и других полезных и нужных вещ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0" y="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E:\Мои рисунки- ольга\b95fad67c87308229aa91601f9e7b528.jpg"/>
          <p:cNvPicPr/>
          <p:nvPr/>
        </p:nvPicPr>
        <p:blipFill>
          <a:blip r:embed="rId4"/>
          <a:stretch/>
        </p:blipFill>
        <p:spPr>
          <a:xfrm>
            <a:off x="3733920" y="5257800"/>
            <a:ext cx="1752480" cy="147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8058-CC60-472E-B35B-1149DF154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2362320" y="16002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D95D-9F84-4CB3-AA71-A4C10A125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499840" y="152280"/>
            <a:ext cx="643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РЕ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678120" y="18288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Народный художественный про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0" y="2362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b871"/>
                </a:solidFill>
                <a:latin typeface="Times New Roman"/>
                <a:ea typeface="Times New Roman"/>
              </a:rPr>
              <a:t>Кукла-матрешка нарядна, красив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b871"/>
                </a:solidFill>
                <a:latin typeface="Times New Roman"/>
                <a:ea typeface="Times New Roman"/>
              </a:rPr>
              <a:t>Кукла-матрешка - улыбка Росси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6021360" cy="27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3013-8D93-4BD8-8FB4-18C4B19E4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438280" y="3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Как появилась матрёш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04920" y="2743200"/>
            <a:ext cx="5867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Если вы считаете «русскую матрешку» исконно русской игрушкой, то вы ошибае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ервая русская матрешка была выточена и расписана в московской игрушечной мастерской только в 90-х годах XIX века, по образцу привезенному из Япо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Этот японский образец, выполненный с большим юмором, представлял собой множество вставляемых друг в друга фигурок японского мудреца Фукурума - лысоватого старичка с головой вытянутой вверх от многочисленных раздум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http://www.soldatru.ru/art/art/art_pic/matreshky_2.jpg"/>
          <p:cNvPicPr/>
          <p:nvPr/>
        </p:nvPicPr>
        <p:blipFill>
          <a:blip r:embed="rId1"/>
          <a:stretch/>
        </p:blipFill>
        <p:spPr>
          <a:xfrm>
            <a:off x="0" y="0"/>
            <a:ext cx="184464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Администратор\Рабочий стол\оля\Рисунок13.jpg"/>
          <p:cNvPicPr/>
          <p:nvPr/>
        </p:nvPicPr>
        <p:blipFill>
          <a:blip r:embed="rId2"/>
          <a:stretch/>
        </p:blipFill>
        <p:spPr>
          <a:xfrm>
            <a:off x="6324480" y="2286000"/>
            <a:ext cx="2819520" cy="403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A29E-5F48-413F-BD1F-6EC547368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362320" y="1600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Матрешка с пету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362320" y="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точена Василием Звездочк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исана Сергеем Малют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990 году на Всемирной выставке в Париже получила медаль и мировое при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5170680" cy="3807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0" y="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ая матреш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80880" y="2666880"/>
            <a:ext cx="335304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ервая матрешка представляла собой детскую группу: восемь кукол изображали детей разных возрастов, от самой старшей (большой) девушки с петухом до завернутого в пеленки младен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9D36-5400-4B67-BFEC-A0E956E5F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228600" y="259092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Сто лет наз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известный мас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Игрушку чудную созд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Игрушка- кукла распис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А как назвать ее, не зн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Красивая игрушка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похожа на Катюш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А может на Танюшку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ей имя подбир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Красивая игруш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как русская девч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И мастер ту игрушк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Матрешкою наз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438280" y="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то-то из друзей Мамонтовых, увидев новую игрушку, воскликнул: «Хороша! Типичная Матрена!» Матреша! Так и стали новые игрушки матреш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ереводе с латыни mater - м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E:\Мои рисунки- ольга\матрешка\bg_p_45.jpg"/>
          <p:cNvPicPr/>
          <p:nvPr/>
        </p:nvPicPr>
        <p:blipFill>
          <a:blip r:embed="rId1"/>
          <a:stretch/>
        </p:blipFill>
        <p:spPr>
          <a:xfrm>
            <a:off x="3456000" y="2514600"/>
            <a:ext cx="5537160" cy="3352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0"/>
          <p:cNvSpPr/>
          <p:nvPr/>
        </p:nvSpPr>
        <p:spPr>
          <a:xfrm>
            <a:off x="236232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мя матр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C598-502C-4F9A-A291-35D6CE985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362320" y="0"/>
            <a:ext cx="678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годня матрёшкой называют только те точеные и расписанные деревянные игрушки-сувениры, которые состоят из нескольких вкладывающихся одна в другую поделок. Игрушки, не вкладывающиеся одна в другую, - просто "точеная игрушк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Главный секрет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E:\документы ольга\10-0011b.jpg"/>
          <p:cNvPicPr/>
          <p:nvPr/>
        </p:nvPicPr>
        <p:blipFill>
          <a:blip r:embed="rId1"/>
          <a:stretch/>
        </p:blipFill>
        <p:spPr>
          <a:xfrm>
            <a:off x="228600" y="3048120"/>
            <a:ext cx="3884760" cy="313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:\документы ольга\ьюд.jpg"/>
          <p:cNvPicPr/>
          <p:nvPr/>
        </p:nvPicPr>
        <p:blipFill>
          <a:blip r:embed="rId2"/>
          <a:stretch/>
        </p:blipFill>
        <p:spPr>
          <a:xfrm>
            <a:off x="4419720" y="3048120"/>
            <a:ext cx="4532040" cy="3132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2362320" y="160020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Кукла с сюрпризом: внутри большой матрешки сидит матрешка поменьше, а в той еще и е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6A77-5524-4499-8C97-3FEDE3E4C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2286000" y="15238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Центры по изготовлению матре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E:\K01_69_L.jpg"/>
          <p:cNvPicPr/>
          <p:nvPr/>
        </p:nvPicPr>
        <p:blipFill>
          <a:blip r:embed="rId1"/>
          <a:stretch/>
        </p:blipFill>
        <p:spPr>
          <a:xfrm>
            <a:off x="2743200" y="2514600"/>
            <a:ext cx="1922400" cy="3959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362320" y="0"/>
            <a:ext cx="678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горская (Сергиево-Посадск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меновск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хов-Майданск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ировская (Вятск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C:\Documents and Settings\Администратор\Рабочий стол\оля\Рисунок15.jpg"/>
          <p:cNvPicPr/>
          <p:nvPr/>
        </p:nvPicPr>
        <p:blipFill>
          <a:blip r:embed="rId2"/>
          <a:stretch/>
        </p:blipFill>
        <p:spPr>
          <a:xfrm>
            <a:off x="304920" y="2514600"/>
            <a:ext cx="209844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Администратор\Рабочий стол\оля\Рисунок16.jpg"/>
          <p:cNvPicPr/>
          <p:nvPr/>
        </p:nvPicPr>
        <p:blipFill>
          <a:blip r:embed="rId3"/>
          <a:stretch/>
        </p:blipFill>
        <p:spPr>
          <a:xfrm>
            <a:off x="5029200" y="2514600"/>
            <a:ext cx="1771560" cy="395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Администратор\Рабочий стол\оля\Рисунок17.jpg"/>
          <p:cNvPicPr/>
          <p:nvPr/>
        </p:nvPicPr>
        <p:blipFill>
          <a:blip r:embed="rId4"/>
          <a:stretch/>
        </p:blipFill>
        <p:spPr>
          <a:xfrm>
            <a:off x="7162920" y="2514600"/>
            <a:ext cx="171756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0DA-FE53-41EF-8753-728E9B652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2362320" y="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тко обозначен силуэт головного платка, кофты, сарафана, фартука. Декоративная роспись скромно украшает платок и край фарту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124080" y="160020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горская матрешка, г. Сергиев По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Московская обл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28600" y="4025880"/>
            <a:ext cx="3809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 из Сергиева Пос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Встрече с вами очень 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Мне художниками 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ркий русский сараф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Я имею с давних п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На переднике у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Знаменит платочек 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Разноцветною кай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E:\Мои рисунки- ольга\17522.jpg"/>
          <p:cNvPicPr/>
          <p:nvPr/>
        </p:nvPicPr>
        <p:blipFill>
          <a:blip r:embed="rId1"/>
          <a:stretch/>
        </p:blipFill>
        <p:spPr>
          <a:xfrm>
            <a:off x="4267080" y="3429000"/>
            <a:ext cx="4713480" cy="2936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Times New Roman"/>
                <a:ea typeface="Times New Roman"/>
              </a:rPr>
              <a:t>Виды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матрешка пасад1"/>
          <p:cNvPicPr/>
          <p:nvPr/>
        </p:nvPicPr>
        <p:blipFill>
          <a:blip r:embed="rId2"/>
          <a:stretch/>
        </p:blipFill>
        <p:spPr>
          <a:xfrm>
            <a:off x="0" y="1200240"/>
            <a:ext cx="297180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03-21T13:58:09Z</dcterms:modified>
  <cp:revision>393</cp:revision>
  <dc:subject/>
  <dc:title>Слайд 1</dc:title>
</cp:coreProperties>
</file>