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341-95B0-4868-A29B-AD8683D4635E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E16-C6D5-42CB-8D8B-ACBE148DD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5BED-4585-4188-BCF7-6167D80909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788-7137-4DB1-8935-F1995A52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DF4-2296-48A2-B032-5AE9C48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418-CAF9-4F34-937D-428BB115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860-8A8E-40DB-BC72-E107BE2B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F2A-E544-4735-9359-FE0314B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DC5-E20D-4A8F-A94D-0DEA554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B38-A327-43EC-8F18-C36703AC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A0A-A11F-4F6A-80E9-1EC8714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5EB-DC9F-42F5-B6C4-F6DF53F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9EA-8E98-4D93-87E4-AC15A54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373-D9E9-4616-956A-A7197BF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678-BEF0-4EE7-96EA-ACFEF02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AD97-D029-47AF-89A2-3D72C19BF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9C2-C3E0-4D4C-81DF-FA22FA0C0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856-2F5C-4E9C-96E6-A4F0E9C37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Центр дополнительного образования детей Иванов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0" y="12193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Русская матре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52280" y="320040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редмет: Декоративное приклад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Горынцева Людмила Александров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710040" y="624852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Иваново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26A-A5EF-4BFA-A52B-D0FF41387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2438280" y="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й букет цветов занимает весь фарт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ном используют три цвета — красный, синий и желтый. Роспись выполняют анилиновыми прозрачными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1"/>
          <p:cNvSpPr/>
          <p:nvPr/>
        </p:nvSpPr>
        <p:spPr>
          <a:xfrm>
            <a:off x="2362320" y="1600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еменовская матре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Нижегородская област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28600" y="3352680"/>
            <a:ext cx="388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з тихого зеленого городка Семё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в гости к вам при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Букет цветов садовых розовых, бардо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В подарок прине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Documents and Settings\Администратор\Рабочий стол\оля\Рисунок24.jpg"/>
          <p:cNvPicPr/>
          <p:nvPr/>
        </p:nvPicPr>
        <p:blipFill>
          <a:blip r:embed="rId1"/>
          <a:stretch/>
        </p:blipFill>
        <p:spPr>
          <a:xfrm>
            <a:off x="3962520" y="2971800"/>
            <a:ext cx="1792080" cy="351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Documents and Settings\Администратор\Рабочий стол\оля\Рисунок8.jpg"/>
          <p:cNvPicPr/>
          <p:nvPr/>
        </p:nvPicPr>
        <p:blipFill>
          <a:blip r:embed="rId2"/>
          <a:stretch/>
        </p:blipFill>
        <p:spPr>
          <a:xfrm>
            <a:off x="0" y="838080"/>
            <a:ext cx="1138320" cy="22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оля\Рисунок9.jpg"/>
          <p:cNvPicPr/>
          <p:nvPr/>
        </p:nvPicPr>
        <p:blipFill>
          <a:blip r:embed="rId3"/>
          <a:stretch/>
        </p:blipFill>
        <p:spPr>
          <a:xfrm>
            <a:off x="1295280" y="838080"/>
            <a:ext cx="10256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семеновская1"/>
          <p:cNvPicPr/>
          <p:nvPr/>
        </p:nvPicPr>
        <p:blipFill>
          <a:blip r:embed="rId4"/>
          <a:stretch/>
        </p:blipFill>
        <p:spPr>
          <a:xfrm>
            <a:off x="5832360" y="2971800"/>
            <a:ext cx="290520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B47-6DD0-44D5-8588-E659DEF49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362320" y="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тянутые пропорции, голова небольшая, уплощенная. Овал лица с кудряшками волос, платок ниспадает с головы, на голове трилистник розана, овал, заменяющий передник, заполнен цветочной роспис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362320" y="16002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лхов-Майданская мат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Нижегородская 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486400" y="3657600"/>
            <a:ext cx="353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А я, подружки из Май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Могу я стать звездой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Украшен мой наряд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 сияющими лепес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И ягодами раз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пелыми и крас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C:\Documents and Settings\Администратор\Рабочий стол\оля\Рисунок32.jpg"/>
          <p:cNvPicPr/>
          <p:nvPr/>
        </p:nvPicPr>
        <p:blipFill>
          <a:blip r:embed="rId1"/>
          <a:stretch/>
        </p:blipFill>
        <p:spPr>
          <a:xfrm>
            <a:off x="0" y="990720"/>
            <a:ext cx="2260440" cy="30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Увеличить"/>
          <p:cNvPicPr/>
          <p:nvPr/>
        </p:nvPicPr>
        <p:blipFill>
          <a:blip r:embed="rId2"/>
          <a:stretch/>
        </p:blipFill>
        <p:spPr>
          <a:xfrm>
            <a:off x="1676520" y="4267080"/>
            <a:ext cx="3528720" cy="242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B31-21D1-49C6-AA55-484066433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362320" y="0"/>
            <a:ext cx="678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иболее сложной технологией изготовления отличается другой тип матрешки – родом из Вятки. Помимо традиционной росписи, в ее оформлении используется оригинальный художественно – технологический прием, вообще характерный для изделий этого региона – инкрустация соломко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62320" y="1600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Вятская (кировская)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мат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34120" y="3657600"/>
            <a:ext cx="368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губки бантиком, да щечки будто  ябло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ми издавна знаком весь народ на ярма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матрешки вятские всех на свете кра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исные, яркие сарафаны н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Увеличить"/>
          <p:cNvPicPr/>
          <p:nvPr/>
        </p:nvPicPr>
        <p:blipFill>
          <a:blip r:embed="rId1"/>
          <a:stretch/>
        </p:blipFill>
        <p:spPr>
          <a:xfrm>
            <a:off x="152280" y="3048120"/>
            <a:ext cx="5029200" cy="289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607-0972-4619-9AEE-F2F3FAE0A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Как рождается матре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елают матрешек из лиственницы, липы и осины, срубленных обязательно ранней вес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ревесина выдерживается два - три года, затем обтачивается на станках, тщательно обрабатыв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Мастер придирчиво выбирает материал для куклы, ищет такой, чтобы не было ни сучка, ни трещинки, и, только убедившись в качестве заготовки, приступает к рабо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Сначала точит самую маленькую матрешечку, порой она бывает совсем крошечной, меньше ногтя, затем больше, больше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CD5-D2B1-4EBF-B685-25BC24AC8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E:\документы ольга\post-2307-1229948888.jpg"/>
          <p:cNvPicPr/>
          <p:nvPr/>
        </p:nvPicPr>
        <p:blipFill>
          <a:blip r:embed="rId1"/>
          <a:stretch/>
        </p:blipFill>
        <p:spPr>
          <a:xfrm>
            <a:off x="231840" y="0"/>
            <a:ext cx="1998720" cy="16207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7"/>
          <p:cNvSpPr/>
          <p:nvPr/>
        </p:nvSpPr>
        <p:spPr>
          <a:xfrm>
            <a:off x="0" y="3733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несение контуров      Покрытие основных        Наведение контура               Рисование лица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цветовых пятен               черной кра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463400" y="6324480"/>
            <a:ext cx="61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ведение щек                         Лакировка                                  Сбо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Этапы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2362320" y="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осписи обычно используют три - четыре цвета - красный или оранжевый, жёлтый, зелёный и синий. Чёрный – обводка  лица и контуров одежды.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исывают гуашевыми крас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Администратор\Рабочий стол\оля\Рисунок21.jpg"/>
          <p:cNvPicPr/>
          <p:nvPr/>
        </p:nvPicPr>
        <p:blipFill>
          <a:blip r:embed="rId2"/>
          <a:stretch/>
        </p:blipFill>
        <p:spPr>
          <a:xfrm>
            <a:off x="6705720" y="2286000"/>
            <a:ext cx="219852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C:\Documents and Settings\Администратор\Рабочий стол\оля\Рисунок2.jpg"/>
          <p:cNvPicPr/>
          <p:nvPr/>
        </p:nvPicPr>
        <p:blipFill>
          <a:blip r:embed="rId3"/>
          <a:stretch/>
        </p:blipFill>
        <p:spPr>
          <a:xfrm>
            <a:off x="228600" y="2286000"/>
            <a:ext cx="176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Администратор\Рабочий стол\оля\Рисунок3.jpg"/>
          <p:cNvPicPr/>
          <p:nvPr/>
        </p:nvPicPr>
        <p:blipFill>
          <a:blip r:embed="rId4"/>
          <a:stretch/>
        </p:blipFill>
        <p:spPr>
          <a:xfrm>
            <a:off x="2209680" y="2286000"/>
            <a:ext cx="20512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Администратор\Рабочий стол\оля\Рисунок4.jpg"/>
          <p:cNvPicPr/>
          <p:nvPr/>
        </p:nvPicPr>
        <p:blipFill>
          <a:blip r:embed="rId5"/>
          <a:stretch/>
        </p:blipFill>
        <p:spPr>
          <a:xfrm>
            <a:off x="1143000" y="4876920"/>
            <a:ext cx="197640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Администратор\Рабочий стол\оля\Рисунок5.jpg"/>
          <p:cNvPicPr/>
          <p:nvPr/>
        </p:nvPicPr>
        <p:blipFill>
          <a:blip r:embed="rId6"/>
          <a:stretch/>
        </p:blipFill>
        <p:spPr>
          <a:xfrm>
            <a:off x="4038480" y="4343400"/>
            <a:ext cx="1314720" cy="19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Администратор\Рабочий стол\оля\Рисунок6.jpg"/>
          <p:cNvPicPr/>
          <p:nvPr/>
        </p:nvPicPr>
        <p:blipFill>
          <a:blip r:embed="rId7"/>
          <a:stretch/>
        </p:blipFill>
        <p:spPr>
          <a:xfrm>
            <a:off x="6248520" y="4876920"/>
            <a:ext cx="17604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Администратор\Рабочий стол\оля\Рисунок7.jpg"/>
          <p:cNvPicPr/>
          <p:nvPr/>
        </p:nvPicPr>
        <p:blipFill>
          <a:blip r:embed="rId8"/>
          <a:stretch/>
        </p:blipFill>
        <p:spPr>
          <a:xfrm>
            <a:off x="4495680" y="2286000"/>
            <a:ext cx="197640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80A-50CD-4516-ADB1-EB2176BC9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362320" y="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13 году для выставки игрушек в Петербурге была выточена 48-местная матрешка бабенским токарем Н.Булыче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36232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амые большие матреш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116000" y="2401920"/>
            <a:ext cx="7265880" cy="40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884-A7C3-4EC5-BDC6-A5B5945F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57200" y="4038480"/>
            <a:ext cx="472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Самая большая в мире матрешка-здание  построена в Китае - 30 метров в высоту , изображает китайскую, монгольскую и российскую девушек. Вокруг восемь "зданий-матрешек" поменьше, а также 200 маленьких матрешек - политических и общественных деятелей со всего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715000" y="518148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имвол VII фестиваля аэростатов  в Сергиевом Посаде - летающая матрёшка высотой 30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C:\Documents and Settings\Администратор\Рабочий стол\оля\Рисунок48.jpg"/>
          <p:cNvPicPr/>
          <p:nvPr/>
        </p:nvPicPr>
        <p:blipFill>
          <a:blip r:embed="rId1"/>
          <a:stretch/>
        </p:blipFill>
        <p:spPr>
          <a:xfrm>
            <a:off x="228600" y="457200"/>
            <a:ext cx="5060880" cy="349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Администратор\Рабочий стол\оля\Рисунок49.jpg"/>
          <p:cNvPicPr/>
          <p:nvPr/>
        </p:nvPicPr>
        <p:blipFill>
          <a:blip r:embed="rId2"/>
          <a:stretch/>
        </p:blipFill>
        <p:spPr>
          <a:xfrm>
            <a:off x="5638680" y="457200"/>
            <a:ext cx="3218040" cy="428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C21-C869-4414-98D6-732F14AFA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0" y="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70 году на выставке "Экспо-70" в Токио, Япония была представлена самая большая, когда-либо изготовленная матрешка: 72- х местная, диаметр которой 0,5 метра, а высота 1 метр, изготовленная  в Семёнов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амая большая матре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C:\Documents and Settings\Администратор\Рабочий стол\оля\Рисунок30.jpg"/>
          <p:cNvPicPr/>
          <p:nvPr/>
        </p:nvPicPr>
        <p:blipFill>
          <a:blip r:embed="rId1"/>
          <a:stretch/>
        </p:blipFill>
        <p:spPr>
          <a:xfrm>
            <a:off x="457200" y="2514600"/>
            <a:ext cx="3871800" cy="395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Администратор\Рабочий стол\оля\Рисунок31.jpg"/>
          <p:cNvPicPr/>
          <p:nvPr/>
        </p:nvPicPr>
        <p:blipFill>
          <a:blip r:embed="rId2"/>
          <a:stretch/>
        </p:blipFill>
        <p:spPr>
          <a:xfrm>
            <a:off x="4952880" y="2514600"/>
            <a:ext cx="381816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9316-9DE8-471D-AB97-38CB35A2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матрешка\218821-824bb7c588a29fac.jpg"/>
          <p:cNvPicPr/>
          <p:nvPr/>
        </p:nvPicPr>
        <p:blipFill>
          <a:blip r:embed="rId1"/>
          <a:stretch/>
        </p:blipFill>
        <p:spPr>
          <a:xfrm>
            <a:off x="228600" y="3733920"/>
            <a:ext cx="1143000" cy="27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E:\матрешка\kukla_rospis_01.jpg"/>
          <p:cNvPicPr/>
          <p:nvPr/>
        </p:nvPicPr>
        <p:blipFill>
          <a:blip r:embed="rId2"/>
          <a:stretch/>
        </p:blipFill>
        <p:spPr>
          <a:xfrm>
            <a:off x="1523880" y="3733920"/>
            <a:ext cx="166068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E:\матрешка\MAO002d.jpg"/>
          <p:cNvPicPr/>
          <p:nvPr/>
        </p:nvPicPr>
        <p:blipFill>
          <a:blip r:embed="rId3"/>
          <a:stretch/>
        </p:blipFill>
        <p:spPr>
          <a:xfrm>
            <a:off x="304920" y="304920"/>
            <a:ext cx="2209680" cy="30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E:\Мои рисунки- ольга\матрешка\mp6702001.jpg"/>
          <p:cNvPicPr/>
          <p:nvPr/>
        </p:nvPicPr>
        <p:blipFill>
          <a:blip r:embed="rId4"/>
          <a:stretch/>
        </p:blipFill>
        <p:spPr>
          <a:xfrm>
            <a:off x="5257800" y="3733920"/>
            <a:ext cx="1654200" cy="270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E:\Мои рисунки- ольга\матрешка\0001520b.jpg"/>
          <p:cNvPicPr/>
          <p:nvPr/>
        </p:nvPicPr>
        <p:blipFill>
          <a:blip r:embed="rId5"/>
          <a:stretch/>
        </p:blipFill>
        <p:spPr>
          <a:xfrm>
            <a:off x="7086600" y="3733920"/>
            <a:ext cx="1782720" cy="2700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2514600" y="1600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еобычная форма авторской мат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90920" y="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одные умельцы экспериментируют и с формой матрешки: вытачивают фигуры конусовидные, в форме яйца, матрешки-неваляш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C:\Documents and Settings\Администратор\Рабочий стол\оля\Рисунок38.jpg"/>
          <p:cNvPicPr/>
          <p:nvPr/>
        </p:nvPicPr>
        <p:blipFill>
          <a:blip r:embed="rId6"/>
          <a:stretch/>
        </p:blipFill>
        <p:spPr>
          <a:xfrm>
            <a:off x="3352680" y="3733920"/>
            <a:ext cx="172728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017-1BD8-4436-9A91-E0058CB1D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362320" y="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чаще можно встретить матрешки «под Хохлому» «под Федоскино», «под Жостово» и другие виды росписи по де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362320" y="16002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отивы, характерные для тради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ентров русской на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ская 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a167.jpg"/>
          <p:cNvPicPr/>
          <p:nvPr/>
        </p:nvPicPr>
        <p:blipFill>
          <a:blip r:embed="rId1"/>
          <a:stretch/>
        </p:blipFill>
        <p:spPr>
          <a:xfrm>
            <a:off x="6400800" y="2514600"/>
            <a:ext cx="2492280" cy="36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документы ольга\459-20m.jpg"/>
          <p:cNvPicPr/>
          <p:nvPr/>
        </p:nvPicPr>
        <p:blipFill>
          <a:blip r:embed="rId2"/>
          <a:stretch/>
        </p:blipFill>
        <p:spPr>
          <a:xfrm>
            <a:off x="4383000" y="2514600"/>
            <a:ext cx="1744920" cy="36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E:\Мои рисунки- ольга\хохлома\shtof_Bagater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28600" y="1752480"/>
            <a:ext cx="1676520" cy="456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C:\Documents and Settings\Администратор\Рабочий стол\оля\Рисунок39.jpg"/>
          <p:cNvPicPr/>
          <p:nvPr/>
        </p:nvPicPr>
        <p:blipFill>
          <a:blip r:embed="rId4"/>
          <a:stretch/>
        </p:blipFill>
        <p:spPr>
          <a:xfrm>
            <a:off x="2209680" y="2514600"/>
            <a:ext cx="183204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751-D5F2-4E5E-9231-4A2A8CA1C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ком так говоря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447560"/>
            <a:ext cx="5791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ом разные подруж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похожи друг на друж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они сидят друг в друж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сего одна игру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ый, шелковый плато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кий сарафан в цвето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ирается рука в деревянные б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нутри секреты 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три, а может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мянилась немножк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русская 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C2A-324F-4B79-A90D-A2FDF839C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E:\Мои рисунки- ольга\hoh_mat_01_lg.jpg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372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E:\матрешка\matrechka.JPG"/>
          <p:cNvPicPr/>
          <p:nvPr/>
        </p:nvPicPr>
        <p:blipFill>
          <a:blip r:embed="rId2"/>
          <a:stretch/>
        </p:blipFill>
        <p:spPr>
          <a:xfrm>
            <a:off x="6172200" y="2514600"/>
            <a:ext cx="2733840" cy="3733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зделия в форме матре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E:\Мои рисунки- ольга\af432c896db4392817fca66cf8bf9868.jpg"/>
          <p:cNvPicPr/>
          <p:nvPr/>
        </p:nvPicPr>
        <p:blipFill>
          <a:blip r:embed="rId3"/>
          <a:stretch/>
        </p:blipFill>
        <p:spPr>
          <a:xfrm>
            <a:off x="3505320" y="2286000"/>
            <a:ext cx="2203200" cy="2895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438280" y="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кла-матрешка – источник творчества для оформления шкатулок, деревянных ручек, брелков, фартуков, прихваток и других полезных и нужных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E:\Мои рисунки- ольга\b95fad67c87308229aa91601f9e7b528.jpg"/>
          <p:cNvPicPr/>
          <p:nvPr/>
        </p:nvPicPr>
        <p:blipFill>
          <a:blip r:embed="rId4"/>
          <a:stretch/>
        </p:blipFill>
        <p:spPr>
          <a:xfrm>
            <a:off x="3733920" y="5257800"/>
            <a:ext cx="1752480" cy="14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99EF-ED2E-4993-8E61-F2CF0A157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2362320" y="16002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433-6F5D-443F-99B7-40A3F649A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499840" y="152280"/>
            <a:ext cx="643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РЕ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678120" y="18288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Народный художественный про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0" y="2362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b871"/>
                </a:solidFill>
                <a:latin typeface="Times New Roman"/>
                <a:ea typeface="Times New Roman"/>
              </a:rPr>
              <a:t>Кукла-матрешка нарядна, красив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b871"/>
                </a:solidFill>
                <a:latin typeface="Times New Roman"/>
                <a:ea typeface="Times New Roman"/>
              </a:rPr>
              <a:t>Кукла-матрешка - улыбка Росс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602136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39FE-8F4E-4760-88DE-CE1781A40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438280" y="3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Как появилась матрёш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2743200"/>
            <a:ext cx="586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Если вы считаете «русскую матрешку» исконно русской игрушкой, то вы ошибае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ервая русская матрешка была выточена и расписана в московской игрушечной мастерской только в 90-х годах XIX века, по образцу привезенному из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Этот японский образец, выполненный с большим юмором, представлял собой множество вставляемых друг в друга фигурок японского мудреца Фукурума - лысоватого старичка с головой вытянутой вверх от многочисленных раздум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http://www.soldatru.ru/art/art/art_pic/matreshky_2.jpg"/>
          <p:cNvPicPr/>
          <p:nvPr/>
        </p:nvPicPr>
        <p:blipFill>
          <a:blip r:embed="rId1"/>
          <a:stretch/>
        </p:blipFill>
        <p:spPr>
          <a:xfrm>
            <a:off x="0" y="0"/>
            <a:ext cx="184464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Рабочий стол\оля\Рисунок13.jpg"/>
          <p:cNvPicPr/>
          <p:nvPr/>
        </p:nvPicPr>
        <p:blipFill>
          <a:blip r:embed="rId2"/>
          <a:stretch/>
        </p:blipFill>
        <p:spPr>
          <a:xfrm>
            <a:off x="6324480" y="2286000"/>
            <a:ext cx="2819520" cy="403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A58C-FFED-438A-AE82-982434BF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36232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атрешка с пет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362320" y="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точена Василием Звездочк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исана Сергеем Малют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90 году на Всемирной выставке в Париже получила медаль и мировое при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5170680" cy="3807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0" y="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ая матреш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80880" y="2666880"/>
            <a:ext cx="33530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ервая матрешка представляла собой детскую группу: восемь кукол изображали детей разных возрастов, от самой старшей (большой) девушки с петухом до завернутого в пеленки младе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31C-D9A5-4656-A19F-44E6C470B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28600" y="259092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Сто лет наз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звестный ма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грушку чудную созд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грушка- кукла распис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А как назвать ее, не з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расивая игрушка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охожа на Катю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А может на Танюшку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ей имя подбир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расивая игр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ак русская девч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 мастер ту игрушк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Матрешкою наз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438280" y="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то-то из друзей Мамонтовых, увидев новую игрушку, воскликнул: «Хороша! Типичная Матрена!» Матреша! Так и стали новые игрушки матреш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ереводе с латыни mater - м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:\Мои рисунки- ольга\матрешка\bg_p_45.jpg"/>
          <p:cNvPicPr/>
          <p:nvPr/>
        </p:nvPicPr>
        <p:blipFill>
          <a:blip r:embed="rId1"/>
          <a:stretch/>
        </p:blipFill>
        <p:spPr>
          <a:xfrm>
            <a:off x="3456000" y="2514600"/>
            <a:ext cx="553716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мя мат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4FAE-3892-4AB6-AF69-65237ABB5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62320" y="0"/>
            <a:ext cx="678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годня матрёшкой называют только те точеные и расписанные деревянные игрушки-сувениры, которые состоят из нескольких вкладывающихся одна в другую поделок. Игрушки, не вкладывающиеся одна в другую, - просто "точеная игрушк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Главный секрет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E:\документы ольга\10-0011b.jpg"/>
          <p:cNvPicPr/>
          <p:nvPr/>
        </p:nvPicPr>
        <p:blipFill>
          <a:blip r:embed="rId1"/>
          <a:stretch/>
        </p:blipFill>
        <p:spPr>
          <a:xfrm>
            <a:off x="228600" y="3048120"/>
            <a:ext cx="3884760" cy="31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:\документы ольга\ьюд.jpg"/>
          <p:cNvPicPr/>
          <p:nvPr/>
        </p:nvPicPr>
        <p:blipFill>
          <a:blip r:embed="rId2"/>
          <a:stretch/>
        </p:blipFill>
        <p:spPr>
          <a:xfrm>
            <a:off x="4419720" y="3048120"/>
            <a:ext cx="4532040" cy="313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362320" y="16002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Кукла с сюрпризом: внутри большой матрешки сидит матрешка поменьше, а в той еще и е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817B-B163-4C1E-9DE4-26BFAB323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286000" y="15238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ентры по изготовлению матре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E:\K01_69_L.jpg"/>
          <p:cNvPicPr/>
          <p:nvPr/>
        </p:nvPicPr>
        <p:blipFill>
          <a:blip r:embed="rId1"/>
          <a:stretch/>
        </p:blipFill>
        <p:spPr>
          <a:xfrm>
            <a:off x="2743200" y="2514600"/>
            <a:ext cx="1922400" cy="3959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362320" y="0"/>
            <a:ext cx="678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горская (Сергиево-Посадск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енов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хов-Майдан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ировская (Вятск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C:\Documents and Settings\Администратор\Рабочий стол\оля\Рисунок15.jpg"/>
          <p:cNvPicPr/>
          <p:nvPr/>
        </p:nvPicPr>
        <p:blipFill>
          <a:blip r:embed="rId2"/>
          <a:stretch/>
        </p:blipFill>
        <p:spPr>
          <a:xfrm>
            <a:off x="304920" y="2514600"/>
            <a:ext cx="2098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оля\Рисунок16.jpg"/>
          <p:cNvPicPr/>
          <p:nvPr/>
        </p:nvPicPr>
        <p:blipFill>
          <a:blip r:embed="rId3"/>
          <a:stretch/>
        </p:blipFill>
        <p:spPr>
          <a:xfrm>
            <a:off x="5029200" y="2514600"/>
            <a:ext cx="1771560" cy="39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Администратор\Рабочий стол\оля\Рисунок17.jpg"/>
          <p:cNvPicPr/>
          <p:nvPr/>
        </p:nvPicPr>
        <p:blipFill>
          <a:blip r:embed="rId4"/>
          <a:stretch/>
        </p:blipFill>
        <p:spPr>
          <a:xfrm>
            <a:off x="7162920" y="2514600"/>
            <a:ext cx="171756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9F7-DE0B-41F1-A5EC-8BB2094A1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362320" y="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тко обозначен силуэт головного платка, кофты, сарафана, фартука. Декоративная роспись скромно украшает платок и край фарту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124080" y="16002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горская матрешка, г. Сергиев По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Московская обл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8600" y="4025880"/>
            <a:ext cx="380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з Сергиева Пос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Встрече с вами очень 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Мне художниками 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ркий русский сараф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мею с давних 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 переднике у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Знаменит платочек 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Разноцветною кай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E:\Мои рисунки- ольга\17522.jpg"/>
          <p:cNvPicPr/>
          <p:nvPr/>
        </p:nvPicPr>
        <p:blipFill>
          <a:blip r:embed="rId1"/>
          <a:stretch/>
        </p:blipFill>
        <p:spPr>
          <a:xfrm>
            <a:off x="4267080" y="3429000"/>
            <a:ext cx="4713480" cy="2936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матрешка пасад1"/>
          <p:cNvPicPr/>
          <p:nvPr/>
        </p:nvPicPr>
        <p:blipFill>
          <a:blip r:embed="rId2"/>
          <a:stretch/>
        </p:blipFill>
        <p:spPr>
          <a:xfrm>
            <a:off x="0" y="1200240"/>
            <a:ext cx="297180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3-21T13:58:09Z</dcterms:modified>
  <cp:revision>393</cp:revision>
  <dc:subject/>
  <dc:title>Слайд 1</dc:title>
</cp:coreProperties>
</file>