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EB3-C3A4-46AD-B633-052F9213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B65-FDAB-4587-8ADD-B31F470C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EAF-BABF-4308-9618-94A7FE6C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9A4-6222-451B-B6E7-37FB3DB7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C40-F3A6-4C3B-A753-F9425245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0D3-A772-46B4-B0F6-6255F2DD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98C-A1AD-4C50-BF54-5762BDF0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E2D-7D61-4ECB-BEBF-7F1B6350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E7D-C94D-4A95-90A7-28306DE2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7EA-924A-48B6-9CF5-47F22671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8CD-9F28-4364-ADC2-D1430908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6EE-CC9A-4038-9E21-295E42B1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EB24-783B-458F-871B-C00EDAC6A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52280" y="182520"/>
            <a:ext cx="8839440" cy="6546960"/>
            <a:chOff x="152280" y="182520"/>
            <a:chExt cx="8839440" cy="654696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52280" y="182520"/>
              <a:ext cx="8839440" cy="654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14200" y="214200"/>
              <a:ext cx="8715600" cy="64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1944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Calibri"/>
              </a:rPr>
              <a:t>Н.Н.Носов «Затейники</a:t>
            </a:r>
            <a:br>
              <a:rPr sz="6000"/>
            </a:b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УМК «Школа Росси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2852280"/>
            <a:ext cx="7848360" cy="374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ервый рассказ «Затейники» был издан в 1938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47640" y="1781280"/>
            <a:ext cx="3657600" cy="416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673520" y="1600200"/>
            <a:ext cx="3987720" cy="4276800"/>
          </a:xfrm>
          <a:prstGeom prst="rect">
            <a:avLst/>
          </a:prstGeom>
          <a:ln w="0">
            <a:noFill/>
          </a:ln>
        </p:spPr>
      </p:pic>
      <p:pic>
        <p:nvPicPr>
          <p:cNvPr id="71" name="Носов Затейники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1116000" y="59641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прослушивание расск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20657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57120" y="500040"/>
            <a:ext cx="8358120" cy="399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Какое впечатление произвел на вас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Как называли себя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В какую игру они игр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Кого изображ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Почему игра прерва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Что вы можете сказать о ребят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Что вы им посовету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http://im4-tub-ru.yandex.net/i?id=506646494-56-72&amp;n=21"/>
          <p:cNvPicPr/>
          <p:nvPr/>
        </p:nvPicPr>
        <p:blipFill>
          <a:blip r:embed="rId1"/>
          <a:stretch/>
        </p:blipFill>
        <p:spPr>
          <a:xfrm>
            <a:off x="2411280" y="4653000"/>
            <a:ext cx="374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28760" y="500040"/>
            <a:ext cx="8215200" cy="1800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4800" spc="-1" strike="noStrike">
                <a:solidFill>
                  <a:srgbClr val="10253f"/>
                </a:solidFill>
                <a:latin typeface="Arial"/>
              </a:rPr>
              <a:t>Работа  в парах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полните задания  5 и 6 на стр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1214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-  За что вы похвалили бы себ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-  Что у вас особенно получило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388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cc"/>
                </a:solidFill>
                <a:latin typeface="Calibri"/>
              </a:rPr>
              <a:t>Спасибо </a:t>
            </a:r>
            <a:br>
              <a:rPr sz="9600"/>
            </a:br>
            <a:r>
              <a:rPr b="1" lang="ru-RU" sz="9600" spc="-1" strike="noStrike">
                <a:solidFill>
                  <a:srgbClr val="0033cc"/>
                </a:solidFill>
                <a:latin typeface="Calibri"/>
              </a:rPr>
              <a:t> за  урок 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203640" y="465300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Речевая размин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ча по небу плы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ождик за  руку ве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н шагал на тонких нож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чёрных маленьких калош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ождик всюду походи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ождик всюду наследи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тёплых лужах потоптал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игрался и умчал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его ли там кало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окнут в луже на дорожке?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Что такое затея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632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Задуманное дело, замысе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2. Занятие для развлечения, заба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32523"/>
                </a:solidFill>
                <a:uFillTx/>
                <a:latin typeface="Calibri"/>
              </a:rPr>
              <a:t>Кто такой затейни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152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«ЗАТЕЙНИК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www.planetaskazok.ru/images/stories/nosov/zateiniki/img_2.jpg"/>
          <p:cNvPicPr/>
          <p:nvPr/>
        </p:nvPicPr>
        <p:blipFill>
          <a:blip r:embed="rId1"/>
          <a:stretch/>
        </p:blipFill>
        <p:spPr>
          <a:xfrm>
            <a:off x="2627280" y="2060640"/>
            <a:ext cx="4105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072040" y="476280"/>
            <a:ext cx="3821040" cy="558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Николай Николаевич Н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(1908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русский писател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litopys.net/img/thisday/November/23/nosov_3.jpg"/>
          <p:cNvPicPr/>
          <p:nvPr/>
        </p:nvPicPr>
        <p:blipFill>
          <a:blip r:embed="rId2"/>
          <a:stretch/>
        </p:blipFill>
        <p:spPr>
          <a:xfrm>
            <a:off x="250920" y="189000"/>
            <a:ext cx="48211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4-tub-ru.yandex.net/i?id=708254530-28-72&amp;n=21"/>
          <p:cNvPicPr/>
          <p:nvPr/>
        </p:nvPicPr>
        <p:blipFill>
          <a:blip r:embed="rId1"/>
          <a:stretch/>
        </p:blipFill>
        <p:spPr>
          <a:xfrm>
            <a:off x="563400" y="692280"/>
            <a:ext cx="20894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im4-tub-ru.yandex.net/i?id=550579968-58-72&amp;n=21"/>
          <p:cNvPicPr/>
          <p:nvPr/>
        </p:nvPicPr>
        <p:blipFill>
          <a:blip r:embed="rId2"/>
          <a:stretch/>
        </p:blipFill>
        <p:spPr>
          <a:xfrm>
            <a:off x="2706840" y="674640"/>
            <a:ext cx="172872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im3-tub-ru.yandex.net/i?id=64321310-34-72&amp;n=21"/>
          <p:cNvPicPr/>
          <p:nvPr/>
        </p:nvPicPr>
        <p:blipFill>
          <a:blip r:embed="rId3"/>
          <a:stretch/>
        </p:blipFill>
        <p:spPr>
          <a:xfrm>
            <a:off x="4946760" y="668160"/>
            <a:ext cx="1584360" cy="201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im8-tub-ru.yandex.net/i?id=70431256-53-72&amp;n=21"/>
          <p:cNvPicPr/>
          <p:nvPr/>
        </p:nvPicPr>
        <p:blipFill>
          <a:blip r:embed="rId4"/>
          <a:stretch/>
        </p:blipFill>
        <p:spPr>
          <a:xfrm>
            <a:off x="7093080" y="635040"/>
            <a:ext cx="151128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im4-tub-ru.yandex.net/i?id=550773912-33-72&amp;n=21"/>
          <p:cNvPicPr/>
          <p:nvPr/>
        </p:nvPicPr>
        <p:blipFill>
          <a:blip r:embed="rId5"/>
          <a:stretch/>
        </p:blipFill>
        <p:spPr>
          <a:xfrm>
            <a:off x="563400" y="3321000"/>
            <a:ext cx="1878120" cy="23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http://im2-tub-ru.yandex.net/i?id=108374247-48-72&amp;n=21"/>
          <p:cNvPicPr/>
          <p:nvPr/>
        </p:nvPicPr>
        <p:blipFill>
          <a:blip r:embed="rId6"/>
          <a:stretch/>
        </p:blipFill>
        <p:spPr>
          <a:xfrm>
            <a:off x="6667560" y="3141720"/>
            <a:ext cx="22255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7"/>
          <a:stretch/>
        </p:blipFill>
        <p:spPr>
          <a:xfrm>
            <a:off x="2400480" y="3121200"/>
            <a:ext cx="42670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57120" y="1503360"/>
            <a:ext cx="3638520" cy="375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Н.Носов родился в Киеве. Писал в то же время, что и  К.Чуковский,  А.Барто,  С.Маршак  и С.Миха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Первый его рассказ  -   «Затейники»  был опубликован в журнале «Мурзилка» в 1938г. Он написал много рассказов и повестей о ребя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litopys.net/img/thisday/November/23/nosov_3.jpg"/>
          <p:cNvPicPr/>
          <p:nvPr/>
        </p:nvPicPr>
        <p:blipFill>
          <a:blip r:embed="rId2"/>
          <a:stretch/>
        </p:blipFill>
        <p:spPr>
          <a:xfrm>
            <a:off x="4313160" y="195120"/>
            <a:ext cx="46483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57120" y="222840"/>
            <a:ext cx="5151600" cy="631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В 1954г. вышла книжка-сказка «Приключения Незнайки и его друзей». Потом появились «Незнайка в Солнечном городе» и «Незнайка на Лу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Николай Носов не сразу стал писателем. Он сменил много профессий: продавал газеты, был чернорабочим, землекопом, косарём, возчиком брёв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Поступил сначала в Киевский художественный институт, а потом перевелся в Институт кинематографии в Москве. Был постановщиком нескольких учебных и научно-популярных фильмов. И только после этого стал пис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litopys.net/img/thisday/November/23/nosov_3.jpg"/>
          <p:cNvPicPr/>
          <p:nvPr/>
        </p:nvPicPr>
        <p:blipFill>
          <a:blip r:embed="rId2"/>
          <a:stretch/>
        </p:blipFill>
        <p:spPr>
          <a:xfrm>
            <a:off x="5292720" y="836640"/>
            <a:ext cx="35812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611280" y="357120"/>
            <a:ext cx="81039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смотрите иллюст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Мы с Валей прячемся под столом от волка"/>
          <p:cNvPicPr/>
          <p:nvPr/>
        </p:nvPicPr>
        <p:blipFill>
          <a:blip r:embed="rId1"/>
          <a:stretch/>
        </p:blipFill>
        <p:spPr>
          <a:xfrm>
            <a:off x="900000" y="819000"/>
            <a:ext cx="6912000" cy="5778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4572000" y="907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Как вы думаете, каким будет рассказ – грустным или весёл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9:29:06Z</dcterms:created>
  <dc:creator>Admin</dc:creator>
  <dc:description/>
  <dc:language>en-US</dc:language>
  <cp:lastModifiedBy>Пользователь</cp:lastModifiedBy>
  <dcterms:modified xsi:type="dcterms:W3CDTF">2023-01-29T14:37:04Z</dcterms:modified>
  <cp:revision>50</cp:revision>
  <dc:subject/>
  <dc:title>Слайд 1</dc:title>
</cp:coreProperties>
</file>