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E75-A982-490A-A69C-7A21C530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47E-B668-455E-B8A4-4FC6D96C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12B-A352-448A-9A2E-11A41E54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D47-EA65-4CE0-A7CF-7089A2EE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129-FA2D-43A0-9E59-19A7DA7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985-68DF-4674-B30A-51A3B99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732-95BC-4715-A65C-66E9824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A2E-5152-48A4-B3E7-3C35B74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29C-31D6-4E8D-8465-A47550F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CCA-7B24-40ED-A23D-F24441D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9D4-5DB3-413E-8C55-7FB805C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C4D-A53A-49D2-A991-217935D1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F549-9033-4682-8241-6B6BB565A39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D937-C483-4487-A3D4-1C537383AA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999720"/>
            <a:ext cx="635796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7900"/>
            </a:br>
            <a:r>
              <a:rPr b="1" lang="ru-RU" sz="79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79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усакова М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7F71-1C2C-491C-9A9D-DFFCB501561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3"/>
          <p:cNvSpPr/>
          <p:nvPr/>
        </p:nvSpPr>
        <p:spPr>
          <a:xfrm>
            <a:off x="1643040" y="42876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4CC-61FB-41A4-B23E-B240D395FD1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E8B8-8DE6-4278-8F34-C0A599AB304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6" descr="58.jpg"/>
          <p:cNvPicPr/>
          <p:nvPr/>
        </p:nvPicPr>
        <p:blipFill>
          <a:blip r:embed="rId1"/>
          <a:stretch/>
        </p:blipFill>
        <p:spPr>
          <a:xfrm>
            <a:off x="2195640" y="1833480"/>
            <a:ext cx="4248000" cy="428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448-030E-4898-A64B-9C521B4B97F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6" descr="66.jpg"/>
          <p:cNvPicPr/>
          <p:nvPr/>
        </p:nvPicPr>
        <p:blipFill>
          <a:blip r:embed="rId1"/>
          <a:stretch/>
        </p:blipFill>
        <p:spPr>
          <a:xfrm>
            <a:off x="1547640" y="1779480"/>
            <a:ext cx="5554800" cy="416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8C8-6361-4C96-A665-28B2F49C32D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79C-2DEF-422F-977B-54828395CCDF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367-B4A4-4961-8871-7B70F377BC4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D370-531E-47AF-9647-7F033BD1618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FF8D-1F8F-4CA6-BBD4-2C55832831E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95D-65AB-4958-B52E-A6A83B44466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A0D-BD28-4717-931F-636134332AC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F7D-F160-41E8-925C-933BC06F8E0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1EC9-A7A8-465D-AD8D-44F7E325FDD4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Мария</cp:lastModifiedBy>
  <dcterms:modified xsi:type="dcterms:W3CDTF">2023-02-13T07:36:22Z</dcterms:modified>
  <cp:revision>36</cp:revision>
  <dc:subject/>
  <dc:title>Откуда к нам хлеб пришёл</dc:title>
</cp:coreProperties>
</file>