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06C-A6FF-4D47-8204-89679144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989-6A13-42F7-85BC-2B7622B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E64-621A-4AC8-B34C-50CBE5DC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69B-7833-48AF-AC13-7265573B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ECA-38D5-4BA7-8D71-FB3946DA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41A-804B-44F3-8F71-C6DFACB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1D8-4547-4A3C-AB5F-6677DB3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650-6DC0-4D0A-B738-B3E59F3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3D1-177F-4384-8DE8-38353C2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080-27BB-4616-92B2-6AAF90C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1F7-E59D-4AB9-8B04-B14BD82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972-394E-426C-802A-94EA291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4A29-32AC-4094-BCA3-9BFA5D286C3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A21C-38B4-45AA-B604-24426B3591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999720"/>
            <a:ext cx="635796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7900"/>
            </a:br>
            <a:r>
              <a:rPr b="1" lang="ru-RU" sz="79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79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усакова М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5C1-ED74-4240-9D2A-A93552D9809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3"/>
          <p:cNvSpPr/>
          <p:nvPr/>
        </p:nvSpPr>
        <p:spPr>
          <a:xfrm>
            <a:off x="1643040" y="42876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1E6-472C-436A-B0A9-429243C2BB6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3682-355C-438C-818B-EAD1011801C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6" descr="58.jpg"/>
          <p:cNvPicPr/>
          <p:nvPr/>
        </p:nvPicPr>
        <p:blipFill>
          <a:blip r:embed="rId1"/>
          <a:stretch/>
        </p:blipFill>
        <p:spPr>
          <a:xfrm>
            <a:off x="2195640" y="1833480"/>
            <a:ext cx="4248000" cy="428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F8DC-2FE6-4AF3-9059-07F3362477D9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6" descr="66.jpg"/>
          <p:cNvPicPr/>
          <p:nvPr/>
        </p:nvPicPr>
        <p:blipFill>
          <a:blip r:embed="rId1"/>
          <a:stretch/>
        </p:blipFill>
        <p:spPr>
          <a:xfrm>
            <a:off x="1547640" y="1779480"/>
            <a:ext cx="5554800" cy="416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04A7-7F4C-4C48-B1ED-1ED66EB7E1A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BF07-B15C-4863-B42B-9EE6EF87177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C13-BFE8-4EE7-9D3E-E71C49DADA3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AEE1-DBB9-4FC5-9827-D68789DF146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9AD-134A-485A-856E-BAA4E2FB568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873-3E9D-4162-9085-DAECF03E8B8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488-C2BD-4F9C-8BE7-963D87AFDE6B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4F28-65DA-49F7-A893-38791BD922F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AA4-6279-421C-A66A-BAA67EEB60B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Мария</cp:lastModifiedBy>
  <dcterms:modified xsi:type="dcterms:W3CDTF">2023-02-13T07:36:22Z</dcterms:modified>
  <cp:revision>36</cp:revision>
  <dc:subject/>
  <dc:title>Откуда к нам хлеб пришёл</dc:title>
</cp:coreProperties>
</file>