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10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51F-99DD-40FA-A83F-710A73B8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F7C-4FBF-4C84-B1C8-543F0CF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E47-0693-4BFC-A75C-74A50639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6C1-EDEF-401D-8E7C-3A9F9884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A04-6EFA-44D8-8977-DC1DEB7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6BA-334B-48E2-9108-8692502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637-7EDF-46F7-9E27-A4A3000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82D-FF0E-4BAA-A31A-4906A3D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D48-93BA-4F78-A7CE-E130626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EB-D121-4691-9C03-2BC4683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548-0BF4-4754-80ED-EB6832D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DFD-DEA2-4CBC-924A-E9D419B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7AD-319C-416C-9628-34DFBD724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kaluz.narod.ru/b11.gif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natkaluz.narod.ru/b11.gif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natkaluz.narod.ru/b11.gif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4" Type="http://schemas.openxmlformats.org/officeDocument/2006/relationships/image" Target="../media/image12.png"/><Relationship Id="rId15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6" Type="http://schemas.openxmlformats.org/officeDocument/2006/relationships/image" Target="../media/image12.png"/><Relationship Id="rId17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18" Type="http://schemas.openxmlformats.org/officeDocument/2006/relationships/image" Target="../media/image12.png"/><Relationship Id="rId19" Type="http://schemas.openxmlformats.org/officeDocument/2006/relationships/hyperlink" Target="http://images.google.ru/imgres?imgurl=http://www.sbantom.ru/products_pictures/RA-tarelka16big.jpg&amp;imgrefurl=http://www.sbantom.ru/index.php%3FproductID%3D4067&amp;usg=__lqTiXhyzPkDsiN8CxM4ZgMjJ6nE=&amp;h=400&amp;w=400&amp;sz=27&amp;hl=ru&amp;start=24&amp;itbs=1&amp;tbnid=S1e3bieAdiiskM:&amp;tbnh=124&amp;tbnw=124&amp;prev=/images%3Fq%3D%25D1%2582%25D0%25B0%25D1%2580%25D0%25B5%25D0%25BB%25D0%25BA%25D0%25B0%26gbv%3D2%26ndsp%3D20%26hl%3Dru%26sa%3DN%26start%3D20%26newwindow%3D1" TargetMode="External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133360"/>
            <a:ext cx="755964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Урок математики</a:t>
            </a:r>
            <a:br>
              <a:rPr sz="44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1 класс</a:t>
            </a:r>
            <a:br>
              <a:rPr sz="44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«Прибавляем число 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каченко  Ю.В.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ОУ Гимназии № 3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. Тей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2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3203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6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30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31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32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AutoShape 35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3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2410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356000" y="5300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 flipV="1">
            <a:off x="4140360" y="5300280"/>
            <a:ext cx="2174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9"/>
          <p:cNvSpPr/>
          <p:nvPr/>
        </p:nvSpPr>
        <p:spPr>
          <a:xfrm flipV="1">
            <a:off x="4356000" y="530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4"/>
          <p:cNvSpPr txBox="1"/>
          <p:nvPr/>
        </p:nvSpPr>
        <p:spPr>
          <a:xfrm>
            <a:off x="370836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45"/>
          <p:cNvSpPr txBox="1"/>
          <p:nvPr/>
        </p:nvSpPr>
        <p:spPr>
          <a:xfrm>
            <a:off x="421164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46"/>
          <p:cNvSpPr txBox="1"/>
          <p:nvPr/>
        </p:nvSpPr>
        <p:spPr>
          <a:xfrm>
            <a:off x="4643280" y="57340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54540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 flipV="1">
            <a:off x="46836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83170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4"/>
          <p:cNvSpPr/>
          <p:nvPr/>
        </p:nvSpPr>
        <p:spPr>
          <a:xfrm>
            <a:off x="2195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3203640" y="2421000"/>
            <a:ext cx="2592360" cy="86364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2268360" y="3284640"/>
            <a:ext cx="3743640" cy="647640"/>
          </a:xfrm>
          <a:custGeom>
            <a:avLst/>
            <a:gdLst>
              <a:gd name="textAreaLeft" fmla="*/ 655200 w 3743640"/>
              <a:gd name="textAreaRight" fmla="*/ 2714400 w 3743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17040" y="18900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626560" y="43657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72000" y="530064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4284720" y="530064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27"/>
          <p:cNvSpPr txBox="1"/>
          <p:nvPr/>
        </p:nvSpPr>
        <p:spPr>
          <a:xfrm>
            <a:off x="4067280" y="566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29"/>
          <p:cNvSpPr txBox="1"/>
          <p:nvPr/>
        </p:nvSpPr>
        <p:spPr>
          <a:xfrm>
            <a:off x="4716360" y="5661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1"/>
          <p:cNvSpPr/>
          <p:nvPr/>
        </p:nvSpPr>
        <p:spPr>
          <a:xfrm flipV="1">
            <a:off x="5292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468360" y="3284640"/>
            <a:ext cx="7848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140328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3276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234000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7308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6300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97164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j0233173"/>
          <p:cNvPicPr/>
          <p:nvPr/>
        </p:nvPicPr>
        <p:blipFill>
          <a:blip r:embed="rId1"/>
          <a:stretch/>
        </p:blipFill>
        <p:spPr>
          <a:xfrm>
            <a:off x="1042920" y="765000"/>
            <a:ext cx="1728720" cy="21639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2268360" y="2349360"/>
            <a:ext cx="2519640" cy="935280"/>
          </a:xfrm>
          <a:custGeom>
            <a:avLst/>
            <a:gdLst>
              <a:gd name="textAreaLeft" fmla="*/ 441000 w 2519640"/>
              <a:gd name="textAreaRight" fmla="*/ 1827000 w 251964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211640" y="2421000"/>
            <a:ext cx="1295280" cy="86364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7"/>
          <p:cNvSpPr txBox="1"/>
          <p:nvPr/>
        </p:nvSpPr>
        <p:spPr>
          <a:xfrm>
            <a:off x="514836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18"/>
          <p:cNvSpPr txBox="1"/>
          <p:nvPr/>
        </p:nvSpPr>
        <p:spPr>
          <a:xfrm>
            <a:off x="219564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19"/>
          <p:cNvSpPr txBox="1"/>
          <p:nvPr/>
        </p:nvSpPr>
        <p:spPr>
          <a:xfrm>
            <a:off x="1258920" y="378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6012000" y="378936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2050920" y="3284640"/>
            <a:ext cx="4033800" cy="64764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"/>
          <p:cNvSpPr/>
          <p:nvPr/>
        </p:nvSpPr>
        <p:spPr>
          <a:xfrm>
            <a:off x="2050920" y="2997360"/>
            <a:ext cx="57636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2626560" y="428940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6 + 3 =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4284720" y="2924280"/>
            <a:ext cx="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4572000" y="522936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4284720" y="522900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26"/>
          <p:cNvSpPr txBox="1"/>
          <p:nvPr/>
        </p:nvSpPr>
        <p:spPr>
          <a:xfrm>
            <a:off x="406728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4716360" y="558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74120" y="0"/>
            <a:ext cx="82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 можно прибавить число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22360" y="861840"/>
            <a:ext cx="72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А сейчас у нас разм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ыпрямляем свои спи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носочках потя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право – влево по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 друг другу улыб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аз, два, три, четыре, п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рок пора нам продолж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b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437000"/>
            <a:ext cx="2519280" cy="2165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b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1640" y="4437000"/>
            <a:ext cx="2592360" cy="222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b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416480"/>
            <a:ext cx="2519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17440" y="333360"/>
            <a:ext cx="86756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бавление числа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Рисунок 5" descr="f0f55f72dd70.gif"/>
          <p:cNvPicPr/>
          <p:nvPr/>
        </p:nvPicPr>
        <p:blipFill>
          <a:blip r:embed="rId1"/>
          <a:stretch/>
        </p:blipFill>
        <p:spPr>
          <a:xfrm>
            <a:off x="250920" y="3068640"/>
            <a:ext cx="248112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f0f55f72dd70.gif"/>
          <p:cNvPicPr/>
          <p:nvPr/>
        </p:nvPicPr>
        <p:blipFill>
          <a:blip r:embed="rId2"/>
          <a:stretch/>
        </p:blipFill>
        <p:spPr>
          <a:xfrm>
            <a:off x="6300720" y="3068640"/>
            <a:ext cx="24814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f0f55f72dd70.gif"/>
          <p:cNvPicPr/>
          <p:nvPr/>
        </p:nvPicPr>
        <p:blipFill>
          <a:blip r:embed="rId3"/>
          <a:stretch/>
        </p:blipFill>
        <p:spPr>
          <a:xfrm>
            <a:off x="3276720" y="3068640"/>
            <a:ext cx="24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289320" y="3922560"/>
            <a:ext cx="1655640" cy="17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85920" y="3871800"/>
            <a:ext cx="1655640" cy="17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205680" y="3981600"/>
            <a:ext cx="259236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3"/>
          <p:cNvSpPr txBox="1"/>
          <p:nvPr/>
        </p:nvSpPr>
        <p:spPr>
          <a:xfrm>
            <a:off x="3827520" y="3948120"/>
            <a:ext cx="1081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960480" y="3922560"/>
            <a:ext cx="1081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2287440" y="423540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+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6"/>
          <p:cNvSpPr txBox="1"/>
          <p:nvPr/>
        </p:nvSpPr>
        <p:spPr>
          <a:xfrm>
            <a:off x="4978440" y="44514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WordArt 17"/>
          <p:cNvSpPr txBox="1"/>
          <p:nvPr/>
        </p:nvSpPr>
        <p:spPr>
          <a:xfrm>
            <a:off x="6853320" y="4008600"/>
            <a:ext cx="1944720" cy="16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21040" y="24624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221040" y="1422360"/>
            <a:ext cx="206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9" descr="RA-tarelka16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824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RA-tarelka16bi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3212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RA-tarelka16bi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7176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RA-tarelka16bi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561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RA-tarelka16b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735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RA-tarelka16bi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1972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5" descr="RA-tarelka16bi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824440" y="353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7" descr="RA-tarelka16bi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7440" y="14540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8" descr="RA-tarelka16bi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936880" y="14540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RA-tarelka16bi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92440" y="14540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0"/>
          <p:cNvSpPr/>
          <p:nvPr/>
        </p:nvSpPr>
        <p:spPr>
          <a:xfrm>
            <a:off x="0" y="25178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олько тарелок вымыли мама и дочка вмес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RA-tarelka16big"/>
          <p:cNvPicPr/>
          <p:nvPr/>
        </p:nvPicPr>
        <p:blipFill>
          <a:blip r:embed="rId21"/>
          <a:stretch/>
        </p:blipFill>
        <p:spPr>
          <a:xfrm>
            <a:off x="6419880" y="3538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0"/>
          <p:cNvSpPr/>
          <p:nvPr/>
        </p:nvSpPr>
        <p:spPr>
          <a:xfrm>
            <a:off x="219240" y="5764320"/>
            <a:ext cx="59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вет: 11 тарел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WordArt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23640" y="141264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тихо, говорить вполгол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сооб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договарив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слушать и понимать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ворить спокойно, ясно и только по де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Объект 13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203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58520" y="333360"/>
            <a:ext cx="80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900"/>
                </a:solidFill>
                <a:latin typeface="Arial"/>
                <a:ea typeface="Arial"/>
              </a:rPr>
              <a:t>Итог учебного заня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MCj04244700000[1]"/>
          <p:cNvPicPr/>
          <p:nvPr/>
        </p:nvPicPr>
        <p:blipFill>
          <a:blip r:embed="rId1"/>
          <a:stretch/>
        </p:blipFill>
        <p:spPr>
          <a:xfrm>
            <a:off x="2556000" y="1125360"/>
            <a:ext cx="3527280" cy="3303720"/>
          </a:xfrm>
          <a:prstGeom prst="rect">
            <a:avLst/>
          </a:prstGeom>
          <a:ln w="0">
            <a:noFill/>
          </a:ln>
        </p:spPr>
      </p:pic>
      <p:sp>
        <p:nvSpPr>
          <p:cNvPr id="183" name="WordArt 8"/>
          <p:cNvSpPr txBox="1"/>
          <p:nvPr/>
        </p:nvSpPr>
        <p:spPr>
          <a:xfrm>
            <a:off x="1476360" y="472428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olnychko"/>
          <p:cNvPicPr/>
          <p:nvPr/>
        </p:nvPicPr>
        <p:blipFill>
          <a:blip r:embed="rId1"/>
          <a:stretch/>
        </p:blipFill>
        <p:spPr>
          <a:xfrm>
            <a:off x="0" y="0"/>
            <a:ext cx="5616720" cy="5877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256920" y="3943440"/>
            <a:ext cx="57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Утром солнышко проснуло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сем ребятам улыбну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Лучик тёплый, зо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 урок возьмём с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удет он нас согре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 в учёбе помо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554040"/>
            <a:ext cx="10382400" cy="27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8448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435280" y="620640"/>
            <a:ext cx="325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3+1=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6- 2=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9- 2=7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6+3=8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Анюта\Documents\незнайка.jpg"/>
          <p:cNvPicPr/>
          <p:nvPr/>
        </p:nvPicPr>
        <p:blipFill>
          <a:blip r:embed="rId1"/>
          <a:stretch/>
        </p:blipFill>
        <p:spPr>
          <a:xfrm>
            <a:off x="539640" y="476280"/>
            <a:ext cx="417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17440" y="333360"/>
            <a:ext cx="86756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бавление числа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Рисунок 5" descr="f0f55f72dd70.gif"/>
          <p:cNvPicPr/>
          <p:nvPr/>
        </p:nvPicPr>
        <p:blipFill>
          <a:blip r:embed="rId1"/>
          <a:stretch/>
        </p:blipFill>
        <p:spPr>
          <a:xfrm>
            <a:off x="250920" y="3068640"/>
            <a:ext cx="2481120" cy="3529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f0f55f72dd70.gif"/>
          <p:cNvPicPr/>
          <p:nvPr/>
        </p:nvPicPr>
        <p:blipFill>
          <a:blip r:embed="rId2"/>
          <a:stretch/>
        </p:blipFill>
        <p:spPr>
          <a:xfrm>
            <a:off x="6300720" y="3068640"/>
            <a:ext cx="2481480" cy="3529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f0f55f72dd70.gif"/>
          <p:cNvPicPr/>
          <p:nvPr/>
        </p:nvPicPr>
        <p:blipFill>
          <a:blip r:embed="rId3"/>
          <a:stretch/>
        </p:blipFill>
        <p:spPr>
          <a:xfrm>
            <a:off x="3276720" y="3068640"/>
            <a:ext cx="24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Cj04281170000[1]"/>
          <p:cNvPicPr/>
          <p:nvPr/>
        </p:nvPicPr>
        <p:blipFill>
          <a:blip r:embed="rId1"/>
          <a:stretch/>
        </p:blipFill>
        <p:spPr>
          <a:xfrm>
            <a:off x="4680" y="2287440"/>
            <a:ext cx="1835280" cy="165420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53964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2124000" y="1844640"/>
            <a:ext cx="66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Научиться прибавлять число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303640" y="3716280"/>
            <a:ext cx="63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решать задачи и приме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dArt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3640" y="141264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тихо, говорить вполгол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ть сооб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договарив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еть слушать и понимать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ворить спокойно, ясно и только по де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13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203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8"/>
          <p:cNvSpPr/>
          <p:nvPr/>
        </p:nvSpPr>
        <p:spPr>
          <a:xfrm>
            <a:off x="395280" y="974880"/>
            <a:ext cx="10810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7677000" y="974880"/>
            <a:ext cx="10810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0"/>
          <p:cNvSpPr/>
          <p:nvPr/>
        </p:nvSpPr>
        <p:spPr>
          <a:xfrm>
            <a:off x="177336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1"/>
          <p:cNvSpPr/>
          <p:nvPr/>
        </p:nvSpPr>
        <p:spPr>
          <a:xfrm>
            <a:off x="327672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2"/>
          <p:cNvSpPr/>
          <p:nvPr/>
        </p:nvSpPr>
        <p:spPr>
          <a:xfrm>
            <a:off x="472140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3"/>
          <p:cNvSpPr/>
          <p:nvPr/>
        </p:nvSpPr>
        <p:spPr>
          <a:xfrm>
            <a:off x="6232680" y="974880"/>
            <a:ext cx="1079280" cy="100800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5"/>
          <p:cNvSpPr/>
          <p:nvPr/>
        </p:nvSpPr>
        <p:spPr>
          <a:xfrm>
            <a:off x="395280" y="2595600"/>
            <a:ext cx="10810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6"/>
          <p:cNvSpPr/>
          <p:nvPr/>
        </p:nvSpPr>
        <p:spPr>
          <a:xfrm>
            <a:off x="1773360" y="2568600"/>
            <a:ext cx="10792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7"/>
          <p:cNvSpPr/>
          <p:nvPr/>
        </p:nvSpPr>
        <p:spPr>
          <a:xfrm>
            <a:off x="3276720" y="2595600"/>
            <a:ext cx="1079280" cy="10080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Анюта\Documents\ruler_0_10.jpg"/>
          <p:cNvPicPr/>
          <p:nvPr/>
        </p:nvPicPr>
        <p:blipFill>
          <a:blip r:embed="rId1"/>
          <a:stretch/>
        </p:blipFill>
        <p:spPr>
          <a:xfrm>
            <a:off x="414360" y="1773360"/>
            <a:ext cx="83534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0:19:43Z</dcterms:created>
  <dc:creator>FuckYouBill</dc:creator>
  <dc:description/>
  <dc:language>en-US</dc:language>
  <cp:lastModifiedBy>Алексей</cp:lastModifiedBy>
  <dcterms:modified xsi:type="dcterms:W3CDTF">2023-02-12T20:14:31Z</dcterms:modified>
  <cp:revision>28</cp:revision>
  <dc:subject/>
  <dc:title>Слайд 1</dc:title>
</cp:coreProperties>
</file>