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gif" ContentType="image/gif"/>
  <Override PartName="/ppt/media/image20.gif" ContentType="image/gif"/>
  <Override PartName="/ppt/media/image13.png" ContentType="image/png"/>
  <Override PartName="/ppt/media/image17.gif" ContentType="image/gif"/>
  <Override PartName="/ppt/media/image5.png" ContentType="image/png"/>
  <Override PartName="/ppt/media/image28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6.png" ContentType="image/png"/>
  <Override PartName="/ppt/media/image8.png" ContentType="image/png"/>
  <Override PartName="/ppt/media/image30.gif" ContentType="image/gif"/>
  <Override PartName="/ppt/media/image9.gif" ContentType="image/gif"/>
  <Override PartName="/ppt/media/image10.gif" ContentType="image/gif"/>
  <Override PartName="/ppt/media/image11.gif" ContentType="image/gif"/>
  <Override PartName="/ppt/media/image12.png" ContentType="image/png"/>
  <Override PartName="/ppt/media/image29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33.jpeg" ContentType="image/jpe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21.gif" ContentType="image/gif"/>
  <Override PartName="/ppt/media/chimes.wav" ContentType="audio/x-wav"/>
  <Override PartName="/ppt/media/image16.gif" ContentType="image/gif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BB2-3662-42EC-A4A6-BBFDBAE0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D67-4518-4DFB-A05D-377EB9B7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201-FF22-4745-813B-CFDA41C7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B5D-05B9-4460-A2F8-613B0C5B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30B-B266-4E69-AC08-EC100D5F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88F-4D90-4DB1-9E47-7D604490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844-3E79-4195-A465-CDB6B5CF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CAD-5C99-431B-8788-E58D3A14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253-A471-426A-B6F5-81E34CAB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8E2-2477-4966-A1C0-0EC3452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E8E-3F62-4187-BC46-01A09B24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AF7-C44C-4A47-9001-ACD52016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56D5-20B7-4042-9CB1-DDE89BCC3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8.png"/><Relationship Id="rId5" Type="http://schemas.openxmlformats.org/officeDocument/2006/relationships/image" Target="../media/image17.gif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gif"/><Relationship Id="rId3" Type="http://schemas.openxmlformats.org/officeDocument/2006/relationships/image" Target="../media/image10.gif"/><Relationship Id="rId4" Type="http://schemas.openxmlformats.org/officeDocument/2006/relationships/image" Target="../media/image30.gif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4749-Bezymyanny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95280" y="549360"/>
            <a:ext cx="849960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Урок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о математике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на тему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"Уравнение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Решение уравнений"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45" name="WordArt 6" descr=""/>
          <p:cNvPicPr/>
          <p:nvPr/>
        </p:nvPicPr>
        <p:blipFill>
          <a:blip r:embed="rId2"/>
          <a:stretch/>
        </p:blipFill>
        <p:spPr>
          <a:xfrm>
            <a:off x="2023920" y="4370400"/>
            <a:ext cx="6650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1042920" y="765000"/>
            <a:ext cx="7201080" cy="532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4-8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4-9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+5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324000" y="333360"/>
            <a:ext cx="8499240" cy="63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4-80=4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4-9= 45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+5= 27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5"/>
          <p:cNvSpPr txBox="1"/>
          <p:nvPr/>
        </p:nvSpPr>
        <p:spPr>
          <a:xfrm>
            <a:off x="1258920" y="1125360"/>
            <a:ext cx="6985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5+3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0-3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1-5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324000" y="333360"/>
            <a:ext cx="8499240" cy="63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5+3= 68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0-30=6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1-5= 66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1763640" y="260280"/>
            <a:ext cx="619308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 групп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+53= 76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=23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-12=7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=82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>
            <a:off x="1763640" y="260280"/>
            <a:ext cx="619308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2 групп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х+22= 92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х=7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х-10=54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у=64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1763640" y="260280"/>
            <a:ext cx="619308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 групп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х+19= 5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х=31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х-15=3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у=45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224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4140360" y="2781360"/>
            <a:ext cx="4667040" cy="3843360"/>
            <a:chOff x="4140360" y="2781360"/>
            <a:chExt cx="4667040" cy="3843360"/>
          </a:xfrm>
        </p:grpSpPr>
        <p:pic>
          <p:nvPicPr>
            <p:cNvPr id="187" name="Picture 6" descr="stop_watch_-_cartoon"/>
            <p:cNvPicPr/>
            <p:nvPr/>
          </p:nvPicPr>
          <p:blipFill>
            <a:blip r:embed="rId2"/>
            <a:stretch/>
          </p:blipFill>
          <p:spPr>
            <a:xfrm flipH="1">
              <a:off x="4140360" y="3357720"/>
              <a:ext cx="466704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7" descr="0_5f444_ce5ee250_L"/>
            <p:cNvPicPr/>
            <p:nvPr/>
          </p:nvPicPr>
          <p:blipFill>
            <a:blip r:embed="rId3"/>
            <a:stretch/>
          </p:blipFill>
          <p:spPr>
            <a:xfrm flipH="1">
              <a:off x="5008680" y="2781360"/>
              <a:ext cx="2717640" cy="14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AutoShape 8"/>
          <p:cNvSpPr/>
          <p:nvPr/>
        </p:nvSpPr>
        <p:spPr>
          <a:xfrm>
            <a:off x="179280" y="189000"/>
            <a:ext cx="5183280" cy="3024000"/>
          </a:xfrm>
          <a:prstGeom prst="wedgeRoundRectCallout">
            <a:avLst>
              <a:gd name="adj1" fmla="val 55175"/>
              <a:gd name="adj2" fmla="val 110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асибо, дорогие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е с вами было очень интере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пехов вам в уч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324000" y="333360"/>
            <a:ext cx="84992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машнее задание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. 83, №4, 6.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1266594279_bezimeni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97" name="WordArt 5"/>
          <p:cNvSpPr txBox="1"/>
          <p:nvPr/>
        </p:nvSpPr>
        <p:spPr>
          <a:xfrm>
            <a:off x="324000" y="2276640"/>
            <a:ext cx="8499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</a:t>
            </a:r>
            <a:endParaRPr b="1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1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24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250920" y="2852640"/>
            <a:ext cx="4667040" cy="3843360"/>
            <a:chOff x="250920" y="2852640"/>
            <a:chExt cx="4667040" cy="3843360"/>
          </a:xfrm>
        </p:grpSpPr>
        <p:pic>
          <p:nvPicPr>
            <p:cNvPr id="50" name="Picture 6" descr="stop_watch_-_cartoon"/>
            <p:cNvPicPr/>
            <p:nvPr/>
          </p:nvPicPr>
          <p:blipFill>
            <a:blip r:embed="rId2"/>
            <a:stretch/>
          </p:blipFill>
          <p:spPr>
            <a:xfrm>
              <a:off x="250920" y="3429000"/>
              <a:ext cx="466704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0_5f444_ce5ee250_L"/>
            <p:cNvPicPr/>
            <p:nvPr/>
          </p:nvPicPr>
          <p:blipFill>
            <a:blip r:embed="rId3"/>
            <a:stretch/>
          </p:blipFill>
          <p:spPr>
            <a:xfrm>
              <a:off x="1332000" y="2852640"/>
              <a:ext cx="2717640" cy="14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8"/>
          <p:cNvSpPr/>
          <p:nvPr/>
        </p:nvSpPr>
        <p:spPr>
          <a:xfrm>
            <a:off x="3780000" y="115920"/>
            <a:ext cx="5182920" cy="3168720"/>
          </a:xfrm>
          <a:prstGeom prst="wedgeRoundRectCallout">
            <a:avLst>
              <a:gd name="adj1" fmla="val -47245"/>
              <a:gd name="adj2" fmla="val 100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равствуйте, дорогие реб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зовут Минутка. Я очень трудолюбивая. Я хочу у вас многому научиться и поделиться своими зн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266594279_bezimeni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324000" y="2276640"/>
            <a:ext cx="84992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Устный счет</a:t>
            </a:r>
            <a:endParaRPr b="1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8" name="j0214098.wav" descr=""/>
          <p:cNvPicPr/>
          <p:nvPr/>
        </p:nvPicPr>
        <p:blipFill>
          <a:blip r:embed="rId2"/>
          <a:stretch/>
        </p:blipFill>
        <p:spPr>
          <a:xfrm>
            <a:off x="8399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ая прямоугольная выноска 1"/>
          <p:cNvSpPr/>
          <p:nvPr/>
        </p:nvSpPr>
        <p:spPr>
          <a:xfrm>
            <a:off x="1393920" y="662040"/>
            <a:ext cx="5832360" cy="1368360"/>
          </a:xfrm>
          <a:prstGeom prst="wedgeRoundRectCallout">
            <a:avLst>
              <a:gd name="adj1" fmla="val -42046"/>
              <a:gd name="adj2" fmla="val 102560"/>
              <a:gd name="adj3" fmla="val 16667"/>
            </a:avLst>
          </a:prstGeom>
          <a:solidFill>
            <a:srgbClr val="ff66ff"/>
          </a:solidFill>
          <a:ln w="1260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900080" y="665280"/>
            <a:ext cx="5040360" cy="94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В каком чи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4 десятка  и 7 единиц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087640" y="4545000"/>
            <a:ext cx="11890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3908520" y="4545000"/>
            <a:ext cx="115236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5724360" y="4545000"/>
            <a:ext cx="11512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3"/>
          <a:stretch/>
        </p:blipFill>
        <p:spPr>
          <a:xfrm>
            <a:off x="565200" y="2502000"/>
            <a:ext cx="1657440" cy="2232000"/>
          </a:xfrm>
          <a:prstGeom prst="rect">
            <a:avLst/>
          </a:prstGeom>
          <a:ln w="0">
            <a:noFill/>
          </a:ln>
        </p:spPr>
      </p:pic>
      <p:sp>
        <p:nvSpPr>
          <p:cNvPr id="65" name="Скругленная прямоугольная выноска 8"/>
          <p:cNvSpPr/>
          <p:nvPr/>
        </p:nvSpPr>
        <p:spPr>
          <a:xfrm>
            <a:off x="5794200" y="2502000"/>
            <a:ext cx="2016360" cy="1079280"/>
          </a:xfrm>
          <a:prstGeom prst="wedgeRoundRectCallout">
            <a:avLst>
              <a:gd name="adj1" fmla="val -620"/>
              <a:gd name="adj2" fmla="val 111268"/>
              <a:gd name="adj3" fmla="val 16667"/>
            </a:avLst>
          </a:prstGeom>
          <a:solidFill>
            <a:srgbClr val="7030a0"/>
          </a:solidFill>
          <a:ln w="1260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мни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ая прямоугольная выноска 9"/>
          <p:cNvSpPr/>
          <p:nvPr/>
        </p:nvSpPr>
        <p:spPr>
          <a:xfrm>
            <a:off x="4579920" y="3009960"/>
            <a:ext cx="2665440" cy="1143000"/>
          </a:xfrm>
          <a:prstGeom prst="wedgeRoundRectCallout">
            <a:avLst>
              <a:gd name="adj1" fmla="val 56675"/>
              <a:gd name="adj2" fmla="val 132097"/>
              <a:gd name="adj3" fmla="val 16667"/>
            </a:avLst>
          </a:prstGeom>
          <a:solidFill>
            <a:srgbClr val="d6ece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Я расстрое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2" descr=""/>
          <p:cNvPicPr/>
          <p:nvPr/>
        </p:nvPicPr>
        <p:blipFill>
          <a:blip r:embed="rId4"/>
          <a:stretch/>
        </p:blipFill>
        <p:spPr>
          <a:xfrm>
            <a:off x="7391520" y="3338640"/>
            <a:ext cx="1295280" cy="1603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"/>
          <p:cNvPicPr/>
          <p:nvPr/>
        </p:nvPicPr>
        <p:blipFill>
          <a:blip r:embed="rId5"/>
          <a:stretch/>
        </p:blipFill>
        <p:spPr>
          <a:xfrm>
            <a:off x="7128000" y="4278240"/>
            <a:ext cx="1512720" cy="1687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5"/>
          <p:cNvSpPr/>
          <p:nvPr/>
        </p:nvSpPr>
        <p:spPr>
          <a:xfrm rot="5400000">
            <a:off x="4316760" y="2481840"/>
            <a:ext cx="457200" cy="8317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 rot="5400000">
            <a:off x="4351680" y="-3894840"/>
            <a:ext cx="457200" cy="82472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7"/>
          <p:cNvSpPr/>
          <p:nvPr/>
        </p:nvSpPr>
        <p:spPr>
          <a:xfrm>
            <a:off x="870444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701120" y="6066000"/>
            <a:ext cx="1395360" cy="763560"/>
          </a:xfrm>
          <a:custGeom>
            <a:avLst/>
            <a:gdLst>
              <a:gd name="textAreaLeft" fmla="*/ 49320 w 1395360"/>
              <a:gd name="textAreaRight" fmla="*/ 1346040 w 13953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9464" h="21600">
                <a:moveTo>
                  <a:pt x="0" y="0"/>
                </a:moveTo>
                <a:lnTo>
                  <a:pt x="39464" y="0"/>
                </a:lnTo>
                <a:lnTo>
                  <a:pt x="39464" y="21600"/>
                </a:lnTo>
                <a:lnTo>
                  <a:pt x="0" y="21600"/>
                </a:lnTo>
                <a:close/>
              </a:path>
              <a:path fill="lightenLess" w="39464" h="21600">
                <a:moveTo>
                  <a:pt x="0" y="0"/>
                </a:moveTo>
                <a:lnTo>
                  <a:pt x="39464" y="0"/>
                </a:lnTo>
                <a:lnTo>
                  <a:pt x="38064" y="1400"/>
                </a:lnTo>
                <a:lnTo>
                  <a:pt x="1400" y="1400"/>
                </a:lnTo>
                <a:close/>
              </a:path>
              <a:path fill="darken" w="39464" h="21600">
                <a:moveTo>
                  <a:pt x="39464" y="0"/>
                </a:moveTo>
                <a:lnTo>
                  <a:pt x="39464" y="21600"/>
                </a:lnTo>
                <a:lnTo>
                  <a:pt x="38064" y="20200"/>
                </a:lnTo>
                <a:lnTo>
                  <a:pt x="38064" y="1400"/>
                </a:lnTo>
                <a:close/>
              </a:path>
              <a:path fill="darkenLess" w="39464" h="21600">
                <a:moveTo>
                  <a:pt x="39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64" y="20200"/>
                </a:lnTo>
                <a:close/>
              </a:path>
              <a:path fill="lighten" w="39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64" h="21600">
                <a:moveTo>
                  <a:pt x="12726" y="3794"/>
                </a:moveTo>
                <a:lnTo>
                  <a:pt x="26739" y="10800"/>
                </a:lnTo>
                <a:lnTo>
                  <a:pt x="12726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6" presetSubtype="32">
                                  <p:stCondLst>
                                    <p:cond delay="2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ая прямоугольная выноска 2"/>
          <p:cNvSpPr/>
          <p:nvPr/>
        </p:nvSpPr>
        <p:spPr>
          <a:xfrm>
            <a:off x="1258920" y="836640"/>
            <a:ext cx="6337440" cy="1224000"/>
          </a:xfrm>
          <a:prstGeom prst="wedgeRoundRectCallout">
            <a:avLst>
              <a:gd name="adj1" fmla="val -51685"/>
              <a:gd name="adj2" fmla="val 85379"/>
              <a:gd name="adj3" fmla="val 16667"/>
            </a:avLst>
          </a:prstGeom>
          <a:solidFill>
            <a:srgbClr val="bbe0e3"/>
          </a:solidFill>
          <a:ln w="12600">
            <a:solidFill>
              <a:srgbClr val="d6ec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меньше, чем 7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268360" y="4707000"/>
            <a:ext cx="1187640" cy="11509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5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4094280" y="4707000"/>
            <a:ext cx="1189080" cy="11509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778360" y="4707000"/>
            <a:ext cx="1189080" cy="11509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"/>
          <p:cNvPicPr/>
          <p:nvPr/>
        </p:nvPicPr>
        <p:blipFill>
          <a:blip r:embed="rId2"/>
          <a:stretch/>
        </p:blipFill>
        <p:spPr>
          <a:xfrm>
            <a:off x="7272360" y="404640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"/>
          <p:cNvPicPr/>
          <p:nvPr/>
        </p:nvPicPr>
        <p:blipFill>
          <a:blip r:embed="rId3"/>
          <a:stretch/>
        </p:blipFill>
        <p:spPr>
          <a:xfrm>
            <a:off x="7291440" y="470700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ая прямоугольная выноска 9"/>
          <p:cNvSpPr/>
          <p:nvPr/>
        </p:nvSpPr>
        <p:spPr>
          <a:xfrm>
            <a:off x="5580000" y="2349360"/>
            <a:ext cx="1871640" cy="1106640"/>
          </a:xfrm>
          <a:prstGeom prst="wedgeRoundRectCallout">
            <a:avLst>
              <a:gd name="adj1" fmla="val 91564"/>
              <a:gd name="adj2" fmla="val 104624"/>
              <a:gd name="adj3" fmla="val 16667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Так дер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ая прямоугольная выноска 14"/>
          <p:cNvSpPr/>
          <p:nvPr/>
        </p:nvSpPr>
        <p:spPr>
          <a:xfrm>
            <a:off x="5796000" y="3456000"/>
            <a:ext cx="1979640" cy="981000"/>
          </a:xfrm>
          <a:prstGeom prst="wedgeRoundRectCallout">
            <a:avLst>
              <a:gd name="adj1" fmla="val 70189"/>
              <a:gd name="adj2" fmla="val 89194"/>
              <a:gd name="adj3" fmla="val 16667"/>
            </a:avLst>
          </a:prstGeom>
          <a:solidFill>
            <a:srgbClr val="8ac6cd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j0214098.wav" descr=""/>
          <p:cNvPicPr/>
          <p:nvPr/>
        </p:nvPicPr>
        <p:blipFill>
          <a:blip r:embed="rId4"/>
          <a:stretch/>
        </p:blipFill>
        <p:spPr>
          <a:xfrm>
            <a:off x="851544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"/>
          <p:cNvPicPr/>
          <p:nvPr/>
        </p:nvPicPr>
        <p:blipFill>
          <a:blip r:embed="rId5"/>
          <a:stretch/>
        </p:blipFill>
        <p:spPr>
          <a:xfrm>
            <a:off x="755640" y="3009960"/>
            <a:ext cx="1440000" cy="1873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"/>
          <p:cNvSpPr/>
          <p:nvPr/>
        </p:nvSpPr>
        <p:spPr>
          <a:xfrm rot="5400000">
            <a:off x="4348440" y="2520000"/>
            <a:ext cx="457200" cy="8218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3"/>
          <p:cNvSpPr/>
          <p:nvPr/>
        </p:nvSpPr>
        <p:spPr>
          <a:xfrm rot="5400000">
            <a:off x="4398120" y="-3964680"/>
            <a:ext cx="457200" cy="83865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451640" y="6018120"/>
            <a:ext cx="1368360" cy="839880"/>
          </a:xfrm>
          <a:custGeom>
            <a:avLst/>
            <a:gdLst>
              <a:gd name="textAreaLeft" fmla="*/ 54360 w 1368360"/>
              <a:gd name="textAreaRight" fmla="*/ 1314000 w 1368360"/>
              <a:gd name="textAreaTop" fmla="*/ 54360 h 839880"/>
              <a:gd name="textAreaBottom" fmla="*/ 785520 h 839880"/>
            </a:gdLst>
            <a:ahLst/>
            <a:rect l="textAreaLeft" t="textAreaTop" r="textAreaRight" b="textAreaBottom"/>
            <a:pathLst>
              <a:path w="35186" h="21600">
                <a:moveTo>
                  <a:pt x="0" y="0"/>
                </a:moveTo>
                <a:lnTo>
                  <a:pt x="35186" y="0"/>
                </a:lnTo>
                <a:lnTo>
                  <a:pt x="35186" y="21600"/>
                </a:lnTo>
                <a:lnTo>
                  <a:pt x="0" y="21600"/>
                </a:lnTo>
                <a:close/>
              </a:path>
              <a:path fill="lightenLess" w="35186" h="21600">
                <a:moveTo>
                  <a:pt x="0" y="0"/>
                </a:moveTo>
                <a:lnTo>
                  <a:pt x="35186" y="0"/>
                </a:lnTo>
                <a:lnTo>
                  <a:pt x="33786" y="1400"/>
                </a:lnTo>
                <a:lnTo>
                  <a:pt x="1400" y="1400"/>
                </a:lnTo>
                <a:close/>
              </a:path>
              <a:path fill="darken" w="35186" h="21600">
                <a:moveTo>
                  <a:pt x="35186" y="0"/>
                </a:moveTo>
                <a:lnTo>
                  <a:pt x="35186" y="21600"/>
                </a:lnTo>
                <a:lnTo>
                  <a:pt x="33786" y="20200"/>
                </a:lnTo>
                <a:lnTo>
                  <a:pt x="33786" y="1400"/>
                </a:lnTo>
                <a:close/>
              </a:path>
              <a:path fill="darkenLess" w="35186" h="21600">
                <a:moveTo>
                  <a:pt x="3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86" y="20200"/>
                </a:lnTo>
                <a:close/>
              </a:path>
              <a:path fill="lighten" w="3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86" h="21600">
                <a:moveTo>
                  <a:pt x="10586" y="3794"/>
                </a:moveTo>
                <a:lnTo>
                  <a:pt x="24599" y="10800"/>
                </a:lnTo>
                <a:lnTo>
                  <a:pt x="10586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44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ая прямоугольная выноска 1"/>
          <p:cNvSpPr/>
          <p:nvPr/>
        </p:nvSpPr>
        <p:spPr>
          <a:xfrm>
            <a:off x="1692360" y="620640"/>
            <a:ext cx="5327640" cy="1187640"/>
          </a:xfrm>
          <a:prstGeom prst="wedgeRoundRectCallout">
            <a:avLst>
              <a:gd name="adj1" fmla="val 44148"/>
              <a:gd name="adj2" fmla="val 84962"/>
              <a:gd name="adj3" fmla="val 16667"/>
            </a:avLst>
          </a:prstGeom>
          <a:solidFill>
            <a:srgbClr val="6b6bcf"/>
          </a:solidFill>
          <a:ln w="1260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сумму чисел 8 и 50</a:t>
            </a:r>
            <a:r>
              <a:rPr b="1" lang="ru-RU" sz="1800" spc="-1" strike="noStrike">
                <a:solidFill>
                  <a:srgbClr val="0a0a0a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674720" y="5049720"/>
            <a:ext cx="11890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3564000" y="5049720"/>
            <a:ext cx="11872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5435640" y="5049720"/>
            <a:ext cx="11890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1297080" cy="1623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"/>
          <p:cNvPicPr/>
          <p:nvPr/>
        </p:nvPicPr>
        <p:blipFill>
          <a:blip r:embed="rId3"/>
          <a:stretch/>
        </p:blipFill>
        <p:spPr>
          <a:xfrm>
            <a:off x="6310440" y="22446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"/>
          <p:cNvPicPr/>
          <p:nvPr/>
        </p:nvPicPr>
        <p:blipFill>
          <a:blip r:embed="rId4"/>
          <a:stretch/>
        </p:blipFill>
        <p:spPr>
          <a:xfrm>
            <a:off x="1014480" y="3629160"/>
            <a:ext cx="1204920" cy="143964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ая прямоугольная выноска 9"/>
          <p:cNvSpPr/>
          <p:nvPr/>
        </p:nvSpPr>
        <p:spPr>
          <a:xfrm>
            <a:off x="2031840" y="3102120"/>
            <a:ext cx="2160720" cy="1079280"/>
          </a:xfrm>
          <a:prstGeom prst="wedgeRoundRectCallout">
            <a:avLst>
              <a:gd name="adj1" fmla="val -51310"/>
              <a:gd name="adj2" fmla="val 91847"/>
              <a:gd name="adj3" fmla="val 16667"/>
            </a:avLst>
          </a:prstGeom>
          <a:solidFill>
            <a:srgbClr val="7575d1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Нев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ая прямоугольная выноска 10"/>
          <p:cNvSpPr/>
          <p:nvPr/>
        </p:nvSpPr>
        <p:spPr>
          <a:xfrm>
            <a:off x="1908000" y="2060640"/>
            <a:ext cx="2086200" cy="1152360"/>
          </a:xfrm>
          <a:prstGeom prst="wedgeRoundRectCallout">
            <a:avLst>
              <a:gd name="adj1" fmla="val -52851"/>
              <a:gd name="adj2" fmla="val 94967"/>
              <a:gd name="adj3" fmla="val 16667"/>
            </a:avLst>
          </a:prstGeom>
          <a:solidFill>
            <a:srgbClr val="7575d1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j0214098.wav" descr=""/>
          <p:cNvPicPr/>
          <p:nvPr/>
        </p:nvPicPr>
        <p:blipFill>
          <a:blip r:embed="rId5"/>
          <a:stretch/>
        </p:blipFill>
        <p:spPr>
          <a:xfrm>
            <a:off x="8623440" y="61880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 rot="5400000">
            <a:off x="4349160" y="-3892320"/>
            <a:ext cx="457200" cy="82422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 rot="5400000">
            <a:off x="4349160" y="2508120"/>
            <a:ext cx="457200" cy="82422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869940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451640" y="5853240"/>
            <a:ext cx="1582920" cy="992160"/>
          </a:xfrm>
          <a:custGeom>
            <a:avLst/>
            <a:gdLst>
              <a:gd name="textAreaLeft" fmla="*/ 64080 w 1582920"/>
              <a:gd name="textAreaRight" fmla="*/ 1518840 w 1582920"/>
              <a:gd name="textAreaTop" fmla="*/ 64080 h 992160"/>
              <a:gd name="textAreaBottom" fmla="*/ 928080 h 992160"/>
            </a:gdLst>
            <a:ahLst/>
            <a:rect l="textAreaLeft" t="textAreaTop" r="textAreaRight" b="textAreaBottom"/>
            <a:pathLst>
              <a:path w="34457" h="21600">
                <a:moveTo>
                  <a:pt x="0" y="0"/>
                </a:moveTo>
                <a:lnTo>
                  <a:pt x="34457" y="0"/>
                </a:lnTo>
                <a:lnTo>
                  <a:pt x="34457" y="21600"/>
                </a:lnTo>
                <a:lnTo>
                  <a:pt x="0" y="21600"/>
                </a:lnTo>
                <a:close/>
              </a:path>
              <a:path fill="lightenLess" w="34457" h="21600">
                <a:moveTo>
                  <a:pt x="0" y="0"/>
                </a:moveTo>
                <a:lnTo>
                  <a:pt x="34457" y="0"/>
                </a:lnTo>
                <a:lnTo>
                  <a:pt x="33057" y="1400"/>
                </a:lnTo>
                <a:lnTo>
                  <a:pt x="1400" y="1400"/>
                </a:lnTo>
                <a:close/>
              </a:path>
              <a:path fill="darken" w="34457" h="21600">
                <a:moveTo>
                  <a:pt x="34457" y="0"/>
                </a:moveTo>
                <a:lnTo>
                  <a:pt x="34457" y="21600"/>
                </a:lnTo>
                <a:lnTo>
                  <a:pt x="33057" y="20200"/>
                </a:lnTo>
                <a:lnTo>
                  <a:pt x="33057" y="1400"/>
                </a:lnTo>
                <a:close/>
              </a:path>
              <a:path fill="darkenLess" w="34457" h="21600">
                <a:moveTo>
                  <a:pt x="34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57" y="20200"/>
                </a:lnTo>
                <a:close/>
              </a:path>
              <a:path fill="lighten" w="34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57" h="21600">
                <a:moveTo>
                  <a:pt x="10222" y="3794"/>
                </a:moveTo>
                <a:lnTo>
                  <a:pt x="24235" y="10800"/>
                </a:lnTo>
                <a:lnTo>
                  <a:pt x="10222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474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ая прямоугольная выноска 1"/>
          <p:cNvSpPr/>
          <p:nvPr/>
        </p:nvSpPr>
        <p:spPr>
          <a:xfrm>
            <a:off x="1763640" y="981000"/>
            <a:ext cx="5545080" cy="1224000"/>
          </a:xfrm>
          <a:prstGeom prst="wedgeRoundRectCallout">
            <a:avLst>
              <a:gd name="adj1" fmla="val 33013"/>
              <a:gd name="adj2" fmla="val 91921"/>
              <a:gd name="adj3" fmla="val 16667"/>
            </a:avLst>
          </a:prstGeom>
          <a:solidFill>
            <a:srgbClr val="ff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разность чисел 94 и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6396120" y="2546280"/>
            <a:ext cx="174132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763640" y="5049720"/>
            <a:ext cx="118764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9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780000" y="5068800"/>
            <a:ext cx="1187280" cy="11509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729400" y="5049720"/>
            <a:ext cx="11890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"/>
          <p:cNvPicPr/>
          <p:nvPr/>
        </p:nvPicPr>
        <p:blipFill>
          <a:blip r:embed="rId3"/>
          <a:stretch/>
        </p:blipFill>
        <p:spPr>
          <a:xfrm>
            <a:off x="922320" y="3025800"/>
            <a:ext cx="1251000" cy="13636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"/>
          <p:cNvPicPr/>
          <p:nvPr/>
        </p:nvPicPr>
        <p:blipFill>
          <a:blip r:embed="rId4"/>
          <a:stretch/>
        </p:blipFill>
        <p:spPr>
          <a:xfrm>
            <a:off x="863640" y="3549600"/>
            <a:ext cx="1295280" cy="151920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ая прямоугольная выноска 3"/>
          <p:cNvSpPr/>
          <p:nvPr/>
        </p:nvSpPr>
        <p:spPr>
          <a:xfrm>
            <a:off x="2158920" y="2889360"/>
            <a:ext cx="1584360" cy="1079280"/>
          </a:xfrm>
          <a:prstGeom prst="wedgeRoundRectCallout">
            <a:avLst>
              <a:gd name="adj1" fmla="val -50078"/>
              <a:gd name="adj2" fmla="val 77175"/>
              <a:gd name="adj3" fmla="val 16667"/>
            </a:avLst>
          </a:prstGeom>
          <a:solidFill>
            <a:srgbClr val="6b6bcf"/>
          </a:solidFill>
          <a:ln w="1260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Не может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ая прямоугольная выноска 9"/>
          <p:cNvSpPr/>
          <p:nvPr/>
        </p:nvSpPr>
        <p:spPr>
          <a:xfrm>
            <a:off x="2087640" y="2398680"/>
            <a:ext cx="2016000" cy="1119240"/>
          </a:xfrm>
          <a:prstGeom prst="wedgeRoundRectCallout">
            <a:avLst>
              <a:gd name="adj1" fmla="val -40787"/>
              <a:gd name="adj2" fmla="val 84300"/>
              <a:gd name="adj3" fmla="val 16667"/>
            </a:avLst>
          </a:prstGeom>
          <a:solidFill>
            <a:srgbClr val="6b6bcf"/>
          </a:solidFill>
          <a:ln w="1260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j0214098.wav" descr=""/>
          <p:cNvPicPr/>
          <p:nvPr/>
        </p:nvPicPr>
        <p:blipFill>
          <a:blip r:embed="rId5"/>
          <a:stretch/>
        </p:blipFill>
        <p:spPr>
          <a:xfrm>
            <a:off x="8369280" y="62197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 rot="5400000">
            <a:off x="4240440" y="2388240"/>
            <a:ext cx="457200" cy="84819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 rot="5400000">
            <a:off x="4355280" y="-3907440"/>
            <a:ext cx="457200" cy="82533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524720" y="5950080"/>
            <a:ext cx="1390680" cy="879480"/>
          </a:xfrm>
          <a:custGeom>
            <a:avLst/>
            <a:gdLst>
              <a:gd name="textAreaLeft" fmla="*/ 56880 w 1390680"/>
              <a:gd name="textAreaRight" fmla="*/ 1333800 w 1390680"/>
              <a:gd name="textAreaTop" fmla="*/ 56880 h 879480"/>
              <a:gd name="textAreaBottom" fmla="*/ 822600 h 879480"/>
            </a:gdLst>
            <a:ahLst/>
            <a:rect l="textAreaLeft" t="textAreaTop" r="textAreaRight" b="textAreaBottom"/>
            <a:pathLst>
              <a:path w="34150" h="21600">
                <a:moveTo>
                  <a:pt x="0" y="0"/>
                </a:moveTo>
                <a:lnTo>
                  <a:pt x="34150" y="0"/>
                </a:lnTo>
                <a:lnTo>
                  <a:pt x="34150" y="21600"/>
                </a:lnTo>
                <a:lnTo>
                  <a:pt x="0" y="21600"/>
                </a:lnTo>
                <a:close/>
              </a:path>
              <a:path fill="lightenLess" w="34150" h="21600">
                <a:moveTo>
                  <a:pt x="0" y="0"/>
                </a:moveTo>
                <a:lnTo>
                  <a:pt x="34150" y="0"/>
                </a:lnTo>
                <a:lnTo>
                  <a:pt x="32750" y="1400"/>
                </a:lnTo>
                <a:lnTo>
                  <a:pt x="1400" y="1400"/>
                </a:lnTo>
                <a:close/>
              </a:path>
              <a:path fill="darken" w="34150" h="21600">
                <a:moveTo>
                  <a:pt x="34150" y="0"/>
                </a:moveTo>
                <a:lnTo>
                  <a:pt x="34150" y="21600"/>
                </a:lnTo>
                <a:lnTo>
                  <a:pt x="32750" y="20200"/>
                </a:lnTo>
                <a:lnTo>
                  <a:pt x="32750" y="1400"/>
                </a:lnTo>
                <a:close/>
              </a:path>
              <a:path fill="darkenLess" w="34150" h="21600">
                <a:moveTo>
                  <a:pt x="34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50" y="20200"/>
                </a:lnTo>
                <a:close/>
              </a:path>
              <a:path fill="lighten" w="34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50" h="21600">
                <a:moveTo>
                  <a:pt x="10068" y="3794"/>
                </a:moveTo>
                <a:lnTo>
                  <a:pt x="24081" y="10800"/>
                </a:lnTo>
                <a:lnTo>
                  <a:pt x="10068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474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"/>
          <p:cNvSpPr/>
          <p:nvPr/>
        </p:nvSpPr>
        <p:spPr>
          <a:xfrm>
            <a:off x="2220840" y="5202360"/>
            <a:ext cx="11890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3995640" y="5202360"/>
            <a:ext cx="11890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5796000" y="5202360"/>
            <a:ext cx="11890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ая прямоугольная выноска 4"/>
          <p:cNvSpPr/>
          <p:nvPr/>
        </p:nvSpPr>
        <p:spPr>
          <a:xfrm>
            <a:off x="1476360" y="692280"/>
            <a:ext cx="6191280" cy="1512720"/>
          </a:xfrm>
          <a:prstGeom prst="wedgeRoundRectCallout">
            <a:avLst>
              <a:gd name="adj1" fmla="val -34416"/>
              <a:gd name="adj2" fmla="val 85671"/>
              <a:gd name="adj3" fmla="val 16667"/>
            </a:avLst>
          </a:prstGeom>
          <a:solidFill>
            <a:srgbClr val="ffff00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число, в котором 5 десят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а единиц на 2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"/>
          <p:cNvPicPr/>
          <p:nvPr/>
        </p:nvPicPr>
        <p:blipFill>
          <a:blip r:embed="rId2"/>
          <a:stretch/>
        </p:blipFill>
        <p:spPr>
          <a:xfrm>
            <a:off x="858960" y="3228840"/>
            <a:ext cx="1403280" cy="18734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"/>
          <p:cNvPicPr/>
          <p:nvPr/>
        </p:nvPicPr>
        <p:blipFill>
          <a:blip r:embed="rId3"/>
          <a:stretch/>
        </p:blipFill>
        <p:spPr>
          <a:xfrm>
            <a:off x="6823080" y="277956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"/>
          <p:cNvPicPr/>
          <p:nvPr/>
        </p:nvPicPr>
        <p:blipFill>
          <a:blip r:embed="rId4"/>
          <a:stretch/>
        </p:blipFill>
        <p:spPr>
          <a:xfrm>
            <a:off x="7277040" y="441000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9"/>
          <p:cNvSpPr/>
          <p:nvPr/>
        </p:nvSpPr>
        <p:spPr>
          <a:xfrm>
            <a:off x="5151600" y="3119400"/>
            <a:ext cx="1871640" cy="1044720"/>
          </a:xfrm>
          <a:prstGeom prst="wedgeRoundRectCallout">
            <a:avLst>
              <a:gd name="adj1" fmla="val 56462"/>
              <a:gd name="adj2" fmla="val 84638"/>
              <a:gd name="adj3" fmla="val 16667"/>
            </a:avLst>
          </a:prstGeom>
          <a:solidFill>
            <a:srgbClr val="c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Порадовал. Хва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10"/>
          <p:cNvSpPr/>
          <p:nvPr/>
        </p:nvSpPr>
        <p:spPr>
          <a:xfrm>
            <a:off x="5151600" y="3679920"/>
            <a:ext cx="1800000" cy="971280"/>
          </a:xfrm>
          <a:prstGeom prst="wedgeRoundRectCallout">
            <a:avLst>
              <a:gd name="adj1" fmla="val 48245"/>
              <a:gd name="adj2" fmla="val 80287"/>
              <a:gd name="adj3" fmla="val 16667"/>
            </a:avLst>
          </a:prstGeom>
          <a:solidFill>
            <a:srgbClr val="c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Эх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j0214098.wav" descr=""/>
          <p:cNvPicPr/>
          <p:nvPr/>
        </p:nvPicPr>
        <p:blipFill>
          <a:blip r:embed="rId5"/>
          <a:stretch/>
        </p:blipFill>
        <p:spPr>
          <a:xfrm>
            <a:off x="8675640" y="6354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3"/>
          <p:cNvSpPr/>
          <p:nvPr/>
        </p:nvSpPr>
        <p:spPr>
          <a:xfrm rot="5400000">
            <a:off x="4345200" y="2512080"/>
            <a:ext cx="457200" cy="8234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4"/>
          <p:cNvSpPr/>
          <p:nvPr/>
        </p:nvSpPr>
        <p:spPr>
          <a:xfrm rot="5400000">
            <a:off x="4325400" y="-3868560"/>
            <a:ext cx="457200" cy="819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5"/>
          <p:cNvSpPr/>
          <p:nvPr/>
        </p:nvSpPr>
        <p:spPr>
          <a:xfrm>
            <a:off x="867564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524720" y="6237360"/>
            <a:ext cx="142920" cy="5047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504720"/>
              <a:gd name="textAreaBottom" fmla="*/ 495720 h 504720"/>
            </a:gdLst>
            <a:ahLst/>
            <a:rect l="textAreaLeft" t="textAreaTop" r="textAreaRight" b="textAreaBottom"/>
            <a:pathLst>
              <a:path w="21600" h="76143">
                <a:moveTo>
                  <a:pt x="0" y="0"/>
                </a:moveTo>
                <a:lnTo>
                  <a:pt x="21600" y="0"/>
                </a:lnTo>
                <a:lnTo>
                  <a:pt x="21600" y="76143"/>
                </a:lnTo>
                <a:lnTo>
                  <a:pt x="0" y="76143"/>
                </a:lnTo>
                <a:close/>
              </a:path>
              <a:path fill="lightenLess" w="21600" h="76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6143">
                <a:moveTo>
                  <a:pt x="21600" y="0"/>
                </a:moveTo>
                <a:lnTo>
                  <a:pt x="21600" y="76143"/>
                </a:lnTo>
                <a:lnTo>
                  <a:pt x="20200" y="74743"/>
                </a:lnTo>
                <a:lnTo>
                  <a:pt x="20200" y="1400"/>
                </a:lnTo>
                <a:close/>
              </a:path>
              <a:path fill="darkenLess" w="21600" h="76143">
                <a:moveTo>
                  <a:pt x="21600" y="76143"/>
                </a:moveTo>
                <a:lnTo>
                  <a:pt x="0" y="76143"/>
                </a:lnTo>
                <a:lnTo>
                  <a:pt x="1400" y="74743"/>
                </a:lnTo>
                <a:lnTo>
                  <a:pt x="20200" y="74743"/>
                </a:lnTo>
                <a:close/>
              </a:path>
              <a:path fill="lighten" w="21600" h="76143">
                <a:moveTo>
                  <a:pt x="0" y="76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74743"/>
                </a:lnTo>
                <a:close/>
              </a:path>
              <a:path fill="darken" w="21600" h="76143">
                <a:moveTo>
                  <a:pt x="3794" y="38071"/>
                </a:moveTo>
                <a:lnTo>
                  <a:pt x="17806" y="31065"/>
                </a:lnTo>
                <a:lnTo>
                  <a:pt x="17806" y="45078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277040" y="5994360"/>
            <a:ext cx="1414440" cy="863640"/>
          </a:xfrm>
          <a:custGeom>
            <a:avLst/>
            <a:gdLst>
              <a:gd name="textAreaLeft" fmla="*/ 55800 w 1414440"/>
              <a:gd name="textAreaRight" fmla="*/ 1358640 w 1414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5370" h="21600">
                <a:moveTo>
                  <a:pt x="0" y="0"/>
                </a:moveTo>
                <a:lnTo>
                  <a:pt x="35370" y="0"/>
                </a:lnTo>
                <a:lnTo>
                  <a:pt x="35370" y="21600"/>
                </a:lnTo>
                <a:lnTo>
                  <a:pt x="0" y="21600"/>
                </a:lnTo>
                <a:close/>
              </a:path>
              <a:path fill="lightenLess" w="35370" h="21600">
                <a:moveTo>
                  <a:pt x="0" y="0"/>
                </a:moveTo>
                <a:lnTo>
                  <a:pt x="35370" y="0"/>
                </a:lnTo>
                <a:lnTo>
                  <a:pt x="33970" y="1400"/>
                </a:lnTo>
                <a:lnTo>
                  <a:pt x="1400" y="1400"/>
                </a:lnTo>
                <a:close/>
              </a:path>
              <a:path fill="darken" w="35370" h="21600">
                <a:moveTo>
                  <a:pt x="35370" y="0"/>
                </a:moveTo>
                <a:lnTo>
                  <a:pt x="35370" y="21600"/>
                </a:lnTo>
                <a:lnTo>
                  <a:pt x="33970" y="20200"/>
                </a:lnTo>
                <a:lnTo>
                  <a:pt x="33970" y="1400"/>
                </a:lnTo>
                <a:close/>
              </a:path>
              <a:path fill="darkenLess" w="35370" h="21600">
                <a:moveTo>
                  <a:pt x="35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0" y="20200"/>
                </a:lnTo>
                <a:close/>
              </a:path>
              <a:path fill="lighten" w="35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0" h="21600">
                <a:moveTo>
                  <a:pt x="10679" y="3794"/>
                </a:moveTo>
                <a:lnTo>
                  <a:pt x="24691" y="10800"/>
                </a:lnTo>
                <a:lnTo>
                  <a:pt x="10679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1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xit" presetID="21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474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1763640" y="5211720"/>
            <a:ext cx="118764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24360" y="5211720"/>
            <a:ext cx="11872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5954760" y="5211720"/>
            <a:ext cx="11890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ая прямоугольная выноска 4"/>
          <p:cNvSpPr/>
          <p:nvPr/>
        </p:nvSpPr>
        <p:spPr>
          <a:xfrm>
            <a:off x="1306440" y="765000"/>
            <a:ext cx="6553440" cy="1295640"/>
          </a:xfrm>
          <a:prstGeom prst="wedgeRoundRectCallout">
            <a:avLst>
              <a:gd name="adj1" fmla="val -39810"/>
              <a:gd name="adj2" fmla="val 111087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увеличили на 7, если получили 3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6" descr=""/>
          <p:cNvPicPr/>
          <p:nvPr/>
        </p:nvPicPr>
        <p:blipFill>
          <a:blip r:embed="rId2"/>
          <a:stretch/>
        </p:blipFill>
        <p:spPr>
          <a:xfrm>
            <a:off x="1306440" y="3141720"/>
            <a:ext cx="12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"/>
          <p:cNvPicPr/>
          <p:nvPr/>
        </p:nvPicPr>
        <p:blipFill>
          <a:blip r:embed="rId3"/>
          <a:stretch/>
        </p:blipFill>
        <p:spPr>
          <a:xfrm>
            <a:off x="7020000" y="3343320"/>
            <a:ext cx="1297080" cy="16034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"/>
          <p:cNvPicPr/>
          <p:nvPr/>
        </p:nvPicPr>
        <p:blipFill>
          <a:blip r:embed="rId4"/>
          <a:stretch/>
        </p:blipFill>
        <p:spPr>
          <a:xfrm>
            <a:off x="6673680" y="2692440"/>
            <a:ext cx="121608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Скругленная прямоугольная выноска 9"/>
          <p:cNvSpPr/>
          <p:nvPr/>
        </p:nvSpPr>
        <p:spPr>
          <a:xfrm>
            <a:off x="4273560" y="2492280"/>
            <a:ext cx="2482920" cy="1125720"/>
          </a:xfrm>
          <a:prstGeom prst="wedgeRoundRectCallout">
            <a:avLst>
              <a:gd name="adj1" fmla="val 63490"/>
              <a:gd name="adj2" fmla="val 78541"/>
              <a:gd name="adj3" fmla="val 16667"/>
            </a:avLst>
          </a:prstGeom>
          <a:solidFill>
            <a:srgbClr val="ff00ff"/>
          </a:solidFill>
          <a:ln w="1260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Вниматель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ая прямоугольная выноска 10"/>
          <p:cNvSpPr/>
          <p:nvPr/>
        </p:nvSpPr>
        <p:spPr>
          <a:xfrm>
            <a:off x="4273560" y="3141720"/>
            <a:ext cx="2030400" cy="1449360"/>
          </a:xfrm>
          <a:prstGeom prst="wedgeRoundRectCallout">
            <a:avLst>
              <a:gd name="adj1" fmla="val 105217"/>
              <a:gd name="adj2" fmla="val 43157"/>
              <a:gd name="adj3" fmla="val 16667"/>
            </a:avLst>
          </a:prstGeom>
          <a:solidFill>
            <a:srgbClr val="ff00ff"/>
          </a:solidFill>
          <a:ln w="1260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Ум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j0214098.wav" descr=""/>
          <p:cNvPicPr/>
          <p:nvPr/>
        </p:nvPicPr>
        <p:blipFill>
          <a:blip r:embed="rId5"/>
          <a:stretch/>
        </p:blipFill>
        <p:spPr>
          <a:xfrm>
            <a:off x="85471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3"/>
          <p:cNvSpPr/>
          <p:nvPr/>
        </p:nvSpPr>
        <p:spPr>
          <a:xfrm rot="5400000">
            <a:off x="4579920" y="2277720"/>
            <a:ext cx="457200" cy="87026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 rot="5400000">
            <a:off x="4425480" y="-3951000"/>
            <a:ext cx="457200" cy="83948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8702640" y="-1584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667640" y="5877000"/>
            <a:ext cx="1476360" cy="981000"/>
          </a:xfrm>
          <a:custGeom>
            <a:avLst/>
            <a:gdLst>
              <a:gd name="textAreaLeft" fmla="*/ 63360 w 1476360"/>
              <a:gd name="textAreaRight" fmla="*/ 1413000 w 1476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3" h="21600">
                <a:moveTo>
                  <a:pt x="9245" y="3794"/>
                </a:moveTo>
                <a:lnTo>
                  <a:pt x="23258" y="10800"/>
                </a:lnTo>
                <a:lnTo>
                  <a:pt x="9245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4744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02:42Z</dcterms:created>
  <dc:creator>User</dc:creator>
  <dc:description/>
  <dc:language>en-US</dc:language>
  <cp:lastModifiedBy>Фатима Каргинова</cp:lastModifiedBy>
  <dcterms:modified xsi:type="dcterms:W3CDTF">2023-02-13T07:01:08Z</dcterms:modified>
  <cp:revision>4</cp:revision>
  <dc:subject/>
  <dc:title>Слайд 1</dc:title>
</cp:coreProperties>
</file>