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7.jpeg" ContentType="image/jpeg"/>
  <Override PartName="/ppt/media/image52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9.jpeg" ContentType="image/jpeg"/>
  <Override PartName="/ppt/media/image50.png" ContentType="image/png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CE728-DE9C-40A0-AA15-831DE268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866AC53-9B58-4175-B998-AD234DBF57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622CC76-85FA-4071-BCEC-E6A2E8D614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D70C199-787E-4441-99EF-AD71558CF6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A72952F-CE61-466F-B58F-BFAAAC2CA0D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D53EB46-5287-46CD-A783-7BA30F9B88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91D2AE9-245F-4373-A1C3-78AE745874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C90A1E1-4C7C-485D-A53C-AEC694CFD0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DC6F5E-8B73-40F7-AD8E-D10F4FA4F6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6F111BA-61A9-4521-A307-AF10F17BF6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920C2D2-B457-4463-942D-C3D3B1DDD2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642863D-2187-4B25-B06F-D2863623D2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B7482F8-411D-4E39-BCF4-476E050E540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EA42825-6E97-48B3-813A-E4184B96C5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1CDCB9E-08EF-4712-BF47-5CA6EEB03E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F17F0B6-BF32-4F28-B311-11ED51C03C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1E20F29-3A51-4D1E-A08E-A908F078BC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CFA0D41-B954-4D23-92D4-26245316F5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814962B-06EB-4D29-82E7-48DD3888A6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C18827D-2069-419E-B024-981AA7910DE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736FCE5-D401-494A-ADD8-22E3B4DF68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BEC494B-F923-4E16-A5F9-CB8D189114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B4020A8-59EF-4F02-9E66-BFE7564A17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5BD1105-0FB7-4C3A-8BD0-AB18AB15D0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670609F-72DF-4778-8BA0-0999CB823E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FB89CFB-D96C-4F16-819E-C45331885A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FF697B8-C6A7-4402-8088-1A5E67CF04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FDE0627-64D8-4B54-A5A4-E5A3266915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7BEBB6E-C047-4B63-8988-2AC3DDB8651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0D9BD37-0A26-4BD6-9A40-DE64D493287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7C23B70-8C58-4DBC-8905-FDDC1EE4D0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594DFF9-1274-4756-BBEE-76257FE767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03A40D6-E79C-4C8F-B33C-BD2B2535F56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E9558D8-D966-492A-B49C-78F6CB6B04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5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AAAB819-881B-4113-A71F-1493E4D7F6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5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40CC2C7-E5BE-4CFC-A3CA-9936C81F9C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7FD05FE-3AC8-4ECA-B28D-D582C5C2A7B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3ABA845-7C03-4527-BCAA-D8B766B006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B356598-3807-4043-AFC8-300C60EBD0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84D5884-4B39-45F9-B9B7-81421563A1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53DCC33-3992-495F-BC5E-01F8D87515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5FF4BD0-27E6-40A9-93C3-5727B3928E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8878CAC-761E-4B73-9086-F89507B61B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59B9240-C08D-44ED-9C66-0E3FA64A66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CAAC3E1-A1B4-4FF6-8356-B84A12C32E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593CD24-5744-44DB-AA4A-7E57623E8F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507-EF92-471F-B54C-0247085F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391-94BC-4542-AB62-F990C576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D9E-352E-4329-8E15-BFCD15A2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14F-9ED1-4150-8DBC-F8E91963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614D-0B31-4235-97B4-DF799396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7076-451D-45E2-94A8-777809E3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2DFC-C2AC-45D5-9B53-7D3B8D8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DE18-5D02-47EC-9883-C84DB23E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767D-2251-4ECC-A8A6-B1E00790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EAD8-8520-41BE-9BD0-E6663DE1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634F-5797-4348-BAEC-5D914511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F33-3525-448E-889D-1ED7C4F2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4ECE-E6D3-4D8A-BFDB-898C1EC0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EC00-9635-40F8-9975-C535A2F4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EDBA-F7A5-4CB3-97A6-762F1442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0A4B-FA74-4F03-BA4E-C24685A2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F4F8-2B1E-4EFE-B5DB-3E542360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0DF7-AA8E-471F-9221-95F5F511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F61B-68A6-48D5-A6CC-D26E4F8D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AFFA-3714-4A7E-B971-F22799C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5799-5980-4BE1-900D-DBDA9A91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3645-2654-4785-9281-43A4B4E5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031-E04E-44A1-95D7-D129C832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0A0B-547D-486A-B1E9-29D54417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5A9C-9254-4BB8-BFC1-AA84FFD5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4037-37CE-459A-80AB-D425537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0CE6-A76E-4002-947B-F925546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375C-0ACF-40C2-B9A3-07FFD4FE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BFAB-BB1E-4523-8FF9-75942FE2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4CF9-8764-472C-B760-F40D250B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EE693-4ED3-4D04-9B67-C6D40527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CFB9-8674-4E22-9907-0EFA73FB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4D01-42A0-49A3-A627-DB90CCE0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E94-09BB-4E04-9A5F-76016C58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1754-4DF8-45C9-8026-FF3471B8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0341-C71E-47F1-B5D5-DAA247B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5F16-3927-4B88-94E1-9BA2CDF4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5987-393D-4810-98F7-C2EFFE2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4DF3-5814-4264-8FA4-2A084D22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56FD2-7F21-4896-AF59-7EBE5D5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926C-4708-4C06-AD71-DD867B26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4D97-4378-4F09-9B76-00533C1C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DA9D-FC16-45EC-BCE5-D830465A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D1F8-0B9D-4D10-8D8F-C3678EB7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4BE-1AD1-44A3-AD72-63106BD4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8E54C-210E-4040-A849-991FBE25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11C3-117A-4B84-AA65-16B13E9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B670-6ECB-4C19-95E5-16797D01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58A45-D094-4442-A758-2AD42B0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20BD-FF80-43CF-BA95-9EFE5F75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55F7-7AFE-4F2A-B0C8-EE1E7433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C7C9-FB35-4EE5-BCCB-3CA6205E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C061-43E2-436F-B906-9248ECE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F549-2D34-43CF-9142-6E10A890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C6D26-5286-44E5-977D-1049DB83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056-61BC-4A1A-8E45-B34C40DD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8416-C4B9-4E36-B6D1-15AE70EB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E6A-34E9-4F39-AD4A-C4721E0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4FA-BA8C-423E-BDEC-986D0FBE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ABD-AAA5-4D85-BC35-98EFA5C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A221EBE-A8A6-470D-919C-00B714E2FF46}" type="slidenum">
              <a:rPr b="0" lang="ru-RU" sz="1200" spc="-1" strike="noStrike">
                <a:solidFill>
                  <a:srgbClr val="ac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9D2C439-CB14-4C70-82A5-E4772C7846C5}" type="slidenum">
              <a:rPr b="0" lang="ru-RU" sz="1200" spc="-1" strike="noStrike">
                <a:solidFill>
                  <a:srgbClr val="ac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FA0EBE1-01FC-4A45-9CF2-0DCDF7CA9FF1}" type="slidenum">
              <a:rPr b="0" lang="ru-RU" sz="1200" spc="-1" strike="noStrike">
                <a:solidFill>
                  <a:srgbClr val="ac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7"/>
          <p:cNvSpPr/>
          <p:nvPr/>
        </p:nvSpPr>
        <p:spPr>
          <a:xfrm>
            <a:off x="380880" y="228600"/>
            <a:ext cx="8229240" cy="609120"/>
          </a:xfrm>
          <a:custGeom>
            <a:avLst/>
            <a:gdLst>
              <a:gd name="textAreaLeft" fmla="*/ 0 w 8229240"/>
              <a:gd name="textAreaRight" fmla="*/ 8229600 w 822924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5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457200" y="6172200"/>
            <a:ext cx="8229600" cy="360"/>
          </a:xfrm>
          <a:prstGeom prst="line">
            <a:avLst/>
          </a:prstGeom>
          <a:ln w="1905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664EDCA-FA4B-4A26-8DEB-E21FE00749D6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8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8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2F4BBE8-5A88-4E60-932F-8C853ED39FA4}" type="slidenum">
              <a:rPr b="0" lang="ru-RU" sz="1200" spc="-1" strike="noStrike">
                <a:solidFill>
                  <a:srgbClr val="ac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" Target="slide5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" Target="slide5.xml"/><Relationship Id="rId4" Type="http://schemas.openxmlformats.org/officeDocument/2006/relationships/hyperlink" Target="http://s11.radikal.ru/i183/0911/9b/7715e4d7abd6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" Target="slide5.xml"/><Relationship Id="rId4" Type="http://schemas.openxmlformats.org/officeDocument/2006/relationships/hyperlink" Target="http://content.foto.mail.ru/mail/vera.1954/_animated/i-3832.gif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hyperlink" Target="http://img-fotki.yandex.ru/get/3005/oska-251.25/0_1f124_aa8afa00_L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oleObject" Target="../embeddings/oleObject1.bin"/><Relationship Id="rId3" Type="http://schemas.openxmlformats.org/officeDocument/2006/relationships/slide" Target="slide5.xml"/><Relationship Id="rId4" Type="http://schemas.openxmlformats.org/officeDocument/2006/relationships/image" Target="../media/image2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jpe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hyperlink" Target="http://bolutanova.ucoz.ru/Roditeli_stati/Semiya.jpg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live.tomsk.ru/public/user/1000000/1000/635/30090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slide" Target="slide5.xml"/><Relationship Id="rId4" Type="http://schemas.openxmlformats.org/officeDocument/2006/relationships/hyperlink" Target="http://detskijsad6-zwyozdochka.narod.ru/catalog/psiz.jpg" TargetMode="External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hyperlink" Target="http://mandatemedia.typepad.com/photos/uncategorized/2007/07/10/coca_cola.jpg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hyperlink" Target="http://editorial.designtaxi.com/news/CocaColaFantaOrange.jpg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sfw.org.ua/uploads/posts/2009-11/thumbs/1258023564_3.jpg" TargetMode="External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0.xml"/><Relationship Id="rId9" Type="http://schemas.openxmlformats.org/officeDocument/2006/relationships/slide" Target="slide40.xml"/><Relationship Id="rId10" Type="http://schemas.openxmlformats.org/officeDocument/2006/relationships/slide" Target="slide40.xml"/><Relationship Id="rId11" Type="http://schemas.openxmlformats.org/officeDocument/2006/relationships/slide" Target="slide32.xml"/><Relationship Id="rId12" Type="http://schemas.openxmlformats.org/officeDocument/2006/relationships/slide" Target="slide32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4.xml"/><Relationship Id="rId16" Type="http://schemas.openxmlformats.org/officeDocument/2006/relationships/slide" Target="slide34.xml"/><Relationship Id="rId17" Type="http://schemas.openxmlformats.org/officeDocument/2006/relationships/slide" Target="slide25.xml"/><Relationship Id="rId18" Type="http://schemas.openxmlformats.org/officeDocument/2006/relationships/slide" Target="slide35.xml"/><Relationship Id="rId19" Type="http://schemas.openxmlformats.org/officeDocument/2006/relationships/slide" Target="slide33.xml"/><Relationship Id="rId20" Type="http://schemas.openxmlformats.org/officeDocument/2006/relationships/slide" Target="slide36.xml"/><Relationship Id="rId21" Type="http://schemas.openxmlformats.org/officeDocument/2006/relationships/slide" Target="slide48.xml"/><Relationship Id="rId22" Type="http://schemas.openxmlformats.org/officeDocument/2006/relationships/slide" Target="slide37.xml"/><Relationship Id="rId23" Type="http://schemas.openxmlformats.org/officeDocument/2006/relationships/slide" Target="slide38.xml"/><Relationship Id="rId24" Type="http://schemas.openxmlformats.org/officeDocument/2006/relationships/slide" Target="slide38.xml"/><Relationship Id="rId25" Type="http://schemas.openxmlformats.org/officeDocument/2006/relationships/slide" Target="slide39.xml"/><Relationship Id="rId26" Type="http://schemas.openxmlformats.org/officeDocument/2006/relationships/slide" Target="slide39.xml"/><Relationship Id="rId27" Type="http://schemas.openxmlformats.org/officeDocument/2006/relationships/slide" Target="slide41.xml"/><Relationship Id="rId28" Type="http://schemas.openxmlformats.org/officeDocument/2006/relationships/slide" Target="slide40.xml"/><Relationship Id="rId29" Type="http://schemas.openxmlformats.org/officeDocument/2006/relationships/slide" Target="slide37.xml"/><Relationship Id="rId30" Type="http://schemas.openxmlformats.org/officeDocument/2006/relationships/slide" Target="slide41.xml"/><Relationship Id="rId31" Type="http://schemas.openxmlformats.org/officeDocument/2006/relationships/slide" Target="slide42.xml"/><Relationship Id="rId32" Type="http://schemas.openxmlformats.org/officeDocument/2006/relationships/slide" Target="slide42.xml"/><Relationship Id="rId33" Type="http://schemas.openxmlformats.org/officeDocument/2006/relationships/slide" Target="slide41.xml"/><Relationship Id="rId34" Type="http://schemas.openxmlformats.org/officeDocument/2006/relationships/slide" Target="slide44.xml"/><Relationship Id="rId35" Type="http://schemas.openxmlformats.org/officeDocument/2006/relationships/slide" Target="slide45.xml"/><Relationship Id="rId36" Type="http://schemas.openxmlformats.org/officeDocument/2006/relationships/slide" Target="slide45.xml"/><Relationship Id="rId37" Type="http://schemas.openxmlformats.org/officeDocument/2006/relationships/slide" Target="slide46.xml"/><Relationship Id="rId38" Type="http://schemas.openxmlformats.org/officeDocument/2006/relationships/slide" Target="slide46.xml"/><Relationship Id="rId39" Type="http://schemas.openxmlformats.org/officeDocument/2006/relationships/slide" Target="slide35.xml"/><Relationship Id="rId40" Type="http://schemas.openxmlformats.org/officeDocument/2006/relationships/slide" Target="slide47.xml"/><Relationship Id="rId41" Type="http://schemas.openxmlformats.org/officeDocument/2006/relationships/slideLayout" Target="../slideLayouts/slideLayout37.xml"/><Relationship Id="rId4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7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6.xm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6.xml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6.xml"/><Relationship Id="rId3" Type="http://schemas.openxmlformats.org/officeDocument/2006/relationships/image" Target="../media/image22.jpeg"/><Relationship Id="rId4" Type="http://schemas.openxmlformats.org/officeDocument/2006/relationships/image" Target="../media/image16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6.xml"/><Relationship Id="rId3" Type="http://schemas.openxmlformats.org/officeDocument/2006/relationships/image" Target="../media/image22.jpeg"/><Relationship Id="rId4" Type="http://schemas.openxmlformats.org/officeDocument/2006/relationships/image" Target="../media/image16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0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png"/><Relationship Id="rId3" Type="http://schemas.openxmlformats.org/officeDocument/2006/relationships/hyperlink" Target="http://www.arch-dou31.edusite.ru/images/67560126fc5f.gif" TargetMode="External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6.xml"/><Relationship Id="rId3" Type="http://schemas.openxmlformats.org/officeDocument/2006/relationships/hyperlink" Target="http://detskyi-sad.torgg.com/image/data/23939904.jpg" TargetMode="External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22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hyperlink" Target="http://puzzle-ru.blogspot.com/2012/03/blog-post_04.html" TargetMode="External"/><Relationship Id="rId3" Type="http://schemas.openxmlformats.org/officeDocument/2006/relationships/image" Target="../media/image50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2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6.xml"/><Relationship Id="rId3" Type="http://schemas.openxmlformats.org/officeDocument/2006/relationships/image" Target="../media/image51.jpeg"/><Relationship Id="rId4" Type="http://schemas.openxmlformats.org/officeDocument/2006/relationships/hyperlink" Target="http://img0.liveinternet.ru/images/attach/c/4/79/690/79690698_989942981.gif" TargetMode="External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53.jpeg"/><Relationship Id="rId5" Type="http://schemas.openxmlformats.org/officeDocument/2006/relationships/image" Target="../media/image54.png"/><Relationship Id="rId6" Type="http://schemas.openxmlformats.org/officeDocument/2006/relationships/hyperlink" Target="http://www.edu.cap.ru/home/4349/biblioteka.gif" TargetMode="External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hyperlink" Target="http://cs4926.vkontakte.ru/u10783413/137999724/x_2ec313b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hyperlink" Target="http://www.belosnezhka.net/userfiles/image/photo/big/ry-1898_small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12.jpeg"/><Relationship Id="rId4" Type="http://schemas.openxmlformats.org/officeDocument/2006/relationships/hyperlink" Target="http://jiea-dp.taba.ru/fid/cnRlaW1hZ2VfdGh1bWI6MTRmZTU4YjIyYWE1ZjgzODI5ODE1NDEyNzU0NDAwYWIvLw/img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hyperlink" Target="http://img1.liveinternet.ru/images/attach/c/2/67/365/67365279_fruit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2"/>
          <p:cNvSpPr/>
          <p:nvPr/>
        </p:nvSpPr>
        <p:spPr>
          <a:xfrm>
            <a:off x="663480" y="0"/>
            <a:ext cx="4870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6600" spc="-1" strike="noStrike"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5" name="WordArt 13"/>
          <p:cNvSpPr txBox="1"/>
          <p:nvPr/>
        </p:nvSpPr>
        <p:spPr>
          <a:xfrm>
            <a:off x="289080" y="2644920"/>
            <a:ext cx="8660880" cy="228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solidFill>
                    <a:srgbClr val="7030a0"/>
                  </a:solidFill>
                </a:ln>
                <a:solidFill>
                  <a:srgbClr val="c00000"/>
                </a:solidFill>
                <a:latin typeface="Impact"/>
                <a:ea typeface="Arial"/>
              </a:rPr>
              <a:t>«Семья   и семейные ценности»</a:t>
            </a:r>
            <a:endParaRPr b="0" lang="en-US" sz="3600" spc="-1" strike="noStrike">
              <a:ln w="0">
                <a:solidFill>
                  <a:srgbClr val="7030a0"/>
                </a:solidFill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2158920" y="1317600"/>
            <a:ext cx="4749480" cy="120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solidFill>
                    <a:srgbClr val="7030a0"/>
                  </a:solidFill>
                </a:ln>
                <a:solidFill>
                  <a:srgbClr val="00cc00"/>
                </a:solidFill>
                <a:latin typeface="Impact"/>
                <a:ea typeface="Arial"/>
              </a:rPr>
              <a:t>своя игра</a:t>
            </a:r>
            <a:endParaRPr b="0" lang="en-US" sz="3600" spc="-1" strike="noStrike">
              <a:ln w="0">
                <a:solidFill>
                  <a:srgbClr val="7030a0"/>
                </a:solidFill>
              </a:ln>
              <a:solidFill>
                <a:srgbClr val="00cc00"/>
              </a:solidFill>
              <a:latin typeface="Arial"/>
            </a:endParaRPr>
          </a:p>
        </p:txBody>
      </p:sp>
      <p:sp>
        <p:nvSpPr>
          <p:cNvPr id="217" name="TextBox 26"/>
          <p:cNvSpPr/>
          <p:nvPr/>
        </p:nvSpPr>
        <p:spPr>
          <a:xfrm>
            <a:off x="1978200" y="412920"/>
            <a:ext cx="523188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2800" spc="-1" strike="noStrike"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218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"/>
          <a:stretch/>
        </p:blipFill>
        <p:spPr>
          <a:xfrm flipH="1">
            <a:off x="7830000" y="5178600"/>
            <a:ext cx="771120" cy="1160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2"/>
          <a:stretch/>
        </p:blipFill>
        <p:spPr>
          <a:xfrm rot="20400000">
            <a:off x="-1219320" y="291960"/>
            <a:ext cx="5714640" cy="1247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 flipH="1">
            <a:off x="7166520" y="5540400"/>
            <a:ext cx="783720" cy="839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1857240" y="6203880"/>
            <a:ext cx="409320" cy="285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8372520" y="6143760"/>
            <a:ext cx="514080" cy="325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073520" y="4575240"/>
            <a:ext cx="1233000" cy="1568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"/>
          <p:cNvPicPr/>
          <p:nvPr/>
        </p:nvPicPr>
        <p:blipFill>
          <a:blip r:embed="rId7"/>
          <a:stretch/>
        </p:blipFill>
        <p:spPr>
          <a:xfrm>
            <a:off x="2521080" y="3911760"/>
            <a:ext cx="3593880" cy="2593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 flipH="1">
            <a:off x="349920" y="5118120"/>
            <a:ext cx="78372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Рисунок5"/>
          <p:cNvPicPr/>
          <p:nvPr/>
        </p:nvPicPr>
        <p:blipFill>
          <a:blip r:embed="rId1"/>
          <a:stretch/>
        </p:blipFill>
        <p:spPr>
          <a:xfrm>
            <a:off x="0" y="4210200"/>
            <a:ext cx="2887200" cy="2408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Z_frage"/>
          <p:cNvPicPr/>
          <p:nvPr/>
        </p:nvPicPr>
        <p:blipFill>
          <a:blip r:embed="rId2"/>
          <a:stretch/>
        </p:blipFill>
        <p:spPr>
          <a:xfrm>
            <a:off x="6924600" y="473040"/>
            <a:ext cx="1345680" cy="15584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7">
            <a:hlinkClick r:id="rId3" action="ppaction://hlinksldjump"/>
          </p:cNvPr>
          <p:cNvSpPr/>
          <p:nvPr/>
        </p:nvSpPr>
        <p:spPr>
          <a:xfrm>
            <a:off x="8070840" y="590220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734760" y="1800360"/>
            <a:ext cx="49359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гаты,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8"/>
          <p:cNvSpPr/>
          <p:nvPr/>
        </p:nvSpPr>
        <p:spPr>
          <a:xfrm>
            <a:off x="4891680" y="2765520"/>
            <a:ext cx="3689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м и ра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http://www.zbilet.ru/images/upload/events/neznaika.jpg"/>
          <p:cNvPicPr/>
          <p:nvPr/>
        </p:nvPicPr>
        <p:blipFill>
          <a:blip r:embed="rId4"/>
          <a:stretch/>
        </p:blipFill>
        <p:spPr>
          <a:xfrm>
            <a:off x="0" y="3800520"/>
            <a:ext cx="3057120" cy="30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>
            <a:hlinkClick r:id="rId1" action="ppaction://hlinksldjump"/>
          </p:cNvPr>
          <p:cNvSpPr/>
          <p:nvPr/>
        </p:nvSpPr>
        <p:spPr>
          <a:xfrm>
            <a:off x="0" y="2463840"/>
            <a:ext cx="86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91" name="Picture 7" descr="55"/>
          <p:cNvPicPr/>
          <p:nvPr/>
        </p:nvPicPr>
        <p:blipFill>
          <a:blip r:embed="rId2"/>
          <a:stretch/>
        </p:blipFill>
        <p:spPr>
          <a:xfrm>
            <a:off x="7105680" y="4152960"/>
            <a:ext cx="2417400" cy="21664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0" y="1724040"/>
            <a:ext cx="8900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4400" spc="-1" strike="noStrike"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93" name="AutoShape 10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94" name="Прямоугольник 6"/>
          <p:cNvSpPr/>
          <p:nvPr/>
        </p:nvSpPr>
        <p:spPr>
          <a:xfrm>
            <a:off x="771480" y="774720"/>
            <a:ext cx="790236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лучше всех на свете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её прожить нельзя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она у Кати, Пети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у меня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7"/>
          <p:cNvSpPr/>
          <p:nvPr/>
        </p:nvSpPr>
        <p:spPr>
          <a:xfrm>
            <a:off x="4994280" y="3971880"/>
            <a:ext cx="31366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Мам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9" descr="Картинка 17 из 2116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0880" y="3730680"/>
            <a:ext cx="40413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>
            <a:hlinkClick r:id="rId1" action="ppaction://hlinksldjump"/>
          </p:cNvPr>
          <p:cNvSpPr/>
          <p:nvPr/>
        </p:nvSpPr>
        <p:spPr>
          <a:xfrm>
            <a:off x="250920" y="482760"/>
            <a:ext cx="8640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imes New Roman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55"/>
          <p:cNvPicPr/>
          <p:nvPr/>
        </p:nvPicPr>
        <p:blipFill>
          <a:blip r:embed="rId2"/>
          <a:stretch/>
        </p:blipFill>
        <p:spPr>
          <a:xfrm>
            <a:off x="5954760" y="3429000"/>
            <a:ext cx="3658680" cy="294588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>
            <a:hlinkClick r:id="rId3" action="ppaction://hlinksldjump"/>
          </p:cNvPr>
          <p:cNvSpPr/>
          <p:nvPr/>
        </p:nvSpPr>
        <p:spPr>
          <a:xfrm>
            <a:off x="835992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289080" y="1498680"/>
            <a:ext cx="772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4000" spc="-1" strike="noStrike"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1287000" y="520200"/>
            <a:ext cx="68029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юбить не устает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для нас печет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ные оладушки?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ша...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6"/>
          <p:cNvSpPr/>
          <p:nvPr/>
        </p:nvSpPr>
        <p:spPr>
          <a:xfrm>
            <a:off x="4572000" y="3429000"/>
            <a:ext cx="4571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  <a:ea typeface="Arial"/>
              </a:rPr>
              <a:t>Бабушк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Картинка 30 из 16174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52560" y="3429000"/>
            <a:ext cx="2412720" cy="31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0" descr="55"/>
          <p:cNvPicPr/>
          <p:nvPr/>
        </p:nvPicPr>
        <p:blipFill>
          <a:blip r:embed="rId1"/>
          <a:stretch/>
        </p:blipFill>
        <p:spPr>
          <a:xfrm>
            <a:off x="5954760" y="4383000"/>
            <a:ext cx="2284200" cy="229212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11">
            <a:hlinkClick r:id="rId2" action="ppaction://hlinksldjump"/>
          </p:cNvPr>
          <p:cNvSpPr/>
          <p:nvPr/>
        </p:nvSpPr>
        <p:spPr>
          <a:xfrm>
            <a:off x="823896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0" y="422280"/>
            <a:ext cx="18396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6000" spc="-1" strike="noStrike"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469800" y="412920"/>
            <a:ext cx="796248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рудился не от скуки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в мозолях руки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он стар и сед —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родной, любимый...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5657760" y="3308400"/>
            <a:ext cx="4571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дед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160"/>
          <p:cNvPicPr/>
          <p:nvPr/>
        </p:nvPicPr>
        <p:blipFill>
          <a:blip r:embed="rId3"/>
          <a:srcRect l="379" t="376" r="379" b="376"/>
          <a:stretch/>
        </p:blipFill>
        <p:spPr>
          <a:xfrm>
            <a:off x="952560" y="3902040"/>
            <a:ext cx="2352240" cy="2352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Картинка 29 из 1536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9800" y="3652920"/>
            <a:ext cx="3076200" cy="32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Рисунок5"/>
          <p:cNvPicPr/>
          <p:nvPr/>
        </p:nvPicPr>
        <p:blipFill>
          <a:blip r:embed="rId1"/>
          <a:stretch/>
        </p:blipFill>
        <p:spPr>
          <a:xfrm>
            <a:off x="0" y="4210200"/>
            <a:ext cx="2887200" cy="24080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>
            <a:hlinkClick r:id="rId2" action="ppaction://hlinksldjump"/>
          </p:cNvPr>
          <p:cNvSpPr/>
          <p:nvPr/>
        </p:nvSpPr>
        <p:spPr>
          <a:xfrm>
            <a:off x="723960" y="603360"/>
            <a:ext cx="8419680" cy="110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6600" spc="-1" strike="noStrike"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313" name="AutoShape 7">
            <a:hlinkClick r:id="rId3" action="ppaction://hlinksldjump"/>
          </p:cNvPr>
          <p:cNvSpPr/>
          <p:nvPr/>
        </p:nvSpPr>
        <p:spPr>
          <a:xfrm>
            <a:off x="8070840" y="590220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289080" y="473040"/>
            <a:ext cx="885456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учит гвоздь забить,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ст машину порулить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скажет, как быть смелым,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м, ловким и умелы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4" descr="Z_frage"/>
          <p:cNvPicPr/>
          <p:nvPr/>
        </p:nvPicPr>
        <p:blipFill>
          <a:blip r:embed="rId4"/>
          <a:stretch/>
        </p:blipFill>
        <p:spPr>
          <a:xfrm>
            <a:off x="7709040" y="412920"/>
            <a:ext cx="887040" cy="1026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Smily01"/>
          <p:cNvPicPr/>
          <p:nvPr/>
        </p:nvPicPr>
        <p:blipFill>
          <a:blip r:embed="rId5"/>
          <a:stretch/>
        </p:blipFill>
        <p:spPr>
          <a:xfrm>
            <a:off x="303120" y="5052960"/>
            <a:ext cx="1742760" cy="1525320"/>
          </a:xfrm>
          <a:prstGeom prst="rect">
            <a:avLst/>
          </a:prstGeom>
          <a:ln w="0">
            <a:noFill/>
          </a:ln>
        </p:spPr>
      </p:pic>
      <p:sp>
        <p:nvSpPr>
          <p:cNvPr id="317" name="TextBox 7"/>
          <p:cNvSpPr/>
          <p:nvPr/>
        </p:nvSpPr>
        <p:spPr>
          <a:xfrm>
            <a:off x="4873680" y="3549600"/>
            <a:ext cx="2714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пап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30800" y="3790800"/>
            <a:ext cx="30762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  <a:ea typeface="Arial"/>
              </a:rPr>
              <a:t>сестра   </a:t>
            </a:r>
            <a:endParaRPr b="0" lang="ru-RU" sz="6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875952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  <a:ea typeface="Arial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с папой говорят,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еперь я — старший брат,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куколка в коляск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чет? Видимо, от тряски? </a:t>
            </a:r>
            <a:br>
              <a:rPr sz="4400"/>
            </a:b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320" name="Picture 7" descr="55"/>
          <p:cNvPicPr/>
          <p:nvPr/>
        </p:nvPicPr>
        <p:blipFill>
          <a:blip r:embed="rId1"/>
          <a:stretch/>
        </p:blipFill>
        <p:spPr>
          <a:xfrm>
            <a:off x="6321600" y="4514760"/>
            <a:ext cx="1934640" cy="15584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9">
            <a:hlinkClick r:id="rId2" action="ppaction://hlinksldjump"/>
          </p:cNvPr>
          <p:cNvSpPr/>
          <p:nvPr/>
        </p:nvSpPr>
        <p:spPr>
          <a:xfrm>
            <a:off x="8299440" y="58942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22" name="Picture 7" descr="http://www.otoys.ru/picturesNew/madame_alexander/b_46130.jpg"/>
          <p:cNvPicPr/>
          <p:nvPr/>
        </p:nvPicPr>
        <p:blipFill>
          <a:blip r:embed="rId3"/>
          <a:stretch/>
        </p:blipFill>
        <p:spPr>
          <a:xfrm>
            <a:off x="530280" y="3610080"/>
            <a:ext cx="2653920" cy="26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24" name="AutoShape 10">
            <a:hlinkClick r:id="rId1" action="ppaction://hlinksldjump"/>
          </p:cNvPr>
          <p:cNvSpPr/>
          <p:nvPr/>
        </p:nvSpPr>
        <p:spPr>
          <a:xfrm>
            <a:off x="823896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25" name="TextBox 7"/>
          <p:cNvSpPr/>
          <p:nvPr/>
        </p:nvSpPr>
        <p:spPr>
          <a:xfrm>
            <a:off x="243000" y="955800"/>
            <a:ext cx="8900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7200" spc="-1" strike="noStrike">
                <a:solidFill>
                  <a:srgbClr val="800000"/>
                </a:solidFill>
                <a:latin typeface="Arial"/>
                <a:ea typeface="Arial"/>
              </a:rPr>
              <a:t>ямьс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4511520" y="4152960"/>
            <a:ext cx="3317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  <a:ea typeface="Arial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мои рисунки 3251"/>
          <p:cNvPicPr/>
          <p:nvPr/>
        </p:nvPicPr>
        <p:blipFill>
          <a:blip r:embed="rId2"/>
          <a:stretch/>
        </p:blipFill>
        <p:spPr>
          <a:xfrm>
            <a:off x="711360" y="4152960"/>
            <a:ext cx="244764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>
            <a:hlinkClick r:id="rId1" action="ppaction://hlinksldjump"/>
          </p:cNvPr>
          <p:cNvSpPr/>
          <p:nvPr/>
        </p:nvSpPr>
        <p:spPr>
          <a:xfrm>
            <a:off x="503280" y="533520"/>
            <a:ext cx="86403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редоили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330" name="Object 5"/>
          <p:cNvGraphicFramePr/>
          <p:nvPr/>
        </p:nvGraphicFramePr>
        <p:xfrm>
          <a:off x="3908520" y="1558800"/>
          <a:ext cx="126720" cy="286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Object 5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8520" y="1558800"/>
                    <a:ext cx="126720" cy="28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0"/>
          <p:cNvGraphicFramePr/>
          <p:nvPr/>
        </p:nvGraphicFramePr>
        <p:xfrm>
          <a:off x="4089240" y="2781360"/>
          <a:ext cx="914040" cy="19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89240" y="2781360"/>
                    <a:ext cx="914040" cy="19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AutoShape 12">
            <a:hlinkClick r:id="rId7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5" name="Прямоугольник 9"/>
          <p:cNvSpPr/>
          <p:nvPr/>
        </p:nvSpPr>
        <p:spPr>
          <a:xfrm>
            <a:off x="4352040" y="3971880"/>
            <a:ext cx="4530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  <a:ea typeface="Arial"/>
              </a:rPr>
              <a:t>родител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8" descr="160"/>
          <p:cNvPicPr/>
          <p:nvPr/>
        </p:nvPicPr>
        <p:blipFill>
          <a:blip r:embed="rId8"/>
          <a:srcRect l="379" t="376" r="379" b="376"/>
          <a:stretch/>
        </p:blipFill>
        <p:spPr>
          <a:xfrm>
            <a:off x="7709040" y="291960"/>
            <a:ext cx="1085400" cy="1085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Картинка 12 из 21254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0280" y="3790800"/>
            <a:ext cx="29430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9" name="WordArt 8"/>
          <p:cNvSpPr txBox="1"/>
          <p:nvPr/>
        </p:nvSpPr>
        <p:spPr>
          <a:xfrm>
            <a:off x="663480" y="2346480"/>
            <a:ext cx="6852960" cy="2831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Times New Roman"/>
                <a:ea typeface="Arial"/>
              </a:rPr>
              <a:t> 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sp>
        <p:nvSpPr>
          <p:cNvPr id="340" name="AutoShape 9">
            <a:hlinkClick r:id="rId1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685880" y="1023840"/>
            <a:ext cx="37033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  <a:ea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482760" y="1324080"/>
            <a:ext cx="811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Arial"/>
              </a:rPr>
              <a:t> </a:t>
            </a:r>
            <a:br>
              <a:rPr sz="5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6120" y="774720"/>
            <a:ext cx="886752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        </a:t>
            </a:r>
            <a:r>
              <a:rPr b="1" lang="ru-RU" sz="7200" spc="-1" strike="noStrike">
                <a:solidFill>
                  <a:srgbClr val="800000"/>
                </a:solidFill>
                <a:latin typeface="Arial"/>
                <a:ea typeface="Arial"/>
              </a:rPr>
              <a:t>лауц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5792760" y="3911760"/>
            <a:ext cx="26758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ули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1" descr="Картинка 14 из 708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9800" y="3911760"/>
            <a:ext cx="33652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55"/>
          <p:cNvPicPr/>
          <p:nvPr/>
        </p:nvPicPr>
        <p:blipFill>
          <a:blip r:embed="rId1"/>
          <a:stretch/>
        </p:blipFill>
        <p:spPr>
          <a:xfrm>
            <a:off x="5775480" y="4511520"/>
            <a:ext cx="2388960" cy="192384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9">
            <a:hlinkClick r:id="rId2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349200" y="593640"/>
            <a:ext cx="85532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6600" spc="-1" strike="noStrike">
                <a:solidFill>
                  <a:srgbClr val="800000"/>
                </a:solidFill>
                <a:latin typeface="Arial"/>
                <a:ea typeface="Arial"/>
              </a:rPr>
              <a:t>Баду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3380400" y="4394160"/>
            <a:ext cx="2855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  <a:ea typeface="Arial"/>
              </a:rPr>
              <a:t>судь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160"/>
          <p:cNvPicPr/>
          <p:nvPr/>
        </p:nvPicPr>
        <p:blipFill>
          <a:blip r:embed="rId1"/>
          <a:srcRect l="379" t="376" r="379" b="376"/>
          <a:stretch/>
        </p:blipFill>
        <p:spPr>
          <a:xfrm>
            <a:off x="7162920" y="5118120"/>
            <a:ext cx="1739520" cy="173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2"/>
          <a:stretch/>
        </p:blipFill>
        <p:spPr>
          <a:xfrm>
            <a:off x="0" y="214200"/>
            <a:ext cx="5714640" cy="124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160"/>
          <p:cNvPicPr/>
          <p:nvPr/>
        </p:nvPicPr>
        <p:blipFill>
          <a:blip r:embed="rId3"/>
          <a:srcRect l="379" t="376" r="379" b="376"/>
          <a:stretch/>
        </p:blipFill>
        <p:spPr>
          <a:xfrm>
            <a:off x="7165800" y="5118120"/>
            <a:ext cx="1739520" cy="17395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530280" y="714240"/>
            <a:ext cx="826416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я – самое главное в жизни для каждого из нас. Семья – это близкие и родные люди, те, кого мы любим, с кого берем пример, о ком заботимся, кому желаем добра и счастья. Именно в семье мы учимся любви, ответственности,   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те и уваж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Рисунок5"/>
          <p:cNvPicPr/>
          <p:nvPr/>
        </p:nvPicPr>
        <p:blipFill>
          <a:blip r:embed="rId1"/>
          <a:stretch/>
        </p:blipFill>
        <p:spPr>
          <a:xfrm>
            <a:off x="0" y="4800600"/>
            <a:ext cx="2466720" cy="2057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Smily01"/>
          <p:cNvPicPr/>
          <p:nvPr/>
        </p:nvPicPr>
        <p:blipFill>
          <a:blip r:embed="rId2"/>
          <a:stretch/>
        </p:blipFill>
        <p:spPr>
          <a:xfrm>
            <a:off x="303120" y="5541840"/>
            <a:ext cx="1503000" cy="13158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1"/>
          <p:cNvSpPr/>
          <p:nvPr/>
        </p:nvSpPr>
        <p:spPr>
          <a:xfrm>
            <a:off x="530280" y="714240"/>
            <a:ext cx="78163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  <a:ea typeface="Arial"/>
              </a:rPr>
              <a:t>        </a:t>
            </a:r>
            <a:r>
              <a:rPr b="0" lang="ru-RU" sz="6000" spc="-1" strike="noStrike">
                <a:solidFill>
                  <a:srgbClr val="800000"/>
                </a:solidFill>
                <a:latin typeface="Arial"/>
                <a:ea typeface="Arial"/>
              </a:rPr>
              <a:t>Беёркн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7">
            <a:hlinkClick r:id="rId3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5293800" y="4092480"/>
            <a:ext cx="3829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Ребёно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Картинка 33 из 21254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3613320"/>
            <a:ext cx="3244320" cy="32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>
            <a:hlinkClick r:id="rId1" action="ppaction://hlinksldjump"/>
          </p:cNvPr>
          <p:cNvSpPr/>
          <p:nvPr/>
        </p:nvSpPr>
        <p:spPr>
          <a:xfrm>
            <a:off x="289080" y="412920"/>
            <a:ext cx="864036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кажите лишний напит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а-кол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жом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та, лимона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>
            <a:hlinkClick r:id="rId2" action="ppaction://hlinksldjump"/>
          </p:cNvPr>
          <p:cNvSpPr/>
          <p:nvPr/>
        </p:nvSpPr>
        <p:spPr>
          <a:xfrm>
            <a:off x="812016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2641680" y="4635360"/>
            <a:ext cx="6501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Морс – негазированный напи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Картинка 6 из 1566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69160" y="3247920"/>
            <a:ext cx="783720" cy="1472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http://cs10970.vkontakte.ru/u57833273/121214881/x_66cc72e4.jpg"/>
          <p:cNvPicPr/>
          <p:nvPr/>
        </p:nvPicPr>
        <p:blipFill>
          <a:blip r:embed="rId5"/>
          <a:stretch/>
        </p:blipFill>
        <p:spPr>
          <a:xfrm>
            <a:off x="7467480" y="1076400"/>
            <a:ext cx="1447560" cy="2004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Картинка 1 из 10824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59440" y="1257480"/>
            <a:ext cx="1334880" cy="2542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Картинка 5 из 16545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49720" y="1076400"/>
            <a:ext cx="15076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>
            <a:hlinkClick r:id="rId1" action="ppaction://hlinksldjump"/>
          </p:cNvPr>
          <p:cNvSpPr/>
          <p:nvPr/>
        </p:nvSpPr>
        <p:spPr>
          <a:xfrm>
            <a:off x="503280" y="1015920"/>
            <a:ext cx="8640360" cy="152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оставить из букв название блю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Arial"/>
              </a:rPr>
              <a:t>А Я Ц И Н Ч И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>
            <a:hlinkClick r:id="rId2" action="ppaction://hlinksldjump"/>
          </p:cNvPr>
          <p:cNvSpPr/>
          <p:nvPr/>
        </p:nvSpPr>
        <p:spPr>
          <a:xfrm>
            <a:off x="812016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5613480" y="3730680"/>
            <a:ext cx="3049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яич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http://news.arvo.ua/content/news/7ygjtvv32nr6d5dx5w.gif"/>
          <p:cNvPicPr/>
          <p:nvPr/>
        </p:nvPicPr>
        <p:blipFill>
          <a:blip r:embed="rId3"/>
          <a:stretch/>
        </p:blipFill>
        <p:spPr>
          <a:xfrm>
            <a:off x="469800" y="3429000"/>
            <a:ext cx="3003120" cy="30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>
            <a:hlinkClick r:id="rId1" action="ppaction://hlinksldjump"/>
          </p:cNvPr>
          <p:cNvSpPr/>
          <p:nvPr/>
        </p:nvSpPr>
        <p:spPr>
          <a:xfrm>
            <a:off x="952560" y="593640"/>
            <a:ext cx="73339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ить слово, которым заканчивается первое и начинается второе слово: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ВО(…)АЛИК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8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09680" y="4514760"/>
            <a:ext cx="84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3908520" y="4695840"/>
            <a:ext cx="1977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Рог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7" descr="55"/>
          <p:cNvPicPr/>
          <p:nvPr/>
        </p:nvPicPr>
        <p:blipFill>
          <a:blip r:embed="rId2"/>
          <a:stretch/>
        </p:blipFill>
        <p:spPr>
          <a:xfrm>
            <a:off x="5954760" y="3429000"/>
            <a:ext cx="3658680" cy="294588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8">
            <a:hlinkClick r:id="rId3" action="ppaction://hlinksldjump"/>
          </p:cNvPr>
          <p:cNvSpPr/>
          <p:nvPr/>
        </p:nvSpPr>
        <p:spPr>
          <a:xfrm>
            <a:off x="8070840" y="613872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55"/>
          <p:cNvPicPr/>
          <p:nvPr/>
        </p:nvPicPr>
        <p:blipFill>
          <a:blip r:embed="rId1"/>
          <a:stretch/>
        </p:blipFill>
        <p:spPr>
          <a:xfrm>
            <a:off x="5954760" y="4572000"/>
            <a:ext cx="2239560" cy="180288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7">
            <a:hlinkClick r:id="rId2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0" y="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880" y="723960"/>
            <a:ext cx="83005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771480" y="533520"/>
            <a:ext cx="790236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название продукта, необходимого для приготовления блю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(…)НИ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3848040" y="4454640"/>
            <a:ext cx="2472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со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e-salt.ru/userdata/data/price/129.jpg"/>
          <p:cNvPicPr/>
          <p:nvPr/>
        </p:nvPicPr>
        <p:blipFill>
          <a:blip r:embed="rId3"/>
          <a:stretch/>
        </p:blipFill>
        <p:spPr>
          <a:xfrm>
            <a:off x="530280" y="2584440"/>
            <a:ext cx="2371320" cy="39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2"/>
          <p:cNvSpPr/>
          <p:nvPr/>
        </p:nvSpPr>
        <p:spPr>
          <a:xfrm>
            <a:off x="590400" y="774720"/>
            <a:ext cx="81435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из букв название блю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  <a:ea typeface="Arial"/>
              </a:rPr>
              <a:t>НСРЫИК.</a:t>
            </a:r>
            <a:r>
              <a:rPr b="0" i="1" lang="ru-RU" sz="5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7">
            <a:hlinkClick r:id="rId1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4390920" y="3610080"/>
            <a:ext cx="36190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сырн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9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Group 111"/>
          <p:cNvGraphicFramePr/>
          <p:nvPr/>
        </p:nvGraphicFramePr>
        <p:xfrm>
          <a:off x="0" y="1015920"/>
          <a:ext cx="9143640" cy="5109840"/>
        </p:xfrm>
        <a:graphic>
          <a:graphicData uri="http://schemas.openxmlformats.org/drawingml/2006/table">
            <a:tbl>
              <a:tblPr/>
              <a:tblGrid>
                <a:gridCol w="3336840"/>
                <a:gridCol w="1060200"/>
                <a:gridCol w="1207800"/>
                <a:gridCol w="1209600"/>
                <a:gridCol w="1207800"/>
                <a:gridCol w="1120680"/>
              </a:tblGrid>
              <a:tr h="1204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«Устами младенца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3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0"/>
                        </a:spcBef>
                        <a:tabLst>
                          <a:tab algn="l" pos="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Герои сказ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93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Родственные отнош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458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0"/>
                        </a:spcBef>
                        <a:tabLst>
                          <a:tab algn="l" pos="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Ребу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83" name="Text Box 39">
            <a:hlinkClick r:id="rId1" action="ppaction://hlinksldjump"/>
          </p:cNvPr>
          <p:cNvSpPr/>
          <p:nvPr/>
        </p:nvSpPr>
        <p:spPr>
          <a:xfrm>
            <a:off x="3368520" y="108432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0">
            <a:hlinkClick r:id="rId3" action="ppaction://hlinksldjump"/>
          </p:cNvPr>
          <p:cNvSpPr/>
          <p:nvPr/>
        </p:nvSpPr>
        <p:spPr>
          <a:xfrm>
            <a:off x="4500720" y="105264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1">
            <a:hlinkClick r:id="rId5" action="ppaction://hlinksldjump"/>
          </p:cNvPr>
          <p:cNvSpPr/>
          <p:nvPr/>
        </p:nvSpPr>
        <p:spPr>
          <a:xfrm>
            <a:off x="5651640" y="1052640"/>
            <a:ext cx="1007640" cy="63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6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2">
            <a:hlinkClick r:id="rId7" action="ppaction://hlinksldjump"/>
          </p:cNvPr>
          <p:cNvSpPr/>
          <p:nvPr/>
        </p:nvSpPr>
        <p:spPr>
          <a:xfrm>
            <a:off x="6804000" y="105264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3">
            <a:hlinkClick r:id="rId9" action="ppaction://hlinksldjump"/>
          </p:cNvPr>
          <p:cNvSpPr/>
          <p:nvPr/>
        </p:nvSpPr>
        <p:spPr>
          <a:xfrm>
            <a:off x="7885080" y="105264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4">
            <a:hlinkClick r:id="rId11" action="ppaction://hlinksldjump"/>
          </p:cNvPr>
          <p:cNvSpPr/>
          <p:nvPr/>
        </p:nvSpPr>
        <p:spPr>
          <a:xfrm>
            <a:off x="334800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5">
            <a:hlinkClick r:id="rId13" action="ppaction://hlinksldjump"/>
          </p:cNvPr>
          <p:cNvSpPr/>
          <p:nvPr/>
        </p:nvSpPr>
        <p:spPr>
          <a:xfrm>
            <a:off x="450072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6">
            <a:hlinkClick r:id="rId15" action="ppaction://hlinksldjump"/>
          </p:cNvPr>
          <p:cNvSpPr/>
          <p:nvPr/>
        </p:nvSpPr>
        <p:spPr>
          <a:xfrm>
            <a:off x="565164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7">
            <a:hlinkClick r:id="rId17" action="ppaction://hlinksldjump"/>
          </p:cNvPr>
          <p:cNvSpPr/>
          <p:nvPr/>
        </p:nvSpPr>
        <p:spPr>
          <a:xfrm>
            <a:off x="679608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8">
            <a:hlinkClick r:id="rId19" action="ppaction://hlinksldjump"/>
          </p:cNvPr>
          <p:cNvSpPr/>
          <p:nvPr/>
        </p:nvSpPr>
        <p:spPr>
          <a:xfrm>
            <a:off x="787860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9">
            <a:hlinkClick r:id="rId21" action="ppaction://hlinksldjump"/>
          </p:cNvPr>
          <p:cNvSpPr/>
          <p:nvPr/>
        </p:nvSpPr>
        <p:spPr>
          <a:xfrm>
            <a:off x="3348000" y="36450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0">
            <a:hlinkClick r:id="rId23" action="ppaction://hlinksldjump"/>
          </p:cNvPr>
          <p:cNvSpPr/>
          <p:nvPr/>
        </p:nvSpPr>
        <p:spPr>
          <a:xfrm>
            <a:off x="4451400" y="3670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1">
            <a:hlinkClick r:id="rId25" action="ppaction://hlinksldjump"/>
          </p:cNvPr>
          <p:cNvSpPr/>
          <p:nvPr/>
        </p:nvSpPr>
        <p:spPr>
          <a:xfrm>
            <a:off x="5594400" y="3670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2">
            <a:hlinkClick r:id="rId27" action="ppaction://hlinksldjump"/>
          </p:cNvPr>
          <p:cNvSpPr/>
          <p:nvPr/>
        </p:nvSpPr>
        <p:spPr>
          <a:xfrm>
            <a:off x="6804000" y="36450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3">
            <a:hlinkClick r:id="rId29" action="ppaction://hlinksldjump"/>
          </p:cNvPr>
          <p:cNvSpPr/>
          <p:nvPr/>
        </p:nvSpPr>
        <p:spPr>
          <a:xfrm>
            <a:off x="7885080" y="36450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3348000" y="4948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1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5">
            <a:hlinkClick r:id="rId32" action="ppaction://hlinksldjump"/>
          </p:cNvPr>
          <p:cNvSpPr/>
          <p:nvPr/>
        </p:nvSpPr>
        <p:spPr>
          <a:xfrm>
            <a:off x="4451400" y="49323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6"/>
          <p:cNvSpPr/>
          <p:nvPr/>
        </p:nvSpPr>
        <p:spPr>
          <a:xfrm>
            <a:off x="5651640" y="4948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7">
            <a:hlinkClick r:id="rId35" action="ppaction://hlinksldjump"/>
          </p:cNvPr>
          <p:cNvSpPr/>
          <p:nvPr/>
        </p:nvSpPr>
        <p:spPr>
          <a:xfrm>
            <a:off x="6804000" y="4948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8">
            <a:hlinkClick r:id="rId37" action="ppaction://hlinksldjump"/>
          </p:cNvPr>
          <p:cNvSpPr/>
          <p:nvPr/>
        </p:nvSpPr>
        <p:spPr>
          <a:xfrm>
            <a:off x="7885080" y="4948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62">
            <a:hlinkClick r:id="rId39" action="ppaction://hlinksldjump"/>
          </p:cNvPr>
          <p:cNvSpPr/>
          <p:nvPr/>
        </p:nvSpPr>
        <p:spPr>
          <a:xfrm>
            <a:off x="5778360" y="6308640"/>
            <a:ext cx="3365280" cy="549000"/>
          </a:xfrm>
          <a:prstGeom prst="actionButtonBlank">
            <a:avLst/>
          </a:prstGeom>
          <a:gradFill rotWithShape="0">
            <a:gsLst>
              <a:gs pos="0">
                <a:srgbClr val="e6e6e6"/>
              </a:gs>
              <a:gs pos="100000">
                <a:srgbClr val="7d8496"/>
              </a:gs>
            </a:gsLst>
            <a:lin ang="27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Baskerville Win95BT"/>
                <a:ea typeface="Arial"/>
                <a:hlinkClick r:id="rId40" action="ppaction://hlinksldjump"/>
              </a:rPr>
              <a:t>Финальны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3"/>
          <p:cNvSpPr/>
          <p:nvPr/>
        </p:nvSpPr>
        <p:spPr>
          <a:xfrm>
            <a:off x="0" y="0"/>
            <a:ext cx="9143640" cy="9126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2 Т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delay="0" evt="onClick">
                    <p:tgtEl>
                      <p:spTgt spid="385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delay="0" evt="onClick">
                    <p:tgtEl>
                      <p:spTgt spid="383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delay="0"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delay="0" evt="onClick">
                    <p:tgtEl>
                      <p:spTgt spid="386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delay="0"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delay="0" evt="onClick">
                    <p:tgtEl>
                      <p:spTgt spid="387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delay="0"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delay="0" evt="onClick">
                    <p:tgtEl>
                      <p:spTgt spid="388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delay="0"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delay="0" evt="onClick">
                    <p:tgtEl>
                      <p:spTgt spid="389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delay="0"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3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delay="0" evt="onClick">
                    <p:tgtEl>
                      <p:spTgt spid="390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delay="0"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delay="0" evt="onClick">
                    <p:tgtEl>
                      <p:spTgt spid="392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delay="0"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delay="0" evt="onClick">
                    <p:tgtEl>
                      <p:spTgt spid="391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delay="0"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delay="0" evt="onClick">
                    <p:tgtEl>
                      <p:spTgt spid="402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delay="0"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4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delay="0" evt="onClick">
                    <p:tgtEl>
                      <p:spTgt spid="401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delay="0"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delay="0" evt="onClick">
                    <p:tgtEl>
                      <p:spTgt spid="400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delay="0"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delay="0" evt="onClick">
                    <p:tgtEl>
                      <p:spTgt spid="399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delay="0"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delay="0" evt="onClick">
                    <p:tgtEl>
                      <p:spTgt spid="398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delay="0"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delay="0" evt="onClick">
                    <p:tgtEl>
                      <p:spTgt spid="397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delay="0"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delay="0" evt="onClick">
                    <p:tgtEl>
                      <p:spTgt spid="396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delay="0"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delay="0" evt="onClick">
                    <p:tgtEl>
                      <p:spTgt spid="395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delay="0"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delay="0" evt="onClick">
                    <p:tgtEl>
                      <p:spTgt spid="394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7">
            <a:hlinkClick r:id="rId1" action="ppaction://hlinksldjump"/>
          </p:cNvPr>
          <p:cNvSpPr/>
          <p:nvPr/>
        </p:nvSpPr>
        <p:spPr>
          <a:xfrm>
            <a:off x="835992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831960" y="1679400"/>
            <a:ext cx="7540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гда все вместе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папа, бабушка, дедуш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175360" y="3429000"/>
            <a:ext cx="2835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м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5" descr="семья у телика"/>
          <p:cNvPicPr/>
          <p:nvPr/>
        </p:nvPicPr>
        <p:blipFill>
          <a:blip r:embed="rId2"/>
          <a:stretch/>
        </p:blipFill>
        <p:spPr>
          <a:xfrm>
            <a:off x="530280" y="3670200"/>
            <a:ext cx="3315960" cy="25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8">
            <a:hlinkClick r:id="rId1" action="ppaction://hlinksldjump"/>
          </p:cNvPr>
          <p:cNvSpPr/>
          <p:nvPr/>
        </p:nvSpPr>
        <p:spPr>
          <a:xfrm>
            <a:off x="8496360" y="613872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469800" y="2041560"/>
            <a:ext cx="8083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это самое дорогое, ее берегут, передают из поколения в покол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2911680" y="3971880"/>
            <a:ext cx="5734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мейная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лик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://www.zbilet.ru/images/upload/events/neznaika.jpg"/>
          <p:cNvPicPr/>
          <p:nvPr/>
        </p:nvPicPr>
        <p:blipFill>
          <a:blip r:embed="rId2"/>
          <a:stretch/>
        </p:blipFill>
        <p:spPr>
          <a:xfrm>
            <a:off x="6864480" y="6541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cs5715.userapi.com/u6639745/-14/x_e68bc153.jpg"/>
          <p:cNvPicPr/>
          <p:nvPr/>
        </p:nvPicPr>
        <p:blipFill>
          <a:blip r:embed="rId3"/>
          <a:stretch/>
        </p:blipFill>
        <p:spPr>
          <a:xfrm>
            <a:off x="590400" y="3971880"/>
            <a:ext cx="24127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14">
            <a:hlinkClick r:id="rId1" action="ppaction://hlinksldjump"/>
          </p:cNvPr>
          <p:cNvSpPr/>
          <p:nvPr/>
        </p:nvSpPr>
        <p:spPr>
          <a:xfrm>
            <a:off x="8120160" y="5834160"/>
            <a:ext cx="887040" cy="8395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542880" y="1625760"/>
            <a:ext cx="79974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нежный, самый добрый, самый любимый человек для всех людей на Земл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7"/>
          <p:cNvSpPr/>
          <p:nvPr/>
        </p:nvSpPr>
        <p:spPr>
          <a:xfrm>
            <a:off x="5608440" y="3730680"/>
            <a:ext cx="1970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9" descr="семья "/>
          <p:cNvPicPr/>
          <p:nvPr/>
        </p:nvPicPr>
        <p:blipFill>
          <a:blip r:embed="rId2"/>
          <a:stretch/>
        </p:blipFill>
        <p:spPr>
          <a:xfrm>
            <a:off x="590400" y="3911760"/>
            <a:ext cx="229212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758880" y="835200"/>
            <a:ext cx="8384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Семья – это то, что мы делим на всех,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Всем понемножку: и слезы и смех,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Взлет и падение, радость, печаль,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Дружбу и ссоры, молчанья печать.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Семья – это то, что с тобою всегда.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Пусть мчатся секунды, недели, года, 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Но стены родные, отчий твой дом – 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Сердце навеки останется в нем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 rot="20940000">
            <a:off x="-127080" y="-201600"/>
            <a:ext cx="5714640" cy="124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160"/>
          <p:cNvPicPr/>
          <p:nvPr/>
        </p:nvPicPr>
        <p:blipFill>
          <a:blip r:embed="rId2"/>
          <a:srcRect l="379" t="376" r="379" b="376"/>
          <a:stretch/>
        </p:blipFill>
        <p:spPr>
          <a:xfrm>
            <a:off x="7286760" y="5118120"/>
            <a:ext cx="1558440" cy="155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>
            <a:hlinkClick r:id="rId1" action="ppaction://hlinksldjump"/>
          </p:cNvPr>
          <p:cNvSpPr/>
          <p:nvPr/>
        </p:nvSpPr>
        <p:spPr>
          <a:xfrm>
            <a:off x="182520" y="2166840"/>
            <a:ext cx="864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ru-RU" sz="6000" spc="-1" strike="noStrike">
              <a:solidFill>
                <a:srgbClr val="ff0000"/>
              </a:solidFill>
              <a:latin typeface="Times New Roman"/>
              <a:ea typeface="Arial"/>
            </a:endParaRPr>
          </a:p>
        </p:txBody>
      </p:sp>
      <p:pic>
        <p:nvPicPr>
          <p:cNvPr id="419" name="Picture 4" descr="Z_frage"/>
          <p:cNvPicPr/>
          <p:nvPr/>
        </p:nvPicPr>
        <p:blipFill>
          <a:blip r:embed="rId2"/>
          <a:stretch/>
        </p:blipFill>
        <p:spPr>
          <a:xfrm>
            <a:off x="723960" y="505296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7">
            <a:hlinkClick r:id="rId3" action="ppaction://hlinksldjump"/>
          </p:cNvPr>
          <p:cNvSpPr/>
          <p:nvPr/>
        </p:nvSpPr>
        <p:spPr>
          <a:xfrm>
            <a:off x="835992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275040" y="1860480"/>
            <a:ext cx="8832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, где мы бываем все вмест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5668200" y="3247920"/>
            <a:ext cx="198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  <a:ea typeface="Arial"/>
              </a:rPr>
              <a:t>д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8" descr="домик"/>
          <p:cNvPicPr/>
          <p:nvPr/>
        </p:nvPicPr>
        <p:blipFill>
          <a:blip r:embed="rId4"/>
          <a:stretch/>
        </p:blipFill>
        <p:spPr>
          <a:xfrm>
            <a:off x="590400" y="2946240"/>
            <a:ext cx="2774520" cy="34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469800" y="1197000"/>
            <a:ext cx="8264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акое маленькое, пищащее, доставляющее много хлопот, но его все равно любя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71800" y="3308400"/>
            <a:ext cx="35704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ребён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160"/>
          <p:cNvPicPr/>
          <p:nvPr/>
        </p:nvPicPr>
        <p:blipFill>
          <a:blip r:embed="rId1"/>
          <a:srcRect l="379" t="376" r="379" b="376"/>
          <a:stretch/>
        </p:blipFill>
        <p:spPr>
          <a:xfrm>
            <a:off x="4692600" y="4575240"/>
            <a:ext cx="1739520" cy="173952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6">
            <a:hlinkClick r:id="rId2" action="ppaction://hlinksldjump"/>
          </p:cNvPr>
          <p:cNvSpPr/>
          <p:nvPr/>
        </p:nvSpPr>
        <p:spPr>
          <a:xfrm>
            <a:off x="8070840" y="5781600"/>
            <a:ext cx="647280" cy="60300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Z_frage"/>
          <p:cNvPicPr/>
          <p:nvPr/>
        </p:nvPicPr>
        <p:blipFill>
          <a:blip r:embed="rId1"/>
          <a:stretch/>
        </p:blipFill>
        <p:spPr>
          <a:xfrm>
            <a:off x="7588080" y="71424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6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831960" y="412920"/>
            <a:ext cx="7480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арём шагает в шк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мальчуг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ет вместо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отняный балаг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ётся эта книж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ётся сам мальчиш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http://www.prozagadki.ru/uploads/posts/2010-02/1266512670_1.jpg"/>
          <p:cNvPicPr/>
          <p:nvPr/>
        </p:nvPicPr>
        <p:blipFill>
          <a:blip r:embed="rId3"/>
          <a:stretch/>
        </p:blipFill>
        <p:spPr>
          <a:xfrm>
            <a:off x="4330800" y="4092480"/>
            <a:ext cx="2472840" cy="24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2046240" y="2406600"/>
            <a:ext cx="4509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66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3" name="Picture 5" descr="Z_frage"/>
          <p:cNvPicPr/>
          <p:nvPr/>
        </p:nvPicPr>
        <p:blipFill>
          <a:blip r:embed="rId1"/>
          <a:stretch/>
        </p:blipFill>
        <p:spPr>
          <a:xfrm>
            <a:off x="7532640" y="533520"/>
            <a:ext cx="1076040" cy="102528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8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35" name="Прямоугольник 5"/>
          <p:cNvSpPr/>
          <p:nvPr/>
        </p:nvSpPr>
        <p:spPr>
          <a:xfrm>
            <a:off x="650880" y="412920"/>
            <a:ext cx="7721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леса, на опушке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е их живет в избушке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три стула и три кружки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кроватки, три подушки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 без подсказки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герои этой сказ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http://s58.radikal.ru/i161/1104/84/c2ec8be6f046.jpg"/>
          <p:cNvPicPr/>
          <p:nvPr/>
        </p:nvPicPr>
        <p:blipFill>
          <a:blip r:embed="rId3"/>
          <a:stretch/>
        </p:blipFill>
        <p:spPr>
          <a:xfrm>
            <a:off x="4572000" y="4032360"/>
            <a:ext cx="3558960" cy="25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AutoShape 6">
            <a:hlinkClick r:id="rId1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38" name="Прямоугольник 6"/>
          <p:cNvSpPr/>
          <p:nvPr/>
        </p:nvSpPr>
        <p:spPr>
          <a:xfrm>
            <a:off x="771480" y="352440"/>
            <a:ext cx="819108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книжке – именины, 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было там г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этих имени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ся вдруг зло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тел убить хозяй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ть её не погуб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оварному злод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голову срубил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8" descr="http://www.baby.ru/storage/a/5/6/2/328881.260696.gif"/>
          <p:cNvPicPr/>
          <p:nvPr/>
        </p:nvPicPr>
        <p:blipFill>
          <a:blip r:embed="rId2"/>
          <a:stretch/>
        </p:blipFill>
        <p:spPr>
          <a:xfrm>
            <a:off x="5537160" y="2825640"/>
            <a:ext cx="3354120" cy="30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Рисунок5"/>
          <p:cNvPicPr/>
          <p:nvPr/>
        </p:nvPicPr>
        <p:blipFill>
          <a:blip r:embed="rId1"/>
          <a:stretch/>
        </p:blipFill>
        <p:spPr>
          <a:xfrm>
            <a:off x="0" y="4449600"/>
            <a:ext cx="2887200" cy="240804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4">
            <a:hlinkClick r:id="rId2" action="ppaction://hlinksldjump"/>
          </p:cNvPr>
          <p:cNvSpPr/>
          <p:nvPr/>
        </p:nvSpPr>
        <p:spPr>
          <a:xfrm>
            <a:off x="8496360" y="613872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42" name="Picture 3" descr="Smily01"/>
          <p:cNvPicPr/>
          <p:nvPr/>
        </p:nvPicPr>
        <p:blipFill>
          <a:blip r:embed="rId3"/>
          <a:stretch/>
        </p:blipFill>
        <p:spPr>
          <a:xfrm>
            <a:off x="303120" y="5292720"/>
            <a:ext cx="1785600" cy="1564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Z_frage"/>
          <p:cNvPicPr/>
          <p:nvPr/>
        </p:nvPicPr>
        <p:blipFill>
          <a:blip r:embed="rId4"/>
          <a:stretch/>
        </p:blipFill>
        <p:spPr>
          <a:xfrm>
            <a:off x="7407360" y="231840"/>
            <a:ext cx="1380600" cy="1599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7"/>
          <p:cNvSpPr/>
          <p:nvPr/>
        </p:nvSpPr>
        <p:spPr>
          <a:xfrm>
            <a:off x="590400" y="533520"/>
            <a:ext cx="7395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иреневый такой,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ет весело рукой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валился к нам с луны –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любят малы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http://cs4555.userapi.com/u57411659/92181218/x_b9307b0e.jpg"/>
          <p:cNvPicPr/>
          <p:nvPr/>
        </p:nvPicPr>
        <p:blipFill>
          <a:blip r:embed="rId5"/>
          <a:stretch/>
        </p:blipFill>
        <p:spPr>
          <a:xfrm>
            <a:off x="3787920" y="3247920"/>
            <a:ext cx="459072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Рисунок5"/>
          <p:cNvPicPr/>
          <p:nvPr/>
        </p:nvPicPr>
        <p:blipFill>
          <a:blip r:embed="rId1"/>
          <a:stretch/>
        </p:blipFill>
        <p:spPr>
          <a:xfrm>
            <a:off x="0" y="4751280"/>
            <a:ext cx="2526840" cy="21063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50880" y="533520"/>
            <a:ext cx="7695720" cy="365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Очень вредная старуха, </a:t>
            </a: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Всё ей плохо. Всё не так. </a:t>
            </a: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доедлива как муха… </a:t>
            </a: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Кто такая? </a:t>
            </a: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AutoShape 5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49" name="Picture 3" descr="Smily01"/>
          <p:cNvPicPr/>
          <p:nvPr/>
        </p:nvPicPr>
        <p:blipFill>
          <a:blip r:embed="rId3"/>
          <a:stretch/>
        </p:blipFill>
        <p:spPr>
          <a:xfrm>
            <a:off x="303120" y="5487840"/>
            <a:ext cx="1563480" cy="1369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Z_frage"/>
          <p:cNvPicPr/>
          <p:nvPr/>
        </p:nvPicPr>
        <p:blipFill>
          <a:blip r:embed="rId4"/>
          <a:stretch/>
        </p:blipFill>
        <p:spPr>
          <a:xfrm>
            <a:off x="7640640" y="0"/>
            <a:ext cx="1503000" cy="1740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http://static.diary.ru/userdir/7/4/8/3/748305/30549717.jpg"/>
          <p:cNvPicPr/>
          <p:nvPr/>
        </p:nvPicPr>
        <p:blipFill>
          <a:blip r:embed="rId5"/>
          <a:stretch/>
        </p:blipFill>
        <p:spPr>
          <a:xfrm>
            <a:off x="4994280" y="2854440"/>
            <a:ext cx="3015720" cy="37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7">
            <a:hlinkClick r:id="rId1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711360" y="1498680"/>
            <a:ext cx="6876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Сын моего ребен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5"/>
          <p:cNvSpPr/>
          <p:nvPr/>
        </p:nvSpPr>
        <p:spPr>
          <a:xfrm>
            <a:off x="4270320" y="3429000"/>
            <a:ext cx="2171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вну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NA00042_"/>
          <p:cNvPicPr/>
          <p:nvPr/>
        </p:nvPicPr>
        <p:blipFill>
          <a:blip r:embed="rId2"/>
          <a:stretch/>
        </p:blipFill>
        <p:spPr>
          <a:xfrm>
            <a:off x="6924600" y="1498680"/>
            <a:ext cx="1863360" cy="2758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http://im6-tub-ru.yandex.net/i?id=11272525-52-72"/>
          <p:cNvPicPr/>
          <p:nvPr/>
        </p:nvPicPr>
        <p:blipFill>
          <a:blip r:embed="rId3"/>
          <a:stretch/>
        </p:blipFill>
        <p:spPr>
          <a:xfrm>
            <a:off x="530280" y="2946240"/>
            <a:ext cx="36367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6">
            <a:hlinkClick r:id="rId1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1676520" y="1619280"/>
            <a:ext cx="5233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 моей матер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7"/>
          <p:cNvSpPr/>
          <p:nvPr/>
        </p:nvSpPr>
        <p:spPr>
          <a:xfrm>
            <a:off x="5126400" y="4032360"/>
            <a:ext cx="208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бра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8" descr="160"/>
          <p:cNvPicPr/>
          <p:nvPr/>
        </p:nvPicPr>
        <p:blipFill>
          <a:blip r:embed="rId2"/>
          <a:srcRect l="379" t="376" r="379" b="376"/>
          <a:stretch/>
        </p:blipFill>
        <p:spPr>
          <a:xfrm>
            <a:off x="6924600" y="352440"/>
            <a:ext cx="1739520" cy="1739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" descr="Картинка 7 из 128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705040"/>
            <a:ext cx="2774520" cy="39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>
            <a:hlinkClick r:id="rId1" action="ppaction://hlinksldjump"/>
          </p:cNvPr>
          <p:cNvSpPr/>
          <p:nvPr/>
        </p:nvSpPr>
        <p:spPr>
          <a:xfrm>
            <a:off x="1254240" y="1619280"/>
            <a:ext cx="7117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мамы или пап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Z_frage"/>
          <p:cNvPicPr/>
          <p:nvPr/>
        </p:nvPicPr>
        <p:blipFill>
          <a:blip r:embed="rId2"/>
          <a:stretch/>
        </p:blipFill>
        <p:spPr>
          <a:xfrm>
            <a:off x="7578720" y="42228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5" name="Прямоугольник 4"/>
          <p:cNvSpPr/>
          <p:nvPr/>
        </p:nvSpPr>
        <p:spPr>
          <a:xfrm>
            <a:off x="5246640" y="3368520"/>
            <a:ext cx="1956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тёт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6" descr="NA00042_"/>
          <p:cNvPicPr/>
          <p:nvPr/>
        </p:nvPicPr>
        <p:blipFill>
          <a:blip r:embed="rId4"/>
          <a:stretch/>
        </p:blipFill>
        <p:spPr>
          <a:xfrm>
            <a:off x="530280" y="3067200"/>
            <a:ext cx="22492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Group 80"/>
          <p:cNvGraphicFramePr/>
          <p:nvPr/>
        </p:nvGraphicFramePr>
        <p:xfrm>
          <a:off x="0" y="-58680"/>
          <a:ext cx="9143640" cy="69163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0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19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тур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endParaRPr b="0" lang="ru-RU" sz="4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6666"/>
                    </a:solidFill>
                  </a:tcPr>
                </a:tc>
              </a:tr>
              <a:tr h="293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Послов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Заг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«Странные»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Кулинар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«Устами младенц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Герои сказ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Родственные отно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Составь пословиц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59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наль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0"/>
                        </a:spcBef>
                        <a:tabLst>
                          <a:tab algn="l" pos="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гр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6666"/>
                    </a:solidFill>
                  </a:tcPr>
                </a:tc>
              </a:tr>
              <a:tr h="59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36"/>
          <p:cNvSpPr/>
          <p:nvPr/>
        </p:nvSpPr>
        <p:spPr>
          <a:xfrm>
            <a:off x="4932360" y="0"/>
            <a:ext cx="3139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2 ту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SO00828_"/>
          <p:cNvPicPr/>
          <p:nvPr/>
        </p:nvPicPr>
        <p:blipFill>
          <a:blip r:embed="rId1"/>
          <a:stretch/>
        </p:blipFill>
        <p:spPr>
          <a:xfrm>
            <a:off x="7159680" y="4081320"/>
            <a:ext cx="198396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3" descr="Z_frage"/>
          <p:cNvPicPr/>
          <p:nvPr/>
        </p:nvPicPr>
        <p:blipFill>
          <a:blip r:embed="rId1"/>
          <a:stretch/>
        </p:blipFill>
        <p:spPr>
          <a:xfrm>
            <a:off x="7226280" y="71424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16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9" name="Прямоугольник 5"/>
          <p:cNvSpPr/>
          <p:nvPr/>
        </p:nvSpPr>
        <p:spPr>
          <a:xfrm>
            <a:off x="602280" y="1679400"/>
            <a:ext cx="7473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 моей сестры или бра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6"/>
          <p:cNvSpPr/>
          <p:nvPr/>
        </p:nvSpPr>
        <p:spPr>
          <a:xfrm>
            <a:off x="4229280" y="3730680"/>
            <a:ext cx="3896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племян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7" descr="Картинка 100 из 128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0" y="2419200"/>
            <a:ext cx="3920760" cy="42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Рисунок5"/>
          <p:cNvPicPr/>
          <p:nvPr/>
        </p:nvPicPr>
        <p:blipFill>
          <a:blip r:embed="rId1"/>
          <a:stretch/>
        </p:blipFill>
        <p:spPr>
          <a:xfrm>
            <a:off x="0" y="4651200"/>
            <a:ext cx="2647440" cy="2206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Z_frage"/>
          <p:cNvPicPr/>
          <p:nvPr/>
        </p:nvPicPr>
        <p:blipFill>
          <a:blip r:embed="rId2"/>
          <a:stretch/>
        </p:blipFill>
        <p:spPr>
          <a:xfrm>
            <a:off x="7346880" y="89532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6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75" name="Picture 3" descr="Smily01"/>
          <p:cNvPicPr/>
          <p:nvPr/>
        </p:nvPicPr>
        <p:blipFill>
          <a:blip r:embed="rId4"/>
          <a:stretch/>
        </p:blipFill>
        <p:spPr>
          <a:xfrm>
            <a:off x="303120" y="5437080"/>
            <a:ext cx="1622160" cy="1420560"/>
          </a:xfrm>
          <a:prstGeom prst="rect">
            <a:avLst/>
          </a:prstGeom>
          <a:ln w="0">
            <a:noFill/>
          </a:ln>
        </p:spPr>
      </p:pic>
      <p:sp>
        <p:nvSpPr>
          <p:cNvPr id="476" name="TextBox 8"/>
          <p:cNvSpPr/>
          <p:nvPr/>
        </p:nvSpPr>
        <p:spPr>
          <a:xfrm>
            <a:off x="1978200" y="2041560"/>
            <a:ext cx="4825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моего от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9"/>
          <p:cNvSpPr/>
          <p:nvPr/>
        </p:nvSpPr>
        <p:spPr>
          <a:xfrm>
            <a:off x="5371560" y="3489480"/>
            <a:ext cx="3117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деду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2" descr="http://static.eva.ru/eva/130001-140000/138808/photoalbum/1864208.jpg"/>
          <p:cNvPicPr/>
          <p:nvPr/>
        </p:nvPicPr>
        <p:blipFill>
          <a:blip r:embed="rId5"/>
          <a:stretch/>
        </p:blipFill>
        <p:spPr>
          <a:xfrm>
            <a:off x="0" y="3046320"/>
            <a:ext cx="31237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>
            <a:hlinkClick r:id="rId1" action="ppaction://hlinksldjump"/>
          </p:cNvPr>
          <p:cNvSpPr/>
          <p:nvPr/>
        </p:nvSpPr>
        <p:spPr>
          <a:xfrm>
            <a:off x="482760" y="1744560"/>
            <a:ext cx="8370360" cy="76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i="1" lang="ru-RU" sz="4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  <p:pic>
        <p:nvPicPr>
          <p:cNvPr id="480" name="Picture 5" descr="Z_frage"/>
          <p:cNvPicPr/>
          <p:nvPr/>
        </p:nvPicPr>
        <p:blipFill>
          <a:blip r:embed="rId2"/>
          <a:stretch/>
        </p:blipFill>
        <p:spPr>
          <a:xfrm>
            <a:off x="7639200" y="30168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7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4"/>
          <a:stretch/>
        </p:blipFill>
        <p:spPr>
          <a:xfrm>
            <a:off x="1254240" y="1015920"/>
            <a:ext cx="6308280" cy="32223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5"/>
          <p:cNvSpPr/>
          <p:nvPr/>
        </p:nvSpPr>
        <p:spPr>
          <a:xfrm>
            <a:off x="4149720" y="3971880"/>
            <a:ext cx="4222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  <a:ea typeface="Arial"/>
              </a:rPr>
              <a:t>под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http://www.prozagadki.ru/uploads/posts/2010-01/1264440484_4.jpg"/>
          <p:cNvPicPr/>
          <p:nvPr/>
        </p:nvPicPr>
        <p:blipFill>
          <a:blip r:embed="rId1"/>
          <a:stretch/>
        </p:blipFill>
        <p:spPr>
          <a:xfrm>
            <a:off x="1495440" y="714240"/>
            <a:ext cx="5714640" cy="34761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3"/>
          <p:cNvSpPr/>
          <p:nvPr/>
        </p:nvSpPr>
        <p:spPr>
          <a:xfrm>
            <a:off x="4511520" y="4876920"/>
            <a:ext cx="3498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  <a:ea typeface="Arial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0">
            <a:hlinkClick r:id="rId2" action="ppaction://hlinksldjump"/>
          </p:cNvPr>
          <p:cNvSpPr/>
          <p:nvPr/>
        </p:nvSpPr>
        <p:spPr>
          <a:xfrm>
            <a:off x="8191440" y="578160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6"/>
          <p:cNvSpPr/>
          <p:nvPr/>
        </p:nvSpPr>
        <p:spPr>
          <a:xfrm>
            <a:off x="1746360" y="3008160"/>
            <a:ext cx="487008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0600" spc="-1" strike="noStrike">
              <a:solidFill>
                <a:srgbClr val="ff0066"/>
              </a:solidFill>
              <a:latin typeface="Times New Roman"/>
              <a:ea typeface="Arial"/>
            </a:endParaRPr>
          </a:p>
        </p:txBody>
      </p:sp>
      <p:sp>
        <p:nvSpPr>
          <p:cNvPr id="488" name="AutoShape 20">
            <a:hlinkClick r:id="rId1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-2921400" y="-1766880"/>
            <a:ext cx="1498680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28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300" spc="-1" strike="noStrike" u="sng">
                <a:solidFill>
                  <a:srgbClr val="0000ff"/>
                </a:solidFill>
                <a:uFillTx/>
                <a:latin typeface="Georgia"/>
                <a:ea typeface="Arial"/>
                <a:hlinkClick r:id="rId2"/>
              </a:rPr>
              <a:t>Шестеренка?</a:t>
            </a:r>
            <a:r>
              <a:rPr b="1" lang="ru-RU" sz="2300" spc="-1" strike="noStrike">
                <a:solidFill>
                  <a:srgbClr val="999966"/>
                </a:solidFill>
                <a:latin typeface="Georgia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800000"/>
                </a:solidFill>
                <a:latin typeface="Arial"/>
                <a:ea typeface="Arial"/>
              </a:rPr>
              <a:t>Вопрос на смекалку</a:t>
            </a:r>
            <a:r>
              <a:rPr b="0" lang="ru-RU" sz="800" spc="-1" strike="noStrike">
                <a:solidFill>
                  <a:srgbClr val="800000"/>
                </a:solidFill>
                <a:latin typeface="Arial"/>
                <a:ea typeface="Arial"/>
              </a:rPr>
              <a:t>: Рассмотрите внимательно рисунок и подумайте — что на нем изображено? Может быть, схема «вечного двигателя»?.. Похоже... А может быть, это просто какая-нибудь розетка, рисунок для вышивания, наконец, — шестеренка от будильника? На шестеренку, пожалуй, больше всего похож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r>
              <a:rPr b="0" lang="ru-RU" sz="22500" spc="-1" strike="noStrike">
                <a:solidFill>
                  <a:srgbClr val="800000"/>
                </a:solidFill>
                <a:latin typeface="Arial"/>
                <a:ea typeface="Arial"/>
              </a:rPr>
              <a:t> </a:t>
            </a:r>
            <a:r>
              <a:rPr b="0" lang="ru-RU" sz="800" spc="-1" strike="noStrike">
                <a:solidFill>
                  <a:srgbClr val="8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7" descr="Головоломка - Вопрос на смекалку"/>
          <p:cNvPicPr/>
          <p:nvPr/>
        </p:nvPicPr>
        <p:blipFill>
          <a:blip r:embed="rId3"/>
          <a:stretch/>
        </p:blipFill>
        <p:spPr>
          <a:xfrm>
            <a:off x="2521080" y="473040"/>
            <a:ext cx="3809520" cy="358092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8"/>
          <p:cNvSpPr/>
          <p:nvPr/>
        </p:nvSpPr>
        <p:spPr>
          <a:xfrm>
            <a:off x="5250240" y="4273560"/>
            <a:ext cx="2727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сем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2" descr="http://static.eva.ru/eva/130001-140000/138808/photoalbum/1864208.jpg"/>
          <p:cNvPicPr/>
          <p:nvPr/>
        </p:nvPicPr>
        <p:blipFill>
          <a:blip r:embed="rId4"/>
          <a:stretch/>
        </p:blipFill>
        <p:spPr>
          <a:xfrm>
            <a:off x="349200" y="3730680"/>
            <a:ext cx="2292120" cy="27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482760" y="422280"/>
            <a:ext cx="7816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6000" spc="-1" strike="noStrike">
              <a:solidFill>
                <a:srgbClr val="ff0066"/>
              </a:solidFill>
              <a:latin typeface="Times New Roman"/>
              <a:ea typeface="Arial"/>
            </a:endParaRPr>
          </a:p>
        </p:txBody>
      </p:sp>
      <p:pic>
        <p:nvPicPr>
          <p:cNvPr id="494" name="Picture 9" descr="Z_frage"/>
          <p:cNvPicPr/>
          <p:nvPr/>
        </p:nvPicPr>
        <p:blipFill>
          <a:blip r:embed="rId1"/>
          <a:stretch/>
        </p:blipFill>
        <p:spPr>
          <a:xfrm>
            <a:off x="7527960" y="654120"/>
            <a:ext cx="966600" cy="92052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10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96" name="Picture 7" descr="http://www.solnet.ee/school/pic/geo/g04-3.gif"/>
          <p:cNvPicPr/>
          <p:nvPr/>
        </p:nvPicPr>
        <p:blipFill>
          <a:blip r:embed="rId3"/>
          <a:stretch/>
        </p:blipFill>
        <p:spPr>
          <a:xfrm>
            <a:off x="1616040" y="714240"/>
            <a:ext cx="5297040" cy="31968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6"/>
          <p:cNvSpPr/>
          <p:nvPr/>
        </p:nvSpPr>
        <p:spPr>
          <a:xfrm>
            <a:off x="6090840" y="4092480"/>
            <a:ext cx="2076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изб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Картинка 46 из 689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0280" y="3549600"/>
            <a:ext cx="39207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>
            <a:hlinkClick r:id="rId1" action="ppaction://hlinksldjump"/>
          </p:cNvPr>
          <p:cNvSpPr/>
          <p:nvPr/>
        </p:nvSpPr>
        <p:spPr>
          <a:xfrm>
            <a:off x="503280" y="1444680"/>
            <a:ext cx="8640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</a:tabLst>
            </a:pPr>
            <a:endParaRPr b="1" lang="ru-RU" sz="4400" spc="-1" strike="noStrike">
              <a:solidFill>
                <a:srgbClr val="ff0000"/>
              </a:solidFill>
              <a:latin typeface="Times New Roman"/>
              <a:ea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723960" y="3368520"/>
            <a:ext cx="77562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Z_frage"/>
          <p:cNvPicPr/>
          <p:nvPr/>
        </p:nvPicPr>
        <p:blipFill>
          <a:blip r:embed="rId2"/>
          <a:stretch/>
        </p:blipFill>
        <p:spPr>
          <a:xfrm>
            <a:off x="7346880" y="35244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10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04" name="Picture 9" descr=""/>
          <p:cNvPicPr/>
          <p:nvPr/>
        </p:nvPicPr>
        <p:blipFill>
          <a:blip r:embed="rId4"/>
          <a:stretch/>
        </p:blipFill>
        <p:spPr>
          <a:xfrm>
            <a:off x="1736640" y="895320"/>
            <a:ext cx="4171680" cy="21124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5"/>
          <a:stretch/>
        </p:blipFill>
        <p:spPr>
          <a:xfrm>
            <a:off x="1374840" y="412920"/>
            <a:ext cx="421920" cy="25934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2"/>
          <p:cNvSpPr/>
          <p:nvPr/>
        </p:nvSpPr>
        <p:spPr>
          <a:xfrm>
            <a:off x="0" y="16858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8" name="TextBox 16"/>
          <p:cNvSpPr/>
          <p:nvPr/>
        </p:nvSpPr>
        <p:spPr>
          <a:xfrm>
            <a:off x="5054760" y="3368520"/>
            <a:ext cx="3136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  <a:ea typeface="Arial"/>
              </a:rPr>
              <a:t>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3" descr="Картинка 28 из 20550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00" y="2765520"/>
            <a:ext cx="3609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800000"/>
              </a:solidFill>
              <a:latin typeface="Calibri"/>
              <a:ea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  <a:ea typeface="Arial"/>
            </a:endParaRPr>
          </a:p>
        </p:txBody>
      </p:sp>
      <p:pic>
        <p:nvPicPr>
          <p:cNvPr id="512" name="Picture 4" descr="Fwerk01a"/>
          <p:cNvPicPr/>
          <p:nvPr/>
        </p:nvPicPr>
        <p:blipFill>
          <a:blip r:embed="rId1"/>
          <a:stretch/>
        </p:blipFill>
        <p:spPr>
          <a:xfrm>
            <a:off x="0" y="0"/>
            <a:ext cx="10348560" cy="6857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салют"/>
          <p:cNvPicPr/>
          <p:nvPr/>
        </p:nvPicPr>
        <p:blipFill>
          <a:blip r:embed="rId2"/>
          <a:stretch/>
        </p:blipFill>
        <p:spPr>
          <a:xfrm>
            <a:off x="3489480" y="3429000"/>
            <a:ext cx="2827080" cy="3074760"/>
          </a:xfrm>
          <a:prstGeom prst="rect">
            <a:avLst/>
          </a:prstGeom>
          <a:ln w="0">
            <a:noFill/>
          </a:ln>
        </p:spPr>
      </p:pic>
      <p:sp>
        <p:nvSpPr>
          <p:cNvPr id="514" name="WordArt 7"/>
          <p:cNvSpPr txBox="1"/>
          <p:nvPr/>
        </p:nvSpPr>
        <p:spPr>
          <a:xfrm rot="21420000">
            <a:off x="363240" y="0"/>
            <a:ext cx="7876800" cy="5351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r>
              <a:rPr b="0" lang="ru-RU" sz="3600" spc="-1" strike="noStrike">
                <a:ln w="1270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algn="ctr" dir="2021404" dist="45429">
                    <a:srgbClr val="808080">
                      <a:alpha val="80000"/>
                    </a:srgbClr>
                  </a:outerShdw>
                </a:effectLst>
                <a:latin typeface="Monotype Corsiva"/>
                <a:ea typeface="Arial"/>
              </a:rPr>
              <a:t>Финальный</a:t>
            </a:r>
            <a:endParaRPr b="0" lang="en-US" sz="3600" spc="-1" strike="noStrike">
              <a:ln w="1270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algn="ctr" dir="2021404" dist="45429">
                  <a:srgbClr val="808080">
                    <a:alpha val="80000"/>
                  </a:srgbClr>
                </a:outerShdw>
              </a:effectLst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270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algn="ctr" dir="2021404" dist="45429">
                    <a:srgbClr val="808080">
                      <a:alpha val="80000"/>
                    </a:srgbClr>
                  </a:outerShdw>
                </a:effectLst>
                <a:latin typeface="Monotype Corsiva"/>
                <a:ea typeface="Arial"/>
              </a:rPr>
              <a:t>тур</a:t>
            </a:r>
            <a:endParaRPr b="0" lang="en-US" sz="3600" spc="-1" strike="noStrike">
              <a:ln w="1270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algn="ctr" dir="2021404" dist="45429">
                  <a:srgbClr val="808080">
                    <a:alpha val="80000"/>
                  </a:srgbClr>
                </a:outerShdw>
              </a:effectLst>
              <a:latin typeface="Arial"/>
            </a:endParaRPr>
          </a:p>
        </p:txBody>
      </p:sp>
      <p:pic>
        <p:nvPicPr>
          <p:cNvPr id="515" name="Picture 8" descr="салют"/>
          <p:cNvPicPr/>
          <p:nvPr/>
        </p:nvPicPr>
        <p:blipFill>
          <a:blip r:embed="rId3"/>
          <a:stretch/>
        </p:blipFill>
        <p:spPr>
          <a:xfrm>
            <a:off x="5894280" y="4511520"/>
            <a:ext cx="3249360" cy="2346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салют"/>
          <p:cNvPicPr/>
          <p:nvPr/>
        </p:nvPicPr>
        <p:blipFill>
          <a:blip r:embed="rId4"/>
          <a:stretch/>
        </p:blipFill>
        <p:spPr>
          <a:xfrm>
            <a:off x="542880" y="3728880"/>
            <a:ext cx="324936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9"/>
          <p:cNvSpPr/>
          <p:nvPr/>
        </p:nvSpPr>
        <p:spPr>
          <a:xfrm>
            <a:off x="619200" y="484200"/>
            <a:ext cx="729216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абора слов, которые вы сейч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е в конвертах, составь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ицу. Можно изменять падеж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, добавлять предлоги и част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9"/>
          <p:cNvSpPr/>
          <p:nvPr/>
        </p:nvSpPr>
        <p:spPr>
          <a:xfrm>
            <a:off x="1463040" y="2644920"/>
            <a:ext cx="6603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ети, тягость, радос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502920" y="3549600"/>
            <a:ext cx="8223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ти не в тягость, а в рад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6" descr="NA00042_"/>
          <p:cNvPicPr/>
          <p:nvPr/>
        </p:nvPicPr>
        <p:blipFill>
          <a:blip r:embed="rId1"/>
          <a:stretch/>
        </p:blipFill>
        <p:spPr>
          <a:xfrm>
            <a:off x="7226280" y="4514760"/>
            <a:ext cx="1206000" cy="1785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O00828_"/>
          <p:cNvPicPr/>
          <p:nvPr/>
        </p:nvPicPr>
        <p:blipFill>
          <a:blip r:embed="rId2"/>
          <a:stretch/>
        </p:blipFill>
        <p:spPr>
          <a:xfrm>
            <a:off x="7527960" y="593640"/>
            <a:ext cx="1025280" cy="1434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http://img-fotki.yandex.ru/get/3101/mistina.5/0_1ba8e_1512356a_XL"/>
          <p:cNvPicPr/>
          <p:nvPr/>
        </p:nvPicPr>
        <p:blipFill>
          <a:blip r:embed="rId3"/>
          <a:stretch/>
        </p:blipFill>
        <p:spPr>
          <a:xfrm>
            <a:off x="2943360" y="4334040"/>
            <a:ext cx="367956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831960" y="2644920"/>
            <a:ext cx="74545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Arial"/>
              </a:rPr>
              <a:t>Спасибо за игр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SO00828_"/>
          <p:cNvPicPr/>
          <p:nvPr/>
        </p:nvPicPr>
        <p:blipFill>
          <a:blip r:embed="rId1"/>
          <a:stretch/>
        </p:blipFill>
        <p:spPr>
          <a:xfrm>
            <a:off x="7159680" y="352440"/>
            <a:ext cx="1983960" cy="2776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NA00042_"/>
          <p:cNvPicPr/>
          <p:nvPr/>
        </p:nvPicPr>
        <p:blipFill>
          <a:blip r:embed="rId2"/>
          <a:stretch/>
        </p:blipFill>
        <p:spPr>
          <a:xfrm>
            <a:off x="530280" y="3670200"/>
            <a:ext cx="1863360" cy="2758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 flipH="1">
            <a:off x="7347600" y="4756320"/>
            <a:ext cx="783720" cy="8395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4"/>
          <a:stretch/>
        </p:blipFill>
        <p:spPr>
          <a:xfrm>
            <a:off x="-434880" y="835200"/>
            <a:ext cx="5714640" cy="12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Group 216"/>
          <p:cNvGraphicFramePr/>
          <p:nvPr/>
        </p:nvGraphicFramePr>
        <p:xfrm>
          <a:off x="0" y="1015920"/>
          <a:ext cx="9216720" cy="5730480"/>
        </p:xfrm>
        <a:graphic>
          <a:graphicData uri="http://schemas.openxmlformats.org/drawingml/2006/table">
            <a:tbl>
              <a:tblPr/>
              <a:tblGrid>
                <a:gridCol w="3125520"/>
                <a:gridCol w="1039680"/>
                <a:gridCol w="1144440"/>
                <a:gridCol w="1145880"/>
                <a:gridCol w="1144440"/>
                <a:gridCol w="1616040"/>
              </a:tblGrid>
              <a:tr h="1301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ловиц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1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дк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4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Странные» слов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469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инар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143">
            <a:hlinkClick r:id="rId1" action="ppaction://hlinksldjump"/>
          </p:cNvPr>
          <p:cNvSpPr/>
          <p:nvPr/>
        </p:nvSpPr>
        <p:spPr>
          <a:xfrm>
            <a:off x="3189240" y="1444680"/>
            <a:ext cx="108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5">
            <a:hlinkClick r:id="rId2" action="ppaction://hlinksldjump"/>
          </p:cNvPr>
          <p:cNvSpPr/>
          <p:nvPr/>
        </p:nvSpPr>
        <p:spPr>
          <a:xfrm>
            <a:off x="4272120" y="1444680"/>
            <a:ext cx="1022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6">
            <a:hlinkClick r:id="rId3" action="ppaction://hlinksldjump"/>
          </p:cNvPr>
          <p:cNvSpPr/>
          <p:nvPr/>
        </p:nvSpPr>
        <p:spPr>
          <a:xfrm>
            <a:off x="5413320" y="1444680"/>
            <a:ext cx="1203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7">
            <a:hlinkClick r:id="rId4" action="ppaction://hlinksldjump"/>
          </p:cNvPr>
          <p:cNvSpPr/>
          <p:nvPr/>
        </p:nvSpPr>
        <p:spPr>
          <a:xfrm flipV="1" rot="10800000">
            <a:off x="6556680" y="14439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8">
            <a:hlinkClick r:id="rId5" action="ppaction://hlinksldjump"/>
          </p:cNvPr>
          <p:cNvSpPr/>
          <p:nvPr/>
        </p:nvSpPr>
        <p:spPr>
          <a:xfrm>
            <a:off x="7818480" y="1444680"/>
            <a:ext cx="102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9">
            <a:hlinkClick r:id="rId6" action="ppaction://hlinksldjump"/>
          </p:cNvPr>
          <p:cNvSpPr/>
          <p:nvPr/>
        </p:nvSpPr>
        <p:spPr>
          <a:xfrm>
            <a:off x="3068640" y="2766960"/>
            <a:ext cx="108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0">
            <a:hlinkClick r:id="rId7" action="ppaction://hlinksldjump"/>
          </p:cNvPr>
          <p:cNvSpPr/>
          <p:nvPr/>
        </p:nvSpPr>
        <p:spPr>
          <a:xfrm>
            <a:off x="4272120" y="2766960"/>
            <a:ext cx="1236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1">
            <a:hlinkClick r:id="rId8" action="ppaction://hlinksldjump"/>
          </p:cNvPr>
          <p:cNvSpPr/>
          <p:nvPr/>
        </p:nvSpPr>
        <p:spPr>
          <a:xfrm>
            <a:off x="5353200" y="27669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2">
            <a:hlinkClick r:id="rId9" action="ppaction://hlinksldjump"/>
          </p:cNvPr>
          <p:cNvSpPr/>
          <p:nvPr/>
        </p:nvSpPr>
        <p:spPr>
          <a:xfrm>
            <a:off x="6556320" y="27669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3">
            <a:hlinkClick r:id="rId11" action="ppaction://hlinksldjump"/>
          </p:cNvPr>
          <p:cNvSpPr/>
          <p:nvPr/>
        </p:nvSpPr>
        <p:spPr>
          <a:xfrm>
            <a:off x="7818480" y="2766960"/>
            <a:ext cx="102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4">
            <a:hlinkClick r:id="rId13" action="ppaction://hlinksldjump"/>
          </p:cNvPr>
          <p:cNvSpPr/>
          <p:nvPr/>
        </p:nvSpPr>
        <p:spPr>
          <a:xfrm>
            <a:off x="3129120" y="40305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5">
            <a:hlinkClick r:id="rId14" action="ppaction://hlinksldjump"/>
          </p:cNvPr>
          <p:cNvSpPr/>
          <p:nvPr/>
        </p:nvSpPr>
        <p:spPr>
          <a:xfrm>
            <a:off x="4272120" y="40305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6">
            <a:hlinkClick r:id="rId15" action="ppaction://hlinksldjump"/>
          </p:cNvPr>
          <p:cNvSpPr/>
          <p:nvPr/>
        </p:nvSpPr>
        <p:spPr>
          <a:xfrm>
            <a:off x="5294160" y="4030560"/>
            <a:ext cx="1245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7">
            <a:hlinkClick r:id="rId16" action="ppaction://hlinksldjump"/>
          </p:cNvPr>
          <p:cNvSpPr/>
          <p:nvPr/>
        </p:nvSpPr>
        <p:spPr>
          <a:xfrm>
            <a:off x="6556320" y="4030560"/>
            <a:ext cx="101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8">
            <a:hlinkClick r:id="rId17" action="ppaction://hlinksldjump"/>
          </p:cNvPr>
          <p:cNvSpPr/>
          <p:nvPr/>
        </p:nvSpPr>
        <p:spPr>
          <a:xfrm>
            <a:off x="7699320" y="4091040"/>
            <a:ext cx="120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9">
            <a:hlinkClick r:id="rId18" action="ppaction://hlinksldjump"/>
          </p:cNvPr>
          <p:cNvSpPr/>
          <p:nvPr/>
        </p:nvSpPr>
        <p:spPr>
          <a:xfrm>
            <a:off x="3129120" y="5413320"/>
            <a:ext cx="116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0">
            <a:hlinkClick r:id="rId19" action="ppaction://hlinksldjump"/>
          </p:cNvPr>
          <p:cNvSpPr/>
          <p:nvPr/>
        </p:nvSpPr>
        <p:spPr>
          <a:xfrm>
            <a:off x="4210200" y="5413320"/>
            <a:ext cx="106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1">
            <a:hlinkClick r:id="rId20" action="ppaction://hlinksldjump"/>
          </p:cNvPr>
          <p:cNvSpPr/>
          <p:nvPr/>
        </p:nvSpPr>
        <p:spPr>
          <a:xfrm>
            <a:off x="5353200" y="541332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2">
            <a:hlinkClick r:id="rId21" action="ppaction://hlinksldjump"/>
          </p:cNvPr>
          <p:cNvSpPr/>
          <p:nvPr/>
        </p:nvSpPr>
        <p:spPr>
          <a:xfrm>
            <a:off x="6556320" y="541332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3">
            <a:hlinkClick r:id="rId22" action="ppaction://hlinksldjump"/>
          </p:cNvPr>
          <p:cNvSpPr/>
          <p:nvPr/>
        </p:nvSpPr>
        <p:spPr>
          <a:xfrm>
            <a:off x="7818480" y="5413320"/>
            <a:ext cx="96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68">
            <a:hlinkClick r:id="rId23" action="ppaction://hlinksldjump"/>
          </p:cNvPr>
          <p:cNvSpPr/>
          <p:nvPr/>
        </p:nvSpPr>
        <p:spPr>
          <a:xfrm>
            <a:off x="7846920" y="6308640"/>
            <a:ext cx="1296720" cy="549000"/>
          </a:xfrm>
          <a:prstGeom prst="actionButtonBlank">
            <a:avLst/>
          </a:prstGeom>
          <a:gradFill rotWithShape="0">
            <a:gsLst>
              <a:gs pos="0">
                <a:srgbClr val="e6e6e6"/>
              </a:gs>
              <a:gs pos="100000">
                <a:srgbClr val="7d8496"/>
              </a:gs>
            </a:gsLst>
            <a:lin ang="2700000"/>
          </a:gra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askerville Win95BT"/>
                <a:ea typeface="Arial"/>
              </a:rPr>
              <a:t>2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6"/>
          <p:cNvSpPr/>
          <p:nvPr/>
        </p:nvSpPr>
        <p:spPr>
          <a:xfrm>
            <a:off x="3097080" y="755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9" name="Text Box 217"/>
          <p:cNvSpPr/>
          <p:nvPr/>
        </p:nvSpPr>
        <p:spPr>
          <a:xfrm>
            <a:off x="0" y="0"/>
            <a:ext cx="9143640" cy="1004040"/>
          </a:xfrm>
          <a:prstGeom prst="rect">
            <a:avLst/>
          </a:prstGeom>
          <a:solidFill>
            <a:schemeClr val="tx1">
              <a:lumMod val="40000"/>
              <a:lumOff val="6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1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delay="0" evt="onClick">
                    <p:tgtEl>
                      <p:spTgt spid="23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delay="0"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delay="0" evt="onClick">
                    <p:tgtEl>
                      <p:spTgt spid="23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delay="0"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delay="0" evt="onClick">
                    <p:tgtEl>
                      <p:spTgt spid="24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delay="0"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delay="0" evt="onClick">
                    <p:tgtEl>
                      <p:spTgt spid="243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delay="0"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delay="0" evt="onClick">
                    <p:tgtEl>
                      <p:spTgt spid="244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delay="0"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24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delay="0"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delay="0" evt="onClick">
                    <p:tgtEl>
                      <p:spTgt spid="245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delay="0"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delay="0" evt="onClick">
                    <p:tgtEl>
                      <p:spTgt spid="256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delay="0"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delay="0" evt="onClick">
                    <p:tgtEl>
                      <p:spTgt spid="255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delay="0"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delay="0" evt="onClick">
                    <p:tgtEl>
                      <p:spTgt spid="25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delay="0"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delay="0" evt="onClick">
                    <p:tgtEl>
                      <p:spTgt spid="253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delay="0"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delay="0" evt="onClick">
                    <p:tgtEl>
                      <p:spTgt spid="252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delay="0"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delay="0" evt="onClick">
                    <p:tgtEl>
                      <p:spTgt spid="25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delay="0"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delay="0" evt="onClick">
                    <p:tgtEl>
                      <p:spTgt spid="250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delay="0"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delay="0" evt="onClick">
                    <p:tgtEl>
                      <p:spTgt spid="24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delay="0"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delay="0" evt="onClick">
                    <p:tgtEl>
                      <p:spTgt spid="247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delay="0"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-185760" y="0"/>
            <a:ext cx="9329400" cy="6857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2"/>
          <a:stretch/>
        </p:blipFill>
        <p:spPr>
          <a:xfrm>
            <a:off x="-1339920" y="412920"/>
            <a:ext cx="5714640" cy="12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>
            <a:hlinkClick r:id="rId1" action="ppaction://hlinksldjump"/>
          </p:cNvPr>
          <p:cNvSpPr/>
          <p:nvPr/>
        </p:nvSpPr>
        <p:spPr>
          <a:xfrm>
            <a:off x="250920" y="0"/>
            <a:ext cx="864036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ru-RU" sz="6000" spc="-1" strike="noStrike">
              <a:solidFill>
                <a:srgbClr val="ff0000"/>
              </a:solidFill>
              <a:latin typeface="Times New Roman"/>
              <a:ea typeface="Arial"/>
            </a:endParaRPr>
          </a:p>
        </p:txBody>
      </p:sp>
      <p:sp>
        <p:nvSpPr>
          <p:cNvPr id="261" name="AutoShape 8">
            <a:hlinkClick r:id="rId2" action="ppaction://hlinksldjump"/>
          </p:cNvPr>
          <p:cNvSpPr/>
          <p:nvPr/>
        </p:nvSpPr>
        <p:spPr>
          <a:xfrm>
            <a:off x="8238960" y="58942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425160" y="2222640"/>
            <a:ext cx="867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ь на пороге – счастье в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6453720" y="3247920"/>
            <a:ext cx="2089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160"/>
          <p:cNvPicPr/>
          <p:nvPr/>
        </p:nvPicPr>
        <p:blipFill>
          <a:blip r:embed="rId3"/>
          <a:srcRect l="379" t="376" r="379" b="376"/>
          <a:stretch/>
        </p:blipFill>
        <p:spPr>
          <a:xfrm>
            <a:off x="6804000" y="593640"/>
            <a:ext cx="1739520" cy="1739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Картинка 17 из 4043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9680" y="3616200"/>
            <a:ext cx="39207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>
            <a:hlinkClick r:id="rId1" action="ppaction://hlinksldjump"/>
          </p:cNvPr>
          <p:cNvSpPr/>
          <p:nvPr/>
        </p:nvSpPr>
        <p:spPr>
          <a:xfrm>
            <a:off x="503280" y="1197000"/>
            <a:ext cx="86403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Дом вести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3"/>
          <p:cNvSpPr txBox="1"/>
          <p:nvPr/>
        </p:nvSpPr>
        <p:spPr>
          <a:xfrm>
            <a:off x="1325520" y="723960"/>
            <a:ext cx="6673320" cy="29458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i="1" lang="ru-RU" sz="3600" spc="-1" strike="noStrike">
              <a:ln w="0">
                <a:solidFill>
                  <a:srgbClr val="000000"/>
                </a:solidFill>
              </a:ln>
              <a:solidFill>
                <a:srgbClr val="ff0000"/>
              </a:solidFill>
              <a:latin typeface="Times New Roman"/>
              <a:ea typeface="Arial"/>
            </a:endParaRPr>
          </a:p>
        </p:txBody>
      </p:sp>
      <p:sp>
        <p:nvSpPr>
          <p:cNvPr id="268" name="AutoShape 7">
            <a:hlinkClick r:id="rId2" action="ppaction://hlinksldjump"/>
          </p:cNvPr>
          <p:cNvSpPr/>
          <p:nvPr/>
        </p:nvSpPr>
        <p:spPr>
          <a:xfrm>
            <a:off x="8238960" y="58942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3703680" y="2162160"/>
            <a:ext cx="5411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бородой тря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9" descr=""/>
          <p:cNvPicPr/>
          <p:nvPr/>
        </p:nvPicPr>
        <p:blipFill>
          <a:blip r:embed="rId3"/>
          <a:stretch/>
        </p:blipFill>
        <p:spPr>
          <a:xfrm>
            <a:off x="409680" y="3730680"/>
            <a:ext cx="3593880" cy="2593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NA00042_"/>
          <p:cNvPicPr/>
          <p:nvPr/>
        </p:nvPicPr>
        <p:blipFill>
          <a:blip r:embed="rId4"/>
          <a:stretch/>
        </p:blipFill>
        <p:spPr>
          <a:xfrm>
            <a:off x="7286760" y="352440"/>
            <a:ext cx="1206000" cy="1785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Картинка 75 из 404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080" y="3308400"/>
            <a:ext cx="4403520" cy="31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>
            <a:hlinkClick r:id="rId1" action="ppaction://hlinksldjump"/>
          </p:cNvPr>
          <p:cNvSpPr/>
          <p:nvPr/>
        </p:nvSpPr>
        <p:spPr>
          <a:xfrm>
            <a:off x="250920" y="1865160"/>
            <a:ext cx="864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>
            <a:hlinkClick r:id="rId2" action="ppaction://hlinksldjump"/>
          </p:cNvPr>
          <p:cNvSpPr/>
          <p:nvPr/>
        </p:nvSpPr>
        <p:spPr>
          <a:xfrm>
            <a:off x="8299440" y="58341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688320" y="2162160"/>
            <a:ext cx="796860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е вместе, то и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112280" y="3006720"/>
            <a:ext cx="469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на мес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http://static.diary.ru/userdir/2/8/3/6/283669/60237458.jpg"/>
          <p:cNvPicPr/>
          <p:nvPr/>
        </p:nvPicPr>
        <p:blipFill>
          <a:blip r:embed="rId3"/>
          <a:stretch/>
        </p:blipFill>
        <p:spPr>
          <a:xfrm>
            <a:off x="5537160" y="533520"/>
            <a:ext cx="2819160" cy="1963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Картинка 2 из 1979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0280" y="3879720"/>
            <a:ext cx="4161960" cy="25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>
            <a:hlinkClick r:id="rId1" action="ppaction://hlinksldjump"/>
          </p:cNvPr>
          <p:cNvSpPr/>
          <p:nvPr/>
        </p:nvSpPr>
        <p:spPr>
          <a:xfrm>
            <a:off x="650880" y="1920960"/>
            <a:ext cx="8492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03120" y="361800"/>
            <a:ext cx="8413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81" name="AutoShape 8">
            <a:hlinkClick r:id="rId2" action="ppaction://hlinksldjump"/>
          </p:cNvPr>
          <p:cNvSpPr/>
          <p:nvPr/>
        </p:nvSpPr>
        <p:spPr>
          <a:xfrm>
            <a:off x="7286760" y="58420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2970360" y="3006720"/>
            <a:ext cx="5451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далеко пада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Картинка 17 из 2129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0280" y="3584520"/>
            <a:ext cx="26539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раздник детский 2">
  <a:themeElements>
    <a:clrScheme name="Другая 49">
      <a:dk1>
        <a:srgbClr val="8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раздник детский 2">
  <a:themeElements>
    <a:clrScheme name="Другая 49">
      <a:dk1>
        <a:srgbClr val="8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раздник детский 2">
  <a:themeElements>
    <a:clrScheme name="Другая 49">
      <a:dk1>
        <a:srgbClr val="8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Край">
  <a:themeElements>
    <a:clrScheme name="Край 7">
      <a:dk1>
        <a:srgbClr val="000000"/>
      </a:dk1>
      <a:lt1>
        <a:srgbClr val="ffffff"/>
      </a:lt1>
      <a:dk2>
        <a:srgbClr val="006633"/>
      </a:dk2>
      <a:lt2>
        <a:srgbClr val="5f5f5f"/>
      </a:lt2>
      <a:accent1>
        <a:srgbClr val="cc9900"/>
      </a:accent1>
      <a:accent2>
        <a:srgbClr val="3b812f"/>
      </a:accent2>
      <a:accent3>
        <a:srgbClr val="ffffff"/>
      </a:accent3>
      <a:accent4>
        <a:srgbClr val="000000"/>
      </a:accent4>
      <a:accent5>
        <a:srgbClr val="e2caaa"/>
      </a:accent5>
      <a:accent6>
        <a:srgbClr val="35742a"/>
      </a:accent6>
      <a:hlink>
        <a:srgbClr val="996600"/>
      </a:hlink>
      <a:folHlink>
        <a:srgbClr val="afbf3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Праздник детский 2">
  <a:themeElements>
    <a:clrScheme name="Другая 49">
      <a:dk1>
        <a:srgbClr val="8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  <Paragraphs>165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47:53Z</dcterms:created>
  <dc:creator/>
  <dc:description/>
  <dc:language>en-US</dc:language>
  <cp:lastModifiedBy>User</cp:lastModifiedBy>
  <dcterms:modified xsi:type="dcterms:W3CDTF">2023-02-13T10:31:03Z</dcterms:modified>
  <cp:revision>2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5</vt:r8>
  </property>
  <property fmtid="{D5CDD505-2E9C-101B-9397-08002B2CF9AE}" pid="3" name="PresentationFormat">
    <vt:lpwstr>On-screen Show (4:3)</vt:lpwstr>
  </property>
  <property fmtid="{D5CDD505-2E9C-101B-9397-08002B2CF9AE}" pid="4" name="Slides">
    <vt:r8>50</vt:r8>
  </property>
</Properties>
</file>