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7.jpeg" ContentType="image/jpeg"/>
  <Override PartName="/ppt/media/image52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9.jpeg" ContentType="image/jpeg"/>
  <Override PartName="/ppt/media/image50.png" ContentType="image/png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0.png" ContentType="image/png"/>
  <Override PartName="/ppt/media/image9.jpeg" ContentType="image/jpeg"/>
  <Override PartName="/ppt/media/image11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719F02-7662-4C55-9C5E-F12818808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6751C8F-3371-4F7A-B0C9-488B07C9E3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5B0882B-C0CA-478C-B904-79EC8330BED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09C9342-2F8A-43D1-8C4E-E425AEA06B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6F20F6A-B2AF-4070-B31A-2DEA01E7FB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34BE2C8-0DB4-4365-B784-4F2B8BA359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71CF965-1026-40A3-9086-0E7CE13494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117725E-1A6B-49B8-984C-D20884CA6B0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ACABCDF-D0C7-4C9D-9401-692E1A78694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CE372B6-65B3-40CC-918F-393E0EE3B1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5FDA22E-3469-4F1F-BF03-2A66F714B1D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22017E4-F7C7-433A-9779-A0DD37E3BE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B61CA6F-92B6-4CA4-8220-44CDA2A128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95452EC-705F-4D5C-9E0A-31A735AFD2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EF0FC94-79CB-476E-9BFF-EB218A79B2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B125D86-1984-4B82-88A9-C6A4760EDB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6A11D1E-1835-4231-8FCC-8828FFCBB3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5C6359E-62DC-4F70-A20A-E6E34EA86A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B628D31-696E-4CB6-9987-7654C7F292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DF1425E-0343-4D44-80B1-FF4407965A2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380FA61-5A94-44CF-9BC5-4D6BB9E2D3C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C2E14D1-C888-48D0-81DA-1FE36A3D3A7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1169603-C578-4A37-805A-356B855C4C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310E04F-26F9-4FF0-88DA-BC30065BB8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AEE4440-9461-4261-99A0-2C14E1339F6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6E377D5-3A65-4FE4-B550-8DC943EC04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6FC2C05-440C-4496-8101-DA4B9BA4DF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1E281C0-FC1E-4679-BDBF-11EBDFE636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0CD6173-8295-45D0-A0C7-87888093642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82451C2-E605-42DE-BEFE-FB335E29A4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1E057CA-6CD0-4E57-BCB7-C045F8B6A47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FBC877D-0BE8-4EE4-81B3-39D878A808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41F5D45-1DB8-4D47-A584-1D3506AA49C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B2F8A6A-FDCB-4BCD-A784-547C523146C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5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FE01256-8AB4-4821-ACCF-1064DE2924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5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837D1B7-48EA-4089-8976-387EAC5447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632C141-8BC0-4D01-A4A1-1CFB56F8F0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31E4B8F-8FA3-4C6C-9C56-5143EAD841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D7DA5D2-C9D6-4BC3-B4C6-D73EE530860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A29E2EA-DA53-4639-8347-1BD3E3380F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C0FB7F2-64DB-44B0-AA37-7BB17184A5E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9C9076A-D6D1-4EB2-9135-87CC0188FDC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B20FF63-6EEB-4C4F-8F51-E1B450A8A4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39EDE05-8455-4FC6-9CBF-460E03475F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762F5E7-EFF0-4FD2-8188-ED187D451B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72D1909-70B6-4154-B74B-07A28B2DA50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17F-EFCC-4091-A028-235141CA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522-5E16-4E9B-B4D7-3FB34A43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216-7639-4296-BF94-3C88B491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4B0-A39B-4A57-B7A6-C06841B7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396C-EE98-4E34-B0CA-C6E57B63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CFF3-FB6C-47DC-BA4F-55F21B6D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82DA-3BDD-41DC-AB7C-B37A3B69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F8D0-10DF-4B83-82C9-FFA0177D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0E22-960F-43E8-AFBA-D620DF73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8D10-E53B-4AA2-8289-D6C3CDEC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214B-3005-4FF3-826E-23FBE28D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64B-358D-4FF0-AA1D-117D31D3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7688-EBF7-45DB-97B4-725649B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046E-0A49-413A-AFFB-B7CF2310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5F68-0038-4902-8583-6D047AAA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84AB-3A77-4BF1-9096-9E4D779C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E9FE-1FC5-4CF9-92F9-30FF12B6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8FA6D-5F05-47B3-A3F2-63313884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2479-0876-42BB-8834-4DA18F81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0079-BF4D-4625-B377-23AEFD45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239A-8303-4B9C-B519-363FEFBA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D83E-239D-4321-AFAF-2454F902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3B3-1307-4F63-9CEC-77C0131C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B96A-0D3B-45FF-8DC5-93788237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EB8C-ADF4-4F46-ADB6-C1B71C1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2EC8-83E8-4D9A-9796-DE90A528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6C71-6A5F-46DF-A901-70FE6045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BC6E-953E-4837-83AB-C22E91E8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70AA-929D-4355-8CFD-2F5DFAA3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E04D5-11D7-481F-81BD-F76AF23D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FA43-9DBF-4F26-8DFC-661754A5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1280-A32E-46B1-85D8-58D4BA67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8B2D2-3547-4B67-A3FB-B4FA4911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933-AE01-4322-BF9D-35E00D4D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2912-BAA5-42B1-A152-BE740CBD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400E0-6CAF-417A-A3D4-8F0FA0A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40EF0-3969-407D-AA16-43EA5944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D8AE6-B877-4152-BFDE-4A89D61E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4AB4E-686C-40B6-83FC-A20A9867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E876-CDB8-49C2-8DFA-60220EB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C2479-A6D8-4D52-9007-C01EC70E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BA9F-6699-4E33-BB6E-0E0CC20B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6A56-87EC-42D4-944F-2B40B50B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2CDA5-7698-4ED4-8344-D95C2B15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457-660B-4EED-9312-F1D39F09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10919-F597-438E-879A-7198B762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D7651-8DA4-4CF6-A2AA-69112ECC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37EC3-8CFB-4980-A938-9B90BE52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E1480-0319-4D4D-A2DF-C47683AA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B8CD-43E5-4DE1-882E-AD0CB1C3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81D29-8491-4F6F-9BDF-D1860D62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23FC7-A32F-4C23-BA73-41D71FC6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92EFE-8345-42D2-80D8-31CB62C7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2BC70-D9DD-4350-BD63-25F40729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8A1F-27BC-4F33-BAAF-FA33A750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0D3-DAAA-42F1-8A74-A98A4F79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2BF6-2514-4157-9BB8-0185BE25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01D-20B6-4CF4-9C84-A18739AD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B45-08F5-4697-A868-6A6115D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6BC-5789-440A-9FCD-47E64808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C2C5B52-76C4-4BA0-BF27-2E9EF8EE282D}" type="slidenum">
              <a:rPr b="0" lang="ru-RU" sz="1200" spc="-1" strike="noStrike">
                <a:solidFill>
                  <a:srgbClr val="ac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8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EF04F8F-158B-4A7D-B82F-7B735BFAB557}" type="slidenum">
              <a:rPr b="0" lang="ru-RU" sz="1200" spc="-1" strike="noStrike">
                <a:solidFill>
                  <a:srgbClr val="ac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91CF958-900D-4054-979D-C12E1755C079}" type="slidenum">
              <a:rPr b="0" lang="ru-RU" sz="1200" spc="-1" strike="noStrike">
                <a:solidFill>
                  <a:srgbClr val="ac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8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7"/>
          <p:cNvSpPr/>
          <p:nvPr/>
        </p:nvSpPr>
        <p:spPr>
          <a:xfrm>
            <a:off x="380880" y="228600"/>
            <a:ext cx="8229240" cy="609120"/>
          </a:xfrm>
          <a:custGeom>
            <a:avLst/>
            <a:gdLst>
              <a:gd name="textAreaLeft" fmla="*/ 0 w 8229240"/>
              <a:gd name="textAreaRight" fmla="*/ 8229600 w 8229240"/>
              <a:gd name="textAreaTop" fmla="*/ 0 h 609120"/>
              <a:gd name="textAreaBottom" fmla="*/ 609480 h 609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5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457200" y="6172200"/>
            <a:ext cx="8229600" cy="360"/>
          </a:xfrm>
          <a:prstGeom prst="line">
            <a:avLst/>
          </a:prstGeom>
          <a:ln w="1905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05AA544-6E98-4A03-A5CE-039AE93ABCC3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8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8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8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ac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4782B83-EB89-4E70-99BF-EA49960982D9}" type="slidenum">
              <a:rPr b="0" lang="ru-RU" sz="1200" spc="-1" strike="noStrike">
                <a:solidFill>
                  <a:srgbClr val="ac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" Target="slide5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png"/><Relationship Id="rId3" Type="http://schemas.openxmlformats.org/officeDocument/2006/relationships/slide" Target="slide5.xml"/><Relationship Id="rId4" Type="http://schemas.openxmlformats.org/officeDocument/2006/relationships/hyperlink" Target="http://s11.radikal.ru/i183/0911/9b/7715e4d7abd6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png"/><Relationship Id="rId3" Type="http://schemas.openxmlformats.org/officeDocument/2006/relationships/slide" Target="slide5.xml"/><Relationship Id="rId4" Type="http://schemas.openxmlformats.org/officeDocument/2006/relationships/hyperlink" Target="http://content.foto.mail.ru/mail/vera.1954/_animated/i-3832.gif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hyperlink" Target="http://img-fotki.yandex.ru/get/3005/oska-251.25/0_1f124_aa8afa00_L.jpg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oleObject" Target="../embeddings/oleObject1.bin"/><Relationship Id="rId3" Type="http://schemas.openxmlformats.org/officeDocument/2006/relationships/slide" Target="slide5.xml"/><Relationship Id="rId4" Type="http://schemas.openxmlformats.org/officeDocument/2006/relationships/image" Target="../media/image25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jpeg"/><Relationship Id="rId7" Type="http://schemas.openxmlformats.org/officeDocument/2006/relationships/slide" Target="slide5.xml"/><Relationship Id="rId8" Type="http://schemas.openxmlformats.org/officeDocument/2006/relationships/image" Target="../media/image7.png"/><Relationship Id="rId9" Type="http://schemas.openxmlformats.org/officeDocument/2006/relationships/hyperlink" Target="http://bolutanova.ucoz.ru/Roditeli_stati/Semiya.jpg" TargetMode="External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live.tomsk.ru/public/user/1000000/1000/635/30090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jpeg"/><Relationship Id="rId3" Type="http://schemas.openxmlformats.org/officeDocument/2006/relationships/slide" Target="slide5.xml"/><Relationship Id="rId4" Type="http://schemas.openxmlformats.org/officeDocument/2006/relationships/hyperlink" Target="http://detskijsad6-zwyozdochka.narod.ru/catalog/psiz.jpg" TargetMode="External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hyperlink" Target="http://mandatemedia.typepad.com/photos/uncategorized/2007/07/10/coca_cola.jpg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hyperlink" Target="http://editorial.designtaxi.com/news/CocaColaFantaOrange.jpg" TargetMode="External"/><Relationship Id="rId7" Type="http://schemas.openxmlformats.org/officeDocument/2006/relationships/image" Target="../media/image31.jpeg"/><Relationship Id="rId8" Type="http://schemas.openxmlformats.org/officeDocument/2006/relationships/hyperlink" Target="http://sfw.org.ua/uploads/posts/2009-11/thumbs/1258023564_3.jpg" TargetMode="External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0.xml"/><Relationship Id="rId9" Type="http://schemas.openxmlformats.org/officeDocument/2006/relationships/slide" Target="slide40.xml"/><Relationship Id="rId10" Type="http://schemas.openxmlformats.org/officeDocument/2006/relationships/slide" Target="slide40.xml"/><Relationship Id="rId11" Type="http://schemas.openxmlformats.org/officeDocument/2006/relationships/slide" Target="slide32.xml"/><Relationship Id="rId12" Type="http://schemas.openxmlformats.org/officeDocument/2006/relationships/slide" Target="slide32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4.xml"/><Relationship Id="rId16" Type="http://schemas.openxmlformats.org/officeDocument/2006/relationships/slide" Target="slide34.xml"/><Relationship Id="rId17" Type="http://schemas.openxmlformats.org/officeDocument/2006/relationships/slide" Target="slide25.xml"/><Relationship Id="rId18" Type="http://schemas.openxmlformats.org/officeDocument/2006/relationships/slide" Target="slide35.xml"/><Relationship Id="rId19" Type="http://schemas.openxmlformats.org/officeDocument/2006/relationships/slide" Target="slide33.xml"/><Relationship Id="rId20" Type="http://schemas.openxmlformats.org/officeDocument/2006/relationships/slide" Target="slide36.xml"/><Relationship Id="rId21" Type="http://schemas.openxmlformats.org/officeDocument/2006/relationships/slide" Target="slide48.xml"/><Relationship Id="rId22" Type="http://schemas.openxmlformats.org/officeDocument/2006/relationships/slide" Target="slide37.xml"/><Relationship Id="rId23" Type="http://schemas.openxmlformats.org/officeDocument/2006/relationships/slide" Target="slide38.xml"/><Relationship Id="rId24" Type="http://schemas.openxmlformats.org/officeDocument/2006/relationships/slide" Target="slide38.xml"/><Relationship Id="rId25" Type="http://schemas.openxmlformats.org/officeDocument/2006/relationships/slide" Target="slide39.xml"/><Relationship Id="rId26" Type="http://schemas.openxmlformats.org/officeDocument/2006/relationships/slide" Target="slide39.xml"/><Relationship Id="rId27" Type="http://schemas.openxmlformats.org/officeDocument/2006/relationships/slide" Target="slide41.xml"/><Relationship Id="rId28" Type="http://schemas.openxmlformats.org/officeDocument/2006/relationships/slide" Target="slide40.xml"/><Relationship Id="rId29" Type="http://schemas.openxmlformats.org/officeDocument/2006/relationships/slide" Target="slide37.xml"/><Relationship Id="rId30" Type="http://schemas.openxmlformats.org/officeDocument/2006/relationships/slide" Target="slide41.xml"/><Relationship Id="rId31" Type="http://schemas.openxmlformats.org/officeDocument/2006/relationships/slide" Target="slide42.xml"/><Relationship Id="rId32" Type="http://schemas.openxmlformats.org/officeDocument/2006/relationships/slide" Target="slide42.xml"/><Relationship Id="rId33" Type="http://schemas.openxmlformats.org/officeDocument/2006/relationships/slide" Target="slide41.xml"/><Relationship Id="rId34" Type="http://schemas.openxmlformats.org/officeDocument/2006/relationships/slide" Target="slide44.xml"/><Relationship Id="rId35" Type="http://schemas.openxmlformats.org/officeDocument/2006/relationships/slide" Target="slide45.xml"/><Relationship Id="rId36" Type="http://schemas.openxmlformats.org/officeDocument/2006/relationships/slide" Target="slide45.xml"/><Relationship Id="rId37" Type="http://schemas.openxmlformats.org/officeDocument/2006/relationships/slide" Target="slide46.xml"/><Relationship Id="rId38" Type="http://schemas.openxmlformats.org/officeDocument/2006/relationships/slide" Target="slide46.xml"/><Relationship Id="rId39" Type="http://schemas.openxmlformats.org/officeDocument/2006/relationships/slide" Target="slide35.xml"/><Relationship Id="rId40" Type="http://schemas.openxmlformats.org/officeDocument/2006/relationships/slide" Target="slide47.xml"/><Relationship Id="rId41" Type="http://schemas.openxmlformats.org/officeDocument/2006/relationships/slideLayout" Target="../slideLayouts/slideLayout37.xml"/><Relationship Id="rId4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7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" Target="slide26.xm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6.xm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6.xml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6.xml"/><Relationship Id="rId3" Type="http://schemas.openxmlformats.org/officeDocument/2006/relationships/image" Target="../media/image22.jpeg"/><Relationship Id="rId4" Type="http://schemas.openxmlformats.org/officeDocument/2006/relationships/image" Target="../media/image16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6.xml"/><Relationship Id="rId3" Type="http://schemas.openxmlformats.org/officeDocument/2006/relationships/image" Target="../media/image22.jpeg"/><Relationship Id="rId4" Type="http://schemas.openxmlformats.org/officeDocument/2006/relationships/image" Target="../media/image16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0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7.png"/><Relationship Id="rId3" Type="http://schemas.openxmlformats.org/officeDocument/2006/relationships/hyperlink" Target="http://www.arch-dou31.edusite.ru/images/67560126fc5f.gif" TargetMode="External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" Target="slide2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6.xml"/><Relationship Id="rId3" Type="http://schemas.openxmlformats.org/officeDocument/2006/relationships/hyperlink" Target="http://detskyi-sad.torgg.com/image/data/23939904.jpg" TargetMode="External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" Target="slide26.xml"/><Relationship Id="rId4" Type="http://schemas.openxmlformats.org/officeDocument/2006/relationships/image" Target="../media/image22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" Target="slide26.xm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hyperlink" Target="http://puzzle-ru.blogspot.com/2012/03/blog-post_04.html" TargetMode="External"/><Relationship Id="rId3" Type="http://schemas.openxmlformats.org/officeDocument/2006/relationships/image" Target="../media/image50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52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6.xml"/><Relationship Id="rId3" Type="http://schemas.openxmlformats.org/officeDocument/2006/relationships/image" Target="../media/image51.jpeg"/><Relationship Id="rId4" Type="http://schemas.openxmlformats.org/officeDocument/2006/relationships/hyperlink" Target="http://img0.liveinternet.ru/images/attach/c/4/79/690/79690698_989942981.gif" TargetMode="External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" Target="slide26.xml"/><Relationship Id="rId4" Type="http://schemas.openxmlformats.org/officeDocument/2006/relationships/image" Target="../media/image53.jpeg"/><Relationship Id="rId5" Type="http://schemas.openxmlformats.org/officeDocument/2006/relationships/image" Target="../media/image54.png"/><Relationship Id="rId6" Type="http://schemas.openxmlformats.org/officeDocument/2006/relationships/hyperlink" Target="http://www.edu.cap.ru/home/4349/biblioteka.gif" TargetMode="External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hyperlink" Target="http://cs4926.vkontakte.ru/u10783413/137999724/x_2ec313b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hyperlink" Target="http://www.belosnezhka.net/userfiles/image/photo/big/ry-1898_small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12.jpeg"/><Relationship Id="rId4" Type="http://schemas.openxmlformats.org/officeDocument/2006/relationships/hyperlink" Target="http://jiea-dp.taba.ru/fid/cnRlaW1hZ2VfdGh1bWI6MTRmZTU4YjIyYWE1ZjgzODI5ODE1NDEyNzU0NDAwYWIvLw/img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hyperlink" Target="http://img1.liveinternet.ru/images/attach/c/2/67/365/67365279_fruit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2"/>
          <p:cNvSpPr/>
          <p:nvPr/>
        </p:nvSpPr>
        <p:spPr>
          <a:xfrm>
            <a:off x="663480" y="0"/>
            <a:ext cx="4870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6600" spc="-1" strike="noStrike"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5" name="WordArt 13"/>
          <p:cNvSpPr txBox="1"/>
          <p:nvPr/>
        </p:nvSpPr>
        <p:spPr>
          <a:xfrm>
            <a:off x="289080" y="2644920"/>
            <a:ext cx="8660880" cy="228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solidFill>
                    <a:srgbClr val="7030a0"/>
                  </a:solidFill>
                </a:ln>
                <a:solidFill>
                  <a:srgbClr val="c00000"/>
                </a:solidFill>
                <a:latin typeface="Impact"/>
                <a:ea typeface="Arial"/>
              </a:rPr>
              <a:t>«Семья   и семейные ценности»</a:t>
            </a:r>
            <a:endParaRPr b="0" lang="en-US" sz="3600" spc="-1" strike="noStrike">
              <a:ln w="0">
                <a:solidFill>
                  <a:srgbClr val="7030a0"/>
                </a:solidFill>
              </a:ln>
              <a:solidFill>
                <a:srgbClr val="c00000"/>
              </a:solidFill>
              <a:latin typeface="Arial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2158920" y="1317600"/>
            <a:ext cx="4749480" cy="120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solidFill>
                    <a:srgbClr val="7030a0"/>
                  </a:solidFill>
                </a:ln>
                <a:solidFill>
                  <a:srgbClr val="00cc00"/>
                </a:solidFill>
                <a:latin typeface="Impact"/>
                <a:ea typeface="Arial"/>
              </a:rPr>
              <a:t>своя игра</a:t>
            </a:r>
            <a:endParaRPr b="0" lang="en-US" sz="3600" spc="-1" strike="noStrike">
              <a:ln w="0">
                <a:solidFill>
                  <a:srgbClr val="7030a0"/>
                </a:solidFill>
              </a:ln>
              <a:solidFill>
                <a:srgbClr val="00cc00"/>
              </a:solidFill>
              <a:latin typeface="Arial"/>
            </a:endParaRPr>
          </a:p>
        </p:txBody>
      </p:sp>
      <p:sp>
        <p:nvSpPr>
          <p:cNvPr id="217" name="TextBox 26"/>
          <p:cNvSpPr/>
          <p:nvPr/>
        </p:nvSpPr>
        <p:spPr>
          <a:xfrm>
            <a:off x="1978200" y="412920"/>
            <a:ext cx="523188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2800" spc="-1" strike="noStrike"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pic>
        <p:nvPicPr>
          <p:cNvPr id="218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"/>
          <a:stretch/>
        </p:blipFill>
        <p:spPr>
          <a:xfrm flipH="1">
            <a:off x="7830000" y="5178600"/>
            <a:ext cx="771120" cy="1160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2"/>
          <a:stretch/>
        </p:blipFill>
        <p:spPr>
          <a:xfrm rot="20400000">
            <a:off x="-1219320" y="291960"/>
            <a:ext cx="5714640" cy="1247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 flipH="1">
            <a:off x="7166520" y="5540400"/>
            <a:ext cx="783720" cy="839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1857240" y="6203880"/>
            <a:ext cx="409320" cy="285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8372520" y="6143760"/>
            <a:ext cx="514080" cy="325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073520" y="4575240"/>
            <a:ext cx="1233000" cy="1568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9" descr=""/>
          <p:cNvPicPr/>
          <p:nvPr/>
        </p:nvPicPr>
        <p:blipFill>
          <a:blip r:embed="rId7"/>
          <a:stretch/>
        </p:blipFill>
        <p:spPr>
          <a:xfrm>
            <a:off x="2521080" y="3911760"/>
            <a:ext cx="3593880" cy="2593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 flipH="1">
            <a:off x="349920" y="5118120"/>
            <a:ext cx="78372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Рисунок5"/>
          <p:cNvPicPr/>
          <p:nvPr/>
        </p:nvPicPr>
        <p:blipFill>
          <a:blip r:embed="rId1"/>
          <a:stretch/>
        </p:blipFill>
        <p:spPr>
          <a:xfrm>
            <a:off x="0" y="4210200"/>
            <a:ext cx="2887200" cy="2408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Z_frage"/>
          <p:cNvPicPr/>
          <p:nvPr/>
        </p:nvPicPr>
        <p:blipFill>
          <a:blip r:embed="rId2"/>
          <a:stretch/>
        </p:blipFill>
        <p:spPr>
          <a:xfrm>
            <a:off x="6924600" y="473040"/>
            <a:ext cx="1345680" cy="15584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7">
            <a:hlinkClick r:id="rId3" action="ppaction://hlinksldjump"/>
          </p:cNvPr>
          <p:cNvSpPr/>
          <p:nvPr/>
        </p:nvSpPr>
        <p:spPr>
          <a:xfrm>
            <a:off x="8070840" y="590220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734760" y="1800360"/>
            <a:ext cx="49359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гаты,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8"/>
          <p:cNvSpPr/>
          <p:nvPr/>
        </p:nvSpPr>
        <p:spPr>
          <a:xfrm>
            <a:off x="4891680" y="2765520"/>
            <a:ext cx="3689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м и ра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" descr="http://www.zbilet.ru/images/upload/events/neznaika.jpg"/>
          <p:cNvPicPr/>
          <p:nvPr/>
        </p:nvPicPr>
        <p:blipFill>
          <a:blip r:embed="rId4"/>
          <a:stretch/>
        </p:blipFill>
        <p:spPr>
          <a:xfrm>
            <a:off x="0" y="3800520"/>
            <a:ext cx="3057120" cy="30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>
            <a:hlinkClick r:id="rId1" action="ppaction://hlinksldjump"/>
          </p:cNvPr>
          <p:cNvSpPr/>
          <p:nvPr/>
        </p:nvSpPr>
        <p:spPr>
          <a:xfrm>
            <a:off x="0" y="2463840"/>
            <a:ext cx="86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91" name="Picture 7" descr="55"/>
          <p:cNvPicPr/>
          <p:nvPr/>
        </p:nvPicPr>
        <p:blipFill>
          <a:blip r:embed="rId2"/>
          <a:stretch/>
        </p:blipFill>
        <p:spPr>
          <a:xfrm>
            <a:off x="7105680" y="4152960"/>
            <a:ext cx="2417400" cy="21664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0" y="1724040"/>
            <a:ext cx="8900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4400" spc="-1" strike="noStrike"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93" name="AutoShape 10">
            <a:hlinkClick r:id="rId3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94" name="Прямоугольник 6"/>
          <p:cNvSpPr/>
          <p:nvPr/>
        </p:nvSpPr>
        <p:spPr>
          <a:xfrm>
            <a:off x="771480" y="774720"/>
            <a:ext cx="790236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лучше всех на свете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её прожить нельзя.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она у Кати, Пети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у меня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7"/>
          <p:cNvSpPr/>
          <p:nvPr/>
        </p:nvSpPr>
        <p:spPr>
          <a:xfrm>
            <a:off x="4994280" y="3971880"/>
            <a:ext cx="31366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Мам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9" descr="Картинка 17 из 2116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0880" y="3730680"/>
            <a:ext cx="40413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>
            <a:hlinkClick r:id="rId1" action="ppaction://hlinksldjump"/>
          </p:cNvPr>
          <p:cNvSpPr/>
          <p:nvPr/>
        </p:nvSpPr>
        <p:spPr>
          <a:xfrm>
            <a:off x="250920" y="482760"/>
            <a:ext cx="8640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imes New Roman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55"/>
          <p:cNvPicPr/>
          <p:nvPr/>
        </p:nvPicPr>
        <p:blipFill>
          <a:blip r:embed="rId2"/>
          <a:stretch/>
        </p:blipFill>
        <p:spPr>
          <a:xfrm>
            <a:off x="5954760" y="3429000"/>
            <a:ext cx="3658680" cy="294588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8">
            <a:hlinkClick r:id="rId3" action="ppaction://hlinksldjump"/>
          </p:cNvPr>
          <p:cNvSpPr/>
          <p:nvPr/>
        </p:nvSpPr>
        <p:spPr>
          <a:xfrm>
            <a:off x="835992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289080" y="1498680"/>
            <a:ext cx="772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4000" spc="-1" strike="noStrike"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1287000" y="520200"/>
            <a:ext cx="68029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юбить не устает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 для нас печет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ные оладушки?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ша...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6"/>
          <p:cNvSpPr/>
          <p:nvPr/>
        </p:nvSpPr>
        <p:spPr>
          <a:xfrm>
            <a:off x="4572000" y="3429000"/>
            <a:ext cx="4571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  <a:ea typeface="Arial"/>
              </a:rPr>
              <a:t>Бабушк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3" descr="Картинка 30 из 16174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52560" y="3429000"/>
            <a:ext cx="2412720" cy="31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0" descr="55"/>
          <p:cNvPicPr/>
          <p:nvPr/>
        </p:nvPicPr>
        <p:blipFill>
          <a:blip r:embed="rId1"/>
          <a:stretch/>
        </p:blipFill>
        <p:spPr>
          <a:xfrm>
            <a:off x="5954760" y="4383000"/>
            <a:ext cx="2284200" cy="229212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11">
            <a:hlinkClick r:id="rId2" action="ppaction://hlinksldjump"/>
          </p:cNvPr>
          <p:cNvSpPr/>
          <p:nvPr/>
        </p:nvSpPr>
        <p:spPr>
          <a:xfrm>
            <a:off x="823896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0" y="422280"/>
            <a:ext cx="18396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6000" spc="-1" strike="noStrike"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469800" y="412920"/>
            <a:ext cx="796248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рудился не от скуки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в мозолях руки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он стар и сед —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родной, любимый...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5657760" y="3308400"/>
            <a:ext cx="4571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дед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160"/>
          <p:cNvPicPr/>
          <p:nvPr/>
        </p:nvPicPr>
        <p:blipFill>
          <a:blip r:embed="rId3"/>
          <a:srcRect l="379" t="376" r="379" b="376"/>
          <a:stretch/>
        </p:blipFill>
        <p:spPr>
          <a:xfrm>
            <a:off x="952560" y="3902040"/>
            <a:ext cx="2352240" cy="2352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Картинка 29 из 1536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9800" y="3652920"/>
            <a:ext cx="3076200" cy="32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Рисунок5"/>
          <p:cNvPicPr/>
          <p:nvPr/>
        </p:nvPicPr>
        <p:blipFill>
          <a:blip r:embed="rId1"/>
          <a:stretch/>
        </p:blipFill>
        <p:spPr>
          <a:xfrm>
            <a:off x="0" y="4210200"/>
            <a:ext cx="2887200" cy="24080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>
            <a:hlinkClick r:id="rId2" action="ppaction://hlinksldjump"/>
          </p:cNvPr>
          <p:cNvSpPr/>
          <p:nvPr/>
        </p:nvSpPr>
        <p:spPr>
          <a:xfrm>
            <a:off x="723960" y="603360"/>
            <a:ext cx="8419680" cy="110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6600" spc="-1" strike="noStrike"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313" name="AutoShape 7">
            <a:hlinkClick r:id="rId3" action="ppaction://hlinksldjump"/>
          </p:cNvPr>
          <p:cNvSpPr/>
          <p:nvPr/>
        </p:nvSpPr>
        <p:spPr>
          <a:xfrm>
            <a:off x="8070840" y="590220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289080" y="473040"/>
            <a:ext cx="885456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учит гвоздь забить,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ст машину порулить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скажет, как быть смелым,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м, ловким и умелы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4" descr="Z_frage"/>
          <p:cNvPicPr/>
          <p:nvPr/>
        </p:nvPicPr>
        <p:blipFill>
          <a:blip r:embed="rId4"/>
          <a:stretch/>
        </p:blipFill>
        <p:spPr>
          <a:xfrm>
            <a:off x="7709040" y="412920"/>
            <a:ext cx="887040" cy="1026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Smily01"/>
          <p:cNvPicPr/>
          <p:nvPr/>
        </p:nvPicPr>
        <p:blipFill>
          <a:blip r:embed="rId5"/>
          <a:stretch/>
        </p:blipFill>
        <p:spPr>
          <a:xfrm>
            <a:off x="303120" y="5052960"/>
            <a:ext cx="1742760" cy="1525320"/>
          </a:xfrm>
          <a:prstGeom prst="rect">
            <a:avLst/>
          </a:prstGeom>
          <a:ln w="0">
            <a:noFill/>
          </a:ln>
        </p:spPr>
      </p:pic>
      <p:sp>
        <p:nvSpPr>
          <p:cNvPr id="317" name="TextBox 7"/>
          <p:cNvSpPr/>
          <p:nvPr/>
        </p:nvSpPr>
        <p:spPr>
          <a:xfrm>
            <a:off x="4873680" y="3549600"/>
            <a:ext cx="27144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пап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30800" y="3790800"/>
            <a:ext cx="30762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  <a:ea typeface="Arial"/>
              </a:rPr>
              <a:t>сестра   </a:t>
            </a:r>
            <a:endParaRPr b="0" lang="ru-RU" sz="6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875952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  <a:ea typeface="Arial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с папой говорят,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еперь я — старший брат,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куколка в коляск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чет? Видимо, от тряски? </a:t>
            </a:r>
            <a:br>
              <a:rPr sz="4400"/>
            </a:b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320" name="Picture 7" descr="55"/>
          <p:cNvPicPr/>
          <p:nvPr/>
        </p:nvPicPr>
        <p:blipFill>
          <a:blip r:embed="rId1"/>
          <a:stretch/>
        </p:blipFill>
        <p:spPr>
          <a:xfrm>
            <a:off x="6321600" y="4514760"/>
            <a:ext cx="1934640" cy="15584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9">
            <a:hlinkClick r:id="rId2" action="ppaction://hlinksldjump"/>
          </p:cNvPr>
          <p:cNvSpPr/>
          <p:nvPr/>
        </p:nvSpPr>
        <p:spPr>
          <a:xfrm>
            <a:off x="8299440" y="58942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22" name="Picture 7" descr="http://www.otoys.ru/picturesNew/madame_alexander/b_46130.jpg"/>
          <p:cNvPicPr/>
          <p:nvPr/>
        </p:nvPicPr>
        <p:blipFill>
          <a:blip r:embed="rId3"/>
          <a:stretch/>
        </p:blipFill>
        <p:spPr>
          <a:xfrm>
            <a:off x="530280" y="3610080"/>
            <a:ext cx="2653920" cy="26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24" name="AutoShape 10">
            <a:hlinkClick r:id="rId1" action="ppaction://hlinksldjump"/>
          </p:cNvPr>
          <p:cNvSpPr/>
          <p:nvPr/>
        </p:nvSpPr>
        <p:spPr>
          <a:xfrm>
            <a:off x="823896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25" name="TextBox 7"/>
          <p:cNvSpPr/>
          <p:nvPr/>
        </p:nvSpPr>
        <p:spPr>
          <a:xfrm>
            <a:off x="243000" y="955800"/>
            <a:ext cx="89006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ьте буквы таким образом, чтобы слово перестало быть «странны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7200" spc="-1" strike="noStrike">
                <a:solidFill>
                  <a:srgbClr val="800000"/>
                </a:solidFill>
                <a:latin typeface="Arial"/>
                <a:ea typeface="Arial"/>
              </a:rPr>
              <a:t>ямьс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4511520" y="4152960"/>
            <a:ext cx="3317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  <a:ea typeface="Arial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мои рисунки 3251"/>
          <p:cNvPicPr/>
          <p:nvPr/>
        </p:nvPicPr>
        <p:blipFill>
          <a:blip r:embed="rId2"/>
          <a:stretch/>
        </p:blipFill>
        <p:spPr>
          <a:xfrm>
            <a:off x="711360" y="4152960"/>
            <a:ext cx="244764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>
            <a:hlinkClick r:id="rId1" action="ppaction://hlinksldjump"/>
          </p:cNvPr>
          <p:cNvSpPr/>
          <p:nvPr/>
        </p:nvSpPr>
        <p:spPr>
          <a:xfrm>
            <a:off x="503280" y="533520"/>
            <a:ext cx="86403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ьте буквы таким образом, чтобы слово перестало быть «странны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1" lang="ru-RU" sz="8000" spc="-1" strike="noStrike">
                <a:solidFill>
                  <a:srgbClr val="800000"/>
                </a:solidFill>
                <a:latin typeface="Arial"/>
                <a:ea typeface="Arial"/>
              </a:rPr>
              <a:t>редоили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330" name="Object 5"/>
          <p:cNvGraphicFramePr/>
          <p:nvPr/>
        </p:nvGraphicFramePr>
        <p:xfrm>
          <a:off x="3908520" y="1558800"/>
          <a:ext cx="126720" cy="286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Object 5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8520" y="1558800"/>
                    <a:ext cx="126720" cy="28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0"/>
          <p:cNvGraphicFramePr/>
          <p:nvPr/>
        </p:nvGraphicFramePr>
        <p:xfrm>
          <a:off x="4089240" y="2781360"/>
          <a:ext cx="914040" cy="19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89240" y="2781360"/>
                    <a:ext cx="914040" cy="19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AutoShape 12">
            <a:hlinkClick r:id="rId7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35" name="Прямоугольник 9"/>
          <p:cNvSpPr/>
          <p:nvPr/>
        </p:nvSpPr>
        <p:spPr>
          <a:xfrm>
            <a:off x="4352040" y="3971880"/>
            <a:ext cx="4530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  <a:ea typeface="Arial"/>
              </a:rPr>
              <a:t>родител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8" descr="160"/>
          <p:cNvPicPr/>
          <p:nvPr/>
        </p:nvPicPr>
        <p:blipFill>
          <a:blip r:embed="rId8"/>
          <a:srcRect l="379" t="376" r="379" b="376"/>
          <a:stretch/>
        </p:blipFill>
        <p:spPr>
          <a:xfrm>
            <a:off x="7709040" y="291960"/>
            <a:ext cx="1085400" cy="1085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" descr="Картинка 12 из 21254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0280" y="3790800"/>
            <a:ext cx="29430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39" name="WordArt 8"/>
          <p:cNvSpPr txBox="1"/>
          <p:nvPr/>
        </p:nvSpPr>
        <p:spPr>
          <a:xfrm>
            <a:off x="663480" y="2346480"/>
            <a:ext cx="6852960" cy="2831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Times New Roman"/>
                <a:ea typeface="Arial"/>
              </a:rPr>
              <a:t> 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sp>
        <p:nvSpPr>
          <p:cNvPr id="340" name="AutoShape 9">
            <a:hlinkClick r:id="rId1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685880" y="1023840"/>
            <a:ext cx="37033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  <a:ea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482760" y="1324080"/>
            <a:ext cx="811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Arial"/>
              </a:rPr>
              <a:t> </a:t>
            </a:r>
            <a:br>
              <a:rPr sz="5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6120" y="774720"/>
            <a:ext cx="886752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ьте буквы таким образом, чтобы слово перестало быть «странны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        </a:t>
            </a:r>
            <a:r>
              <a:rPr b="1" lang="ru-RU" sz="7200" spc="-1" strike="noStrike">
                <a:solidFill>
                  <a:srgbClr val="800000"/>
                </a:solidFill>
                <a:latin typeface="Arial"/>
                <a:ea typeface="Arial"/>
              </a:rPr>
              <a:t>лауц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5792760" y="3911760"/>
            <a:ext cx="26758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ули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1" descr="Картинка 14 из 708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9800" y="3911760"/>
            <a:ext cx="336528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55"/>
          <p:cNvPicPr/>
          <p:nvPr/>
        </p:nvPicPr>
        <p:blipFill>
          <a:blip r:embed="rId1"/>
          <a:stretch/>
        </p:blipFill>
        <p:spPr>
          <a:xfrm>
            <a:off x="5775480" y="4511520"/>
            <a:ext cx="2388960" cy="192384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9">
            <a:hlinkClick r:id="rId2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349200" y="593640"/>
            <a:ext cx="85532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ьте буквы таким образом, чтобы слово перестало быть «странны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6600" spc="-1" strike="noStrike">
                <a:solidFill>
                  <a:srgbClr val="800000"/>
                </a:solidFill>
                <a:latin typeface="Arial"/>
                <a:ea typeface="Arial"/>
              </a:rPr>
              <a:t>Бадус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3380400" y="4394160"/>
            <a:ext cx="2855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  <a:ea typeface="Arial"/>
              </a:rPr>
              <a:t>судь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160"/>
          <p:cNvPicPr/>
          <p:nvPr/>
        </p:nvPicPr>
        <p:blipFill>
          <a:blip r:embed="rId1"/>
          <a:srcRect l="379" t="376" r="379" b="376"/>
          <a:stretch/>
        </p:blipFill>
        <p:spPr>
          <a:xfrm>
            <a:off x="7162920" y="5118120"/>
            <a:ext cx="1739520" cy="173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2"/>
          <a:stretch/>
        </p:blipFill>
        <p:spPr>
          <a:xfrm>
            <a:off x="0" y="214200"/>
            <a:ext cx="5714640" cy="1247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160"/>
          <p:cNvPicPr/>
          <p:nvPr/>
        </p:nvPicPr>
        <p:blipFill>
          <a:blip r:embed="rId3"/>
          <a:srcRect l="379" t="376" r="379" b="376"/>
          <a:stretch/>
        </p:blipFill>
        <p:spPr>
          <a:xfrm>
            <a:off x="7165800" y="5118120"/>
            <a:ext cx="1739520" cy="17395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530280" y="714240"/>
            <a:ext cx="826416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ья – самое главное в жизни для каждого из нас. Семья – это близкие и родные люди, те, кого мы любим, с кого берем пример, о ком заботимся, кому желаем добра и счастья. Именно в семье мы учимся любви, ответственности,    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те и уваж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Рисунок5"/>
          <p:cNvPicPr/>
          <p:nvPr/>
        </p:nvPicPr>
        <p:blipFill>
          <a:blip r:embed="rId1"/>
          <a:stretch/>
        </p:blipFill>
        <p:spPr>
          <a:xfrm>
            <a:off x="0" y="4800600"/>
            <a:ext cx="2466720" cy="2057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Smily01"/>
          <p:cNvPicPr/>
          <p:nvPr/>
        </p:nvPicPr>
        <p:blipFill>
          <a:blip r:embed="rId2"/>
          <a:stretch/>
        </p:blipFill>
        <p:spPr>
          <a:xfrm>
            <a:off x="303120" y="5541840"/>
            <a:ext cx="1503000" cy="13158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1"/>
          <p:cNvSpPr/>
          <p:nvPr/>
        </p:nvSpPr>
        <p:spPr>
          <a:xfrm>
            <a:off x="530280" y="714240"/>
            <a:ext cx="78163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ьте буквы таким образом, чтобы слово перестало быть «странны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  <a:ea typeface="Arial"/>
              </a:rPr>
              <a:t>        </a:t>
            </a:r>
            <a:r>
              <a:rPr b="0" lang="ru-RU" sz="6000" spc="-1" strike="noStrike">
                <a:solidFill>
                  <a:srgbClr val="800000"/>
                </a:solidFill>
                <a:latin typeface="Arial"/>
                <a:ea typeface="Arial"/>
              </a:rPr>
              <a:t>Беёркн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7">
            <a:hlinkClick r:id="rId3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5293800" y="4092480"/>
            <a:ext cx="3829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Ребёно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Картинка 33 из 21254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3613320"/>
            <a:ext cx="3244320" cy="32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>
            <a:hlinkClick r:id="rId1" action="ppaction://hlinksldjump"/>
          </p:cNvPr>
          <p:cNvSpPr/>
          <p:nvPr/>
        </p:nvSpPr>
        <p:spPr>
          <a:xfrm>
            <a:off x="289080" y="412920"/>
            <a:ext cx="864036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кажите лишний напит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а-кол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жом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та, лимонад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>
            <a:hlinkClick r:id="rId2" action="ppaction://hlinksldjump"/>
          </p:cNvPr>
          <p:cNvSpPr/>
          <p:nvPr/>
        </p:nvSpPr>
        <p:spPr>
          <a:xfrm>
            <a:off x="812016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2641680" y="4635360"/>
            <a:ext cx="6501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Морс – негазированный напит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Картинка 6 из 1566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69160" y="3247920"/>
            <a:ext cx="783720" cy="1472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http://cs10970.vkontakte.ru/u57833273/121214881/x_66cc72e4.jpg"/>
          <p:cNvPicPr/>
          <p:nvPr/>
        </p:nvPicPr>
        <p:blipFill>
          <a:blip r:embed="rId5"/>
          <a:stretch/>
        </p:blipFill>
        <p:spPr>
          <a:xfrm>
            <a:off x="7467480" y="1076400"/>
            <a:ext cx="1447560" cy="2004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Картинка 1 из 10824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59440" y="1257480"/>
            <a:ext cx="1334880" cy="2542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Картинка 5 из 16545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49720" y="1076400"/>
            <a:ext cx="15076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>
            <a:hlinkClick r:id="rId1" action="ppaction://hlinksldjump"/>
          </p:cNvPr>
          <p:cNvSpPr/>
          <p:nvPr/>
        </p:nvSpPr>
        <p:spPr>
          <a:xfrm>
            <a:off x="503280" y="1015920"/>
            <a:ext cx="8640360" cy="152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оставить из букв название блю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Arial"/>
              </a:rPr>
              <a:t>А Я Ц И Н Ч И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>
            <a:hlinkClick r:id="rId2" action="ppaction://hlinksldjump"/>
          </p:cNvPr>
          <p:cNvSpPr/>
          <p:nvPr/>
        </p:nvSpPr>
        <p:spPr>
          <a:xfrm>
            <a:off x="812016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5613480" y="3730680"/>
            <a:ext cx="3049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яич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http://news.arvo.ua/content/news/7ygjtvv32nr6d5dx5w.gif"/>
          <p:cNvPicPr/>
          <p:nvPr/>
        </p:nvPicPr>
        <p:blipFill>
          <a:blip r:embed="rId3"/>
          <a:stretch/>
        </p:blipFill>
        <p:spPr>
          <a:xfrm>
            <a:off x="469800" y="3429000"/>
            <a:ext cx="3003120" cy="30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>
            <a:hlinkClick r:id="rId1" action="ppaction://hlinksldjump"/>
          </p:cNvPr>
          <p:cNvSpPr/>
          <p:nvPr/>
        </p:nvSpPr>
        <p:spPr>
          <a:xfrm>
            <a:off x="952560" y="593640"/>
            <a:ext cx="73339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ить слово, которым заканчивается первое и начинается второе слово: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ВО(…)АЛИК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8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09680" y="4514760"/>
            <a:ext cx="84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3908520" y="4695840"/>
            <a:ext cx="1977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Рог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7" descr="55"/>
          <p:cNvPicPr/>
          <p:nvPr/>
        </p:nvPicPr>
        <p:blipFill>
          <a:blip r:embed="rId2"/>
          <a:stretch/>
        </p:blipFill>
        <p:spPr>
          <a:xfrm>
            <a:off x="5954760" y="3429000"/>
            <a:ext cx="3658680" cy="294588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8">
            <a:hlinkClick r:id="rId3" action="ppaction://hlinksldjump"/>
          </p:cNvPr>
          <p:cNvSpPr/>
          <p:nvPr/>
        </p:nvSpPr>
        <p:spPr>
          <a:xfrm>
            <a:off x="8070840" y="613872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55"/>
          <p:cNvPicPr/>
          <p:nvPr/>
        </p:nvPicPr>
        <p:blipFill>
          <a:blip r:embed="rId1"/>
          <a:stretch/>
        </p:blipFill>
        <p:spPr>
          <a:xfrm>
            <a:off x="5954760" y="4572000"/>
            <a:ext cx="2239560" cy="180288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7">
            <a:hlinkClick r:id="rId2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0" y="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880" y="723960"/>
            <a:ext cx="83005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771480" y="533520"/>
            <a:ext cx="790236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название продукта, необходимого для приготовления блю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(…)НИ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"/>
          <p:cNvSpPr/>
          <p:nvPr/>
        </p:nvSpPr>
        <p:spPr>
          <a:xfrm>
            <a:off x="3848040" y="4454640"/>
            <a:ext cx="2472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со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e-salt.ru/userdata/data/price/129.jpg"/>
          <p:cNvPicPr/>
          <p:nvPr/>
        </p:nvPicPr>
        <p:blipFill>
          <a:blip r:embed="rId3"/>
          <a:stretch/>
        </p:blipFill>
        <p:spPr>
          <a:xfrm>
            <a:off x="530280" y="2584440"/>
            <a:ext cx="2371320" cy="39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2"/>
          <p:cNvSpPr/>
          <p:nvPr/>
        </p:nvSpPr>
        <p:spPr>
          <a:xfrm>
            <a:off x="590400" y="774720"/>
            <a:ext cx="81435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из букв название блю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0" lang="ru-RU" sz="5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  <a:ea typeface="Arial"/>
              </a:rPr>
              <a:t>НСРЫИК.</a:t>
            </a:r>
            <a:r>
              <a:rPr b="0" i="1" lang="ru-RU" sz="5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7">
            <a:hlinkClick r:id="rId1" action="ppaction://hlinksldjump"/>
          </p:cNvPr>
          <p:cNvSpPr/>
          <p:nvPr/>
        </p:nvSpPr>
        <p:spPr>
          <a:xfrm>
            <a:off x="829944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4390920" y="3610080"/>
            <a:ext cx="36190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сырн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9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Group 111"/>
          <p:cNvGraphicFramePr/>
          <p:nvPr/>
        </p:nvGraphicFramePr>
        <p:xfrm>
          <a:off x="0" y="1015920"/>
          <a:ext cx="9143640" cy="5109840"/>
        </p:xfrm>
        <a:graphic>
          <a:graphicData uri="http://schemas.openxmlformats.org/drawingml/2006/table">
            <a:tbl>
              <a:tblPr/>
              <a:tblGrid>
                <a:gridCol w="3336840"/>
                <a:gridCol w="1060200"/>
                <a:gridCol w="1207800"/>
                <a:gridCol w="1209600"/>
                <a:gridCol w="1207800"/>
                <a:gridCol w="1120680"/>
              </a:tblGrid>
              <a:tr h="1204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«Устами младенца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3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0"/>
                        </a:spcBef>
                        <a:tabLst>
                          <a:tab algn="l" pos="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Герои сказ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93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Родственные отноше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458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0"/>
                        </a:spcBef>
                        <a:tabLst>
                          <a:tab algn="l" pos="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Ребус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9"/>
                        </a:spcBef>
                        <a:tabLst>
                          <a:tab algn="l" pos="0"/>
                        </a:tabLst>
                      </a:pPr>
                      <a:endParaRPr b="0" lang="ru-RU" sz="2600" spc="-1" strike="noStrike">
                        <a:solidFill>
                          <a:srgbClr val="ff33cc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83" name="Text Box 39">
            <a:hlinkClick r:id="rId1" action="ppaction://hlinksldjump"/>
          </p:cNvPr>
          <p:cNvSpPr/>
          <p:nvPr/>
        </p:nvSpPr>
        <p:spPr>
          <a:xfrm>
            <a:off x="3368520" y="108432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0">
            <a:hlinkClick r:id="rId3" action="ppaction://hlinksldjump"/>
          </p:cNvPr>
          <p:cNvSpPr/>
          <p:nvPr/>
        </p:nvSpPr>
        <p:spPr>
          <a:xfrm>
            <a:off x="4500720" y="105264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1">
            <a:hlinkClick r:id="rId5" action="ppaction://hlinksldjump"/>
          </p:cNvPr>
          <p:cNvSpPr/>
          <p:nvPr/>
        </p:nvSpPr>
        <p:spPr>
          <a:xfrm>
            <a:off x="5651640" y="1052640"/>
            <a:ext cx="1007640" cy="63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6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42">
            <a:hlinkClick r:id="rId7" action="ppaction://hlinksldjump"/>
          </p:cNvPr>
          <p:cNvSpPr/>
          <p:nvPr/>
        </p:nvSpPr>
        <p:spPr>
          <a:xfrm>
            <a:off x="6804000" y="105264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3">
            <a:hlinkClick r:id="rId9" action="ppaction://hlinksldjump"/>
          </p:cNvPr>
          <p:cNvSpPr/>
          <p:nvPr/>
        </p:nvSpPr>
        <p:spPr>
          <a:xfrm>
            <a:off x="7885080" y="105264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4">
            <a:hlinkClick r:id="rId11" action="ppaction://hlinksldjump"/>
          </p:cNvPr>
          <p:cNvSpPr/>
          <p:nvPr/>
        </p:nvSpPr>
        <p:spPr>
          <a:xfrm>
            <a:off x="3348000" y="258768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5">
            <a:hlinkClick r:id="rId13" action="ppaction://hlinksldjump"/>
          </p:cNvPr>
          <p:cNvSpPr/>
          <p:nvPr/>
        </p:nvSpPr>
        <p:spPr>
          <a:xfrm>
            <a:off x="4500720" y="258768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6">
            <a:hlinkClick r:id="rId15" action="ppaction://hlinksldjump"/>
          </p:cNvPr>
          <p:cNvSpPr/>
          <p:nvPr/>
        </p:nvSpPr>
        <p:spPr>
          <a:xfrm>
            <a:off x="5651640" y="258768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7">
            <a:hlinkClick r:id="rId17" action="ppaction://hlinksldjump"/>
          </p:cNvPr>
          <p:cNvSpPr/>
          <p:nvPr/>
        </p:nvSpPr>
        <p:spPr>
          <a:xfrm>
            <a:off x="6796080" y="258768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8">
            <a:hlinkClick r:id="rId19" action="ppaction://hlinksldjump"/>
          </p:cNvPr>
          <p:cNvSpPr/>
          <p:nvPr/>
        </p:nvSpPr>
        <p:spPr>
          <a:xfrm>
            <a:off x="7878600" y="258768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9">
            <a:hlinkClick r:id="rId21" action="ppaction://hlinksldjump"/>
          </p:cNvPr>
          <p:cNvSpPr/>
          <p:nvPr/>
        </p:nvSpPr>
        <p:spPr>
          <a:xfrm>
            <a:off x="3348000" y="36450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0">
            <a:hlinkClick r:id="rId23" action="ppaction://hlinksldjump"/>
          </p:cNvPr>
          <p:cNvSpPr/>
          <p:nvPr/>
        </p:nvSpPr>
        <p:spPr>
          <a:xfrm>
            <a:off x="4451400" y="3670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1">
            <a:hlinkClick r:id="rId25" action="ppaction://hlinksldjump"/>
          </p:cNvPr>
          <p:cNvSpPr/>
          <p:nvPr/>
        </p:nvSpPr>
        <p:spPr>
          <a:xfrm>
            <a:off x="5594400" y="3670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2">
            <a:hlinkClick r:id="rId27" action="ppaction://hlinksldjump"/>
          </p:cNvPr>
          <p:cNvSpPr/>
          <p:nvPr/>
        </p:nvSpPr>
        <p:spPr>
          <a:xfrm>
            <a:off x="6804000" y="36450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2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3">
            <a:hlinkClick r:id="rId29" action="ppaction://hlinksldjump"/>
          </p:cNvPr>
          <p:cNvSpPr/>
          <p:nvPr/>
        </p:nvSpPr>
        <p:spPr>
          <a:xfrm>
            <a:off x="7885080" y="36450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4"/>
          <p:cNvSpPr/>
          <p:nvPr/>
        </p:nvSpPr>
        <p:spPr>
          <a:xfrm>
            <a:off x="3348000" y="4948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1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5">
            <a:hlinkClick r:id="rId32" action="ppaction://hlinksldjump"/>
          </p:cNvPr>
          <p:cNvSpPr/>
          <p:nvPr/>
        </p:nvSpPr>
        <p:spPr>
          <a:xfrm>
            <a:off x="4451400" y="49323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6"/>
          <p:cNvSpPr/>
          <p:nvPr/>
        </p:nvSpPr>
        <p:spPr>
          <a:xfrm>
            <a:off x="5651640" y="4948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7">
            <a:hlinkClick r:id="rId35" action="ppaction://hlinksldjump"/>
          </p:cNvPr>
          <p:cNvSpPr/>
          <p:nvPr/>
        </p:nvSpPr>
        <p:spPr>
          <a:xfrm>
            <a:off x="6804000" y="4948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8">
            <a:hlinkClick r:id="rId37" action="ppaction://hlinksldjump"/>
          </p:cNvPr>
          <p:cNvSpPr/>
          <p:nvPr/>
        </p:nvSpPr>
        <p:spPr>
          <a:xfrm>
            <a:off x="7885080" y="494820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3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62">
            <a:hlinkClick r:id="rId39" action="ppaction://hlinksldjump"/>
          </p:cNvPr>
          <p:cNvSpPr/>
          <p:nvPr/>
        </p:nvSpPr>
        <p:spPr>
          <a:xfrm>
            <a:off x="5778360" y="6308640"/>
            <a:ext cx="3365280" cy="549000"/>
          </a:xfrm>
          <a:prstGeom prst="actionButtonBlank">
            <a:avLst/>
          </a:prstGeom>
          <a:gradFill rotWithShape="0">
            <a:gsLst>
              <a:gs pos="0">
                <a:srgbClr val="e6e6e6"/>
              </a:gs>
              <a:gs pos="100000">
                <a:srgbClr val="7d8496"/>
              </a:gs>
            </a:gsLst>
            <a:lin ang="27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Baskerville Win95BT"/>
                <a:ea typeface="Arial"/>
                <a:hlinkClick r:id="rId40" action="ppaction://hlinksldjump"/>
              </a:rPr>
              <a:t>Финальный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3"/>
          <p:cNvSpPr/>
          <p:nvPr/>
        </p:nvSpPr>
        <p:spPr>
          <a:xfrm>
            <a:off x="0" y="0"/>
            <a:ext cx="9143640" cy="91260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2 Т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delay="0" evt="onClick">
                    <p:tgtEl>
                      <p:spTgt spid="385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delay="0"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delay="0" evt="onClick">
                    <p:tgtEl>
                      <p:spTgt spid="383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delay="0"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delay="0" evt="onClick">
                    <p:tgtEl>
                      <p:spTgt spid="384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delay="0"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delay="0" evt="onClick">
                    <p:tgtEl>
                      <p:spTgt spid="386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delay="0"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delay="0" evt="onClick">
                    <p:tgtEl>
                      <p:spTgt spid="387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delay="0"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delay="0" evt="onClick">
                    <p:tgtEl>
                      <p:spTgt spid="388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delay="0"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delay="0" evt="onClick">
                    <p:tgtEl>
                      <p:spTgt spid="389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delay="0"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3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delay="0" evt="onClick">
                    <p:tgtEl>
                      <p:spTgt spid="390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delay="0"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delay="0" evt="onClick">
                    <p:tgtEl>
                      <p:spTgt spid="392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delay="0"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delay="0" evt="onClick">
                    <p:tgtEl>
                      <p:spTgt spid="391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delay="0"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delay="0" evt="onClick">
                    <p:tgtEl>
                      <p:spTgt spid="402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delay="0"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4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delay="0" evt="onClick">
                    <p:tgtEl>
                      <p:spTgt spid="401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delay="0"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delay="0" evt="onClick">
                    <p:tgtEl>
                      <p:spTgt spid="400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delay="0"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4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delay="0" evt="onClick">
                    <p:tgtEl>
                      <p:spTgt spid="399"/>
                    </p:tgtEl>
                  </p:cond>
                </p:stCondLst>
                <p:childTnLst>
                  <p:par>
                    <p:cTn id="429" nodeType="clickEffect" fill="hold">
                      <p:stCondLst>
                        <p:cond delay="0"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delay="0" evt="onClick">
                    <p:tgtEl>
                      <p:spTgt spid="398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delay="0"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4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delay="0" evt="onClick">
                    <p:tgtEl>
                      <p:spTgt spid="397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delay="0"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delay="0" evt="onClick">
                    <p:tgtEl>
                      <p:spTgt spid="396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delay="0"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delay="0" evt="onClick">
                    <p:tgtEl>
                      <p:spTgt spid="395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delay="0"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delay="0" evt="onClick">
                    <p:tgtEl>
                      <p:spTgt spid="394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delay="0" evt="onClick">
                    <p:tgtEl>
                      <p:spTgt spid="393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delay="0"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7">
            <a:hlinkClick r:id="rId1" action="ppaction://hlinksldjump"/>
          </p:cNvPr>
          <p:cNvSpPr/>
          <p:nvPr/>
        </p:nvSpPr>
        <p:spPr>
          <a:xfrm>
            <a:off x="835992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831960" y="1679400"/>
            <a:ext cx="75402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гда все вместе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папа, бабушка, дедуш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175360" y="3429000"/>
            <a:ext cx="2835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мь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5" descr="семья у телика"/>
          <p:cNvPicPr/>
          <p:nvPr/>
        </p:nvPicPr>
        <p:blipFill>
          <a:blip r:embed="rId2"/>
          <a:stretch/>
        </p:blipFill>
        <p:spPr>
          <a:xfrm>
            <a:off x="530280" y="3670200"/>
            <a:ext cx="3315960" cy="25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8">
            <a:hlinkClick r:id="rId1" action="ppaction://hlinksldjump"/>
          </p:cNvPr>
          <p:cNvSpPr/>
          <p:nvPr/>
        </p:nvSpPr>
        <p:spPr>
          <a:xfrm>
            <a:off x="8496360" y="613872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10" name="Прямоугольник 4"/>
          <p:cNvSpPr/>
          <p:nvPr/>
        </p:nvSpPr>
        <p:spPr>
          <a:xfrm>
            <a:off x="469800" y="2041560"/>
            <a:ext cx="8083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это самое дорогое, ее берегут, передают из поколения в покол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2911680" y="3971880"/>
            <a:ext cx="5734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мейная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ликв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://www.zbilet.ru/images/upload/events/neznaika.jpg"/>
          <p:cNvPicPr/>
          <p:nvPr/>
        </p:nvPicPr>
        <p:blipFill>
          <a:blip r:embed="rId2"/>
          <a:stretch/>
        </p:blipFill>
        <p:spPr>
          <a:xfrm>
            <a:off x="6864480" y="6541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://cs5715.userapi.com/u6639745/-14/x_e68bc153.jpg"/>
          <p:cNvPicPr/>
          <p:nvPr/>
        </p:nvPicPr>
        <p:blipFill>
          <a:blip r:embed="rId3"/>
          <a:stretch/>
        </p:blipFill>
        <p:spPr>
          <a:xfrm>
            <a:off x="590400" y="3971880"/>
            <a:ext cx="24127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14">
            <a:hlinkClick r:id="rId1" action="ppaction://hlinksldjump"/>
          </p:cNvPr>
          <p:cNvSpPr/>
          <p:nvPr/>
        </p:nvSpPr>
        <p:spPr>
          <a:xfrm>
            <a:off x="8120160" y="5834160"/>
            <a:ext cx="887040" cy="8395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542880" y="1625760"/>
            <a:ext cx="79974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нежный, самый добрый, самый любимый человек для всех людей на Земл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7"/>
          <p:cNvSpPr/>
          <p:nvPr/>
        </p:nvSpPr>
        <p:spPr>
          <a:xfrm>
            <a:off x="5608440" y="3730680"/>
            <a:ext cx="1970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9" descr="семья "/>
          <p:cNvPicPr/>
          <p:nvPr/>
        </p:nvPicPr>
        <p:blipFill>
          <a:blip r:embed="rId2"/>
          <a:stretch/>
        </p:blipFill>
        <p:spPr>
          <a:xfrm>
            <a:off x="590400" y="3911760"/>
            <a:ext cx="229212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758880" y="835200"/>
            <a:ext cx="83847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Семья – это то, что мы делим на всех,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Всем понемножку: и слезы и смех,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Взлет и падение, радость, печаль,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Дружбу и ссоры, молчанья печать.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Семья – это то, что с тобою всегда.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Пусть мчатся секунды, недели, года, 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Но стены родные, отчий твой дом – </a:t>
            </a: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Сердце навеки останется в нем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 rot="20940000">
            <a:off x="-127080" y="-201600"/>
            <a:ext cx="5714640" cy="124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160"/>
          <p:cNvPicPr/>
          <p:nvPr/>
        </p:nvPicPr>
        <p:blipFill>
          <a:blip r:embed="rId2"/>
          <a:srcRect l="379" t="376" r="379" b="376"/>
          <a:stretch/>
        </p:blipFill>
        <p:spPr>
          <a:xfrm>
            <a:off x="7286760" y="5118120"/>
            <a:ext cx="1558440" cy="155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>
            <a:hlinkClick r:id="rId1" action="ppaction://hlinksldjump"/>
          </p:cNvPr>
          <p:cNvSpPr/>
          <p:nvPr/>
        </p:nvSpPr>
        <p:spPr>
          <a:xfrm>
            <a:off x="182520" y="2166840"/>
            <a:ext cx="864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endParaRPr b="0" lang="ru-RU" sz="6000" spc="-1" strike="noStrike">
              <a:solidFill>
                <a:srgbClr val="ff0000"/>
              </a:solidFill>
              <a:latin typeface="Times New Roman"/>
              <a:ea typeface="Arial"/>
            </a:endParaRPr>
          </a:p>
        </p:txBody>
      </p:sp>
      <p:pic>
        <p:nvPicPr>
          <p:cNvPr id="419" name="Picture 4" descr="Z_frage"/>
          <p:cNvPicPr/>
          <p:nvPr/>
        </p:nvPicPr>
        <p:blipFill>
          <a:blip r:embed="rId2"/>
          <a:stretch/>
        </p:blipFill>
        <p:spPr>
          <a:xfrm>
            <a:off x="723960" y="505296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7">
            <a:hlinkClick r:id="rId3" action="ppaction://hlinksldjump"/>
          </p:cNvPr>
          <p:cNvSpPr/>
          <p:nvPr/>
        </p:nvSpPr>
        <p:spPr>
          <a:xfrm>
            <a:off x="8359920" y="59547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275040" y="1860480"/>
            <a:ext cx="8832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, где мы бываем все вмест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5668200" y="3247920"/>
            <a:ext cx="198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  <a:ea typeface="Arial"/>
              </a:rPr>
              <a:t>д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8" descr="домик"/>
          <p:cNvPicPr/>
          <p:nvPr/>
        </p:nvPicPr>
        <p:blipFill>
          <a:blip r:embed="rId4"/>
          <a:stretch/>
        </p:blipFill>
        <p:spPr>
          <a:xfrm>
            <a:off x="590400" y="2946240"/>
            <a:ext cx="2774520" cy="34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469800" y="1197000"/>
            <a:ext cx="8264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акое маленькое, пищащее, доставляющее много хлопот, но его все равно любя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71800" y="3308400"/>
            <a:ext cx="35704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ребён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" descr="160"/>
          <p:cNvPicPr/>
          <p:nvPr/>
        </p:nvPicPr>
        <p:blipFill>
          <a:blip r:embed="rId1"/>
          <a:srcRect l="379" t="376" r="379" b="376"/>
          <a:stretch/>
        </p:blipFill>
        <p:spPr>
          <a:xfrm>
            <a:off x="4692600" y="4575240"/>
            <a:ext cx="1739520" cy="1739520"/>
          </a:xfrm>
          <a:prstGeom prst="rect">
            <a:avLst/>
          </a:prstGeom>
          <a:ln w="0">
            <a:noFill/>
          </a:ln>
        </p:spPr>
      </p:pic>
      <p:sp>
        <p:nvSpPr>
          <p:cNvPr id="427" name="AutoShape 6">
            <a:hlinkClick r:id="rId2" action="ppaction://hlinksldjump"/>
          </p:cNvPr>
          <p:cNvSpPr/>
          <p:nvPr/>
        </p:nvSpPr>
        <p:spPr>
          <a:xfrm>
            <a:off x="8070840" y="5781600"/>
            <a:ext cx="647280" cy="60300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Z_frage"/>
          <p:cNvPicPr/>
          <p:nvPr/>
        </p:nvPicPr>
        <p:blipFill>
          <a:blip r:embed="rId1"/>
          <a:stretch/>
        </p:blipFill>
        <p:spPr>
          <a:xfrm>
            <a:off x="7588080" y="71424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6">
            <a:hlinkClick r:id="rId2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831960" y="412920"/>
            <a:ext cx="7480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арём шагает в шк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мальчуг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ет вместо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отняный балаг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овётся эта книж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овётся сам мальчиш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9" descr="http://www.prozagadki.ru/uploads/posts/2010-02/1266512670_1.jpg"/>
          <p:cNvPicPr/>
          <p:nvPr/>
        </p:nvPicPr>
        <p:blipFill>
          <a:blip r:embed="rId3"/>
          <a:stretch/>
        </p:blipFill>
        <p:spPr>
          <a:xfrm>
            <a:off x="4330800" y="4092480"/>
            <a:ext cx="2472840" cy="24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2046240" y="2406600"/>
            <a:ext cx="4509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66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33" name="Picture 5" descr="Z_frage"/>
          <p:cNvPicPr/>
          <p:nvPr/>
        </p:nvPicPr>
        <p:blipFill>
          <a:blip r:embed="rId1"/>
          <a:stretch/>
        </p:blipFill>
        <p:spPr>
          <a:xfrm>
            <a:off x="7532640" y="533520"/>
            <a:ext cx="1076040" cy="102528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8">
            <a:hlinkClick r:id="rId2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35" name="Прямоугольник 5"/>
          <p:cNvSpPr/>
          <p:nvPr/>
        </p:nvSpPr>
        <p:spPr>
          <a:xfrm>
            <a:off x="650880" y="412920"/>
            <a:ext cx="7721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леса, на опушке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е их живет в избушке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три стула и три кружки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кроватки, три подушки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 без подсказки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герои этой сказ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http://s58.radikal.ru/i161/1104/84/c2ec8be6f046.jpg"/>
          <p:cNvPicPr/>
          <p:nvPr/>
        </p:nvPicPr>
        <p:blipFill>
          <a:blip r:embed="rId3"/>
          <a:stretch/>
        </p:blipFill>
        <p:spPr>
          <a:xfrm>
            <a:off x="4572000" y="4032360"/>
            <a:ext cx="3558960" cy="25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AutoShape 6">
            <a:hlinkClick r:id="rId1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38" name="Прямоугольник 6"/>
          <p:cNvSpPr/>
          <p:nvPr/>
        </p:nvSpPr>
        <p:spPr>
          <a:xfrm>
            <a:off x="771480" y="352440"/>
            <a:ext cx="8191080" cy="45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книжке – именины,  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было там г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этих именин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ся вдруг зло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тел убить хозяй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ть её не погуб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коварному злоде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голову срубил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8" descr="http://www.baby.ru/storage/a/5/6/2/328881.260696.gif"/>
          <p:cNvPicPr/>
          <p:nvPr/>
        </p:nvPicPr>
        <p:blipFill>
          <a:blip r:embed="rId2"/>
          <a:stretch/>
        </p:blipFill>
        <p:spPr>
          <a:xfrm>
            <a:off x="5537160" y="2825640"/>
            <a:ext cx="3354120" cy="30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Рисунок5"/>
          <p:cNvPicPr/>
          <p:nvPr/>
        </p:nvPicPr>
        <p:blipFill>
          <a:blip r:embed="rId1"/>
          <a:stretch/>
        </p:blipFill>
        <p:spPr>
          <a:xfrm>
            <a:off x="0" y="4449600"/>
            <a:ext cx="2887200" cy="240804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4">
            <a:hlinkClick r:id="rId2" action="ppaction://hlinksldjump"/>
          </p:cNvPr>
          <p:cNvSpPr/>
          <p:nvPr/>
        </p:nvSpPr>
        <p:spPr>
          <a:xfrm>
            <a:off x="8496360" y="613872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42" name="Picture 3" descr="Smily01"/>
          <p:cNvPicPr/>
          <p:nvPr/>
        </p:nvPicPr>
        <p:blipFill>
          <a:blip r:embed="rId3"/>
          <a:stretch/>
        </p:blipFill>
        <p:spPr>
          <a:xfrm>
            <a:off x="303120" y="5292720"/>
            <a:ext cx="1785600" cy="1564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Z_frage"/>
          <p:cNvPicPr/>
          <p:nvPr/>
        </p:nvPicPr>
        <p:blipFill>
          <a:blip r:embed="rId4"/>
          <a:stretch/>
        </p:blipFill>
        <p:spPr>
          <a:xfrm>
            <a:off x="7407360" y="231840"/>
            <a:ext cx="1380600" cy="1599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7"/>
          <p:cNvSpPr/>
          <p:nvPr/>
        </p:nvSpPr>
        <p:spPr>
          <a:xfrm>
            <a:off x="590400" y="533520"/>
            <a:ext cx="7395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иреневый такой,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ет весело рукой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валился к нам с луны –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, любят малы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" descr="http://cs4555.userapi.com/u57411659/92181218/x_b9307b0e.jpg"/>
          <p:cNvPicPr/>
          <p:nvPr/>
        </p:nvPicPr>
        <p:blipFill>
          <a:blip r:embed="rId5"/>
          <a:stretch/>
        </p:blipFill>
        <p:spPr>
          <a:xfrm>
            <a:off x="3787920" y="3247920"/>
            <a:ext cx="4590720" cy="33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Рисунок5"/>
          <p:cNvPicPr/>
          <p:nvPr/>
        </p:nvPicPr>
        <p:blipFill>
          <a:blip r:embed="rId1"/>
          <a:stretch/>
        </p:blipFill>
        <p:spPr>
          <a:xfrm>
            <a:off x="0" y="4751280"/>
            <a:ext cx="2526840" cy="21063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50880" y="533520"/>
            <a:ext cx="7695720" cy="3657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Очень вредная старуха, </a:t>
            </a: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Всё ей плохо. Всё не так. </a:t>
            </a: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доедлива как муха… </a:t>
            </a: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Кто такая? </a:t>
            </a: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AutoShape 5">
            <a:hlinkClick r:id="rId2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49" name="Picture 3" descr="Smily01"/>
          <p:cNvPicPr/>
          <p:nvPr/>
        </p:nvPicPr>
        <p:blipFill>
          <a:blip r:embed="rId3"/>
          <a:stretch/>
        </p:blipFill>
        <p:spPr>
          <a:xfrm>
            <a:off x="303120" y="5487840"/>
            <a:ext cx="1563480" cy="1369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Z_frage"/>
          <p:cNvPicPr/>
          <p:nvPr/>
        </p:nvPicPr>
        <p:blipFill>
          <a:blip r:embed="rId4"/>
          <a:stretch/>
        </p:blipFill>
        <p:spPr>
          <a:xfrm>
            <a:off x="7640640" y="0"/>
            <a:ext cx="1503000" cy="1740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http://static.diary.ru/userdir/7/4/8/3/748305/30549717.jpg"/>
          <p:cNvPicPr/>
          <p:nvPr/>
        </p:nvPicPr>
        <p:blipFill>
          <a:blip r:embed="rId5"/>
          <a:stretch/>
        </p:blipFill>
        <p:spPr>
          <a:xfrm>
            <a:off x="4994280" y="2854440"/>
            <a:ext cx="3015720" cy="37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7">
            <a:hlinkClick r:id="rId1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711360" y="1498680"/>
            <a:ext cx="6876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Сын моего ребен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5"/>
          <p:cNvSpPr/>
          <p:nvPr/>
        </p:nvSpPr>
        <p:spPr>
          <a:xfrm>
            <a:off x="4270320" y="3429000"/>
            <a:ext cx="2171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вну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NA00042_"/>
          <p:cNvPicPr/>
          <p:nvPr/>
        </p:nvPicPr>
        <p:blipFill>
          <a:blip r:embed="rId2"/>
          <a:stretch/>
        </p:blipFill>
        <p:spPr>
          <a:xfrm>
            <a:off x="6924600" y="1498680"/>
            <a:ext cx="1863360" cy="2758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http://im6-tub-ru.yandex.net/i?id=11272525-52-72"/>
          <p:cNvPicPr/>
          <p:nvPr/>
        </p:nvPicPr>
        <p:blipFill>
          <a:blip r:embed="rId3"/>
          <a:stretch/>
        </p:blipFill>
        <p:spPr>
          <a:xfrm>
            <a:off x="530280" y="2946240"/>
            <a:ext cx="36367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6">
            <a:hlinkClick r:id="rId1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1676520" y="1619280"/>
            <a:ext cx="5233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 моей матер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7"/>
          <p:cNvSpPr/>
          <p:nvPr/>
        </p:nvSpPr>
        <p:spPr>
          <a:xfrm>
            <a:off x="5126400" y="4032360"/>
            <a:ext cx="208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бра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8" descr="160"/>
          <p:cNvPicPr/>
          <p:nvPr/>
        </p:nvPicPr>
        <p:blipFill>
          <a:blip r:embed="rId2"/>
          <a:srcRect l="379" t="376" r="379" b="376"/>
          <a:stretch/>
        </p:blipFill>
        <p:spPr>
          <a:xfrm>
            <a:off x="6924600" y="352440"/>
            <a:ext cx="1739520" cy="1739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" descr="Картинка 7 из 128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705040"/>
            <a:ext cx="2774520" cy="39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>
            <a:hlinkClick r:id="rId1" action="ppaction://hlinksldjump"/>
          </p:cNvPr>
          <p:cNvSpPr/>
          <p:nvPr/>
        </p:nvSpPr>
        <p:spPr>
          <a:xfrm>
            <a:off x="1254240" y="1619280"/>
            <a:ext cx="7117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мамы или пап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Z_frage"/>
          <p:cNvPicPr/>
          <p:nvPr/>
        </p:nvPicPr>
        <p:blipFill>
          <a:blip r:embed="rId2"/>
          <a:stretch/>
        </p:blipFill>
        <p:spPr>
          <a:xfrm>
            <a:off x="7578720" y="42228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6">
            <a:hlinkClick r:id="rId3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5" name="Прямоугольник 4"/>
          <p:cNvSpPr/>
          <p:nvPr/>
        </p:nvSpPr>
        <p:spPr>
          <a:xfrm>
            <a:off x="5246640" y="3368520"/>
            <a:ext cx="1956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тёт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6" descr="NA00042_"/>
          <p:cNvPicPr/>
          <p:nvPr/>
        </p:nvPicPr>
        <p:blipFill>
          <a:blip r:embed="rId4"/>
          <a:stretch/>
        </p:blipFill>
        <p:spPr>
          <a:xfrm>
            <a:off x="530280" y="3067200"/>
            <a:ext cx="22492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Group 80"/>
          <p:cNvGraphicFramePr/>
          <p:nvPr/>
        </p:nvGraphicFramePr>
        <p:xfrm>
          <a:off x="0" y="-58680"/>
          <a:ext cx="9143640" cy="69163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07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19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тур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endParaRPr b="0" lang="ru-RU" sz="4800" spc="-1" strike="noStrike">
                        <a:solidFill>
                          <a:srgbClr val="800000"/>
                        </a:solidFill>
                        <a:latin typeface="Arial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6666"/>
                    </a:solidFill>
                  </a:tcPr>
                </a:tc>
              </a:tr>
              <a:tr h="293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Послов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Заг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«Странные»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Кулинар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«Устами младенц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Герои сказ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Родственные отнош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Составь пословиц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59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800000"/>
                        </a:solidFill>
                        <a:latin typeface="Arial"/>
                        <a:ea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800000"/>
                        </a:solidFill>
                        <a:latin typeface="Arial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нальн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0"/>
                        </a:spcBef>
                        <a:tabLst>
                          <a:tab algn="l" pos="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гр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6666"/>
                    </a:solidFill>
                  </a:tcPr>
                </a:tc>
              </a:tr>
              <a:tr h="59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800000"/>
                        </a:solidFill>
                        <a:latin typeface="Arial"/>
                        <a:ea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800000"/>
                        </a:solidFill>
                        <a:latin typeface="Arial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36"/>
          <p:cNvSpPr/>
          <p:nvPr/>
        </p:nvSpPr>
        <p:spPr>
          <a:xfrm>
            <a:off x="4932360" y="0"/>
            <a:ext cx="31395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2 ту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SO00828_"/>
          <p:cNvPicPr/>
          <p:nvPr/>
        </p:nvPicPr>
        <p:blipFill>
          <a:blip r:embed="rId1"/>
          <a:stretch/>
        </p:blipFill>
        <p:spPr>
          <a:xfrm>
            <a:off x="7159680" y="4081320"/>
            <a:ext cx="198396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3" descr="Z_frage"/>
          <p:cNvPicPr/>
          <p:nvPr/>
        </p:nvPicPr>
        <p:blipFill>
          <a:blip r:embed="rId1"/>
          <a:stretch/>
        </p:blipFill>
        <p:spPr>
          <a:xfrm>
            <a:off x="7226280" y="71424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16">
            <a:hlinkClick r:id="rId2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9" name="Прямоугольник 5"/>
          <p:cNvSpPr/>
          <p:nvPr/>
        </p:nvSpPr>
        <p:spPr>
          <a:xfrm>
            <a:off x="602280" y="1679400"/>
            <a:ext cx="7473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 моей сестры или бра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6"/>
          <p:cNvSpPr/>
          <p:nvPr/>
        </p:nvSpPr>
        <p:spPr>
          <a:xfrm>
            <a:off x="4229280" y="3730680"/>
            <a:ext cx="3896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племян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7" descr="Картинка 100 из 128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0" y="2419200"/>
            <a:ext cx="3920760" cy="42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Рисунок5"/>
          <p:cNvPicPr/>
          <p:nvPr/>
        </p:nvPicPr>
        <p:blipFill>
          <a:blip r:embed="rId1"/>
          <a:stretch/>
        </p:blipFill>
        <p:spPr>
          <a:xfrm>
            <a:off x="0" y="4651200"/>
            <a:ext cx="2647440" cy="2206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Z_frage"/>
          <p:cNvPicPr/>
          <p:nvPr/>
        </p:nvPicPr>
        <p:blipFill>
          <a:blip r:embed="rId2"/>
          <a:stretch/>
        </p:blipFill>
        <p:spPr>
          <a:xfrm>
            <a:off x="7346880" y="89532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6">
            <a:hlinkClick r:id="rId3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75" name="Picture 3" descr="Smily01"/>
          <p:cNvPicPr/>
          <p:nvPr/>
        </p:nvPicPr>
        <p:blipFill>
          <a:blip r:embed="rId4"/>
          <a:stretch/>
        </p:blipFill>
        <p:spPr>
          <a:xfrm>
            <a:off x="303120" y="5437080"/>
            <a:ext cx="1622160" cy="1420560"/>
          </a:xfrm>
          <a:prstGeom prst="rect">
            <a:avLst/>
          </a:prstGeom>
          <a:ln w="0">
            <a:noFill/>
          </a:ln>
        </p:spPr>
      </p:pic>
      <p:sp>
        <p:nvSpPr>
          <p:cNvPr id="476" name="TextBox 8"/>
          <p:cNvSpPr/>
          <p:nvPr/>
        </p:nvSpPr>
        <p:spPr>
          <a:xfrm>
            <a:off x="1978200" y="2041560"/>
            <a:ext cx="4825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моего от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9"/>
          <p:cNvSpPr/>
          <p:nvPr/>
        </p:nvSpPr>
        <p:spPr>
          <a:xfrm>
            <a:off x="5371560" y="3489480"/>
            <a:ext cx="3117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деду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2" descr="http://static.eva.ru/eva/130001-140000/138808/photoalbum/1864208.jpg"/>
          <p:cNvPicPr/>
          <p:nvPr/>
        </p:nvPicPr>
        <p:blipFill>
          <a:blip r:embed="rId5"/>
          <a:stretch/>
        </p:blipFill>
        <p:spPr>
          <a:xfrm>
            <a:off x="0" y="3046320"/>
            <a:ext cx="312372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>
            <a:hlinkClick r:id="rId1" action="ppaction://hlinksldjump"/>
          </p:cNvPr>
          <p:cNvSpPr/>
          <p:nvPr/>
        </p:nvSpPr>
        <p:spPr>
          <a:xfrm>
            <a:off x="482760" y="1744560"/>
            <a:ext cx="8370360" cy="76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i="1" lang="ru-RU" sz="4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  <p:pic>
        <p:nvPicPr>
          <p:cNvPr id="480" name="Picture 5" descr="Z_frage"/>
          <p:cNvPicPr/>
          <p:nvPr/>
        </p:nvPicPr>
        <p:blipFill>
          <a:blip r:embed="rId2"/>
          <a:stretch/>
        </p:blipFill>
        <p:spPr>
          <a:xfrm>
            <a:off x="7639200" y="30168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7">
            <a:hlinkClick r:id="rId3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4"/>
          <a:stretch/>
        </p:blipFill>
        <p:spPr>
          <a:xfrm>
            <a:off x="1254240" y="1015920"/>
            <a:ext cx="6308280" cy="32223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5"/>
          <p:cNvSpPr/>
          <p:nvPr/>
        </p:nvSpPr>
        <p:spPr>
          <a:xfrm>
            <a:off x="4149720" y="3971880"/>
            <a:ext cx="4222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  <a:ea typeface="Arial"/>
              </a:rPr>
              <a:t>поду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http://www.prozagadki.ru/uploads/posts/2010-01/1264440484_4.jpg"/>
          <p:cNvPicPr/>
          <p:nvPr/>
        </p:nvPicPr>
        <p:blipFill>
          <a:blip r:embed="rId1"/>
          <a:stretch/>
        </p:blipFill>
        <p:spPr>
          <a:xfrm>
            <a:off x="1495440" y="714240"/>
            <a:ext cx="5714640" cy="34761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3"/>
          <p:cNvSpPr/>
          <p:nvPr/>
        </p:nvSpPr>
        <p:spPr>
          <a:xfrm>
            <a:off x="4511520" y="4876920"/>
            <a:ext cx="3498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  <a:ea typeface="Arial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20">
            <a:hlinkClick r:id="rId2" action="ppaction://hlinksldjump"/>
          </p:cNvPr>
          <p:cNvSpPr/>
          <p:nvPr/>
        </p:nvSpPr>
        <p:spPr>
          <a:xfrm>
            <a:off x="8191440" y="578160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6"/>
          <p:cNvSpPr/>
          <p:nvPr/>
        </p:nvSpPr>
        <p:spPr>
          <a:xfrm>
            <a:off x="1746360" y="3008160"/>
            <a:ext cx="487008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0600" spc="-1" strike="noStrike">
              <a:solidFill>
                <a:srgbClr val="ff0066"/>
              </a:solidFill>
              <a:latin typeface="Times New Roman"/>
              <a:ea typeface="Arial"/>
            </a:endParaRPr>
          </a:p>
        </p:txBody>
      </p:sp>
      <p:sp>
        <p:nvSpPr>
          <p:cNvPr id="488" name="AutoShape 20">
            <a:hlinkClick r:id="rId1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-2921400" y="-1766880"/>
            <a:ext cx="1498680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284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300" spc="-1" strike="noStrike" u="sng">
                <a:solidFill>
                  <a:srgbClr val="0000ff"/>
                </a:solidFill>
                <a:uFillTx/>
                <a:latin typeface="Georgia"/>
                <a:ea typeface="Arial"/>
                <a:hlinkClick r:id="rId2"/>
              </a:rPr>
              <a:t>Шестеренка?</a:t>
            </a:r>
            <a:r>
              <a:rPr b="1" lang="ru-RU" sz="2300" spc="-1" strike="noStrike">
                <a:solidFill>
                  <a:srgbClr val="999966"/>
                </a:solidFill>
                <a:latin typeface="Georgia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800000"/>
                </a:solidFill>
                <a:latin typeface="Arial"/>
                <a:ea typeface="Arial"/>
              </a:rPr>
              <a:t>Вопрос на смекалку</a:t>
            </a:r>
            <a:r>
              <a:rPr b="0" lang="ru-RU" sz="800" spc="-1" strike="noStrike">
                <a:solidFill>
                  <a:srgbClr val="800000"/>
                </a:solidFill>
                <a:latin typeface="Arial"/>
                <a:ea typeface="Arial"/>
              </a:rPr>
              <a:t>: Рассмотрите внимательно рисунок и подумайте — что на нем изображено? Может быть, схема «вечного двигателя»?.. Похоже... А может быть, это просто какая-нибудь розетка, рисунок для вышивания, наконец, — шестеренка от будильника? На шестеренку, пожалуй, больше всего похож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800" spc="-1" strike="noStrike">
                <a:solidFill>
                  <a:srgbClr val="800000"/>
                </a:solidFill>
                <a:latin typeface="Arial"/>
                <a:ea typeface="Arial"/>
              </a:rPr>
              <a:t>  </a:t>
            </a:r>
            <a:r>
              <a:rPr b="0" lang="ru-RU" sz="22500" spc="-1" strike="noStrike">
                <a:solidFill>
                  <a:srgbClr val="800000"/>
                </a:solidFill>
                <a:latin typeface="Arial"/>
                <a:ea typeface="Arial"/>
              </a:rPr>
              <a:t> </a:t>
            </a:r>
            <a:r>
              <a:rPr b="0" lang="ru-RU" sz="800" spc="-1" strike="noStrike">
                <a:solidFill>
                  <a:srgbClr val="8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7" descr="Головоломка - Вопрос на смекалку"/>
          <p:cNvPicPr/>
          <p:nvPr/>
        </p:nvPicPr>
        <p:blipFill>
          <a:blip r:embed="rId3"/>
          <a:stretch/>
        </p:blipFill>
        <p:spPr>
          <a:xfrm>
            <a:off x="2521080" y="473040"/>
            <a:ext cx="3809520" cy="358092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8"/>
          <p:cNvSpPr/>
          <p:nvPr/>
        </p:nvSpPr>
        <p:spPr>
          <a:xfrm>
            <a:off x="5250240" y="4273560"/>
            <a:ext cx="2727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семь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2" descr="http://static.eva.ru/eva/130001-140000/138808/photoalbum/1864208.jpg"/>
          <p:cNvPicPr/>
          <p:nvPr/>
        </p:nvPicPr>
        <p:blipFill>
          <a:blip r:embed="rId4"/>
          <a:stretch/>
        </p:blipFill>
        <p:spPr>
          <a:xfrm>
            <a:off x="349200" y="3730680"/>
            <a:ext cx="2292120" cy="27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482760" y="422280"/>
            <a:ext cx="7816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6000" spc="-1" strike="noStrike">
              <a:solidFill>
                <a:srgbClr val="ff0066"/>
              </a:solidFill>
              <a:latin typeface="Times New Roman"/>
              <a:ea typeface="Arial"/>
            </a:endParaRPr>
          </a:p>
        </p:txBody>
      </p:sp>
      <p:pic>
        <p:nvPicPr>
          <p:cNvPr id="494" name="Picture 9" descr="Z_frage"/>
          <p:cNvPicPr/>
          <p:nvPr/>
        </p:nvPicPr>
        <p:blipFill>
          <a:blip r:embed="rId1"/>
          <a:stretch/>
        </p:blipFill>
        <p:spPr>
          <a:xfrm>
            <a:off x="7527960" y="654120"/>
            <a:ext cx="966600" cy="92052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10">
            <a:hlinkClick r:id="rId2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96" name="Picture 7" descr="http://www.solnet.ee/school/pic/geo/g04-3.gif"/>
          <p:cNvPicPr/>
          <p:nvPr/>
        </p:nvPicPr>
        <p:blipFill>
          <a:blip r:embed="rId3"/>
          <a:stretch/>
        </p:blipFill>
        <p:spPr>
          <a:xfrm>
            <a:off x="1616040" y="714240"/>
            <a:ext cx="5297040" cy="319680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6"/>
          <p:cNvSpPr/>
          <p:nvPr/>
        </p:nvSpPr>
        <p:spPr>
          <a:xfrm>
            <a:off x="6090840" y="4092480"/>
            <a:ext cx="2076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изб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Картинка 46 из 689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0280" y="3549600"/>
            <a:ext cx="39207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>
            <a:hlinkClick r:id="rId1" action="ppaction://hlinksldjump"/>
          </p:cNvPr>
          <p:cNvSpPr/>
          <p:nvPr/>
        </p:nvSpPr>
        <p:spPr>
          <a:xfrm>
            <a:off x="503280" y="1444680"/>
            <a:ext cx="8640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</a:tabLst>
            </a:pPr>
            <a:endParaRPr b="1" lang="ru-RU" sz="4400" spc="-1" strike="noStrike">
              <a:solidFill>
                <a:srgbClr val="ff0000"/>
              </a:solidFill>
              <a:latin typeface="Times New Roman"/>
              <a:ea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723960" y="3368520"/>
            <a:ext cx="77562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9" descr="Z_frage"/>
          <p:cNvPicPr/>
          <p:nvPr/>
        </p:nvPicPr>
        <p:blipFill>
          <a:blip r:embed="rId2"/>
          <a:stretch/>
        </p:blipFill>
        <p:spPr>
          <a:xfrm>
            <a:off x="7346880" y="352440"/>
            <a:ext cx="1261800" cy="120132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10">
            <a:hlinkClick r:id="rId3" action="ppaction://hlinksldjump"/>
          </p:cNvPr>
          <p:cNvSpPr/>
          <p:nvPr/>
        </p:nvSpPr>
        <p:spPr>
          <a:xfrm>
            <a:off x="8496360" y="60148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504" name="Picture 9" descr=""/>
          <p:cNvPicPr/>
          <p:nvPr/>
        </p:nvPicPr>
        <p:blipFill>
          <a:blip r:embed="rId4"/>
          <a:stretch/>
        </p:blipFill>
        <p:spPr>
          <a:xfrm>
            <a:off x="1736640" y="895320"/>
            <a:ext cx="4171680" cy="21124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506" name="Picture 10" descr=""/>
          <p:cNvPicPr/>
          <p:nvPr/>
        </p:nvPicPr>
        <p:blipFill>
          <a:blip r:embed="rId5"/>
          <a:stretch/>
        </p:blipFill>
        <p:spPr>
          <a:xfrm>
            <a:off x="1374840" y="412920"/>
            <a:ext cx="421920" cy="25934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2"/>
          <p:cNvSpPr/>
          <p:nvPr/>
        </p:nvSpPr>
        <p:spPr>
          <a:xfrm>
            <a:off x="0" y="168588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8" name="TextBox 16"/>
          <p:cNvSpPr/>
          <p:nvPr/>
        </p:nvSpPr>
        <p:spPr>
          <a:xfrm>
            <a:off x="5054760" y="3368520"/>
            <a:ext cx="3136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  <a:ea typeface="Arial"/>
              </a:rPr>
              <a:t>д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3" descr="Картинка 28 из 20550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9200" y="2765520"/>
            <a:ext cx="3609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800000"/>
              </a:solidFill>
              <a:latin typeface="Calibri"/>
              <a:ea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800000"/>
              </a:solidFill>
              <a:latin typeface="Calibri"/>
              <a:ea typeface="Arial"/>
            </a:endParaRPr>
          </a:p>
        </p:txBody>
      </p:sp>
      <p:pic>
        <p:nvPicPr>
          <p:cNvPr id="512" name="Picture 4" descr="Fwerk01a"/>
          <p:cNvPicPr/>
          <p:nvPr/>
        </p:nvPicPr>
        <p:blipFill>
          <a:blip r:embed="rId1"/>
          <a:stretch/>
        </p:blipFill>
        <p:spPr>
          <a:xfrm>
            <a:off x="0" y="0"/>
            <a:ext cx="10348560" cy="6857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салют"/>
          <p:cNvPicPr/>
          <p:nvPr/>
        </p:nvPicPr>
        <p:blipFill>
          <a:blip r:embed="rId2"/>
          <a:stretch/>
        </p:blipFill>
        <p:spPr>
          <a:xfrm>
            <a:off x="3489480" y="3429000"/>
            <a:ext cx="2827080" cy="3074760"/>
          </a:xfrm>
          <a:prstGeom prst="rect">
            <a:avLst/>
          </a:prstGeom>
          <a:ln w="0">
            <a:noFill/>
          </a:ln>
        </p:spPr>
      </p:pic>
      <p:sp>
        <p:nvSpPr>
          <p:cNvPr id="514" name="WordArt 7"/>
          <p:cNvSpPr txBox="1"/>
          <p:nvPr/>
        </p:nvSpPr>
        <p:spPr>
          <a:xfrm rot="21420000">
            <a:off x="363240" y="0"/>
            <a:ext cx="7876800" cy="5351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r>
              <a:rPr b="0" lang="ru-RU" sz="3600" spc="-1" strike="noStrike">
                <a:ln w="1270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algn="ctr" dir="2021404" dist="45429">
                    <a:srgbClr val="808080">
                      <a:alpha val="80000"/>
                    </a:srgbClr>
                  </a:outerShdw>
                </a:effectLst>
                <a:latin typeface="Monotype Corsiva"/>
                <a:ea typeface="Arial"/>
              </a:rPr>
              <a:t>Финальный</a:t>
            </a:r>
            <a:endParaRPr b="0" lang="en-US" sz="3600" spc="-1" strike="noStrike">
              <a:ln w="1270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algn="ctr" dir="2021404" dist="45429">
                  <a:srgbClr val="808080">
                    <a:alpha val="80000"/>
                  </a:srgbClr>
                </a:outerShdw>
              </a:effectLst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270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algn="ctr" dir="2021404" dist="45429">
                    <a:srgbClr val="808080">
                      <a:alpha val="80000"/>
                    </a:srgbClr>
                  </a:outerShdw>
                </a:effectLst>
                <a:latin typeface="Monotype Corsiva"/>
                <a:ea typeface="Arial"/>
              </a:rPr>
              <a:t>тур</a:t>
            </a:r>
            <a:endParaRPr b="0" lang="en-US" sz="3600" spc="-1" strike="noStrike">
              <a:ln w="1270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algn="ctr" dir="2021404" dist="45429">
                  <a:srgbClr val="808080">
                    <a:alpha val="80000"/>
                  </a:srgbClr>
                </a:outerShdw>
              </a:effectLst>
              <a:latin typeface="Arial"/>
            </a:endParaRPr>
          </a:p>
        </p:txBody>
      </p:sp>
      <p:pic>
        <p:nvPicPr>
          <p:cNvPr id="515" name="Picture 8" descr="салют"/>
          <p:cNvPicPr/>
          <p:nvPr/>
        </p:nvPicPr>
        <p:blipFill>
          <a:blip r:embed="rId3"/>
          <a:stretch/>
        </p:blipFill>
        <p:spPr>
          <a:xfrm>
            <a:off x="5894280" y="4511520"/>
            <a:ext cx="3249360" cy="2346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салют"/>
          <p:cNvPicPr/>
          <p:nvPr/>
        </p:nvPicPr>
        <p:blipFill>
          <a:blip r:embed="rId4"/>
          <a:stretch/>
        </p:blipFill>
        <p:spPr>
          <a:xfrm>
            <a:off x="542880" y="3728880"/>
            <a:ext cx="324936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9"/>
          <p:cNvSpPr/>
          <p:nvPr/>
        </p:nvSpPr>
        <p:spPr>
          <a:xfrm>
            <a:off x="619200" y="484200"/>
            <a:ext cx="729216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абора слов, которые вы сейч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е в конвертах, составь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вицу. Можно изменять падеж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, добавлять предлоги и част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9"/>
          <p:cNvSpPr/>
          <p:nvPr/>
        </p:nvSpPr>
        <p:spPr>
          <a:xfrm>
            <a:off x="1463040" y="2644920"/>
            <a:ext cx="6603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ети, тягость, радос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502920" y="3549600"/>
            <a:ext cx="8223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ти не в тягость, а в рад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6" descr="NA00042_"/>
          <p:cNvPicPr/>
          <p:nvPr/>
        </p:nvPicPr>
        <p:blipFill>
          <a:blip r:embed="rId1"/>
          <a:stretch/>
        </p:blipFill>
        <p:spPr>
          <a:xfrm>
            <a:off x="7226280" y="4514760"/>
            <a:ext cx="1206000" cy="17856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O00828_"/>
          <p:cNvPicPr/>
          <p:nvPr/>
        </p:nvPicPr>
        <p:blipFill>
          <a:blip r:embed="rId2"/>
          <a:stretch/>
        </p:blipFill>
        <p:spPr>
          <a:xfrm>
            <a:off x="7527960" y="593640"/>
            <a:ext cx="1025280" cy="1434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http://img-fotki.yandex.ru/get/3101/mistina.5/0_1ba8e_1512356a_XL"/>
          <p:cNvPicPr/>
          <p:nvPr/>
        </p:nvPicPr>
        <p:blipFill>
          <a:blip r:embed="rId3"/>
          <a:stretch/>
        </p:blipFill>
        <p:spPr>
          <a:xfrm>
            <a:off x="2943360" y="4334040"/>
            <a:ext cx="367956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4"/>
          <p:cNvSpPr/>
          <p:nvPr/>
        </p:nvSpPr>
        <p:spPr>
          <a:xfrm>
            <a:off x="831960" y="2644920"/>
            <a:ext cx="745452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Arial"/>
              </a:rPr>
              <a:t>Спасибо за игр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SO00828_"/>
          <p:cNvPicPr/>
          <p:nvPr/>
        </p:nvPicPr>
        <p:blipFill>
          <a:blip r:embed="rId1"/>
          <a:stretch/>
        </p:blipFill>
        <p:spPr>
          <a:xfrm>
            <a:off x="7159680" y="352440"/>
            <a:ext cx="1983960" cy="27763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NA00042_"/>
          <p:cNvPicPr/>
          <p:nvPr/>
        </p:nvPicPr>
        <p:blipFill>
          <a:blip r:embed="rId2"/>
          <a:stretch/>
        </p:blipFill>
        <p:spPr>
          <a:xfrm>
            <a:off x="530280" y="3670200"/>
            <a:ext cx="1863360" cy="2758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 flipH="1">
            <a:off x="7347600" y="4756320"/>
            <a:ext cx="783720" cy="8395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4"/>
          <a:stretch/>
        </p:blipFill>
        <p:spPr>
          <a:xfrm>
            <a:off x="-434880" y="835200"/>
            <a:ext cx="5714640" cy="12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Group 216"/>
          <p:cNvGraphicFramePr/>
          <p:nvPr/>
        </p:nvGraphicFramePr>
        <p:xfrm>
          <a:off x="0" y="1015920"/>
          <a:ext cx="9216720" cy="5730480"/>
        </p:xfrm>
        <a:graphic>
          <a:graphicData uri="http://schemas.openxmlformats.org/drawingml/2006/table">
            <a:tbl>
              <a:tblPr/>
              <a:tblGrid>
                <a:gridCol w="3125520"/>
                <a:gridCol w="1039680"/>
                <a:gridCol w="1144440"/>
                <a:gridCol w="1145880"/>
                <a:gridCol w="1144440"/>
                <a:gridCol w="1616040"/>
              </a:tblGrid>
              <a:tr h="1301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ловиц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14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9"/>
                        </a:spcBef>
                        <a:tabLst>
                          <a:tab algn="l" pos="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адк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4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Странные» слов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469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инар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143">
            <a:hlinkClick r:id="rId1" action="ppaction://hlinksldjump"/>
          </p:cNvPr>
          <p:cNvSpPr/>
          <p:nvPr/>
        </p:nvSpPr>
        <p:spPr>
          <a:xfrm>
            <a:off x="3189240" y="1444680"/>
            <a:ext cx="108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5">
            <a:hlinkClick r:id="rId2" action="ppaction://hlinksldjump"/>
          </p:cNvPr>
          <p:cNvSpPr/>
          <p:nvPr/>
        </p:nvSpPr>
        <p:spPr>
          <a:xfrm>
            <a:off x="4272120" y="1444680"/>
            <a:ext cx="1022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6">
            <a:hlinkClick r:id="rId3" action="ppaction://hlinksldjump"/>
          </p:cNvPr>
          <p:cNvSpPr/>
          <p:nvPr/>
        </p:nvSpPr>
        <p:spPr>
          <a:xfrm>
            <a:off x="5413320" y="1444680"/>
            <a:ext cx="1203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7">
            <a:hlinkClick r:id="rId4" action="ppaction://hlinksldjump"/>
          </p:cNvPr>
          <p:cNvSpPr/>
          <p:nvPr/>
        </p:nvSpPr>
        <p:spPr>
          <a:xfrm flipV="1" rot="10800000">
            <a:off x="6556680" y="14439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8">
            <a:hlinkClick r:id="rId5" action="ppaction://hlinksldjump"/>
          </p:cNvPr>
          <p:cNvSpPr/>
          <p:nvPr/>
        </p:nvSpPr>
        <p:spPr>
          <a:xfrm>
            <a:off x="7818480" y="1444680"/>
            <a:ext cx="102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9">
            <a:hlinkClick r:id="rId6" action="ppaction://hlinksldjump"/>
          </p:cNvPr>
          <p:cNvSpPr/>
          <p:nvPr/>
        </p:nvSpPr>
        <p:spPr>
          <a:xfrm>
            <a:off x="3068640" y="2766960"/>
            <a:ext cx="108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0">
            <a:hlinkClick r:id="rId7" action="ppaction://hlinksldjump"/>
          </p:cNvPr>
          <p:cNvSpPr/>
          <p:nvPr/>
        </p:nvSpPr>
        <p:spPr>
          <a:xfrm>
            <a:off x="4272120" y="2766960"/>
            <a:ext cx="1236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1">
            <a:hlinkClick r:id="rId8" action="ppaction://hlinksldjump"/>
          </p:cNvPr>
          <p:cNvSpPr/>
          <p:nvPr/>
        </p:nvSpPr>
        <p:spPr>
          <a:xfrm>
            <a:off x="5353200" y="27669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2">
            <a:hlinkClick r:id="rId9" action="ppaction://hlinksldjump"/>
          </p:cNvPr>
          <p:cNvSpPr/>
          <p:nvPr/>
        </p:nvSpPr>
        <p:spPr>
          <a:xfrm>
            <a:off x="6556320" y="27669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3">
            <a:hlinkClick r:id="rId11" action="ppaction://hlinksldjump"/>
          </p:cNvPr>
          <p:cNvSpPr/>
          <p:nvPr/>
        </p:nvSpPr>
        <p:spPr>
          <a:xfrm>
            <a:off x="7818480" y="2766960"/>
            <a:ext cx="102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4">
            <a:hlinkClick r:id="rId13" action="ppaction://hlinksldjump"/>
          </p:cNvPr>
          <p:cNvSpPr/>
          <p:nvPr/>
        </p:nvSpPr>
        <p:spPr>
          <a:xfrm>
            <a:off x="3129120" y="40305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5">
            <a:hlinkClick r:id="rId14" action="ppaction://hlinksldjump"/>
          </p:cNvPr>
          <p:cNvSpPr/>
          <p:nvPr/>
        </p:nvSpPr>
        <p:spPr>
          <a:xfrm>
            <a:off x="4272120" y="403056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6">
            <a:hlinkClick r:id="rId15" action="ppaction://hlinksldjump"/>
          </p:cNvPr>
          <p:cNvSpPr/>
          <p:nvPr/>
        </p:nvSpPr>
        <p:spPr>
          <a:xfrm>
            <a:off x="5294160" y="4030560"/>
            <a:ext cx="1245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7">
            <a:hlinkClick r:id="rId16" action="ppaction://hlinksldjump"/>
          </p:cNvPr>
          <p:cNvSpPr/>
          <p:nvPr/>
        </p:nvSpPr>
        <p:spPr>
          <a:xfrm>
            <a:off x="6556320" y="4030560"/>
            <a:ext cx="101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8">
            <a:hlinkClick r:id="rId17" action="ppaction://hlinksldjump"/>
          </p:cNvPr>
          <p:cNvSpPr/>
          <p:nvPr/>
        </p:nvSpPr>
        <p:spPr>
          <a:xfrm>
            <a:off x="7699320" y="4091040"/>
            <a:ext cx="1201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9">
            <a:hlinkClick r:id="rId18" action="ppaction://hlinksldjump"/>
          </p:cNvPr>
          <p:cNvSpPr/>
          <p:nvPr/>
        </p:nvSpPr>
        <p:spPr>
          <a:xfrm>
            <a:off x="3129120" y="5413320"/>
            <a:ext cx="1166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0">
            <a:hlinkClick r:id="rId19" action="ppaction://hlinksldjump"/>
          </p:cNvPr>
          <p:cNvSpPr/>
          <p:nvPr/>
        </p:nvSpPr>
        <p:spPr>
          <a:xfrm>
            <a:off x="4210200" y="5413320"/>
            <a:ext cx="106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1">
            <a:hlinkClick r:id="rId20" action="ppaction://hlinksldjump"/>
          </p:cNvPr>
          <p:cNvSpPr/>
          <p:nvPr/>
        </p:nvSpPr>
        <p:spPr>
          <a:xfrm>
            <a:off x="5353200" y="541332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2">
            <a:hlinkClick r:id="rId21" action="ppaction://hlinksldjump"/>
          </p:cNvPr>
          <p:cNvSpPr/>
          <p:nvPr/>
        </p:nvSpPr>
        <p:spPr>
          <a:xfrm>
            <a:off x="6556320" y="5413320"/>
            <a:ext cx="100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3">
            <a:hlinkClick r:id="rId22" action="ppaction://hlinksldjump"/>
          </p:cNvPr>
          <p:cNvSpPr/>
          <p:nvPr/>
        </p:nvSpPr>
        <p:spPr>
          <a:xfrm>
            <a:off x="7818480" y="5413320"/>
            <a:ext cx="96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68">
            <a:hlinkClick r:id="rId23" action="ppaction://hlinksldjump"/>
          </p:cNvPr>
          <p:cNvSpPr/>
          <p:nvPr/>
        </p:nvSpPr>
        <p:spPr>
          <a:xfrm>
            <a:off x="7846920" y="6308640"/>
            <a:ext cx="1296720" cy="549000"/>
          </a:xfrm>
          <a:prstGeom prst="actionButtonBlank">
            <a:avLst/>
          </a:prstGeom>
          <a:gradFill rotWithShape="0">
            <a:gsLst>
              <a:gs pos="0">
                <a:srgbClr val="e6e6e6"/>
              </a:gs>
              <a:gs pos="100000">
                <a:srgbClr val="7d8496"/>
              </a:gs>
            </a:gsLst>
            <a:lin ang="2700000"/>
          </a:gradFill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Baskerville Win95BT"/>
                <a:ea typeface="Arial"/>
              </a:rPr>
              <a:t>2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6"/>
          <p:cNvSpPr/>
          <p:nvPr/>
        </p:nvSpPr>
        <p:spPr>
          <a:xfrm>
            <a:off x="3097080" y="755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9" name="Text Box 217"/>
          <p:cNvSpPr/>
          <p:nvPr/>
        </p:nvSpPr>
        <p:spPr>
          <a:xfrm>
            <a:off x="0" y="0"/>
            <a:ext cx="9143640" cy="1004040"/>
          </a:xfrm>
          <a:prstGeom prst="rect">
            <a:avLst/>
          </a:prstGeom>
          <a:solidFill>
            <a:schemeClr val="tx1">
              <a:lumMod val="40000"/>
              <a:lumOff val="6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1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23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delay="0"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delay="0" evt="onClick">
                    <p:tgtEl>
                      <p:spTgt spid="23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delay="0"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delay="0" evt="onClick">
                    <p:tgtEl>
                      <p:spTgt spid="23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delay="0"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delay="0" evt="onClick">
                    <p:tgtEl>
                      <p:spTgt spid="24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delay="0"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delay="0" evt="onClick">
                    <p:tgtEl>
                      <p:spTgt spid="242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delay="0" evt="onClick">
                    <p:tgtEl>
                      <p:spTgt spid="243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delay="0"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delay="0" evt="onClick">
                    <p:tgtEl>
                      <p:spTgt spid="244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delay="0"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delay="0" evt="onClick">
                    <p:tgtEl>
                      <p:spTgt spid="24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delay="0"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delay="0" evt="onClick">
                    <p:tgtEl>
                      <p:spTgt spid="245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delay="0"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delay="0" evt="onClick">
                    <p:tgtEl>
                      <p:spTgt spid="256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delay="0"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delay="0" evt="onClick">
                    <p:tgtEl>
                      <p:spTgt spid="255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delay="0"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delay="0" evt="onClick">
                    <p:tgtEl>
                      <p:spTgt spid="25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delay="0"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delay="0" evt="onClick">
                    <p:tgtEl>
                      <p:spTgt spid="253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delay="0"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delay="0" evt="onClick">
                    <p:tgtEl>
                      <p:spTgt spid="252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delay="0"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delay="0" evt="onClick">
                    <p:tgtEl>
                      <p:spTgt spid="25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delay="0"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delay="0" evt="onClick">
                    <p:tgtEl>
                      <p:spTgt spid="250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delay="0"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delay="0" evt="onClick">
                    <p:tgtEl>
                      <p:spTgt spid="24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delay="0"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delay="0" evt="onClick">
                    <p:tgtEl>
                      <p:spTgt spid="247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delay="0"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-185760" y="0"/>
            <a:ext cx="9329400" cy="68576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2"/>
          <a:stretch/>
        </p:blipFill>
        <p:spPr>
          <a:xfrm>
            <a:off x="-1339920" y="412920"/>
            <a:ext cx="5714640" cy="12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>
            <a:hlinkClick r:id="rId1" action="ppaction://hlinksldjump"/>
          </p:cNvPr>
          <p:cNvSpPr/>
          <p:nvPr/>
        </p:nvSpPr>
        <p:spPr>
          <a:xfrm>
            <a:off x="250920" y="0"/>
            <a:ext cx="864036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endParaRPr b="0" lang="ru-RU" sz="6000" spc="-1" strike="noStrike">
              <a:solidFill>
                <a:srgbClr val="ff0000"/>
              </a:solidFill>
              <a:latin typeface="Times New Roman"/>
              <a:ea typeface="Arial"/>
            </a:endParaRPr>
          </a:p>
        </p:txBody>
      </p:sp>
      <p:sp>
        <p:nvSpPr>
          <p:cNvPr id="261" name="AutoShape 8">
            <a:hlinkClick r:id="rId2" action="ppaction://hlinksldjump"/>
          </p:cNvPr>
          <p:cNvSpPr/>
          <p:nvPr/>
        </p:nvSpPr>
        <p:spPr>
          <a:xfrm>
            <a:off x="8238960" y="58942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425160" y="2222640"/>
            <a:ext cx="867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ь на пороге – счастье в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6453720" y="3247920"/>
            <a:ext cx="2089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м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160"/>
          <p:cNvPicPr/>
          <p:nvPr/>
        </p:nvPicPr>
        <p:blipFill>
          <a:blip r:embed="rId3"/>
          <a:srcRect l="379" t="376" r="379" b="376"/>
          <a:stretch/>
        </p:blipFill>
        <p:spPr>
          <a:xfrm>
            <a:off x="6804000" y="593640"/>
            <a:ext cx="1739520" cy="1739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Картинка 17 из 4043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9680" y="3616200"/>
            <a:ext cx="392076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>
            <a:hlinkClick r:id="rId1" action="ppaction://hlinksldjump"/>
          </p:cNvPr>
          <p:cNvSpPr/>
          <p:nvPr/>
        </p:nvSpPr>
        <p:spPr>
          <a:xfrm>
            <a:off x="503280" y="1197000"/>
            <a:ext cx="86403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Дом вести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3"/>
          <p:cNvSpPr txBox="1"/>
          <p:nvPr/>
        </p:nvSpPr>
        <p:spPr>
          <a:xfrm>
            <a:off x="1325520" y="723960"/>
            <a:ext cx="6673320" cy="29458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i="1" lang="ru-RU" sz="3600" spc="-1" strike="noStrike">
              <a:ln w="0">
                <a:solidFill>
                  <a:srgbClr val="000000"/>
                </a:solidFill>
              </a:ln>
              <a:solidFill>
                <a:srgbClr val="ff0000"/>
              </a:solidFill>
              <a:latin typeface="Times New Roman"/>
              <a:ea typeface="Arial"/>
            </a:endParaRPr>
          </a:p>
        </p:txBody>
      </p:sp>
      <p:sp>
        <p:nvSpPr>
          <p:cNvPr id="268" name="AutoShape 7">
            <a:hlinkClick r:id="rId2" action="ppaction://hlinksldjump"/>
          </p:cNvPr>
          <p:cNvSpPr/>
          <p:nvPr/>
        </p:nvSpPr>
        <p:spPr>
          <a:xfrm>
            <a:off x="8238960" y="58942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3703680" y="2162160"/>
            <a:ext cx="5411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бородой тря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9" descr=""/>
          <p:cNvPicPr/>
          <p:nvPr/>
        </p:nvPicPr>
        <p:blipFill>
          <a:blip r:embed="rId3"/>
          <a:stretch/>
        </p:blipFill>
        <p:spPr>
          <a:xfrm>
            <a:off x="409680" y="3730680"/>
            <a:ext cx="3593880" cy="2593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NA00042_"/>
          <p:cNvPicPr/>
          <p:nvPr/>
        </p:nvPicPr>
        <p:blipFill>
          <a:blip r:embed="rId4"/>
          <a:stretch/>
        </p:blipFill>
        <p:spPr>
          <a:xfrm>
            <a:off x="7286760" y="352440"/>
            <a:ext cx="1206000" cy="1785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Картинка 75 из 4043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9080" y="3308400"/>
            <a:ext cx="4403520" cy="31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>
            <a:hlinkClick r:id="rId1" action="ppaction://hlinksldjump"/>
          </p:cNvPr>
          <p:cNvSpPr/>
          <p:nvPr/>
        </p:nvSpPr>
        <p:spPr>
          <a:xfrm>
            <a:off x="250920" y="1865160"/>
            <a:ext cx="8640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>
            <a:hlinkClick r:id="rId2" action="ppaction://hlinksldjump"/>
          </p:cNvPr>
          <p:cNvSpPr/>
          <p:nvPr/>
        </p:nvSpPr>
        <p:spPr>
          <a:xfrm>
            <a:off x="8299440" y="583416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75" name="Прямоугольник 5"/>
          <p:cNvSpPr/>
          <p:nvPr/>
        </p:nvSpPr>
        <p:spPr>
          <a:xfrm>
            <a:off x="688320" y="2162160"/>
            <a:ext cx="796860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се вместе, то и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112280" y="3006720"/>
            <a:ext cx="4698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на мес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http://static.diary.ru/userdir/2/8/3/6/283669/60237458.jpg"/>
          <p:cNvPicPr/>
          <p:nvPr/>
        </p:nvPicPr>
        <p:blipFill>
          <a:blip r:embed="rId3"/>
          <a:stretch/>
        </p:blipFill>
        <p:spPr>
          <a:xfrm>
            <a:off x="5537160" y="533520"/>
            <a:ext cx="2819160" cy="1963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Картинка 2 из 1979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0280" y="3879720"/>
            <a:ext cx="4161960" cy="25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>
            <a:hlinkClick r:id="rId1" action="ppaction://hlinksldjump"/>
          </p:cNvPr>
          <p:cNvSpPr/>
          <p:nvPr/>
        </p:nvSpPr>
        <p:spPr>
          <a:xfrm>
            <a:off x="650880" y="1920960"/>
            <a:ext cx="8492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от яблони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03120" y="361800"/>
            <a:ext cx="8413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81" name="AutoShape 8">
            <a:hlinkClick r:id="rId2" action="ppaction://hlinksldjump"/>
          </p:cNvPr>
          <p:cNvSpPr/>
          <p:nvPr/>
        </p:nvSpPr>
        <p:spPr>
          <a:xfrm>
            <a:off x="7286760" y="5842080"/>
            <a:ext cx="647280" cy="718920"/>
          </a:xfrm>
          <a:prstGeom prst="actionButtonHom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2" name="Прямоугольник 7"/>
          <p:cNvSpPr/>
          <p:nvPr/>
        </p:nvSpPr>
        <p:spPr>
          <a:xfrm>
            <a:off x="2970360" y="3006720"/>
            <a:ext cx="5451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далеко пада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Картинка 17 из 2129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0280" y="3584520"/>
            <a:ext cx="26539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раздник детский 2">
  <a:themeElements>
    <a:clrScheme name="Другая 49">
      <a:dk1>
        <a:srgbClr val="8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раздник детский 2">
  <a:themeElements>
    <a:clrScheme name="Другая 49">
      <a:dk1>
        <a:srgbClr val="8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раздник детский 2">
  <a:themeElements>
    <a:clrScheme name="Другая 49">
      <a:dk1>
        <a:srgbClr val="8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Край">
  <a:themeElements>
    <a:clrScheme name="Край 7">
      <a:dk1>
        <a:srgbClr val="000000"/>
      </a:dk1>
      <a:lt1>
        <a:srgbClr val="ffffff"/>
      </a:lt1>
      <a:dk2>
        <a:srgbClr val="006633"/>
      </a:dk2>
      <a:lt2>
        <a:srgbClr val="5f5f5f"/>
      </a:lt2>
      <a:accent1>
        <a:srgbClr val="cc9900"/>
      </a:accent1>
      <a:accent2>
        <a:srgbClr val="3b812f"/>
      </a:accent2>
      <a:accent3>
        <a:srgbClr val="ffffff"/>
      </a:accent3>
      <a:accent4>
        <a:srgbClr val="000000"/>
      </a:accent4>
      <a:accent5>
        <a:srgbClr val="e2caaa"/>
      </a:accent5>
      <a:accent6>
        <a:srgbClr val="35742a"/>
      </a:accent6>
      <a:hlink>
        <a:srgbClr val="996600"/>
      </a:hlink>
      <a:folHlink>
        <a:srgbClr val="afbf3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Праздник детский 2">
  <a:themeElements>
    <a:clrScheme name="Другая 49">
      <a:dk1>
        <a:srgbClr val="8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  <Paragraphs>165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0:47:53Z</dcterms:created>
  <dc:creator/>
  <dc:description/>
  <dc:language>en-US</dc:language>
  <cp:lastModifiedBy>User</cp:lastModifiedBy>
  <dcterms:modified xsi:type="dcterms:W3CDTF">2023-02-13T10:31:03Z</dcterms:modified>
  <cp:revision>2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5</vt:r8>
  </property>
  <property fmtid="{D5CDD505-2E9C-101B-9397-08002B2CF9AE}" pid="3" name="PresentationFormat">
    <vt:lpwstr>On-screen Show (4:3)</vt:lpwstr>
  </property>
  <property fmtid="{D5CDD505-2E9C-101B-9397-08002B2CF9AE}" pid="4" name="Slides">
    <vt:r8>50</vt:r8>
  </property>
</Properties>
</file>