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D9F-81A4-4433-A12B-C5C35F6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36D-AE08-4AA0-BD71-D1B47C0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AAD-C7D4-4DC7-B0DD-466B78EE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E1E-9AC6-48A6-9534-1C0D0834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7F0-3396-4793-8216-25D14A82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997-85FE-42FF-8DFE-122F75D9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928-40AC-45D5-AFB9-3DCA38F3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D54-DFCA-43C4-8AF2-3DC4333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A61-09CF-4FB6-8372-194DE072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979-328A-4797-9C1D-EBAFC21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A92-2FBC-420B-8EF0-53E170A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C59-83FD-44AB-A4C3-45E5379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582A-8368-430F-BC9E-A2E1588A5D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. В. Михалков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ила вол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826920" y="1916280"/>
            <a:ext cx="78487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Кто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Какой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Что делает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мысл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Вывод.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684360" y="333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оставь синквейн «Сила вол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1916280"/>
            <a:ext cx="835344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Чело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Смелый, сильный, трудолюб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Не боится, размышляе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.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спитание силы во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ывод.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Сильный харак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268360" y="40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«Сила вол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95280" y="620640"/>
            <a:ext cx="849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каким поэтом  сегодня познакомились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ое стихотворение услышал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Изменилось ли ваше представление о понятии «сила вол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вы считаете, у вас есть сила во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еще воспитывать силу вол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Что было новым для ва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530280" y="476280"/>
            <a:ext cx="7991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Сегодня я узнал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У меня получилось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Было трудно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Было интересно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Теперь я умею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938160" y="1125360"/>
            <a:ext cx="745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ЙЕГРЕС ЧИВОРИМИДАЛ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КЛАХИ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861200" y="189000"/>
            <a:ext cx="52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читайте слова справа нал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узнаете автора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http://filmnavi.ru/person/322170.jpg"/>
          <p:cNvPicPr/>
          <p:nvPr/>
        </p:nvPicPr>
        <p:blipFill>
          <a:blip r:embed="rId1"/>
          <a:stretch/>
        </p:blipFill>
        <p:spPr>
          <a:xfrm>
            <a:off x="5180040" y="1989000"/>
            <a:ext cx="3208320" cy="48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5" descr="img_bd.jpg"/>
          <p:cNvPicPr/>
          <p:nvPr/>
        </p:nvPicPr>
        <p:blipFill>
          <a:blip r:embed="rId1"/>
          <a:stretch/>
        </p:blipFill>
        <p:spPr>
          <a:xfrm>
            <a:off x="3906720" y="1109520"/>
            <a:ext cx="5114880" cy="523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oz166437.jpg"/>
          <p:cNvPicPr/>
          <p:nvPr/>
        </p:nvPicPr>
        <p:blipFill>
          <a:blip r:embed="rId2"/>
          <a:stretch/>
        </p:blipFill>
        <p:spPr>
          <a:xfrm>
            <a:off x="450720" y="1182600"/>
            <a:ext cx="3329280" cy="510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88000" y="155700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4" descr="100744489_tonnel.gif"/>
          <p:cNvPicPr/>
          <p:nvPr/>
        </p:nvPicPr>
        <p:blipFill>
          <a:blip r:embed="rId1"/>
          <a:stretch/>
        </p:blipFill>
        <p:spPr>
          <a:xfrm>
            <a:off x="36360" y="1125360"/>
            <a:ext cx="3932280" cy="4689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486800" y="59500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3  -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-360" y="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гей Михалков родился 13 марта 1913 года в Москве. Кроме Сергея в семье воспитывались еще два мальчика: Михаил, Александр. Писать стихи Сергей начал еще в детстве. Школьные год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халков провел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ятигорске. В 1930 год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окончил средню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у, но еще за два го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этого был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убликовано его первое стихотворение «Дорога». Затем Михалков обучался в Литературном институте.  В это же время Михалковым была издана первая книга стих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Users\User\Desktop\215063e5abbff1f8cf9bf8d8728f7105.jpeg"/>
          <p:cNvPicPr/>
          <p:nvPr/>
        </p:nvPicPr>
        <p:blipFill>
          <a:blip r:embed="rId2"/>
          <a:stretch/>
        </p:blipFill>
        <p:spPr>
          <a:xfrm>
            <a:off x="4143240" y="1413000"/>
            <a:ext cx="50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0"/>
            <a:ext cx="4500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одержимое 4" descr="100744489_tonnel.gif"/>
          <p:cNvPicPr/>
          <p:nvPr/>
        </p:nvPicPr>
        <p:blipFill>
          <a:blip r:embed="rId2"/>
          <a:stretch/>
        </p:blipFill>
        <p:spPr>
          <a:xfrm>
            <a:off x="4370400" y="549360"/>
            <a:ext cx="47736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907920"/>
            <a:ext cx="86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иначе можно было поступить, чтоб не боя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автор решил не включать свет, а побороть свой страх силой во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 как вы боретесь с тем, чтоб не бояться темнот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йдите и прочитайте отрывок, где гер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инает испытывать стр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рется со страх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борол ст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0000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.В. Михалков «Сила во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с одним вырезанным углом 3"/>
          <p:cNvSpPr/>
          <p:nvPr/>
        </p:nvSpPr>
        <p:spPr>
          <a:xfrm>
            <a:off x="6156360" y="115920"/>
            <a:ext cx="2808360" cy="86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лушать стих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95280" y="260280"/>
            <a:ext cx="8497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берите верное утвержд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•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Если у человека есть сила воли, он не сможет побороть в себе плохие ка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• 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Если у человека есть сила воли, он сможет побороть в себе плохие ка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slide-54.jpg"/>
          <p:cNvPicPr/>
          <p:nvPr/>
        </p:nvPicPr>
        <p:blipFill>
          <a:blip r:embed="rId1"/>
          <a:stretch/>
        </p:blipFill>
        <p:spPr>
          <a:xfrm>
            <a:off x="324000" y="246240"/>
            <a:ext cx="882792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Пользователь</cp:lastModifiedBy>
  <dcterms:modified xsi:type="dcterms:W3CDTF">2023-02-13T15:16:06Z</dcterms:modified>
  <cp:revision>52</cp:revision>
  <dc:subject/>
  <dc:title>Сергей Владимирович Михалков</dc:title>
</cp:coreProperties>
</file>