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084-DE52-4498-B76A-5D428C89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28B-E684-4671-8FC8-0528FC80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B29-F47D-460F-A6BB-A6A939A9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D59-2EE6-49F9-9F56-5460D725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BA7-F06A-4894-8970-A1798692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533-B0AF-421B-A8C6-DE01437C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5EC-6682-4D47-B768-12DA4EDA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76D-F269-44CF-87FF-787D6D77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1C6-CB01-4923-B6ED-126D6B62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579-3029-45C5-AA18-F8326487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E6E-2C58-41B1-A4C7-B180DF9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30A-AFA3-498F-A64F-02A91351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C678-F077-4F8D-8725-109C15CCF7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. В. Михалков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Сила воли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826920" y="1916280"/>
            <a:ext cx="784872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Кто?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Какой?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Что делает?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мысль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Вывод.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684360" y="333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оставь синквейн «Сила вол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95280" y="1916280"/>
            <a:ext cx="835344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то?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Челов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акой?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Смелый, сильный, трудолюби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ействия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Не боится, размышляет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мысль.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оспитание силы во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Вывод.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 Сильный харак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268360" y="404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«Сила вол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95280" y="620640"/>
            <a:ext cx="8497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каким поэтом  сегодня познакомились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Какое стихотворение услышал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Изменилось ли ваше представление о понятии «сила воли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вы считаете, у вас есть сила во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еще воспитывать силу воли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Что было новым для ва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530280" y="476280"/>
            <a:ext cx="7991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Сегодня я узнал 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У меня получилось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Было трудно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Было интересно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Теперь я умею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938160" y="1125360"/>
            <a:ext cx="745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ЙЕГРЕС ЧИВОРИМИДАЛ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ОКЛАХИ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861200" y="189000"/>
            <a:ext cx="52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читайте слова справа нале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узнаете автора произве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http://filmnavi.ru/person/322170.jpg"/>
          <p:cNvPicPr/>
          <p:nvPr/>
        </p:nvPicPr>
        <p:blipFill>
          <a:blip r:embed="rId1"/>
          <a:stretch/>
        </p:blipFill>
        <p:spPr>
          <a:xfrm>
            <a:off x="5180040" y="1989000"/>
            <a:ext cx="3208320" cy="48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их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Рисунок 5" descr="img_bd.jpg"/>
          <p:cNvPicPr/>
          <p:nvPr/>
        </p:nvPicPr>
        <p:blipFill>
          <a:blip r:embed="rId1"/>
          <a:stretch/>
        </p:blipFill>
        <p:spPr>
          <a:xfrm>
            <a:off x="3906720" y="1109520"/>
            <a:ext cx="5114880" cy="5230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oz166437.jpg"/>
          <p:cNvPicPr/>
          <p:nvPr/>
        </p:nvPicPr>
        <p:blipFill>
          <a:blip r:embed="rId2"/>
          <a:stretch/>
        </p:blipFill>
        <p:spPr>
          <a:xfrm>
            <a:off x="450720" y="1182600"/>
            <a:ext cx="3329280" cy="510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ная деятельность                     С. В. Михалков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88000" y="1557000"/>
            <a:ext cx="4038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э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сател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снописец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аматург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водчи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ценарис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урналис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тор гимна Росс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4" descr="100744489_tonnel.gif"/>
          <p:cNvPicPr/>
          <p:nvPr/>
        </p:nvPicPr>
        <p:blipFill>
          <a:blip r:embed="rId1"/>
          <a:stretch/>
        </p:blipFill>
        <p:spPr>
          <a:xfrm>
            <a:off x="36360" y="1125360"/>
            <a:ext cx="3932280" cy="46897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1486800" y="59500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13  -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-360" y="0"/>
            <a:ext cx="8893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гей Михалков родился 13 марта 1913 года в Москве. Кроме Сергея в семье воспитывались еще два мальчика: Михаил, Александр. Писать стихи Сергей начал еще в детстве. Школьные год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халков провел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ятигорске. В 1930 год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окончил средню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у, но еще за два го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этого был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убликовано его первое стихотворение «Дорога». Затем Михалков обучался в Литературном институте.  В это же время Михалковым была издана первая книга стихо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Users\User\Desktop\215063e5abbff1f8cf9bf8d8728f7105.jpeg"/>
          <p:cNvPicPr/>
          <p:nvPr/>
        </p:nvPicPr>
        <p:blipFill>
          <a:blip r:embed="rId2"/>
          <a:stretch/>
        </p:blipFill>
        <p:spPr>
          <a:xfrm>
            <a:off x="4143240" y="1413000"/>
            <a:ext cx="5000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0" y="0"/>
            <a:ext cx="4500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Михалков находился в рядах Красной армии, работал в армейской печа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Великой Отечественной войны Михалков продолжил свою литературную деятельнос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Содержимое 4" descr="100744489_tonnel.gif"/>
          <p:cNvPicPr/>
          <p:nvPr/>
        </p:nvPicPr>
        <p:blipFill>
          <a:blip r:embed="rId2"/>
          <a:stretch/>
        </p:blipFill>
        <p:spPr>
          <a:xfrm>
            <a:off x="4370400" y="549360"/>
            <a:ext cx="477360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907920"/>
            <a:ext cx="86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иначе можно было поступить, чтоб не боять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чему автор решил не включать свет, а побороть свой страх силой во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 как вы боретесь с тем, чтоб не бояться темнот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айдите и прочитайте отрывок, где гер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•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инает испытывать стр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•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рется со страх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•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борол стр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900000" y="26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С.В. Михалков «Сила вол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с одним вырезанным углом 3"/>
          <p:cNvSpPr/>
          <p:nvPr/>
        </p:nvSpPr>
        <p:spPr>
          <a:xfrm>
            <a:off x="6156360" y="115920"/>
            <a:ext cx="2808360" cy="865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лушать стихо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95280" y="260280"/>
            <a:ext cx="8497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берите верное утвержд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•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Если у человека есть сила воли, он не сможет побороть в себе плохие ка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• 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Если у человека есть сила воли, он сможет побороть в себе плохие ка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esktop\slide-54.jpg"/>
          <p:cNvPicPr/>
          <p:nvPr/>
        </p:nvPicPr>
        <p:blipFill>
          <a:blip r:embed="rId1"/>
          <a:stretch/>
        </p:blipFill>
        <p:spPr>
          <a:xfrm>
            <a:off x="324000" y="246240"/>
            <a:ext cx="882792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10:27Z</dcterms:created>
  <dc:creator>1</dc:creator>
  <dc:description/>
  <dc:language>en-US</dc:language>
  <cp:lastModifiedBy>Пользователь</cp:lastModifiedBy>
  <dcterms:modified xsi:type="dcterms:W3CDTF">2023-02-13T15:16:06Z</dcterms:modified>
  <cp:revision>52</cp:revision>
  <dc:subject/>
  <dc:title>Сергей Владимирович Михалков</dc:title>
</cp:coreProperties>
</file>