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AD78-ABCB-4A22-9E6E-8B4823DEC36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CF1-9915-464F-AB3F-2E2C2DE1ADA6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0F60-A6C4-42C0-8DEA-DFC29092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9E27-B0ED-416A-BFE8-F52A723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DB74-B41C-4C23-85AC-28B77D1B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EEEC-CA0F-40CC-B921-D2FE2182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8FE6-D210-4F4C-B5FE-80EFF58E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304B-C12C-478A-9DFF-2C523D8A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4E8A-3288-4254-AC2B-CC8E42F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8570-54F4-4C50-A65E-C345F1A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385A-9165-403F-9FA7-74C9577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D9A3-39C4-4011-B94B-54ADF9AB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8D31-A5C9-4EDC-8BAC-5B80CD5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3473-4FA8-4FEA-9C0B-A4B54104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AD3C-A217-497A-9BCD-DAA8091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F13C-9A5D-4856-BF88-96AD33E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2E9-6867-4B20-8EBD-EDD3CD87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C71-BB24-451B-89C4-15511943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F0E5-855D-426A-92FD-8F671382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ED80-C9D8-4902-91E7-A9697A68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E1AD-5AD5-428F-87EE-ECA0193C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2366-9FCC-40EF-BC58-1E839A1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4CFC-D76D-4007-8766-6667988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8A3B-EA45-4D2E-8DA6-52122766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EE5F-E880-45EA-9505-7DC9735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7A6D-A639-4081-BACD-B492B2F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1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A7B-F8FA-470B-8916-2D8C40A55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18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D33-C8E8-48A5-826E-1CF611103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235692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етевое взаимодействие специалиста с родителями (законными представителями), как современная форма работ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214960" y="578628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ла: учитель-логопед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убарева Н.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ДОБУ «Сертоловский ДСКВ№2»</a:t>
            </a: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ывод: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8760" y="499680"/>
            <a:ext cx="85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marL="301680" indent="-301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 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Только используя все формы работ и системный подход можно добиться подлинного доверия и партнёрства с родителями на основе диалогической стратегии сотрудничества специалиста и родителей.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7"/>
          <p:cNvSpPr txBox="1"/>
          <p:nvPr/>
        </p:nvSpPr>
        <p:spPr>
          <a:xfrm>
            <a:off x="1643040" y="2143080"/>
            <a:ext cx="6665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bcd81"/>
                    </a:gs>
                    <a:gs pos="100000">
                      <a:srgbClr val="33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12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bcd81"/>
                  </a:gs>
                  <a:gs pos="100000">
                    <a:srgbClr val="33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овременный родитель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Низкая компетентность поведения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Проблема неполных семей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Полная занятость(перегрузка на работе)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Постоянный стресс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7651"/>
                </a:solidFill>
                <a:latin typeface="Comic Sans MS"/>
              </a:rPr>
              <a:t>Нежелание видеть проблему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актуальность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9288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Семье принадлежит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основная</a:t>
            </a: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 общественная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функция</a:t>
            </a: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воспитание детей</a:t>
            </a:r>
            <a:r>
              <a:rPr b="1" lang="ru-RU" sz="3600" spc="-1" strike="noStrike">
                <a:solidFill>
                  <a:srgbClr val="2f7651"/>
                </a:solidFill>
                <a:latin typeface="Comic Sans MS"/>
              </a:rPr>
              <a:t>, она была и остается жизненно необходимой средой для сохранения и передачи социальных и культурных ценностей, определяющим фактором формирования личности ребенка.</a:t>
            </a:r>
            <a:endParaRPr b="1" lang="en-US" sz="36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Rectangle 134"/>
          <p:cNvGrpSpPr/>
          <p:nvPr/>
        </p:nvGrpSpPr>
        <p:grpSpPr>
          <a:xfrm>
            <a:off x="414360" y="2036880"/>
            <a:ext cx="6656400" cy="968400"/>
            <a:chOff x="414360" y="2036880"/>
            <a:chExt cx="6656400" cy="968400"/>
          </a:xfrm>
        </p:grpSpPr>
        <p:pic>
          <p:nvPicPr>
            <p:cNvPr id="101" name="Rectangle 134" descr=""/>
            <p:cNvPicPr/>
            <p:nvPr/>
          </p:nvPicPr>
          <p:blipFill>
            <a:blip r:embed="rId1"/>
            <a:stretch/>
          </p:blipFill>
          <p:spPr>
            <a:xfrm>
              <a:off x="414360" y="2036880"/>
              <a:ext cx="6656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571680" y="2143080"/>
              <a:ext cx="64418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Выстроить подлинное доверие и партнерство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с семьей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03" name="Group 114"/>
          <p:cNvGrpSpPr/>
          <p:nvPr/>
        </p:nvGrpSpPr>
        <p:grpSpPr>
          <a:xfrm>
            <a:off x="6492960" y="1928880"/>
            <a:ext cx="1098000" cy="1001160"/>
            <a:chOff x="6492960" y="1928880"/>
            <a:chExt cx="1098000" cy="1001160"/>
          </a:xfrm>
        </p:grpSpPr>
        <p:grpSp>
          <p:nvGrpSpPr>
            <p:cNvPr id="104" name="Group 115"/>
            <p:cNvGrpSpPr/>
            <p:nvPr/>
          </p:nvGrpSpPr>
          <p:grpSpPr>
            <a:xfrm>
              <a:off x="6492960" y="1928880"/>
              <a:ext cx="1098000" cy="1001160"/>
              <a:chOff x="6492960" y="1928880"/>
              <a:chExt cx="1098000" cy="1001160"/>
            </a:xfrm>
          </p:grpSpPr>
          <p:sp>
            <p:nvSpPr>
              <p:cNvPr id="105" name="Oval 116"/>
              <p:cNvSpPr/>
              <p:nvPr/>
            </p:nvSpPr>
            <p:spPr>
              <a:xfrm>
                <a:off x="6492960" y="192888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06" name="Freeform 117"/>
              <p:cNvSpPr/>
              <p:nvPr/>
            </p:nvSpPr>
            <p:spPr>
              <a:xfrm>
                <a:off x="6635160" y="1928880"/>
                <a:ext cx="8470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07" name="Text Box 118"/>
            <p:cNvSpPr/>
            <p:nvPr/>
          </p:nvSpPr>
          <p:spPr>
            <a:xfrm>
              <a:off x="6809400" y="2213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08" name="Rectangle 141"/>
          <p:cNvGrpSpPr/>
          <p:nvPr/>
        </p:nvGrpSpPr>
        <p:grpSpPr>
          <a:xfrm>
            <a:off x="414360" y="3176640"/>
            <a:ext cx="7095960" cy="968400"/>
            <a:chOff x="414360" y="3176640"/>
            <a:chExt cx="7095960" cy="968400"/>
          </a:xfrm>
        </p:grpSpPr>
        <p:pic>
          <p:nvPicPr>
            <p:cNvPr id="109" name="Rectangle 141" descr=""/>
            <p:cNvPicPr/>
            <p:nvPr/>
          </p:nvPicPr>
          <p:blipFill>
            <a:blip r:embed="rId2"/>
            <a:stretch/>
          </p:blipFill>
          <p:spPr>
            <a:xfrm>
              <a:off x="414360" y="3176640"/>
              <a:ext cx="70959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/>
            <p:cNvSpPr/>
            <p:nvPr/>
          </p:nvSpPr>
          <p:spPr>
            <a:xfrm>
              <a:off x="571680" y="3274920"/>
              <a:ext cx="6884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Обеспечить физическое и психическое здоровье 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и развитие детей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11" name="Group 104"/>
          <p:cNvGrpSpPr/>
          <p:nvPr/>
        </p:nvGrpSpPr>
        <p:grpSpPr>
          <a:xfrm>
            <a:off x="7072200" y="3071880"/>
            <a:ext cx="1087200" cy="1006200"/>
            <a:chOff x="7072200" y="3071880"/>
            <a:chExt cx="1087200" cy="1006200"/>
          </a:xfrm>
        </p:grpSpPr>
        <p:grpSp>
          <p:nvGrpSpPr>
            <p:cNvPr id="112" name="Group 105"/>
            <p:cNvGrpSpPr/>
            <p:nvPr/>
          </p:nvGrpSpPr>
          <p:grpSpPr>
            <a:xfrm>
              <a:off x="7072200" y="3071880"/>
              <a:ext cx="1087200" cy="1006200"/>
              <a:chOff x="7072200" y="3071880"/>
              <a:chExt cx="1087200" cy="1006200"/>
            </a:xfrm>
          </p:grpSpPr>
          <p:sp>
            <p:nvSpPr>
              <p:cNvPr id="113" name="Oval 106"/>
              <p:cNvSpPr/>
              <p:nvPr/>
            </p:nvSpPr>
            <p:spPr>
              <a:xfrm>
                <a:off x="7072200" y="307188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14" name="Freeform 107"/>
              <p:cNvSpPr/>
              <p:nvPr/>
            </p:nvSpPr>
            <p:spPr>
              <a:xfrm>
                <a:off x="7195680" y="3089160"/>
                <a:ext cx="839520" cy="37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15" name="Text Box 108"/>
            <p:cNvSpPr/>
            <p:nvPr/>
          </p:nvSpPr>
          <p:spPr>
            <a:xfrm>
              <a:off x="7421400" y="3210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16" name="Rectangle 133"/>
          <p:cNvGrpSpPr/>
          <p:nvPr/>
        </p:nvGrpSpPr>
        <p:grpSpPr>
          <a:xfrm>
            <a:off x="414360" y="4395960"/>
            <a:ext cx="8120160" cy="888840"/>
            <a:chOff x="414360" y="4395960"/>
            <a:chExt cx="8120160" cy="888840"/>
          </a:xfrm>
        </p:grpSpPr>
        <p:pic>
          <p:nvPicPr>
            <p:cNvPr id="117" name="Rectangle 133" descr=""/>
            <p:cNvPicPr/>
            <p:nvPr/>
          </p:nvPicPr>
          <p:blipFill>
            <a:blip r:embed="rId3"/>
            <a:stretch/>
          </p:blipFill>
          <p:spPr>
            <a:xfrm>
              <a:off x="414360" y="4395960"/>
              <a:ext cx="81201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1"/>
            <p:cNvSpPr/>
            <p:nvPr/>
          </p:nvSpPr>
          <p:spPr>
            <a:xfrm>
              <a:off x="571680" y="4429080"/>
              <a:ext cx="79056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omic Sans MS"/>
                </a:rPr>
                <a:t>Вовлечь родителей в образовательный процесс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19" name="Group 109"/>
          <p:cNvGrpSpPr/>
          <p:nvPr/>
        </p:nvGrpSpPr>
        <p:grpSpPr>
          <a:xfrm>
            <a:off x="7929720" y="4214880"/>
            <a:ext cx="1098000" cy="1012320"/>
            <a:chOff x="7929720" y="4214880"/>
            <a:chExt cx="1098000" cy="1012320"/>
          </a:xfrm>
        </p:grpSpPr>
        <p:grpSp>
          <p:nvGrpSpPr>
            <p:cNvPr id="120" name="Group 110"/>
            <p:cNvGrpSpPr/>
            <p:nvPr/>
          </p:nvGrpSpPr>
          <p:grpSpPr>
            <a:xfrm>
              <a:off x="7929720" y="4214880"/>
              <a:ext cx="1098000" cy="1012320"/>
              <a:chOff x="7929720" y="4214880"/>
              <a:chExt cx="1098000" cy="1012320"/>
            </a:xfrm>
          </p:grpSpPr>
          <p:sp>
            <p:nvSpPr>
              <p:cNvPr id="121" name="Oval 111"/>
              <p:cNvSpPr/>
              <p:nvPr/>
            </p:nvSpPr>
            <p:spPr>
              <a:xfrm>
                <a:off x="7929720" y="421488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22" name="Freeform 112"/>
              <p:cNvSpPr/>
              <p:nvPr/>
            </p:nvSpPr>
            <p:spPr>
              <a:xfrm>
                <a:off x="8055000" y="4232160"/>
                <a:ext cx="847080" cy="380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23" name="Text Box 113"/>
            <p:cNvSpPr/>
            <p:nvPr/>
          </p:nvSpPr>
          <p:spPr>
            <a:xfrm>
              <a:off x="8359920" y="4269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124" name="TextBox 29"/>
          <p:cNvSpPr/>
          <p:nvPr/>
        </p:nvSpPr>
        <p:spPr>
          <a:xfrm>
            <a:off x="3071880" y="35712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omic Sans MS"/>
              </a:rPr>
              <a:t>ЗАДАЧИ: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дагогическая деятельност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Содержимое 5" descr=""/>
          <p:cNvPicPr/>
          <p:nvPr/>
        </p:nvPicPr>
        <p:blipFill>
          <a:blip r:embed="rId1"/>
          <a:stretch/>
        </p:blipFill>
        <p:spPr>
          <a:xfrm>
            <a:off x="438120" y="1347840"/>
            <a:ext cx="82551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46"/>
          <p:cNvGrpSpPr/>
          <p:nvPr/>
        </p:nvGrpSpPr>
        <p:grpSpPr>
          <a:xfrm>
            <a:off x="-2071800" y="1428840"/>
            <a:ext cx="8601120" cy="4430520"/>
            <a:chOff x="-2071800" y="1428840"/>
            <a:chExt cx="8601120" cy="4430520"/>
          </a:xfrm>
        </p:grpSpPr>
        <p:sp>
          <p:nvSpPr>
            <p:cNvPr id="128" name="AutoShape 2"/>
            <p:cNvSpPr/>
            <p:nvPr/>
          </p:nvSpPr>
          <p:spPr>
            <a:xfrm rot="5400000">
              <a:off x="-2071440" y="1428480"/>
              <a:ext cx="4430520" cy="443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9" name="AutoShape 3"/>
            <p:cNvSpPr/>
            <p:nvPr/>
          </p:nvSpPr>
          <p:spPr>
            <a:xfrm rot="5400000">
              <a:off x="-1829520" y="1783440"/>
              <a:ext cx="3768840" cy="376704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cc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130" name="Group 41"/>
            <p:cNvGrpSpPr/>
            <p:nvPr/>
          </p:nvGrpSpPr>
          <p:grpSpPr>
            <a:xfrm>
              <a:off x="1617840" y="1957320"/>
              <a:ext cx="4732200" cy="538200"/>
              <a:chOff x="1617840" y="1957320"/>
              <a:chExt cx="4732200" cy="538200"/>
            </a:xfrm>
          </p:grpSpPr>
          <p:sp>
            <p:nvSpPr>
              <p:cNvPr id="131" name="AutoShape 5"/>
              <p:cNvSpPr/>
              <p:nvPr/>
            </p:nvSpPr>
            <p:spPr>
              <a:xfrm>
                <a:off x="1908360" y="1957320"/>
                <a:ext cx="436860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2b166e">
                      <a:alpha val="98039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32" name="Group 6"/>
              <p:cNvGrpSpPr/>
              <p:nvPr/>
            </p:nvGrpSpPr>
            <p:grpSpPr>
              <a:xfrm>
                <a:off x="1617840" y="1994040"/>
                <a:ext cx="501480" cy="501480"/>
                <a:chOff x="1617840" y="1994040"/>
                <a:chExt cx="501480" cy="501480"/>
              </a:xfrm>
            </p:grpSpPr>
            <p:sp>
              <p:nvSpPr>
                <p:cNvPr id="133" name="Oval 7"/>
                <p:cNvSpPr/>
                <p:nvPr/>
              </p:nvSpPr>
              <p:spPr>
                <a:xfrm>
                  <a:off x="1617840" y="199404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34" name="Oval 8"/>
                <p:cNvSpPr/>
                <p:nvPr/>
              </p:nvSpPr>
              <p:spPr>
                <a:xfrm>
                  <a:off x="1693800" y="207180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5" name="Text Box 10"/>
              <p:cNvSpPr/>
              <p:nvPr/>
            </p:nvSpPr>
            <p:spPr>
              <a:xfrm>
                <a:off x="1717920" y="20718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2021040" y="2043000"/>
                <a:ext cx="432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Тематические консультации и беседы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37" name="Group 42"/>
            <p:cNvGrpSpPr/>
            <p:nvPr/>
          </p:nvGrpSpPr>
          <p:grpSpPr>
            <a:xfrm>
              <a:off x="1967040" y="2685960"/>
              <a:ext cx="4309920" cy="539640"/>
              <a:chOff x="1967040" y="2685960"/>
              <a:chExt cx="4309920" cy="539640"/>
            </a:xfrm>
          </p:grpSpPr>
          <p:sp>
            <p:nvSpPr>
              <p:cNvPr id="138" name="AutoShape 4"/>
              <p:cNvSpPr/>
              <p:nvPr/>
            </p:nvSpPr>
            <p:spPr>
              <a:xfrm>
                <a:off x="2311560" y="2685960"/>
                <a:ext cx="396540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2b166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39" name="Text Box 12"/>
              <p:cNvSpPr/>
              <p:nvPr/>
            </p:nvSpPr>
            <p:spPr>
              <a:xfrm>
                <a:off x="2475000" y="2771640"/>
                <a:ext cx="219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2f2f2"/>
                    </a:solidFill>
                    <a:latin typeface="Comic Sans MS"/>
                  </a:rPr>
                  <a:t>Мастер-классы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40" name="Group 14"/>
              <p:cNvGrpSpPr/>
              <p:nvPr/>
            </p:nvGrpSpPr>
            <p:grpSpPr>
              <a:xfrm>
                <a:off x="1967040" y="2724120"/>
                <a:ext cx="501480" cy="501480"/>
                <a:chOff x="1967040" y="2724120"/>
                <a:chExt cx="501480" cy="501480"/>
              </a:xfrm>
            </p:grpSpPr>
            <p:sp>
              <p:nvSpPr>
                <p:cNvPr id="141" name="Oval 15"/>
                <p:cNvSpPr/>
                <p:nvPr/>
              </p:nvSpPr>
              <p:spPr>
                <a:xfrm>
                  <a:off x="1967040" y="2724120"/>
                  <a:ext cx="501480" cy="5014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42" name="Oval 16"/>
                <p:cNvSpPr/>
                <p:nvPr/>
              </p:nvSpPr>
              <p:spPr>
                <a:xfrm>
                  <a:off x="2043000" y="280188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3" name="Text Box 17"/>
              <p:cNvSpPr/>
              <p:nvPr/>
            </p:nvSpPr>
            <p:spPr>
              <a:xfrm>
                <a:off x="2070360" y="280044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43"/>
            <p:cNvGrpSpPr/>
            <p:nvPr/>
          </p:nvGrpSpPr>
          <p:grpSpPr>
            <a:xfrm>
              <a:off x="2108160" y="3357360"/>
              <a:ext cx="4199040" cy="590400"/>
              <a:chOff x="2108160" y="3357360"/>
              <a:chExt cx="4199040" cy="590400"/>
            </a:xfrm>
          </p:grpSpPr>
          <p:sp>
            <p:nvSpPr>
              <p:cNvPr id="145" name="AutoShape 18"/>
              <p:cNvSpPr/>
              <p:nvPr/>
            </p:nvSpPr>
            <p:spPr>
              <a:xfrm>
                <a:off x="2428920" y="3357360"/>
                <a:ext cx="387828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2b166e">
                      <a:alpha val="98039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46" name="Group 19"/>
              <p:cNvGrpSpPr/>
              <p:nvPr/>
            </p:nvGrpSpPr>
            <p:grpSpPr>
              <a:xfrm>
                <a:off x="2108160" y="3446280"/>
                <a:ext cx="501480" cy="501480"/>
                <a:chOff x="2108160" y="3446280"/>
                <a:chExt cx="501480" cy="501480"/>
              </a:xfrm>
            </p:grpSpPr>
            <p:sp>
              <p:nvSpPr>
                <p:cNvPr id="147" name="Oval 20"/>
                <p:cNvSpPr/>
                <p:nvPr/>
              </p:nvSpPr>
              <p:spPr>
                <a:xfrm>
                  <a:off x="2108160" y="344628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48" name="Oval 21"/>
                <p:cNvSpPr/>
                <p:nvPr/>
              </p:nvSpPr>
              <p:spPr>
                <a:xfrm>
                  <a:off x="2184120" y="352404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" name="Text Box 22"/>
              <p:cNvSpPr/>
              <p:nvPr/>
            </p:nvSpPr>
            <p:spPr>
              <a:xfrm>
                <a:off x="2208600" y="35244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50" name="Text Box 23"/>
              <p:cNvSpPr/>
              <p:nvPr/>
            </p:nvSpPr>
            <p:spPr>
              <a:xfrm>
                <a:off x="2604240" y="3357360"/>
                <a:ext cx="3405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Интернет-ресурсы: мини-сайт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 </a:t>
                </a: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логопеда-дефектолога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44"/>
            <p:cNvGrpSpPr/>
            <p:nvPr/>
          </p:nvGrpSpPr>
          <p:grpSpPr>
            <a:xfrm>
              <a:off x="1967040" y="4162320"/>
              <a:ext cx="4562280" cy="539640"/>
              <a:chOff x="1967040" y="4162320"/>
              <a:chExt cx="4562280" cy="539640"/>
            </a:xfrm>
          </p:grpSpPr>
          <p:sp>
            <p:nvSpPr>
              <p:cNvPr id="152" name="AutoShape 24"/>
              <p:cNvSpPr/>
              <p:nvPr/>
            </p:nvSpPr>
            <p:spPr>
              <a:xfrm>
                <a:off x="2311560" y="4162320"/>
                <a:ext cx="4037040" cy="52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2b166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53" name="Text Box 25"/>
              <p:cNvSpPr/>
              <p:nvPr/>
            </p:nvSpPr>
            <p:spPr>
              <a:xfrm>
                <a:off x="2387880" y="4248000"/>
                <a:ext cx="4141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2f2f2"/>
                    </a:solidFill>
                    <a:latin typeface="Comic Sans MS"/>
                  </a:rPr>
                  <a:t>Проведение тематических выставок</a:t>
                </a:r>
                <a:endParaRPr b="0" lang="en-US" sz="16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54" name="Group 26"/>
              <p:cNvGrpSpPr/>
              <p:nvPr/>
            </p:nvGrpSpPr>
            <p:grpSpPr>
              <a:xfrm>
                <a:off x="1967040" y="4200480"/>
                <a:ext cx="501480" cy="501480"/>
                <a:chOff x="1967040" y="4200480"/>
                <a:chExt cx="501480" cy="501480"/>
              </a:xfrm>
            </p:grpSpPr>
            <p:sp>
              <p:nvSpPr>
                <p:cNvPr id="155" name="Oval 27"/>
                <p:cNvSpPr/>
                <p:nvPr/>
              </p:nvSpPr>
              <p:spPr>
                <a:xfrm>
                  <a:off x="1967040" y="4200480"/>
                  <a:ext cx="501480" cy="5014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56" name="Oval 28"/>
                <p:cNvSpPr/>
                <p:nvPr/>
              </p:nvSpPr>
              <p:spPr>
                <a:xfrm>
                  <a:off x="2043000" y="427824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7" name="Text Box 29"/>
              <p:cNvSpPr/>
              <p:nvPr/>
            </p:nvSpPr>
            <p:spPr>
              <a:xfrm>
                <a:off x="2070360" y="42768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45"/>
            <p:cNvGrpSpPr/>
            <p:nvPr/>
          </p:nvGrpSpPr>
          <p:grpSpPr>
            <a:xfrm>
              <a:off x="1523880" y="4929120"/>
              <a:ext cx="4834080" cy="542880"/>
              <a:chOff x="1523880" y="4929120"/>
              <a:chExt cx="4834080" cy="542880"/>
            </a:xfrm>
          </p:grpSpPr>
          <p:sp>
            <p:nvSpPr>
              <p:cNvPr id="159" name="AutoShape 30"/>
              <p:cNvSpPr/>
              <p:nvPr/>
            </p:nvSpPr>
            <p:spPr>
              <a:xfrm>
                <a:off x="1857240" y="4929120"/>
                <a:ext cx="4500720" cy="53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cc33"/>
                  </a:gs>
                  <a:gs pos="100000">
                    <a:srgbClr val="2b166e">
                      <a:alpha val="98039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160" name="Group 31"/>
              <p:cNvGrpSpPr/>
              <p:nvPr/>
            </p:nvGrpSpPr>
            <p:grpSpPr>
              <a:xfrm>
                <a:off x="1523880" y="4970520"/>
                <a:ext cx="501480" cy="501480"/>
                <a:chOff x="1523880" y="4970520"/>
                <a:chExt cx="501480" cy="501480"/>
              </a:xfrm>
            </p:grpSpPr>
            <p:sp>
              <p:nvSpPr>
                <p:cNvPr id="161" name="Oval 32"/>
                <p:cNvSpPr/>
                <p:nvPr/>
              </p:nvSpPr>
              <p:spPr>
                <a:xfrm>
                  <a:off x="1523880" y="4970520"/>
                  <a:ext cx="501480" cy="50148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162" name="Oval 33"/>
                <p:cNvSpPr/>
                <p:nvPr/>
              </p:nvSpPr>
              <p:spPr>
                <a:xfrm>
                  <a:off x="1599840" y="5048280"/>
                  <a:ext cx="349200" cy="34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" name="Text Box 34"/>
              <p:cNvSpPr/>
              <p:nvPr/>
            </p:nvSpPr>
            <p:spPr>
              <a:xfrm>
                <a:off x="1624320" y="50482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64" name="Text Box 35"/>
              <p:cNvSpPr/>
              <p:nvPr/>
            </p:nvSpPr>
            <p:spPr>
              <a:xfrm>
                <a:off x="1913760" y="5019480"/>
                <a:ext cx="367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2f2f2"/>
                    </a:solidFill>
                    <a:latin typeface="Comic Sans MS"/>
                  </a:rPr>
                  <a:t>Информационный уголок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sp>
        <p:nvSpPr>
          <p:cNvPr id="165" name="AutoShape 5"/>
          <p:cNvSpPr/>
          <p:nvPr/>
        </p:nvSpPr>
        <p:spPr>
          <a:xfrm>
            <a:off x="1214280" y="1285920"/>
            <a:ext cx="500076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33"/>
              </a:gs>
              <a:gs pos="100000">
                <a:srgbClr val="2b166e">
                  <a:alpha val="9803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omic Sans MS"/>
              </a:rPr>
              <a:t>Групповые собрания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857160" y="1285920"/>
            <a:ext cx="501840" cy="5014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928800" y="1357200"/>
            <a:ext cx="3492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166e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214280" y="5715000"/>
            <a:ext cx="521496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33"/>
              </a:gs>
              <a:gs pos="100000">
                <a:srgbClr val="2b166e">
                  <a:alpha val="9803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166e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щение  в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legram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нале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785880" y="5715000"/>
            <a:ext cx="501480" cy="5014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857160" y="5786280"/>
            <a:ext cx="349200" cy="34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166e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1" name="Прямоугольник 51"/>
          <p:cNvSpPr/>
          <p:nvPr/>
        </p:nvSpPr>
        <p:spPr>
          <a:xfrm>
            <a:off x="-142920" y="285768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1e10"/>
                </a:solidFill>
                <a:latin typeface="Comic Sans MS"/>
              </a:rPr>
              <a:t>Формы 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1e10"/>
                </a:solidFill>
                <a:latin typeface="Comic Sans MS"/>
              </a:rPr>
              <a:t>работы с родителями: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72" name="Picture 23" descr="006"/>
          <p:cNvPicPr/>
          <p:nvPr/>
        </p:nvPicPr>
        <p:blipFill>
          <a:blip r:embed="rId1"/>
          <a:stretch/>
        </p:blipFill>
        <p:spPr>
          <a:xfrm>
            <a:off x="6786720" y="22860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015"/>
          <p:cNvPicPr/>
          <p:nvPr/>
        </p:nvPicPr>
        <p:blipFill>
          <a:blip r:embed="rId2"/>
          <a:stretch/>
        </p:blipFill>
        <p:spPr>
          <a:xfrm>
            <a:off x="6858000" y="4643280"/>
            <a:ext cx="17524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нтернет ресурсы (мини-сайт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C:\Users\G\Downloads\2022-12-03_21-16-21.png"/>
          <p:cNvPicPr/>
          <p:nvPr/>
        </p:nvPicPr>
        <p:blipFill>
          <a:blip r:embed="rId1"/>
          <a:stretch/>
        </p:blipFill>
        <p:spPr>
          <a:xfrm>
            <a:off x="571680" y="1071720"/>
            <a:ext cx="81435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legram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анал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C:\Users\G\Downloads\IMG_8628.PNG"/>
          <p:cNvPicPr/>
          <p:nvPr/>
        </p:nvPicPr>
        <p:blipFill>
          <a:blip r:embed="rId1"/>
          <a:stretch/>
        </p:blipFill>
        <p:spPr>
          <a:xfrm>
            <a:off x="1000080" y="1214280"/>
            <a:ext cx="20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G\Downloads\IMG_8692.PNG"/>
          <p:cNvPicPr/>
          <p:nvPr/>
        </p:nvPicPr>
        <p:blipFill>
          <a:blip r:embed="rId2"/>
          <a:stretch/>
        </p:blipFill>
        <p:spPr>
          <a:xfrm>
            <a:off x="6143760" y="1214280"/>
            <a:ext cx="2455560" cy="4857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Users\G\Downloads\IMG_8695.jpg"/>
          <p:cNvPicPr/>
          <p:nvPr/>
        </p:nvPicPr>
        <p:blipFill>
          <a:blip r:embed="rId3"/>
          <a:stretch/>
        </p:blipFill>
        <p:spPr>
          <a:xfrm>
            <a:off x="3500280" y="1071720"/>
            <a:ext cx="2319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Тематическая выставк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4" descr="C:\Users\G\Downloads\IMG_8370 (1).jpg"/>
          <p:cNvPicPr/>
          <p:nvPr/>
        </p:nvPicPr>
        <p:blipFill>
          <a:blip r:embed="rId1"/>
          <a:stretch/>
        </p:blipFill>
        <p:spPr>
          <a:xfrm>
            <a:off x="142920" y="1143000"/>
            <a:ext cx="3929040" cy="4929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G\Downloads\IMG_8373 (1).jpg"/>
          <p:cNvPicPr/>
          <p:nvPr/>
        </p:nvPicPr>
        <p:blipFill>
          <a:blip r:embed="rId2"/>
          <a:stretch/>
        </p:blipFill>
        <p:spPr>
          <a:xfrm>
            <a:off x="4429080" y="1857240"/>
            <a:ext cx="4500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7:08:36Z</dcterms:created>
  <dc:creator>Альбертинью</dc:creator>
  <dc:description/>
  <dc:language>en-US</dc:language>
  <cp:lastModifiedBy>G</cp:lastModifiedBy>
  <dcterms:modified xsi:type="dcterms:W3CDTF">2023-02-13T13:19:22Z</dcterms:modified>
  <cp:revision>58</cp:revision>
  <dc:subject/>
  <dc:title>ОЗНАКОМЛЕНИЕ ДЕТЕЙ ДОШКОЛЬНОГО ВОЗРАСТА С ОКРУЖАЮЩЕЙ ПРИРОДОЙ</dc:title>
</cp:coreProperties>
</file>