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463-F24A-4B10-B9F2-481CA088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A93-0050-4D76-8D93-5823F46C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34D-2204-4F84-AB27-2626F251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A35-691F-408C-B4D0-8ADAFEBC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257-E42B-477C-85C0-7386A9F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431-BB12-4258-A5A7-488E85E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ABC-4580-4F6D-A4B4-A1CB5E4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E8E-83C6-4287-9668-6D3BF86D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1D7-DA65-4A84-91E1-B05EEE8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FD5-FDB1-40A1-9C47-06A85BE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24B-31C6-4325-B13D-19C0418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7D5-9932-4FD4-B64C-0B48E84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89B-45AC-4D83-8FA0-DB0DA0F3B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image" Target="../media/image7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image" Target="../media/image18.jpeg"/><Relationship Id="rId10" Type="http://schemas.openxmlformats.org/officeDocument/2006/relationships/image" Target="../media/image7.png"/><Relationship Id="rId11" Type="http://schemas.openxmlformats.org/officeDocument/2006/relationships/image" Target="../media/image19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Автоматизация звука </a:t>
            </a: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Р</a:t>
            </a: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11280" y="692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Детский сад общеразвивающего вида с приоритетным осуществле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деятельности по познавательно-речевому направлению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воспитанников №4 «Ручеек»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116000" y="5300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Подготовила: Байкина Татьян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456200" y="1197000"/>
            <a:ext cx="647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Составь фраз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(За красным облаком 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Цель: автоматизация звука р во фра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6348240" y="4162320"/>
            <a:ext cx="1935360" cy="1866960"/>
            <a:chOff x="6348240" y="4162320"/>
            <a:chExt cx="1935360" cy="1866960"/>
          </a:xfrm>
        </p:grpSpPr>
        <p:sp>
          <p:nvSpPr>
            <p:cNvPr id="46" name="Freeform 3"/>
            <p:cNvSpPr/>
            <p:nvPr/>
          </p:nvSpPr>
          <p:spPr>
            <a:xfrm>
              <a:off x="6348240" y="4162320"/>
              <a:ext cx="1935360" cy="18669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C:\Users\Pavel\Desktop\автоматизация звука р с фонариком\robot-clip-art-96.png"/>
            <p:cNvPicPr/>
            <p:nvPr/>
          </p:nvPicPr>
          <p:blipFill>
            <a:blip r:embed="rId1"/>
            <a:stretch/>
          </p:blipFill>
          <p:spPr>
            <a:xfrm>
              <a:off x="6638400" y="4275360"/>
              <a:ext cx="1380960" cy="164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5"/>
          <p:cNvGrpSpPr/>
          <p:nvPr/>
        </p:nvGrpSpPr>
        <p:grpSpPr>
          <a:xfrm>
            <a:off x="3611520" y="4137120"/>
            <a:ext cx="1960560" cy="1892160"/>
            <a:chOff x="3611520" y="4137120"/>
            <a:chExt cx="1960560" cy="1892160"/>
          </a:xfrm>
        </p:grpSpPr>
        <p:sp>
          <p:nvSpPr>
            <p:cNvPr id="49" name="Freeform 6"/>
            <p:cNvSpPr/>
            <p:nvPr/>
          </p:nvSpPr>
          <p:spPr>
            <a:xfrm>
              <a:off x="3611520" y="413712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7" descr="C:\Users\Pavel\Desktop\звук р\s1200.png"/>
            <p:cNvPicPr/>
            <p:nvPr/>
          </p:nvPicPr>
          <p:blipFill>
            <a:blip r:embed="rId2"/>
            <a:stretch/>
          </p:blipFill>
          <p:spPr>
            <a:xfrm>
              <a:off x="3743280" y="4425480"/>
              <a:ext cx="1695600" cy="13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8"/>
          <p:cNvGrpSpPr/>
          <p:nvPr/>
        </p:nvGrpSpPr>
        <p:grpSpPr>
          <a:xfrm>
            <a:off x="426960" y="4221000"/>
            <a:ext cx="1962360" cy="1892520"/>
            <a:chOff x="426960" y="4221000"/>
            <a:chExt cx="1962360" cy="1892520"/>
          </a:xfrm>
        </p:grpSpPr>
        <p:sp>
          <p:nvSpPr>
            <p:cNvPr id="52" name="Freeform 9"/>
            <p:cNvSpPr/>
            <p:nvPr/>
          </p:nvSpPr>
          <p:spPr>
            <a:xfrm>
              <a:off x="426960" y="4221000"/>
              <a:ext cx="19623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0" descr="C:\Users\Pavel\Desktop\istockphoto-966520740-612x612.jpg"/>
            <p:cNvPicPr/>
            <p:nvPr/>
          </p:nvPicPr>
          <p:blipFill>
            <a:blip r:embed="rId3"/>
            <a:stretch/>
          </p:blipFill>
          <p:spPr>
            <a:xfrm>
              <a:off x="520920" y="4537440"/>
              <a:ext cx="1786680" cy="129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1"/>
          <p:cNvGrpSpPr/>
          <p:nvPr/>
        </p:nvGrpSpPr>
        <p:grpSpPr>
          <a:xfrm>
            <a:off x="6357960" y="293760"/>
            <a:ext cx="1962000" cy="1892160"/>
            <a:chOff x="6357960" y="293760"/>
            <a:chExt cx="1962000" cy="1892160"/>
          </a:xfrm>
        </p:grpSpPr>
        <p:sp>
          <p:nvSpPr>
            <p:cNvPr id="55" name="Freeform 12"/>
            <p:cNvSpPr/>
            <p:nvPr/>
          </p:nvSpPr>
          <p:spPr>
            <a:xfrm>
              <a:off x="6357960" y="29376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3" descr="C:\Users\Pavel\Desktop\59fa74ef097bb7c52c48fefa33d2b7ec.png"/>
            <p:cNvPicPr/>
            <p:nvPr/>
          </p:nvPicPr>
          <p:blipFill>
            <a:blip r:embed="rId4"/>
            <a:stretch/>
          </p:blipFill>
          <p:spPr>
            <a:xfrm>
              <a:off x="6424200" y="915840"/>
              <a:ext cx="183780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4"/>
          <p:cNvGrpSpPr/>
          <p:nvPr/>
        </p:nvGrpSpPr>
        <p:grpSpPr>
          <a:xfrm>
            <a:off x="3598920" y="347760"/>
            <a:ext cx="1962000" cy="1892160"/>
            <a:chOff x="3598920" y="347760"/>
            <a:chExt cx="1962000" cy="1892160"/>
          </a:xfrm>
        </p:grpSpPr>
        <p:sp>
          <p:nvSpPr>
            <p:cNvPr id="58" name="Freeform 15"/>
            <p:cNvSpPr/>
            <p:nvPr/>
          </p:nvSpPr>
          <p:spPr>
            <a:xfrm>
              <a:off x="3598920" y="34776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C:\Users\Pavel\Desktop\для логопеда\hello_html_m5693d1d1.jpg"/>
            <p:cNvPicPr/>
            <p:nvPr/>
          </p:nvPicPr>
          <p:blipFill>
            <a:blip r:embed="rId5"/>
            <a:stretch/>
          </p:blipFill>
          <p:spPr>
            <a:xfrm>
              <a:off x="3791160" y="475560"/>
              <a:ext cx="1600920" cy="16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31"/>
          <p:cNvGrpSpPr/>
          <p:nvPr/>
        </p:nvGrpSpPr>
        <p:grpSpPr>
          <a:xfrm>
            <a:off x="444600" y="349200"/>
            <a:ext cx="1960560" cy="1892520"/>
            <a:chOff x="444600" y="349200"/>
            <a:chExt cx="1960560" cy="1892520"/>
          </a:xfrm>
        </p:grpSpPr>
        <p:sp>
          <p:nvSpPr>
            <p:cNvPr id="61" name="Freeform 32"/>
            <p:cNvSpPr/>
            <p:nvPr/>
          </p:nvSpPr>
          <p:spPr>
            <a:xfrm>
              <a:off x="444600" y="34920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7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8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5"/>
                  </a:lnTo>
                  <a:lnTo>
                    <a:pt x="348" y="20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0"/>
                  </a:lnTo>
                  <a:lnTo>
                    <a:pt x="2765" y="45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8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7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1"/>
                  </a:lnTo>
                  <a:lnTo>
                    <a:pt x="3002" y="2656"/>
                  </a:lnTo>
                  <a:lnTo>
                    <a:pt x="2969" y="2716"/>
                  </a:lnTo>
                  <a:lnTo>
                    <a:pt x="2928" y="2771"/>
                  </a:lnTo>
                  <a:lnTo>
                    <a:pt x="2879" y="2819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4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4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19"/>
                  </a:lnTo>
                  <a:lnTo>
                    <a:pt x="120" y="2771"/>
                  </a:lnTo>
                  <a:lnTo>
                    <a:pt x="79" y="2716"/>
                  </a:lnTo>
                  <a:lnTo>
                    <a:pt x="46" y="2656"/>
                  </a:lnTo>
                  <a:lnTo>
                    <a:pt x="21" y="2591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3" descr="C:\Users\Pavel\Desktop\для логопеда\0a09e6b6c7c3ab630d603add1eabf47f.jpg"/>
            <p:cNvPicPr/>
            <p:nvPr/>
          </p:nvPicPr>
          <p:blipFill>
            <a:blip r:embed="rId6"/>
            <a:stretch/>
          </p:blipFill>
          <p:spPr>
            <a:xfrm>
              <a:off x="559800" y="542880"/>
              <a:ext cx="1783800" cy="139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Рисунок 2" descr=""/>
          <p:cNvPicPr/>
          <p:nvPr/>
        </p:nvPicPr>
        <p:blipFill>
          <a:blip r:embed="rId7"/>
          <a:stretch/>
        </p:blipFill>
        <p:spPr>
          <a:xfrm>
            <a:off x="3479760" y="75888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8"/>
          <a:stretch/>
        </p:blipFill>
        <p:spPr>
          <a:xfrm>
            <a:off x="6622920" y="749160"/>
            <a:ext cx="262908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9"/>
          <a:stretch/>
        </p:blipFill>
        <p:spPr>
          <a:xfrm>
            <a:off x="268200" y="996840"/>
            <a:ext cx="2630520" cy="16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10"/>
          <a:stretch/>
        </p:blipFill>
        <p:spPr>
          <a:xfrm>
            <a:off x="627120" y="476244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11"/>
          <a:stretch/>
        </p:blipFill>
        <p:spPr>
          <a:xfrm>
            <a:off x="3639960" y="473724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12"/>
          <a:stretch/>
        </p:blipFill>
        <p:spPr>
          <a:xfrm>
            <a:off x="6392880" y="4691160"/>
            <a:ext cx="2630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492960" y="4097160"/>
            <a:ext cx="1960560" cy="1892520"/>
            <a:chOff x="6492960" y="4097160"/>
            <a:chExt cx="1960560" cy="1892520"/>
          </a:xfrm>
        </p:grpSpPr>
        <p:sp>
          <p:nvSpPr>
            <p:cNvPr id="70" name="Freeform 3"/>
            <p:cNvSpPr/>
            <p:nvPr/>
          </p:nvSpPr>
          <p:spPr>
            <a:xfrm>
              <a:off x="6492960" y="409716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4"/>
                  </a:lnTo>
                  <a:lnTo>
                    <a:pt x="120" y="169"/>
                  </a:lnTo>
                  <a:lnTo>
                    <a:pt x="169" y="121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1"/>
                  </a:lnTo>
                  <a:lnTo>
                    <a:pt x="2928" y="169"/>
                  </a:lnTo>
                  <a:lnTo>
                    <a:pt x="2969" y="224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1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2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1"/>
                  </a:lnTo>
                  <a:lnTo>
                    <a:pt x="490" y="2941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2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1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4" descr="C:\Users\Pavel\Desktop\1621866932_106605_url.png"/>
            <p:cNvPicPr/>
            <p:nvPr/>
          </p:nvPicPr>
          <p:blipFill>
            <a:blip r:embed="rId1"/>
            <a:stretch/>
          </p:blipFill>
          <p:spPr>
            <a:xfrm>
              <a:off x="6697440" y="4179600"/>
              <a:ext cx="15220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5"/>
          <p:cNvGrpSpPr/>
          <p:nvPr/>
        </p:nvGrpSpPr>
        <p:grpSpPr>
          <a:xfrm>
            <a:off x="3562200" y="4168800"/>
            <a:ext cx="1960560" cy="1892160"/>
            <a:chOff x="3562200" y="4168800"/>
            <a:chExt cx="1960560" cy="1892160"/>
          </a:xfrm>
        </p:grpSpPr>
        <p:sp>
          <p:nvSpPr>
            <p:cNvPr id="73" name="Freeform 6"/>
            <p:cNvSpPr/>
            <p:nvPr/>
          </p:nvSpPr>
          <p:spPr>
            <a:xfrm>
              <a:off x="3562200" y="416880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4"/>
                  </a:lnTo>
                  <a:lnTo>
                    <a:pt x="120" y="169"/>
                  </a:lnTo>
                  <a:lnTo>
                    <a:pt x="169" y="121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1"/>
                  </a:lnTo>
                  <a:lnTo>
                    <a:pt x="2928" y="169"/>
                  </a:lnTo>
                  <a:lnTo>
                    <a:pt x="2969" y="224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1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2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1"/>
                  </a:lnTo>
                  <a:lnTo>
                    <a:pt x="490" y="2941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2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1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7" descr="C:\Users\Pavel\Desktop\tyorka8.jpg"/>
            <p:cNvPicPr/>
            <p:nvPr/>
          </p:nvPicPr>
          <p:blipFill>
            <a:blip r:embed="rId2"/>
            <a:stretch/>
          </p:blipFill>
          <p:spPr>
            <a:xfrm>
              <a:off x="3935880" y="4225320"/>
              <a:ext cx="1236960" cy="177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8"/>
          <p:cNvGrpSpPr/>
          <p:nvPr/>
        </p:nvGrpSpPr>
        <p:grpSpPr>
          <a:xfrm>
            <a:off x="438120" y="4152960"/>
            <a:ext cx="1960560" cy="1892160"/>
            <a:chOff x="438120" y="4152960"/>
            <a:chExt cx="1960560" cy="1892160"/>
          </a:xfrm>
        </p:grpSpPr>
        <p:sp>
          <p:nvSpPr>
            <p:cNvPr id="76" name="Freeform 9"/>
            <p:cNvSpPr/>
            <p:nvPr/>
          </p:nvSpPr>
          <p:spPr>
            <a:xfrm>
              <a:off x="438120" y="415296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10" descr="C:\Users\Pavel\Desktop\18752fa6c457dfb32a017165ba31053b.jpg"/>
            <p:cNvPicPr/>
            <p:nvPr/>
          </p:nvPicPr>
          <p:blipFill>
            <a:blip r:embed="rId3"/>
            <a:stretch/>
          </p:blipFill>
          <p:spPr>
            <a:xfrm>
              <a:off x="601920" y="4316760"/>
              <a:ext cx="1658880" cy="155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16"/>
          <p:cNvGrpSpPr/>
          <p:nvPr/>
        </p:nvGrpSpPr>
        <p:grpSpPr>
          <a:xfrm>
            <a:off x="423720" y="431640"/>
            <a:ext cx="1960560" cy="1892520"/>
            <a:chOff x="423720" y="431640"/>
            <a:chExt cx="1960560" cy="1892520"/>
          </a:xfrm>
        </p:grpSpPr>
        <p:sp>
          <p:nvSpPr>
            <p:cNvPr id="79" name="Freeform 17"/>
            <p:cNvSpPr/>
            <p:nvPr/>
          </p:nvSpPr>
          <p:spPr>
            <a:xfrm>
              <a:off x="423720" y="43164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18" descr="C:\Users\Pavel\Desktop\77d52662e71ea07353f911b67c6a90d7.png"/>
            <p:cNvPicPr/>
            <p:nvPr/>
          </p:nvPicPr>
          <p:blipFill>
            <a:blip r:embed="rId4"/>
            <a:stretch/>
          </p:blipFill>
          <p:spPr>
            <a:xfrm>
              <a:off x="526680" y="746280"/>
              <a:ext cx="1786680" cy="12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19"/>
          <p:cNvGrpSpPr/>
          <p:nvPr/>
        </p:nvGrpSpPr>
        <p:grpSpPr>
          <a:xfrm>
            <a:off x="3324240" y="341280"/>
            <a:ext cx="1960560" cy="1892160"/>
            <a:chOff x="3324240" y="341280"/>
            <a:chExt cx="1960560" cy="1892160"/>
          </a:xfrm>
        </p:grpSpPr>
        <p:sp>
          <p:nvSpPr>
            <p:cNvPr id="82" name="Freeform 20"/>
            <p:cNvSpPr/>
            <p:nvPr/>
          </p:nvSpPr>
          <p:spPr>
            <a:xfrm>
              <a:off x="3324240" y="34128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21" descr="C:\Users\Pavel\Desktop\Звук Сь\32004077fa5bd33ec3fcb331f95bcc91.jpg"/>
            <p:cNvPicPr/>
            <p:nvPr/>
          </p:nvPicPr>
          <p:blipFill>
            <a:blip r:embed="rId5"/>
            <a:stretch/>
          </p:blipFill>
          <p:spPr>
            <a:xfrm>
              <a:off x="3513240" y="659160"/>
              <a:ext cx="1564920" cy="14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0"/>
          <p:cNvSpPr/>
          <p:nvPr/>
        </p:nvSpPr>
        <p:spPr>
          <a:xfrm>
            <a:off x="50148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7"/>
          <p:cNvGrpSpPr/>
          <p:nvPr/>
        </p:nvGrpSpPr>
        <p:grpSpPr>
          <a:xfrm>
            <a:off x="6432480" y="433440"/>
            <a:ext cx="1960560" cy="1892160"/>
            <a:chOff x="6432480" y="433440"/>
            <a:chExt cx="1960560" cy="1892160"/>
          </a:xfrm>
        </p:grpSpPr>
        <p:sp>
          <p:nvSpPr>
            <p:cNvPr id="86" name="Freeform 29"/>
            <p:cNvSpPr/>
            <p:nvPr/>
          </p:nvSpPr>
          <p:spPr>
            <a:xfrm>
              <a:off x="6432480" y="43344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8" descr=""/>
            <p:cNvPicPr/>
            <p:nvPr/>
          </p:nvPicPr>
          <p:blipFill>
            <a:blip r:embed="rId6"/>
            <a:stretch/>
          </p:blipFill>
          <p:spPr>
            <a:xfrm>
              <a:off x="6667920" y="603720"/>
              <a:ext cx="151596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Рисунок 1" descr=""/>
          <p:cNvPicPr/>
          <p:nvPr/>
        </p:nvPicPr>
        <p:blipFill>
          <a:blip r:embed="rId7"/>
          <a:stretch/>
        </p:blipFill>
        <p:spPr>
          <a:xfrm>
            <a:off x="538200" y="103500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"/>
          <p:cNvPicPr/>
          <p:nvPr/>
        </p:nvPicPr>
        <p:blipFill>
          <a:blip r:embed="rId8"/>
          <a:stretch/>
        </p:blipFill>
        <p:spPr>
          <a:xfrm>
            <a:off x="3705120" y="85716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9"/>
          <a:stretch/>
        </p:blipFill>
        <p:spPr>
          <a:xfrm>
            <a:off x="6513480" y="95580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10"/>
          <a:stretch/>
        </p:blipFill>
        <p:spPr>
          <a:xfrm>
            <a:off x="666720" y="4640400"/>
            <a:ext cx="2629080" cy="1627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11"/>
          <a:stretch/>
        </p:blipFill>
        <p:spPr>
          <a:xfrm>
            <a:off x="3571920" y="4707000"/>
            <a:ext cx="2628720" cy="16272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12"/>
          <a:stretch/>
        </p:blipFill>
        <p:spPr>
          <a:xfrm>
            <a:off x="6445080" y="4662360"/>
            <a:ext cx="26305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4608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412920" y="387360"/>
            <a:ext cx="1960560" cy="1892160"/>
            <a:chOff x="412920" y="387360"/>
            <a:chExt cx="1960560" cy="1892160"/>
          </a:xfrm>
        </p:grpSpPr>
        <p:sp>
          <p:nvSpPr>
            <p:cNvPr id="96" name="Freeform 16"/>
            <p:cNvSpPr/>
            <p:nvPr/>
          </p:nvSpPr>
          <p:spPr>
            <a:xfrm>
              <a:off x="412920" y="38736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7" descr="C:\Users\Pavel\Desktop\звуки З-Зь\a56b7ce261756e651d2bdc5aaf36e67d.jpg"/>
            <p:cNvPicPr/>
            <p:nvPr/>
          </p:nvPicPr>
          <p:blipFill>
            <a:blip r:embed="rId1"/>
            <a:stretch/>
          </p:blipFill>
          <p:spPr>
            <a:xfrm>
              <a:off x="628200" y="777960"/>
              <a:ext cx="1585080" cy="121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Рисунок 1" descr=""/>
          <p:cNvPicPr/>
          <p:nvPr/>
        </p:nvPicPr>
        <p:blipFill>
          <a:blip r:embed="rId2"/>
          <a:stretch/>
        </p:blipFill>
        <p:spPr>
          <a:xfrm>
            <a:off x="250920" y="895320"/>
            <a:ext cx="28130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8"/>
          <p:cNvGrpSpPr/>
          <p:nvPr/>
        </p:nvGrpSpPr>
        <p:grpSpPr>
          <a:xfrm>
            <a:off x="3486240" y="431640"/>
            <a:ext cx="1960560" cy="1892520"/>
            <a:chOff x="3486240" y="431640"/>
            <a:chExt cx="1960560" cy="1892520"/>
          </a:xfrm>
        </p:grpSpPr>
        <p:sp>
          <p:nvSpPr>
            <p:cNvPr id="100" name="Freeform 19"/>
            <p:cNvSpPr/>
            <p:nvPr/>
          </p:nvSpPr>
          <p:spPr>
            <a:xfrm>
              <a:off x="3486240" y="43164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20" descr="C:\Users\Pavel\Desktop\d45b4127d5ddde6814cdc803483bbc6e.jpg"/>
            <p:cNvPicPr/>
            <p:nvPr/>
          </p:nvPicPr>
          <p:blipFill>
            <a:blip r:embed="rId3"/>
            <a:stretch/>
          </p:blipFill>
          <p:spPr>
            <a:xfrm>
              <a:off x="3638520" y="564840"/>
              <a:ext cx="1643040" cy="16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Рисунок 2" descr=""/>
          <p:cNvPicPr/>
          <p:nvPr/>
        </p:nvPicPr>
        <p:blipFill>
          <a:blip r:embed="rId4"/>
          <a:stretch/>
        </p:blipFill>
        <p:spPr>
          <a:xfrm>
            <a:off x="3443400" y="874800"/>
            <a:ext cx="2746440" cy="1698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1"/>
          <p:cNvGrpSpPr/>
          <p:nvPr/>
        </p:nvGrpSpPr>
        <p:grpSpPr>
          <a:xfrm>
            <a:off x="6664320" y="480960"/>
            <a:ext cx="1960560" cy="1892520"/>
            <a:chOff x="6664320" y="480960"/>
            <a:chExt cx="1960560" cy="1892520"/>
          </a:xfrm>
        </p:grpSpPr>
        <p:sp>
          <p:nvSpPr>
            <p:cNvPr id="105" name="Freeform 23"/>
            <p:cNvSpPr/>
            <p:nvPr/>
          </p:nvSpPr>
          <p:spPr>
            <a:xfrm>
              <a:off x="6664320" y="48096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2" descr=""/>
            <p:cNvPicPr/>
            <p:nvPr/>
          </p:nvPicPr>
          <p:blipFill>
            <a:blip r:embed="rId5"/>
            <a:stretch/>
          </p:blipFill>
          <p:spPr>
            <a:xfrm>
              <a:off x="6863040" y="554040"/>
              <a:ext cx="1532160" cy="174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Рисунок 23" descr=""/>
          <p:cNvPicPr/>
          <p:nvPr/>
        </p:nvPicPr>
        <p:blipFill>
          <a:blip r:embed="rId6"/>
          <a:stretch/>
        </p:blipFill>
        <p:spPr>
          <a:xfrm>
            <a:off x="6329520" y="915840"/>
            <a:ext cx="2630160" cy="1629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5"/>
          <p:cNvGrpSpPr/>
          <p:nvPr/>
        </p:nvGrpSpPr>
        <p:grpSpPr>
          <a:xfrm>
            <a:off x="3498840" y="4025880"/>
            <a:ext cx="1960560" cy="1892160"/>
            <a:chOff x="3498840" y="4025880"/>
            <a:chExt cx="1960560" cy="1892160"/>
          </a:xfrm>
        </p:grpSpPr>
        <p:sp>
          <p:nvSpPr>
            <p:cNvPr id="109" name="Freeform 26"/>
            <p:cNvSpPr/>
            <p:nvPr/>
          </p:nvSpPr>
          <p:spPr>
            <a:xfrm>
              <a:off x="3498840" y="402588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27" descr="C:\Users\Pavel\Desktop\автоматизация звука с\в словах со слогом са сы\1024px-Emojione_1F9C0.svg.png"/>
            <p:cNvPicPr/>
            <p:nvPr/>
          </p:nvPicPr>
          <p:blipFill>
            <a:blip r:embed="rId7"/>
            <a:stretch/>
          </p:blipFill>
          <p:spPr>
            <a:xfrm>
              <a:off x="3650040" y="4354560"/>
              <a:ext cx="1665360" cy="125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Рисунок 5" descr=""/>
          <p:cNvPicPr/>
          <p:nvPr/>
        </p:nvPicPr>
        <p:blipFill>
          <a:blip r:embed="rId8"/>
          <a:stretch/>
        </p:blipFill>
        <p:spPr>
          <a:xfrm>
            <a:off x="3265560" y="4653000"/>
            <a:ext cx="263052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28"/>
          <p:cNvGrpSpPr/>
          <p:nvPr/>
        </p:nvGrpSpPr>
        <p:grpSpPr>
          <a:xfrm>
            <a:off x="6648480" y="4025880"/>
            <a:ext cx="1962000" cy="1892160"/>
            <a:chOff x="6648480" y="4025880"/>
            <a:chExt cx="1962000" cy="1892160"/>
          </a:xfrm>
        </p:grpSpPr>
        <p:sp>
          <p:nvSpPr>
            <p:cNvPr id="113" name="Freeform 29"/>
            <p:cNvSpPr/>
            <p:nvPr/>
          </p:nvSpPr>
          <p:spPr>
            <a:xfrm>
              <a:off x="6648480" y="402588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30" descr="C:\Users\Pavel\Desktop\05413d10af09b7bc44f41a32a2f4a0c3.jpg"/>
            <p:cNvPicPr/>
            <p:nvPr/>
          </p:nvPicPr>
          <p:blipFill>
            <a:blip r:embed="rId9"/>
            <a:stretch/>
          </p:blipFill>
          <p:spPr>
            <a:xfrm>
              <a:off x="6744960" y="4106160"/>
              <a:ext cx="174528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Рисунок 6" descr=""/>
          <p:cNvPicPr/>
          <p:nvPr/>
        </p:nvPicPr>
        <p:blipFill>
          <a:blip r:embed="rId10"/>
          <a:stretch/>
        </p:blipFill>
        <p:spPr>
          <a:xfrm>
            <a:off x="6372360" y="4508640"/>
            <a:ext cx="26305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4"/>
          <p:cNvGrpSpPr/>
          <p:nvPr/>
        </p:nvGrpSpPr>
        <p:grpSpPr>
          <a:xfrm>
            <a:off x="222120" y="4000680"/>
            <a:ext cx="1960560" cy="1893600"/>
            <a:chOff x="222120" y="4000680"/>
            <a:chExt cx="1960560" cy="1893600"/>
          </a:xfrm>
        </p:grpSpPr>
        <p:sp>
          <p:nvSpPr>
            <p:cNvPr id="117" name="Freeform 35"/>
            <p:cNvSpPr/>
            <p:nvPr/>
          </p:nvSpPr>
          <p:spPr>
            <a:xfrm>
              <a:off x="222120" y="4000680"/>
              <a:ext cx="1960560" cy="182700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36" descr="C:\Users\Pavel\Desktop\звук р\4f2b65adac16ebd3fb5014c9e7440fda.jpg"/>
            <p:cNvPicPr/>
            <p:nvPr/>
          </p:nvPicPr>
          <p:blipFill>
            <a:blip r:embed="rId11"/>
            <a:stretch/>
          </p:blipFill>
          <p:spPr>
            <a:xfrm>
              <a:off x="323640" y="4016880"/>
              <a:ext cx="1778400" cy="187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Рисунок 4" descr=""/>
          <p:cNvPicPr/>
          <p:nvPr/>
        </p:nvPicPr>
        <p:blipFill>
          <a:blip r:embed="rId12"/>
          <a:stretch/>
        </p:blipFill>
        <p:spPr>
          <a:xfrm>
            <a:off x="395280" y="4508640"/>
            <a:ext cx="2630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26920" y="765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Цель: формирование умения образов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уменьшительно-ласк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https://www.ukazka.ru/img/g/uk879380.jpg"/>
          <p:cNvPicPr/>
          <p:nvPr/>
        </p:nvPicPr>
        <p:blipFill>
          <a:blip r:embed="rId1"/>
          <a:stretch/>
        </p:blipFill>
        <p:spPr>
          <a:xfrm rot="19612800">
            <a:off x="888840" y="517680"/>
            <a:ext cx="135432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https://ct-prom.ru/assets/images/products/367/vedro-13l-czvetnoe.jpg"/>
          <p:cNvPicPr/>
          <p:nvPr/>
        </p:nvPicPr>
        <p:blipFill>
          <a:blip r:embed="rId2"/>
          <a:stretch/>
        </p:blipFill>
        <p:spPr>
          <a:xfrm>
            <a:off x="363528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https://flomaster.club/uploads/posts/2022-08/1660775024_15-flomaster-club-p-vertolet-samolet-kartinki-dlya-detei-krasi-31.png"/>
          <p:cNvPicPr/>
          <p:nvPr/>
        </p:nvPicPr>
        <p:blipFill>
          <a:blip r:embed="rId3"/>
          <a:stretch/>
        </p:blipFill>
        <p:spPr>
          <a:xfrm rot="20419800">
            <a:off x="230040" y="2846160"/>
            <a:ext cx="4175280" cy="208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https://i.pinimg.com/originals/11/a3/93/11a3934e820ad282045501737014e700.png"/>
          <p:cNvPicPr/>
          <p:nvPr/>
        </p:nvPicPr>
        <p:blipFill>
          <a:blip r:embed="rId4"/>
          <a:stretch/>
        </p:blipFill>
        <p:spPr>
          <a:xfrm>
            <a:off x="5364000" y="2997360"/>
            <a:ext cx="318960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https://papik.pro/uploads/posts/2022-01/1641314877_6-papik-pro-p-grabli-vektornii-risunok-6.png"/>
          <p:cNvPicPr/>
          <p:nvPr/>
        </p:nvPicPr>
        <p:blipFill>
          <a:blip r:embed="rId5"/>
          <a:stretch/>
        </p:blipFill>
        <p:spPr>
          <a:xfrm>
            <a:off x="5940360" y="577800"/>
            <a:ext cx="2476440" cy="180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https://trivianottrivial.files.wordpress.com/2018/03/crocodile-cartoon-vector-1741769.jpg"/>
          <p:cNvPicPr/>
          <p:nvPr/>
        </p:nvPicPr>
        <p:blipFill>
          <a:blip r:embed="rId6"/>
          <a:stretch/>
        </p:blipFill>
        <p:spPr>
          <a:xfrm rot="20647800">
            <a:off x="2354040" y="4979880"/>
            <a:ext cx="35082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332000" y="256536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b6bcf"/>
                </a:solidFill>
                <a:latin typeface="Arial"/>
              </a:rPr>
              <a:t>ОТЛИЧН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Tatyana</cp:lastModifiedBy>
  <dcterms:modified xsi:type="dcterms:W3CDTF">2023-02-14T15:30:20Z</dcterms:modified>
  <cp:revision>40</cp:revision>
  <dc:subject/>
  <dc:title>Слайд 1</dc:title>
</cp:coreProperties>
</file>