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11.png" ContentType="image/png"/>
  <Override PartName="/ppt/media/image7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2.png" ContentType="image/pn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BF4F-FDE8-4E01-995C-8158E3C6F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D356-1E00-4939-B67B-9E3B4398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DCD4-DF91-47C4-A93A-57D3B2B3A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3B47-3A64-4FB2-8D19-6F05D509D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5104-0DBF-4E9C-A483-C44D1ACD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FF0E-F6CB-4975-B13C-E395A16A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8B74-2872-42C9-A740-DC6C782D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6694-C016-43A7-893D-9539C107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0070-C7C0-4B95-87AB-0F1F7236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25D5-BF6E-4DAD-9198-E3CB4D6C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E6C1-B13C-42E3-B2C1-7B2D17D9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A295-1DE1-4F23-95B3-CD0EB226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47E2-E630-49E5-969B-2A2E5C742B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.png"/><Relationship Id="rId3" Type="http://schemas.openxmlformats.org/officeDocument/2006/relationships/image" Target="../media/image15.jpeg"/><Relationship Id="rId4" Type="http://schemas.openxmlformats.org/officeDocument/2006/relationships/image" Target="../media/image7.png"/><Relationship Id="rId5" Type="http://schemas.openxmlformats.org/officeDocument/2006/relationships/image" Target="../media/image16.jpeg"/><Relationship Id="rId6" Type="http://schemas.openxmlformats.org/officeDocument/2006/relationships/image" Target="../media/image7.png"/><Relationship Id="rId7" Type="http://schemas.openxmlformats.org/officeDocument/2006/relationships/image" Target="../media/image17.png"/><Relationship Id="rId8" Type="http://schemas.openxmlformats.org/officeDocument/2006/relationships/image" Target="../media/image7.png"/><Relationship Id="rId9" Type="http://schemas.openxmlformats.org/officeDocument/2006/relationships/image" Target="../media/image18.jpeg"/><Relationship Id="rId10" Type="http://schemas.openxmlformats.org/officeDocument/2006/relationships/image" Target="../media/image7.png"/><Relationship Id="rId11" Type="http://schemas.openxmlformats.org/officeDocument/2006/relationships/image" Target="../media/image19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7575d1"/>
                </a:solidFill>
                <a:latin typeface="Arial"/>
              </a:rPr>
              <a:t>Автоматизация звука </a:t>
            </a:r>
            <a:r>
              <a:rPr b="0" lang="en-US" sz="4400" spc="-1" strike="noStrike">
                <a:solidFill>
                  <a:srgbClr val="7575d1"/>
                </a:solidFill>
                <a:latin typeface="Arial"/>
              </a:rPr>
              <a:t>[</a:t>
            </a:r>
            <a:r>
              <a:rPr b="0" lang="ru-RU" sz="4400" spc="-1" strike="noStrike">
                <a:solidFill>
                  <a:srgbClr val="7575d1"/>
                </a:solidFill>
                <a:latin typeface="Arial"/>
              </a:rPr>
              <a:t>Р</a:t>
            </a:r>
            <a:r>
              <a:rPr b="0" lang="en-US" sz="4400" spc="-1" strike="noStrike">
                <a:solidFill>
                  <a:srgbClr val="7575d1"/>
                </a:solidFill>
                <a:latin typeface="Arial"/>
              </a:rPr>
              <a:t>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611280" y="692280"/>
            <a:ext cx="8137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«Детский сад общеразвивающего вида с приоритетным осуществлени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деятельности по познавательно-речевому направлению развит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воспитанников №4 «Ручеек»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1116000" y="530064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Подготовила: Байкина Татьяна Юрье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учитель-логоп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1456200" y="1197000"/>
            <a:ext cx="6479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«Составь фраз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(За красным облаком …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Цель: автоматизация звука р во фраз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6348240" y="4162320"/>
            <a:ext cx="1935360" cy="1866960"/>
            <a:chOff x="6348240" y="4162320"/>
            <a:chExt cx="1935360" cy="1866960"/>
          </a:xfrm>
        </p:grpSpPr>
        <p:sp>
          <p:nvSpPr>
            <p:cNvPr id="46" name="Freeform 3"/>
            <p:cNvSpPr/>
            <p:nvPr/>
          </p:nvSpPr>
          <p:spPr>
            <a:xfrm>
              <a:off x="6348240" y="4162320"/>
              <a:ext cx="1935360" cy="1866960"/>
            </a:xfrm>
            <a:custGeom>
              <a:avLst/>
              <a:gdLst/>
              <a:ahLst/>
              <a:rect l="l" t="t" r="r" b="b"/>
              <a:pathLst>
                <a:path w="3048" h="2940">
                  <a:moveTo>
                    <a:pt x="0" y="490"/>
                  </a:moveTo>
                  <a:lnTo>
                    <a:pt x="5" y="418"/>
                  </a:lnTo>
                  <a:lnTo>
                    <a:pt x="21" y="349"/>
                  </a:lnTo>
                  <a:lnTo>
                    <a:pt x="46" y="284"/>
                  </a:lnTo>
                  <a:lnTo>
                    <a:pt x="79" y="223"/>
                  </a:lnTo>
                  <a:lnTo>
                    <a:pt x="120" y="169"/>
                  </a:lnTo>
                  <a:lnTo>
                    <a:pt x="169" y="120"/>
                  </a:lnTo>
                  <a:lnTo>
                    <a:pt x="223" y="79"/>
                  </a:lnTo>
                  <a:lnTo>
                    <a:pt x="283" y="46"/>
                  </a:lnTo>
                  <a:lnTo>
                    <a:pt x="348" y="21"/>
                  </a:lnTo>
                  <a:lnTo>
                    <a:pt x="418" y="6"/>
                  </a:lnTo>
                  <a:lnTo>
                    <a:pt x="490" y="0"/>
                  </a:lnTo>
                  <a:lnTo>
                    <a:pt x="2558" y="0"/>
                  </a:lnTo>
                  <a:lnTo>
                    <a:pt x="2630" y="6"/>
                  </a:lnTo>
                  <a:lnTo>
                    <a:pt x="2700" y="21"/>
                  </a:lnTo>
                  <a:lnTo>
                    <a:pt x="2765" y="46"/>
                  </a:lnTo>
                  <a:lnTo>
                    <a:pt x="2825" y="79"/>
                  </a:lnTo>
                  <a:lnTo>
                    <a:pt x="2879" y="120"/>
                  </a:lnTo>
                  <a:lnTo>
                    <a:pt x="2928" y="169"/>
                  </a:lnTo>
                  <a:lnTo>
                    <a:pt x="2969" y="223"/>
                  </a:lnTo>
                  <a:lnTo>
                    <a:pt x="3002" y="284"/>
                  </a:lnTo>
                  <a:lnTo>
                    <a:pt x="3027" y="349"/>
                  </a:lnTo>
                  <a:lnTo>
                    <a:pt x="3043" y="418"/>
                  </a:lnTo>
                  <a:lnTo>
                    <a:pt x="3048" y="490"/>
                  </a:lnTo>
                  <a:lnTo>
                    <a:pt x="3048" y="2450"/>
                  </a:lnTo>
                  <a:lnTo>
                    <a:pt x="3043" y="2523"/>
                  </a:lnTo>
                  <a:lnTo>
                    <a:pt x="3027" y="2592"/>
                  </a:lnTo>
                  <a:lnTo>
                    <a:pt x="3002" y="2657"/>
                  </a:lnTo>
                  <a:lnTo>
                    <a:pt x="2969" y="2717"/>
                  </a:lnTo>
                  <a:lnTo>
                    <a:pt x="2928" y="2772"/>
                  </a:lnTo>
                  <a:lnTo>
                    <a:pt x="2879" y="2820"/>
                  </a:lnTo>
                  <a:lnTo>
                    <a:pt x="2825" y="2861"/>
                  </a:lnTo>
                  <a:lnTo>
                    <a:pt x="2765" y="2895"/>
                  </a:lnTo>
                  <a:lnTo>
                    <a:pt x="2700" y="2919"/>
                  </a:lnTo>
                  <a:lnTo>
                    <a:pt x="2630" y="2935"/>
                  </a:lnTo>
                  <a:lnTo>
                    <a:pt x="2558" y="2940"/>
                  </a:lnTo>
                  <a:lnTo>
                    <a:pt x="490" y="2940"/>
                  </a:lnTo>
                  <a:lnTo>
                    <a:pt x="418" y="2935"/>
                  </a:lnTo>
                  <a:lnTo>
                    <a:pt x="348" y="2919"/>
                  </a:lnTo>
                  <a:lnTo>
                    <a:pt x="283" y="2895"/>
                  </a:lnTo>
                  <a:lnTo>
                    <a:pt x="223" y="2861"/>
                  </a:lnTo>
                  <a:lnTo>
                    <a:pt x="169" y="2820"/>
                  </a:lnTo>
                  <a:lnTo>
                    <a:pt x="120" y="2772"/>
                  </a:lnTo>
                  <a:lnTo>
                    <a:pt x="79" y="2717"/>
                  </a:lnTo>
                  <a:lnTo>
                    <a:pt x="46" y="2657"/>
                  </a:lnTo>
                  <a:lnTo>
                    <a:pt x="21" y="2592"/>
                  </a:lnTo>
                  <a:lnTo>
                    <a:pt x="5" y="2523"/>
                  </a:lnTo>
                  <a:lnTo>
                    <a:pt x="0" y="2450"/>
                  </a:lnTo>
                  <a:lnTo>
                    <a:pt x="0" y="490"/>
                  </a:lnTo>
                  <a:close/>
                </a:path>
              </a:pathLst>
            </a:custGeom>
            <a:noFill/>
            <a:ln w="25560">
              <a:solidFill>
                <a:srgbClr val="385d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4" descr="C:\Users\Pavel\Desktop\автоматизация звука р с фонариком\robot-clip-art-96.png"/>
            <p:cNvPicPr/>
            <p:nvPr/>
          </p:nvPicPr>
          <p:blipFill>
            <a:blip r:embed="rId1"/>
            <a:stretch/>
          </p:blipFill>
          <p:spPr>
            <a:xfrm>
              <a:off x="6638400" y="4275360"/>
              <a:ext cx="1380960" cy="1646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Group 5"/>
          <p:cNvGrpSpPr/>
          <p:nvPr/>
        </p:nvGrpSpPr>
        <p:grpSpPr>
          <a:xfrm>
            <a:off x="3611520" y="4137120"/>
            <a:ext cx="1960560" cy="1892160"/>
            <a:chOff x="3611520" y="4137120"/>
            <a:chExt cx="1960560" cy="1892160"/>
          </a:xfrm>
        </p:grpSpPr>
        <p:sp>
          <p:nvSpPr>
            <p:cNvPr id="49" name="Freeform 6"/>
            <p:cNvSpPr/>
            <p:nvPr/>
          </p:nvSpPr>
          <p:spPr>
            <a:xfrm>
              <a:off x="3611520" y="4137120"/>
              <a:ext cx="1960560" cy="1892160"/>
            </a:xfrm>
            <a:custGeom>
              <a:avLst/>
              <a:gdLst/>
              <a:ahLst/>
              <a:rect l="l" t="t" r="r" b="b"/>
              <a:pathLst>
                <a:path w="3048" h="2940">
                  <a:moveTo>
                    <a:pt x="0" y="490"/>
                  </a:moveTo>
                  <a:lnTo>
                    <a:pt x="5" y="418"/>
                  </a:lnTo>
                  <a:lnTo>
                    <a:pt x="21" y="349"/>
                  </a:lnTo>
                  <a:lnTo>
                    <a:pt x="46" y="284"/>
                  </a:lnTo>
                  <a:lnTo>
                    <a:pt x="79" y="223"/>
                  </a:lnTo>
                  <a:lnTo>
                    <a:pt x="120" y="169"/>
                  </a:lnTo>
                  <a:lnTo>
                    <a:pt x="169" y="120"/>
                  </a:lnTo>
                  <a:lnTo>
                    <a:pt x="223" y="79"/>
                  </a:lnTo>
                  <a:lnTo>
                    <a:pt x="283" y="46"/>
                  </a:lnTo>
                  <a:lnTo>
                    <a:pt x="348" y="21"/>
                  </a:lnTo>
                  <a:lnTo>
                    <a:pt x="418" y="6"/>
                  </a:lnTo>
                  <a:lnTo>
                    <a:pt x="490" y="0"/>
                  </a:lnTo>
                  <a:lnTo>
                    <a:pt x="2558" y="0"/>
                  </a:lnTo>
                  <a:lnTo>
                    <a:pt x="2630" y="6"/>
                  </a:lnTo>
                  <a:lnTo>
                    <a:pt x="2700" y="21"/>
                  </a:lnTo>
                  <a:lnTo>
                    <a:pt x="2765" y="46"/>
                  </a:lnTo>
                  <a:lnTo>
                    <a:pt x="2825" y="79"/>
                  </a:lnTo>
                  <a:lnTo>
                    <a:pt x="2879" y="120"/>
                  </a:lnTo>
                  <a:lnTo>
                    <a:pt x="2928" y="169"/>
                  </a:lnTo>
                  <a:lnTo>
                    <a:pt x="2969" y="223"/>
                  </a:lnTo>
                  <a:lnTo>
                    <a:pt x="3002" y="284"/>
                  </a:lnTo>
                  <a:lnTo>
                    <a:pt x="3027" y="349"/>
                  </a:lnTo>
                  <a:lnTo>
                    <a:pt x="3043" y="418"/>
                  </a:lnTo>
                  <a:lnTo>
                    <a:pt x="3048" y="490"/>
                  </a:lnTo>
                  <a:lnTo>
                    <a:pt x="3048" y="2450"/>
                  </a:lnTo>
                  <a:lnTo>
                    <a:pt x="3043" y="2523"/>
                  </a:lnTo>
                  <a:lnTo>
                    <a:pt x="3027" y="2592"/>
                  </a:lnTo>
                  <a:lnTo>
                    <a:pt x="3002" y="2657"/>
                  </a:lnTo>
                  <a:lnTo>
                    <a:pt x="2969" y="2717"/>
                  </a:lnTo>
                  <a:lnTo>
                    <a:pt x="2928" y="2772"/>
                  </a:lnTo>
                  <a:lnTo>
                    <a:pt x="2879" y="2820"/>
                  </a:lnTo>
                  <a:lnTo>
                    <a:pt x="2825" y="2861"/>
                  </a:lnTo>
                  <a:lnTo>
                    <a:pt x="2765" y="2895"/>
                  </a:lnTo>
                  <a:lnTo>
                    <a:pt x="2700" y="2919"/>
                  </a:lnTo>
                  <a:lnTo>
                    <a:pt x="2630" y="2935"/>
                  </a:lnTo>
                  <a:lnTo>
                    <a:pt x="2558" y="2940"/>
                  </a:lnTo>
                  <a:lnTo>
                    <a:pt x="490" y="2940"/>
                  </a:lnTo>
                  <a:lnTo>
                    <a:pt x="418" y="2935"/>
                  </a:lnTo>
                  <a:lnTo>
                    <a:pt x="348" y="2919"/>
                  </a:lnTo>
                  <a:lnTo>
                    <a:pt x="283" y="2895"/>
                  </a:lnTo>
                  <a:lnTo>
                    <a:pt x="223" y="2861"/>
                  </a:lnTo>
                  <a:lnTo>
                    <a:pt x="169" y="2820"/>
                  </a:lnTo>
                  <a:lnTo>
                    <a:pt x="120" y="2772"/>
                  </a:lnTo>
                  <a:lnTo>
                    <a:pt x="79" y="2717"/>
                  </a:lnTo>
                  <a:lnTo>
                    <a:pt x="46" y="2657"/>
                  </a:lnTo>
                  <a:lnTo>
                    <a:pt x="21" y="2592"/>
                  </a:lnTo>
                  <a:lnTo>
                    <a:pt x="5" y="2523"/>
                  </a:lnTo>
                  <a:lnTo>
                    <a:pt x="0" y="2450"/>
                  </a:lnTo>
                  <a:lnTo>
                    <a:pt x="0" y="490"/>
                  </a:lnTo>
                  <a:close/>
                </a:path>
              </a:pathLst>
            </a:custGeom>
            <a:noFill/>
            <a:ln w="25560">
              <a:solidFill>
                <a:srgbClr val="385d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7" descr="C:\Users\Pavel\Desktop\звук р\s1200.png"/>
            <p:cNvPicPr/>
            <p:nvPr/>
          </p:nvPicPr>
          <p:blipFill>
            <a:blip r:embed="rId2"/>
            <a:stretch/>
          </p:blipFill>
          <p:spPr>
            <a:xfrm>
              <a:off x="3743280" y="4425480"/>
              <a:ext cx="1695600" cy="138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8"/>
          <p:cNvGrpSpPr/>
          <p:nvPr/>
        </p:nvGrpSpPr>
        <p:grpSpPr>
          <a:xfrm>
            <a:off x="426960" y="4221000"/>
            <a:ext cx="1962360" cy="1892520"/>
            <a:chOff x="426960" y="4221000"/>
            <a:chExt cx="1962360" cy="1892520"/>
          </a:xfrm>
        </p:grpSpPr>
        <p:sp>
          <p:nvSpPr>
            <p:cNvPr id="52" name="Freeform 9"/>
            <p:cNvSpPr/>
            <p:nvPr/>
          </p:nvSpPr>
          <p:spPr>
            <a:xfrm>
              <a:off x="426960" y="4221000"/>
              <a:ext cx="1962360" cy="1892520"/>
            </a:xfrm>
            <a:custGeom>
              <a:avLst/>
              <a:gdLst/>
              <a:ahLst/>
              <a:rect l="l" t="t" r="r" b="b"/>
              <a:pathLst>
                <a:path w="3048" h="2940">
                  <a:moveTo>
                    <a:pt x="0" y="490"/>
                  </a:moveTo>
                  <a:lnTo>
                    <a:pt x="5" y="418"/>
                  </a:lnTo>
                  <a:lnTo>
                    <a:pt x="21" y="349"/>
                  </a:lnTo>
                  <a:lnTo>
                    <a:pt x="46" y="284"/>
                  </a:lnTo>
                  <a:lnTo>
                    <a:pt x="79" y="223"/>
                  </a:lnTo>
                  <a:lnTo>
                    <a:pt x="120" y="169"/>
                  </a:lnTo>
                  <a:lnTo>
                    <a:pt x="169" y="120"/>
                  </a:lnTo>
                  <a:lnTo>
                    <a:pt x="223" y="79"/>
                  </a:lnTo>
                  <a:lnTo>
                    <a:pt x="283" y="46"/>
                  </a:lnTo>
                  <a:lnTo>
                    <a:pt x="348" y="21"/>
                  </a:lnTo>
                  <a:lnTo>
                    <a:pt x="418" y="6"/>
                  </a:lnTo>
                  <a:lnTo>
                    <a:pt x="490" y="0"/>
                  </a:lnTo>
                  <a:lnTo>
                    <a:pt x="2558" y="0"/>
                  </a:lnTo>
                  <a:lnTo>
                    <a:pt x="2630" y="6"/>
                  </a:lnTo>
                  <a:lnTo>
                    <a:pt x="2700" y="21"/>
                  </a:lnTo>
                  <a:lnTo>
                    <a:pt x="2765" y="46"/>
                  </a:lnTo>
                  <a:lnTo>
                    <a:pt x="2825" y="79"/>
                  </a:lnTo>
                  <a:lnTo>
                    <a:pt x="2879" y="120"/>
                  </a:lnTo>
                  <a:lnTo>
                    <a:pt x="2928" y="169"/>
                  </a:lnTo>
                  <a:lnTo>
                    <a:pt x="2969" y="223"/>
                  </a:lnTo>
                  <a:lnTo>
                    <a:pt x="3002" y="284"/>
                  </a:lnTo>
                  <a:lnTo>
                    <a:pt x="3027" y="349"/>
                  </a:lnTo>
                  <a:lnTo>
                    <a:pt x="3043" y="418"/>
                  </a:lnTo>
                  <a:lnTo>
                    <a:pt x="3048" y="490"/>
                  </a:lnTo>
                  <a:lnTo>
                    <a:pt x="3048" y="2450"/>
                  </a:lnTo>
                  <a:lnTo>
                    <a:pt x="3043" y="2523"/>
                  </a:lnTo>
                  <a:lnTo>
                    <a:pt x="3027" y="2592"/>
                  </a:lnTo>
                  <a:lnTo>
                    <a:pt x="3002" y="2657"/>
                  </a:lnTo>
                  <a:lnTo>
                    <a:pt x="2969" y="2717"/>
                  </a:lnTo>
                  <a:lnTo>
                    <a:pt x="2928" y="2772"/>
                  </a:lnTo>
                  <a:lnTo>
                    <a:pt x="2879" y="2820"/>
                  </a:lnTo>
                  <a:lnTo>
                    <a:pt x="2825" y="2861"/>
                  </a:lnTo>
                  <a:lnTo>
                    <a:pt x="2765" y="2895"/>
                  </a:lnTo>
                  <a:lnTo>
                    <a:pt x="2700" y="2919"/>
                  </a:lnTo>
                  <a:lnTo>
                    <a:pt x="2630" y="2935"/>
                  </a:lnTo>
                  <a:lnTo>
                    <a:pt x="2558" y="2940"/>
                  </a:lnTo>
                  <a:lnTo>
                    <a:pt x="490" y="2940"/>
                  </a:lnTo>
                  <a:lnTo>
                    <a:pt x="418" y="2935"/>
                  </a:lnTo>
                  <a:lnTo>
                    <a:pt x="348" y="2919"/>
                  </a:lnTo>
                  <a:lnTo>
                    <a:pt x="283" y="2895"/>
                  </a:lnTo>
                  <a:lnTo>
                    <a:pt x="223" y="2861"/>
                  </a:lnTo>
                  <a:lnTo>
                    <a:pt x="169" y="2820"/>
                  </a:lnTo>
                  <a:lnTo>
                    <a:pt x="120" y="2772"/>
                  </a:lnTo>
                  <a:lnTo>
                    <a:pt x="79" y="2717"/>
                  </a:lnTo>
                  <a:lnTo>
                    <a:pt x="46" y="2657"/>
                  </a:lnTo>
                  <a:lnTo>
                    <a:pt x="21" y="2592"/>
                  </a:lnTo>
                  <a:lnTo>
                    <a:pt x="5" y="2523"/>
                  </a:lnTo>
                  <a:lnTo>
                    <a:pt x="0" y="2450"/>
                  </a:lnTo>
                  <a:lnTo>
                    <a:pt x="0" y="490"/>
                  </a:lnTo>
                  <a:close/>
                </a:path>
              </a:pathLst>
            </a:custGeom>
            <a:noFill/>
            <a:ln w="25560">
              <a:solidFill>
                <a:srgbClr val="385d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10" descr="C:\Users\Pavel\Desktop\istockphoto-966520740-612x612.jpg"/>
            <p:cNvPicPr/>
            <p:nvPr/>
          </p:nvPicPr>
          <p:blipFill>
            <a:blip r:embed="rId3"/>
            <a:stretch/>
          </p:blipFill>
          <p:spPr>
            <a:xfrm>
              <a:off x="520920" y="4537440"/>
              <a:ext cx="1786680" cy="1299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11"/>
          <p:cNvGrpSpPr/>
          <p:nvPr/>
        </p:nvGrpSpPr>
        <p:grpSpPr>
          <a:xfrm>
            <a:off x="6357960" y="293760"/>
            <a:ext cx="1962000" cy="1892160"/>
            <a:chOff x="6357960" y="293760"/>
            <a:chExt cx="1962000" cy="1892160"/>
          </a:xfrm>
        </p:grpSpPr>
        <p:sp>
          <p:nvSpPr>
            <p:cNvPr id="55" name="Freeform 12"/>
            <p:cNvSpPr/>
            <p:nvPr/>
          </p:nvSpPr>
          <p:spPr>
            <a:xfrm>
              <a:off x="6357960" y="293760"/>
              <a:ext cx="1962000" cy="1892160"/>
            </a:xfrm>
            <a:custGeom>
              <a:avLst/>
              <a:gdLst/>
              <a:ahLst/>
              <a:rect l="l" t="t" r="r" b="b"/>
              <a:pathLst>
                <a:path w="3048" h="2940">
                  <a:moveTo>
                    <a:pt x="0" y="490"/>
                  </a:moveTo>
                  <a:lnTo>
                    <a:pt x="5" y="418"/>
                  </a:lnTo>
                  <a:lnTo>
                    <a:pt x="21" y="349"/>
                  </a:lnTo>
                  <a:lnTo>
                    <a:pt x="46" y="284"/>
                  </a:lnTo>
                  <a:lnTo>
                    <a:pt x="79" y="223"/>
                  </a:lnTo>
                  <a:lnTo>
                    <a:pt x="120" y="169"/>
                  </a:lnTo>
                  <a:lnTo>
                    <a:pt x="169" y="120"/>
                  </a:lnTo>
                  <a:lnTo>
                    <a:pt x="223" y="79"/>
                  </a:lnTo>
                  <a:lnTo>
                    <a:pt x="283" y="46"/>
                  </a:lnTo>
                  <a:lnTo>
                    <a:pt x="348" y="21"/>
                  </a:lnTo>
                  <a:lnTo>
                    <a:pt x="418" y="6"/>
                  </a:lnTo>
                  <a:lnTo>
                    <a:pt x="490" y="0"/>
                  </a:lnTo>
                  <a:lnTo>
                    <a:pt x="2558" y="0"/>
                  </a:lnTo>
                  <a:lnTo>
                    <a:pt x="2630" y="6"/>
                  </a:lnTo>
                  <a:lnTo>
                    <a:pt x="2700" y="21"/>
                  </a:lnTo>
                  <a:lnTo>
                    <a:pt x="2765" y="46"/>
                  </a:lnTo>
                  <a:lnTo>
                    <a:pt x="2825" y="79"/>
                  </a:lnTo>
                  <a:lnTo>
                    <a:pt x="2879" y="120"/>
                  </a:lnTo>
                  <a:lnTo>
                    <a:pt x="2928" y="169"/>
                  </a:lnTo>
                  <a:lnTo>
                    <a:pt x="2969" y="223"/>
                  </a:lnTo>
                  <a:lnTo>
                    <a:pt x="3002" y="284"/>
                  </a:lnTo>
                  <a:lnTo>
                    <a:pt x="3027" y="349"/>
                  </a:lnTo>
                  <a:lnTo>
                    <a:pt x="3043" y="418"/>
                  </a:lnTo>
                  <a:lnTo>
                    <a:pt x="3048" y="490"/>
                  </a:lnTo>
                  <a:lnTo>
                    <a:pt x="3048" y="2450"/>
                  </a:lnTo>
                  <a:lnTo>
                    <a:pt x="3043" y="2523"/>
                  </a:lnTo>
                  <a:lnTo>
                    <a:pt x="3027" y="2592"/>
                  </a:lnTo>
                  <a:lnTo>
                    <a:pt x="3002" y="2657"/>
                  </a:lnTo>
                  <a:lnTo>
                    <a:pt x="2969" y="2717"/>
                  </a:lnTo>
                  <a:lnTo>
                    <a:pt x="2928" y="2772"/>
                  </a:lnTo>
                  <a:lnTo>
                    <a:pt x="2879" y="2820"/>
                  </a:lnTo>
                  <a:lnTo>
                    <a:pt x="2825" y="2861"/>
                  </a:lnTo>
                  <a:lnTo>
                    <a:pt x="2765" y="2895"/>
                  </a:lnTo>
                  <a:lnTo>
                    <a:pt x="2700" y="2919"/>
                  </a:lnTo>
                  <a:lnTo>
                    <a:pt x="2630" y="2935"/>
                  </a:lnTo>
                  <a:lnTo>
                    <a:pt x="2558" y="2940"/>
                  </a:lnTo>
                  <a:lnTo>
                    <a:pt x="490" y="2940"/>
                  </a:lnTo>
                  <a:lnTo>
                    <a:pt x="418" y="2935"/>
                  </a:lnTo>
                  <a:lnTo>
                    <a:pt x="348" y="2919"/>
                  </a:lnTo>
                  <a:lnTo>
                    <a:pt x="283" y="2895"/>
                  </a:lnTo>
                  <a:lnTo>
                    <a:pt x="223" y="2861"/>
                  </a:lnTo>
                  <a:lnTo>
                    <a:pt x="169" y="2820"/>
                  </a:lnTo>
                  <a:lnTo>
                    <a:pt x="120" y="2772"/>
                  </a:lnTo>
                  <a:lnTo>
                    <a:pt x="79" y="2717"/>
                  </a:lnTo>
                  <a:lnTo>
                    <a:pt x="46" y="2657"/>
                  </a:lnTo>
                  <a:lnTo>
                    <a:pt x="21" y="2592"/>
                  </a:lnTo>
                  <a:lnTo>
                    <a:pt x="5" y="2523"/>
                  </a:lnTo>
                  <a:lnTo>
                    <a:pt x="0" y="2450"/>
                  </a:lnTo>
                  <a:lnTo>
                    <a:pt x="0" y="490"/>
                  </a:lnTo>
                  <a:close/>
                </a:path>
              </a:pathLst>
            </a:custGeom>
            <a:noFill/>
            <a:ln w="25560">
              <a:solidFill>
                <a:srgbClr val="385d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Picture 13" descr="C:\Users\Pavel\Desktop\59fa74ef097bb7c52c48fefa33d2b7ec.png"/>
            <p:cNvPicPr/>
            <p:nvPr/>
          </p:nvPicPr>
          <p:blipFill>
            <a:blip r:embed="rId4"/>
            <a:stretch/>
          </p:blipFill>
          <p:spPr>
            <a:xfrm>
              <a:off x="6424200" y="915840"/>
              <a:ext cx="1837800" cy="65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Group 14"/>
          <p:cNvGrpSpPr/>
          <p:nvPr/>
        </p:nvGrpSpPr>
        <p:grpSpPr>
          <a:xfrm>
            <a:off x="3598920" y="347760"/>
            <a:ext cx="1962000" cy="1892160"/>
            <a:chOff x="3598920" y="347760"/>
            <a:chExt cx="1962000" cy="1892160"/>
          </a:xfrm>
        </p:grpSpPr>
        <p:sp>
          <p:nvSpPr>
            <p:cNvPr id="58" name="Freeform 15"/>
            <p:cNvSpPr/>
            <p:nvPr/>
          </p:nvSpPr>
          <p:spPr>
            <a:xfrm>
              <a:off x="3598920" y="347760"/>
              <a:ext cx="1962000" cy="1892160"/>
            </a:xfrm>
            <a:custGeom>
              <a:avLst/>
              <a:gdLst/>
              <a:ahLst/>
              <a:rect l="l" t="t" r="r" b="b"/>
              <a:pathLst>
                <a:path w="3048" h="2940">
                  <a:moveTo>
                    <a:pt x="0" y="490"/>
                  </a:moveTo>
                  <a:lnTo>
                    <a:pt x="5" y="418"/>
                  </a:lnTo>
                  <a:lnTo>
                    <a:pt x="21" y="349"/>
                  </a:lnTo>
                  <a:lnTo>
                    <a:pt x="46" y="284"/>
                  </a:lnTo>
                  <a:lnTo>
                    <a:pt x="79" y="223"/>
                  </a:lnTo>
                  <a:lnTo>
                    <a:pt x="120" y="169"/>
                  </a:lnTo>
                  <a:lnTo>
                    <a:pt x="169" y="120"/>
                  </a:lnTo>
                  <a:lnTo>
                    <a:pt x="223" y="79"/>
                  </a:lnTo>
                  <a:lnTo>
                    <a:pt x="283" y="46"/>
                  </a:lnTo>
                  <a:lnTo>
                    <a:pt x="348" y="21"/>
                  </a:lnTo>
                  <a:lnTo>
                    <a:pt x="418" y="6"/>
                  </a:lnTo>
                  <a:lnTo>
                    <a:pt x="490" y="0"/>
                  </a:lnTo>
                  <a:lnTo>
                    <a:pt x="2558" y="0"/>
                  </a:lnTo>
                  <a:lnTo>
                    <a:pt x="2630" y="6"/>
                  </a:lnTo>
                  <a:lnTo>
                    <a:pt x="2700" y="21"/>
                  </a:lnTo>
                  <a:lnTo>
                    <a:pt x="2765" y="46"/>
                  </a:lnTo>
                  <a:lnTo>
                    <a:pt x="2825" y="79"/>
                  </a:lnTo>
                  <a:lnTo>
                    <a:pt x="2879" y="120"/>
                  </a:lnTo>
                  <a:lnTo>
                    <a:pt x="2928" y="169"/>
                  </a:lnTo>
                  <a:lnTo>
                    <a:pt x="2969" y="223"/>
                  </a:lnTo>
                  <a:lnTo>
                    <a:pt x="3002" y="284"/>
                  </a:lnTo>
                  <a:lnTo>
                    <a:pt x="3027" y="349"/>
                  </a:lnTo>
                  <a:lnTo>
                    <a:pt x="3043" y="418"/>
                  </a:lnTo>
                  <a:lnTo>
                    <a:pt x="3048" y="490"/>
                  </a:lnTo>
                  <a:lnTo>
                    <a:pt x="3048" y="2450"/>
                  </a:lnTo>
                  <a:lnTo>
                    <a:pt x="3043" y="2523"/>
                  </a:lnTo>
                  <a:lnTo>
                    <a:pt x="3027" y="2592"/>
                  </a:lnTo>
                  <a:lnTo>
                    <a:pt x="3002" y="2657"/>
                  </a:lnTo>
                  <a:lnTo>
                    <a:pt x="2969" y="2717"/>
                  </a:lnTo>
                  <a:lnTo>
                    <a:pt x="2928" y="2772"/>
                  </a:lnTo>
                  <a:lnTo>
                    <a:pt x="2879" y="2820"/>
                  </a:lnTo>
                  <a:lnTo>
                    <a:pt x="2825" y="2861"/>
                  </a:lnTo>
                  <a:lnTo>
                    <a:pt x="2765" y="2895"/>
                  </a:lnTo>
                  <a:lnTo>
                    <a:pt x="2700" y="2919"/>
                  </a:lnTo>
                  <a:lnTo>
                    <a:pt x="2630" y="2935"/>
                  </a:lnTo>
                  <a:lnTo>
                    <a:pt x="2558" y="2940"/>
                  </a:lnTo>
                  <a:lnTo>
                    <a:pt x="490" y="2940"/>
                  </a:lnTo>
                  <a:lnTo>
                    <a:pt x="418" y="2935"/>
                  </a:lnTo>
                  <a:lnTo>
                    <a:pt x="348" y="2919"/>
                  </a:lnTo>
                  <a:lnTo>
                    <a:pt x="283" y="2895"/>
                  </a:lnTo>
                  <a:lnTo>
                    <a:pt x="223" y="2861"/>
                  </a:lnTo>
                  <a:lnTo>
                    <a:pt x="169" y="2820"/>
                  </a:lnTo>
                  <a:lnTo>
                    <a:pt x="120" y="2772"/>
                  </a:lnTo>
                  <a:lnTo>
                    <a:pt x="79" y="2717"/>
                  </a:lnTo>
                  <a:lnTo>
                    <a:pt x="46" y="2657"/>
                  </a:lnTo>
                  <a:lnTo>
                    <a:pt x="21" y="2592"/>
                  </a:lnTo>
                  <a:lnTo>
                    <a:pt x="5" y="2523"/>
                  </a:lnTo>
                  <a:lnTo>
                    <a:pt x="0" y="2450"/>
                  </a:lnTo>
                  <a:lnTo>
                    <a:pt x="0" y="490"/>
                  </a:lnTo>
                  <a:close/>
                </a:path>
              </a:pathLst>
            </a:custGeom>
            <a:noFill/>
            <a:ln w="25560">
              <a:solidFill>
                <a:srgbClr val="385d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16" descr="C:\Users\Pavel\Desktop\для логопеда\hello_html_m5693d1d1.jpg"/>
            <p:cNvPicPr/>
            <p:nvPr/>
          </p:nvPicPr>
          <p:blipFill>
            <a:blip r:embed="rId5"/>
            <a:stretch/>
          </p:blipFill>
          <p:spPr>
            <a:xfrm>
              <a:off x="3791160" y="475560"/>
              <a:ext cx="1600920" cy="16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" name="Group 31"/>
          <p:cNvGrpSpPr/>
          <p:nvPr/>
        </p:nvGrpSpPr>
        <p:grpSpPr>
          <a:xfrm>
            <a:off x="444600" y="349200"/>
            <a:ext cx="1960560" cy="1892520"/>
            <a:chOff x="444600" y="349200"/>
            <a:chExt cx="1960560" cy="1892520"/>
          </a:xfrm>
        </p:grpSpPr>
        <p:sp>
          <p:nvSpPr>
            <p:cNvPr id="61" name="Freeform 32"/>
            <p:cNvSpPr/>
            <p:nvPr/>
          </p:nvSpPr>
          <p:spPr>
            <a:xfrm>
              <a:off x="444600" y="349200"/>
              <a:ext cx="1960560" cy="1892520"/>
            </a:xfrm>
            <a:custGeom>
              <a:avLst/>
              <a:gdLst/>
              <a:ahLst/>
              <a:rect l="l" t="t" r="r" b="b"/>
              <a:pathLst>
                <a:path w="3048" h="2940">
                  <a:moveTo>
                    <a:pt x="0" y="490"/>
                  </a:moveTo>
                  <a:lnTo>
                    <a:pt x="5" y="417"/>
                  </a:lnTo>
                  <a:lnTo>
                    <a:pt x="21" y="348"/>
                  </a:lnTo>
                  <a:lnTo>
                    <a:pt x="46" y="283"/>
                  </a:lnTo>
                  <a:lnTo>
                    <a:pt x="79" y="223"/>
                  </a:lnTo>
                  <a:lnTo>
                    <a:pt x="120" y="168"/>
                  </a:lnTo>
                  <a:lnTo>
                    <a:pt x="169" y="120"/>
                  </a:lnTo>
                  <a:lnTo>
                    <a:pt x="223" y="79"/>
                  </a:lnTo>
                  <a:lnTo>
                    <a:pt x="283" y="45"/>
                  </a:lnTo>
                  <a:lnTo>
                    <a:pt x="348" y="20"/>
                  </a:lnTo>
                  <a:lnTo>
                    <a:pt x="418" y="5"/>
                  </a:lnTo>
                  <a:lnTo>
                    <a:pt x="490" y="0"/>
                  </a:lnTo>
                  <a:lnTo>
                    <a:pt x="2558" y="0"/>
                  </a:lnTo>
                  <a:lnTo>
                    <a:pt x="2630" y="5"/>
                  </a:lnTo>
                  <a:lnTo>
                    <a:pt x="2700" y="20"/>
                  </a:lnTo>
                  <a:lnTo>
                    <a:pt x="2765" y="45"/>
                  </a:lnTo>
                  <a:lnTo>
                    <a:pt x="2825" y="79"/>
                  </a:lnTo>
                  <a:lnTo>
                    <a:pt x="2879" y="120"/>
                  </a:lnTo>
                  <a:lnTo>
                    <a:pt x="2928" y="168"/>
                  </a:lnTo>
                  <a:lnTo>
                    <a:pt x="2969" y="223"/>
                  </a:lnTo>
                  <a:lnTo>
                    <a:pt x="3002" y="283"/>
                  </a:lnTo>
                  <a:lnTo>
                    <a:pt x="3027" y="348"/>
                  </a:lnTo>
                  <a:lnTo>
                    <a:pt x="3043" y="417"/>
                  </a:lnTo>
                  <a:lnTo>
                    <a:pt x="3048" y="490"/>
                  </a:lnTo>
                  <a:lnTo>
                    <a:pt x="3048" y="2450"/>
                  </a:lnTo>
                  <a:lnTo>
                    <a:pt x="3043" y="2522"/>
                  </a:lnTo>
                  <a:lnTo>
                    <a:pt x="3027" y="2591"/>
                  </a:lnTo>
                  <a:lnTo>
                    <a:pt x="3002" y="2656"/>
                  </a:lnTo>
                  <a:lnTo>
                    <a:pt x="2969" y="2716"/>
                  </a:lnTo>
                  <a:lnTo>
                    <a:pt x="2928" y="2771"/>
                  </a:lnTo>
                  <a:lnTo>
                    <a:pt x="2879" y="2819"/>
                  </a:lnTo>
                  <a:lnTo>
                    <a:pt x="2825" y="2861"/>
                  </a:lnTo>
                  <a:lnTo>
                    <a:pt x="2765" y="2894"/>
                  </a:lnTo>
                  <a:lnTo>
                    <a:pt x="2700" y="2919"/>
                  </a:lnTo>
                  <a:lnTo>
                    <a:pt x="2630" y="2934"/>
                  </a:lnTo>
                  <a:lnTo>
                    <a:pt x="2558" y="2940"/>
                  </a:lnTo>
                  <a:lnTo>
                    <a:pt x="490" y="2940"/>
                  </a:lnTo>
                  <a:lnTo>
                    <a:pt x="418" y="2934"/>
                  </a:lnTo>
                  <a:lnTo>
                    <a:pt x="348" y="2919"/>
                  </a:lnTo>
                  <a:lnTo>
                    <a:pt x="283" y="2894"/>
                  </a:lnTo>
                  <a:lnTo>
                    <a:pt x="223" y="2861"/>
                  </a:lnTo>
                  <a:lnTo>
                    <a:pt x="169" y="2819"/>
                  </a:lnTo>
                  <a:lnTo>
                    <a:pt x="120" y="2771"/>
                  </a:lnTo>
                  <a:lnTo>
                    <a:pt x="79" y="2716"/>
                  </a:lnTo>
                  <a:lnTo>
                    <a:pt x="46" y="2656"/>
                  </a:lnTo>
                  <a:lnTo>
                    <a:pt x="21" y="2591"/>
                  </a:lnTo>
                  <a:lnTo>
                    <a:pt x="5" y="2522"/>
                  </a:lnTo>
                  <a:lnTo>
                    <a:pt x="0" y="2450"/>
                  </a:lnTo>
                  <a:lnTo>
                    <a:pt x="0" y="490"/>
                  </a:lnTo>
                  <a:close/>
                </a:path>
              </a:pathLst>
            </a:custGeom>
            <a:noFill/>
            <a:ln w="25560">
              <a:solidFill>
                <a:srgbClr val="385d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33" descr="C:\Users\Pavel\Desktop\для логопеда\0a09e6b6c7c3ab630d603add1eabf47f.jpg"/>
            <p:cNvPicPr/>
            <p:nvPr/>
          </p:nvPicPr>
          <p:blipFill>
            <a:blip r:embed="rId6"/>
            <a:stretch/>
          </p:blipFill>
          <p:spPr>
            <a:xfrm>
              <a:off x="559800" y="542880"/>
              <a:ext cx="1783800" cy="1393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" name="Рисунок 2" descr=""/>
          <p:cNvPicPr/>
          <p:nvPr/>
        </p:nvPicPr>
        <p:blipFill>
          <a:blip r:embed="rId7"/>
          <a:stretch/>
        </p:blipFill>
        <p:spPr>
          <a:xfrm>
            <a:off x="3479760" y="758880"/>
            <a:ext cx="2630520" cy="16272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" descr=""/>
          <p:cNvPicPr/>
          <p:nvPr/>
        </p:nvPicPr>
        <p:blipFill>
          <a:blip r:embed="rId8"/>
          <a:stretch/>
        </p:blipFill>
        <p:spPr>
          <a:xfrm>
            <a:off x="6622920" y="749160"/>
            <a:ext cx="2629080" cy="1629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" descr=""/>
          <p:cNvPicPr/>
          <p:nvPr/>
        </p:nvPicPr>
        <p:blipFill>
          <a:blip r:embed="rId9"/>
          <a:stretch/>
        </p:blipFill>
        <p:spPr>
          <a:xfrm>
            <a:off x="268200" y="996840"/>
            <a:ext cx="2630520" cy="1629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"/>
          <p:cNvPicPr/>
          <p:nvPr/>
        </p:nvPicPr>
        <p:blipFill>
          <a:blip r:embed="rId10"/>
          <a:stretch/>
        </p:blipFill>
        <p:spPr>
          <a:xfrm>
            <a:off x="627120" y="4762440"/>
            <a:ext cx="2630520" cy="16272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"/>
          <p:cNvPicPr/>
          <p:nvPr/>
        </p:nvPicPr>
        <p:blipFill>
          <a:blip r:embed="rId11"/>
          <a:stretch/>
        </p:blipFill>
        <p:spPr>
          <a:xfrm>
            <a:off x="3639960" y="4737240"/>
            <a:ext cx="2630520" cy="16272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6" descr=""/>
          <p:cNvPicPr/>
          <p:nvPr/>
        </p:nvPicPr>
        <p:blipFill>
          <a:blip r:embed="rId12"/>
          <a:stretch/>
        </p:blipFill>
        <p:spPr>
          <a:xfrm>
            <a:off x="6392880" y="4691160"/>
            <a:ext cx="263052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6492960" y="4097160"/>
            <a:ext cx="1960560" cy="1892520"/>
            <a:chOff x="6492960" y="4097160"/>
            <a:chExt cx="1960560" cy="1892520"/>
          </a:xfrm>
        </p:grpSpPr>
        <p:sp>
          <p:nvSpPr>
            <p:cNvPr id="70" name="Freeform 3"/>
            <p:cNvSpPr/>
            <p:nvPr/>
          </p:nvSpPr>
          <p:spPr>
            <a:xfrm>
              <a:off x="6492960" y="4097160"/>
              <a:ext cx="1960560" cy="1892520"/>
            </a:xfrm>
            <a:custGeom>
              <a:avLst/>
              <a:gdLst/>
              <a:ahLst/>
              <a:rect l="l" t="t" r="r" b="b"/>
              <a:pathLst>
                <a:path w="3048" h="2941">
                  <a:moveTo>
                    <a:pt x="0" y="490"/>
                  </a:moveTo>
                  <a:lnTo>
                    <a:pt x="5" y="418"/>
                  </a:lnTo>
                  <a:lnTo>
                    <a:pt x="21" y="349"/>
                  </a:lnTo>
                  <a:lnTo>
                    <a:pt x="46" y="284"/>
                  </a:lnTo>
                  <a:lnTo>
                    <a:pt x="79" y="224"/>
                  </a:lnTo>
                  <a:lnTo>
                    <a:pt x="120" y="169"/>
                  </a:lnTo>
                  <a:lnTo>
                    <a:pt x="169" y="121"/>
                  </a:lnTo>
                  <a:lnTo>
                    <a:pt x="223" y="79"/>
                  </a:lnTo>
                  <a:lnTo>
                    <a:pt x="283" y="46"/>
                  </a:lnTo>
                  <a:lnTo>
                    <a:pt x="348" y="21"/>
                  </a:lnTo>
                  <a:lnTo>
                    <a:pt x="418" y="6"/>
                  </a:lnTo>
                  <a:lnTo>
                    <a:pt x="490" y="0"/>
                  </a:lnTo>
                  <a:lnTo>
                    <a:pt x="2558" y="0"/>
                  </a:lnTo>
                  <a:lnTo>
                    <a:pt x="2630" y="6"/>
                  </a:lnTo>
                  <a:lnTo>
                    <a:pt x="2700" y="21"/>
                  </a:lnTo>
                  <a:lnTo>
                    <a:pt x="2765" y="46"/>
                  </a:lnTo>
                  <a:lnTo>
                    <a:pt x="2825" y="79"/>
                  </a:lnTo>
                  <a:lnTo>
                    <a:pt x="2879" y="121"/>
                  </a:lnTo>
                  <a:lnTo>
                    <a:pt x="2928" y="169"/>
                  </a:lnTo>
                  <a:lnTo>
                    <a:pt x="2969" y="224"/>
                  </a:lnTo>
                  <a:lnTo>
                    <a:pt x="3002" y="284"/>
                  </a:lnTo>
                  <a:lnTo>
                    <a:pt x="3027" y="349"/>
                  </a:lnTo>
                  <a:lnTo>
                    <a:pt x="3043" y="418"/>
                  </a:lnTo>
                  <a:lnTo>
                    <a:pt x="3048" y="490"/>
                  </a:lnTo>
                  <a:lnTo>
                    <a:pt x="3048" y="2451"/>
                  </a:lnTo>
                  <a:lnTo>
                    <a:pt x="3043" y="2523"/>
                  </a:lnTo>
                  <a:lnTo>
                    <a:pt x="3027" y="2592"/>
                  </a:lnTo>
                  <a:lnTo>
                    <a:pt x="3002" y="2657"/>
                  </a:lnTo>
                  <a:lnTo>
                    <a:pt x="2969" y="2717"/>
                  </a:lnTo>
                  <a:lnTo>
                    <a:pt x="2928" y="2772"/>
                  </a:lnTo>
                  <a:lnTo>
                    <a:pt x="2879" y="2820"/>
                  </a:lnTo>
                  <a:lnTo>
                    <a:pt x="2825" y="2862"/>
                  </a:lnTo>
                  <a:lnTo>
                    <a:pt x="2765" y="2895"/>
                  </a:lnTo>
                  <a:lnTo>
                    <a:pt x="2700" y="2920"/>
                  </a:lnTo>
                  <a:lnTo>
                    <a:pt x="2630" y="2935"/>
                  </a:lnTo>
                  <a:lnTo>
                    <a:pt x="2558" y="2941"/>
                  </a:lnTo>
                  <a:lnTo>
                    <a:pt x="490" y="2941"/>
                  </a:lnTo>
                  <a:lnTo>
                    <a:pt x="418" y="2935"/>
                  </a:lnTo>
                  <a:lnTo>
                    <a:pt x="348" y="2920"/>
                  </a:lnTo>
                  <a:lnTo>
                    <a:pt x="283" y="2895"/>
                  </a:lnTo>
                  <a:lnTo>
                    <a:pt x="223" y="2862"/>
                  </a:lnTo>
                  <a:lnTo>
                    <a:pt x="169" y="2820"/>
                  </a:lnTo>
                  <a:lnTo>
                    <a:pt x="120" y="2772"/>
                  </a:lnTo>
                  <a:lnTo>
                    <a:pt x="79" y="2717"/>
                  </a:lnTo>
                  <a:lnTo>
                    <a:pt x="46" y="2657"/>
                  </a:lnTo>
                  <a:lnTo>
                    <a:pt x="21" y="2592"/>
                  </a:lnTo>
                  <a:lnTo>
                    <a:pt x="5" y="2523"/>
                  </a:lnTo>
                  <a:lnTo>
                    <a:pt x="0" y="2451"/>
                  </a:lnTo>
                  <a:lnTo>
                    <a:pt x="0" y="490"/>
                  </a:lnTo>
                  <a:close/>
                </a:path>
              </a:pathLst>
            </a:custGeom>
            <a:noFill/>
            <a:ln w="25560">
              <a:solidFill>
                <a:srgbClr val="385d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Picture 4" descr="C:\Users\Pavel\Desktop\1621866932_106605_url.png"/>
            <p:cNvPicPr/>
            <p:nvPr/>
          </p:nvPicPr>
          <p:blipFill>
            <a:blip r:embed="rId1"/>
            <a:stretch/>
          </p:blipFill>
          <p:spPr>
            <a:xfrm>
              <a:off x="6697440" y="4179600"/>
              <a:ext cx="1522080" cy="171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Group 5"/>
          <p:cNvGrpSpPr/>
          <p:nvPr/>
        </p:nvGrpSpPr>
        <p:grpSpPr>
          <a:xfrm>
            <a:off x="3562200" y="4168800"/>
            <a:ext cx="1960560" cy="1892160"/>
            <a:chOff x="3562200" y="4168800"/>
            <a:chExt cx="1960560" cy="1892160"/>
          </a:xfrm>
        </p:grpSpPr>
        <p:sp>
          <p:nvSpPr>
            <p:cNvPr id="73" name="Freeform 6"/>
            <p:cNvSpPr/>
            <p:nvPr/>
          </p:nvSpPr>
          <p:spPr>
            <a:xfrm>
              <a:off x="3562200" y="4168800"/>
              <a:ext cx="1960560" cy="1892160"/>
            </a:xfrm>
            <a:custGeom>
              <a:avLst/>
              <a:gdLst/>
              <a:ahLst/>
              <a:rect l="l" t="t" r="r" b="b"/>
              <a:pathLst>
                <a:path w="3048" h="2941">
                  <a:moveTo>
                    <a:pt x="0" y="490"/>
                  </a:moveTo>
                  <a:lnTo>
                    <a:pt x="5" y="418"/>
                  </a:lnTo>
                  <a:lnTo>
                    <a:pt x="21" y="349"/>
                  </a:lnTo>
                  <a:lnTo>
                    <a:pt x="46" y="284"/>
                  </a:lnTo>
                  <a:lnTo>
                    <a:pt x="79" y="224"/>
                  </a:lnTo>
                  <a:lnTo>
                    <a:pt x="120" y="169"/>
                  </a:lnTo>
                  <a:lnTo>
                    <a:pt x="169" y="121"/>
                  </a:lnTo>
                  <a:lnTo>
                    <a:pt x="223" y="79"/>
                  </a:lnTo>
                  <a:lnTo>
                    <a:pt x="283" y="46"/>
                  </a:lnTo>
                  <a:lnTo>
                    <a:pt x="348" y="21"/>
                  </a:lnTo>
                  <a:lnTo>
                    <a:pt x="418" y="6"/>
                  </a:lnTo>
                  <a:lnTo>
                    <a:pt x="490" y="0"/>
                  </a:lnTo>
                  <a:lnTo>
                    <a:pt x="2558" y="0"/>
                  </a:lnTo>
                  <a:lnTo>
                    <a:pt x="2630" y="6"/>
                  </a:lnTo>
                  <a:lnTo>
                    <a:pt x="2700" y="21"/>
                  </a:lnTo>
                  <a:lnTo>
                    <a:pt x="2765" y="46"/>
                  </a:lnTo>
                  <a:lnTo>
                    <a:pt x="2825" y="79"/>
                  </a:lnTo>
                  <a:lnTo>
                    <a:pt x="2879" y="121"/>
                  </a:lnTo>
                  <a:lnTo>
                    <a:pt x="2928" y="169"/>
                  </a:lnTo>
                  <a:lnTo>
                    <a:pt x="2969" y="224"/>
                  </a:lnTo>
                  <a:lnTo>
                    <a:pt x="3002" y="284"/>
                  </a:lnTo>
                  <a:lnTo>
                    <a:pt x="3027" y="349"/>
                  </a:lnTo>
                  <a:lnTo>
                    <a:pt x="3043" y="418"/>
                  </a:lnTo>
                  <a:lnTo>
                    <a:pt x="3048" y="490"/>
                  </a:lnTo>
                  <a:lnTo>
                    <a:pt x="3048" y="2451"/>
                  </a:lnTo>
                  <a:lnTo>
                    <a:pt x="3043" y="2523"/>
                  </a:lnTo>
                  <a:lnTo>
                    <a:pt x="3027" y="2592"/>
                  </a:lnTo>
                  <a:lnTo>
                    <a:pt x="3002" y="2657"/>
                  </a:lnTo>
                  <a:lnTo>
                    <a:pt x="2969" y="2717"/>
                  </a:lnTo>
                  <a:lnTo>
                    <a:pt x="2928" y="2772"/>
                  </a:lnTo>
                  <a:lnTo>
                    <a:pt x="2879" y="2820"/>
                  </a:lnTo>
                  <a:lnTo>
                    <a:pt x="2825" y="2862"/>
                  </a:lnTo>
                  <a:lnTo>
                    <a:pt x="2765" y="2895"/>
                  </a:lnTo>
                  <a:lnTo>
                    <a:pt x="2700" y="2920"/>
                  </a:lnTo>
                  <a:lnTo>
                    <a:pt x="2630" y="2935"/>
                  </a:lnTo>
                  <a:lnTo>
                    <a:pt x="2558" y="2941"/>
                  </a:lnTo>
                  <a:lnTo>
                    <a:pt x="490" y="2941"/>
                  </a:lnTo>
                  <a:lnTo>
                    <a:pt x="418" y="2935"/>
                  </a:lnTo>
                  <a:lnTo>
                    <a:pt x="348" y="2920"/>
                  </a:lnTo>
                  <a:lnTo>
                    <a:pt x="283" y="2895"/>
                  </a:lnTo>
                  <a:lnTo>
                    <a:pt x="223" y="2862"/>
                  </a:lnTo>
                  <a:lnTo>
                    <a:pt x="169" y="2820"/>
                  </a:lnTo>
                  <a:lnTo>
                    <a:pt x="120" y="2772"/>
                  </a:lnTo>
                  <a:lnTo>
                    <a:pt x="79" y="2717"/>
                  </a:lnTo>
                  <a:lnTo>
                    <a:pt x="46" y="2657"/>
                  </a:lnTo>
                  <a:lnTo>
                    <a:pt x="21" y="2592"/>
                  </a:lnTo>
                  <a:lnTo>
                    <a:pt x="5" y="2523"/>
                  </a:lnTo>
                  <a:lnTo>
                    <a:pt x="0" y="2451"/>
                  </a:lnTo>
                  <a:lnTo>
                    <a:pt x="0" y="490"/>
                  </a:lnTo>
                  <a:close/>
                </a:path>
              </a:pathLst>
            </a:custGeom>
            <a:noFill/>
            <a:ln w="25560">
              <a:solidFill>
                <a:srgbClr val="385d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Picture 7" descr="C:\Users\Pavel\Desktop\tyorka8.jpg"/>
            <p:cNvPicPr/>
            <p:nvPr/>
          </p:nvPicPr>
          <p:blipFill>
            <a:blip r:embed="rId2"/>
            <a:stretch/>
          </p:blipFill>
          <p:spPr>
            <a:xfrm>
              <a:off x="3935880" y="4225320"/>
              <a:ext cx="1236960" cy="177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Group 8"/>
          <p:cNvGrpSpPr/>
          <p:nvPr/>
        </p:nvGrpSpPr>
        <p:grpSpPr>
          <a:xfrm>
            <a:off x="438120" y="4152960"/>
            <a:ext cx="1960560" cy="1892160"/>
            <a:chOff x="438120" y="4152960"/>
            <a:chExt cx="1960560" cy="1892160"/>
          </a:xfrm>
        </p:grpSpPr>
        <p:sp>
          <p:nvSpPr>
            <p:cNvPr id="76" name="Freeform 9"/>
            <p:cNvSpPr/>
            <p:nvPr/>
          </p:nvSpPr>
          <p:spPr>
            <a:xfrm>
              <a:off x="438120" y="4152960"/>
              <a:ext cx="1960560" cy="1892160"/>
            </a:xfrm>
            <a:custGeom>
              <a:avLst/>
              <a:gdLst/>
              <a:ahLst/>
              <a:rect l="l" t="t" r="r" b="b"/>
              <a:pathLst>
                <a:path w="3048" h="2940">
                  <a:moveTo>
                    <a:pt x="0" y="490"/>
                  </a:moveTo>
                  <a:lnTo>
                    <a:pt x="5" y="418"/>
                  </a:lnTo>
                  <a:lnTo>
                    <a:pt x="21" y="348"/>
                  </a:lnTo>
                  <a:lnTo>
                    <a:pt x="46" y="283"/>
                  </a:lnTo>
                  <a:lnTo>
                    <a:pt x="79" y="223"/>
                  </a:lnTo>
                  <a:lnTo>
                    <a:pt x="120" y="169"/>
                  </a:lnTo>
                  <a:lnTo>
                    <a:pt x="169" y="120"/>
                  </a:lnTo>
                  <a:lnTo>
                    <a:pt x="223" y="79"/>
                  </a:lnTo>
                  <a:lnTo>
                    <a:pt x="283" y="46"/>
                  </a:lnTo>
                  <a:lnTo>
                    <a:pt x="348" y="21"/>
                  </a:lnTo>
                  <a:lnTo>
                    <a:pt x="418" y="5"/>
                  </a:lnTo>
                  <a:lnTo>
                    <a:pt x="490" y="0"/>
                  </a:lnTo>
                  <a:lnTo>
                    <a:pt x="2558" y="0"/>
                  </a:lnTo>
                  <a:lnTo>
                    <a:pt x="2630" y="5"/>
                  </a:lnTo>
                  <a:lnTo>
                    <a:pt x="2700" y="21"/>
                  </a:lnTo>
                  <a:lnTo>
                    <a:pt x="2765" y="46"/>
                  </a:lnTo>
                  <a:lnTo>
                    <a:pt x="2825" y="79"/>
                  </a:lnTo>
                  <a:lnTo>
                    <a:pt x="2879" y="120"/>
                  </a:lnTo>
                  <a:lnTo>
                    <a:pt x="2928" y="169"/>
                  </a:lnTo>
                  <a:lnTo>
                    <a:pt x="2969" y="223"/>
                  </a:lnTo>
                  <a:lnTo>
                    <a:pt x="3002" y="283"/>
                  </a:lnTo>
                  <a:lnTo>
                    <a:pt x="3027" y="348"/>
                  </a:lnTo>
                  <a:lnTo>
                    <a:pt x="3043" y="418"/>
                  </a:lnTo>
                  <a:lnTo>
                    <a:pt x="3048" y="490"/>
                  </a:lnTo>
                  <a:lnTo>
                    <a:pt x="3048" y="2450"/>
                  </a:lnTo>
                  <a:lnTo>
                    <a:pt x="3043" y="2522"/>
                  </a:lnTo>
                  <a:lnTo>
                    <a:pt x="3027" y="2592"/>
                  </a:lnTo>
                  <a:lnTo>
                    <a:pt x="3002" y="2657"/>
                  </a:lnTo>
                  <a:lnTo>
                    <a:pt x="2969" y="2717"/>
                  </a:lnTo>
                  <a:lnTo>
                    <a:pt x="2928" y="2771"/>
                  </a:lnTo>
                  <a:lnTo>
                    <a:pt x="2879" y="2820"/>
                  </a:lnTo>
                  <a:lnTo>
                    <a:pt x="2825" y="2861"/>
                  </a:lnTo>
                  <a:lnTo>
                    <a:pt x="2765" y="2894"/>
                  </a:lnTo>
                  <a:lnTo>
                    <a:pt x="2700" y="2919"/>
                  </a:lnTo>
                  <a:lnTo>
                    <a:pt x="2630" y="2935"/>
                  </a:lnTo>
                  <a:lnTo>
                    <a:pt x="2558" y="2940"/>
                  </a:lnTo>
                  <a:lnTo>
                    <a:pt x="490" y="2940"/>
                  </a:lnTo>
                  <a:lnTo>
                    <a:pt x="418" y="2935"/>
                  </a:lnTo>
                  <a:lnTo>
                    <a:pt x="348" y="2919"/>
                  </a:lnTo>
                  <a:lnTo>
                    <a:pt x="283" y="2894"/>
                  </a:lnTo>
                  <a:lnTo>
                    <a:pt x="223" y="2861"/>
                  </a:lnTo>
                  <a:lnTo>
                    <a:pt x="169" y="2820"/>
                  </a:lnTo>
                  <a:lnTo>
                    <a:pt x="120" y="2771"/>
                  </a:lnTo>
                  <a:lnTo>
                    <a:pt x="79" y="2717"/>
                  </a:lnTo>
                  <a:lnTo>
                    <a:pt x="46" y="2657"/>
                  </a:lnTo>
                  <a:lnTo>
                    <a:pt x="21" y="2592"/>
                  </a:lnTo>
                  <a:lnTo>
                    <a:pt x="5" y="2522"/>
                  </a:lnTo>
                  <a:lnTo>
                    <a:pt x="0" y="2450"/>
                  </a:lnTo>
                  <a:lnTo>
                    <a:pt x="0" y="490"/>
                  </a:lnTo>
                  <a:close/>
                </a:path>
              </a:pathLst>
            </a:custGeom>
            <a:noFill/>
            <a:ln w="25560">
              <a:solidFill>
                <a:srgbClr val="385d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Picture 10" descr="C:\Users\Pavel\Desktop\18752fa6c457dfb32a017165ba31053b.jpg"/>
            <p:cNvPicPr/>
            <p:nvPr/>
          </p:nvPicPr>
          <p:blipFill>
            <a:blip r:embed="rId3"/>
            <a:stretch/>
          </p:blipFill>
          <p:spPr>
            <a:xfrm>
              <a:off x="601920" y="4316760"/>
              <a:ext cx="1658880" cy="155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Group 16"/>
          <p:cNvGrpSpPr/>
          <p:nvPr/>
        </p:nvGrpSpPr>
        <p:grpSpPr>
          <a:xfrm>
            <a:off x="423720" y="431640"/>
            <a:ext cx="1960560" cy="1892520"/>
            <a:chOff x="423720" y="431640"/>
            <a:chExt cx="1960560" cy="1892520"/>
          </a:xfrm>
        </p:grpSpPr>
        <p:sp>
          <p:nvSpPr>
            <p:cNvPr id="79" name="Freeform 17"/>
            <p:cNvSpPr/>
            <p:nvPr/>
          </p:nvSpPr>
          <p:spPr>
            <a:xfrm>
              <a:off x="423720" y="431640"/>
              <a:ext cx="1960560" cy="1892520"/>
            </a:xfrm>
            <a:custGeom>
              <a:avLst/>
              <a:gdLst/>
              <a:ahLst/>
              <a:rect l="l" t="t" r="r" b="b"/>
              <a:pathLst>
                <a:path w="3048" h="2940">
                  <a:moveTo>
                    <a:pt x="0" y="490"/>
                  </a:moveTo>
                  <a:lnTo>
                    <a:pt x="5" y="418"/>
                  </a:lnTo>
                  <a:lnTo>
                    <a:pt x="21" y="349"/>
                  </a:lnTo>
                  <a:lnTo>
                    <a:pt x="46" y="284"/>
                  </a:lnTo>
                  <a:lnTo>
                    <a:pt x="79" y="223"/>
                  </a:lnTo>
                  <a:lnTo>
                    <a:pt x="120" y="169"/>
                  </a:lnTo>
                  <a:lnTo>
                    <a:pt x="169" y="120"/>
                  </a:lnTo>
                  <a:lnTo>
                    <a:pt x="223" y="79"/>
                  </a:lnTo>
                  <a:lnTo>
                    <a:pt x="283" y="46"/>
                  </a:lnTo>
                  <a:lnTo>
                    <a:pt x="348" y="21"/>
                  </a:lnTo>
                  <a:lnTo>
                    <a:pt x="418" y="6"/>
                  </a:lnTo>
                  <a:lnTo>
                    <a:pt x="490" y="0"/>
                  </a:lnTo>
                  <a:lnTo>
                    <a:pt x="2558" y="0"/>
                  </a:lnTo>
                  <a:lnTo>
                    <a:pt x="2630" y="6"/>
                  </a:lnTo>
                  <a:lnTo>
                    <a:pt x="2700" y="21"/>
                  </a:lnTo>
                  <a:lnTo>
                    <a:pt x="2765" y="46"/>
                  </a:lnTo>
                  <a:lnTo>
                    <a:pt x="2825" y="79"/>
                  </a:lnTo>
                  <a:lnTo>
                    <a:pt x="2879" y="120"/>
                  </a:lnTo>
                  <a:lnTo>
                    <a:pt x="2928" y="169"/>
                  </a:lnTo>
                  <a:lnTo>
                    <a:pt x="2969" y="223"/>
                  </a:lnTo>
                  <a:lnTo>
                    <a:pt x="3002" y="284"/>
                  </a:lnTo>
                  <a:lnTo>
                    <a:pt x="3027" y="349"/>
                  </a:lnTo>
                  <a:lnTo>
                    <a:pt x="3043" y="418"/>
                  </a:lnTo>
                  <a:lnTo>
                    <a:pt x="3048" y="490"/>
                  </a:lnTo>
                  <a:lnTo>
                    <a:pt x="3048" y="2450"/>
                  </a:lnTo>
                  <a:lnTo>
                    <a:pt x="3043" y="2523"/>
                  </a:lnTo>
                  <a:lnTo>
                    <a:pt x="3027" y="2592"/>
                  </a:lnTo>
                  <a:lnTo>
                    <a:pt x="3002" y="2657"/>
                  </a:lnTo>
                  <a:lnTo>
                    <a:pt x="2969" y="2717"/>
                  </a:lnTo>
                  <a:lnTo>
                    <a:pt x="2928" y="2772"/>
                  </a:lnTo>
                  <a:lnTo>
                    <a:pt x="2879" y="2820"/>
                  </a:lnTo>
                  <a:lnTo>
                    <a:pt x="2825" y="2861"/>
                  </a:lnTo>
                  <a:lnTo>
                    <a:pt x="2765" y="2895"/>
                  </a:lnTo>
                  <a:lnTo>
                    <a:pt x="2700" y="2919"/>
                  </a:lnTo>
                  <a:lnTo>
                    <a:pt x="2630" y="2935"/>
                  </a:lnTo>
                  <a:lnTo>
                    <a:pt x="2558" y="2940"/>
                  </a:lnTo>
                  <a:lnTo>
                    <a:pt x="490" y="2940"/>
                  </a:lnTo>
                  <a:lnTo>
                    <a:pt x="418" y="2935"/>
                  </a:lnTo>
                  <a:lnTo>
                    <a:pt x="348" y="2919"/>
                  </a:lnTo>
                  <a:lnTo>
                    <a:pt x="283" y="2895"/>
                  </a:lnTo>
                  <a:lnTo>
                    <a:pt x="223" y="2861"/>
                  </a:lnTo>
                  <a:lnTo>
                    <a:pt x="169" y="2820"/>
                  </a:lnTo>
                  <a:lnTo>
                    <a:pt x="120" y="2772"/>
                  </a:lnTo>
                  <a:lnTo>
                    <a:pt x="79" y="2717"/>
                  </a:lnTo>
                  <a:lnTo>
                    <a:pt x="46" y="2657"/>
                  </a:lnTo>
                  <a:lnTo>
                    <a:pt x="21" y="2592"/>
                  </a:lnTo>
                  <a:lnTo>
                    <a:pt x="5" y="2523"/>
                  </a:lnTo>
                  <a:lnTo>
                    <a:pt x="0" y="2450"/>
                  </a:lnTo>
                  <a:lnTo>
                    <a:pt x="0" y="490"/>
                  </a:lnTo>
                  <a:close/>
                </a:path>
              </a:pathLst>
            </a:custGeom>
            <a:noFill/>
            <a:ln w="25560">
              <a:solidFill>
                <a:srgbClr val="385d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Picture 18" descr="C:\Users\Pavel\Desktop\77d52662e71ea07353f911b67c6a90d7.png"/>
            <p:cNvPicPr/>
            <p:nvPr/>
          </p:nvPicPr>
          <p:blipFill>
            <a:blip r:embed="rId4"/>
            <a:stretch/>
          </p:blipFill>
          <p:spPr>
            <a:xfrm>
              <a:off x="526680" y="746280"/>
              <a:ext cx="1786680" cy="127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" name="Group 19"/>
          <p:cNvGrpSpPr/>
          <p:nvPr/>
        </p:nvGrpSpPr>
        <p:grpSpPr>
          <a:xfrm>
            <a:off x="3324240" y="341280"/>
            <a:ext cx="1960560" cy="1892160"/>
            <a:chOff x="3324240" y="341280"/>
            <a:chExt cx="1960560" cy="1892160"/>
          </a:xfrm>
        </p:grpSpPr>
        <p:sp>
          <p:nvSpPr>
            <p:cNvPr id="82" name="Freeform 20"/>
            <p:cNvSpPr/>
            <p:nvPr/>
          </p:nvSpPr>
          <p:spPr>
            <a:xfrm>
              <a:off x="3324240" y="341280"/>
              <a:ext cx="1960560" cy="1892160"/>
            </a:xfrm>
            <a:custGeom>
              <a:avLst/>
              <a:gdLst/>
              <a:ahLst/>
              <a:rect l="l" t="t" r="r" b="b"/>
              <a:pathLst>
                <a:path w="3048" h="2940">
                  <a:moveTo>
                    <a:pt x="0" y="490"/>
                  </a:moveTo>
                  <a:lnTo>
                    <a:pt x="5" y="418"/>
                  </a:lnTo>
                  <a:lnTo>
                    <a:pt x="21" y="349"/>
                  </a:lnTo>
                  <a:lnTo>
                    <a:pt x="46" y="284"/>
                  </a:lnTo>
                  <a:lnTo>
                    <a:pt x="79" y="223"/>
                  </a:lnTo>
                  <a:lnTo>
                    <a:pt x="120" y="169"/>
                  </a:lnTo>
                  <a:lnTo>
                    <a:pt x="169" y="120"/>
                  </a:lnTo>
                  <a:lnTo>
                    <a:pt x="223" y="79"/>
                  </a:lnTo>
                  <a:lnTo>
                    <a:pt x="283" y="46"/>
                  </a:lnTo>
                  <a:lnTo>
                    <a:pt x="348" y="21"/>
                  </a:lnTo>
                  <a:lnTo>
                    <a:pt x="418" y="6"/>
                  </a:lnTo>
                  <a:lnTo>
                    <a:pt x="490" y="0"/>
                  </a:lnTo>
                  <a:lnTo>
                    <a:pt x="2558" y="0"/>
                  </a:lnTo>
                  <a:lnTo>
                    <a:pt x="2630" y="6"/>
                  </a:lnTo>
                  <a:lnTo>
                    <a:pt x="2700" y="21"/>
                  </a:lnTo>
                  <a:lnTo>
                    <a:pt x="2765" y="46"/>
                  </a:lnTo>
                  <a:lnTo>
                    <a:pt x="2825" y="79"/>
                  </a:lnTo>
                  <a:lnTo>
                    <a:pt x="2879" y="120"/>
                  </a:lnTo>
                  <a:lnTo>
                    <a:pt x="2928" y="169"/>
                  </a:lnTo>
                  <a:lnTo>
                    <a:pt x="2969" y="223"/>
                  </a:lnTo>
                  <a:lnTo>
                    <a:pt x="3002" y="284"/>
                  </a:lnTo>
                  <a:lnTo>
                    <a:pt x="3027" y="349"/>
                  </a:lnTo>
                  <a:lnTo>
                    <a:pt x="3043" y="418"/>
                  </a:lnTo>
                  <a:lnTo>
                    <a:pt x="3048" y="490"/>
                  </a:lnTo>
                  <a:lnTo>
                    <a:pt x="3048" y="2450"/>
                  </a:lnTo>
                  <a:lnTo>
                    <a:pt x="3043" y="2523"/>
                  </a:lnTo>
                  <a:lnTo>
                    <a:pt x="3027" y="2592"/>
                  </a:lnTo>
                  <a:lnTo>
                    <a:pt x="3002" y="2657"/>
                  </a:lnTo>
                  <a:lnTo>
                    <a:pt x="2969" y="2717"/>
                  </a:lnTo>
                  <a:lnTo>
                    <a:pt x="2928" y="2772"/>
                  </a:lnTo>
                  <a:lnTo>
                    <a:pt x="2879" y="2820"/>
                  </a:lnTo>
                  <a:lnTo>
                    <a:pt x="2825" y="2861"/>
                  </a:lnTo>
                  <a:lnTo>
                    <a:pt x="2765" y="2895"/>
                  </a:lnTo>
                  <a:lnTo>
                    <a:pt x="2700" y="2919"/>
                  </a:lnTo>
                  <a:lnTo>
                    <a:pt x="2630" y="2935"/>
                  </a:lnTo>
                  <a:lnTo>
                    <a:pt x="2558" y="2940"/>
                  </a:lnTo>
                  <a:lnTo>
                    <a:pt x="490" y="2940"/>
                  </a:lnTo>
                  <a:lnTo>
                    <a:pt x="418" y="2935"/>
                  </a:lnTo>
                  <a:lnTo>
                    <a:pt x="348" y="2919"/>
                  </a:lnTo>
                  <a:lnTo>
                    <a:pt x="283" y="2895"/>
                  </a:lnTo>
                  <a:lnTo>
                    <a:pt x="223" y="2861"/>
                  </a:lnTo>
                  <a:lnTo>
                    <a:pt x="169" y="2820"/>
                  </a:lnTo>
                  <a:lnTo>
                    <a:pt x="120" y="2772"/>
                  </a:lnTo>
                  <a:lnTo>
                    <a:pt x="79" y="2717"/>
                  </a:lnTo>
                  <a:lnTo>
                    <a:pt x="46" y="2657"/>
                  </a:lnTo>
                  <a:lnTo>
                    <a:pt x="21" y="2592"/>
                  </a:lnTo>
                  <a:lnTo>
                    <a:pt x="5" y="2523"/>
                  </a:lnTo>
                  <a:lnTo>
                    <a:pt x="0" y="2450"/>
                  </a:lnTo>
                  <a:lnTo>
                    <a:pt x="0" y="490"/>
                  </a:lnTo>
                  <a:close/>
                </a:path>
              </a:pathLst>
            </a:custGeom>
            <a:noFill/>
            <a:ln w="25560">
              <a:solidFill>
                <a:srgbClr val="385d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21" descr="C:\Users\Pavel\Desktop\Звук Сь\32004077fa5bd33ec3fcb331f95bcc91.jpg"/>
            <p:cNvPicPr/>
            <p:nvPr/>
          </p:nvPicPr>
          <p:blipFill>
            <a:blip r:embed="rId5"/>
            <a:stretch/>
          </p:blipFill>
          <p:spPr>
            <a:xfrm>
              <a:off x="3513240" y="659160"/>
              <a:ext cx="1564920" cy="141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Rectangle 30"/>
          <p:cNvSpPr/>
          <p:nvPr/>
        </p:nvSpPr>
        <p:spPr>
          <a:xfrm>
            <a:off x="501480" y="38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27"/>
          <p:cNvGrpSpPr/>
          <p:nvPr/>
        </p:nvGrpSpPr>
        <p:grpSpPr>
          <a:xfrm>
            <a:off x="6432480" y="433440"/>
            <a:ext cx="1960560" cy="1892160"/>
            <a:chOff x="6432480" y="433440"/>
            <a:chExt cx="1960560" cy="1892160"/>
          </a:xfrm>
        </p:grpSpPr>
        <p:sp>
          <p:nvSpPr>
            <p:cNvPr id="86" name="Freeform 29"/>
            <p:cNvSpPr/>
            <p:nvPr/>
          </p:nvSpPr>
          <p:spPr>
            <a:xfrm>
              <a:off x="6432480" y="433440"/>
              <a:ext cx="1960560" cy="1892160"/>
            </a:xfrm>
            <a:custGeom>
              <a:avLst/>
              <a:gdLst/>
              <a:ahLst/>
              <a:rect l="l" t="t" r="r" b="b"/>
              <a:pathLst>
                <a:path w="3048" h="2940">
                  <a:moveTo>
                    <a:pt x="0" y="490"/>
                  </a:moveTo>
                  <a:lnTo>
                    <a:pt x="5" y="418"/>
                  </a:lnTo>
                  <a:lnTo>
                    <a:pt x="21" y="348"/>
                  </a:lnTo>
                  <a:lnTo>
                    <a:pt x="46" y="283"/>
                  </a:lnTo>
                  <a:lnTo>
                    <a:pt x="79" y="223"/>
                  </a:lnTo>
                  <a:lnTo>
                    <a:pt x="120" y="169"/>
                  </a:lnTo>
                  <a:lnTo>
                    <a:pt x="169" y="120"/>
                  </a:lnTo>
                  <a:lnTo>
                    <a:pt x="223" y="79"/>
                  </a:lnTo>
                  <a:lnTo>
                    <a:pt x="283" y="46"/>
                  </a:lnTo>
                  <a:lnTo>
                    <a:pt x="348" y="21"/>
                  </a:lnTo>
                  <a:lnTo>
                    <a:pt x="418" y="5"/>
                  </a:lnTo>
                  <a:lnTo>
                    <a:pt x="490" y="0"/>
                  </a:lnTo>
                  <a:lnTo>
                    <a:pt x="2558" y="0"/>
                  </a:lnTo>
                  <a:lnTo>
                    <a:pt x="2630" y="5"/>
                  </a:lnTo>
                  <a:lnTo>
                    <a:pt x="2700" y="21"/>
                  </a:lnTo>
                  <a:lnTo>
                    <a:pt x="2765" y="46"/>
                  </a:lnTo>
                  <a:lnTo>
                    <a:pt x="2825" y="79"/>
                  </a:lnTo>
                  <a:lnTo>
                    <a:pt x="2879" y="120"/>
                  </a:lnTo>
                  <a:lnTo>
                    <a:pt x="2928" y="169"/>
                  </a:lnTo>
                  <a:lnTo>
                    <a:pt x="2969" y="223"/>
                  </a:lnTo>
                  <a:lnTo>
                    <a:pt x="3002" y="283"/>
                  </a:lnTo>
                  <a:lnTo>
                    <a:pt x="3027" y="348"/>
                  </a:lnTo>
                  <a:lnTo>
                    <a:pt x="3043" y="418"/>
                  </a:lnTo>
                  <a:lnTo>
                    <a:pt x="3048" y="490"/>
                  </a:lnTo>
                  <a:lnTo>
                    <a:pt x="3048" y="2450"/>
                  </a:lnTo>
                  <a:lnTo>
                    <a:pt x="3043" y="2522"/>
                  </a:lnTo>
                  <a:lnTo>
                    <a:pt x="3027" y="2592"/>
                  </a:lnTo>
                  <a:lnTo>
                    <a:pt x="3002" y="2657"/>
                  </a:lnTo>
                  <a:lnTo>
                    <a:pt x="2969" y="2717"/>
                  </a:lnTo>
                  <a:lnTo>
                    <a:pt x="2928" y="2771"/>
                  </a:lnTo>
                  <a:lnTo>
                    <a:pt x="2879" y="2820"/>
                  </a:lnTo>
                  <a:lnTo>
                    <a:pt x="2825" y="2861"/>
                  </a:lnTo>
                  <a:lnTo>
                    <a:pt x="2765" y="2894"/>
                  </a:lnTo>
                  <a:lnTo>
                    <a:pt x="2700" y="2919"/>
                  </a:lnTo>
                  <a:lnTo>
                    <a:pt x="2630" y="2935"/>
                  </a:lnTo>
                  <a:lnTo>
                    <a:pt x="2558" y="2940"/>
                  </a:lnTo>
                  <a:lnTo>
                    <a:pt x="490" y="2940"/>
                  </a:lnTo>
                  <a:lnTo>
                    <a:pt x="418" y="2935"/>
                  </a:lnTo>
                  <a:lnTo>
                    <a:pt x="348" y="2919"/>
                  </a:lnTo>
                  <a:lnTo>
                    <a:pt x="283" y="2894"/>
                  </a:lnTo>
                  <a:lnTo>
                    <a:pt x="223" y="2861"/>
                  </a:lnTo>
                  <a:lnTo>
                    <a:pt x="169" y="2820"/>
                  </a:lnTo>
                  <a:lnTo>
                    <a:pt x="120" y="2771"/>
                  </a:lnTo>
                  <a:lnTo>
                    <a:pt x="79" y="2717"/>
                  </a:lnTo>
                  <a:lnTo>
                    <a:pt x="46" y="2657"/>
                  </a:lnTo>
                  <a:lnTo>
                    <a:pt x="21" y="2592"/>
                  </a:lnTo>
                  <a:lnTo>
                    <a:pt x="5" y="2522"/>
                  </a:lnTo>
                  <a:lnTo>
                    <a:pt x="0" y="2450"/>
                  </a:lnTo>
                  <a:lnTo>
                    <a:pt x="0" y="490"/>
                  </a:lnTo>
                  <a:close/>
                </a:path>
              </a:pathLst>
            </a:custGeom>
            <a:noFill/>
            <a:ln w="25560">
              <a:solidFill>
                <a:srgbClr val="385d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Picture 28" descr=""/>
            <p:cNvPicPr/>
            <p:nvPr/>
          </p:nvPicPr>
          <p:blipFill>
            <a:blip r:embed="rId6"/>
            <a:stretch/>
          </p:blipFill>
          <p:spPr>
            <a:xfrm>
              <a:off x="6667920" y="603720"/>
              <a:ext cx="1515960" cy="1609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8" name="Рисунок 1" descr=""/>
          <p:cNvPicPr/>
          <p:nvPr/>
        </p:nvPicPr>
        <p:blipFill>
          <a:blip r:embed="rId7"/>
          <a:stretch/>
        </p:blipFill>
        <p:spPr>
          <a:xfrm>
            <a:off x="538200" y="1035000"/>
            <a:ext cx="2630520" cy="16272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2" descr=""/>
          <p:cNvPicPr/>
          <p:nvPr/>
        </p:nvPicPr>
        <p:blipFill>
          <a:blip r:embed="rId8"/>
          <a:stretch/>
        </p:blipFill>
        <p:spPr>
          <a:xfrm>
            <a:off x="3705120" y="857160"/>
            <a:ext cx="2630520" cy="16272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3" descr=""/>
          <p:cNvPicPr/>
          <p:nvPr/>
        </p:nvPicPr>
        <p:blipFill>
          <a:blip r:embed="rId9"/>
          <a:stretch/>
        </p:blipFill>
        <p:spPr>
          <a:xfrm>
            <a:off x="6513480" y="955800"/>
            <a:ext cx="2630520" cy="16272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"/>
          <p:cNvPicPr/>
          <p:nvPr/>
        </p:nvPicPr>
        <p:blipFill>
          <a:blip r:embed="rId10"/>
          <a:stretch/>
        </p:blipFill>
        <p:spPr>
          <a:xfrm>
            <a:off x="666720" y="4640400"/>
            <a:ext cx="2629080" cy="16272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"/>
          <p:cNvPicPr/>
          <p:nvPr/>
        </p:nvPicPr>
        <p:blipFill>
          <a:blip r:embed="rId11"/>
          <a:stretch/>
        </p:blipFill>
        <p:spPr>
          <a:xfrm>
            <a:off x="3571920" y="4707000"/>
            <a:ext cx="2628720" cy="16272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"/>
          <p:cNvPicPr/>
          <p:nvPr/>
        </p:nvPicPr>
        <p:blipFill>
          <a:blip r:embed="rId12"/>
          <a:stretch/>
        </p:blipFill>
        <p:spPr>
          <a:xfrm>
            <a:off x="6445080" y="4662360"/>
            <a:ext cx="263052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"/>
          <p:cNvSpPr/>
          <p:nvPr/>
        </p:nvSpPr>
        <p:spPr>
          <a:xfrm>
            <a:off x="4608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5"/>
          <p:cNvGrpSpPr/>
          <p:nvPr/>
        </p:nvGrpSpPr>
        <p:grpSpPr>
          <a:xfrm>
            <a:off x="412920" y="387360"/>
            <a:ext cx="1960560" cy="1892160"/>
            <a:chOff x="412920" y="387360"/>
            <a:chExt cx="1960560" cy="1892160"/>
          </a:xfrm>
        </p:grpSpPr>
        <p:sp>
          <p:nvSpPr>
            <p:cNvPr id="96" name="Freeform 16"/>
            <p:cNvSpPr/>
            <p:nvPr/>
          </p:nvSpPr>
          <p:spPr>
            <a:xfrm>
              <a:off x="412920" y="387360"/>
              <a:ext cx="1960560" cy="1892160"/>
            </a:xfrm>
            <a:custGeom>
              <a:avLst/>
              <a:gdLst/>
              <a:ahLst/>
              <a:rect l="l" t="t" r="r" b="b"/>
              <a:pathLst>
                <a:path w="3048" h="2940">
                  <a:moveTo>
                    <a:pt x="0" y="490"/>
                  </a:moveTo>
                  <a:lnTo>
                    <a:pt x="5" y="418"/>
                  </a:lnTo>
                  <a:lnTo>
                    <a:pt x="21" y="348"/>
                  </a:lnTo>
                  <a:lnTo>
                    <a:pt x="46" y="283"/>
                  </a:lnTo>
                  <a:lnTo>
                    <a:pt x="79" y="223"/>
                  </a:lnTo>
                  <a:lnTo>
                    <a:pt x="120" y="169"/>
                  </a:lnTo>
                  <a:lnTo>
                    <a:pt x="169" y="120"/>
                  </a:lnTo>
                  <a:lnTo>
                    <a:pt x="223" y="79"/>
                  </a:lnTo>
                  <a:lnTo>
                    <a:pt x="283" y="46"/>
                  </a:lnTo>
                  <a:lnTo>
                    <a:pt x="348" y="21"/>
                  </a:lnTo>
                  <a:lnTo>
                    <a:pt x="418" y="5"/>
                  </a:lnTo>
                  <a:lnTo>
                    <a:pt x="490" y="0"/>
                  </a:lnTo>
                  <a:lnTo>
                    <a:pt x="2558" y="0"/>
                  </a:lnTo>
                  <a:lnTo>
                    <a:pt x="2630" y="5"/>
                  </a:lnTo>
                  <a:lnTo>
                    <a:pt x="2700" y="21"/>
                  </a:lnTo>
                  <a:lnTo>
                    <a:pt x="2765" y="46"/>
                  </a:lnTo>
                  <a:lnTo>
                    <a:pt x="2825" y="79"/>
                  </a:lnTo>
                  <a:lnTo>
                    <a:pt x="2879" y="120"/>
                  </a:lnTo>
                  <a:lnTo>
                    <a:pt x="2928" y="169"/>
                  </a:lnTo>
                  <a:lnTo>
                    <a:pt x="2969" y="223"/>
                  </a:lnTo>
                  <a:lnTo>
                    <a:pt x="3002" y="283"/>
                  </a:lnTo>
                  <a:lnTo>
                    <a:pt x="3027" y="348"/>
                  </a:lnTo>
                  <a:lnTo>
                    <a:pt x="3043" y="418"/>
                  </a:lnTo>
                  <a:lnTo>
                    <a:pt x="3048" y="490"/>
                  </a:lnTo>
                  <a:lnTo>
                    <a:pt x="3048" y="2450"/>
                  </a:lnTo>
                  <a:lnTo>
                    <a:pt x="3043" y="2522"/>
                  </a:lnTo>
                  <a:lnTo>
                    <a:pt x="3027" y="2592"/>
                  </a:lnTo>
                  <a:lnTo>
                    <a:pt x="3002" y="2657"/>
                  </a:lnTo>
                  <a:lnTo>
                    <a:pt x="2969" y="2717"/>
                  </a:lnTo>
                  <a:lnTo>
                    <a:pt x="2928" y="2771"/>
                  </a:lnTo>
                  <a:lnTo>
                    <a:pt x="2879" y="2820"/>
                  </a:lnTo>
                  <a:lnTo>
                    <a:pt x="2825" y="2861"/>
                  </a:lnTo>
                  <a:lnTo>
                    <a:pt x="2765" y="2894"/>
                  </a:lnTo>
                  <a:lnTo>
                    <a:pt x="2700" y="2919"/>
                  </a:lnTo>
                  <a:lnTo>
                    <a:pt x="2630" y="2935"/>
                  </a:lnTo>
                  <a:lnTo>
                    <a:pt x="2558" y="2940"/>
                  </a:lnTo>
                  <a:lnTo>
                    <a:pt x="490" y="2940"/>
                  </a:lnTo>
                  <a:lnTo>
                    <a:pt x="418" y="2935"/>
                  </a:lnTo>
                  <a:lnTo>
                    <a:pt x="348" y="2919"/>
                  </a:lnTo>
                  <a:lnTo>
                    <a:pt x="283" y="2894"/>
                  </a:lnTo>
                  <a:lnTo>
                    <a:pt x="223" y="2861"/>
                  </a:lnTo>
                  <a:lnTo>
                    <a:pt x="169" y="2820"/>
                  </a:lnTo>
                  <a:lnTo>
                    <a:pt x="120" y="2771"/>
                  </a:lnTo>
                  <a:lnTo>
                    <a:pt x="79" y="2717"/>
                  </a:lnTo>
                  <a:lnTo>
                    <a:pt x="46" y="2657"/>
                  </a:lnTo>
                  <a:lnTo>
                    <a:pt x="21" y="2592"/>
                  </a:lnTo>
                  <a:lnTo>
                    <a:pt x="5" y="2522"/>
                  </a:lnTo>
                  <a:lnTo>
                    <a:pt x="0" y="2450"/>
                  </a:lnTo>
                  <a:lnTo>
                    <a:pt x="0" y="490"/>
                  </a:lnTo>
                  <a:close/>
                </a:path>
              </a:pathLst>
            </a:custGeom>
            <a:noFill/>
            <a:ln w="25560">
              <a:solidFill>
                <a:srgbClr val="385d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17" descr="C:\Users\Pavel\Desktop\звуки З-Зь\a56b7ce261756e651d2bdc5aaf36e67d.jpg"/>
            <p:cNvPicPr/>
            <p:nvPr/>
          </p:nvPicPr>
          <p:blipFill>
            <a:blip r:embed="rId1"/>
            <a:stretch/>
          </p:blipFill>
          <p:spPr>
            <a:xfrm>
              <a:off x="628200" y="777960"/>
              <a:ext cx="1585080" cy="1218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8" name="Рисунок 1" descr=""/>
          <p:cNvPicPr/>
          <p:nvPr/>
        </p:nvPicPr>
        <p:blipFill>
          <a:blip r:embed="rId2"/>
          <a:stretch/>
        </p:blipFill>
        <p:spPr>
          <a:xfrm>
            <a:off x="250920" y="895320"/>
            <a:ext cx="2813040" cy="1741680"/>
          </a:xfrm>
          <a:prstGeom prst="rect">
            <a:avLst/>
          </a:prstGeom>
          <a:ln w="0">
            <a:noFill/>
          </a:ln>
        </p:spPr>
      </p:pic>
      <p:grpSp>
        <p:nvGrpSpPr>
          <p:cNvPr id="99" name="Group 18"/>
          <p:cNvGrpSpPr/>
          <p:nvPr/>
        </p:nvGrpSpPr>
        <p:grpSpPr>
          <a:xfrm>
            <a:off x="3486240" y="431640"/>
            <a:ext cx="1960560" cy="1892520"/>
            <a:chOff x="3486240" y="431640"/>
            <a:chExt cx="1960560" cy="1892520"/>
          </a:xfrm>
        </p:grpSpPr>
        <p:sp>
          <p:nvSpPr>
            <p:cNvPr id="100" name="Freeform 19"/>
            <p:cNvSpPr/>
            <p:nvPr/>
          </p:nvSpPr>
          <p:spPr>
            <a:xfrm>
              <a:off x="3486240" y="431640"/>
              <a:ext cx="1960560" cy="1892520"/>
            </a:xfrm>
            <a:custGeom>
              <a:avLst/>
              <a:gdLst/>
              <a:ahLst/>
              <a:rect l="l" t="t" r="r" b="b"/>
              <a:pathLst>
                <a:path w="3048" h="2940">
                  <a:moveTo>
                    <a:pt x="0" y="490"/>
                  </a:moveTo>
                  <a:lnTo>
                    <a:pt x="5" y="418"/>
                  </a:lnTo>
                  <a:lnTo>
                    <a:pt x="21" y="348"/>
                  </a:lnTo>
                  <a:lnTo>
                    <a:pt x="46" y="283"/>
                  </a:lnTo>
                  <a:lnTo>
                    <a:pt x="79" y="223"/>
                  </a:lnTo>
                  <a:lnTo>
                    <a:pt x="120" y="169"/>
                  </a:lnTo>
                  <a:lnTo>
                    <a:pt x="169" y="120"/>
                  </a:lnTo>
                  <a:lnTo>
                    <a:pt x="223" y="79"/>
                  </a:lnTo>
                  <a:lnTo>
                    <a:pt x="283" y="46"/>
                  </a:lnTo>
                  <a:lnTo>
                    <a:pt x="348" y="21"/>
                  </a:lnTo>
                  <a:lnTo>
                    <a:pt x="418" y="5"/>
                  </a:lnTo>
                  <a:lnTo>
                    <a:pt x="490" y="0"/>
                  </a:lnTo>
                  <a:lnTo>
                    <a:pt x="2558" y="0"/>
                  </a:lnTo>
                  <a:lnTo>
                    <a:pt x="2630" y="5"/>
                  </a:lnTo>
                  <a:lnTo>
                    <a:pt x="2700" y="21"/>
                  </a:lnTo>
                  <a:lnTo>
                    <a:pt x="2765" y="46"/>
                  </a:lnTo>
                  <a:lnTo>
                    <a:pt x="2825" y="79"/>
                  </a:lnTo>
                  <a:lnTo>
                    <a:pt x="2879" y="120"/>
                  </a:lnTo>
                  <a:lnTo>
                    <a:pt x="2928" y="169"/>
                  </a:lnTo>
                  <a:lnTo>
                    <a:pt x="2969" y="223"/>
                  </a:lnTo>
                  <a:lnTo>
                    <a:pt x="3002" y="283"/>
                  </a:lnTo>
                  <a:lnTo>
                    <a:pt x="3027" y="348"/>
                  </a:lnTo>
                  <a:lnTo>
                    <a:pt x="3043" y="418"/>
                  </a:lnTo>
                  <a:lnTo>
                    <a:pt x="3048" y="490"/>
                  </a:lnTo>
                  <a:lnTo>
                    <a:pt x="3048" y="2450"/>
                  </a:lnTo>
                  <a:lnTo>
                    <a:pt x="3043" y="2522"/>
                  </a:lnTo>
                  <a:lnTo>
                    <a:pt x="3027" y="2592"/>
                  </a:lnTo>
                  <a:lnTo>
                    <a:pt x="3002" y="2657"/>
                  </a:lnTo>
                  <a:lnTo>
                    <a:pt x="2969" y="2717"/>
                  </a:lnTo>
                  <a:lnTo>
                    <a:pt x="2928" y="2771"/>
                  </a:lnTo>
                  <a:lnTo>
                    <a:pt x="2879" y="2820"/>
                  </a:lnTo>
                  <a:lnTo>
                    <a:pt x="2825" y="2861"/>
                  </a:lnTo>
                  <a:lnTo>
                    <a:pt x="2765" y="2894"/>
                  </a:lnTo>
                  <a:lnTo>
                    <a:pt x="2700" y="2919"/>
                  </a:lnTo>
                  <a:lnTo>
                    <a:pt x="2630" y="2935"/>
                  </a:lnTo>
                  <a:lnTo>
                    <a:pt x="2558" y="2940"/>
                  </a:lnTo>
                  <a:lnTo>
                    <a:pt x="490" y="2940"/>
                  </a:lnTo>
                  <a:lnTo>
                    <a:pt x="418" y="2935"/>
                  </a:lnTo>
                  <a:lnTo>
                    <a:pt x="348" y="2919"/>
                  </a:lnTo>
                  <a:lnTo>
                    <a:pt x="283" y="2894"/>
                  </a:lnTo>
                  <a:lnTo>
                    <a:pt x="223" y="2861"/>
                  </a:lnTo>
                  <a:lnTo>
                    <a:pt x="169" y="2820"/>
                  </a:lnTo>
                  <a:lnTo>
                    <a:pt x="120" y="2771"/>
                  </a:lnTo>
                  <a:lnTo>
                    <a:pt x="79" y="2717"/>
                  </a:lnTo>
                  <a:lnTo>
                    <a:pt x="46" y="2657"/>
                  </a:lnTo>
                  <a:lnTo>
                    <a:pt x="21" y="2592"/>
                  </a:lnTo>
                  <a:lnTo>
                    <a:pt x="5" y="2522"/>
                  </a:lnTo>
                  <a:lnTo>
                    <a:pt x="0" y="2450"/>
                  </a:lnTo>
                  <a:lnTo>
                    <a:pt x="0" y="490"/>
                  </a:lnTo>
                  <a:close/>
                </a:path>
              </a:pathLst>
            </a:custGeom>
            <a:noFill/>
            <a:ln w="25560">
              <a:solidFill>
                <a:srgbClr val="385d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20" descr="C:\Users\Pavel\Desktop\d45b4127d5ddde6814cdc803483bbc6e.jpg"/>
            <p:cNvPicPr/>
            <p:nvPr/>
          </p:nvPicPr>
          <p:blipFill>
            <a:blip r:embed="rId3"/>
            <a:stretch/>
          </p:blipFill>
          <p:spPr>
            <a:xfrm>
              <a:off x="3638520" y="564840"/>
              <a:ext cx="1643040" cy="164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" name="Рисунок 2" descr=""/>
          <p:cNvPicPr/>
          <p:nvPr/>
        </p:nvPicPr>
        <p:blipFill>
          <a:blip r:embed="rId4"/>
          <a:stretch/>
        </p:blipFill>
        <p:spPr>
          <a:xfrm>
            <a:off x="3443400" y="874800"/>
            <a:ext cx="2746440" cy="16984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21"/>
          <p:cNvGrpSpPr/>
          <p:nvPr/>
        </p:nvGrpSpPr>
        <p:grpSpPr>
          <a:xfrm>
            <a:off x="6664320" y="480960"/>
            <a:ext cx="1960560" cy="1892520"/>
            <a:chOff x="6664320" y="480960"/>
            <a:chExt cx="1960560" cy="1892520"/>
          </a:xfrm>
        </p:grpSpPr>
        <p:sp>
          <p:nvSpPr>
            <p:cNvPr id="105" name="Freeform 23"/>
            <p:cNvSpPr/>
            <p:nvPr/>
          </p:nvSpPr>
          <p:spPr>
            <a:xfrm>
              <a:off x="6664320" y="480960"/>
              <a:ext cx="1960560" cy="1892520"/>
            </a:xfrm>
            <a:custGeom>
              <a:avLst/>
              <a:gdLst/>
              <a:ahLst/>
              <a:rect l="l" t="t" r="r" b="b"/>
              <a:pathLst>
                <a:path w="3048" h="2940">
                  <a:moveTo>
                    <a:pt x="0" y="490"/>
                  </a:moveTo>
                  <a:lnTo>
                    <a:pt x="5" y="418"/>
                  </a:lnTo>
                  <a:lnTo>
                    <a:pt x="21" y="348"/>
                  </a:lnTo>
                  <a:lnTo>
                    <a:pt x="46" y="283"/>
                  </a:lnTo>
                  <a:lnTo>
                    <a:pt x="79" y="223"/>
                  </a:lnTo>
                  <a:lnTo>
                    <a:pt x="120" y="169"/>
                  </a:lnTo>
                  <a:lnTo>
                    <a:pt x="169" y="120"/>
                  </a:lnTo>
                  <a:lnTo>
                    <a:pt x="223" y="79"/>
                  </a:lnTo>
                  <a:lnTo>
                    <a:pt x="283" y="46"/>
                  </a:lnTo>
                  <a:lnTo>
                    <a:pt x="348" y="21"/>
                  </a:lnTo>
                  <a:lnTo>
                    <a:pt x="418" y="5"/>
                  </a:lnTo>
                  <a:lnTo>
                    <a:pt x="490" y="0"/>
                  </a:lnTo>
                  <a:lnTo>
                    <a:pt x="2558" y="0"/>
                  </a:lnTo>
                  <a:lnTo>
                    <a:pt x="2630" y="5"/>
                  </a:lnTo>
                  <a:lnTo>
                    <a:pt x="2700" y="21"/>
                  </a:lnTo>
                  <a:lnTo>
                    <a:pt x="2765" y="46"/>
                  </a:lnTo>
                  <a:lnTo>
                    <a:pt x="2825" y="79"/>
                  </a:lnTo>
                  <a:lnTo>
                    <a:pt x="2879" y="120"/>
                  </a:lnTo>
                  <a:lnTo>
                    <a:pt x="2928" y="169"/>
                  </a:lnTo>
                  <a:lnTo>
                    <a:pt x="2969" y="223"/>
                  </a:lnTo>
                  <a:lnTo>
                    <a:pt x="3002" y="283"/>
                  </a:lnTo>
                  <a:lnTo>
                    <a:pt x="3027" y="348"/>
                  </a:lnTo>
                  <a:lnTo>
                    <a:pt x="3043" y="418"/>
                  </a:lnTo>
                  <a:lnTo>
                    <a:pt x="3048" y="490"/>
                  </a:lnTo>
                  <a:lnTo>
                    <a:pt x="3048" y="2450"/>
                  </a:lnTo>
                  <a:lnTo>
                    <a:pt x="3043" y="2522"/>
                  </a:lnTo>
                  <a:lnTo>
                    <a:pt x="3027" y="2592"/>
                  </a:lnTo>
                  <a:lnTo>
                    <a:pt x="3002" y="2657"/>
                  </a:lnTo>
                  <a:lnTo>
                    <a:pt x="2969" y="2717"/>
                  </a:lnTo>
                  <a:lnTo>
                    <a:pt x="2928" y="2771"/>
                  </a:lnTo>
                  <a:lnTo>
                    <a:pt x="2879" y="2820"/>
                  </a:lnTo>
                  <a:lnTo>
                    <a:pt x="2825" y="2861"/>
                  </a:lnTo>
                  <a:lnTo>
                    <a:pt x="2765" y="2894"/>
                  </a:lnTo>
                  <a:lnTo>
                    <a:pt x="2700" y="2919"/>
                  </a:lnTo>
                  <a:lnTo>
                    <a:pt x="2630" y="2935"/>
                  </a:lnTo>
                  <a:lnTo>
                    <a:pt x="2558" y="2940"/>
                  </a:lnTo>
                  <a:lnTo>
                    <a:pt x="490" y="2940"/>
                  </a:lnTo>
                  <a:lnTo>
                    <a:pt x="418" y="2935"/>
                  </a:lnTo>
                  <a:lnTo>
                    <a:pt x="348" y="2919"/>
                  </a:lnTo>
                  <a:lnTo>
                    <a:pt x="283" y="2894"/>
                  </a:lnTo>
                  <a:lnTo>
                    <a:pt x="223" y="2861"/>
                  </a:lnTo>
                  <a:lnTo>
                    <a:pt x="169" y="2820"/>
                  </a:lnTo>
                  <a:lnTo>
                    <a:pt x="120" y="2771"/>
                  </a:lnTo>
                  <a:lnTo>
                    <a:pt x="79" y="2717"/>
                  </a:lnTo>
                  <a:lnTo>
                    <a:pt x="46" y="2657"/>
                  </a:lnTo>
                  <a:lnTo>
                    <a:pt x="21" y="2592"/>
                  </a:lnTo>
                  <a:lnTo>
                    <a:pt x="5" y="2522"/>
                  </a:lnTo>
                  <a:lnTo>
                    <a:pt x="0" y="2450"/>
                  </a:lnTo>
                  <a:lnTo>
                    <a:pt x="0" y="490"/>
                  </a:lnTo>
                  <a:close/>
                </a:path>
              </a:pathLst>
            </a:custGeom>
            <a:noFill/>
            <a:ln w="25560">
              <a:solidFill>
                <a:srgbClr val="385d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22" descr=""/>
            <p:cNvPicPr/>
            <p:nvPr/>
          </p:nvPicPr>
          <p:blipFill>
            <a:blip r:embed="rId5"/>
            <a:stretch/>
          </p:blipFill>
          <p:spPr>
            <a:xfrm>
              <a:off x="6863040" y="554040"/>
              <a:ext cx="1532160" cy="1745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" name="Рисунок 23" descr=""/>
          <p:cNvPicPr/>
          <p:nvPr/>
        </p:nvPicPr>
        <p:blipFill>
          <a:blip r:embed="rId6"/>
          <a:stretch/>
        </p:blipFill>
        <p:spPr>
          <a:xfrm>
            <a:off x="6329520" y="915840"/>
            <a:ext cx="2630160" cy="1629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25"/>
          <p:cNvGrpSpPr/>
          <p:nvPr/>
        </p:nvGrpSpPr>
        <p:grpSpPr>
          <a:xfrm>
            <a:off x="3498840" y="4025880"/>
            <a:ext cx="1960560" cy="1892160"/>
            <a:chOff x="3498840" y="4025880"/>
            <a:chExt cx="1960560" cy="1892160"/>
          </a:xfrm>
        </p:grpSpPr>
        <p:sp>
          <p:nvSpPr>
            <p:cNvPr id="109" name="Freeform 26"/>
            <p:cNvSpPr/>
            <p:nvPr/>
          </p:nvSpPr>
          <p:spPr>
            <a:xfrm>
              <a:off x="3498840" y="4025880"/>
              <a:ext cx="1960560" cy="1892160"/>
            </a:xfrm>
            <a:custGeom>
              <a:avLst/>
              <a:gdLst/>
              <a:ahLst/>
              <a:rect l="l" t="t" r="r" b="b"/>
              <a:pathLst>
                <a:path w="3048" h="2940">
                  <a:moveTo>
                    <a:pt x="0" y="490"/>
                  </a:moveTo>
                  <a:lnTo>
                    <a:pt x="5" y="418"/>
                  </a:lnTo>
                  <a:lnTo>
                    <a:pt x="21" y="349"/>
                  </a:lnTo>
                  <a:lnTo>
                    <a:pt x="46" y="284"/>
                  </a:lnTo>
                  <a:lnTo>
                    <a:pt x="79" y="223"/>
                  </a:lnTo>
                  <a:lnTo>
                    <a:pt x="120" y="169"/>
                  </a:lnTo>
                  <a:lnTo>
                    <a:pt x="169" y="120"/>
                  </a:lnTo>
                  <a:lnTo>
                    <a:pt x="223" y="79"/>
                  </a:lnTo>
                  <a:lnTo>
                    <a:pt x="283" y="46"/>
                  </a:lnTo>
                  <a:lnTo>
                    <a:pt x="348" y="21"/>
                  </a:lnTo>
                  <a:lnTo>
                    <a:pt x="418" y="6"/>
                  </a:lnTo>
                  <a:lnTo>
                    <a:pt x="490" y="0"/>
                  </a:lnTo>
                  <a:lnTo>
                    <a:pt x="2558" y="0"/>
                  </a:lnTo>
                  <a:lnTo>
                    <a:pt x="2630" y="6"/>
                  </a:lnTo>
                  <a:lnTo>
                    <a:pt x="2700" y="21"/>
                  </a:lnTo>
                  <a:lnTo>
                    <a:pt x="2765" y="46"/>
                  </a:lnTo>
                  <a:lnTo>
                    <a:pt x="2825" y="79"/>
                  </a:lnTo>
                  <a:lnTo>
                    <a:pt x="2879" y="120"/>
                  </a:lnTo>
                  <a:lnTo>
                    <a:pt x="2928" y="169"/>
                  </a:lnTo>
                  <a:lnTo>
                    <a:pt x="2969" y="223"/>
                  </a:lnTo>
                  <a:lnTo>
                    <a:pt x="3002" y="284"/>
                  </a:lnTo>
                  <a:lnTo>
                    <a:pt x="3027" y="349"/>
                  </a:lnTo>
                  <a:lnTo>
                    <a:pt x="3043" y="418"/>
                  </a:lnTo>
                  <a:lnTo>
                    <a:pt x="3048" y="490"/>
                  </a:lnTo>
                  <a:lnTo>
                    <a:pt x="3048" y="2450"/>
                  </a:lnTo>
                  <a:lnTo>
                    <a:pt x="3043" y="2523"/>
                  </a:lnTo>
                  <a:lnTo>
                    <a:pt x="3027" y="2592"/>
                  </a:lnTo>
                  <a:lnTo>
                    <a:pt x="3002" y="2657"/>
                  </a:lnTo>
                  <a:lnTo>
                    <a:pt x="2969" y="2717"/>
                  </a:lnTo>
                  <a:lnTo>
                    <a:pt x="2928" y="2772"/>
                  </a:lnTo>
                  <a:lnTo>
                    <a:pt x="2879" y="2820"/>
                  </a:lnTo>
                  <a:lnTo>
                    <a:pt x="2825" y="2861"/>
                  </a:lnTo>
                  <a:lnTo>
                    <a:pt x="2765" y="2895"/>
                  </a:lnTo>
                  <a:lnTo>
                    <a:pt x="2700" y="2919"/>
                  </a:lnTo>
                  <a:lnTo>
                    <a:pt x="2630" y="2935"/>
                  </a:lnTo>
                  <a:lnTo>
                    <a:pt x="2558" y="2940"/>
                  </a:lnTo>
                  <a:lnTo>
                    <a:pt x="490" y="2940"/>
                  </a:lnTo>
                  <a:lnTo>
                    <a:pt x="418" y="2935"/>
                  </a:lnTo>
                  <a:lnTo>
                    <a:pt x="348" y="2919"/>
                  </a:lnTo>
                  <a:lnTo>
                    <a:pt x="283" y="2895"/>
                  </a:lnTo>
                  <a:lnTo>
                    <a:pt x="223" y="2861"/>
                  </a:lnTo>
                  <a:lnTo>
                    <a:pt x="169" y="2820"/>
                  </a:lnTo>
                  <a:lnTo>
                    <a:pt x="120" y="2772"/>
                  </a:lnTo>
                  <a:lnTo>
                    <a:pt x="79" y="2717"/>
                  </a:lnTo>
                  <a:lnTo>
                    <a:pt x="46" y="2657"/>
                  </a:lnTo>
                  <a:lnTo>
                    <a:pt x="21" y="2592"/>
                  </a:lnTo>
                  <a:lnTo>
                    <a:pt x="5" y="2523"/>
                  </a:lnTo>
                  <a:lnTo>
                    <a:pt x="0" y="2450"/>
                  </a:lnTo>
                  <a:lnTo>
                    <a:pt x="0" y="490"/>
                  </a:lnTo>
                  <a:close/>
                </a:path>
              </a:pathLst>
            </a:custGeom>
            <a:noFill/>
            <a:ln w="25560">
              <a:solidFill>
                <a:srgbClr val="385d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Picture 27" descr="C:\Users\Pavel\Desktop\автоматизация звука с\в словах со слогом са сы\1024px-Emojione_1F9C0.svg.png"/>
            <p:cNvPicPr/>
            <p:nvPr/>
          </p:nvPicPr>
          <p:blipFill>
            <a:blip r:embed="rId7"/>
            <a:stretch/>
          </p:blipFill>
          <p:spPr>
            <a:xfrm>
              <a:off x="3650040" y="4354560"/>
              <a:ext cx="1665360" cy="1253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1" name="Рисунок 5" descr=""/>
          <p:cNvPicPr/>
          <p:nvPr/>
        </p:nvPicPr>
        <p:blipFill>
          <a:blip r:embed="rId8"/>
          <a:stretch/>
        </p:blipFill>
        <p:spPr>
          <a:xfrm>
            <a:off x="3265560" y="4653000"/>
            <a:ext cx="2630520" cy="162720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28"/>
          <p:cNvGrpSpPr/>
          <p:nvPr/>
        </p:nvGrpSpPr>
        <p:grpSpPr>
          <a:xfrm>
            <a:off x="6648480" y="4025880"/>
            <a:ext cx="1962000" cy="1892160"/>
            <a:chOff x="6648480" y="4025880"/>
            <a:chExt cx="1962000" cy="1892160"/>
          </a:xfrm>
        </p:grpSpPr>
        <p:sp>
          <p:nvSpPr>
            <p:cNvPr id="113" name="Freeform 29"/>
            <p:cNvSpPr/>
            <p:nvPr/>
          </p:nvSpPr>
          <p:spPr>
            <a:xfrm>
              <a:off x="6648480" y="4025880"/>
              <a:ext cx="1962000" cy="1892160"/>
            </a:xfrm>
            <a:custGeom>
              <a:avLst/>
              <a:gdLst/>
              <a:ahLst/>
              <a:rect l="l" t="t" r="r" b="b"/>
              <a:pathLst>
                <a:path w="3048" h="2940">
                  <a:moveTo>
                    <a:pt x="0" y="490"/>
                  </a:moveTo>
                  <a:lnTo>
                    <a:pt x="5" y="418"/>
                  </a:lnTo>
                  <a:lnTo>
                    <a:pt x="21" y="349"/>
                  </a:lnTo>
                  <a:lnTo>
                    <a:pt x="46" y="284"/>
                  </a:lnTo>
                  <a:lnTo>
                    <a:pt x="79" y="223"/>
                  </a:lnTo>
                  <a:lnTo>
                    <a:pt x="120" y="169"/>
                  </a:lnTo>
                  <a:lnTo>
                    <a:pt x="169" y="120"/>
                  </a:lnTo>
                  <a:lnTo>
                    <a:pt x="223" y="79"/>
                  </a:lnTo>
                  <a:lnTo>
                    <a:pt x="283" y="46"/>
                  </a:lnTo>
                  <a:lnTo>
                    <a:pt x="348" y="21"/>
                  </a:lnTo>
                  <a:lnTo>
                    <a:pt x="418" y="6"/>
                  </a:lnTo>
                  <a:lnTo>
                    <a:pt x="490" y="0"/>
                  </a:lnTo>
                  <a:lnTo>
                    <a:pt x="2558" y="0"/>
                  </a:lnTo>
                  <a:lnTo>
                    <a:pt x="2630" y="6"/>
                  </a:lnTo>
                  <a:lnTo>
                    <a:pt x="2700" y="21"/>
                  </a:lnTo>
                  <a:lnTo>
                    <a:pt x="2765" y="46"/>
                  </a:lnTo>
                  <a:lnTo>
                    <a:pt x="2825" y="79"/>
                  </a:lnTo>
                  <a:lnTo>
                    <a:pt x="2879" y="120"/>
                  </a:lnTo>
                  <a:lnTo>
                    <a:pt x="2928" y="169"/>
                  </a:lnTo>
                  <a:lnTo>
                    <a:pt x="2969" y="223"/>
                  </a:lnTo>
                  <a:lnTo>
                    <a:pt x="3002" y="284"/>
                  </a:lnTo>
                  <a:lnTo>
                    <a:pt x="3027" y="349"/>
                  </a:lnTo>
                  <a:lnTo>
                    <a:pt x="3043" y="418"/>
                  </a:lnTo>
                  <a:lnTo>
                    <a:pt x="3048" y="490"/>
                  </a:lnTo>
                  <a:lnTo>
                    <a:pt x="3048" y="2450"/>
                  </a:lnTo>
                  <a:lnTo>
                    <a:pt x="3043" y="2523"/>
                  </a:lnTo>
                  <a:lnTo>
                    <a:pt x="3027" y="2592"/>
                  </a:lnTo>
                  <a:lnTo>
                    <a:pt x="3002" y="2657"/>
                  </a:lnTo>
                  <a:lnTo>
                    <a:pt x="2969" y="2717"/>
                  </a:lnTo>
                  <a:lnTo>
                    <a:pt x="2928" y="2772"/>
                  </a:lnTo>
                  <a:lnTo>
                    <a:pt x="2879" y="2820"/>
                  </a:lnTo>
                  <a:lnTo>
                    <a:pt x="2825" y="2861"/>
                  </a:lnTo>
                  <a:lnTo>
                    <a:pt x="2765" y="2895"/>
                  </a:lnTo>
                  <a:lnTo>
                    <a:pt x="2700" y="2919"/>
                  </a:lnTo>
                  <a:lnTo>
                    <a:pt x="2630" y="2935"/>
                  </a:lnTo>
                  <a:lnTo>
                    <a:pt x="2558" y="2940"/>
                  </a:lnTo>
                  <a:lnTo>
                    <a:pt x="490" y="2940"/>
                  </a:lnTo>
                  <a:lnTo>
                    <a:pt x="418" y="2935"/>
                  </a:lnTo>
                  <a:lnTo>
                    <a:pt x="348" y="2919"/>
                  </a:lnTo>
                  <a:lnTo>
                    <a:pt x="283" y="2895"/>
                  </a:lnTo>
                  <a:lnTo>
                    <a:pt x="223" y="2861"/>
                  </a:lnTo>
                  <a:lnTo>
                    <a:pt x="169" y="2820"/>
                  </a:lnTo>
                  <a:lnTo>
                    <a:pt x="120" y="2772"/>
                  </a:lnTo>
                  <a:lnTo>
                    <a:pt x="79" y="2717"/>
                  </a:lnTo>
                  <a:lnTo>
                    <a:pt x="46" y="2657"/>
                  </a:lnTo>
                  <a:lnTo>
                    <a:pt x="21" y="2592"/>
                  </a:lnTo>
                  <a:lnTo>
                    <a:pt x="5" y="2523"/>
                  </a:lnTo>
                  <a:lnTo>
                    <a:pt x="0" y="2450"/>
                  </a:lnTo>
                  <a:lnTo>
                    <a:pt x="0" y="490"/>
                  </a:lnTo>
                  <a:close/>
                </a:path>
              </a:pathLst>
            </a:custGeom>
            <a:noFill/>
            <a:ln w="25560">
              <a:solidFill>
                <a:srgbClr val="385d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Picture 30" descr="C:\Users\Pavel\Desktop\05413d10af09b7bc44f41a32a2f4a0c3.jpg"/>
            <p:cNvPicPr/>
            <p:nvPr/>
          </p:nvPicPr>
          <p:blipFill>
            <a:blip r:embed="rId9"/>
            <a:stretch/>
          </p:blipFill>
          <p:spPr>
            <a:xfrm>
              <a:off x="6744960" y="4106160"/>
              <a:ext cx="1745280" cy="1673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5" name="Рисунок 6" descr=""/>
          <p:cNvPicPr/>
          <p:nvPr/>
        </p:nvPicPr>
        <p:blipFill>
          <a:blip r:embed="rId10"/>
          <a:stretch/>
        </p:blipFill>
        <p:spPr>
          <a:xfrm>
            <a:off x="6372360" y="4508640"/>
            <a:ext cx="2630520" cy="162864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34"/>
          <p:cNvGrpSpPr/>
          <p:nvPr/>
        </p:nvGrpSpPr>
        <p:grpSpPr>
          <a:xfrm>
            <a:off x="222120" y="4000680"/>
            <a:ext cx="1960560" cy="1893600"/>
            <a:chOff x="222120" y="4000680"/>
            <a:chExt cx="1960560" cy="1893600"/>
          </a:xfrm>
        </p:grpSpPr>
        <p:sp>
          <p:nvSpPr>
            <p:cNvPr id="117" name="Freeform 35"/>
            <p:cNvSpPr/>
            <p:nvPr/>
          </p:nvSpPr>
          <p:spPr>
            <a:xfrm>
              <a:off x="222120" y="4000680"/>
              <a:ext cx="1960560" cy="1827000"/>
            </a:xfrm>
            <a:custGeom>
              <a:avLst/>
              <a:gdLst/>
              <a:ahLst/>
              <a:rect l="l" t="t" r="r" b="b"/>
              <a:pathLst>
                <a:path w="3048" h="2941">
                  <a:moveTo>
                    <a:pt x="0" y="490"/>
                  </a:moveTo>
                  <a:lnTo>
                    <a:pt x="5" y="418"/>
                  </a:lnTo>
                  <a:lnTo>
                    <a:pt x="21" y="349"/>
                  </a:lnTo>
                  <a:lnTo>
                    <a:pt x="46" y="284"/>
                  </a:lnTo>
                  <a:lnTo>
                    <a:pt x="79" y="223"/>
                  </a:lnTo>
                  <a:lnTo>
                    <a:pt x="120" y="169"/>
                  </a:lnTo>
                  <a:lnTo>
                    <a:pt x="169" y="120"/>
                  </a:lnTo>
                  <a:lnTo>
                    <a:pt x="223" y="79"/>
                  </a:lnTo>
                  <a:lnTo>
                    <a:pt x="283" y="46"/>
                  </a:lnTo>
                  <a:lnTo>
                    <a:pt x="348" y="21"/>
                  </a:lnTo>
                  <a:lnTo>
                    <a:pt x="418" y="6"/>
                  </a:lnTo>
                  <a:lnTo>
                    <a:pt x="490" y="0"/>
                  </a:lnTo>
                  <a:lnTo>
                    <a:pt x="2558" y="0"/>
                  </a:lnTo>
                  <a:lnTo>
                    <a:pt x="2630" y="6"/>
                  </a:lnTo>
                  <a:lnTo>
                    <a:pt x="2700" y="21"/>
                  </a:lnTo>
                  <a:lnTo>
                    <a:pt x="2765" y="46"/>
                  </a:lnTo>
                  <a:lnTo>
                    <a:pt x="2825" y="79"/>
                  </a:lnTo>
                  <a:lnTo>
                    <a:pt x="2879" y="120"/>
                  </a:lnTo>
                  <a:lnTo>
                    <a:pt x="2928" y="169"/>
                  </a:lnTo>
                  <a:lnTo>
                    <a:pt x="2969" y="223"/>
                  </a:lnTo>
                  <a:lnTo>
                    <a:pt x="3002" y="284"/>
                  </a:lnTo>
                  <a:lnTo>
                    <a:pt x="3027" y="349"/>
                  </a:lnTo>
                  <a:lnTo>
                    <a:pt x="3043" y="418"/>
                  </a:lnTo>
                  <a:lnTo>
                    <a:pt x="3048" y="490"/>
                  </a:lnTo>
                  <a:lnTo>
                    <a:pt x="3048" y="2450"/>
                  </a:lnTo>
                  <a:lnTo>
                    <a:pt x="3043" y="2523"/>
                  </a:lnTo>
                  <a:lnTo>
                    <a:pt x="3027" y="2592"/>
                  </a:lnTo>
                  <a:lnTo>
                    <a:pt x="3002" y="2657"/>
                  </a:lnTo>
                  <a:lnTo>
                    <a:pt x="2969" y="2717"/>
                  </a:lnTo>
                  <a:lnTo>
                    <a:pt x="2928" y="2772"/>
                  </a:lnTo>
                  <a:lnTo>
                    <a:pt x="2879" y="2820"/>
                  </a:lnTo>
                  <a:lnTo>
                    <a:pt x="2825" y="2861"/>
                  </a:lnTo>
                  <a:lnTo>
                    <a:pt x="2765" y="2895"/>
                  </a:lnTo>
                  <a:lnTo>
                    <a:pt x="2700" y="2920"/>
                  </a:lnTo>
                  <a:lnTo>
                    <a:pt x="2630" y="2935"/>
                  </a:lnTo>
                  <a:lnTo>
                    <a:pt x="2558" y="2940"/>
                  </a:lnTo>
                  <a:lnTo>
                    <a:pt x="490" y="2940"/>
                  </a:lnTo>
                  <a:lnTo>
                    <a:pt x="418" y="2935"/>
                  </a:lnTo>
                  <a:lnTo>
                    <a:pt x="348" y="2920"/>
                  </a:lnTo>
                  <a:lnTo>
                    <a:pt x="283" y="2895"/>
                  </a:lnTo>
                  <a:lnTo>
                    <a:pt x="223" y="2861"/>
                  </a:lnTo>
                  <a:lnTo>
                    <a:pt x="169" y="2820"/>
                  </a:lnTo>
                  <a:lnTo>
                    <a:pt x="120" y="2772"/>
                  </a:lnTo>
                  <a:lnTo>
                    <a:pt x="79" y="2717"/>
                  </a:lnTo>
                  <a:lnTo>
                    <a:pt x="46" y="2657"/>
                  </a:lnTo>
                  <a:lnTo>
                    <a:pt x="21" y="2592"/>
                  </a:lnTo>
                  <a:lnTo>
                    <a:pt x="5" y="2523"/>
                  </a:lnTo>
                  <a:lnTo>
                    <a:pt x="0" y="2450"/>
                  </a:lnTo>
                  <a:lnTo>
                    <a:pt x="0" y="490"/>
                  </a:lnTo>
                  <a:close/>
                </a:path>
              </a:pathLst>
            </a:custGeom>
            <a:noFill/>
            <a:ln w="25560">
              <a:solidFill>
                <a:srgbClr val="385d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36" descr="C:\Users\Pavel\Desktop\звук р\4f2b65adac16ebd3fb5014c9e7440fda.jpg"/>
            <p:cNvPicPr/>
            <p:nvPr/>
          </p:nvPicPr>
          <p:blipFill>
            <a:blip r:embed="rId11"/>
            <a:stretch/>
          </p:blipFill>
          <p:spPr>
            <a:xfrm>
              <a:off x="323640" y="4016880"/>
              <a:ext cx="1778400" cy="1877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9" name="Рисунок 4" descr=""/>
          <p:cNvPicPr/>
          <p:nvPr/>
        </p:nvPicPr>
        <p:blipFill>
          <a:blip r:embed="rId12"/>
          <a:stretch/>
        </p:blipFill>
        <p:spPr>
          <a:xfrm>
            <a:off x="395280" y="4508640"/>
            <a:ext cx="263052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1"/>
          <p:cNvSpPr/>
          <p:nvPr/>
        </p:nvSpPr>
        <p:spPr>
          <a:xfrm>
            <a:off x="826920" y="765000"/>
            <a:ext cx="7993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«Назови ласков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Цель: формирование умения образовы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уменьшительно-ласкатель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8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существитель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9" descr="https://www.ukazka.ru/img/g/uk879380.jpg"/>
          <p:cNvPicPr/>
          <p:nvPr/>
        </p:nvPicPr>
        <p:blipFill>
          <a:blip r:embed="rId1"/>
          <a:stretch/>
        </p:blipFill>
        <p:spPr>
          <a:xfrm rot="19612800">
            <a:off x="888840" y="517680"/>
            <a:ext cx="1354320" cy="1704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https://ct-prom.ru/assets/images/products/367/vedro-13l-czvetnoe.jpg"/>
          <p:cNvPicPr/>
          <p:nvPr/>
        </p:nvPicPr>
        <p:blipFill>
          <a:blip r:embed="rId2"/>
          <a:stretch/>
        </p:blipFill>
        <p:spPr>
          <a:xfrm>
            <a:off x="3635280" y="260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https://flomaster.club/uploads/posts/2022-08/1660775024_15-flomaster-club-p-vertolet-samolet-kartinki-dlya-detei-krasi-31.png"/>
          <p:cNvPicPr/>
          <p:nvPr/>
        </p:nvPicPr>
        <p:blipFill>
          <a:blip r:embed="rId3"/>
          <a:stretch/>
        </p:blipFill>
        <p:spPr>
          <a:xfrm rot="20419800">
            <a:off x="230040" y="2846160"/>
            <a:ext cx="4175280" cy="2087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https://i.pinimg.com/originals/11/a3/93/11a3934e820ad282045501737014e700.png"/>
          <p:cNvPicPr/>
          <p:nvPr/>
        </p:nvPicPr>
        <p:blipFill>
          <a:blip r:embed="rId4"/>
          <a:stretch/>
        </p:blipFill>
        <p:spPr>
          <a:xfrm>
            <a:off x="5364000" y="2997360"/>
            <a:ext cx="3189600" cy="2016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9" descr="https://papik.pro/uploads/posts/2022-01/1641314877_6-papik-pro-p-grabli-vektornii-risunok-6.png"/>
          <p:cNvPicPr/>
          <p:nvPr/>
        </p:nvPicPr>
        <p:blipFill>
          <a:blip r:embed="rId5"/>
          <a:stretch/>
        </p:blipFill>
        <p:spPr>
          <a:xfrm>
            <a:off x="5940360" y="577800"/>
            <a:ext cx="2476440" cy="1803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3" descr="https://trivianottrivial.files.wordpress.com/2018/03/crocodile-cartoon-vector-1741769.jpg"/>
          <p:cNvPicPr/>
          <p:nvPr/>
        </p:nvPicPr>
        <p:blipFill>
          <a:blip r:embed="rId6"/>
          <a:stretch/>
        </p:blipFill>
        <p:spPr>
          <a:xfrm rot="20647800">
            <a:off x="2354040" y="4979880"/>
            <a:ext cx="350820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1332000" y="256536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6b6bcf"/>
                </a:solidFill>
                <a:latin typeface="Arial"/>
              </a:rPr>
              <a:t>ОТЛИЧНО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Tatyana</cp:lastModifiedBy>
  <dcterms:modified xsi:type="dcterms:W3CDTF">2023-02-14T15:30:20Z</dcterms:modified>
  <cp:revision>40</cp:revision>
  <dc:subject/>
  <dc:title>Слайд 1</dc:title>
</cp:coreProperties>
</file>