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D3E-B5D7-45E3-9A1C-B66D8B62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080-C040-45AA-B08A-9D958AFE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D19-BDF7-42C1-A294-42ADA674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F5A-A3B3-4DC3-BDDF-18532AED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FC22-396D-45A6-8682-C4E989B3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F057-DF35-41E0-BD21-039759DA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5E00-F43A-4236-BED9-E0906EED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AA6C-0FC0-46B1-875B-74E49B81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0F71-D68E-4D1D-9E93-161A3D34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3655-4B2E-427C-B316-0DAA0365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9AF8-9B39-4EEC-82E9-8A510C6B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92B-8A2A-49A1-B037-4412D470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617D-42BA-44D5-A7E7-35BD5806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DFA0-BC02-4C79-8A66-1A01FFC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31DA-9DAA-4278-B1D3-558B3492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B992-D30F-4775-ABEC-34D88C09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1DE1-871B-40F8-B5FC-07E5C08B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27805-D64F-4489-823C-5F241ECC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34E4-055A-40CB-877A-01D482E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1266-CA4A-444F-A7FD-8BADD347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6531-AE8B-47DA-AF32-6C2E331A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D3F5-00DE-4A32-B922-24CB3A84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17E-9A07-4121-9A60-1C4F9240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7762-6542-4BDC-835E-3ABEC5E9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5478-73B4-4C15-8598-87B077EE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54CA-290E-44CB-847C-A939E6F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53BF-1705-4636-8C35-71510595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908E-91BF-417D-A458-A1470187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891E5-B0B6-4704-A6C3-6BF8F0ED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B9A2-74BA-4C56-832B-71E88CC9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2306-1E89-4E14-A752-51B6E1A9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7FEE-FF58-4B55-8BB4-69F73BB8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B5247-D42A-4B3F-9847-CB05DA4D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071-2263-40C3-A258-6482644A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3829-5D62-41EB-BDD9-50B00155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EAFB1-8DF3-4612-9932-8DE295AE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92E9-7A86-4C7E-BB2E-6A778FB0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C013C-3236-4EE4-A2FD-D3AC9560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805E-3CA9-4BB2-8CF0-E6B3136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C9DB-A199-4F8C-8426-4C351B66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0B180-7939-4FA9-9FCA-217DBE36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F2C42-1067-4D8B-B107-BBBDDDC2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73C0-3DF1-4E33-86A9-527A26C6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6E4-7E15-4D9B-950C-0D1E827E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B06-767C-472E-82AF-C16C0F9F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5A5-AEEB-4C14-80CB-D5FEE1B4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489-82F3-423A-8773-10520F4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B9B-085F-417C-B1FA-2BDFA71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F536-0C73-4EE4-9878-A0A5C35AB47C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B1A8-4D63-41D9-9577-7184B733B524}" type="slidenum"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51BC-41C9-4025-A87A-32721447248D}" type="slidenum"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042C-EB35-493D-898C-5800A4D0346A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2" descr=""/>
          <p:cNvPicPr/>
          <p:nvPr/>
        </p:nvPicPr>
        <p:blipFill>
          <a:blip r:embed="rId1"/>
          <a:stretch/>
        </p:blipFill>
        <p:spPr>
          <a:xfrm>
            <a:off x="1609560" y="1828800"/>
            <a:ext cx="6424920" cy="1773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571680" y="2928960"/>
            <a:ext cx="4404960" cy="3303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-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2"/>
          <p:cNvSpPr/>
          <p:nvPr/>
        </p:nvSpPr>
        <p:spPr>
          <a:xfrm>
            <a:off x="984960" y="214200"/>
            <a:ext cx="66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376b"/>
                </a:solidFill>
                <a:latin typeface="Constanti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Tastes differ</a:t>
            </a:r>
            <a:r>
              <a:rPr b="0" lang="en-US" sz="1800" spc="-1" strike="noStrike">
                <a:solidFill>
                  <a:srgbClr val="f8c891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-88920" y="37861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astes differ</a:t>
            </a:r>
            <a:r>
              <a:rPr b="0" lang="en-US" sz="2000" spc="-1" strike="noStrike">
                <a:solidFill>
                  <a:srgbClr val="f8c891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020680" y="1285920"/>
            <a:ext cx="107064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5806800" y="1285920"/>
            <a:ext cx="1149840" cy="4117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429840" cy="76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154520" y="1357200"/>
            <a:ext cx="617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Have she done he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On every summer we go to the se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Do Tom know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n Monday we have 5 les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Nick not slept well las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Give to me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here they w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 very love my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9.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Football my favourit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214720" y="1285920"/>
            <a:ext cx="45720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a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she done he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___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Every summer we go to the se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oe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om know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n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Monday we have 5 les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Nick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d not sleep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ell las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Giv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___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e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d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he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go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 love my mothe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very much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Football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is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y favourit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1584360"/>
            <a:ext cx="7729560" cy="1152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6" descr=""/>
          <p:cNvPicPr/>
          <p:nvPr/>
        </p:nvPicPr>
        <p:blipFill>
          <a:blip r:embed="rId3"/>
          <a:stretch/>
        </p:blipFill>
        <p:spPr>
          <a:xfrm>
            <a:off x="3193920" y="2871720"/>
            <a:ext cx="24321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Дмитрий</cp:lastModifiedBy>
  <dcterms:modified xsi:type="dcterms:W3CDTF">2016-05-05T15:45:55Z</dcterms:modified>
  <cp:revision>38</cp:revision>
  <dc:subject/>
  <dc:title>Слайд 1</dc:title>
</cp:coreProperties>
</file>