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419F8BB-F25D-4E95-A877-732D1C6FBE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D30A744-99A0-4F29-8049-8CC39A0497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8090EF0-A893-437D-B7CA-E636BACFE03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D8AC146-3197-4A94-B749-FCCF84D6B94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00B289-A77F-4C76-BCDB-777BDDDB95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711131-164B-44E4-8A14-6C13E3619F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2D0C50-68B3-4B0F-9644-FB8A4373D5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9F9592-7524-4061-AFCF-D38171A8F9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88E55A-8FA1-4CD2-9142-F16E1C80BF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EE28C2-F3D0-4F8F-BE6C-3F30F8F153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0C4BCB-2979-40D1-B61C-529529CC55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BA4593C-199A-4759-A73D-CFEDF175EA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4BBDDB-1184-4D2E-BC63-7B6ABAD9F2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856E17-BA1E-4FB4-AD0C-D1B5342A88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653C10-8CD0-4B39-AC5D-5611E9B94D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1AEBC1-1310-4E2F-83CB-97B03353B7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2756AF-D95F-4BF8-9067-FA6DB6DC5C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E9CC548-00E3-4754-8E33-C6088C28EB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9294AA2-8420-465A-8031-1BF23CFA23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152D50B-9304-4385-9C45-722EA56912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6A0A1F4-47EF-4A7B-8097-EADAD6A596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4A09AC-84AE-4815-AE22-5B86F7136D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DF3270A-9DD8-4000-83E3-3D4BC1CC4A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D9A964-DD6E-4BCD-9D23-D2A8133A343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EF680-27A8-446B-9FF6-1610D963B91B}"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A2B50-A934-4986-97CD-320A733C24E6}"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know-house.ru/walls2/ris/03/kam-01.gif"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know-house.ru/walls2/ris/03/kam-02.gif" TargetMode="Externa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ffffff"/>
                </a:solidFill>
                <a:latin typeface="Arial"/>
              </a:rPr>
              <a:t>Правила разрезки и элементы кладки </a:t>
            </a:r>
            <a:endParaRPr b="0" lang="en-US" sz="5000" spc="-1" strike="noStrike">
              <a:solidFill>
                <a:srgbClr val="000000"/>
              </a:solidFill>
              <a:latin typeface="Arial"/>
            </a:endParaRPr>
          </a:p>
        </p:txBody>
      </p:sp>
      <p:sp>
        <p:nvSpPr>
          <p:cNvPr id="107" name="Rectangle 5"/>
          <p:cNvSpPr/>
          <p:nvPr/>
        </p:nvSpPr>
        <p:spPr>
          <a:xfrm>
            <a:off x="3419640" y="4365720"/>
            <a:ext cx="5499000" cy="11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323640" y="691920"/>
            <a:ext cx="8435880" cy="5761080"/>
          </a:xfrm>
          <a:prstGeom prst="rect">
            <a:avLst/>
          </a:prstGeom>
          <a:noFill/>
          <a:ln w="0">
            <a:noFill/>
          </a:ln>
        </p:spPr>
        <p:txBody>
          <a:bodyPr anchor="t">
            <a:normAutofit/>
          </a:bodyPr>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Продольные и поперечные вертикальные швы в кладке не должны быть сквозными по высоте конструкции, как показано на рис. 3, а, так как при этом вся кладка окажется расчлененной на отдельные столбики. Каждый такой столбик очень неустойчив, поэтому швы в кладке под влиянием вертикальной нагрузки могут расшириться, а сама кладка разрушиться. </a:t>
            </a:r>
            <a:endParaRPr b="0" lang="en-US" sz="36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457200" y="620640"/>
            <a:ext cx="8229600" cy="59040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тобы этого не произошло, продольные и поперечные швы в смежных горизонтальных рядах кладки нужно перевязывать камнями вышележащего ряда (рис. 3, б), сдвигая их на четверть или половину длины по отношению к камням нижележащего ряда. Тогда напряжения в кладке, возникающие под воздействием какой либо нагрузки Р, будут передаваться не на отдельный столбик сечением в один камень, а на всю кладку.</a:t>
            </a:r>
            <a:endParaRPr b="0" lang="en-US" sz="32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468360" y="5157360"/>
            <a:ext cx="8229600" cy="136692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ис. 3</a:t>
            </a:r>
            <a:br>
              <a:rPr sz="2400"/>
            </a:br>
            <a:r>
              <a:rPr b="0" lang="ru-RU" sz="2400" spc="-1" strike="noStrike">
                <a:solidFill>
                  <a:srgbClr val="000000"/>
                </a:solidFill>
                <a:latin typeface="Arial"/>
              </a:rPr>
              <a:t>Кирпичная кладка :</a:t>
            </a:r>
            <a:br>
              <a:rPr sz="2400"/>
            </a:br>
            <a:r>
              <a:rPr b="0" lang="ru-RU" sz="2400" spc="-1" strike="noStrike">
                <a:solidFill>
                  <a:srgbClr val="000000"/>
                </a:solidFill>
                <a:latin typeface="Arial"/>
              </a:rPr>
              <a:t>а - без перевязки швов,</a:t>
            </a:r>
            <a:br>
              <a:rPr sz="2400"/>
            </a:br>
            <a:r>
              <a:rPr b="0" lang="ru-RU" sz="2400" spc="-1" strike="noStrike">
                <a:solidFill>
                  <a:srgbClr val="000000"/>
                </a:solidFill>
                <a:latin typeface="Arial"/>
              </a:rPr>
              <a:t>б - с перевязкой швов </a:t>
            </a:r>
            <a:endParaRPr b="0" lang="en-US" sz="2400" spc="-1" strike="noStrike">
              <a:solidFill>
                <a:srgbClr val="000000"/>
              </a:solidFill>
              <a:latin typeface="Arial"/>
            </a:endParaRPr>
          </a:p>
        </p:txBody>
      </p:sp>
      <p:pic>
        <p:nvPicPr>
          <p:cNvPr id="123" name="Picture 4" descr="Рис 3. Кирпичная кладка, а - без перевязки швов, б - с перевязкой  швов"/>
          <p:cNvPicPr/>
          <p:nvPr/>
        </p:nvPicPr>
        <p:blipFill>
          <a:blip r:embed="rId1"/>
          <a:srcRect l="0" t="58642" r="0" b="0"/>
          <a:stretch/>
        </p:blipFill>
        <p:spPr>
          <a:xfrm>
            <a:off x="4932360" y="692280"/>
            <a:ext cx="3892680" cy="3744720"/>
          </a:xfrm>
          <a:prstGeom prst="rect">
            <a:avLst/>
          </a:prstGeom>
          <a:ln w="0">
            <a:noFill/>
          </a:ln>
        </p:spPr>
      </p:pic>
      <p:pic>
        <p:nvPicPr>
          <p:cNvPr id="124" name="Picture 5" descr="Рис 3. Кирпичная кладка, а - без перевязки швов, б - с перевязкой  швов"/>
          <p:cNvPicPr/>
          <p:nvPr/>
        </p:nvPicPr>
        <p:blipFill>
          <a:blip r:embed="rId2"/>
          <a:srcRect l="0" t="0" r="0" b="39835"/>
          <a:stretch/>
        </p:blipFill>
        <p:spPr>
          <a:xfrm>
            <a:off x="324000" y="692280"/>
            <a:ext cx="4254480" cy="3960720"/>
          </a:xfrm>
          <a:prstGeom prst="rect">
            <a:avLst/>
          </a:prstGeom>
          <a:ln w="0">
            <a:noFill/>
          </a:ln>
        </p:spPr>
      </p:pic>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57200" y="836280"/>
            <a:ext cx="8229600" cy="52894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тсюда </a:t>
            </a:r>
            <a:r>
              <a:rPr b="1" lang="ru-RU" sz="3200" spc="-1" strike="noStrike">
                <a:solidFill>
                  <a:srgbClr val="000000"/>
                </a:solidFill>
                <a:latin typeface="Arial"/>
              </a:rPr>
              <a:t>третье правило</a:t>
            </a:r>
            <a:r>
              <a:rPr b="0" lang="ru-RU" sz="3200" spc="-1" strike="noStrike">
                <a:solidFill>
                  <a:srgbClr val="000000"/>
                </a:solidFill>
                <a:latin typeface="Arial"/>
              </a:rPr>
              <a:t> разрезки: плоскости вертикальной разрезки каждого ряда кладки должны быть сдвинуты относительно плоскости смежных с ним рядов, т. е. под каждым вертикальным швом данного ряда кладки нужно располагать не швы, а камни. </a:t>
            </a:r>
            <a:endParaRPr b="0" lang="en-US" sz="32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Элементы кладки</a:t>
            </a:r>
            <a:endParaRPr b="0" lang="en-US" sz="4400" spc="-1" strike="noStrike">
              <a:solidFill>
                <a:srgbClr val="000000"/>
              </a:solidFill>
              <a:latin typeface="Arial"/>
            </a:endParaRPr>
          </a:p>
        </p:txBody>
      </p:sp>
      <p:sp>
        <p:nvSpPr>
          <p:cNvPr id="127" name="PlaceHolder 2"/>
          <p:cNvSpPr>
            <a:spLocks noGrp="1"/>
          </p:cNvSpPr>
          <p:nvPr>
            <p:ph/>
          </p:nvPr>
        </p:nvSpPr>
        <p:spPr>
          <a:xfrm>
            <a:off x="457200" y="1980720"/>
            <a:ext cx="8229600" cy="3886200"/>
          </a:xfrm>
          <a:prstGeom prst="rect">
            <a:avLst/>
          </a:prstGeom>
          <a:noFill/>
          <a:ln w="0">
            <a:noFill/>
          </a:ln>
        </p:spPr>
        <p:txBody>
          <a:bodyPr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Элементы кладки.</a:t>
            </a:r>
            <a:r>
              <a:rPr b="0" lang="ru-RU" sz="3200" spc="-1" strike="noStrike">
                <a:solidFill>
                  <a:srgbClr val="000000"/>
                </a:solidFill>
                <a:latin typeface="Arial"/>
              </a:rPr>
              <a:t> Кирпич и камень (рис. 4, а) прямоугольной формы имеют по шесть граней. Две противоположные (наибольшие) грани 2, которыми кирпич (камень) кладут на раствор, называют постелями (нижней и верхней); длинные боковые грани 3 кирпича (камня) - ложками; короткие - тычками. </a:t>
            </a:r>
            <a:endParaRPr b="0" lang="en-US" sz="32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5076720" y="333000"/>
            <a:ext cx="3610080" cy="626436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ис. 4</a:t>
            </a:r>
            <a:br>
              <a:rPr sz="2400"/>
            </a:br>
            <a:r>
              <a:rPr b="0" lang="ru-RU" sz="2400" spc="-1" strike="noStrike">
                <a:solidFill>
                  <a:srgbClr val="000000"/>
                </a:solidFill>
                <a:latin typeface="Arial"/>
              </a:rPr>
              <a:t>Камень и кирпич (а), кладка (б):</a:t>
            </a:r>
            <a:br>
              <a:rPr sz="2400"/>
            </a:br>
            <a:r>
              <a:rPr b="0" lang="ru-RU" sz="2400" spc="-1" strike="noStrike">
                <a:solidFill>
                  <a:srgbClr val="000000"/>
                </a:solidFill>
                <a:latin typeface="Arial"/>
              </a:rPr>
              <a:t>1 - тычок,</a:t>
            </a:r>
            <a:br>
              <a:rPr sz="2400"/>
            </a:br>
            <a:r>
              <a:rPr b="0" lang="ru-RU" sz="2400" spc="-1" strike="noStrike">
                <a:solidFill>
                  <a:srgbClr val="000000"/>
                </a:solidFill>
                <a:latin typeface="Arial"/>
              </a:rPr>
              <a:t>2 - постель,</a:t>
            </a:r>
            <a:br>
              <a:rPr sz="2400"/>
            </a:br>
            <a:r>
              <a:rPr b="0" lang="ru-RU" sz="2400" spc="-1" strike="noStrike">
                <a:solidFill>
                  <a:srgbClr val="000000"/>
                </a:solidFill>
                <a:latin typeface="Arial"/>
              </a:rPr>
              <a:t>3 - ложок,</a:t>
            </a:r>
            <a:br>
              <a:rPr sz="2400"/>
            </a:br>
            <a:r>
              <a:rPr b="0" lang="ru-RU" sz="2400" spc="-1" strike="noStrike">
                <a:solidFill>
                  <a:srgbClr val="000000"/>
                </a:solidFill>
                <a:latin typeface="Arial"/>
              </a:rPr>
              <a:t>4 - наружная верста,</a:t>
            </a:r>
            <a:br>
              <a:rPr sz="2400"/>
            </a:br>
            <a:r>
              <a:rPr b="0" lang="ru-RU" sz="2400" spc="-1" strike="noStrike">
                <a:solidFill>
                  <a:srgbClr val="000000"/>
                </a:solidFill>
                <a:latin typeface="Arial"/>
              </a:rPr>
              <a:t>5 - внутренняя верста,</a:t>
            </a:r>
            <a:br>
              <a:rPr sz="2400"/>
            </a:br>
            <a:r>
              <a:rPr b="0" lang="ru-RU" sz="2400" spc="-1" strike="noStrike">
                <a:solidFill>
                  <a:srgbClr val="000000"/>
                </a:solidFill>
                <a:latin typeface="Arial"/>
              </a:rPr>
              <a:t>6 - забутка,</a:t>
            </a:r>
            <a:br>
              <a:rPr sz="2400"/>
            </a:br>
            <a:r>
              <a:rPr b="0" lang="ru-RU" sz="2400" spc="-1" strike="noStrike">
                <a:solidFill>
                  <a:srgbClr val="000000"/>
                </a:solidFill>
                <a:latin typeface="Arial"/>
              </a:rPr>
              <a:t>7 - второй ряд,</a:t>
            </a:r>
            <a:br>
              <a:rPr sz="2400"/>
            </a:br>
            <a:r>
              <a:rPr b="0" lang="ru-RU" sz="2400" spc="-1" strike="noStrike">
                <a:solidFill>
                  <a:srgbClr val="000000"/>
                </a:solidFill>
                <a:latin typeface="Arial"/>
              </a:rPr>
              <a:t>8 - первый ряд,</a:t>
            </a:r>
            <a:br>
              <a:rPr sz="2400"/>
            </a:br>
            <a:r>
              <a:rPr b="0" lang="ru-RU" sz="2400" spc="-1" strike="noStrike">
                <a:solidFill>
                  <a:srgbClr val="000000"/>
                </a:solidFill>
                <a:latin typeface="Arial"/>
              </a:rPr>
              <a:t>9 - горизонтальный шов (постель),</a:t>
            </a:r>
            <a:br>
              <a:rPr sz="2400"/>
            </a:br>
            <a:r>
              <a:rPr b="0" lang="ru-RU" sz="2400" spc="-1" strike="noStrike">
                <a:solidFill>
                  <a:srgbClr val="000000"/>
                </a:solidFill>
                <a:latin typeface="Arial"/>
              </a:rPr>
              <a:t>10 - вертикальный продольный шов,</a:t>
            </a:r>
            <a:br>
              <a:rPr sz="2400"/>
            </a:br>
            <a:r>
              <a:rPr b="0" lang="ru-RU" sz="2400" spc="-1" strike="noStrike">
                <a:solidFill>
                  <a:srgbClr val="000000"/>
                </a:solidFill>
                <a:latin typeface="Arial"/>
              </a:rPr>
              <a:t>11 - вертикальный поперечный шов,</a:t>
            </a:r>
            <a:br>
              <a:rPr sz="2400"/>
            </a:br>
            <a:r>
              <a:rPr b="0" lang="ru-RU" sz="2400" spc="-1" strike="noStrike">
                <a:solidFill>
                  <a:srgbClr val="000000"/>
                </a:solidFill>
                <a:latin typeface="Arial"/>
              </a:rPr>
              <a:t>12 - фасад,</a:t>
            </a:r>
            <a:br>
              <a:rPr sz="2400"/>
            </a:br>
            <a:r>
              <a:rPr b="0" lang="ru-RU" sz="2400" spc="-1" strike="noStrike">
                <a:solidFill>
                  <a:srgbClr val="000000"/>
                </a:solidFill>
                <a:latin typeface="Arial"/>
              </a:rPr>
              <a:t>13 - тычковый ряд,</a:t>
            </a:r>
            <a:br>
              <a:rPr sz="2400"/>
            </a:br>
            <a:r>
              <a:rPr b="0" lang="ru-RU" sz="2400" spc="-1" strike="noStrike">
                <a:solidFill>
                  <a:srgbClr val="000000"/>
                </a:solidFill>
                <a:latin typeface="Arial"/>
              </a:rPr>
              <a:t>14 - ложковый ряд </a:t>
            </a:r>
            <a:endParaRPr b="0" lang="en-US" sz="2400" spc="-1" strike="noStrike">
              <a:solidFill>
                <a:srgbClr val="000000"/>
              </a:solidFill>
              <a:latin typeface="Arial"/>
            </a:endParaRPr>
          </a:p>
        </p:txBody>
      </p:sp>
      <p:pic>
        <p:nvPicPr>
          <p:cNvPr id="129" name="Picture 4" descr="Рис 4. Камень и кирпич (а), кладка (6): 1 - тычок, 2 - постель, 3 - ложок, 4 - наружная верста, 5 - внутренняя верста, 6 - забутка, 7 - второй ряд, 8 - первый ряд, 9 - горизонтальный шов (постель), 10 - вертикальный продольный шов, 11 - вертикальный поперечный шов, 12 - фасад, t3 - тычковый ряд, 14 - ложковый РЯД"/>
          <p:cNvPicPr/>
          <p:nvPr/>
        </p:nvPicPr>
        <p:blipFill>
          <a:blip r:embed="rId1"/>
          <a:stretch/>
        </p:blipFill>
        <p:spPr>
          <a:xfrm>
            <a:off x="293760" y="189000"/>
            <a:ext cx="4456080" cy="6335640"/>
          </a:xfrm>
          <a:prstGeom prst="rect">
            <a:avLst/>
          </a:prstGeom>
          <a:ln w="0">
            <a:noFill/>
          </a:ln>
        </p:spPr>
      </p:pic>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7200" y="549360"/>
            <a:ext cx="8229600" cy="59752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ладку (рис. 4, б) выполняют горизонтальными рядами, укладывая камни плашмя, т. е. на постель. В отдельных случаях, например, при кладке карнизов или тонких (в 1/4 кирпича) перегородок, кирпич укладывают на ребро, т. е. на боковую ложковую грань.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райние ряды 4, 5 кирпичей или камней в ряду кладки, образующие поверхность кладки, называют верстами. Версты бывают наружные, расположенные со стороны фасада здания, и внутренние - с внутренней стороны помещения. </a:t>
            </a:r>
            <a:endParaRPr b="0" lang="en-US" sz="28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457200" y="475920"/>
            <a:ext cx="8229600" cy="597708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яд кладки из кирпичей, обращенных к наружной поверхности стены длинной боковой гранью, называют ложковым 14, а короткой гранью - тычковым 13. Кирпичи и камни, уложенные между наружной и внутренней верстами, называют забутовочными или забутовкой (забуткой) 6. </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ысота ряда кладки складывается из высоты камня (кирпича, и толщины горизонтальных швов, которая допускается в пределах 10... 15 мм, а средняя - в пределах этажа 12 мм. Толщина отдельных вертикальных швов допускается 8...15 мм, а средняя не должна превышать 10 мм. </a:t>
            </a:r>
            <a:endParaRPr b="0" lang="en-US" sz="28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457200" y="765000"/>
            <a:ext cx="8229600" cy="53611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ысота рядов кладки с учетом средней толщины шва (12 мм) должна составлять: для кладки из кирпича толщиной 65 мм - в среднем 77 мм, из утолщенного кирпича толщиной 88 мм - 100 мм.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Из кирпича толщиной 65 мм на 1 м кладки по высоте приходится 13 рядов, а из кирпича толщиной 88 мм - 10 рядов. </a:t>
            </a:r>
            <a:endParaRPr b="0" lang="en-US" sz="32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457200" y="549000"/>
            <a:ext cx="8229600" cy="60483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Ширину кладки стен, называемую обычно толщиной, делают кратной в 1/2 кирпича или камня: в 1 кирпич - 25 см, в 1 1/2 - 38 см, 2 - 51 см, в 2 1/2 кирпича - 64 см и т. д. Толщина стен (см) назначается с учетом толщины вертикальных швов в кладке. Перегородки в зданиях имеют толщину 1/2 или 1/4 кирпича, т. е. 12 или 6,5 см.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аменные стены зданий выкладывают сплошными или с проемами. Стены с проемами и с выступающими элементами могут иметь напуски, пояски, обрезы, уступы, пилястры. </a:t>
            </a:r>
            <a:endParaRPr b="0" lang="en-US" sz="28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457200" y="1557360"/>
            <a:ext cx="8229600" cy="496728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Действующим на кладку силам сопротивляется главным образом сам камень, так как раствор в кладке менее прочен, чем связанные им камни. При этом камни хорошо сопротивляются только сжимающим усилиям. Чтобы использовать это свойство каменных материалов и обеспечить правильную работу конструкции, необходимо камни в кладке располагать в соответствии с правилами разрезки. </a:t>
            </a:r>
            <a:endParaRPr b="0" lang="en-US" sz="3200" spc="-1" strike="noStrike">
              <a:solidFill>
                <a:srgbClr val="000000"/>
              </a:solidFill>
              <a:latin typeface="Arial"/>
            </a:endParaRPr>
          </a:p>
        </p:txBody>
      </p:sp>
      <p:sp>
        <p:nvSpPr>
          <p:cNvPr id="109" name="PlaceHolder 2"/>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равила разрезки</a:t>
            </a:r>
            <a:endParaRPr b="0" lang="en-US" sz="44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457200" y="549000"/>
            <a:ext cx="8229600" cy="557676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апуском (рис. 5, а) называют то место кладки, в котором очередной ее ряд расположен не в плоскости ранее уложенных кирпичей, а с выступом на лицевую поверхность. Напуски делают не более чем на одну треть длины кирпича в каждом ряду. Напуском нескольких рядов кладки образуют пояски, которыми отделяют на фасадах отдельные части здания по высоте, а также карнизы и другие конструктивные и архитектурные элементы. </a:t>
            </a:r>
            <a:endParaRPr b="0" lang="en-US" sz="32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57200" y="620280"/>
            <a:ext cx="8229600" cy="55054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брез кладки 1 (рис. 5, б) устраивают с отступом от лицевой поверхности очередного ряда кладки. Кладка стен выше обреза имеет меньшую толщину, чем до обреза. Обрез кладки делают при переходе от цоколя 5 к стене, при уменьшении толщины стен в верхних этажах многоэтажных зданий, при этом последний ряд кладки перед обрезом обязательно выкладывают тычками. </a:t>
            </a:r>
            <a:endParaRPr b="0" lang="en-US" sz="32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5580000" y="404280"/>
            <a:ext cx="3106800" cy="572148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ис. 5</a:t>
            </a:r>
            <a:br>
              <a:rPr sz="2800"/>
            </a:br>
            <a:r>
              <a:rPr b="0" lang="ru-RU" sz="2800" spc="-1" strike="noStrike">
                <a:solidFill>
                  <a:srgbClr val="000000"/>
                </a:solidFill>
                <a:latin typeface="Arial"/>
              </a:rPr>
              <a:t>Кладка карнизов (c) напуском кирпичей (а) и элементы стены кладки (б):</a:t>
            </a:r>
            <a:br>
              <a:rPr sz="2800"/>
            </a:br>
            <a:r>
              <a:rPr b="0" lang="ru-RU" sz="2800" spc="-1" strike="noStrike">
                <a:solidFill>
                  <a:srgbClr val="000000"/>
                </a:solidFill>
                <a:latin typeface="Arial"/>
              </a:rPr>
              <a:t>1 - обрез,</a:t>
            </a:r>
            <a:br>
              <a:rPr sz="2800"/>
            </a:br>
            <a:r>
              <a:rPr b="0" lang="ru-RU" sz="2800" spc="-1" strike="noStrike">
                <a:solidFill>
                  <a:srgbClr val="000000"/>
                </a:solidFill>
                <a:latin typeface="Arial"/>
              </a:rPr>
              <a:t>2 - пилястры,</a:t>
            </a:r>
            <a:br>
              <a:rPr sz="2800"/>
            </a:br>
            <a:r>
              <a:rPr b="0" lang="ru-RU" sz="2800" spc="-1" strike="noStrike">
                <a:solidFill>
                  <a:srgbClr val="000000"/>
                </a:solidFill>
                <a:latin typeface="Arial"/>
              </a:rPr>
              <a:t>3 - простенок,</a:t>
            </a:r>
            <a:br>
              <a:rPr sz="2800"/>
            </a:br>
            <a:r>
              <a:rPr b="0" lang="ru-RU" sz="2800" spc="-1" strike="noStrike">
                <a:solidFill>
                  <a:srgbClr val="000000"/>
                </a:solidFill>
                <a:latin typeface="Arial"/>
              </a:rPr>
              <a:t>4 - четверть,</a:t>
            </a:r>
            <a:br>
              <a:rPr sz="2800"/>
            </a:br>
            <a:r>
              <a:rPr b="0" lang="ru-RU" sz="2800" spc="-1" strike="noStrike">
                <a:solidFill>
                  <a:srgbClr val="000000"/>
                </a:solidFill>
                <a:latin typeface="Arial"/>
              </a:rPr>
              <a:t>5 - цоколь,</a:t>
            </a:r>
            <a:br>
              <a:rPr sz="2800"/>
            </a:br>
            <a:r>
              <a:rPr b="0" lang="ru-RU" sz="2800" spc="-1" strike="noStrike">
                <a:solidFill>
                  <a:srgbClr val="000000"/>
                </a:solidFill>
                <a:latin typeface="Arial"/>
              </a:rPr>
              <a:t>6 - уступ. </a:t>
            </a:r>
            <a:endParaRPr b="0" lang="en-US" sz="2800" spc="-1" strike="noStrike">
              <a:solidFill>
                <a:srgbClr val="000000"/>
              </a:solidFill>
              <a:latin typeface="Arial"/>
            </a:endParaRPr>
          </a:p>
        </p:txBody>
      </p:sp>
      <p:pic>
        <p:nvPicPr>
          <p:cNvPr id="137" name="Picture 4" descr="Рис. 5.Кладка  карнизов  с напуском кирпичей (а) и элементы стены кладки (6): 1 - обрез, 2 - пилястры, 3 - простенок, 4 - четверть, 5 - цоколь, 6 - уступ"/>
          <p:cNvPicPr/>
          <p:nvPr/>
        </p:nvPicPr>
        <p:blipFill>
          <a:blip r:embed="rId1"/>
          <a:srcRect l="0" t="0" r="0" b="34206"/>
          <a:stretch/>
        </p:blipFill>
        <p:spPr>
          <a:xfrm>
            <a:off x="755640" y="0"/>
            <a:ext cx="3487680" cy="4465800"/>
          </a:xfrm>
          <a:prstGeom prst="rect">
            <a:avLst/>
          </a:prstGeom>
          <a:ln w="0">
            <a:noFill/>
          </a:ln>
        </p:spPr>
      </p:pic>
      <p:pic>
        <p:nvPicPr>
          <p:cNvPr id="138" name="Picture 5" descr="Рис. 5.Кладка  карнизов  с напуском кирпичей (а) и элементы стены кладки (6): 1 - обрез, 2 - пилястры, 3 - простенок, 4 - четверть, 5 - цоколь, 6 - уступ"/>
          <p:cNvPicPr/>
          <p:nvPr/>
        </p:nvPicPr>
        <p:blipFill>
          <a:blip r:embed="rId2"/>
          <a:srcRect l="0" t="64882" r="0" b="0"/>
          <a:stretch/>
        </p:blipFill>
        <p:spPr>
          <a:xfrm>
            <a:off x="900000" y="4556160"/>
            <a:ext cx="3376800" cy="2301840"/>
          </a:xfrm>
          <a:prstGeom prst="rect">
            <a:avLst/>
          </a:prstGeom>
          <a:ln w="0">
            <a:noFill/>
          </a:ln>
        </p:spPr>
      </p:pic>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457200" y="765000"/>
            <a:ext cx="8229600" cy="53611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Уступом 6 кладки называют то место, где лицевая плоскость одной части стены смещена в ту или другую сторону от лицевой плоскости другой части.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илястры 2 - это части кладки, выступающие из лицевой плоскости в виде прямоугольных столбов, выкладываемых вперевязку с кладкой стены. </a:t>
            </a:r>
            <a:endParaRPr b="0" lang="en-US" sz="32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орозды в стене устраивают для размещения трубопроводов, электрических кабелей и прочих скрытых проводок. После монтажа этих проводок борозды заделывают заподлицо с плоскостью стены. Вертикальные борозды по ширине и глубине делают кратными половине кирпича (камня), горизонтальные - кратными одному ряду кладки по высоте, т. е. четверти кирпича (камня) и половине кирпича (камня) по глубине.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иши - это углубления в кладке стены, кратные половине кирпича (камня). В нишах располагают встроенные шкафы, приборы отопления, электрические и другие устройства. </a:t>
            </a:r>
            <a:endParaRPr b="0" lang="en-US" sz="28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457200" y="836280"/>
            <a:ext cx="8229600" cy="52894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аружные стены здания делают с оконными или дверными проемами. Кладку, расположенную между двумя проемами, называют простенком 3. Простенки бывают в виде простых прямоугольных столбов, а также столбов с четвертями для закрепления в них оконных и дверных блоков. Четверти 4 делают, выпуская из кладки наружные ложковые версты на длину четвертки и укладывая четвертки в тычковых верстах. </a:t>
            </a:r>
            <a:endParaRPr b="0" lang="en-US" sz="28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57200" y="836640"/>
            <a:ext cx="8229600" cy="56167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дним из элементов кладки являются штрабы, выкладываемые в местах временного перерыва кладки, так, чтобы при дальнейшем продолжении работ можно было обеспечить надежную перевязку новой части кладки с ранее возведенной. Штрабы делают убежными наклонными (рис. 6, а) и вертикальными (рис. 6, б, в). Убежная штраба по сравнению с вертикальной обеспечивает лучшую связь соединяемых частей стен. </a:t>
            </a:r>
            <a:endParaRPr b="0" lang="en-US" sz="32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457200" y="692280"/>
            <a:ext cx="8229600" cy="543384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 вертикальные штрабы для надежности соединения кладки закладывают стальную арматуру диаметром 8 мм через 2 м по высоте, в том числе в уровне каждого перекрытия. Убежными штрабами в виде небольших участков стен высотой до шести рядов выкладывают на наружной версте маяки, используемые для закрепления шнуров-причалок, либо по углам (рис. 6, г), либо на прямых участках стен (рис. 6, д) на расстоянии 10...12 м друг от друга. </a:t>
            </a:r>
            <a:endParaRPr b="0" lang="en-US" sz="28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68360" y="5300280"/>
            <a:ext cx="8229600" cy="132876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ис. 6</a:t>
            </a:r>
            <a:br>
              <a:rPr sz="2800"/>
            </a:br>
            <a:r>
              <a:rPr b="0" lang="ru-RU" sz="2800" spc="-1" strike="noStrike">
                <a:solidFill>
                  <a:srgbClr val="000000"/>
                </a:solidFill>
                <a:latin typeface="Arial"/>
              </a:rPr>
              <a:t>Штрабы: а, г, д - убежные,</a:t>
            </a:r>
            <a:br>
              <a:rPr sz="2800"/>
            </a:br>
            <a:r>
              <a:rPr b="0" lang="ru-RU" sz="2800" spc="-1" strike="noStrike">
                <a:solidFill>
                  <a:srgbClr val="000000"/>
                </a:solidFill>
                <a:latin typeface="Arial"/>
              </a:rPr>
              <a:t>б, в - вертикальные </a:t>
            </a:r>
            <a:endParaRPr b="0" lang="en-US" sz="2800" spc="-1" strike="noStrike">
              <a:solidFill>
                <a:srgbClr val="000000"/>
              </a:solidFill>
              <a:latin typeface="Arial"/>
            </a:endParaRPr>
          </a:p>
        </p:txBody>
      </p:sp>
      <p:pic>
        <p:nvPicPr>
          <p:cNvPr id="145" name="Picture 4" descr="Рис.  6.  Штрабы: а, г,  д - убежные,  б,  в - вертикальные"/>
          <p:cNvPicPr/>
          <p:nvPr/>
        </p:nvPicPr>
        <p:blipFill>
          <a:blip r:embed="rId1"/>
          <a:stretch/>
        </p:blipFill>
        <p:spPr>
          <a:xfrm>
            <a:off x="2278080" y="0"/>
            <a:ext cx="4851360" cy="5229360"/>
          </a:xfrm>
          <a:prstGeom prst="rect">
            <a:avLst/>
          </a:prstGeom>
          <a:ln w="0">
            <a:noFill/>
          </a:ln>
        </p:spPr>
      </p:pic>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писок используемой литературы</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Ищенко И.И. - Технология каменных работ и монтажных работ: Учебник для средн. проф.-техн. Училищ. - 2-е изд., и доп. - М.: Высш. Школа, 2006. 326 с.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8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500" spc="-1" strike="noStrike">
                <a:solidFill>
                  <a:srgbClr val="000000"/>
                </a:solidFill>
                <a:latin typeface="Arial"/>
              </a:rPr>
              <a:t>Список использованных материалов, Интернет-ресурсов</a:t>
            </a:r>
            <a:endParaRPr b="0" lang="en-US" sz="3500" spc="-1" strike="noStrike">
              <a:solidFill>
                <a:srgbClr val="000000"/>
              </a:solidFill>
              <a:latin typeface="Arial"/>
            </a:endParaRPr>
          </a:p>
          <a:p>
            <a:pPr marL="343080" indent="-343080">
              <a:spcBef>
                <a:spcPts val="8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http://www.kamenschik.com </a:t>
            </a:r>
            <a:r>
              <a:rPr b="0" lang="ru-RU" sz="3500" spc="-1" strike="noStrike" u="sng">
                <a:solidFill>
                  <a:srgbClr val="000000"/>
                </a:solidFill>
                <a:uFillTx/>
                <a:latin typeface="Arial"/>
              </a:rPr>
              <a:t>(источник заимствования иллюстраций)</a:t>
            </a:r>
            <a:endParaRPr b="0" lang="en-US" sz="3500" spc="-1" strike="noStrike">
              <a:solidFill>
                <a:srgbClr val="000000"/>
              </a:solidFill>
              <a:latin typeface="Arial"/>
            </a:endParaRPr>
          </a:p>
          <a:p>
            <a:pPr marL="34308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1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Для того чтобы избежать изгиба и скалывания, камни нужно укладывать друг на друга так, чтобы они соприкасались возможно большей площадью - наибольшими гранями.</a:t>
            </a:r>
            <a:endParaRPr b="0" lang="en-US" sz="32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57200" y="259920"/>
            <a:ext cx="8229600" cy="62643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Так, если камень А (рис. 1, а) при укладке на камень Б опирается только в двух точках, то под влиянием внешней нагрузки Р он может прогнуться и даже сломаться (рис. 1, б). Камень А может и не получить излома, но так как давление от него передается только в двух точках, то именно в них камни А и Б могут раздробиться. Отсюда ясно, что для равномерной передачи давления от одного камня другому необходимо, чтобы каждый из них опирался на нижележащий не в отдельных точках, а всей поверхностью граней (рис. 1, в), называемых постелями камней. </a:t>
            </a:r>
            <a:endParaRPr b="0" lang="en-US" sz="28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468360" y="4797000"/>
            <a:ext cx="8229600" cy="154476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ис. 1</a:t>
            </a:r>
            <a:br>
              <a:rPr sz="2400"/>
            </a:br>
            <a:r>
              <a:rPr b="0" lang="ru-RU" sz="2400" spc="-1" strike="noStrike">
                <a:solidFill>
                  <a:srgbClr val="000000"/>
                </a:solidFill>
                <a:latin typeface="Arial"/>
              </a:rPr>
              <a:t>Передача давления камнями (а, в) и излом камня (б):</a:t>
            </a:r>
            <a:br>
              <a:rPr sz="2400"/>
            </a:br>
            <a:r>
              <a:rPr b="0" lang="ru-RU" sz="2400" spc="-1" strike="noStrike">
                <a:solidFill>
                  <a:srgbClr val="000000"/>
                </a:solidFill>
                <a:latin typeface="Arial"/>
              </a:rPr>
              <a:t>а - в двух точках,</a:t>
            </a:r>
            <a:br>
              <a:rPr sz="2400"/>
            </a:br>
            <a:r>
              <a:rPr b="0" lang="ru-RU" sz="2400" spc="-1" strike="noStrike">
                <a:solidFill>
                  <a:srgbClr val="000000"/>
                </a:solidFill>
                <a:latin typeface="Arial"/>
              </a:rPr>
              <a:t>в - по всей плоскости соприкосновения </a:t>
            </a:r>
            <a:endParaRPr b="0" lang="en-US" sz="2400" spc="-1" strike="noStrike">
              <a:solidFill>
                <a:srgbClr val="000000"/>
              </a:solidFill>
              <a:latin typeface="Arial"/>
            </a:endParaRPr>
          </a:p>
        </p:txBody>
      </p:sp>
      <p:pic>
        <p:nvPicPr>
          <p:cNvPr id="114" name="Picture 4" descr="Рис.1 Передача давления камнями (а,в) и излом камня (б): а - в двух точках, в - по всей плоскости соприкосновения.">
            <a:hlinkClick r:id="rId1"/>
          </p:cNvPr>
          <p:cNvPicPr/>
          <p:nvPr/>
        </p:nvPicPr>
        <p:blipFill>
          <a:blip r:embed="rId2"/>
          <a:stretch/>
        </p:blipFill>
        <p:spPr>
          <a:xfrm>
            <a:off x="1619280" y="189000"/>
            <a:ext cx="6408720" cy="4316400"/>
          </a:xfrm>
          <a:prstGeom prst="rect">
            <a:avLst/>
          </a:prstGeom>
          <a:ln w="0">
            <a:noFill/>
          </a:ln>
        </p:spPr>
      </p:pic>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457200" y="404280"/>
            <a:ext cx="8229600" cy="61930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Из этого следует </a:t>
            </a:r>
            <a:r>
              <a:rPr b="1" lang="ru-RU" sz="3200" spc="-1" strike="noStrike">
                <a:solidFill>
                  <a:srgbClr val="000000"/>
                </a:solidFill>
                <a:latin typeface="Arial"/>
              </a:rPr>
              <a:t>первое правило</a:t>
            </a:r>
            <a:r>
              <a:rPr b="0" lang="ru-RU" sz="3200" spc="-1" strike="noStrike">
                <a:solidFill>
                  <a:srgbClr val="000000"/>
                </a:solidFill>
                <a:latin typeface="Arial"/>
              </a:rPr>
              <a:t> разрезки кладки: постели камней должны быть перпендикулярны силам, действующим на кладку, а камни в кладке должны располагаться рядами (слоями). В каждом ряду кладки камни укладывают так, чтобы не произошел их сдвиг. </a:t>
            </a:r>
            <a:endParaRPr b="0" lang="en-US" sz="32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Если боковые поверхности камней имеют наклон к горизонту (рис. 2), то такие камни в кладке представляют собой клинья. Клинообразные камни 3 будут стремиться раздвинуть камни 2 и 4. Во избежание этого необходимо, чтобы плоскости, разграничивающие одни камни от других, были перпендикулярны постелям. В то же время, если две боковые плоскости, разграничивающие камни, не будут перпендикулярны наружным поверхностям стен, а две другие боковые плоскости не будут перпендикулярны первым, то камни 1, например, имеющие острые углы у наружной поверхности, могут выпасть из ряда и нарушить целостность кладки.</a:t>
            </a:r>
            <a:endParaRPr b="0" lang="en-US" sz="28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395280" y="5229000"/>
            <a:ext cx="8229600" cy="118404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ис. 2</a:t>
            </a:r>
            <a:br>
              <a:rPr sz="2800"/>
            </a:br>
            <a:r>
              <a:rPr b="0" lang="ru-RU" sz="2800" spc="-1" strike="noStrike">
                <a:solidFill>
                  <a:srgbClr val="000000"/>
                </a:solidFill>
                <a:latin typeface="Arial"/>
              </a:rPr>
              <a:t>Кладка, разрезанная наклонными плоскостями камней </a:t>
            </a:r>
            <a:endParaRPr b="0" lang="en-US" sz="2800" spc="-1" strike="noStrike">
              <a:solidFill>
                <a:srgbClr val="000000"/>
              </a:solidFill>
              <a:latin typeface="Arial"/>
            </a:endParaRPr>
          </a:p>
        </p:txBody>
      </p:sp>
      <p:pic>
        <p:nvPicPr>
          <p:cNvPr id="118" name="Picture 4" descr="Рис. 2. Кладка, разрезанная наклонными  плоскостями камней   1-4">
            <a:hlinkClick r:id="rId1"/>
          </p:cNvPr>
          <p:cNvPicPr/>
          <p:nvPr/>
        </p:nvPicPr>
        <p:blipFill>
          <a:blip r:embed="rId2"/>
          <a:stretch/>
        </p:blipFill>
        <p:spPr>
          <a:xfrm>
            <a:off x="900000" y="260280"/>
            <a:ext cx="7128000" cy="4465800"/>
          </a:xfrm>
          <a:prstGeom prst="rect">
            <a:avLst/>
          </a:prstGeom>
          <a:ln w="0">
            <a:noFill/>
          </a:ln>
        </p:spPr>
      </p:pic>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457200" y="836280"/>
            <a:ext cx="8229600" cy="52894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тсюда следует </a:t>
            </a:r>
            <a:r>
              <a:rPr b="1" lang="ru-RU" sz="3200" spc="-1" strike="noStrike">
                <a:solidFill>
                  <a:srgbClr val="000000"/>
                </a:solidFill>
                <a:latin typeface="Arial"/>
              </a:rPr>
              <a:t>второе правило</a:t>
            </a:r>
            <a:r>
              <a:rPr b="0" lang="ru-RU" sz="3200" spc="-1" strike="noStrike">
                <a:solidFill>
                  <a:srgbClr val="000000"/>
                </a:solidFill>
                <a:latin typeface="Arial"/>
              </a:rPr>
              <a:t> разрезки: массив кладки должен расчленяться вертикальными плоскостями (швами), параллельными наружной поверхности кладки (продольными швами), и плоскостями, перпендикулярными наружной поверхности (поперечными швами). </a:t>
            </a:r>
            <a:endParaRPr b="0" lang="en-US" sz="32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4T14:01:10Z</dcterms:created>
  <dc:creator>Admin</dc:creator>
  <dc:description/>
  <dc:language>en-US</dc:language>
  <cp:lastModifiedBy>Коляаня</cp:lastModifiedBy>
  <dcterms:modified xsi:type="dcterms:W3CDTF">2023-02-14T10:24:18Z</dcterms:modified>
  <cp:revision>6</cp:revision>
  <dc:subject/>
  <dc:title>Правила разрезки и элементы кладки </dc:title>
</cp:coreProperties>
</file>