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403D-C74F-44FA-96BF-0927CDF9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27E-6E5A-4B8D-A72E-E63548ED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B10-5C16-40EE-97CE-3E8D1E13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0E2-BD5D-42FC-BBFB-B50F400A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CDC-EA24-460C-A1DB-9E1CF7A8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D5E-50A7-4B04-B01C-8615860E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88C-1C6D-4926-98CE-EF727561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7B6-5312-4DEF-AF18-17658273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E28-F20B-4E1F-A6DF-55048BAF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855-209F-400C-94C2-6B6BF56B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ED8-1CA8-4A9B-A852-17A6C051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643-EDD9-43CE-8849-812F3CEA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3A1D-C956-400B-92F1-FD373AAA90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image" Target="../media/image19.jpeg"/><Relationship Id="rId14" Type="http://schemas.openxmlformats.org/officeDocument/2006/relationships/image" Target="../media/image19.jpeg"/><Relationship Id="rId15" Type="http://schemas.openxmlformats.org/officeDocument/2006/relationships/image" Target="../media/image19.jpeg"/><Relationship Id="rId16" Type="http://schemas.openxmlformats.org/officeDocument/2006/relationships/image" Target="../media/image19.jpeg"/><Relationship Id="rId17" Type="http://schemas.openxmlformats.org/officeDocument/2006/relationships/image" Target="../media/image19.jpeg"/><Relationship Id="rId18" Type="http://schemas.openxmlformats.org/officeDocument/2006/relationships/image" Target="../media/image19.jpeg"/><Relationship Id="rId19" Type="http://schemas.openxmlformats.org/officeDocument/2006/relationships/image" Target="../media/image19.jpeg"/><Relationship Id="rId20" Type="http://schemas.openxmlformats.org/officeDocument/2006/relationships/image" Target="../media/image19.jpeg"/><Relationship Id="rId21" Type="http://schemas.openxmlformats.org/officeDocument/2006/relationships/image" Target="../media/image19.jpeg"/><Relationship Id="rId22" Type="http://schemas.openxmlformats.org/officeDocument/2006/relationships/image" Target="../media/image19.jpeg"/><Relationship Id="rId23" Type="http://schemas.openxmlformats.org/officeDocument/2006/relationships/image" Target="../media/image19.jpeg"/><Relationship Id="rId24" Type="http://schemas.openxmlformats.org/officeDocument/2006/relationships/image" Target="../media/image19.jpeg"/><Relationship Id="rId25" Type="http://schemas.openxmlformats.org/officeDocument/2006/relationships/image" Target="../media/image19.jpeg"/><Relationship Id="rId26" Type="http://schemas.openxmlformats.org/officeDocument/2006/relationships/image" Target="../media/image19.jpeg"/><Relationship Id="rId27" Type="http://schemas.openxmlformats.org/officeDocument/2006/relationships/image" Target="../media/image19.jpeg"/><Relationship Id="rId28" Type="http://schemas.openxmlformats.org/officeDocument/2006/relationships/image" Target="../media/image19.jpeg"/><Relationship Id="rId29" Type="http://schemas.openxmlformats.org/officeDocument/2006/relationships/image" Target="../media/image19.jpeg"/><Relationship Id="rId30" Type="http://schemas.openxmlformats.org/officeDocument/2006/relationships/image" Target="../media/image19.jpeg"/><Relationship Id="rId3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68bb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973440" y="2492280"/>
            <a:ext cx="860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Times New Roman"/>
              </a:rPr>
              <a:t>Правильные многогранн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663640" cy="17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04000" y="549360"/>
            <a:ext cx="1851120" cy="1676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5013360"/>
            <a:ext cx="1781280" cy="1666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284720" y="2491560"/>
            <a:ext cx="44640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исло вершин </a:t>
            </a:r>
            <a:r>
              <a:rPr b="1" lang="en-US" sz="3200" spc="-1" strike="noStrike">
                <a:solidFill>
                  <a:srgbClr val="ff01ff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нус число рёбер </a:t>
            </a:r>
            <a:r>
              <a:rPr b="1" lang="en-US" sz="3200" spc="-1" strike="noStrike">
                <a:solidFill>
                  <a:srgbClr val="ff01ff"/>
                </a:solidFill>
                <a:latin typeface="Arial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люс число граней </a:t>
            </a:r>
            <a:r>
              <a:rPr b="1" lang="en-US" sz="3200" spc="-1" strike="noStrike">
                <a:solidFill>
                  <a:srgbClr val="ff01ff"/>
                </a:solidFill>
                <a:latin typeface="Arial"/>
              </a:rPr>
              <a:t>Г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вно дву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302280" cy="3911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771640" y="333360"/>
            <a:ext cx="4176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52d5d"/>
                    </a:gs>
                    <a:gs pos="100000">
                      <a:srgbClr val="9763cb">
                        <a:alpha val="95294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орема эйлер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52d5d"/>
                  </a:gs>
                  <a:gs pos="100000">
                    <a:srgbClr val="9763cb">
                      <a:alpha val="95294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76360" y="5877000"/>
            <a:ext cx="208764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52d5d"/>
                    </a:gs>
                    <a:gs pos="100000">
                      <a:srgbClr val="9763cb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.эйле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52d5d"/>
                  </a:gs>
                  <a:gs pos="100000">
                    <a:srgbClr val="9763cb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0" y="4941720"/>
            <a:ext cx="360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0075"/>
                    </a:gs>
                    <a:gs pos="100000">
                      <a:srgbClr val="ff00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-Р+Г=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50075"/>
                  </a:gs>
                  <a:gs pos="100000">
                    <a:srgbClr val="ff00ff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650"/>
                            </p:stCondLst>
                            <p:childTnLst>
                              <p:par>
                                <p:cTn id="2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18400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сло   </a:t>
            </a:r>
            <a:r>
              <a:rPr b="1" lang="el-GR" sz="2400" spc="-1" strike="noStrike">
                <a:solidFill>
                  <a:srgbClr val="ff01ff"/>
                </a:solidFill>
                <a:latin typeface="Arial"/>
                <a:ea typeface="Arial"/>
              </a:rPr>
              <a:t>λ</a:t>
            </a:r>
            <a:r>
              <a:rPr b="1" lang="ru-RU" sz="2400" spc="-1" strike="noStrike">
                <a:solidFill>
                  <a:srgbClr val="ff01ff"/>
                </a:solidFill>
                <a:latin typeface="Arial"/>
              </a:rPr>
              <a:t>  = В – Р + 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1ff"/>
                </a:solidFill>
                <a:latin typeface="Arial"/>
              </a:rPr>
              <a:t>эйлеровой характеристикой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гранника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03280" y="1341360"/>
          <a:ext cx="6840720" cy="3898800"/>
        </p:xfrm>
        <a:graphic>
          <a:graphicData uri="http://schemas.openxmlformats.org/drawingml/2006/table">
            <a:tbl>
              <a:tblPr/>
              <a:tblGrid>
                <a:gridCol w="2160720"/>
                <a:gridCol w="1584360"/>
                <a:gridCol w="1081080"/>
                <a:gridCol w="1150920"/>
                <a:gridCol w="863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ГР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Ш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01ff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ff01ff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01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1ff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01ff"/>
                          </a:solidFill>
                          <a:latin typeface="Arial"/>
                          <a:ea typeface="Arial"/>
                        </a:rPr>
                        <a:t>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ЭД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АЭД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ДЭКАЭД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КОСАЭД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push dir="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19162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ите количество граней, вершин и рёбер многогранника, изображённого на рисунке. Проверьте выполнимость формулы Эйлера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анного многогран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2781360"/>
            <a:ext cx="1513080" cy="15825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867280" y="1341000"/>
            <a:ext cx="865440" cy="18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227640" y="1341360"/>
            <a:ext cx="505080" cy="144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732360" y="1267920"/>
            <a:ext cx="647640" cy="15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6732720" y="1341000"/>
            <a:ext cx="287280" cy="18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867280" y="4076280"/>
            <a:ext cx="433440" cy="289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7640" y="278136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4365720"/>
            <a:ext cx="79236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27640" y="4076640"/>
            <a:ext cx="432000" cy="1584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659640" y="4292280"/>
            <a:ext cx="36036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659640" y="3933720"/>
            <a:ext cx="72072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348000" y="404640"/>
            <a:ext cx="230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52d5d"/>
                    </a:gs>
                    <a:gs pos="100000">
                      <a:srgbClr val="9763cb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ч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52d5d"/>
                  </a:gs>
                  <a:gs pos="100000">
                    <a:srgbClr val="9763cb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ec36"/>
            </a:gs>
            <a:gs pos="100000">
              <a:srgbClr val="a1a3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ae4510"/>
                </a:solidFill>
                <a:uFillTx/>
                <a:latin typeface="Comic Sans MS"/>
              </a:rPr>
              <a:t>Конспект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ыпуклый многогранник называется правильным если все его грани – равные правильные многоугольники и, кроме того, в каждой его вершине сходится одно и тоже число реб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18d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d50"/>
                </a:solidFill>
                <a:latin typeface="Times New Roman"/>
              </a:rPr>
              <a:t>Не существует правильного многоугольника, гранями которого являются правильные шестиугольники, семиугольники и вообще </a:t>
            </a:r>
            <a:r>
              <a:rPr b="0" lang="en-US" sz="1800" spc="-1" strike="noStrike">
                <a:solidFill>
                  <a:srgbClr val="318d50"/>
                </a:solidFill>
                <a:latin typeface="Times New Roman"/>
              </a:rPr>
              <a:t>n-</a:t>
            </a:r>
            <a:r>
              <a:rPr b="0" lang="ru-RU" sz="1800" spc="-1" strike="noStrike">
                <a:solidFill>
                  <a:srgbClr val="318d50"/>
                </a:solidFill>
                <a:latin typeface="Times New Roman"/>
              </a:rPr>
              <a:t>угольники при</a:t>
            </a:r>
            <a:r>
              <a:rPr b="0" lang="en-US" sz="1800" spc="-1" strike="noStrike">
                <a:solidFill>
                  <a:srgbClr val="318d50"/>
                </a:solidFill>
                <a:latin typeface="Times New Roman"/>
              </a:rPr>
              <a:t> n</a:t>
            </a:r>
            <a:r>
              <a:rPr b="0" lang="ru-RU" sz="1800" spc="-1" strike="noStrike">
                <a:solidFill>
                  <a:srgbClr val="318d50"/>
                </a:solidFill>
                <a:latin typeface="Times New Roman"/>
              </a:rPr>
              <a:t>≥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Существует пять правильных многогранников: тетраэдр, октаэдр, икосаэдр, гексаэдр(куб), додекаэ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18d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d50"/>
                </a:solidFill>
                <a:latin typeface="Times New Roman"/>
              </a:rPr>
              <a:t>Тетраэдр - это правильный многогранник, все грани которого – правильные треугольники и из каждой вершины которого выходит ровно три реб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Октаэдр - это правильный многогранник, все грани которого – правильные треугольники и к каждой вершине прилегают четыре гр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18d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d50"/>
                </a:solidFill>
                <a:latin typeface="Times New Roman"/>
              </a:rPr>
              <a:t>Правильный икосаэдр составлен из двадцати равносторонних тре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Гексаэдр – правильный многогранник, все грани которого – квадраты, и из каждой вершины выходит три реб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18d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d50"/>
                </a:solidFill>
                <a:latin typeface="Times New Roman"/>
              </a:rPr>
              <a:t>Правильный додекаэдр составлен из двенадцати правильных пяти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6165720"/>
            <a:ext cx="2808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100"/>
                            </p:stCondLst>
                            <p:childTnLst>
                              <p:par>
                                <p:cTn id="3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100"/>
                            </p:stCondLst>
                            <p:childTnLst>
                              <p:par>
                                <p:cTn id="3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1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100"/>
                            </p:stCondLst>
                            <p:childTnLst>
                              <p:par>
                                <p:cTn id="3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100"/>
                            </p:stCondLst>
                            <p:childTnLst>
                              <p:par>
                                <p:cTn id="3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1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100"/>
                            </p:stCondLst>
                            <p:childTnLst>
                              <p:par>
                                <p:cTn id="3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100"/>
                            </p:stCondLst>
                            <p:childTnLst>
                              <p:par>
                                <p:cTn id="3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9100"/>
                            </p:stCondLst>
                            <p:childTnLst>
                              <p:par>
                                <p:cTn id="363" nodeType="afterEffect" fill="hold" presetClass="entr" presetID="4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4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4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0602"/>
                </a:solidFill>
                <a:latin typeface="GOST type A"/>
              </a:rPr>
              <a:t>Понятие правильного многогран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4db8d1"/>
                </a:solidFill>
                <a:latin typeface="Arial"/>
              </a:rPr>
              <a:t>Выпуклый многогранник называется правильным если все его грани – равные правильные многоугольники и, кроме того, в каждой его вершине сходится одно и тоже число реб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6912a"/>
                </a:solidFill>
                <a:latin typeface="Comic Sans MS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24360" y="508464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42f1c"/>
                </a:solidFill>
                <a:latin typeface="Arial"/>
              </a:rPr>
              <a:t>Примером правильного многогранника является ку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42f1c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42f1c"/>
                </a:solidFill>
                <a:latin typeface="Arial"/>
              </a:rPr>
              <a:t>Все его грани - равные квадраты, и к каждой вершине сходятся три реб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76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e77"/>
            </a:gs>
            <a:gs pos="100000">
              <a:srgbClr val="ece44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2f1c"/>
                </a:solidFill>
                <a:latin typeface="Times New Roman"/>
              </a:rPr>
              <a:t>Утверждение:</a:t>
            </a:r>
            <a:br>
              <a:rPr sz="3600"/>
            </a:br>
            <a:r>
              <a:rPr b="1" i="1" lang="ru-RU" sz="2600" spc="-1" strike="noStrike">
                <a:solidFill>
                  <a:srgbClr val="8c453e"/>
                </a:solidFill>
                <a:latin typeface="Times New Roman"/>
              </a:rPr>
              <a:t>Не существует правильного многоугольника, гранями которого являются правильные шестиугольники, семиугольники и вообще </a:t>
            </a:r>
            <a:r>
              <a:rPr b="1" i="1" lang="en-US" sz="2600" spc="-1" strike="noStrike">
                <a:solidFill>
                  <a:srgbClr val="8c453e"/>
                </a:solidFill>
                <a:latin typeface="Times New Roman"/>
              </a:rPr>
              <a:t>n-</a:t>
            </a:r>
            <a:r>
              <a:rPr b="1" i="1" lang="ru-RU" sz="2600" spc="-1" strike="noStrike">
                <a:solidFill>
                  <a:srgbClr val="8c453e"/>
                </a:solidFill>
                <a:latin typeface="Times New Roman"/>
              </a:rPr>
              <a:t>угольники при</a:t>
            </a:r>
            <a:r>
              <a:rPr b="1" i="1" lang="en-US" sz="2600" spc="-1" strike="noStrike">
                <a:solidFill>
                  <a:srgbClr val="8c453e"/>
                </a:solidFill>
                <a:latin typeface="Times New Roman"/>
              </a:rPr>
              <a:t> n</a:t>
            </a:r>
            <a:r>
              <a:rPr b="1" i="1" lang="ru-RU" sz="2600" spc="-1" strike="noStrike">
                <a:solidFill>
                  <a:srgbClr val="8c453e"/>
                </a:solidFill>
                <a:latin typeface="Times New Roman"/>
              </a:rPr>
              <a:t>≥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f1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e42f1c"/>
                </a:solidFill>
                <a:latin typeface="Comic Sans MS"/>
              </a:rPr>
              <a:t>Доказа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420b6"/>
                </a:solidFill>
                <a:latin typeface="Arial"/>
              </a:rPr>
              <a:t>Угол в вершине правильного </a:t>
            </a:r>
            <a:r>
              <a:rPr b="0" lang="en-US" sz="2400" spc="-1" strike="noStrike">
                <a:solidFill>
                  <a:srgbClr val="4420b6"/>
                </a:solidFill>
                <a:latin typeface="Arial"/>
              </a:rPr>
              <a:t>n-</a:t>
            </a:r>
            <a:r>
              <a:rPr b="0" lang="ru-RU" sz="2400" spc="-1" strike="noStrike">
                <a:solidFill>
                  <a:srgbClr val="4420b6"/>
                </a:solidFill>
                <a:latin typeface="Arial"/>
              </a:rPr>
              <a:t>угольника при </a:t>
            </a:r>
            <a:r>
              <a:rPr b="0" lang="en-US" sz="2400" spc="-1" strike="noStrike">
                <a:solidFill>
                  <a:srgbClr val="4420b6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4420b6"/>
                </a:solidFill>
                <a:latin typeface="Arial"/>
              </a:rPr>
              <a:t>≥6 не меньше 120</a:t>
            </a:r>
            <a:r>
              <a:rPr b="0" lang="ru-RU" sz="2400" spc="-1" strike="noStrike" baseline="30000">
                <a:solidFill>
                  <a:srgbClr val="4420b6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4420b6"/>
                </a:solidFill>
                <a:latin typeface="Arial"/>
                <a:ea typeface="Arial"/>
              </a:rPr>
              <a:t>. </a:t>
            </a:r>
            <a:r>
              <a:rPr b="0" lang="ru-RU" sz="2400" spc="-1" strike="noStrike">
                <a:solidFill>
                  <a:srgbClr val="4420b6"/>
                </a:solidFill>
                <a:latin typeface="Arial"/>
                <a:ea typeface="Arial"/>
              </a:rPr>
              <a:t>С другой стороны при каждой вершине многогранника должно быть не менее трех плоских углов. Поэтому если бы существовал правильный многогранник у которого грани правильные </a:t>
            </a:r>
            <a:r>
              <a:rPr b="0" lang="en-US" sz="2400" spc="-1" strike="noStrike">
                <a:solidFill>
                  <a:srgbClr val="4420b6"/>
                </a:solidFill>
                <a:latin typeface="Arial"/>
              </a:rPr>
              <a:t>n-</a:t>
            </a:r>
            <a:r>
              <a:rPr b="0" lang="ru-RU" sz="2400" spc="-1" strike="noStrike">
                <a:solidFill>
                  <a:srgbClr val="4420b6"/>
                </a:solidFill>
                <a:latin typeface="Arial"/>
              </a:rPr>
              <a:t>угольники при</a:t>
            </a:r>
            <a:r>
              <a:rPr b="0" lang="en-US" sz="2400" spc="-1" strike="noStrike">
                <a:solidFill>
                  <a:srgbClr val="4420b6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4420b6"/>
                </a:solidFill>
                <a:latin typeface="Arial"/>
              </a:rPr>
              <a:t>≥6, то сумма плоских углов при каждой вершине такого многогранника была бы не меньше, чем 120</a:t>
            </a:r>
            <a:r>
              <a:rPr b="0" lang="ru-RU" sz="2400" spc="-1" strike="noStrike" baseline="30000">
                <a:solidFill>
                  <a:srgbClr val="4420b6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4420b6"/>
                </a:solidFill>
                <a:latin typeface="Arial"/>
                <a:ea typeface="Times New Roman"/>
              </a:rPr>
              <a:t>•3=360</a:t>
            </a:r>
            <a:r>
              <a:rPr b="0" lang="ru-RU" sz="2400" spc="-1" strike="noStrike" baseline="30000">
                <a:solidFill>
                  <a:srgbClr val="4420b6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4420b6"/>
                </a:solidFill>
                <a:latin typeface="Arial"/>
              </a:rPr>
              <a:t> Но это невозможно, т.к. сумма всех плоских углов при каждой вершине выпуклого многогранника меньше 360</a:t>
            </a:r>
            <a:r>
              <a:rPr b="0" lang="ru-RU" sz="2400" spc="-1" strike="noStrike" baseline="30000">
                <a:solidFill>
                  <a:srgbClr val="4420b6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4420b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480"/>
                            </p:stCondLst>
                            <p:childTnLst>
                              <p:par>
                                <p:cTn id="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98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66"/>
                </a:solidFill>
                <a:latin typeface="Times New Roman"/>
              </a:rPr>
              <a:t>Тетраэ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2329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2329c"/>
                </a:solidFill>
                <a:latin typeface="Times New Roman"/>
              </a:rPr>
              <a:t>Тетраэдр</a:t>
            </a:r>
            <a:r>
              <a:rPr b="1" lang="ru-RU" sz="2000" spc="-1" strike="noStrike">
                <a:solidFill>
                  <a:srgbClr val="c2329c"/>
                </a:solidFill>
                <a:latin typeface="Times New Roman"/>
              </a:rPr>
              <a:t> (tetra – четыре, hedra – грань). Правильный тетраэдр – правильный четырехгранник, то есть тетраэдр с равными ребрами, представляет собой правильный многогранник, все грани которого – правильные треугольники и из каждой вершины которого выходит ровно три ребра. Очевидно, что тетраэдр с заданной длиной ребра единственен. Все остальные тетраэдры подобны ему и определяются длиной реб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98600" y="3938760"/>
            <a:ext cx="2001960" cy="2369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208160" y="1197000"/>
            <a:ext cx="2173320" cy="25621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1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bfb7"/>
                </a:solidFill>
                <a:latin typeface="Arial"/>
              </a:rPr>
              <a:t>Октаэд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14360" y="1413000"/>
            <a:ext cx="2109960" cy="2322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00575"/>
                </a:solidFill>
                <a:latin typeface="Times New Roman"/>
              </a:rPr>
              <a:t>Октаэдр</a:t>
            </a:r>
            <a:r>
              <a:rPr b="0" lang="ru-RU" sz="2800" spc="-1" strike="noStrike">
                <a:solidFill>
                  <a:srgbClr val="200575"/>
                </a:solidFill>
                <a:latin typeface="Times New Roman"/>
              </a:rPr>
              <a:t> (okto – восемь). Это правильный многогранник, все грани которого – правильные треугольники и к каждой вершине прилегают четыре гра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кажем, что этот многогранник имеет восемь граней, указав способ его постро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81160" y="3938760"/>
            <a:ext cx="2244600" cy="25858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"/>
                            </p:stCondLst>
                            <p:childTnLst>
                              <p:par>
                                <p:cTn id="1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300"/>
                            </p:stCondLst>
                            <p:childTnLst>
                              <p:par>
                                <p:cTn id="1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3500"/>
                            </p:stCondLst>
                            <p:childTnLst>
                              <p:par>
                                <p:cTn id="132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4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2329c"/>
                </a:solidFill>
                <a:latin typeface="Monotype Corsiva"/>
              </a:rPr>
              <a:t>Правильный икосаэд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22e31"/>
                </a:solidFill>
                <a:latin typeface="Arial"/>
              </a:rPr>
              <a:t>Правильный икосаэдр составлен из двадцати равносторонних тре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066920" y="4149360"/>
            <a:ext cx="461484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22e31"/>
                </a:solidFill>
                <a:latin typeface="Arial"/>
              </a:rPr>
              <a:t>Каждая вершина икосаэдра является вершиной пяти треугольников. Следовательно сумма плоских углов при каждой вершине равна 300</a:t>
            </a:r>
            <a:r>
              <a:rPr b="0" lang="en-US" sz="2400" spc="-1" strike="noStrike">
                <a:solidFill>
                  <a:srgbClr val="b22e31"/>
                </a:solidFill>
                <a:latin typeface="Times New Roman"/>
                <a:ea typeface="Arial"/>
              </a:rPr>
              <a:t>˚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3552840"/>
            <a:ext cx="3127320" cy="2389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19640" y="1244520"/>
            <a:ext cx="2400480" cy="24004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65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650"/>
                            </p:stCondLst>
                            <p:childTnLst>
                              <p:par>
                                <p:cTn id="1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3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Гексаэдр или куб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Monotype Corsiva"/>
              </a:rPr>
              <a:t>Гексаэдр</a:t>
            </a:r>
            <a:r>
              <a:rPr b="0" lang="ru-RU" sz="3200" spc="-1" strike="noStrike">
                <a:solidFill>
                  <a:srgbClr val="ff3300"/>
                </a:solidFill>
                <a:latin typeface="Monotype Corsiva"/>
              </a:rPr>
              <a:t> (</a:t>
            </a:r>
            <a:r>
              <a:rPr b="1" i="1" lang="ru-RU" sz="3200" spc="-1" strike="noStrike">
                <a:solidFill>
                  <a:srgbClr val="ff3300"/>
                </a:solidFill>
                <a:latin typeface="Monotype Corsiva"/>
              </a:rPr>
              <a:t>куб</a:t>
            </a:r>
            <a:r>
              <a:rPr b="0" lang="ru-RU" sz="3200" spc="-1" strike="noStrike">
                <a:solidFill>
                  <a:srgbClr val="ff3300"/>
                </a:solidFill>
                <a:latin typeface="Monotype Corsiva"/>
              </a:rPr>
              <a:t>, hexa – шесть). Гексаэдр – правильный многогранник, все грани которого – квадраты, и из каждой вершины выходит три реб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632560" y="3938760"/>
            <a:ext cx="237960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24360" y="1413000"/>
            <a:ext cx="2189160" cy="1933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равильный додекаэд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Правильный додекаэдр составлен из двенадцати правильных пятиуголь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Следовательно, сумма плоских углов при каждой вершине равна 324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  <a:ea typeface="Arial"/>
              </a:rPr>
              <a:t>˚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477040" y="1787400"/>
            <a:ext cx="2911320" cy="2213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73680" y="4095720"/>
            <a:ext cx="2181240" cy="2286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14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460"/>
                            </p:stCondLst>
                            <p:childTnLst>
                              <p:par>
                                <p:cTn id="2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340000" y="2997360"/>
            <a:ext cx="460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эдра» - гр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тетра» 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екса» -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кта» 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икоса» -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одека» -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549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вания этих многогранников пришли из Древней Греции, и в них указывается число гра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19:12:45Z</dcterms:created>
  <dc:creator>Abakumov Ivan</dc:creator>
  <dc:description/>
  <dc:language>en-US</dc:language>
  <cp:lastModifiedBy>Schatt</cp:lastModifiedBy>
  <dcterms:modified xsi:type="dcterms:W3CDTF">2011-04-13T23:30:12Z</dcterms:modified>
  <cp:revision>17</cp:revision>
  <dc:subject/>
  <dc:title>Правильные многогранники</dc:title>
</cp:coreProperties>
</file>