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5389-91FB-4799-B15E-C87BCAC4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990-EA86-4D92-A371-9AB326F11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4379-A613-49FB-91EB-0993E89F7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38120"/>
            <a:ext cx="3911760" cy="471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2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icrosoft Sans Serif"/>
              </a:rPr>
              <a:t>Участники СВО, проявившие мужество и героизм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3640" y="5300280"/>
            <a:ext cx="3887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2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езентацию подготовила: Малашкевич Лёля Львовна, учитель МБОУ «Лицей № 35», г. Майкоп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47" name="Рисунок 4" descr="a4b392e0563be907d2300c435138d4a5.jp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амир Назирович Ислам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4" name="Содержимое 3" descr="316e1bf8-d956-4e2e-be01-67fccf038afb.jpg"/>
          <p:cNvPicPr/>
          <p:nvPr/>
        </p:nvPicPr>
        <p:blipFill>
          <a:blip r:embed="rId1"/>
          <a:stretch/>
        </p:blipFill>
        <p:spPr>
          <a:xfrm>
            <a:off x="2700360" y="1268280"/>
            <a:ext cx="41036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Максим Андреевич Конц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6" name="Содержимое 3" descr="3174eaa8-a19a-42c2-be8a-924e10a29efe.jpg"/>
          <p:cNvPicPr/>
          <p:nvPr/>
        </p:nvPicPr>
        <p:blipFill>
          <a:blip r:embed="rId1"/>
          <a:stretch/>
        </p:blipFill>
        <p:spPr>
          <a:xfrm>
            <a:off x="2700360" y="1341360"/>
            <a:ext cx="3959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митрий Сергеевич Литвин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8" name="Содержимое 3" descr="bae9b1f3-cfc2-46a4-b30c-e40b55a014aa.jpg"/>
          <p:cNvPicPr/>
          <p:nvPr/>
        </p:nvPicPr>
        <p:blipFill>
          <a:blip r:embed="rId1"/>
          <a:stretch/>
        </p:blipFill>
        <p:spPr>
          <a:xfrm>
            <a:off x="2771640" y="1268280"/>
            <a:ext cx="39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Юрий Петрович Нимченк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0" name="Содержимое 3" descr="bd42ce81-efe9-40d2-8a8a-3516fc519d8b.jpg"/>
          <p:cNvPicPr/>
          <p:nvPr/>
        </p:nvPicPr>
        <p:blipFill>
          <a:blip r:embed="rId1"/>
          <a:stretch/>
        </p:blipFill>
        <p:spPr>
          <a:xfrm>
            <a:off x="2484360" y="1125360"/>
            <a:ext cx="395928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нтон Игоревич Старостин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2" name="Содержимое 3" descr="7c0ccae4-18f0-41ec-8c58-36a3d366eedf.jpg"/>
          <p:cNvPicPr/>
          <p:nvPr/>
        </p:nvPicPr>
        <p:blipFill>
          <a:blip r:embed="rId1"/>
          <a:stretch/>
        </p:blipFill>
        <p:spPr>
          <a:xfrm>
            <a:off x="2268360" y="1197000"/>
            <a:ext cx="4248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ндрей Анатольевич Фроленк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4" name="Содержимое 3" descr="50e1a74b-ba9a-4ee0-a5da-15a0e86e93f8.jpg"/>
          <p:cNvPicPr/>
          <p:nvPr/>
        </p:nvPicPr>
        <p:blipFill>
          <a:blip r:embed="rId1"/>
          <a:stretch/>
        </p:blipFill>
        <p:spPr>
          <a:xfrm>
            <a:off x="2627280" y="1268280"/>
            <a:ext cx="4105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189000"/>
            <a:ext cx="813744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Ребята! Родные! Держитесь! Мы – с вами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И пусть вас Всевышний и ангел хранит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Фашизм не пройдёт! И Победа за нами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А павших героев запомнит гранит.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Мы всех будем помнить! Но лучше – живите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ожалуйста! Пуля пусть – мимо летит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А подлую в Киеве власть не щадите!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Не зря она, встретившись с вами, дрожит.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усть  мысли всех добрых людей – Оберегом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Защитным для каждого будут сейчас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Стихами, концертами, автопробегом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оддержим в России сегодня мы вас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Я – русский, татарин, еврей и чуваши…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И все, кто не назван, встаём, как один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Все вместе – Россия! Все вместе мы – наши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Одно у нас Знамя! Один у нас Гимн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Пусть кара скорее настигнет иуду,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Куда бы ни смог он, спасаясь, пролезть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«Работайте, братья!»! Работайте всюду!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1600" spc="-1" strike="noStrike">
                <a:solidFill>
                  <a:srgbClr val="243d4f"/>
                </a:solidFill>
                <a:latin typeface="Microsoft Sans Serif"/>
              </a:rPr>
              <a:t>Вы – наша опора! Защита! И Честь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77" name="Содержимое 3" descr="community-533.jpg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EC9Qm29h5YA.jpg"/>
          <p:cNvPicPr/>
          <p:nvPr/>
        </p:nvPicPr>
        <p:blipFill>
          <a:blip r:embed="rId1"/>
          <a:stretch/>
        </p:blipFill>
        <p:spPr>
          <a:xfrm>
            <a:off x="182520" y="404640"/>
            <a:ext cx="77742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560" y="404280"/>
            <a:ext cx="8497800" cy="622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щитникам нашим спасибо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щитникам нашим спасибо за мирное небо,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солнце, за радугу и за полёты мечты!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песни берёз и за запах дурманящий хлеба!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смех детворы, за покой, за любовь, за цветы…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всё, что даёт нам возможность без страха смеяться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И жить, просто так, без оглядки, мучений и слёз,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За то, что мы можем, в итоге, людьми оставаться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243d4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И верить в счастливое завтра всегда и всерьёз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43d4f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Microsoft Sans Serif"/>
              </a:rPr>
              <a:t>Владимир Артёмович Жога</a:t>
            </a:r>
            <a:endParaRPr b="0" lang="en-US" sz="4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2" name="Рисунок 4" descr="d3a65202-fb58-42b9-a6c6-86beb447e5f7.jpg"/>
          <p:cNvPicPr/>
          <p:nvPr/>
        </p:nvPicPr>
        <p:blipFill>
          <a:blip r:embed="rId1"/>
          <a:stretch/>
        </p:blipFill>
        <p:spPr>
          <a:xfrm>
            <a:off x="1908000" y="1052640"/>
            <a:ext cx="4392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Нурмагомед Энгельсович Гаджимагомед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4" name="Содержимое 3" descr="1f542358-baa1-40fd-aecd-7a9bae04a97c.jpg"/>
          <p:cNvPicPr/>
          <p:nvPr/>
        </p:nvPicPr>
        <p:blipFill>
          <a:blip r:embed="rId1"/>
          <a:stretch/>
        </p:blipFill>
        <p:spPr>
          <a:xfrm>
            <a:off x="2484360" y="1549440"/>
            <a:ext cx="41036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ндраник Саргисович Гаспарян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6" name="Содержимое 3" descr="1f31215f-e03f-433e-8334-f676566a3b19.jpg"/>
          <p:cNvPicPr/>
          <p:nvPr/>
        </p:nvPicPr>
        <p:blipFill>
          <a:blip r:embed="rId1"/>
          <a:stretch/>
        </p:blipFill>
        <p:spPr>
          <a:xfrm>
            <a:off x="2340000" y="1197000"/>
            <a:ext cx="4176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Антон Игоревич Старостин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8" name="Содержимое 3" descr="7c0ccae4-18f0-41ec-8c58-36a3d366eedf.jpg"/>
          <p:cNvPicPr/>
          <p:nvPr/>
        </p:nvPicPr>
        <p:blipFill>
          <a:blip r:embed="rId1"/>
          <a:stretch/>
        </p:blipFill>
        <p:spPr>
          <a:xfrm>
            <a:off x="2700360" y="1557360"/>
            <a:ext cx="3887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амир Рашидович Гилемханов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0" name="Содержимое 3" descr="040e1be8-ff67-4fbc-bdae-644686c2f683.jpg"/>
          <p:cNvPicPr/>
          <p:nvPr/>
        </p:nvPicPr>
        <p:blipFill>
          <a:blip r:embed="rId1"/>
          <a:stretch/>
        </p:blipFill>
        <p:spPr>
          <a:xfrm>
            <a:off x="2771640" y="1341360"/>
            <a:ext cx="403236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Денис Игоревич Зорин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2" name="Содержимое 3" descr="26bbc8c6-3ddc-4a60-9dfa-b99752576cd1.jpg"/>
          <p:cNvPicPr/>
          <p:nvPr/>
        </p:nvPicPr>
        <p:blipFill>
          <a:blip r:embed="rId1"/>
          <a:stretch/>
        </p:blipFill>
        <p:spPr>
          <a:xfrm>
            <a:off x="2771640" y="1341360"/>
            <a:ext cx="417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15:18:30Z</dcterms:created>
  <dc:creator>Юра</dc:creator>
  <dc:description/>
  <dc:language>en-US</dc:language>
  <cp:lastModifiedBy>User</cp:lastModifiedBy>
  <dcterms:modified xsi:type="dcterms:W3CDTF">2023-02-14T18:51:44Z</dcterms:modified>
  <cp:revision>10</cp:revision>
  <dc:subject/>
  <dc:title>Name of presentation</dc:title>
</cp:coreProperties>
</file>