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B46-0E77-4BB6-AC15-0537D68D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EEB-D08C-4DA8-9457-48DC09BD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785-6BBC-427D-B2BE-C6761E9D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B11-F4EB-4EA6-B00C-E84D13D0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6FA-E090-4968-B993-AC461D3E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2F7-993A-4D3A-9715-56081273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B97-2E76-4F75-9A8B-AC167F2C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C80-A4A2-465D-83C0-294649E6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975-6719-49FF-8190-1F01488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377-7090-4F38-AAAC-A311E48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D18-5091-4C6F-B59E-1B0D385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783-4848-46A1-94DC-AE045DA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2FAB-C2D7-4D91-9865-9002E1E61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ирование и реализация учебного занятия в соответствии с ФГОС деятельностного т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2280" y="1447920"/>
            <a:ext cx="8686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ую задачу став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далось ли решить поставленную задач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спосо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е получили результа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нужно сделать ещ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можно применить новые зн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85880" y="52560"/>
            <a:ext cx="75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Учитель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евозможно воплощение новых стандартов школьного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495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МАСТЕРСТВО УЧИТЕЛ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ЭТО СПЕЦИАЛЬНОСТЬ</a:t>
            </a:r>
            <a:r>
              <a:rPr b="1" i="1" lang="ru-RU" sz="3600" spc="-1" strike="noStrike">
                <a:solidFill>
                  <a:srgbClr val="2d2d8a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КОТОРОЙ НАДО УЧИТЬСЯ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                                                                                                                         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А.С.Макар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28600" y="3581280"/>
            <a:ext cx="8686800" cy="206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nastasiaScript"/>
              </a:rPr>
              <a:t>Современный урок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–урок действ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имеющий непосредственное 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к интересам, личности ребе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52280" y="762120"/>
            <a:ext cx="883944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nastasiaScript"/>
              </a:rPr>
              <a:t>             </a:t>
            </a:r>
            <a:r>
              <a:rPr b="1" i="1" lang="ru-RU" sz="2800" spc="-1" strike="noStrike">
                <a:solidFill>
                  <a:srgbClr val="2d2d8a"/>
                </a:solidFill>
                <a:latin typeface="AnastasiaScript"/>
              </a:rPr>
              <a:t>Современный урок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– урок актуальный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настоящего вре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astasia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astasia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Система дидактических принципов построения урок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209680"/>
            <a:ext cx="9132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еры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ой комфор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Принци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Этапы технологии деятельностного подхода. 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ределение к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ктуализаци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становка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шение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ервичное за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амостоятельная работа с самопровер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ключение в систему знаний, 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флекс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ип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609480" y="19810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ткрытия нового зн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рефлекс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построения системы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развивающего контро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держание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28600" y="167652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скажет учите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ченики изучат самостоятель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вопросы поставит учите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задания предложи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проконтролирует процесс усв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етоды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52280" y="1447920"/>
            <a:ext cx="86868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передачи и восприятия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степени педагогического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основным дидактическим задач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логике изложения учеб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характеру учебно-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3"/>
          <p:cNvSpPr/>
          <p:nvPr/>
        </p:nvSpPr>
        <p:spPr>
          <a:xfrm>
            <a:off x="1219320" y="274680"/>
            <a:ext cx="7467480" cy="792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редства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52280" y="1447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монстрационные мат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льтимедийные ресурс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8:37:38Z</dcterms:created>
  <dc:creator>Алексей</dc:creator>
  <dc:description/>
  <dc:language>en-US</dc:language>
  <cp:lastModifiedBy>Lomaster</cp:lastModifiedBy>
  <dcterms:modified xsi:type="dcterms:W3CDTF">2018-02-26T19:49:2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