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140-7D4A-4D1C-AA7F-F1183F3B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B78-0F50-4FDA-A673-9CCA30E2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18E-3D06-41FC-AB4A-E1B513A0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E3B-0C84-4480-9506-D177102D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4C1-0864-478F-938B-3FC385F3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BB5-7265-4104-85C0-049F3623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152-7764-4BD2-89B6-728B515D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5AC-2806-4AF5-987D-0973332D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547-9823-45AB-8115-9FBB6CB9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C21-E306-40A2-B88A-496CB4E2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9C9-AE8D-4DBE-A59C-BCA26008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E28-179C-47BD-9838-39E7C2EE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291E-8C8D-46E2-A43D-C317D0895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ирование и реализация учебного занятия в соответствии с ФГОС деятельностного ти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3"/>
          <p:cNvSpPr/>
          <p:nvPr/>
        </p:nvSpPr>
        <p:spPr>
          <a:xfrm>
            <a:off x="1219320" y="274680"/>
            <a:ext cx="7467480" cy="79200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152280" y="1447920"/>
            <a:ext cx="8686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ую задачу став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далось ли решить поставленную задач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м способ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е получили результа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нужно сделать ещё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де можно применить новые зн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785880" y="52560"/>
            <a:ext cx="7500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Учитель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его отношение к учебному процессу, его творчество и профессионализм, его желание раскрыть способности каждого ребенка – вот это всё и есть главный ресурс, без которого невозможно воплощение новых стандартов школьного образ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3495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МАСТЕРСТВО УЧИТЕЛЯ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ЭТО СПЕЦИАЛЬНОСТЬ</a:t>
            </a:r>
            <a:r>
              <a:rPr b="1" i="1" lang="ru-RU" sz="3600" spc="-1" strike="noStrike">
                <a:solidFill>
                  <a:srgbClr val="2d2d8a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КОТОРОЙ НАДО УЧИТЬСЯ</a:t>
            </a: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                                                                                                                         </a:t>
            </a: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А.С.Макар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228600" y="3581280"/>
            <a:ext cx="8686800" cy="2067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AnastasiaScript"/>
              </a:rPr>
              <a:t>Современный урок </a:t>
            </a: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–урок действен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имеющий непосредственное отно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к интересам, личности ребе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52280" y="762120"/>
            <a:ext cx="883944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AnastasiaScript"/>
              </a:rPr>
              <a:t>             </a:t>
            </a:r>
            <a:r>
              <a:rPr b="1" i="1" lang="ru-RU" sz="2800" spc="-1" strike="noStrike">
                <a:solidFill>
                  <a:srgbClr val="2d2d8a"/>
                </a:solidFill>
                <a:latin typeface="AnastasiaScript"/>
              </a:rPr>
              <a:t>Современный урок </a:t>
            </a: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– урок актуальный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настоящего врем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astasia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astasia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2d8a"/>
                </a:solidFill>
                <a:latin typeface="Arial"/>
              </a:rPr>
              <a:t>Система дидактических принципов построения урока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2209680"/>
            <a:ext cx="9132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ринци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Принци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ерыв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Принци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ост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ринци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логической комфорт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Принци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атив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Принци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d2d8a"/>
                </a:solidFill>
                <a:uFillTx/>
                <a:latin typeface="Arial"/>
              </a:rPr>
              <a:t>Этапы технологии деятельностного подхода. </a:t>
            </a:r>
            <a:br>
              <a:rPr sz="6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пределение к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Актуализация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становка учеб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ешение учеб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ервичное закре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Самостоятельная работа с самопровер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Включение в систему знаний, 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Рефлекс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3"/>
          <p:cNvSpPr/>
          <p:nvPr/>
        </p:nvSpPr>
        <p:spPr>
          <a:xfrm>
            <a:off x="1219320" y="274680"/>
            <a:ext cx="7467480" cy="79200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Тип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609480" y="19810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ткрытия нового зн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рефлекс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построения системы зна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развивающего контро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3"/>
          <p:cNvSpPr/>
          <p:nvPr/>
        </p:nvSpPr>
        <p:spPr>
          <a:xfrm>
            <a:off x="1219320" y="274680"/>
            <a:ext cx="7467480" cy="79200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одержание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228600" y="1676520"/>
            <a:ext cx="8915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сскажет учител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ученики изучат самостоятельн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вопросы поставит учител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задания предложи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проконтролирует процесс усв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3"/>
          <p:cNvSpPr/>
          <p:nvPr/>
        </p:nvSpPr>
        <p:spPr>
          <a:xfrm>
            <a:off x="1219320" y="274680"/>
            <a:ext cx="7467480" cy="79200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Методы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152280" y="1447920"/>
            <a:ext cx="86868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иду передачи и восприятия учеб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степени педагогического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основным дидактическим задач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логике изложения учебн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характеру учебно-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3"/>
          <p:cNvSpPr/>
          <p:nvPr/>
        </p:nvSpPr>
        <p:spPr>
          <a:xfrm>
            <a:off x="1219320" y="274680"/>
            <a:ext cx="7467480" cy="79200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редства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52280" y="14479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материа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монстрационные материа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льтимедийные ресурс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8:37:38Z</dcterms:created>
  <dc:creator>Алексей</dc:creator>
  <dc:description/>
  <dc:language>en-US</dc:language>
  <cp:lastModifiedBy>Lomaster</cp:lastModifiedBy>
  <dcterms:modified xsi:type="dcterms:W3CDTF">2018-02-26T19:49:28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