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image15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jpeg" ContentType="image/jpeg"/>
  <Override PartName="/ppt/media/image23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91D-964D-40EF-B56C-24C2F4A2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63B-7784-46CE-8221-A1A4BB36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D77-8E59-436B-8702-C76B30F1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F47-FFB8-46DD-BFCA-A902217C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AF25-6187-477C-9042-09BB521B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F938-DE16-48BD-8599-A0F56B65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4535-2280-4307-9321-DFDEC478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F1BC-863C-47FE-B553-2C5D0CC2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C2D6-7FE0-4BA0-9B1D-D1DEE2E0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D7C1-DC23-4BEA-A13F-9346BC36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97AE-EE45-4681-AF18-7FFAF723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A51-8C4F-4E13-B86E-0B83A775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B4C9-BB8A-4604-B60D-A707E78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DE78-1061-45DD-8221-5925FF65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8E46-4E8B-4AD4-A438-AA55A68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1809-BDA0-4887-A024-BBC15A0A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1EF8-37D0-4744-9109-F6885D24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5EB1-DF0F-4362-BB03-CA8CF73E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08FB-065D-4BFA-8984-B3ED6E69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49E4-9E9F-401B-84F2-C2044045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5301-6314-45B0-927A-68E0B64D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2B0E-6DE9-4821-A0D1-73D8E320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DAA-20AE-4ABB-8B7A-D7C37F3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4A09-1462-489A-9003-EDE15D8E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1CF9-4191-4FAC-8551-4A7AAE49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841A-ABD6-4185-99EC-9143466B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A93D7-FB56-4D52-B43B-163C4C86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A4DA-8987-4A4D-83A4-9F1E8370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9DEC-E5F6-4EE9-AC76-E4FF25CF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3052-70EC-4297-9440-390721F8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64D2-51EF-4907-B2BC-C28161F2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4CAB-0EB8-4D4A-A5A5-ACCC04E8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D7C6-B9FF-4773-A573-E5E33278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F5F-FA4C-447B-BCDA-596B166C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53F6-4CEB-4986-BF54-26C49B33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DD405-8A1A-4767-9439-3A120981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E0AF-C6F5-4E30-8B94-1E93D2A2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84DA-3E76-4990-B868-6C47407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D676-A779-4842-A923-FE76FA65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DB001-687F-4FD3-BAD7-E959E0C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697F4-19F0-462F-BF01-A1F69C00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71B8-113F-4D8C-A450-2EF90E47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BE96-BC7D-473A-AFBF-B7826B53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ACFA9-F104-4EC3-AEB6-4AA823D2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559-36B2-46A0-B7E5-27AC6EBE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D901-67F6-4425-BD20-0026A856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0ED60-E4E7-4F73-991B-92A8635B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332FE-4557-40CB-A397-40522A60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CF392-15E2-4517-B91D-73FC4A3C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2FDE2-0E64-42E9-8E83-F5D91EEA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53A39-88F0-402D-BE7D-23461C10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07025-787D-44A3-AA93-C6A0B667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B528-88B1-407C-92A4-7D3EEE1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6180-FAAE-498B-89F6-06F652B6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923D9-75B7-4DC2-98C4-3C90D3C1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A0C-0C3C-40FF-B476-F1D78D9A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6BFB-A7DE-4668-9502-68BA012D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D4C-542A-490C-A915-78FDB806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BFD-DBA4-4B29-960A-F69D005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E71-1759-4FC6-B65A-BBF2AB58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D25B-D05C-4C16-8727-BEB96410F3A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DC3C-8B72-410F-8256-DAAF7F43248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CA2C-5B1C-4C54-9FEA-1122C55F510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128E-895B-46A3-9060-E843D7390ED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C451-0083-4B6B-B187-672FA2BA713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6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8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9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0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1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slide22.xm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5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6"/>
          <p:cNvSpPr txBox="1"/>
          <p:nvPr/>
        </p:nvSpPr>
        <p:spPr>
          <a:xfrm>
            <a:off x="2268360" y="306864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1" name="WordArt 5" descr="Бумажный пакет"/>
          <p:cNvPicPr/>
          <p:nvPr/>
        </p:nvPicPr>
        <p:blipFill>
          <a:blip r:embed="rId3"/>
          <a:stretch/>
        </p:blipFill>
        <p:spPr>
          <a:xfrm>
            <a:off x="633240" y="493560"/>
            <a:ext cx="8010720" cy="27259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2000160" y="4714920"/>
            <a:ext cx="542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Учитель технологии МБОУ «СОШ №1» г.Ем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Матыкин Валери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г. Емва, 2022 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357200" y="1785600"/>
            <a:ext cx="6994800" cy="185724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азывается профессия рабочего, занятого ручной обработкой древесины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7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1571760" y="5572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428760" y="4357800"/>
            <a:ext cx="4321080" cy="10033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/>
          <p:cNvSpPr/>
          <p:nvPr/>
        </p:nvSpPr>
        <p:spPr>
          <a:xfrm rot="10800000">
            <a:off x="5000760" y="4285800"/>
            <a:ext cx="3286080" cy="107172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толя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016680"/>
            <a:ext cx="19018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42640" y="1989000"/>
            <a:ext cx="7389720" cy="136872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Что такое школьный лобзик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8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6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571680" y="4214880"/>
            <a:ext cx="4321080" cy="10746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3"/>
          <p:cNvSpPr/>
          <p:nvPr/>
        </p:nvSpPr>
        <p:spPr>
          <a:xfrm rot="10800000">
            <a:off x="5000760" y="4214520"/>
            <a:ext cx="3571920" cy="142884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Инструмент для фигурной резь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86520" y="6156360"/>
            <a:ext cx="1908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00120" y="1714680"/>
            <a:ext cx="6780240" cy="178560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Что необходимо сделать перед началом работы на сверлильном станке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9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500040" y="4071960"/>
            <a:ext cx="4321080" cy="10717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3"/>
          <p:cNvSpPr/>
          <p:nvPr/>
        </p:nvSpPr>
        <p:spPr>
          <a:xfrm rot="10800000">
            <a:off x="4857480" y="3785760"/>
            <a:ext cx="3786120" cy="17146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оверить наличие и исправность заземления 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86520" y="6016680"/>
            <a:ext cx="1908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7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9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28800" y="1785960"/>
            <a:ext cx="7488000" cy="1928880"/>
          </a:xfrm>
          <a:prstGeom prst="rect">
            <a:avLst/>
          </a:prstGeom>
          <a:solidFill>
            <a:srgbClr val="e6d6bd">
              <a:alpha val="26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ой измерительный инструмент применяется для измерения диаметра цилиндрических заготовок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  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571680" y="4143240"/>
            <a:ext cx="4321080" cy="1074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 rot="10800000">
            <a:off x="5214600" y="4214880"/>
            <a:ext cx="3311640" cy="107136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Штангенцирк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72320" y="6083280"/>
            <a:ext cx="1908000" cy="433440"/>
          </a:xfrm>
          <a:prstGeom prst="rect">
            <a:avLst/>
          </a:prstGeom>
          <a:ln w="0">
            <a:noFill/>
          </a:ln>
        </p:spPr>
      </p:pic>
      <p:sp>
        <p:nvSpPr>
          <p:cNvPr id="397" name="WordArt 6"/>
          <p:cNvSpPr txBox="1"/>
          <p:nvPr/>
        </p:nvSpPr>
        <p:spPr>
          <a:xfrm>
            <a:off x="714240" y="642960"/>
            <a:ext cx="6429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0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9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56800" y="1857240"/>
            <a:ext cx="7704360" cy="185760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азывается крепежна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деталь, состоящая из головки и стержня с винтовой нарезкой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1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0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571680" y="4357800"/>
            <a:ext cx="4321080" cy="9316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3"/>
          <p:cNvSpPr/>
          <p:nvPr/>
        </p:nvSpPr>
        <p:spPr>
          <a:xfrm rot="10800000">
            <a:off x="5143680" y="4285800"/>
            <a:ext cx="3311280" cy="114300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Шур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59600" y="6156360"/>
            <a:ext cx="1908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1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9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500120" y="1785960"/>
            <a:ext cx="6780240" cy="164304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Verdana"/>
              </a:rPr>
              <a:t>Как называется мастерская, в которой производится обработка древес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2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040" y="4286160"/>
            <a:ext cx="432108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 rot="10800000">
            <a:off x="5214600" y="4286160"/>
            <a:ext cx="3311640" cy="10000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то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Rectangle 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18480" y="6083280"/>
            <a:ext cx="19015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7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90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28840" y="2143080"/>
            <a:ext cx="6780240" cy="135720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Инструмент для ручного пиления древесины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3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571680" y="4143240"/>
            <a:ext cx="4321080" cy="9320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 rot="10800000">
            <a:off x="5143680" y="4214880"/>
            <a:ext cx="3311280" cy="10000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Нож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59600" y="6016680"/>
            <a:ext cx="1908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7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0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332000" y="1989000"/>
            <a:ext cx="6780240" cy="172584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ого цвета кнопку нужно нажать для выключения станка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4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642960" y="5572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1571760" y="5572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571680" y="4143240"/>
            <a:ext cx="4321080" cy="10004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 rot="10800000">
            <a:off x="5072040" y="4214880"/>
            <a:ext cx="2928960" cy="107136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рас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Rectangle 21" descr=""/>
          <p:cNvPicPr/>
          <p:nvPr/>
        </p:nvPicPr>
        <p:blipFill>
          <a:blip r:embed="rId2"/>
          <a:stretch/>
        </p:blipFill>
        <p:spPr>
          <a:xfrm>
            <a:off x="6900840" y="5827680"/>
            <a:ext cx="17985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70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90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428840" y="1928880"/>
            <a:ext cx="6912000" cy="135720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Что является рабочим режущим инструментом при сверлен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5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571680" y="4286160"/>
            <a:ext cx="4321080" cy="9320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3"/>
          <p:cNvSpPr/>
          <p:nvPr/>
        </p:nvSpPr>
        <p:spPr>
          <a:xfrm rot="10800000">
            <a:off x="5072040" y="4214880"/>
            <a:ext cx="3527280" cy="12952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вер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Rectangle 21" descr=""/>
          <p:cNvPicPr/>
          <p:nvPr/>
        </p:nvPicPr>
        <p:blipFill>
          <a:blip r:embed="rId1"/>
          <a:stretch/>
        </p:blipFill>
        <p:spPr>
          <a:xfrm>
            <a:off x="6986520" y="5943600"/>
            <a:ext cx="1908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7000"/>
                            </p:stCondLst>
                            <p:childTnLst>
                              <p:par>
                                <p:cTn id="8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900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357200" y="1642680"/>
            <a:ext cx="6780240" cy="185724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ужно передавать режущий инструмент и располагать его на верстаке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6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714240" y="55720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1"/>
          <p:cNvSpPr/>
          <p:nvPr/>
        </p:nvSpPr>
        <p:spPr>
          <a:xfrm>
            <a:off x="4143240" y="55720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357120" y="4071960"/>
            <a:ext cx="4321080" cy="8604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3"/>
          <p:cNvSpPr/>
          <p:nvPr/>
        </p:nvSpPr>
        <p:spPr>
          <a:xfrm rot="10800000">
            <a:off x="4786200" y="3786120"/>
            <a:ext cx="3857760" cy="164304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ередавать инструмент нужно ручками от себя, а класть на верстак ручками к себе  (5 бал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21" descr=""/>
          <p:cNvPicPr/>
          <p:nvPr/>
        </p:nvPicPr>
        <p:blipFill>
          <a:blip r:embed="rId1"/>
          <a:stretch/>
        </p:blipFill>
        <p:spPr>
          <a:xfrm>
            <a:off x="7113600" y="5900760"/>
            <a:ext cx="17985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1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0"/>
                            </p:stCondLst>
                            <p:childTnLst>
                              <p:par>
                                <p:cTn id="9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9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17"/>
          <p:cNvGrpSpPr/>
          <p:nvPr/>
        </p:nvGrpSpPr>
        <p:grpSpPr>
          <a:xfrm>
            <a:off x="579600" y="6095880"/>
            <a:ext cx="1541160" cy="420840"/>
            <a:chOff x="579600" y="6095880"/>
            <a:chExt cx="1541160" cy="420840"/>
          </a:xfrm>
        </p:grpSpPr>
        <p:pic>
          <p:nvPicPr>
            <p:cNvPr id="224" name="Rectangle 17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79600" y="6095880"/>
              <a:ext cx="1541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42960" y="614376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83f04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WordArt 20"/>
          <p:cNvSpPr txBox="1"/>
          <p:nvPr/>
        </p:nvSpPr>
        <p:spPr>
          <a:xfrm>
            <a:off x="2484360" y="836640"/>
            <a:ext cx="41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27" name="Rectangle 27"/>
          <p:cNvGrpSpPr/>
          <p:nvPr/>
        </p:nvGrpSpPr>
        <p:grpSpPr>
          <a:xfrm>
            <a:off x="7918560" y="6095880"/>
            <a:ext cx="865080" cy="420840"/>
            <a:chOff x="7918560" y="6095880"/>
            <a:chExt cx="865080" cy="420840"/>
          </a:xfrm>
        </p:grpSpPr>
        <p:pic>
          <p:nvPicPr>
            <p:cNvPr id="228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18560" y="6095880"/>
              <a:ext cx="8650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01000" y="614376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6b9f25"/>
                  </a:solidFill>
                  <a:uFillTx/>
                  <a:latin typeface="Arial"/>
                  <a:hlinkClick r:id="rId7" action="ppaction://hlinksldjump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WordArt 16"/>
          <p:cNvSpPr txBox="1"/>
          <p:nvPr/>
        </p:nvSpPr>
        <p:spPr>
          <a:xfrm>
            <a:off x="2786040" y="500040"/>
            <a:ext cx="338472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7d7d7d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авила игры</a:t>
            </a:r>
            <a:endParaRPr b="1" lang="en-US" sz="1800" spc="1" strike="noStrike">
              <a:ln w="10440">
                <a:solidFill>
                  <a:srgbClr val="7d7d7d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0440">
                <a:solidFill>
                  <a:srgbClr val="7d7d7d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57120" y="1214280"/>
            <a:ext cx="4357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анды поочередно выбирают ячейку и щёлкают по номеру мы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очитать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сле звукового сигнала дать уст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тобы узнать правильный ответ, щёлкнуть мышкой по экр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тобы продолжить игру, щёлкнуть мышкой по кнопке «Продолжить игр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8"/>
          <a:stretch/>
        </p:blipFill>
        <p:spPr>
          <a:xfrm>
            <a:off x="4643280" y="1500120"/>
            <a:ext cx="416736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500120" y="1785960"/>
            <a:ext cx="6780240" cy="192888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азывается природный рисунок на обработанной поверхности древесины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7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500040" y="3929040"/>
            <a:ext cx="4321080" cy="10033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 rot="10800000">
            <a:off x="5000400" y="4000320"/>
            <a:ext cx="3601800" cy="114300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Текс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Rectangle 21" descr=""/>
          <p:cNvPicPr/>
          <p:nvPr/>
        </p:nvPicPr>
        <p:blipFill>
          <a:blip r:embed="rId1"/>
          <a:stretch/>
        </p:blipFill>
        <p:spPr>
          <a:xfrm>
            <a:off x="6845400" y="6083280"/>
            <a:ext cx="1908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9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5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70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9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285560" y="2071440"/>
            <a:ext cx="6597720" cy="1654200"/>
          </a:xfrm>
          <a:prstGeom prst="rect">
            <a:avLst/>
          </a:prstGeom>
          <a:solidFill>
            <a:srgbClr val="e6d6bd">
              <a:alpha val="26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Для чего применяется морилка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8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500040" y="4357800"/>
            <a:ext cx="4321080" cy="9316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3"/>
          <p:cNvSpPr/>
          <p:nvPr/>
        </p:nvSpPr>
        <p:spPr>
          <a:xfrm rot="10800000">
            <a:off x="5000760" y="4214520"/>
            <a:ext cx="3643200" cy="150012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Для окрашивания в цвета других пород древесины 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Rectangle 21" descr=""/>
          <p:cNvPicPr/>
          <p:nvPr/>
        </p:nvPicPr>
        <p:blipFill>
          <a:blip r:embed="rId1"/>
          <a:stretch/>
        </p:blipFill>
        <p:spPr>
          <a:xfrm>
            <a:off x="6986520" y="6083280"/>
            <a:ext cx="1908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тература: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00040" y="107172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Симоненко В.Д. Технология. 5,6,7 классы: учеб. для общеобразоват. учреждений: вариант для мальчиков / В.Д. Симоненко, А.Т. Тищенко, П.С. Самородский; под ред. В.Д. Симоненко. – 6-е изд. – М.: Просвещение, 201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Тищенко А.Т. Технология. Индустриальные технологии: 5,6,7 классы: учебник для учащихся общеобразовательных учреждений / А.Т. Тищенко, В.Д. Симоненко. – М.: Вентана-Граф, 201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Всё обо всем: Большая энциклопедия / И.Грем, П. Стери. – М.: издательство «Астрель», 200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Новый политехнический словарь/Отв. ред. А.Ю.Ишлинский. – М.: БРЭ, 200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s://mnogo-dereva.ru/alter_img/strog/brus/l2.jp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бру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4"/>
          <p:cNvSpPr/>
          <p:nvPr/>
        </p:nvSpPr>
        <p:spPr>
          <a:xfrm>
            <a:off x="714240" y="8571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335772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2000160" y="2428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9"/>
          <p:cNvSpPr/>
          <p:nvPr/>
        </p:nvSpPr>
        <p:spPr>
          <a:xfrm>
            <a:off x="3357720" y="2428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0"/>
          <p:cNvSpPr/>
          <p:nvPr/>
        </p:nvSpPr>
        <p:spPr>
          <a:xfrm>
            <a:off x="600084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3"/>
          <p:cNvSpPr/>
          <p:nvPr/>
        </p:nvSpPr>
        <p:spPr>
          <a:xfrm>
            <a:off x="4643280" y="40719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6"/>
          <p:cNvSpPr/>
          <p:nvPr/>
        </p:nvSpPr>
        <p:spPr>
          <a:xfrm>
            <a:off x="2000160" y="857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7"/>
          <p:cNvSpPr/>
          <p:nvPr/>
        </p:nvSpPr>
        <p:spPr>
          <a:xfrm>
            <a:off x="4643280" y="2428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8"/>
          <p:cNvSpPr/>
          <p:nvPr/>
        </p:nvSpPr>
        <p:spPr>
          <a:xfrm>
            <a:off x="721512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1"/>
          <p:cNvSpPr/>
          <p:nvPr/>
        </p:nvSpPr>
        <p:spPr>
          <a:xfrm>
            <a:off x="3357720" y="857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2"/>
          <p:cNvSpPr/>
          <p:nvPr/>
        </p:nvSpPr>
        <p:spPr>
          <a:xfrm>
            <a:off x="5929200" y="2428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6"/>
          <p:cNvSpPr/>
          <p:nvPr/>
        </p:nvSpPr>
        <p:spPr>
          <a:xfrm>
            <a:off x="4643280" y="8571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7"/>
          <p:cNvSpPr/>
          <p:nvPr/>
        </p:nvSpPr>
        <p:spPr>
          <a:xfrm>
            <a:off x="7215120" y="2428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0"/>
          <p:cNvSpPr/>
          <p:nvPr/>
        </p:nvSpPr>
        <p:spPr>
          <a:xfrm>
            <a:off x="5929200" y="8571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2"/>
          <p:cNvSpPr/>
          <p:nvPr/>
        </p:nvSpPr>
        <p:spPr>
          <a:xfrm>
            <a:off x="78588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6"/>
          <p:cNvSpPr/>
          <p:nvPr/>
        </p:nvSpPr>
        <p:spPr>
          <a:xfrm>
            <a:off x="7215120" y="857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7"/>
          <p:cNvSpPr/>
          <p:nvPr/>
        </p:nvSpPr>
        <p:spPr>
          <a:xfrm>
            <a:off x="200016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9"/>
          <p:cNvSpPr/>
          <p:nvPr/>
        </p:nvSpPr>
        <p:spPr>
          <a:xfrm>
            <a:off x="714240" y="2428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85"/>
          <p:cNvSpPr txBox="1"/>
          <p:nvPr/>
        </p:nvSpPr>
        <p:spPr>
          <a:xfrm>
            <a:off x="3714840" y="1071720"/>
            <a:ext cx="287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3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2" name="WordArt 90"/>
          <p:cNvSpPr txBox="1"/>
          <p:nvPr/>
        </p:nvSpPr>
        <p:spPr>
          <a:xfrm>
            <a:off x="1071720" y="264312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7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3" name="WordArt 91"/>
          <p:cNvSpPr txBox="1"/>
          <p:nvPr/>
        </p:nvSpPr>
        <p:spPr>
          <a:xfrm>
            <a:off x="7572240" y="10000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6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4" name="WordArt 92"/>
          <p:cNvSpPr txBox="1"/>
          <p:nvPr/>
        </p:nvSpPr>
        <p:spPr>
          <a:xfrm>
            <a:off x="6286680" y="10000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5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5" name="WordArt 96"/>
          <p:cNvSpPr txBox="1"/>
          <p:nvPr/>
        </p:nvSpPr>
        <p:spPr>
          <a:xfrm>
            <a:off x="4857840" y="264312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0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6" name="WordArt 97"/>
          <p:cNvSpPr txBox="1"/>
          <p:nvPr/>
        </p:nvSpPr>
        <p:spPr>
          <a:xfrm>
            <a:off x="6143760" y="264312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1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7" name="WordArt 98"/>
          <p:cNvSpPr txBox="1"/>
          <p:nvPr/>
        </p:nvSpPr>
        <p:spPr>
          <a:xfrm>
            <a:off x="3714840" y="264312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9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8" name="WordArt 121"/>
          <p:cNvSpPr txBox="1"/>
          <p:nvPr/>
        </p:nvSpPr>
        <p:spPr>
          <a:xfrm>
            <a:off x="6215040" y="42861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7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9" name="WordArt 122"/>
          <p:cNvSpPr txBox="1"/>
          <p:nvPr/>
        </p:nvSpPr>
        <p:spPr>
          <a:xfrm>
            <a:off x="1000080" y="42861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3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0" name="WordArt 126"/>
          <p:cNvSpPr txBox="1"/>
          <p:nvPr/>
        </p:nvSpPr>
        <p:spPr>
          <a:xfrm>
            <a:off x="7429680" y="428616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8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1" name="WordArt 129"/>
          <p:cNvSpPr txBox="1"/>
          <p:nvPr/>
        </p:nvSpPr>
        <p:spPr>
          <a:xfrm>
            <a:off x="2357280" y="1071720"/>
            <a:ext cx="3574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2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2" name="WordArt 130"/>
          <p:cNvSpPr txBox="1"/>
          <p:nvPr/>
        </p:nvSpPr>
        <p:spPr>
          <a:xfrm>
            <a:off x="7429680" y="264312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2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3" name="WordArt 131"/>
          <p:cNvSpPr txBox="1"/>
          <p:nvPr/>
        </p:nvSpPr>
        <p:spPr>
          <a:xfrm>
            <a:off x="3571920" y="42861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5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4" name="WordArt 132"/>
          <p:cNvSpPr txBox="1"/>
          <p:nvPr/>
        </p:nvSpPr>
        <p:spPr>
          <a:xfrm>
            <a:off x="2214720" y="428616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4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5" name="WordArt 135"/>
          <p:cNvSpPr txBox="1"/>
          <p:nvPr/>
        </p:nvSpPr>
        <p:spPr>
          <a:xfrm>
            <a:off x="1071720" y="1071720"/>
            <a:ext cx="357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6" name="WordArt 137"/>
          <p:cNvSpPr txBox="1"/>
          <p:nvPr/>
        </p:nvSpPr>
        <p:spPr>
          <a:xfrm>
            <a:off x="4857840" y="428616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6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7" name="WordArt 139"/>
          <p:cNvSpPr txBox="1"/>
          <p:nvPr/>
        </p:nvSpPr>
        <p:spPr>
          <a:xfrm>
            <a:off x="4929120" y="1071720"/>
            <a:ext cx="4287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4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8" name="WordArt 142"/>
          <p:cNvSpPr txBox="1"/>
          <p:nvPr/>
        </p:nvSpPr>
        <p:spPr>
          <a:xfrm>
            <a:off x="2357280" y="2643120"/>
            <a:ext cx="357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8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grpSp>
        <p:nvGrpSpPr>
          <p:cNvPr id="269" name="Rectangle 151"/>
          <p:cNvGrpSpPr/>
          <p:nvPr/>
        </p:nvGrpSpPr>
        <p:grpSpPr>
          <a:xfrm>
            <a:off x="438120" y="6022800"/>
            <a:ext cx="1536840" cy="420840"/>
            <a:chOff x="438120" y="6022800"/>
            <a:chExt cx="1536840" cy="420840"/>
          </a:xfrm>
        </p:grpSpPr>
        <p:pic>
          <p:nvPicPr>
            <p:cNvPr id="270" name="Rectangle 15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438120" y="6022800"/>
              <a:ext cx="1536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00040" y="60721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83f04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ectangle 27"/>
          <p:cNvGrpSpPr/>
          <p:nvPr/>
        </p:nvGrpSpPr>
        <p:grpSpPr>
          <a:xfrm>
            <a:off x="7918560" y="6095880"/>
            <a:ext cx="865080" cy="420840"/>
            <a:chOff x="7918560" y="6095880"/>
            <a:chExt cx="865080" cy="420840"/>
          </a:xfrm>
        </p:grpSpPr>
        <p:pic>
          <p:nvPicPr>
            <p:cNvPr id="273" name="Rectangle 2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18560" y="6095880"/>
              <a:ext cx="8650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001000" y="614376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6b9f25"/>
                  </a:solidFill>
                  <a:uFillTx/>
                  <a:latin typeface="Arial"/>
                  <a:hlinkClick r:id="rId6" action="ppaction://hlinksldjump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43000" y="1785600"/>
            <a:ext cx="7066080" cy="178596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Объёмное изображение, выполненное от руки с соблюдением пропорций, – эт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857160" y="714240"/>
            <a:ext cx="387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571680" y="4071960"/>
            <a:ext cx="4321080" cy="10033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3"/>
          <p:cNvSpPr/>
          <p:nvPr/>
        </p:nvSpPr>
        <p:spPr>
          <a:xfrm rot="10800000">
            <a:off x="5072040" y="4071600"/>
            <a:ext cx="3500640" cy="114300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Технический рисунок</a:t>
            </a:r>
            <a:r>
              <a:rPr b="0" lang="ru-RU" sz="2800" spc="-1" strike="noStrike">
                <a:solidFill>
                  <a:srgbClr val="b45f07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18480" y="6156360"/>
            <a:ext cx="19015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14240" y="1714680"/>
            <a:ext cx="7920000" cy="207144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азывается приспособление для закрепления заготовки при обработке?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642960" y="714240"/>
            <a:ext cx="8319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  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00040" y="4071960"/>
            <a:ext cx="4321080" cy="11462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/>
          <p:cNvSpPr/>
          <p:nvPr/>
        </p:nvSpPr>
        <p:spPr>
          <a:xfrm rot="10800000">
            <a:off x="5000400" y="4214520"/>
            <a:ext cx="3816360" cy="114300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лесарные т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18480" y="6156360"/>
            <a:ext cx="1901520" cy="433440"/>
          </a:xfrm>
          <a:prstGeom prst="rect">
            <a:avLst/>
          </a:prstGeom>
          <a:ln w="0">
            <a:noFill/>
          </a:ln>
        </p:spPr>
      </p:pic>
      <p:sp>
        <p:nvSpPr>
          <p:cNvPr id="299" name="WordArt 6"/>
          <p:cNvSpPr txBox="1"/>
          <p:nvPr/>
        </p:nvSpPr>
        <p:spPr>
          <a:xfrm>
            <a:off x="785880" y="714240"/>
            <a:ext cx="42840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2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00120" y="1857240"/>
            <a:ext cx="6780240" cy="192888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 fontScale="96000"/>
          </a:bodyPr>
          <a:p>
            <a:pPr marL="254160" indent="-254160" algn="ctr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Инструмент для разметки окружност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3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714240" y="55720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500040" y="4500720"/>
            <a:ext cx="4321080" cy="928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3"/>
          <p:cNvSpPr/>
          <p:nvPr/>
        </p:nvSpPr>
        <p:spPr>
          <a:xfrm rot="10800000">
            <a:off x="5143680" y="4428720"/>
            <a:ext cx="3311280" cy="107172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Цирк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Rectangle 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5400" y="6016680"/>
            <a:ext cx="1908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85920" y="1928520"/>
            <a:ext cx="6780240" cy="214308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Verdana"/>
              </a:rPr>
              <a:t>Определите вид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Verdana"/>
              </a:rPr>
              <a:t>пило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4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571680" y="4429080"/>
            <a:ext cx="4321080" cy="11430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3"/>
          <p:cNvSpPr/>
          <p:nvPr/>
        </p:nvSpPr>
        <p:spPr>
          <a:xfrm rot="10800000">
            <a:off x="5072040" y="4571640"/>
            <a:ext cx="3284640" cy="9190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Б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5400" y="6016680"/>
            <a:ext cx="1908000" cy="426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http://profibrus.ru/wp-content/uploads/2014/03/Brus-80-80.jpeg"/>
          <p:cNvPicPr/>
          <p:nvPr/>
        </p:nvPicPr>
        <p:blipFill>
          <a:blip r:embed="rId4"/>
          <a:stretch/>
        </p:blipFill>
        <p:spPr>
          <a:xfrm>
            <a:off x="5000760" y="197640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785600"/>
            <a:ext cx="6780240" cy="1857240"/>
          </a:xfrm>
          <a:prstGeom prst="rect">
            <a:avLst/>
          </a:prstGeom>
          <a:solidFill>
            <a:srgbClr val="fde5cd">
              <a:alpha val="34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Расшифруйте название искусственного пиломатериала ДВП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5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428760" y="4143240"/>
            <a:ext cx="4321080" cy="1074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 rot="10800000">
            <a:off x="5143680" y="4071600"/>
            <a:ext cx="3311280" cy="142884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Древесно-волокнистая п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86520" y="6016680"/>
            <a:ext cx="1908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28840" y="2000160"/>
            <a:ext cx="6780240" cy="1643040"/>
          </a:xfrm>
          <a:prstGeom prst="rect">
            <a:avLst/>
          </a:prstGeom>
          <a:solidFill>
            <a:srgbClr val="e6d6bd">
              <a:alpha val="26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Видом художественной обработки металла является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6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42960" y="4143240"/>
            <a:ext cx="4321080" cy="1074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/>
          <p:cNvSpPr/>
          <p:nvPr/>
        </p:nvSpPr>
        <p:spPr>
          <a:xfrm rot="10800000">
            <a:off x="5285880" y="4214520"/>
            <a:ext cx="3286440" cy="115236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Чек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5 баллов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32640" y="6016680"/>
            <a:ext cx="19018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9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arni.70@mail.ru</cp:lastModifiedBy>
  <dcterms:modified xsi:type="dcterms:W3CDTF">2022-11-27T17:51:49Z</dcterms:modified>
  <cp:revision>234</cp:revision>
  <dc:subject/>
  <dc:title>Слайд 1</dc:title>
</cp:coreProperties>
</file>