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image15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jpeg" ContentType="image/jpeg"/>
  <Override PartName="/ppt/media/image23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F33-5159-4EE4-97A8-B5D325E5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077-9D9E-4624-8D7D-D85CB15F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DC8-880E-41C0-AB58-FFF2E445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3C3-183C-42CE-93BE-A098C5AD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249A-8FA1-4119-8BF2-0019C28A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FEDD-0BD7-4D51-8076-9460EB3E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8D14-70AD-45F6-A072-0DA27E87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7364-B68E-44AF-A6BD-770C887E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81CD-2F65-449B-A271-D0DA93B3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C03F-EDFC-4B8C-B92E-63AAB498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0FB4-D3AF-4BBE-BD53-EE22E98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AD4-DB0D-44D1-BF8E-993D803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58F4-400B-4D61-99F5-78231EF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7B8D-0C16-40F3-801A-CF84E033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0735-64B6-4CF8-A74A-17617C7E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8DB1-3F8A-48F2-984F-A4D43C30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A6F1-0D9C-415D-9131-B075CD0E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FD72-BAF5-497B-938B-EC66F703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AFA2-6A9A-4C08-9551-51B374D8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83DC-5E4F-4092-A05E-4950FC5D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8E27-5A9F-4145-A4AC-D5D45667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7D20-3905-412F-B71D-896B74C2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1C5-7CCF-4403-BE73-53DAE45E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F5A8-7CBE-46FB-9953-B798E363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ED36-8913-4E25-BAC8-503D9CA6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C7F8D-9C0B-4095-9471-175289D0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A600-2D31-4D75-82BA-5ADA45E2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DD1A-B593-48A9-9243-BF4BFFF7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44F0-AA31-428C-9FCD-18DA8AD2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B2A7-D100-4AE5-A990-EE4E9150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FBD8-EF2F-414B-895D-559D0F0F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D4642-D7FA-44B9-81B6-BCD81DFB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2033-DE24-40E3-AF09-DD81D7FF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C62-0B12-4772-B80D-EA764C9F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61B2-0659-41CC-8649-0DE6C1BB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BB53-164D-4CAC-BF56-E8F99350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5D76F-E165-49CB-AE04-D9C44EA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11BFD-6412-4642-AC72-39975DB6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8EF1C-584A-4DD5-B4AB-4906D0A8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0A9CC-F11F-40EF-9650-FD2161B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7AE85-2B4A-4F06-9D42-605F92B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0A755-96A6-4531-9FD6-D2ACBA7B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7387-777F-4B02-924E-D7F8DFA1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48C0F-8930-4F9E-B443-0286F3E9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F5E-CB81-47C1-A6FF-64E456E8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EAA9-6BA8-4CE7-81EB-298F3075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35F12-956C-4689-83BD-4C6AC65E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2C8EC-5A08-45E8-88B7-F755CF7D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8699C-ED08-4A26-90A1-77DF18DB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0513C-AAC1-45D4-93E3-5E3F02B3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0A8DD-D9F5-4CBD-B288-287C39D2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33DD8-1329-4308-9EEB-CC324092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D93E-5715-4011-B55B-F4B62343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1D30B-87D5-407C-B639-5644218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E57DF-DEB9-4E3D-9F46-72D5393D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E30-849E-4B5A-BBF8-CA026F37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F3188-3C22-460C-893A-AAD0BFE1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2E3-D0C2-45F8-B56E-10EA7839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04C-D542-4097-B525-F9F1858C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F4A-13CF-4F4C-8C7A-BCD6664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0957-461A-43CA-9C6C-1BB0BF82DC5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4DAC-504A-4B25-A796-0EE7672EFED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E890-33E9-4EA5-80A5-F1B812A5359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A1D6-9410-401C-BEE9-EF8BAA9D7A7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9F70-113E-4C31-A750-4A8EF4BF7CA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6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8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9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0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1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slide22.xm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5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6"/>
          <p:cNvSpPr txBox="1"/>
          <p:nvPr/>
        </p:nvSpPr>
        <p:spPr>
          <a:xfrm>
            <a:off x="2268360" y="306864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1" name="WordArt 5" descr="Бумажный пакет"/>
          <p:cNvPicPr/>
          <p:nvPr/>
        </p:nvPicPr>
        <p:blipFill>
          <a:blip r:embed="rId3"/>
          <a:stretch/>
        </p:blipFill>
        <p:spPr>
          <a:xfrm>
            <a:off x="633240" y="493560"/>
            <a:ext cx="8010720" cy="27259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2000160" y="4714920"/>
            <a:ext cx="542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Учитель технологии МБОУ «СОШ №1» г.Ем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Матыкин Валери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г. Емва, 2022 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357200" y="1785600"/>
            <a:ext cx="6994800" cy="185724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азывается профессия рабочего, занятого ручной обработкой древесины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7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1571760" y="5572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428760" y="4357800"/>
            <a:ext cx="4321080" cy="10033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/>
          <p:cNvSpPr/>
          <p:nvPr/>
        </p:nvSpPr>
        <p:spPr>
          <a:xfrm rot="10800000">
            <a:off x="5000760" y="4285800"/>
            <a:ext cx="3286080" cy="107172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толя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016680"/>
            <a:ext cx="19018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42640" y="1989000"/>
            <a:ext cx="7389720" cy="136872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Что такое школьный лобзик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8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6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571680" y="4214880"/>
            <a:ext cx="4321080" cy="10746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3"/>
          <p:cNvSpPr/>
          <p:nvPr/>
        </p:nvSpPr>
        <p:spPr>
          <a:xfrm rot="10800000">
            <a:off x="5000760" y="4214520"/>
            <a:ext cx="3571920" cy="142884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Инструмент для фигурной резь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86520" y="6156360"/>
            <a:ext cx="1908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00120" y="1714680"/>
            <a:ext cx="6780240" cy="178560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Что необходимо сделать перед началом работы на сверлильном станке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9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500040" y="4071960"/>
            <a:ext cx="4321080" cy="10717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3"/>
          <p:cNvSpPr/>
          <p:nvPr/>
        </p:nvSpPr>
        <p:spPr>
          <a:xfrm rot="10800000">
            <a:off x="4857480" y="3785760"/>
            <a:ext cx="3786120" cy="17146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оверить наличие и исправность заземления 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86520" y="6016680"/>
            <a:ext cx="1908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7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9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28800" y="1785960"/>
            <a:ext cx="7488000" cy="1928880"/>
          </a:xfrm>
          <a:prstGeom prst="rect">
            <a:avLst/>
          </a:prstGeom>
          <a:solidFill>
            <a:srgbClr val="e6d6bd">
              <a:alpha val="26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ой измерительный инструмент применяется для измерения диаметра цилиндрических заготовок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  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571680" y="4143240"/>
            <a:ext cx="4321080" cy="1074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 rot="10800000">
            <a:off x="5214600" y="4214880"/>
            <a:ext cx="3311640" cy="107136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Штангенцирк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72320" y="6083280"/>
            <a:ext cx="1908000" cy="433440"/>
          </a:xfrm>
          <a:prstGeom prst="rect">
            <a:avLst/>
          </a:prstGeom>
          <a:ln w="0">
            <a:noFill/>
          </a:ln>
        </p:spPr>
      </p:pic>
      <p:sp>
        <p:nvSpPr>
          <p:cNvPr id="397" name="WordArt 6"/>
          <p:cNvSpPr txBox="1"/>
          <p:nvPr/>
        </p:nvSpPr>
        <p:spPr>
          <a:xfrm>
            <a:off x="714240" y="642960"/>
            <a:ext cx="6429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0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9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56800" y="1857240"/>
            <a:ext cx="7704360" cy="185760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азывается крепежна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деталь, состоящая из головки и стержня с винтовой нарезкой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1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0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571680" y="4357800"/>
            <a:ext cx="4321080" cy="9316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3"/>
          <p:cNvSpPr/>
          <p:nvPr/>
        </p:nvSpPr>
        <p:spPr>
          <a:xfrm rot="10800000">
            <a:off x="5143680" y="4285800"/>
            <a:ext cx="3311280" cy="114300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Шур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59600" y="6156360"/>
            <a:ext cx="1908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1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9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500120" y="1785960"/>
            <a:ext cx="6780240" cy="164304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Verdana"/>
              </a:rPr>
              <a:t>Как называется мастерская, в которой производится обработка древес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2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040" y="4286160"/>
            <a:ext cx="432108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 rot="10800000">
            <a:off x="5214600" y="4286160"/>
            <a:ext cx="3311640" cy="10000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то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Rectangle 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18480" y="6083280"/>
            <a:ext cx="19015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7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90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28840" y="2143080"/>
            <a:ext cx="6780240" cy="135720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Инструмент для ручного пиления древесины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3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571680" y="4143240"/>
            <a:ext cx="4321080" cy="9320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 rot="10800000">
            <a:off x="5143680" y="4214880"/>
            <a:ext cx="3311280" cy="10000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Нож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59600" y="6016680"/>
            <a:ext cx="1908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7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0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332000" y="1989000"/>
            <a:ext cx="6780240" cy="172584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ого цвета кнопку нужно нажать для выключения станка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4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642960" y="5572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1571760" y="5572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571680" y="4143240"/>
            <a:ext cx="4321080" cy="10004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 rot="10800000">
            <a:off x="5072040" y="4214880"/>
            <a:ext cx="2928960" cy="107136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рас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Rectangle 21" descr=""/>
          <p:cNvPicPr/>
          <p:nvPr/>
        </p:nvPicPr>
        <p:blipFill>
          <a:blip r:embed="rId2"/>
          <a:stretch/>
        </p:blipFill>
        <p:spPr>
          <a:xfrm>
            <a:off x="6900840" y="5827680"/>
            <a:ext cx="17985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70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90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428840" y="1928880"/>
            <a:ext cx="6912000" cy="135720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Что является рабочим режущим инструментом при сверлен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5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571680" y="4286160"/>
            <a:ext cx="4321080" cy="9320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3"/>
          <p:cNvSpPr/>
          <p:nvPr/>
        </p:nvSpPr>
        <p:spPr>
          <a:xfrm rot="10800000">
            <a:off x="5072040" y="4214880"/>
            <a:ext cx="3527280" cy="12952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вер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Rectangle 21" descr=""/>
          <p:cNvPicPr/>
          <p:nvPr/>
        </p:nvPicPr>
        <p:blipFill>
          <a:blip r:embed="rId1"/>
          <a:stretch/>
        </p:blipFill>
        <p:spPr>
          <a:xfrm>
            <a:off x="6986520" y="5943600"/>
            <a:ext cx="1908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7000"/>
                            </p:stCondLst>
                            <p:childTnLst>
                              <p:par>
                                <p:cTn id="8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900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357200" y="1642680"/>
            <a:ext cx="6780240" cy="185724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ужно передавать режущий инструмент и располагать его на верстаке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6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714240" y="55720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1"/>
          <p:cNvSpPr/>
          <p:nvPr/>
        </p:nvSpPr>
        <p:spPr>
          <a:xfrm>
            <a:off x="4143240" y="55720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357120" y="4071960"/>
            <a:ext cx="4321080" cy="8604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3"/>
          <p:cNvSpPr/>
          <p:nvPr/>
        </p:nvSpPr>
        <p:spPr>
          <a:xfrm rot="10800000">
            <a:off x="4786200" y="3786120"/>
            <a:ext cx="3857760" cy="164304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ередавать инструмент нужно ручками от себя, а класть на верстак ручками к себе  (5 бал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21" descr=""/>
          <p:cNvPicPr/>
          <p:nvPr/>
        </p:nvPicPr>
        <p:blipFill>
          <a:blip r:embed="rId1"/>
          <a:stretch/>
        </p:blipFill>
        <p:spPr>
          <a:xfrm>
            <a:off x="7113600" y="5900760"/>
            <a:ext cx="17985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1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0"/>
                            </p:stCondLst>
                            <p:childTnLst>
                              <p:par>
                                <p:cTn id="9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9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17"/>
          <p:cNvGrpSpPr/>
          <p:nvPr/>
        </p:nvGrpSpPr>
        <p:grpSpPr>
          <a:xfrm>
            <a:off x="579600" y="6095880"/>
            <a:ext cx="1541160" cy="420840"/>
            <a:chOff x="579600" y="6095880"/>
            <a:chExt cx="1541160" cy="420840"/>
          </a:xfrm>
        </p:grpSpPr>
        <p:pic>
          <p:nvPicPr>
            <p:cNvPr id="224" name="Rectangle 17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79600" y="6095880"/>
              <a:ext cx="1541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42960" y="614376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83f04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WordArt 20"/>
          <p:cNvSpPr txBox="1"/>
          <p:nvPr/>
        </p:nvSpPr>
        <p:spPr>
          <a:xfrm>
            <a:off x="2484360" y="836640"/>
            <a:ext cx="41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27" name="Rectangle 27"/>
          <p:cNvGrpSpPr/>
          <p:nvPr/>
        </p:nvGrpSpPr>
        <p:grpSpPr>
          <a:xfrm>
            <a:off x="7918560" y="6095880"/>
            <a:ext cx="865080" cy="420840"/>
            <a:chOff x="7918560" y="6095880"/>
            <a:chExt cx="865080" cy="420840"/>
          </a:xfrm>
        </p:grpSpPr>
        <p:pic>
          <p:nvPicPr>
            <p:cNvPr id="228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18560" y="6095880"/>
              <a:ext cx="8650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01000" y="614376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6b9f25"/>
                  </a:solidFill>
                  <a:uFillTx/>
                  <a:latin typeface="Arial"/>
                  <a:hlinkClick r:id="rId7" action="ppaction://hlinksldjump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WordArt 16"/>
          <p:cNvSpPr txBox="1"/>
          <p:nvPr/>
        </p:nvSpPr>
        <p:spPr>
          <a:xfrm>
            <a:off x="2786040" y="500040"/>
            <a:ext cx="338472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7d7d7d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авила игры</a:t>
            </a:r>
            <a:endParaRPr b="1" lang="en-US" sz="1800" spc="1" strike="noStrike">
              <a:ln w="10440">
                <a:solidFill>
                  <a:srgbClr val="7d7d7d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0440">
                <a:solidFill>
                  <a:srgbClr val="7d7d7d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57120" y="1214280"/>
            <a:ext cx="4357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анды поочередно выбирают ячейку и щёлкают по номеру мы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очитать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сле звукового сигнала дать уст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тобы узнать правильный ответ, щёлкнуть мышкой по экр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тобы продолжить игру, щёлкнуть мышкой по кнопке «Продолжить игр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8"/>
          <a:stretch/>
        </p:blipFill>
        <p:spPr>
          <a:xfrm>
            <a:off x="4643280" y="1500120"/>
            <a:ext cx="416736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500120" y="1785960"/>
            <a:ext cx="6780240" cy="1928880"/>
          </a:xfrm>
          <a:prstGeom prst="rect">
            <a:avLst/>
          </a:prstGeom>
          <a:solidFill>
            <a:srgbClr val="e6d6bd">
              <a:alpha val="34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азывается природный рисунок на обработанной поверхности древесины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7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500040" y="3929040"/>
            <a:ext cx="4321080" cy="10033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 rot="10800000">
            <a:off x="5000400" y="4000320"/>
            <a:ext cx="3601800" cy="114300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Текс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Rectangle 21" descr=""/>
          <p:cNvPicPr/>
          <p:nvPr/>
        </p:nvPicPr>
        <p:blipFill>
          <a:blip r:embed="rId1"/>
          <a:stretch/>
        </p:blipFill>
        <p:spPr>
          <a:xfrm>
            <a:off x="6845400" y="6083280"/>
            <a:ext cx="1908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9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5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70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9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285560" y="2071440"/>
            <a:ext cx="6597720" cy="1654200"/>
          </a:xfrm>
          <a:prstGeom prst="rect">
            <a:avLst/>
          </a:prstGeom>
          <a:solidFill>
            <a:srgbClr val="e6d6bd">
              <a:alpha val="26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Для чего применяется морилка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8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500040" y="4357800"/>
            <a:ext cx="4321080" cy="9316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3"/>
          <p:cNvSpPr/>
          <p:nvPr/>
        </p:nvSpPr>
        <p:spPr>
          <a:xfrm rot="10800000">
            <a:off x="5000760" y="4214520"/>
            <a:ext cx="3643200" cy="150012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Для окрашивания в цвета других пород древесины 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Rectangle 21" descr=""/>
          <p:cNvPicPr/>
          <p:nvPr/>
        </p:nvPicPr>
        <p:blipFill>
          <a:blip r:embed="rId1"/>
          <a:stretch/>
        </p:blipFill>
        <p:spPr>
          <a:xfrm>
            <a:off x="6986520" y="6083280"/>
            <a:ext cx="1908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итература: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00040" y="107172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Симоненко В.Д. Технология. 5,6,7 классы: учеб. для общеобразоват. учреждений: вариант для мальчиков / В.Д. Симоненко, А.Т. Тищенко, П.С. Самородский; под ред. В.Д. Симоненко. – 6-е изд. – М.: Просвещение, 201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Тищенко А.Т. Технология. Индустриальные технологии: 5,6,7 классы: учебник для учащихся общеобразовательных учреждений / А.Т. Тищенко, В.Д. Симоненко. – М.: Вентана-Граф, 201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Всё обо всем: Большая энциклопедия / И.Грем, П. Стери. – М.: издательство «Астрель», 200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Новый политехнический словарь/Отв. ред. А.Ю.Ишлинский. – М.: БРЭ, 200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s://mnogo-dereva.ru/alter_img/strog/brus/l2.jp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бру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4"/>
          <p:cNvSpPr/>
          <p:nvPr/>
        </p:nvSpPr>
        <p:spPr>
          <a:xfrm>
            <a:off x="714240" y="8571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335772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2000160" y="2428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9"/>
          <p:cNvSpPr/>
          <p:nvPr/>
        </p:nvSpPr>
        <p:spPr>
          <a:xfrm>
            <a:off x="3357720" y="2428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0"/>
          <p:cNvSpPr/>
          <p:nvPr/>
        </p:nvSpPr>
        <p:spPr>
          <a:xfrm>
            <a:off x="600084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3"/>
          <p:cNvSpPr/>
          <p:nvPr/>
        </p:nvSpPr>
        <p:spPr>
          <a:xfrm>
            <a:off x="4643280" y="40719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6"/>
          <p:cNvSpPr/>
          <p:nvPr/>
        </p:nvSpPr>
        <p:spPr>
          <a:xfrm>
            <a:off x="2000160" y="857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7"/>
          <p:cNvSpPr/>
          <p:nvPr/>
        </p:nvSpPr>
        <p:spPr>
          <a:xfrm>
            <a:off x="4643280" y="2428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8"/>
          <p:cNvSpPr/>
          <p:nvPr/>
        </p:nvSpPr>
        <p:spPr>
          <a:xfrm>
            <a:off x="721512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1"/>
          <p:cNvSpPr/>
          <p:nvPr/>
        </p:nvSpPr>
        <p:spPr>
          <a:xfrm>
            <a:off x="3357720" y="857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2"/>
          <p:cNvSpPr/>
          <p:nvPr/>
        </p:nvSpPr>
        <p:spPr>
          <a:xfrm>
            <a:off x="5929200" y="2428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6"/>
          <p:cNvSpPr/>
          <p:nvPr/>
        </p:nvSpPr>
        <p:spPr>
          <a:xfrm>
            <a:off x="4643280" y="8571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7"/>
          <p:cNvSpPr/>
          <p:nvPr/>
        </p:nvSpPr>
        <p:spPr>
          <a:xfrm>
            <a:off x="7215120" y="2428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0"/>
          <p:cNvSpPr/>
          <p:nvPr/>
        </p:nvSpPr>
        <p:spPr>
          <a:xfrm>
            <a:off x="5929200" y="8571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2"/>
          <p:cNvSpPr/>
          <p:nvPr/>
        </p:nvSpPr>
        <p:spPr>
          <a:xfrm>
            <a:off x="78588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6"/>
          <p:cNvSpPr/>
          <p:nvPr/>
        </p:nvSpPr>
        <p:spPr>
          <a:xfrm>
            <a:off x="7215120" y="857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7"/>
          <p:cNvSpPr/>
          <p:nvPr/>
        </p:nvSpPr>
        <p:spPr>
          <a:xfrm>
            <a:off x="2000160" y="4071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9"/>
          <p:cNvSpPr/>
          <p:nvPr/>
        </p:nvSpPr>
        <p:spPr>
          <a:xfrm>
            <a:off x="714240" y="2428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85"/>
          <p:cNvSpPr txBox="1"/>
          <p:nvPr/>
        </p:nvSpPr>
        <p:spPr>
          <a:xfrm>
            <a:off x="3714840" y="1071720"/>
            <a:ext cx="287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3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2" name="WordArt 90"/>
          <p:cNvSpPr txBox="1"/>
          <p:nvPr/>
        </p:nvSpPr>
        <p:spPr>
          <a:xfrm>
            <a:off x="1071720" y="264312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7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3" name="WordArt 91"/>
          <p:cNvSpPr txBox="1"/>
          <p:nvPr/>
        </p:nvSpPr>
        <p:spPr>
          <a:xfrm>
            <a:off x="7572240" y="10000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6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4" name="WordArt 92"/>
          <p:cNvSpPr txBox="1"/>
          <p:nvPr/>
        </p:nvSpPr>
        <p:spPr>
          <a:xfrm>
            <a:off x="6286680" y="10000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5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5" name="WordArt 96"/>
          <p:cNvSpPr txBox="1"/>
          <p:nvPr/>
        </p:nvSpPr>
        <p:spPr>
          <a:xfrm>
            <a:off x="4857840" y="264312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0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6" name="WordArt 97"/>
          <p:cNvSpPr txBox="1"/>
          <p:nvPr/>
        </p:nvSpPr>
        <p:spPr>
          <a:xfrm>
            <a:off x="6143760" y="264312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1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7" name="WordArt 98"/>
          <p:cNvSpPr txBox="1"/>
          <p:nvPr/>
        </p:nvSpPr>
        <p:spPr>
          <a:xfrm>
            <a:off x="3714840" y="264312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9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8" name="WordArt 121"/>
          <p:cNvSpPr txBox="1"/>
          <p:nvPr/>
        </p:nvSpPr>
        <p:spPr>
          <a:xfrm>
            <a:off x="6215040" y="42861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7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9" name="WordArt 122"/>
          <p:cNvSpPr txBox="1"/>
          <p:nvPr/>
        </p:nvSpPr>
        <p:spPr>
          <a:xfrm>
            <a:off x="1000080" y="42861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3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0" name="WordArt 126"/>
          <p:cNvSpPr txBox="1"/>
          <p:nvPr/>
        </p:nvSpPr>
        <p:spPr>
          <a:xfrm>
            <a:off x="7429680" y="428616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8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1" name="WordArt 129"/>
          <p:cNvSpPr txBox="1"/>
          <p:nvPr/>
        </p:nvSpPr>
        <p:spPr>
          <a:xfrm>
            <a:off x="2357280" y="1071720"/>
            <a:ext cx="3574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2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2" name="WordArt 130"/>
          <p:cNvSpPr txBox="1"/>
          <p:nvPr/>
        </p:nvSpPr>
        <p:spPr>
          <a:xfrm>
            <a:off x="7429680" y="264312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2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3" name="WordArt 131"/>
          <p:cNvSpPr txBox="1"/>
          <p:nvPr/>
        </p:nvSpPr>
        <p:spPr>
          <a:xfrm>
            <a:off x="3571920" y="42861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5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4" name="WordArt 132"/>
          <p:cNvSpPr txBox="1"/>
          <p:nvPr/>
        </p:nvSpPr>
        <p:spPr>
          <a:xfrm>
            <a:off x="2214720" y="428616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4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5" name="WordArt 135"/>
          <p:cNvSpPr txBox="1"/>
          <p:nvPr/>
        </p:nvSpPr>
        <p:spPr>
          <a:xfrm>
            <a:off x="1071720" y="1071720"/>
            <a:ext cx="357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6" name="WordArt 137"/>
          <p:cNvSpPr txBox="1"/>
          <p:nvPr/>
        </p:nvSpPr>
        <p:spPr>
          <a:xfrm>
            <a:off x="4857840" y="428616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6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7" name="WordArt 139"/>
          <p:cNvSpPr txBox="1"/>
          <p:nvPr/>
        </p:nvSpPr>
        <p:spPr>
          <a:xfrm>
            <a:off x="4929120" y="1071720"/>
            <a:ext cx="4287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4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8" name="WordArt 142"/>
          <p:cNvSpPr txBox="1"/>
          <p:nvPr/>
        </p:nvSpPr>
        <p:spPr>
          <a:xfrm>
            <a:off x="2357280" y="2643120"/>
            <a:ext cx="357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8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grpSp>
        <p:nvGrpSpPr>
          <p:cNvPr id="269" name="Rectangle 151"/>
          <p:cNvGrpSpPr/>
          <p:nvPr/>
        </p:nvGrpSpPr>
        <p:grpSpPr>
          <a:xfrm>
            <a:off x="438120" y="6022800"/>
            <a:ext cx="1536840" cy="420840"/>
            <a:chOff x="438120" y="6022800"/>
            <a:chExt cx="1536840" cy="420840"/>
          </a:xfrm>
        </p:grpSpPr>
        <p:pic>
          <p:nvPicPr>
            <p:cNvPr id="270" name="Rectangle 15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438120" y="6022800"/>
              <a:ext cx="1536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00040" y="60721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83f04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ectangle 27"/>
          <p:cNvGrpSpPr/>
          <p:nvPr/>
        </p:nvGrpSpPr>
        <p:grpSpPr>
          <a:xfrm>
            <a:off x="7918560" y="6095880"/>
            <a:ext cx="865080" cy="420840"/>
            <a:chOff x="7918560" y="6095880"/>
            <a:chExt cx="865080" cy="420840"/>
          </a:xfrm>
        </p:grpSpPr>
        <p:pic>
          <p:nvPicPr>
            <p:cNvPr id="273" name="Rectangle 2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18560" y="6095880"/>
              <a:ext cx="8650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001000" y="614376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6b9f25"/>
                  </a:solidFill>
                  <a:uFillTx/>
                  <a:latin typeface="Arial"/>
                  <a:hlinkClick r:id="rId6" action="ppaction://hlinksldjump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43000" y="1785600"/>
            <a:ext cx="7066080" cy="178596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Объёмное изображение, выполненное от руки с соблюдением пропорций, – эт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857160" y="714240"/>
            <a:ext cx="387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1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571680" y="4071960"/>
            <a:ext cx="4321080" cy="10033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3"/>
          <p:cNvSpPr/>
          <p:nvPr/>
        </p:nvSpPr>
        <p:spPr>
          <a:xfrm rot="10800000">
            <a:off x="5072040" y="4071600"/>
            <a:ext cx="3500640" cy="114300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Технический рисунок</a:t>
            </a:r>
            <a:r>
              <a:rPr b="0" lang="ru-RU" sz="2800" spc="-1" strike="noStrike">
                <a:solidFill>
                  <a:srgbClr val="b45f07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</a:rPr>
              <a:t>(3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18480" y="6156360"/>
            <a:ext cx="19015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14240" y="1714680"/>
            <a:ext cx="7920000" cy="207144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Как называется приспособление для закрепления заготовки при обработке?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642960" y="714240"/>
            <a:ext cx="8319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  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00040" y="4071960"/>
            <a:ext cx="4321080" cy="11462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/>
          <p:cNvSpPr/>
          <p:nvPr/>
        </p:nvSpPr>
        <p:spPr>
          <a:xfrm rot="10800000">
            <a:off x="5000400" y="4214520"/>
            <a:ext cx="3816360" cy="114300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лесарные т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5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18480" y="6156360"/>
            <a:ext cx="1901520" cy="433440"/>
          </a:xfrm>
          <a:prstGeom prst="rect">
            <a:avLst/>
          </a:prstGeom>
          <a:ln w="0">
            <a:noFill/>
          </a:ln>
        </p:spPr>
      </p:pic>
      <p:sp>
        <p:nvSpPr>
          <p:cNvPr id="299" name="WordArt 6"/>
          <p:cNvSpPr txBox="1"/>
          <p:nvPr/>
        </p:nvSpPr>
        <p:spPr>
          <a:xfrm>
            <a:off x="785880" y="714240"/>
            <a:ext cx="42840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2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00120" y="1857240"/>
            <a:ext cx="6780240" cy="192888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07f09"/>
            </a:solidFill>
            <a:miter/>
          </a:ln>
        </p:spPr>
        <p:txBody>
          <a:bodyPr lIns="182880" tIns="91440" anchor="t">
            <a:normAutofit fontScale="96000"/>
          </a:bodyPr>
          <a:p>
            <a:pPr marL="254160" indent="-254160" algn="ctr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Инструмент для разметки окружност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3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714240" y="55720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500040" y="4500720"/>
            <a:ext cx="4321080" cy="928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3"/>
          <p:cNvSpPr/>
          <p:nvPr/>
        </p:nvSpPr>
        <p:spPr>
          <a:xfrm rot="10800000">
            <a:off x="5143680" y="4428720"/>
            <a:ext cx="3311280" cy="107172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Цирк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Rectangle 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5400" y="6016680"/>
            <a:ext cx="1908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85920" y="1928520"/>
            <a:ext cx="6780240" cy="2143080"/>
          </a:xfrm>
          <a:prstGeom prst="rect">
            <a:avLst/>
          </a:prstGeom>
          <a:solidFill>
            <a:srgbClr val="e6d6bd">
              <a:alpha val="40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Verdana"/>
              </a:rPr>
              <a:t>Определите вид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Verdana"/>
              </a:rPr>
              <a:t>пило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4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571680" y="4429080"/>
            <a:ext cx="4321080" cy="11430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3"/>
          <p:cNvSpPr/>
          <p:nvPr/>
        </p:nvSpPr>
        <p:spPr>
          <a:xfrm rot="10800000">
            <a:off x="5072040" y="4571640"/>
            <a:ext cx="3284640" cy="91908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Б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5400" y="6016680"/>
            <a:ext cx="1908000" cy="426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http://profibrus.ru/wp-content/uploads/2014/03/Brus-80-80.jpeg"/>
          <p:cNvPicPr/>
          <p:nvPr/>
        </p:nvPicPr>
        <p:blipFill>
          <a:blip r:embed="rId4"/>
          <a:stretch/>
        </p:blipFill>
        <p:spPr>
          <a:xfrm>
            <a:off x="5000760" y="197640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785600"/>
            <a:ext cx="6780240" cy="1857240"/>
          </a:xfrm>
          <a:prstGeom prst="rect">
            <a:avLst/>
          </a:prstGeom>
          <a:solidFill>
            <a:srgbClr val="fde5cd">
              <a:alpha val="34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Расшифруйте название искусственного пиломатериала ДВП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5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428760" y="4143240"/>
            <a:ext cx="4321080" cy="1074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 rot="10800000">
            <a:off x="5143680" y="4071600"/>
            <a:ext cx="3311280" cy="142884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Древесно-волокнистая п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86520" y="6016680"/>
            <a:ext cx="1908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Verdana"/>
              </a:rPr>
              <a:t>ВНИМАНИЕ!  ВОПРОС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28840" y="2000160"/>
            <a:ext cx="6780240" cy="1643040"/>
          </a:xfrm>
          <a:prstGeom prst="rect">
            <a:avLst/>
          </a:prstGeom>
          <a:solidFill>
            <a:srgbClr val="e6d6bd">
              <a:alpha val="26000"/>
            </a:srgbClr>
          </a:solidFill>
          <a:ln w="57240">
            <a:solidFill>
              <a:srgbClr val="ff9933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Видом художественной обработки металла является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AutoShape 5">
            <a:hlinkClick r:id="rId1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 Antiqua"/>
              </a:rPr>
              <a:t>6</a:t>
            </a:r>
            <a:endParaRPr b="1" lang="en-US" sz="24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6bd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42960" y="4143240"/>
            <a:ext cx="4321080" cy="1074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/>
          <p:cNvSpPr/>
          <p:nvPr/>
        </p:nvSpPr>
        <p:spPr>
          <a:xfrm rot="10800000">
            <a:off x="5285880" y="4214520"/>
            <a:ext cx="3286440" cy="1152360"/>
          </a:xfrm>
          <a:prstGeom prst="roundRect">
            <a:avLst>
              <a:gd name="adj" fmla="val 16667"/>
            </a:avLst>
          </a:prstGeom>
          <a:solidFill>
            <a:srgbClr val="fde5cd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Чек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(5 баллов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Rectangle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32640" y="6016680"/>
            <a:ext cx="19018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9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arni.70@mail.ru</cp:lastModifiedBy>
  <dcterms:modified xsi:type="dcterms:W3CDTF">2022-11-27T17:51:49Z</dcterms:modified>
  <cp:revision>234</cp:revision>
  <dc:subject/>
  <dc:title>Слайд 1</dc:title>
</cp:coreProperties>
</file>