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6BA-3826-4E0F-8D73-BA439C9D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603-9C47-483B-9CA4-A6A41291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1648-E59D-4D2A-8C79-441C921E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2843-1B2F-4608-9DB6-1A982411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780-DCE0-4401-9B3C-27218726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87E-8B5E-4F5C-B91C-08C9FA4F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FBC6-3578-4724-8745-9059AA34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38D8-2931-4958-A73F-B26BCF83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5BC-3EF3-4F29-B8E7-78A0F9C3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EF4-FE7F-444A-B1AF-77BF0767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9D9-B2B0-4EE9-B9D1-F92C30D0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B54B-0981-498F-98D3-BBAB2209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D906-697D-42F1-B928-417FD8F5C10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ЕКЦИЯ 5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ШИНЫ ДЛЯ ПОСТРОЙКИ ДОРОЖНЫХ ПОКРЫТ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2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4267080" cy="28191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152280" y="3809880"/>
            <a:ext cx="44197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Распределительные шнеки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 - наружная опора левого шнека; 2,9- контактные датчики количества смеси в шнековой камере соответственно левой и правой; 3, 8 - контактные датчики количества смеси соответственно на левом и правом питателях; 4, 10 - соответственно левый и правый шнеки; 5, 7 - разгрузочные концы соответственно левого и правого питателей; 6 - стойка с опорами и клиноременными редукторами привода шнеков: 11 - наружна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пора правого шнек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876920" y="838080"/>
            <a:ext cx="4068720" cy="21751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4800600" y="3200400"/>
            <a:ext cx="4191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Компоновка и привод питателей и шнеков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 - независимые гидромоторы привода правого и левого шнеков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 - правый распределительный шнек; 3 - независимые гидромоторы привода правого и левого питателей; 4 - левый распределительный шнек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5 - тяговые цепи питателе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3" descr=""/>
          <p:cNvPicPr/>
          <p:nvPr/>
        </p:nvPicPr>
        <p:blipFill>
          <a:blip r:embed="rId1"/>
          <a:stretch/>
        </p:blipFill>
        <p:spPr>
          <a:xfrm>
            <a:off x="2381400" y="384120"/>
            <a:ext cx="4983120" cy="38829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914400" y="4572000"/>
            <a:ext cx="754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хема блока рабочих органов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 - распределяющий шнек; 2 - боковой несущий рычаг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 - выравнивающий щит. 4 - трамбующий брус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 - вибратор; 6 - кожух обогревателя выглаживающей плиты; 7 - выглаживающая пли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4"/>
          <p:cNvSpPr/>
          <p:nvPr/>
        </p:nvSpPr>
        <p:spPr>
          <a:xfrm>
            <a:off x="533520" y="380880"/>
            <a:ext cx="8001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Если асфальтоукладчик работает с перерывами под загрузку, его производительность (П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Verdana"/>
              </a:rPr>
              <a:t>асф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можно рассчитать по формулам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Объект 6"/>
              <p:cNvSpPr txBox="1"/>
              <p:nvPr/>
            </p:nvSpPr>
            <p:spPr>
              <a:xfrm>
                <a:off x="1139760" y="1600200"/>
                <a:ext cx="68644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П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сф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бун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исп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бун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л</m:t>
                            </m:r>
                          </m:sub>
                        </m:sSub>
                        <m:r>
                          <m:t xml:space="preserve">h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фак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зап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ман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Rectangle 4"/>
          <p:cNvSpPr/>
          <p:nvPr/>
        </p:nvSpPr>
        <p:spPr>
          <a:xfrm>
            <a:off x="4315320" y="7488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ил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Объект 8"/>
              <p:cNvSpPr txBox="1"/>
              <p:nvPr/>
            </p:nvSpPr>
            <p:spPr>
              <a:xfrm>
                <a:off x="1136520" y="3733920"/>
                <a:ext cx="6794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П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сф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бун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исп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м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бун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л</m:t>
                            </m:r>
                          </m:sub>
                        </m:sSub>
                        <m:r>
                          <m:t xml:space="preserve">h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фак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зап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ман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Прямоугольник 9"/>
          <p:cNvSpPr/>
          <p:nvPr/>
        </p:nvSpPr>
        <p:spPr>
          <a:xfrm>
            <a:off x="984240" y="32004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л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Автоматика нивелирования для асфальтоукладчико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строительстве не сложных объектов на укладчике устанавливают, как минимум, датчики контроля подачи материала на распределительный шнек, датчик уклона, контролирующий угол наклона плиты к горизонту, один или два датчика высоты, контролирующих толщину укладываемого слоя. На ответственных объектах, особенно на укладке широкой полосы дорожной одежды, при раздвинутой плите, используют более сложные системы автоматики нивелиро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Объект 6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42955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Асфальтовые катк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520" y="1219320"/>
            <a:ext cx="4038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сфальтовый каток предназначен для послойного уплотнения асфальтобетонной смеси с целью придания ей прочности водонепроницаемости и ровности, оговоренных техническими условиями на автодорожные и аэродромные асфальтобетонные покрыт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щим конструктивным признаком всех катков, является использование движителя не только по прямому назначению но одновременно, и для уплотнения опорной поверхности. Основное требование, предъявляемое к асфальтобетонному покрытию - его ровность, поэтому для уплотнения асфальта используются только катки гладковальцевые и пневмоколесные с гладким протектор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Объект 6" descr=""/>
          <p:cNvPicPr/>
          <p:nvPr/>
        </p:nvPicPr>
        <p:blipFill>
          <a:blip r:embed="rId1"/>
          <a:stretch/>
        </p:blipFill>
        <p:spPr>
          <a:xfrm>
            <a:off x="4686480" y="1219320"/>
            <a:ext cx="3662280" cy="2543040"/>
          </a:xfrm>
          <a:prstGeom prst="rect">
            <a:avLst/>
          </a:prstGeom>
          <a:ln w="0">
            <a:noFill/>
          </a:ln>
        </p:spPr>
      </p:pic>
      <p:pic>
        <p:nvPicPr>
          <p:cNvPr id="82" name="Объект 8" descr=""/>
          <p:cNvPicPr/>
          <p:nvPr/>
        </p:nvPicPr>
        <p:blipFill>
          <a:blip r:embed="rId2"/>
          <a:stretch/>
        </p:blipFill>
        <p:spPr>
          <a:xfrm>
            <a:off x="4648320" y="4038480"/>
            <a:ext cx="37386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Устройство катко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520" y="1143000"/>
            <a:ext cx="4038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ток имеет ведущий валец и ведомый. Привод ведущих вальцов — у большинства катков механический , но на современных машинах гидравлический, удобство управления машиной, которое обеспечивает гидротрансмиссия, и компактностью гидропривода, но в основном тем, что практически все современные катки являются вибрационными, с гидроприводом вибратора, и в системе рулевого управления так же используется гидропривод, таким образом при использовании гидропривода и на колесах достигается оптимизация конструк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Объект 6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26708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иды катко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952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 способу передвижения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тки делятся на прицепные и самоходн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Прицепные катки для передвижения используют энергию тягач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Самоходные катки оснащены собственным двигателем, приводящим колеса или вальцы в движ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 количеству осей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тки делятся на одно-, двух- и трехосн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 количеству вальцов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одно- двух- и трёхвальцов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Объект 4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3434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иды катко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95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 виду воздействия на уплотняемый материал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атические катки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плотняют материал, сдавливая его собственным вес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ибрационные катки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ащены специальным устройством — вибратором, который представляет собой вращающийся груз со смещенным относительно оси вращения центром масс, что создает мощную вибраци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Объект 4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267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иды катко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 виду вальцов катки бываю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тки с гладкими вальцами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шины с гладкими широкими металлическими колесами. (асфальтоукладочные рабо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улачковые катки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крыты кулачками — небольшими выступ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шетчатые катки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ащены вальцами с поверхностью из решёт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невмоколесные катки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ащены собранными в пакеты колесами с пневматическими шинами. 5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мбинированные катки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ставляют собой комбинацию вышеперечисленных кат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Объект 4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иды катко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тки делятся по массе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 ручных (менее 1 тонны) до тяжёлых (более 16 тонн) и даже сверхтяжелых (до 100 тонн и боле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ля грунта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лубина трамбовки может, для различных конструкций от 20—30 см до 150—160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ременные дорожные катки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собны развивать скорость до 14 км/ч, но для большинства максимальная скорость — 2—5 км/ч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Объект 4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3484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Машины для укладки и обслуживания дорожных покрытий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76520"/>
            <a:ext cx="4114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рожные фрезы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машины для удаления верхнего слоя дорожных покрыт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сфальтоукладчик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— машины для укладки слоёв асфальтобетонного покрыт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тк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— машины для утрамбовки и уплотнения грунта, асфальта и т. 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Объект 6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319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6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257800" cy="28954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5334120" y="83808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Каток, адаптируемый к работе на грунтах и асфальте сменой блока пневмокатков пневмоколесам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304920" y="3187800"/>
            <a:ext cx="85341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 вентиляционный люк; 2 - кабина машиниста; 3 кресло-ложемент, фиксируемое в трех положениях; 4 - воздухоохладитель; 5 - откидывающийся капот моторного отсека; 6 - сухой воздушный фильтр; 7 - насос переменной производительности для ходового привода; 8 - насос переменной производительности для привода вибраторов; 9 - гидрообъемный привод оси пневмоколес; 10 - два сменных колеса для уплотнения грунтов; 11- четыре пневмокатка для уплотнения асфальтобетона: 12 - задний мост с планетарным дифференциалом и постоянно замкнутыми тормозами в ступицах; 13 - электронный блок управления частотой и продолжительностью включения системы орошения вальцев; 14 - два независимых контура системы орошения; 15 - шарнир сочленения передней и задней рам; 16 - гидромотор привода жесткого вальца с постоянно замкнутым тормозом; 17 - самонастраивающийся вилколановый скребок жесткого вальца: 18 - упругая подвеска жесткого вальца на вибродемпферах, прикрепленных к фланцам; 19 - смазочный резервуар; 20 - двухрежимный вибратор с комбинированной регулировкой амплитудно-частотной характеристики; 21 - вибродемпферы с металлическими монтажными пластинами: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 - гидрообъемный привод вибратора; 23 - обогреватель кабины; 24 - тонированные стекла; 25 - рычаг программирования скорости движения и режима вибрации; 26 - панель управления, передвигающаяся вместе с креслом; 27 - передние и задние стеклоочистители; 28 - зеркало заднего вида; 29 - световые дорожные сигналы; 30 - многорежимный вентиля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7" descr=""/>
          <p:cNvPicPr/>
          <p:nvPr/>
        </p:nvPicPr>
        <p:blipFill>
          <a:blip r:embed="rId1"/>
          <a:srcRect l="0" t="0" r="0" b="2186"/>
          <a:stretch/>
        </p:blipFill>
        <p:spPr>
          <a:xfrm>
            <a:off x="914400" y="1066680"/>
            <a:ext cx="7543800" cy="39880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914400" y="54864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омбинированный каток со свернутым «тепловым» фартуком у блока пневмоколес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Интернет источник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s://ru.wikipedia.org/wiki/%D0%94%D0%BE%D1%80%D0%BE%D0%B6%D0%BD%D0%B0%D1%8F_%D1%84%D1%80%D0%B5%D0%B7%D0%B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bing.com/images/search?q=%D0%B2%D0%B8%D0%B4%D1%8B%20%D0%BA%D0%B0%D1%82%D0%BA%D0%B0&amp;qs=n&amp;form=QBIR&amp;pq=%D0%B2%D0%B8%D0%B4%D1%8B%20%D0%BA%D0%B0%D1%82%D0%BA%D0%B0&amp;sc=0-0&amp;sp=-1&amp;sk=&amp;ajf=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Дорожные фрез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520" y="152352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рожная фрез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дорожная машина, предназначенная для рыхления и измельчения грунта. Делятся на самоходные, навесные и прицепные. Используются для фрезерования верхнего слоя дорожных . Часто используются при ремонте автомобильных доро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Объект 6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Фрезерный барабан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13712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ным исполнительным инструментом дорожной фрезы является фрезерный барабан. Барабан содержит на своей поверхности подрезные резцедержатели, множество резцедержателей на основной поверхности и некоторое количество забрасывающих лопаток для сбора срезанного материал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ятся в зависимости от количества, размеров и расположения резцов на типы: Стандартные, Профилирующие, Микрофрезерные, Специальные, Стабилизирующ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Объект 6" descr=""/>
          <p:cNvPicPr/>
          <p:nvPr/>
        </p:nvPicPr>
        <p:blipFill>
          <a:blip r:embed="rId1"/>
          <a:stretch/>
        </p:blipFill>
        <p:spPr>
          <a:xfrm>
            <a:off x="4952880" y="169560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Асфальтоукладчик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520" y="990360"/>
            <a:ext cx="4038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Асфальтоукладчик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— сложная линейная дорожно-строительная машина. Асфальтоукладчики предназначены для укладки слоев асфальтобетонного покрытия, включающей распределение и предварительное уплотнение асфальтобетонной смеси по нижележащему слою дорожной одежды. Обычно работает в паре с грузовиком, поставляющим для него смес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108320" cy="2533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41936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усеничный асфальтоукладч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6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70920" cy="35402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885960" y="4419720"/>
            <a:ext cx="729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Большое число опорных катков и упругие траковые подушки обеспечивают равномерное распределение массы машины по поверхности покрытия и предотвращают его поврежд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7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705360" cy="4032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2770920" y="472428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Колесный асфальтоукладчик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838080" y="5062680"/>
            <a:ext cx="7696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Колесный движитель более пригоден для машин малой и средней производительности, работающих в городских условиях, где частые перебазировки требуют от асфальтоукладчика повышенных транспортных скоростей, а передвигается машина в основном по твердым покрытиям. Транспортная скорость колесного асфальтоукладчика достигает 20 км/ч и более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0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5943600" cy="3780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762120" y="4495680"/>
            <a:ext cx="7619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грегаты асфальтоукладчика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 - рама шасси; 2 - упорный ролик; 3 - бункер; 4 - моторный отсек; 5 пост управления; 6 - гидроцилиндр подвески блока рабочих органов; 7 - блок рабочих органов; 8 - распределительный шнек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 - ведущие задние колеса: 10 - несущий рычаг блока рабочих органов; 11- гидроцилиндр регулировки; 12 - балансирная тележка передних колес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1" descr=""/>
          <p:cNvPicPr/>
          <p:nvPr/>
        </p:nvPicPr>
        <p:blipFill>
          <a:blip r:embed="rId1"/>
          <a:stretch/>
        </p:blipFill>
        <p:spPr>
          <a:xfrm>
            <a:off x="2133720" y="266760"/>
            <a:ext cx="4302000" cy="3429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609480" y="3886200"/>
            <a:ext cx="769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Бункер асфальтоукладчик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 - наклоняемые, стенки бункера; 2 - тоннели под моторным отсеком для подачи смеси к распределительным шнекам; 3 - скребковые питатели; 4 - центральный гребень, закрывающий внутренние тяговые цепи питателе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21-11-04T22:46:57Z</dcterms:modified>
  <cp:revision>1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