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403-F3CD-4C85-B668-939438D2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A6D-7199-40EC-8D78-C80122C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C34-6889-4A93-A630-5528BA3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5B5-7F2F-44CB-9F60-6B1AEF49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E0E8-F447-4511-84B9-215389C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4D9-342B-45FB-A4D6-FAB75FF4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49DE-8D73-4703-9FF2-324CDB72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D48-9630-4CB8-AB38-224E99F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5397-BAF9-4FEF-9792-6DC944E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D242-B7AA-4019-82D8-B917817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18E-FD7B-4708-8390-7B79CC0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2EE-8AA9-4676-B83E-BCDD6EE8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AA93-3F7E-45B8-9E09-3FB526E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176-16F2-4A4C-83C0-B105E38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82A3-D872-4DE5-A7A2-A578702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213-D849-4E18-8419-5029282F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D5BB-B8E0-452B-A523-28D23997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3011-B790-4750-8FDA-B54BED1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D967-8A59-41DD-9A41-6BED0EC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17CC-F33A-4038-90ED-F0FF5800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6B5E-422C-4C0A-9B7D-2ACB145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F562-18BA-4BCC-B795-48CCF86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504-4B57-4989-8369-33D3FF7B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F20D-1DEE-48F9-BAB2-1D4BDC3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0220-8FD3-4981-9CC0-4C2D071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277C-467C-43FE-A25F-6FCD841A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7861-C66D-4290-B0EE-A1C8EDA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3C6B-04E2-4795-BDA7-011507E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26C4-E602-439C-8604-D1EA808D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D709-C121-40F7-97B9-3593977F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6663-55AC-467F-83B4-6D69AC4F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CEEF-0408-44CA-B1DD-A199347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49B4-D718-43D7-8BF5-43C4CD03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A1E-8802-4F9B-85EA-73577B7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31E6-8BA4-4608-8ED9-E8F68FD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4D5E-29DB-4405-BF15-327F62D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4E34-4F4C-46BD-BB89-EA37AC9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E12F-D4BE-49B9-ADC7-590FC74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BAC5-C6AF-43C2-8FC6-256886F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FB3B-9676-4061-ACCE-0E44629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8FDA-45ED-4A19-8803-9CFABE6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58BF-8734-4196-A80E-97ADB026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8811-CA69-436C-B3CC-11A45FC9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0057-DE5D-4B9D-AC5E-359CB152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6F3-3EAB-4DF4-8305-5A725209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66BF-CA4A-4716-8700-40644567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06EA-1BB9-4202-A7D2-5F469958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B734-F813-4272-956E-F7F02488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26BF-5AC3-4159-AEDC-85E720F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FF2F-BC3D-4396-B10E-A835036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995F-21D2-4BE4-9837-79E24E0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7574-9000-4EE1-AC05-9E9FEA9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236E8-40AF-4686-99AB-8CFEAA2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A49B-2E07-4EA8-9937-1B71D364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FF48-B670-4FB3-A9D2-037D9920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E33-1B85-46EA-A5A6-BAEB8B3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39D9-281C-4D72-84E4-A573001B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FD9-EBE7-4DE8-A736-4C45D36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DD0-708E-4BB3-8822-6620D81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C75-C1BD-4E5B-A7F7-FCF03F9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E3B41-C621-41DA-A596-4482EF21288B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 hidden="1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 hidden="1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Прямоугольник с одним вырезанным скругленным углом 8"/>
          <p:cNvSpPr/>
          <p:nvPr/>
        </p:nvSpPr>
        <p:spPr>
          <a:xfrm flipV="1" rot="420000">
            <a:off x="3165480" y="1108080"/>
            <a:ext cx="5257440" cy="4114440"/>
          </a:xfrm>
          <a:prstGeom prst="snipRoundRect">
            <a:avLst>
              <a:gd name="adj1" fmla="val 0"/>
              <a:gd name="adj2" fmla="val 3646"/>
            </a:avLst>
          </a:prstGeom>
          <a:solidFill>
            <a:srgbClr val="ffffff"/>
          </a:solidFill>
          <a:ln cap="rnd" w="3175">
            <a:solidFill>
              <a:srgbClr val="c0c0c0"/>
            </a:solidFill>
            <a:round/>
          </a:ln>
          <a:effectLst>
            <a:outerShdw algn="tl" blurRad="63360" dir="7502171" dist="38251" kx="100000" rotWithShape="0" sx="98500" sy="100080">
              <a:srgbClr val="000000">
                <a:alpha val="25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52" name="Прямоугольный треугольник 11"/>
          <p:cNvSpPr/>
          <p:nvPr/>
        </p:nvSpPr>
        <p:spPr>
          <a:xfrm flipV="1" rot="420000">
            <a:off x="8003880" y="5358600"/>
            <a:ext cx="155160" cy="155160"/>
          </a:xfrm>
          <a:prstGeom prst="rtTriangle">
            <a:avLst/>
          </a:prstGeom>
          <a:solidFill>
            <a:srgbClr val="ffffff"/>
          </a:solidFill>
          <a:ln w="12700">
            <a:solidFill>
              <a:srgbClr val="ffffff"/>
            </a:solidFill>
            <a:bevel/>
          </a:ln>
          <a:effectLst>
            <a:outerShdw algn="tl" blurRad="19800" dir="12932261" dist="6193" rotWithShape="0">
              <a:srgbClr val="000000">
                <a:alpha val="47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144CF-F698-4620-B9EC-798FD83492E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body"/>
          </p:nvPr>
        </p:nvSpPr>
        <p:spPr>
          <a:xfrm rot="420000">
            <a:off x="3485520" y="1199160"/>
            <a:ext cx="4617360" cy="3931560"/>
          </a:xfrm>
          <a:prstGeom prst="rect">
            <a:avLst/>
          </a:prstGeom>
          <a:solidFill>
            <a:srgbClr val="dbf5f9"/>
          </a:solidFill>
          <a:ln cap="rnd" w="2880">
            <a:solidFill>
              <a:srgbClr val="c0c0c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Полилиния 9"/>
          <p:cNvSpPr/>
          <p:nvPr/>
        </p:nvSpPr>
        <p:spPr>
          <a:xfrm flipV="1">
            <a:off x="-9000" y="581616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Полилиния 10"/>
          <p:cNvSpPr/>
          <p:nvPr/>
        </p:nvSpPr>
        <p:spPr>
          <a:xfrm flipV="1">
            <a:off x="4381560" y="62197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00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3F41F-4AAB-46D6-859D-33DD4ECF5A32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79C5B2-689A-4EE4-B155-ED8FCFE295B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9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9CB1D-55C5-460E-B735-B4133F7E672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6192360" cy="1709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endParaRPr b="0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85920" y="2714760"/>
            <a:ext cx="7357680" cy="1598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Monotype Corsiva"/>
              </a:rPr>
              <a:t>«Я Славлю имя твое- МАМА».</a:t>
            </a:r>
            <a:r>
              <a:rPr b="1" i="1" lang="ru-RU" sz="2800" spc="-1" strike="noStrike">
                <a:solidFill>
                  <a:srgbClr val="99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:\Documents and Settings\User\Мои документы\Мои рисунки\мама\189768.jpg"/>
          <p:cNvPicPr/>
          <p:nvPr/>
        </p:nvPicPr>
        <p:blipFill>
          <a:blip r:embed="rId1"/>
          <a:stretch/>
        </p:blipFill>
        <p:spPr>
          <a:xfrm>
            <a:off x="3000240" y="4214880"/>
            <a:ext cx="2344320" cy="250488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9" descr="50ff4926dd07b53ebca021b2838e6145_c618521815f62ed2ca5d1b10da144e3b"/>
          <p:cNvPicPr/>
          <p:nvPr/>
        </p:nvPicPr>
        <p:blipFill>
          <a:blip r:embed="rId2"/>
          <a:stretch/>
        </p:blipFill>
        <p:spPr>
          <a:xfrm>
            <a:off x="285840" y="4143240"/>
            <a:ext cx="2428560" cy="250956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5715000" y="4214880"/>
            <a:ext cx="273132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6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-236880" algn="ctr">
              <a:lnSpc>
                <a:spcPct val="100000"/>
              </a:lnSpc>
              <a:spcBef>
                <a:spcPts val="104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200" spc="-1" strike="noStrike">
                <a:solidFill>
                  <a:srgbClr val="ff0000"/>
                </a:solidFill>
                <a:latin typeface="Constantia"/>
              </a:rPr>
              <a:t>Мексика</a:t>
            </a:r>
            <a:endParaRPr b="0" lang="ru-RU" sz="5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6880" indent="-236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жегодно 10 мая в Мексике отмечают День матери. Впервые День матери был объявлен губернатором Западной Вирджинии (США) в 1910 г. Здесь этот праздник считается настоящей данью уважения и любви к женщине. В этот день по приглашению детей музыканты исполняют для их матерей любимые песни. Официально 10 мая считается рабочим днем, и, тем не менее, многие спешат поздравить своих мам и любимых женщин с этим праздником, отпрашиваясь с работы пораньше. Традиционно вечером во всех мексиканских семьях праздник отмечается шумным застолье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24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38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600" spc="-1" strike="noStrike">
                <a:solidFill>
                  <a:srgbClr val="ffc000"/>
                </a:solidFill>
                <a:latin typeface="Constantia"/>
              </a:rPr>
              <a:t>Англия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амом начале 17 века в Англии в четвертое воскресенье поста люди стали праздновать Воскресенье матери. Это был праздник всех матерей Англии. В Воскресенье матери все слуги получали выходной, они возвращались в свои семьи, чтобы провести этот день со своими матерями. Праздничную атмосферу этому дню придавал специальный торт, называемый "материнский торт". В этот день полагалось навещать матерей и приносить им в подарок такой торт в обмен на материнское благословение. В наши дни женщины Англии отдыхают, а их мужчины занимаются работой по дому и готовят ужин. Традиционно в этот день принято подавать тот самый торт симнель (simnel cake), украшенный 12 шариками марципана. Традиция 12 шариков началась в еще дохристианские времена, они символизируют 12 знаков зодиака. Название этого торта связано с латинским названием муки тонкого помола ("simila"). Такие торты и пирожные пеклись и продавались в Англии и Франции по воскресеньям во время Великого поста. В Франции по этому рецепту чаще выпекались пирожные, украшенные крестом из сахарной глазур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зникновение этого праздника в Канаде - результат неустанных усилий американки мисс Анны Джарвис из Филадельфии, которая хотела выразить признание не только своей матери, вырастившей 11 детей, но и всем матерям вообще. Она смогла убедить самого Президента Вильсона в необходимости официального празднования, и в 1914 году второе воскресенье мая было назначено в Америке Маминым днем. К идее официально организованного воздаяния в этот день почестей и благодарностей матерям присоединились и канадцы. В этот день дарят мамам подарки, делают им всякие приятные сюрпризы и даже освобождают от обязанности мыть посуду (а моют в посудомоечной машине, например). Обычно все члены семьи встают в этот день спозаранку, зато мамин утренний сон оберегают особенно тщательно. И пока мама спит, готовят для нее все вместе самые любимые ее кушанья, а когда она проснется, подают ей завтрак прямо в постель. Ведут себя с ней весь день как с королевой, всячески ублажая и развлекая ее. Единственное, что позволяется ей делать в этот день - это открывать входную дверь, когда послышится звонок рассыльного, доставившего заранее заказанный для нее подарок или роскошный праздничный букет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рмени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кон веков отмечается он в Армении и армянских диаспорах как День Женщины, Матери, красоты и весны. По православному календарю - это день Благовещения. Согласно библейским писаниям, 7 апреля ангелы-хранители сообщают Божьей матери, что у нее через 9 месяцев родится ребенок. Отсюда этот день и есть Благовест. В современной Армении это национальный, но не официальный праздник. В этот день мужчины делают подарки своим матерям, женам, сестрам, любимым подруг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chemeClr val="accent5">
                    <a:lumMod val="75000"/>
                  </a:schemeClr>
                </a:solidFill>
                <a:latin typeface="Calibri"/>
              </a:rPr>
              <a:t>Бразили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жегодно каждое второе воскресенье мая в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азилии отмечают День матерей - Dia das Mães. В Бразилии распространены большие семьи, с тремя-четырьмя детьми, поэтому нетрудно представить, каким сердечным и важным стал такой день. Сегодня этот популярный и уважаемый праздник проходит, как правило, в семейном кругу, а вот накануне в дошкольных и школьных учреждениях дети с преподавателями усердно готовят праздничные представления и подарки для м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День матери В России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Содержимое 7" descr="мадонна.jpg"/>
          <p:cNvPicPr/>
          <p:nvPr/>
        </p:nvPicPr>
        <p:blipFill>
          <a:blip r:embed="rId1"/>
          <a:stretch/>
        </p:blipFill>
        <p:spPr>
          <a:xfrm>
            <a:off x="357120" y="2143080"/>
            <a:ext cx="3126960" cy="438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3733920" y="2143080"/>
            <a:ext cx="340956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2435040" cy="3180960"/>
          </a:xfrm>
          <a:prstGeom prst="rect">
            <a:avLst/>
          </a:prstGeom>
          <a:ln w="9525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928960" y="428760"/>
            <a:ext cx="2334240" cy="3214440"/>
          </a:xfrm>
          <a:prstGeom prst="rect">
            <a:avLst/>
          </a:prstGeom>
          <a:ln w="9525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500040" y="3786120"/>
            <a:ext cx="7929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фотографиях не бабушка и внучка, а мама и 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дриана Илиеску (сейчас ей 72 года) из Румынии и Элиза (сейчас ей 5 лет).Родилась в январе 2005 года, когда Адриане исполнилось 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сегодня Адриана считается самой старой мамой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5857920" y="428760"/>
            <a:ext cx="2591640" cy="32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120040" y="500040"/>
            <a:ext cx="5808960" cy="4428720"/>
          </a:xfrm>
          <a:prstGeom prst="rect">
            <a:avLst/>
          </a:prstGeom>
          <a:ln w="9525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3928680" cy="30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24000" y="2493000"/>
            <a:ext cx="3419640" cy="360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-русски МАМА,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-грузински НАНА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по-аварски ласково БАБА…</a:t>
            </a:r>
            <a:r>
              <a:rPr b="1" i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Из тысяч слов земли и океана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У этого особая судьба.</a:t>
            </a:r>
            <a:br>
              <a:rPr sz="2000"/>
            </a:b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rcRect l="19224" t="0" r="19224" b="0"/>
          <a:stretch/>
        </p:blipFill>
        <p:spPr>
          <a:xfrm>
            <a:off x="650880" y="1112760"/>
            <a:ext cx="4615920" cy="50907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6" descr="rose98.gif"/>
          <p:cNvPicPr/>
          <p:nvPr/>
        </p:nvPicPr>
        <p:blipFill>
          <a:blip r:embed="rId1"/>
          <a:stretch/>
        </p:blipFill>
        <p:spPr>
          <a:xfrm>
            <a:off x="1143000" y="1746000"/>
            <a:ext cx="5643360" cy="51116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000080" y="-890280"/>
            <a:ext cx="7929360" cy="832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а, это слово сопровождает человека всю жизнь. Ребёнок, ещё не научившись ходить, ищет глазёнками ту,                                                 что подарила ему 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огда ребёнок вскрикнет первый раз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мать его коснётся осторож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ё любовь… О, как она тревож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ревожна каждый день и каждый ч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 как отмечают «День матери» в других странанах?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3438360" cy="328572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786200" y="2214720"/>
            <a:ext cx="3928680" cy="3090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857160" y="928800"/>
            <a:ext cx="74293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встрия: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нь матери отмечается в Австрии, как и во многих других странах, каждое второе воскресенье мая. Традиции празднования этого дня очень похожи на традиции 8 Марта в России. Обычно дети на этот праздник преподносят небольшие букетики весенних цветов.  Все жители в этот праздник прикалывают к своей одежде  живую гвоздику.В школе и на специальных занятиях детям помогают учить стихи и мастерить подарки. Этому празднику посвящаются многочисленные развлекательные мероприятия, кондитеры выпекают специальные торты, а в меню ресторанов появляются специальные куша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857160" y="928800"/>
            <a:ext cx="74293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первые день матери в Германии был отмечен в 1923 году, как национальный праздник отмечается с 1933 года. В Тюрингии (одна из 16 федеральных земель Германии) в средние века было воскресенье (обязательно весной, потому что весна – это начало жизни, а мать дарит эту жизнь), в которое посещали родственников и желали богатство и процветания. Отдельно и с большими почестями благословляли в этот день мать. Традиция ежегодного и общенародного праздника дня матери пришла в Германию из США в начале 20 века. Именно тогда и укрепился обычай праздновать его в мае. Матерям дарят в этот день цветы, маленькие сувениры, приятные мелочи, неожиданные сюрпризы и горячие поцел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1071360" y="428760"/>
            <a:ext cx="292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90099"/>
                </a:solidFill>
                <a:latin typeface="Constantia"/>
              </a:rPr>
              <a:t>Герма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857160" y="1500120"/>
            <a:ext cx="74293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Дне матери в Японии узнали в 1915 году благодаря иностранке, профессору миссионерского Университета Аояма Гакуин. Долгое время существовала традиция в День матери прикалывать на грудь гвоздику - символ любви матери к ребенку. Красной гвоздикой украшали одежду дети, чьи матери живы, а белой - де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шившиеся матерей. В 60-е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ую гвоздику упразднили по этическим причинам, а красная гвозд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провождает День ма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Японии и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1733040" y="913680"/>
            <a:ext cx="398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6699"/>
                </a:solidFill>
                <a:latin typeface="Constantia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ja5720i"/>
          <p:cNvPicPr/>
          <p:nvPr/>
        </p:nvPicPr>
        <p:blipFill>
          <a:blip r:embed="rId1"/>
          <a:stretch/>
        </p:blipFill>
        <p:spPr>
          <a:xfrm>
            <a:off x="6572160" y="3857760"/>
            <a:ext cx="230904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305560" cy="50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сто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отмечают с 1992 года во второе воскресенье мая. В этот день вывешиваются флаги. Накануне в детских садах проходят утренники, а в школах - концерты для мам; дети дарят мамам самодельные открытки и подар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краи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начали отмечать еще в 1929 года, в Галичине, но со временем о нем подзабыли. Сегодня этот день отмечают во второе воскресенье мая, скромно, без торжест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Белору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отмечается 14 октября с 1996 г. в соответствии с распоряжением Президента республики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Финлянд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ень матери празднуют с 1918 года. Во второе воскресенье мая женщины получают подарки от своих детей, им преподносят цветы и открытки, сделанные своими руками, говорят слова благодарности. Заслуженным матерям, прежде всего матерям-героиням, президент вручает орден Белой розы, учрежденный К. Г. Маннергеймом в 1919 году. В последние годы эту награду получают и матери, воспитывающие детей-сирот. Во второе воскресенье мая в Финляндии поднимается государственный флаг. Это официальный выходной. В Хельсинки в этот день многие приходят к памятнику "Мать-работница»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61</TotalTime>
  <Application>LibreOffice/7.4.7.2$Linux_X86_64 LibreOffice_project/40$Build-2</Application>
  <AppVersion>15.0000</AppVersion>
  <Words>1179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7:51:21Z</dcterms:created>
  <dc:creator>александр</dc:creator>
  <dc:description/>
  <dc:language>en-US</dc:language>
  <cp:lastModifiedBy>user5</cp:lastModifiedBy>
  <dcterms:modified xsi:type="dcterms:W3CDTF">2021-11-26T06:10:47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