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566-AEB6-4A9A-A77F-C5CB06EB6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работы нашего детского сада является экологическое воспитание дошкольников.   В рамках реализации данного направления мы используем различные формы работы. Одна из наиболее эффективных это – экологические  акции.  В нашем детском саду их  проводится  достаточно много вот некоторые из них акция «Вторая жизнь мусора» проводилась в рамках проекта «Мусор». Родители совместнос детьми  проявили фантазию и сделали множество игрушек, книг и поделок из бросового материала. Акция «Зеленый кошелек» по сбору макулатуры  предполагала 2 этапа, первый – это изготовление оригинальных «кошельков», второй –это сбор макулатуры в них. Непрерывно действует акция «Спаси батарейку». Затем собранные батарейки мы сдаем в пункт приема. В акциях принимают активное участие не только дети, но и их родители. Еще одной из форм взаимодействия с семьей  в нашем детском саду стала работа Семейного клуба. В работу клуба мы традиционно включаем мероприятия экологической направленности. Так на последнем заседании  Семейного клуба родители совместно с детьми  изготовили  «Эко- игрушку».   Старшие дошкольники  уже способны самостоятельно научить  друг друга экологически осознанному поведению. С помощью детских мастер- классов. Нужно только вовремя направить и поддержать их инициативу. (Показ видео). А сейчас  мы бы хотели провести с Вами небольшой мастер-класс по изготовлению….. Нам необходимо 6 человек желающих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F94E-6D3A-4BEB-813C-B50DCAABCB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665-5520-415D-A5F9-2146FFB1AD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CCD-A5D2-4C02-B0A8-273A489FF7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125-4216-428A-B0CC-748E57BCC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C7B-73D7-414A-AAB0-0868A6C9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4F7-1C9E-4AC4-93D9-DE4FCD74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09E-2852-4255-81B3-375A3F80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0D3-62BA-4AF6-9725-E86400F5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031-A0F2-485F-A91D-998633D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FD4-1EF9-4545-B26E-8845102B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481-522F-47A5-B292-75C5E6F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94C-7EBF-4624-B436-699BD4B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C95-A899-4925-BF41-3F221CF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1D2-E3CB-447A-AEDB-9C5E879D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AAF-FE1B-4A91-B253-4F91BAA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ADF-B518-48D3-99C2-6934038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A0A4-91A7-4773-B6A3-78950BE9E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79280" y="2276280"/>
            <a:ext cx="6769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Виды и формы организации экологическ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воспитания дошколь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(из опыта рабо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1030320" y="500040"/>
            <a:ext cx="75405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Участие в акциях </a:t>
            </a:r>
            <a:br>
              <a:rPr sz="3200"/>
            </a:br>
            <a:r>
              <a:rPr b="0" lang="ru-RU" sz="3200" spc="-1" strike="noStrike">
                <a:solidFill>
                  <a:srgbClr val="004200"/>
                </a:solidFill>
                <a:latin typeface="Times New Roman"/>
              </a:rPr>
              <a:t> Акция «Вторая жизнь мусор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419640" y="1968480"/>
            <a:ext cx="2619360" cy="1965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2641680" cy="18716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2481120" y="4130640"/>
            <a:ext cx="1946520" cy="1459080"/>
          </a:xfrm>
          <a:prstGeom prst="rect">
            <a:avLst/>
          </a:prstGeom>
          <a:ln w="38160">
            <a:solidFill>
              <a:srgbClr val="b00000"/>
            </a:solidFill>
            <a:miter/>
          </a:ln>
        </p:spPr>
      </p:pic>
      <p:pic>
        <p:nvPicPr>
          <p:cNvPr id="54" name="Рисунок 7" descr=""/>
          <p:cNvPicPr/>
          <p:nvPr/>
        </p:nvPicPr>
        <p:blipFill>
          <a:blip r:embed="rId4"/>
          <a:stretch/>
        </p:blipFill>
        <p:spPr>
          <a:xfrm>
            <a:off x="6516720" y="2309760"/>
            <a:ext cx="2114640" cy="1585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Рисунок 8" descr=""/>
          <p:cNvPicPr/>
          <p:nvPr/>
        </p:nvPicPr>
        <p:blipFill>
          <a:blip r:embed="rId5"/>
          <a:stretch/>
        </p:blipFill>
        <p:spPr>
          <a:xfrm rot="4860000">
            <a:off x="1035360" y="2121480"/>
            <a:ext cx="2051280" cy="1538280"/>
          </a:xfrm>
          <a:prstGeom prst="rect">
            <a:avLst/>
          </a:prstGeom>
          <a:ln w="349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Вторая жизнь мусор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1274760" y="1555920"/>
            <a:ext cx="2592360" cy="2233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521080" cy="20163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040360" y="1568520"/>
            <a:ext cx="2736720" cy="2233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Зеленый кошеле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3456000" cy="2305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62" name="Рисунок 5" descr=""/>
          <p:cNvPicPr/>
          <p:nvPr/>
        </p:nvPicPr>
        <p:blipFill>
          <a:blip r:embed="rId2"/>
          <a:stretch/>
        </p:blipFill>
        <p:spPr>
          <a:xfrm>
            <a:off x="2314440" y="3965400"/>
            <a:ext cx="2808360" cy="21481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3" name="Рисунок 7" descr=""/>
          <p:cNvPicPr/>
          <p:nvPr/>
        </p:nvPicPr>
        <p:blipFill>
          <a:blip r:embed="rId3"/>
          <a:stretch/>
        </p:blipFill>
        <p:spPr>
          <a:xfrm>
            <a:off x="5219640" y="1773360"/>
            <a:ext cx="3313080" cy="3079800"/>
          </a:xfrm>
          <a:prstGeom prst="rect">
            <a:avLst/>
          </a:prstGeom>
          <a:ln w="38160">
            <a:solidFill>
              <a:srgbClr val="b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Зеленый кошеле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 rot="1440000">
            <a:off x="5100480" y="1231920"/>
            <a:ext cx="3359160" cy="33163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 rot="20460000">
            <a:off x="1204920" y="955800"/>
            <a:ext cx="3425760" cy="2889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 rot="540000">
            <a:off x="2249280" y="3438000"/>
            <a:ext cx="309708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Спаси батарейк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1" descr=""/>
          <p:cNvPicPr/>
          <p:nvPr/>
        </p:nvPicPr>
        <p:blipFill>
          <a:blip r:embed="rId1"/>
          <a:stretch/>
        </p:blipFill>
        <p:spPr>
          <a:xfrm rot="1173000">
            <a:off x="6462720" y="1303200"/>
            <a:ext cx="1603440" cy="31831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3884760" y="1268280"/>
            <a:ext cx="1769760" cy="300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1" name="Рисунок 3" descr=""/>
          <p:cNvPicPr/>
          <p:nvPr/>
        </p:nvPicPr>
        <p:blipFill>
          <a:blip r:embed="rId3"/>
          <a:stretch/>
        </p:blipFill>
        <p:spPr>
          <a:xfrm rot="843600">
            <a:off x="5149440" y="3641400"/>
            <a:ext cx="1408320" cy="2601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2" name="Рисунок 4" descr=""/>
          <p:cNvPicPr/>
          <p:nvPr/>
        </p:nvPicPr>
        <p:blipFill>
          <a:blip r:embed="rId4"/>
          <a:stretch/>
        </p:blipFill>
        <p:spPr>
          <a:xfrm rot="20760000">
            <a:off x="2547720" y="3627000"/>
            <a:ext cx="1711080" cy="255420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73" name="Рисунок 5" descr=""/>
          <p:cNvPicPr/>
          <p:nvPr/>
        </p:nvPicPr>
        <p:blipFill>
          <a:blip r:embed="rId5"/>
          <a:stretch/>
        </p:blipFill>
        <p:spPr>
          <a:xfrm rot="20677200">
            <a:off x="1371240" y="1307880"/>
            <a:ext cx="1725480" cy="25430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Взаимодействие в семьей</a:t>
            </a:r>
            <a:br>
              <a:rPr sz="3600"/>
            </a:b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«Семейный клуб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76000" y="2060640"/>
            <a:ext cx="2303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788000" y="1793880"/>
            <a:ext cx="3840120" cy="2160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1042920" y="1793880"/>
            <a:ext cx="3421080" cy="19224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78" name="Рисунок 7" descr=""/>
          <p:cNvPicPr/>
          <p:nvPr/>
        </p:nvPicPr>
        <p:blipFill>
          <a:blip r:embed="rId3"/>
          <a:stretch/>
        </p:blipFill>
        <p:spPr>
          <a:xfrm>
            <a:off x="2340000" y="4089240"/>
            <a:ext cx="2843280" cy="21258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  <p:pic>
        <p:nvPicPr>
          <p:cNvPr id="79" name="Рисунок 8" descr=""/>
          <p:cNvPicPr/>
          <p:nvPr/>
        </p:nvPicPr>
        <p:blipFill>
          <a:blip r:embed="rId4"/>
          <a:stretch/>
        </p:blipFill>
        <p:spPr>
          <a:xfrm>
            <a:off x="5634000" y="4059360"/>
            <a:ext cx="2467080" cy="18176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201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00"/>
                </a:solidFill>
                <a:latin typeface="Times New Roman"/>
              </a:rPr>
              <a:t>Детский мастер-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Объект 1" descr=""/>
          <p:cNvPicPr/>
          <p:nvPr/>
        </p:nvPicPr>
        <p:blipFill>
          <a:blip r:embed="rId1"/>
          <a:stretch/>
        </p:blipFill>
        <p:spPr>
          <a:xfrm rot="21087000">
            <a:off x="1211400" y="1290240"/>
            <a:ext cx="1338120" cy="21258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82" name="Рисунок 2" descr=""/>
          <p:cNvPicPr/>
          <p:nvPr/>
        </p:nvPicPr>
        <p:blipFill>
          <a:blip r:embed="rId2"/>
          <a:stretch/>
        </p:blipFill>
        <p:spPr>
          <a:xfrm rot="21013200">
            <a:off x="2842920" y="1217160"/>
            <a:ext cx="1276200" cy="21859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83" name="Рисунок 3" descr=""/>
          <p:cNvPicPr/>
          <p:nvPr/>
        </p:nvPicPr>
        <p:blipFill>
          <a:blip r:embed="rId3"/>
          <a:stretch/>
        </p:blipFill>
        <p:spPr>
          <a:xfrm>
            <a:off x="4211640" y="1293840"/>
            <a:ext cx="1571760" cy="1846080"/>
          </a:xfrm>
          <a:prstGeom prst="rect">
            <a:avLst/>
          </a:prstGeom>
          <a:ln w="38160">
            <a:solidFill>
              <a:srgbClr val="7575d1"/>
            </a:solidFill>
            <a:miter/>
          </a:ln>
        </p:spPr>
      </p:pic>
      <p:pic>
        <p:nvPicPr>
          <p:cNvPr id="84" name="Рисунок 4" descr=""/>
          <p:cNvPicPr/>
          <p:nvPr/>
        </p:nvPicPr>
        <p:blipFill>
          <a:blip r:embed="rId4"/>
          <a:stretch/>
        </p:blipFill>
        <p:spPr>
          <a:xfrm rot="422400">
            <a:off x="7000560" y="1279080"/>
            <a:ext cx="1504800" cy="175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Рисунок 5" descr=""/>
          <p:cNvPicPr/>
          <p:nvPr/>
        </p:nvPicPr>
        <p:blipFill>
          <a:blip r:embed="rId5"/>
          <a:stretch/>
        </p:blipFill>
        <p:spPr>
          <a:xfrm rot="744000">
            <a:off x="5901840" y="1417320"/>
            <a:ext cx="1144800" cy="15667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86" name="Рисунок 6" descr=""/>
          <p:cNvPicPr/>
          <p:nvPr/>
        </p:nvPicPr>
        <p:blipFill>
          <a:blip r:embed="rId6"/>
          <a:stretch/>
        </p:blipFill>
        <p:spPr>
          <a:xfrm rot="20772600">
            <a:off x="2484000" y="3230280"/>
            <a:ext cx="1513080" cy="2689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7" name="Рисунок 7" descr=""/>
          <p:cNvPicPr/>
          <p:nvPr/>
        </p:nvPicPr>
        <p:blipFill>
          <a:blip r:embed="rId7"/>
          <a:stretch/>
        </p:blipFill>
        <p:spPr>
          <a:xfrm rot="854400">
            <a:off x="4866840" y="3059280"/>
            <a:ext cx="2616120" cy="2852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Содержимое 6" descr="5436орл.jpg"/>
          <p:cNvPicPr/>
          <p:nvPr/>
        </p:nvPicPr>
        <p:blipFill>
          <a:blip r:embed="rId1"/>
          <a:stretch/>
        </p:blipFill>
        <p:spPr>
          <a:xfrm>
            <a:off x="2693880" y="133524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Таня</cp:lastModifiedBy>
  <dcterms:modified xsi:type="dcterms:W3CDTF">2023-02-15T07:26:59Z</dcterms:modified>
  <cp:revision>122</cp:revision>
  <dc:subject/>
  <dc:title>Слайд 1</dc:title>
</cp:coreProperties>
</file>