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9019-09F0-4D3A-9386-7531506427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направлений работы нашего детского сада является экологическое воспитание дошкольников.   В рамках реализации данного направления мы используем различные формы работы. Одна из наиболее эффективных это – экологические  акции.  В нашем детском саду их  проводится  достаточно много вот некоторые из них акция «Вторая жизнь мусора» проводилась в рамках проекта «Мусор». Родители совместнос детьми  проявили фантазию и сделали множество игрушек, книг и поделок из бросового материала. Акция «Зеленый кошелек» по сбору макулатуры  предполагала 2 этапа, первый – это изготовление оригинальных «кошельков», второй –это сбор макулатуры в них. Непрерывно действует акция «Спаси батарейку». Затем собранные батарейки мы сдаем в пункт приема. В акциях принимают активное участие не только дети, но и их родители. Еще одной из форм взаимодействия с семьей  в нашем детском саду стала работа Семейного клуба. В работу клуба мы традиционно включаем мероприятия экологической направленности. Так на последнем заседании  Семейного клуба родители совместно с детьми  изготовили  «Эко- игрушку».   Старшие дошкольники  уже способны самостоятельно научить  друг друга экологически осознанному поведению. С помощью детских мастер- классов. Нужно только вовремя направить и поддержать их инициативу. (Показ видео). А сейчас  мы бы хотели провести с Вами небольшой мастер-класс по изготовлению….. Нам необходимо 6 человек желающих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CE0D-7DAF-4EB8-B7A9-2803F3DA47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40E4-3B00-4540-AB8A-9B8F87A006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0278-5855-49B0-B306-33BAAC1CF8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4113-4BB8-4A31-A9AE-EA6324859A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296D-6EC1-44B0-B8AE-3FFAD4F7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8C5-7508-447C-89D6-D4B30E6C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83FB-55C8-4685-BF79-482A8782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1E37-76AE-4207-8BEC-BCC2C8EB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03C-5038-45D8-952D-1D4C10BE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3C9D-084B-4891-8807-4F058057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B0D-2829-4915-8FC1-401B59B5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9FE-9EE8-456B-85C5-2D191462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A84-82A5-4699-ACD1-7271BB69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55E8-325F-4E41-A464-260A9897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03B2-81A3-4844-A053-5302A622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31F-C11C-4F49-822C-746222D0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A37B-C255-4453-BC82-B6C6F85307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979280" y="2276280"/>
            <a:ext cx="67690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2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4200"/>
                </a:solidFill>
                <a:latin typeface="Times New Roman"/>
              </a:rPr>
              <a:t>Виды и формы организации экологическог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200"/>
                </a:solidFill>
                <a:latin typeface="Times New Roman"/>
              </a:rPr>
              <a:t>воспитания дошкольни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200"/>
                </a:solidFill>
                <a:latin typeface="Times New Roman"/>
              </a:rPr>
              <a:t>(из опыта рабо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Прямоугольник 6" descr=""/>
          <p:cNvPicPr/>
          <p:nvPr/>
        </p:nvPicPr>
        <p:blipFill>
          <a:blip r:embed="rId1"/>
          <a:stretch/>
        </p:blipFill>
        <p:spPr>
          <a:xfrm>
            <a:off x="1030320" y="500040"/>
            <a:ext cx="754056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Участие в акциях </a:t>
            </a:r>
            <a:br>
              <a:rPr sz="3200"/>
            </a:br>
            <a:r>
              <a:rPr b="0" lang="ru-RU" sz="3200" spc="-1" strike="noStrike">
                <a:solidFill>
                  <a:srgbClr val="004200"/>
                </a:solidFill>
                <a:latin typeface="Times New Roman"/>
              </a:rPr>
              <a:t> Акция «Вторая жизнь мусор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3419640" y="1968480"/>
            <a:ext cx="2619360" cy="19652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003640" y="4149720"/>
            <a:ext cx="2641680" cy="1871640"/>
          </a:xfrm>
          <a:prstGeom prst="rect">
            <a:avLst/>
          </a:prstGeom>
          <a:ln w="38160">
            <a:solidFill>
              <a:srgbClr val="7030a0"/>
            </a:solidFill>
            <a:miter/>
          </a:ln>
        </p:spPr>
      </p:pic>
      <p:pic>
        <p:nvPicPr>
          <p:cNvPr id="53" name="Рисунок 6" descr=""/>
          <p:cNvPicPr/>
          <p:nvPr/>
        </p:nvPicPr>
        <p:blipFill>
          <a:blip r:embed="rId3"/>
          <a:stretch/>
        </p:blipFill>
        <p:spPr>
          <a:xfrm>
            <a:off x="2481120" y="4130640"/>
            <a:ext cx="1946520" cy="1459080"/>
          </a:xfrm>
          <a:prstGeom prst="rect">
            <a:avLst/>
          </a:prstGeom>
          <a:ln w="38160">
            <a:solidFill>
              <a:srgbClr val="b00000"/>
            </a:solidFill>
            <a:miter/>
          </a:ln>
        </p:spPr>
      </p:pic>
      <p:pic>
        <p:nvPicPr>
          <p:cNvPr id="54" name="Рисунок 7" descr=""/>
          <p:cNvPicPr/>
          <p:nvPr/>
        </p:nvPicPr>
        <p:blipFill>
          <a:blip r:embed="rId4"/>
          <a:stretch/>
        </p:blipFill>
        <p:spPr>
          <a:xfrm>
            <a:off x="6516720" y="2309760"/>
            <a:ext cx="2114640" cy="1585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5" name="Рисунок 8" descr=""/>
          <p:cNvPicPr/>
          <p:nvPr/>
        </p:nvPicPr>
        <p:blipFill>
          <a:blip r:embed="rId5"/>
          <a:stretch/>
        </p:blipFill>
        <p:spPr>
          <a:xfrm rot="4860000">
            <a:off x="1035360" y="2121480"/>
            <a:ext cx="2051280" cy="1538280"/>
          </a:xfrm>
          <a:prstGeom prst="rect">
            <a:avLst/>
          </a:prstGeom>
          <a:ln w="3492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4200"/>
                </a:solidFill>
                <a:latin typeface="Times New Roman"/>
              </a:rPr>
              <a:t>Акция «Вторая жизнь мусор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1274760" y="1555920"/>
            <a:ext cx="2592360" cy="223344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58" name="Рисунок 4" descr=""/>
          <p:cNvPicPr/>
          <p:nvPr/>
        </p:nvPicPr>
        <p:blipFill>
          <a:blip r:embed="rId2"/>
          <a:stretch/>
        </p:blipFill>
        <p:spPr>
          <a:xfrm>
            <a:off x="3348000" y="3933720"/>
            <a:ext cx="2521080" cy="201636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59" name="Рисунок 5" descr=""/>
          <p:cNvPicPr/>
          <p:nvPr/>
        </p:nvPicPr>
        <p:blipFill>
          <a:blip r:embed="rId3"/>
          <a:stretch/>
        </p:blipFill>
        <p:spPr>
          <a:xfrm>
            <a:off x="5040360" y="1568520"/>
            <a:ext cx="2736720" cy="22334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imes New Roman"/>
              </a:rPr>
              <a:t>Акция «Зеленый кошелек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3456000" cy="230508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  <p:pic>
        <p:nvPicPr>
          <p:cNvPr id="62" name="Рисунок 5" descr=""/>
          <p:cNvPicPr/>
          <p:nvPr/>
        </p:nvPicPr>
        <p:blipFill>
          <a:blip r:embed="rId2"/>
          <a:stretch/>
        </p:blipFill>
        <p:spPr>
          <a:xfrm>
            <a:off x="2314440" y="3965400"/>
            <a:ext cx="2808360" cy="214812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pic>
        <p:nvPicPr>
          <p:cNvPr id="63" name="Рисунок 7" descr=""/>
          <p:cNvPicPr/>
          <p:nvPr/>
        </p:nvPicPr>
        <p:blipFill>
          <a:blip r:embed="rId3"/>
          <a:stretch/>
        </p:blipFill>
        <p:spPr>
          <a:xfrm>
            <a:off x="5219640" y="1773360"/>
            <a:ext cx="3313080" cy="3079800"/>
          </a:xfrm>
          <a:prstGeom prst="rect">
            <a:avLst/>
          </a:prstGeom>
          <a:ln w="38160">
            <a:solidFill>
              <a:srgbClr val="b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imes New Roman"/>
              </a:rPr>
              <a:t>Акция «Зеленый кошелек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 rot="1440000">
            <a:off x="5100480" y="1231920"/>
            <a:ext cx="3359160" cy="331632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 rot="20460000">
            <a:off x="1204920" y="955800"/>
            <a:ext cx="3425760" cy="28890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 rot="540000">
            <a:off x="2249280" y="3438000"/>
            <a:ext cx="3097080" cy="2762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imes New Roman"/>
              </a:rPr>
              <a:t>Акция «Спаси батарейку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Объект 1" descr=""/>
          <p:cNvPicPr/>
          <p:nvPr/>
        </p:nvPicPr>
        <p:blipFill>
          <a:blip r:embed="rId1"/>
          <a:stretch/>
        </p:blipFill>
        <p:spPr>
          <a:xfrm rot="1173000">
            <a:off x="6462720" y="1303200"/>
            <a:ext cx="1603440" cy="31831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70" name="Рисунок 2" descr=""/>
          <p:cNvPicPr/>
          <p:nvPr/>
        </p:nvPicPr>
        <p:blipFill>
          <a:blip r:embed="rId2"/>
          <a:stretch/>
        </p:blipFill>
        <p:spPr>
          <a:xfrm>
            <a:off x="3884760" y="1268280"/>
            <a:ext cx="1769760" cy="3002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1" name="Рисунок 3" descr=""/>
          <p:cNvPicPr/>
          <p:nvPr/>
        </p:nvPicPr>
        <p:blipFill>
          <a:blip r:embed="rId3"/>
          <a:stretch/>
        </p:blipFill>
        <p:spPr>
          <a:xfrm rot="843600">
            <a:off x="5149440" y="3641400"/>
            <a:ext cx="1408320" cy="26017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2" name="Рисунок 4" descr=""/>
          <p:cNvPicPr/>
          <p:nvPr/>
        </p:nvPicPr>
        <p:blipFill>
          <a:blip r:embed="rId4"/>
          <a:stretch/>
        </p:blipFill>
        <p:spPr>
          <a:xfrm rot="20760000">
            <a:off x="2547720" y="3627000"/>
            <a:ext cx="1711080" cy="2554200"/>
          </a:xfrm>
          <a:prstGeom prst="rect">
            <a:avLst/>
          </a:prstGeom>
          <a:ln w="38160">
            <a:solidFill>
              <a:srgbClr val="7030a0"/>
            </a:solidFill>
            <a:miter/>
          </a:ln>
        </p:spPr>
      </p:pic>
      <p:pic>
        <p:nvPicPr>
          <p:cNvPr id="73" name="Рисунок 5" descr=""/>
          <p:cNvPicPr/>
          <p:nvPr/>
        </p:nvPicPr>
        <p:blipFill>
          <a:blip r:embed="rId5"/>
          <a:stretch/>
        </p:blipFill>
        <p:spPr>
          <a:xfrm rot="20677200">
            <a:off x="1371240" y="1307880"/>
            <a:ext cx="1725480" cy="254304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Взаимодействие в семьей</a:t>
            </a:r>
            <a:br>
              <a:rPr sz="3600"/>
            </a:br>
            <a:r>
              <a:rPr b="0" lang="ru-RU" sz="3600" spc="-1" strike="noStrike">
                <a:solidFill>
                  <a:srgbClr val="004200"/>
                </a:solidFill>
                <a:latin typeface="Times New Roman"/>
              </a:rPr>
              <a:t>«Семейный клуб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76000" y="2060640"/>
            <a:ext cx="23036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4788000" y="1793880"/>
            <a:ext cx="3840120" cy="21607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77" name="Рисунок 2" descr=""/>
          <p:cNvPicPr/>
          <p:nvPr/>
        </p:nvPicPr>
        <p:blipFill>
          <a:blip r:embed="rId2"/>
          <a:stretch/>
        </p:blipFill>
        <p:spPr>
          <a:xfrm>
            <a:off x="1042920" y="1793880"/>
            <a:ext cx="3421080" cy="192240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pic>
        <p:nvPicPr>
          <p:cNvPr id="78" name="Рисунок 7" descr=""/>
          <p:cNvPicPr/>
          <p:nvPr/>
        </p:nvPicPr>
        <p:blipFill>
          <a:blip r:embed="rId3"/>
          <a:stretch/>
        </p:blipFill>
        <p:spPr>
          <a:xfrm>
            <a:off x="2340000" y="4089240"/>
            <a:ext cx="2843280" cy="2125800"/>
          </a:xfrm>
          <a:prstGeom prst="rect">
            <a:avLst/>
          </a:prstGeom>
          <a:ln w="38160">
            <a:solidFill>
              <a:srgbClr val="004200"/>
            </a:solidFill>
            <a:miter/>
          </a:ln>
        </p:spPr>
      </p:pic>
      <p:pic>
        <p:nvPicPr>
          <p:cNvPr id="79" name="Рисунок 8" descr=""/>
          <p:cNvPicPr/>
          <p:nvPr/>
        </p:nvPicPr>
        <p:blipFill>
          <a:blip r:embed="rId4"/>
          <a:stretch/>
        </p:blipFill>
        <p:spPr>
          <a:xfrm>
            <a:off x="5634000" y="4059360"/>
            <a:ext cx="2467080" cy="1817640"/>
          </a:xfrm>
          <a:prstGeom prst="rect">
            <a:avLst/>
          </a:prstGeom>
          <a:ln w="381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2010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00"/>
                </a:solidFill>
                <a:latin typeface="Times New Roman"/>
              </a:rPr>
              <a:t>Детский мастер-клас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Объект 1" descr=""/>
          <p:cNvPicPr/>
          <p:nvPr/>
        </p:nvPicPr>
        <p:blipFill>
          <a:blip r:embed="rId1"/>
          <a:stretch/>
        </p:blipFill>
        <p:spPr>
          <a:xfrm rot="21087000">
            <a:off x="1211400" y="1290240"/>
            <a:ext cx="1338120" cy="212580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pic>
        <p:nvPicPr>
          <p:cNvPr id="82" name="Рисунок 2" descr=""/>
          <p:cNvPicPr/>
          <p:nvPr/>
        </p:nvPicPr>
        <p:blipFill>
          <a:blip r:embed="rId2"/>
          <a:stretch/>
        </p:blipFill>
        <p:spPr>
          <a:xfrm rot="21013200">
            <a:off x="2842920" y="1217160"/>
            <a:ext cx="1276200" cy="218592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  <p:pic>
        <p:nvPicPr>
          <p:cNvPr id="83" name="Рисунок 3" descr=""/>
          <p:cNvPicPr/>
          <p:nvPr/>
        </p:nvPicPr>
        <p:blipFill>
          <a:blip r:embed="rId3"/>
          <a:stretch/>
        </p:blipFill>
        <p:spPr>
          <a:xfrm>
            <a:off x="4211640" y="1293840"/>
            <a:ext cx="1571760" cy="1846080"/>
          </a:xfrm>
          <a:prstGeom prst="rect">
            <a:avLst/>
          </a:prstGeom>
          <a:ln w="38160">
            <a:solidFill>
              <a:srgbClr val="7575d1"/>
            </a:solidFill>
            <a:miter/>
          </a:ln>
        </p:spPr>
      </p:pic>
      <p:pic>
        <p:nvPicPr>
          <p:cNvPr id="84" name="Рисунок 4" descr=""/>
          <p:cNvPicPr/>
          <p:nvPr/>
        </p:nvPicPr>
        <p:blipFill>
          <a:blip r:embed="rId4"/>
          <a:stretch/>
        </p:blipFill>
        <p:spPr>
          <a:xfrm rot="422400">
            <a:off x="7000560" y="1279080"/>
            <a:ext cx="1504800" cy="1758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5" name="Рисунок 5" descr=""/>
          <p:cNvPicPr/>
          <p:nvPr/>
        </p:nvPicPr>
        <p:blipFill>
          <a:blip r:embed="rId5"/>
          <a:stretch/>
        </p:blipFill>
        <p:spPr>
          <a:xfrm rot="744000">
            <a:off x="5901840" y="1417320"/>
            <a:ext cx="1144800" cy="156672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  <p:pic>
        <p:nvPicPr>
          <p:cNvPr id="86" name="Рисунок 6" descr=""/>
          <p:cNvPicPr/>
          <p:nvPr/>
        </p:nvPicPr>
        <p:blipFill>
          <a:blip r:embed="rId6"/>
          <a:stretch/>
        </p:blipFill>
        <p:spPr>
          <a:xfrm rot="20772600">
            <a:off x="2484000" y="3230280"/>
            <a:ext cx="1513080" cy="2689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87" name="Рисунок 7" descr=""/>
          <p:cNvPicPr/>
          <p:nvPr/>
        </p:nvPicPr>
        <p:blipFill>
          <a:blip r:embed="rId7"/>
          <a:stretch/>
        </p:blipFill>
        <p:spPr>
          <a:xfrm rot="854400">
            <a:off x="4866840" y="3059280"/>
            <a:ext cx="2616120" cy="2852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Содержимое 6" descr="5436орл.jpg"/>
          <p:cNvPicPr/>
          <p:nvPr/>
        </p:nvPicPr>
        <p:blipFill>
          <a:blip r:embed="rId1"/>
          <a:stretch/>
        </p:blipFill>
        <p:spPr>
          <a:xfrm>
            <a:off x="2693880" y="1335240"/>
            <a:ext cx="45356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Таня</cp:lastModifiedBy>
  <dcterms:modified xsi:type="dcterms:W3CDTF">2023-02-15T07:26:59Z</dcterms:modified>
  <cp:revision>122</cp:revision>
  <dc:subject/>
  <dc:title>Слайд 1</dc:title>
</cp:coreProperties>
</file>