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19.jpeg" ContentType="image/jpeg"/>
  <Override PartName="/ppt/media/image2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20.jpeg" ContentType="image/jpeg"/>
  <Override PartName="/ppt/media/image30.png" ContentType="image/png"/>
  <Override PartName="/ppt/media/image37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31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9733-7EAB-4665-AEDE-36398BD02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E295-77CC-48B4-89D5-38D7ABA3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409B-2800-4536-93DC-79D477985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16A9-7016-4979-96F6-BEC66769E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DA0F-39A8-4401-BCC2-4DF4FB474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4D89-77C1-4129-ACEA-BAA90374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2CDA-1E8B-4480-B646-4E042D0C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206C-659E-4BE2-82F5-C2FD0AB4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004E-FC47-4654-9866-94E0306B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D668D-9F60-4573-BA2B-3472D6E7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A159-0974-4979-956A-4B334DE2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87B0-4EF3-4A64-9C5D-ED51E423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2981-78C0-4A1F-B59D-2D1C87AE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9425-077A-4BA8-972E-FE915AEF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EE5C-BB16-47B7-BC9D-F94293CF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5303-0070-4CDC-A603-60C00D9A0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7975-A892-4F9B-9B46-5323148E6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4136-15FE-48DB-9FB7-1CFC827A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9842-6D1D-4315-9EC6-6FBB0C3D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9A14-A476-455D-9D10-32A02CF7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3C74-7358-4650-8CB4-7402BD3E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7424-17C3-4B05-AE74-7725AB3E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6492-C411-44F5-AFC3-4A8F5828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3DFD-4726-4A56-A40F-FE9673A1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E34D-E7C8-43F9-A4CD-47A3BDDEF8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FB54-938A-48E4-AA65-F5B6962AB46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Рисунок 4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1081080" cy="9702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5" descr=""/>
          <p:cNvPicPr/>
          <p:nvPr/>
        </p:nvPicPr>
        <p:blipFill>
          <a:blip r:embed="rId2"/>
          <a:stretch/>
        </p:blipFill>
        <p:spPr>
          <a:xfrm>
            <a:off x="7643880" y="404640"/>
            <a:ext cx="1008000" cy="10083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32000" y="620280"/>
            <a:ext cx="6480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Флорбол -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хоккей, в котором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е нужны коньки</a:t>
            </a:r>
            <a:br>
              <a:rPr sz="7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7" descr="https://arkhangelsk.er.ru/media/userdata/news/2015/11/16/8a7ae81267209722ba62ca1facc58068.jpg"/>
          <p:cNvPicPr/>
          <p:nvPr/>
        </p:nvPicPr>
        <p:blipFill>
          <a:blip r:embed="rId3"/>
          <a:stretch/>
        </p:blipFill>
        <p:spPr>
          <a:xfrm>
            <a:off x="108000" y="2421000"/>
            <a:ext cx="5327640" cy="3546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5219640" y="3428640"/>
            <a:ext cx="369432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аруздин Степан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стяков Матве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учающиеся 3Б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 СОШ №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ководител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хайлова Елена Васильевн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 СОШ №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C:\Users\User\Downloads\флорбол\флорбол1\1.jpg"/>
          <p:cNvPicPr/>
          <p:nvPr/>
        </p:nvPicPr>
        <p:blipFill>
          <a:blip r:embed="rId1"/>
          <a:stretch/>
        </p:blipFill>
        <p:spPr>
          <a:xfrm>
            <a:off x="539640" y="3429000"/>
            <a:ext cx="2932200" cy="33051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C:\Users\User\Downloads\флорбол\флорбол1\3.jpg"/>
          <p:cNvPicPr/>
          <p:nvPr/>
        </p:nvPicPr>
        <p:blipFill>
          <a:blip r:embed="rId2"/>
          <a:stretch/>
        </p:blipFill>
        <p:spPr>
          <a:xfrm>
            <a:off x="250920" y="907920"/>
            <a:ext cx="3639960" cy="235116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11"/>
          <p:cNvSpPr/>
          <p:nvPr/>
        </p:nvSpPr>
        <p:spPr>
          <a:xfrm>
            <a:off x="1700640" y="189000"/>
            <a:ext cx="618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цесс изготовления лэпбу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4" descr="C:\Users\User\Downloads\флорбол\флорбол1\6.jpg"/>
          <p:cNvPicPr/>
          <p:nvPr/>
        </p:nvPicPr>
        <p:blipFill>
          <a:blip r:embed="rId3"/>
          <a:stretch/>
        </p:blipFill>
        <p:spPr>
          <a:xfrm>
            <a:off x="4859280" y="907920"/>
            <a:ext cx="3936960" cy="2952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C:\Users\User\Downloads\флорбол\флорбол1\2.jpg"/>
          <p:cNvPicPr/>
          <p:nvPr/>
        </p:nvPicPr>
        <p:blipFill>
          <a:blip r:embed="rId4"/>
          <a:stretch/>
        </p:blipFill>
        <p:spPr>
          <a:xfrm>
            <a:off x="4067280" y="4086360"/>
            <a:ext cx="4176720" cy="277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Рисунок 3" descr="https://sun9-63.userapi.com/c841536/v841536276/23707/zq3wM3_EV08.jpg"/>
          <p:cNvPicPr/>
          <p:nvPr/>
        </p:nvPicPr>
        <p:blipFill>
          <a:blip r:embed="rId1"/>
          <a:stretch/>
        </p:blipFill>
        <p:spPr>
          <a:xfrm>
            <a:off x="3995640" y="4005360"/>
            <a:ext cx="4897440" cy="259236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4" descr="https://sun9-14.userapi.com/c841536/v841536276/23541/6rfjcHxZ6sU.jpg"/>
          <p:cNvPicPr/>
          <p:nvPr/>
        </p:nvPicPr>
        <p:blipFill>
          <a:blip r:embed="rId2"/>
          <a:stretch/>
        </p:blipFill>
        <p:spPr>
          <a:xfrm>
            <a:off x="179280" y="836640"/>
            <a:ext cx="5113440" cy="273672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5" descr="https://sun9-46.userapi.com/c857428/v857428884/187f9b/em2dNBQmhzU.jpg"/>
          <p:cNvPicPr/>
          <p:nvPr/>
        </p:nvPicPr>
        <p:blipFill>
          <a:blip r:embed="rId3"/>
          <a:stretch/>
        </p:blipFill>
        <p:spPr>
          <a:xfrm>
            <a:off x="468360" y="3789360"/>
            <a:ext cx="3166920" cy="280836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6" descr="https://sun9-39.userapi.com/c857428/v857428963/1793e8/S8BqeDoO9S0.jpg"/>
          <p:cNvPicPr/>
          <p:nvPr/>
        </p:nvPicPr>
        <p:blipFill>
          <a:blip r:embed="rId4"/>
          <a:stretch/>
        </p:blipFill>
        <p:spPr>
          <a:xfrm>
            <a:off x="5580000" y="907920"/>
            <a:ext cx="3384720" cy="266544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7"/>
          <p:cNvSpPr/>
          <p:nvPr/>
        </p:nvSpPr>
        <p:spPr>
          <a:xfrm>
            <a:off x="4128840" y="189000"/>
            <a:ext cx="126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Г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езде есть ограничения: возрастные, половые, антропометрические, весовые, природные и др. А во ФЛОРБОЛЕ всем будет место, и все смогут реализовать себя. 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ФЛОРБОЛ ИГРА ДЛЯ ВСЕХ, ВСЕГДА И ВЕЗДЕ!</a:t>
            </a:r>
            <a:br>
              <a:rPr sz="4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10" descr="https://38-studio.ru/wp-content/uploads/2017/11/2J8A4665.jpg"/>
          <p:cNvPicPr/>
          <p:nvPr/>
        </p:nvPicPr>
        <p:blipFill>
          <a:blip r:embed="rId1"/>
          <a:stretch/>
        </p:blipFill>
        <p:spPr>
          <a:xfrm>
            <a:off x="1547640" y="2637000"/>
            <a:ext cx="6112080" cy="407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4"/>
          <p:cNvSpPr/>
          <p:nvPr/>
        </p:nvSpPr>
        <p:spPr>
          <a:xfrm>
            <a:off x="1185120" y="549360"/>
            <a:ext cx="299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ть лэпбу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Прямоугольник 6"/>
          <p:cNvSpPr/>
          <p:nvPr/>
        </p:nvSpPr>
        <p:spPr>
          <a:xfrm>
            <a:off x="3780000" y="3284640"/>
            <a:ext cx="5184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ч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глубже изучить историю возникновения  флорбола, её развитие в России и Архангельской обла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повторить правила игр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провести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кетирован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учащихся, с целью выяснить, какая двигательная активность присутствует у школьников, и знакомы ли они со флорбол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оформить лэпбу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7" descr="https://ds03.infourok.ru/uploads/ex/0520/00023b87-0430f24f/img2.jpg"/>
          <p:cNvPicPr/>
          <p:nvPr/>
        </p:nvPicPr>
        <p:blipFill>
          <a:blip r:embed="rId1"/>
          <a:stretch/>
        </p:blipFill>
        <p:spPr>
          <a:xfrm>
            <a:off x="4427640" y="404640"/>
            <a:ext cx="4097160" cy="230364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11" descr="https://sun9-7.userapi.com/c856520/v856520368/bf309/VSznR_z72JU.jpg"/>
          <p:cNvPicPr/>
          <p:nvPr/>
        </p:nvPicPr>
        <p:blipFill>
          <a:blip r:embed="rId2"/>
          <a:stretch/>
        </p:blipFill>
        <p:spPr>
          <a:xfrm>
            <a:off x="468360" y="2205000"/>
            <a:ext cx="3044880" cy="3284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395280" y="643680"/>
            <a:ext cx="554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Флорбол в Новодвинске очень успешный вид спорта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Уже в 2020 году команда нашего города "Двина" заняла 3 призовых места в различных турнирах. А какое множество побед было в предыдущие года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4284720" y="3228120"/>
            <a:ext cx="460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Флорбол (хоккей в тапочках) самый  доступный и универсальный вид спорта. Он особенно популярный среди молодёжи и детей по ряду причин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 флобол - всесезонный вид спорт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 это  малотравматичный вид спорт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 флорбол универсальны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 флорбол доступен для всех возрас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6" descr="https://sun9-46.userapi.com/c623900/v623900186/ec68/7wff-y9bhTg.jpg"/>
          <p:cNvPicPr/>
          <p:nvPr/>
        </p:nvPicPr>
        <p:blipFill>
          <a:blip r:embed="rId1"/>
          <a:stretch/>
        </p:blipFill>
        <p:spPr>
          <a:xfrm>
            <a:off x="6372360" y="404640"/>
            <a:ext cx="2439720" cy="2440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https://www.publicationsports.com/cache/fileStorage/de/9d/de9d087c1faeac01cdddba0156afcde7_album_1511876991.jpg"/>
          <p:cNvPicPr/>
          <p:nvPr/>
        </p:nvPicPr>
        <p:blipFill>
          <a:blip r:embed="rId2"/>
          <a:stretch/>
        </p:blipFill>
        <p:spPr>
          <a:xfrm>
            <a:off x="179280" y="2492280"/>
            <a:ext cx="3011760" cy="2363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5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13" descr="https://citifox.ru/wp-content/uploads/2017/05/floorball-photo-u6.jpg"/>
          <p:cNvPicPr/>
          <p:nvPr/>
        </p:nvPicPr>
        <p:blipFill>
          <a:blip r:embed="rId3"/>
          <a:stretch/>
        </p:blipFill>
        <p:spPr>
          <a:xfrm>
            <a:off x="1368360" y="4653000"/>
            <a:ext cx="2981520" cy="1990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4"/>
          <p:cNvSpPr/>
          <p:nvPr/>
        </p:nvSpPr>
        <p:spPr>
          <a:xfrm>
            <a:off x="468360" y="476280"/>
            <a:ext cx="36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ременный флорбол, видимо, начал зарождаться в 1958 году, когда в американском штате Миннесота начали выпускать пластиковые клюшки под брендом 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Cosom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Прямоугольник 5"/>
          <p:cNvSpPr/>
          <p:nvPr/>
        </p:nvSpPr>
        <p:spPr>
          <a:xfrm>
            <a:off x="4427640" y="2349360"/>
            <a:ext cx="428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968 году шведские студенты находясь на каникулах в США привезли домой пластиковые клюшки, шайбы и мячи. С ними стали играть, как в хоккей, только не на льду, а на площадке. Так флорхоккей стал популярен и в европейских школах и молодежных спортивных клуб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рямоугольник 6"/>
          <p:cNvSpPr/>
          <p:nvPr/>
        </p:nvSpPr>
        <p:spPr>
          <a:xfrm>
            <a:off x="468360" y="5373720"/>
            <a:ext cx="52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986 году была создана Международная Федерация флорбола (IFF), в которую вошли Финляндия, Швеция и Швейцар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Рисунок 7" descr="IFF-Logo-2017.png"/>
          <p:cNvPicPr/>
          <p:nvPr/>
        </p:nvPicPr>
        <p:blipFill>
          <a:blip r:embed="rId1"/>
          <a:stretch/>
        </p:blipFill>
        <p:spPr>
          <a:xfrm>
            <a:off x="6084720" y="5157720"/>
            <a:ext cx="2857680" cy="130824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8" descr="3834.512x0.jpg"/>
          <p:cNvPicPr/>
          <p:nvPr/>
        </p:nvPicPr>
        <p:blipFill>
          <a:blip r:embed="rId2"/>
          <a:stretch/>
        </p:blipFill>
        <p:spPr>
          <a:xfrm>
            <a:off x="5508720" y="158760"/>
            <a:ext cx="2879640" cy="202896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9" descr="kupit-flag-usa.jpg"/>
          <p:cNvPicPr/>
          <p:nvPr/>
        </p:nvPicPr>
        <p:blipFill>
          <a:blip r:embed="rId3"/>
          <a:stretch/>
        </p:blipFill>
        <p:spPr>
          <a:xfrm>
            <a:off x="395280" y="2924280"/>
            <a:ext cx="1046160" cy="64908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10" descr="kokki.jpg"/>
          <p:cNvPicPr/>
          <p:nvPr/>
        </p:nvPicPr>
        <p:blipFill>
          <a:blip r:embed="rId4"/>
          <a:stretch/>
        </p:blipFill>
        <p:spPr>
          <a:xfrm>
            <a:off x="395280" y="3789360"/>
            <a:ext cx="1071720" cy="620640"/>
          </a:xfrm>
          <a:prstGeom prst="rect">
            <a:avLst/>
          </a:prstGeom>
          <a:ln w="0">
            <a:noFill/>
          </a:ln>
        </p:spPr>
      </p:pic>
      <p:sp>
        <p:nvSpPr>
          <p:cNvPr id="185" name="Штриховая стрелка вправо 11"/>
          <p:cNvSpPr/>
          <p:nvPr/>
        </p:nvSpPr>
        <p:spPr>
          <a:xfrm>
            <a:off x="1835280" y="3429000"/>
            <a:ext cx="936360" cy="414360"/>
          </a:xfrm>
          <a:custGeom>
            <a:avLst/>
            <a:gdLst/>
            <a:ahLst/>
            <a:rect l="l" t="t" r="r" b="b"/>
            <a:pathLst>
              <a:path w="936625" h="414338">
                <a:moveTo>
                  <a:pt x="0" y="103585"/>
                </a:moveTo>
                <a:lnTo>
                  <a:pt x="12948" y="103585"/>
                </a:lnTo>
                <a:lnTo>
                  <a:pt x="12948" y="310754"/>
                </a:lnTo>
                <a:lnTo>
                  <a:pt x="0" y="310754"/>
                </a:lnTo>
                <a:lnTo>
                  <a:pt x="0" y="103585"/>
                </a:lnTo>
                <a:close/>
                <a:moveTo>
                  <a:pt x="25896" y="103585"/>
                </a:moveTo>
                <a:lnTo>
                  <a:pt x="51792" y="103585"/>
                </a:lnTo>
                <a:lnTo>
                  <a:pt x="51792" y="310754"/>
                </a:lnTo>
                <a:lnTo>
                  <a:pt x="25896" y="310754"/>
                </a:lnTo>
                <a:lnTo>
                  <a:pt x="25896" y="103585"/>
                </a:lnTo>
                <a:close/>
                <a:moveTo>
                  <a:pt x="64740" y="103585"/>
                </a:moveTo>
                <a:lnTo>
                  <a:pt x="729456" y="103585"/>
                </a:lnTo>
                <a:lnTo>
                  <a:pt x="729456" y="0"/>
                </a:lnTo>
                <a:lnTo>
                  <a:pt x="936625" y="207169"/>
                </a:lnTo>
                <a:lnTo>
                  <a:pt x="729456" y="414338"/>
                </a:lnTo>
                <a:lnTo>
                  <a:pt x="729456" y="310754"/>
                </a:lnTo>
                <a:lnTo>
                  <a:pt x="64740" y="310754"/>
                </a:lnTo>
                <a:lnTo>
                  <a:pt x="64740" y="103585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Рисунок 12" descr="sweden_flag_postcard-rb5058278231044819d814d786e089753_vgbaq_8byvr_630.jpg"/>
          <p:cNvPicPr/>
          <p:nvPr/>
        </p:nvPicPr>
        <p:blipFill>
          <a:blip r:embed="rId5"/>
          <a:stretch/>
        </p:blipFill>
        <p:spPr>
          <a:xfrm>
            <a:off x="3132000" y="3213000"/>
            <a:ext cx="1079640" cy="86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Содержимое 2"/>
          <p:cNvSpPr/>
          <p:nvPr/>
        </p:nvSpPr>
        <p:spPr>
          <a:xfrm>
            <a:off x="3203640" y="260280"/>
            <a:ext cx="5689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1995 году была создана Архангельская областная федерация флорбо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едерацию возглавлял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95 - 1997 г. г. - Коноплев Александр Михайлович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97 - 2001 г. г. - Голдин Владислав Иванович, профессор ПГУ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01 - Королев Александр Виктор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Рисунок 3" descr="unnamed.jpg"/>
          <p:cNvPicPr/>
          <p:nvPr/>
        </p:nvPicPr>
        <p:blipFill>
          <a:blip r:embed="rId1"/>
          <a:stretch/>
        </p:blipFill>
        <p:spPr>
          <a:xfrm>
            <a:off x="395280" y="189000"/>
            <a:ext cx="2376360" cy="2376360"/>
          </a:xfrm>
          <a:prstGeom prst="rect">
            <a:avLst/>
          </a:prstGeom>
          <a:ln w="0">
            <a:noFill/>
          </a:ln>
        </p:spPr>
      </p:pic>
      <p:sp>
        <p:nvSpPr>
          <p:cNvPr id="189" name="Прямоугольник 4"/>
          <p:cNvSpPr/>
          <p:nvPr/>
        </p:nvSpPr>
        <p:spPr>
          <a:xfrm>
            <a:off x="108000" y="2852640"/>
            <a:ext cx="44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1996 году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на факультете физической культуры Поморского государственного университета, впервые в России и пока единственная, была открыта специализация -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лорбо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Рисунок 5" descr="logo_1.png"/>
          <p:cNvPicPr/>
          <p:nvPr/>
        </p:nvPicPr>
        <p:blipFill>
          <a:blip r:embed="rId2"/>
          <a:stretch/>
        </p:blipFill>
        <p:spPr>
          <a:xfrm>
            <a:off x="1332000" y="4365720"/>
            <a:ext cx="2413080" cy="2355840"/>
          </a:xfrm>
          <a:prstGeom prst="rect">
            <a:avLst/>
          </a:prstGeom>
          <a:ln w="0">
            <a:noFill/>
          </a:ln>
        </p:spPr>
      </p:pic>
      <p:sp>
        <p:nvSpPr>
          <p:cNvPr id="191" name="Содержимое 2"/>
          <p:cNvSpPr/>
          <p:nvPr/>
        </p:nvSpPr>
        <p:spPr>
          <a:xfrm>
            <a:off x="5076720" y="2492280"/>
            <a:ext cx="3922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95г. -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Портовик» г. Архангельск, главный тренер В.Михайлов - Чемпион России,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«Двина» г. Новодвинск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лавный тренер С.И. Талдонов -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бронзовый призе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чемпионата России среди мужских команд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Рисунок 7" descr="GZS3EQzT5OE.jpg"/>
          <p:cNvPicPr/>
          <p:nvPr/>
        </p:nvPicPr>
        <p:blipFill>
          <a:blip r:embed="rId3"/>
          <a:stretch/>
        </p:blipFill>
        <p:spPr>
          <a:xfrm>
            <a:off x="4843440" y="4292640"/>
            <a:ext cx="4300560" cy="242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https://cf2.ppt-online.org/files2/slide/a/AKPZYiecIVs574pbH2qj9tXuWLhMaUz36Ryrdm0F1/slide-26.jpg"/>
          <p:cNvPicPr/>
          <p:nvPr/>
        </p:nvPicPr>
        <p:blipFill>
          <a:blip r:embed="rId1"/>
          <a:stretch/>
        </p:blipFill>
        <p:spPr>
          <a:xfrm>
            <a:off x="133200" y="1557360"/>
            <a:ext cx="8937720" cy="489600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оугольник 7"/>
          <p:cNvSpPr/>
          <p:nvPr/>
        </p:nvSpPr>
        <p:spPr>
          <a:xfrm>
            <a:off x="1131840" y="692280"/>
            <a:ext cx="688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аткие правила игры во флорбо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3"/>
          <p:cNvSpPr/>
          <p:nvPr/>
        </p:nvSpPr>
        <p:spPr>
          <a:xfrm>
            <a:off x="900000" y="333360"/>
            <a:ext cx="19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я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11" descr="250px-Floorball_ball"/>
          <p:cNvPicPr/>
          <p:nvPr/>
        </p:nvPicPr>
        <p:blipFill>
          <a:blip r:embed="rId1"/>
          <a:stretch/>
        </p:blipFill>
        <p:spPr>
          <a:xfrm>
            <a:off x="468360" y="3860640"/>
            <a:ext cx="2735280" cy="2737080"/>
          </a:xfrm>
          <a:prstGeom prst="rect">
            <a:avLst/>
          </a:prstGeom>
          <a:ln w="0">
            <a:noFill/>
          </a:ln>
        </p:spPr>
      </p:pic>
      <p:sp>
        <p:nvSpPr>
          <p:cNvPr id="197" name="Прямоугольник 8"/>
          <p:cNvSpPr/>
          <p:nvPr/>
        </p:nvSpPr>
        <p:spPr>
          <a:xfrm>
            <a:off x="395280" y="1197000"/>
            <a:ext cx="2952720" cy="27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л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астм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аметр - 72 м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сса - 23 грам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6 отверст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96000" y="333360"/>
            <a:ext cx="27367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люш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6" descr="handofdoom23"/>
          <p:cNvPicPr/>
          <p:nvPr/>
        </p:nvPicPr>
        <p:blipFill>
          <a:blip r:embed="rId2"/>
          <a:stretch/>
        </p:blipFill>
        <p:spPr>
          <a:xfrm>
            <a:off x="6227640" y="2276640"/>
            <a:ext cx="2521080" cy="434016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11"/>
          <p:cNvSpPr/>
          <p:nvPr/>
        </p:nvSpPr>
        <p:spPr>
          <a:xfrm>
            <a:off x="5435640" y="1197000"/>
            <a:ext cx="35100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аст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ина - не больше 115 с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сса - 380 грамм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ирина крюка - 30 м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11" descr="https://sun9-48.userapi.com/c858220/v858220368/15faaf/kVl-DjkBadw.jpg"/>
          <p:cNvPicPr/>
          <p:nvPr/>
        </p:nvPicPr>
        <p:blipFill>
          <a:blip r:embed="rId3"/>
          <a:stretch/>
        </p:blipFill>
        <p:spPr>
          <a:xfrm>
            <a:off x="3419640" y="1844640"/>
            <a:ext cx="2447640" cy="3335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283040" y="262440"/>
            <a:ext cx="660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Calibri"/>
              </a:rPr>
              <a:t>Экипировка для игры во флорбо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Прямоугольник 7"/>
          <p:cNvSpPr/>
          <p:nvPr/>
        </p:nvSpPr>
        <p:spPr>
          <a:xfrm>
            <a:off x="834480" y="1197000"/>
            <a:ext cx="233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орма для вратар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Прямоугольник 8"/>
          <p:cNvSpPr/>
          <p:nvPr/>
        </p:nvSpPr>
        <p:spPr>
          <a:xfrm>
            <a:off x="5737680" y="1197000"/>
            <a:ext cx="210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орма для игро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Рисунок 9" descr="https://verkkokauppa.qmax.fi/tuotekuvat/1500x1500/veska_copy1.jpg"/>
          <p:cNvPicPr/>
          <p:nvPr/>
        </p:nvPicPr>
        <p:blipFill>
          <a:blip r:embed="rId1"/>
          <a:stretch/>
        </p:blipFill>
        <p:spPr>
          <a:xfrm>
            <a:off x="1258920" y="1773360"/>
            <a:ext cx="1584360" cy="331128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10" descr="https://www.forfloorball.com/tuotekuvat/900x600/Unihoc_blocker-black.png"/>
          <p:cNvPicPr/>
          <p:nvPr/>
        </p:nvPicPr>
        <p:blipFill>
          <a:blip r:embed="rId2"/>
          <a:stretch/>
        </p:blipFill>
        <p:spPr>
          <a:xfrm>
            <a:off x="2411280" y="530064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11" descr="https://prosportspb.ru/images/detailed/6/e3cbce4ecdda11e7857660a44c5c87dc_e3cbce4fcdda11e7857660a44c5c87dc.png"/>
          <p:cNvPicPr/>
          <p:nvPr/>
        </p:nvPicPr>
        <p:blipFill>
          <a:blip r:embed="rId3"/>
          <a:stretch/>
        </p:blipFill>
        <p:spPr>
          <a:xfrm>
            <a:off x="395280" y="5300640"/>
            <a:ext cx="1368360" cy="129708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12" descr="https://www.innebandybutiken.com/bilder/artiklar/1099-1237084C-R.jpg"/>
          <p:cNvPicPr/>
          <p:nvPr/>
        </p:nvPicPr>
        <p:blipFill>
          <a:blip r:embed="rId4"/>
          <a:stretch/>
        </p:blipFill>
        <p:spPr>
          <a:xfrm>
            <a:off x="6156360" y="5229360"/>
            <a:ext cx="1440000" cy="136836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13" descr="https://rostov.ac-sports.ru/assets/images/products/102/9e5cbc5fb7b06b61a9e4afedd5c67bd4417f9523.jpg"/>
          <p:cNvPicPr/>
          <p:nvPr/>
        </p:nvPicPr>
        <p:blipFill>
          <a:blip r:embed="rId5"/>
          <a:stretch/>
        </p:blipFill>
        <p:spPr>
          <a:xfrm>
            <a:off x="4859280" y="1844640"/>
            <a:ext cx="3673440" cy="295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"/>
          <p:cNvSpPr/>
          <p:nvPr/>
        </p:nvSpPr>
        <p:spPr>
          <a:xfrm>
            <a:off x="179280" y="482400"/>
            <a:ext cx="554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Calibri"/>
              </a:rPr>
              <a:t>Проанализировав анкеты, мы сделали следующие выводы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Calibri"/>
              </a:rPr>
              <a:t>- двигательная активность учеников данных классов находится на высоком уровн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Calibri"/>
              </a:rPr>
              <a:t>- многие ребята занимаются спортом, но часть учеников не заняты в спортивных секция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Calibri"/>
              </a:rPr>
              <a:t>- рассказать о флорболе обучающимся и, возможно, заинтересовать их этим видом спорт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Диаграмма 7" descr=""/>
          <p:cNvPicPr/>
          <p:nvPr/>
        </p:nvPicPr>
        <p:blipFill>
          <a:blip r:embed="rId1"/>
          <a:stretch/>
        </p:blipFill>
        <p:spPr>
          <a:xfrm>
            <a:off x="6033960" y="4025880"/>
            <a:ext cx="2965680" cy="2540160"/>
          </a:xfrm>
          <a:prstGeom prst="rect">
            <a:avLst/>
          </a:prstGeom>
          <a:ln w="0">
            <a:noFill/>
          </a:ln>
        </p:spPr>
      </p:pic>
      <p:pic>
        <p:nvPicPr>
          <p:cNvPr id="212" name="Диаграмма 8" descr=""/>
          <p:cNvPicPr/>
          <p:nvPr/>
        </p:nvPicPr>
        <p:blipFill>
          <a:blip r:embed="rId2"/>
          <a:stretch/>
        </p:blipFill>
        <p:spPr>
          <a:xfrm>
            <a:off x="128520" y="3665520"/>
            <a:ext cx="3100320" cy="3102120"/>
          </a:xfrm>
          <a:prstGeom prst="rect">
            <a:avLst/>
          </a:prstGeom>
          <a:ln w="0">
            <a:noFill/>
          </a:ln>
        </p:spPr>
      </p:pic>
      <p:pic>
        <p:nvPicPr>
          <p:cNvPr id="213" name="Диаграмма 9" descr=""/>
          <p:cNvPicPr/>
          <p:nvPr/>
        </p:nvPicPr>
        <p:blipFill>
          <a:blip r:embed="rId3"/>
          <a:stretch/>
        </p:blipFill>
        <p:spPr>
          <a:xfrm>
            <a:off x="3081240" y="3749760"/>
            <a:ext cx="3525840" cy="3159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3" descr="https://sun9-42.userapi.com/c206628/v206628368/4b5a4/46hBTUP7gRc.jpg"/>
          <p:cNvPicPr/>
          <p:nvPr/>
        </p:nvPicPr>
        <p:blipFill>
          <a:blip r:embed="rId4"/>
          <a:stretch/>
        </p:blipFill>
        <p:spPr>
          <a:xfrm>
            <a:off x="6372360" y="260280"/>
            <a:ext cx="2555640" cy="3506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12:10:37Z</dcterms:created>
  <dc:creator>Сергей</dc:creator>
  <dc:description/>
  <dc:language>en-US</dc:language>
  <cp:lastModifiedBy>Пользователь Windows</cp:lastModifiedBy>
  <dcterms:modified xsi:type="dcterms:W3CDTF">2023-02-15T11:14:04Z</dcterms:modified>
  <cp:revision>101</cp:revision>
  <dc:subject/>
  <dc:title>Талантам нужно помогать</dc:title>
</cp:coreProperties>
</file>