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07C-1936-49E1-9B73-0900D06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7ED-8D68-47B4-9489-3044955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E66-BF75-4699-9957-E92A86B4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6EF-1F20-4ED8-8C39-2FB2756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78CF-8F2D-4307-B1AF-43C63E81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927-E23C-46A4-B135-9A1263B4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24AA-7DDB-4822-940D-59C9F26B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31D6-8EBC-4ADA-9CED-61273050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35C1-810D-4409-B509-C2B6D64F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AA8-B85B-45D2-819A-3DC2004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68EA-9C3B-4EF9-9249-7553EFC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48D-0F34-4AD5-923A-3180011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38F-C55C-4DBC-AFD1-BDFF875D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4F5A-B88B-43EF-BB59-44D848B9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9617-1704-4C64-BE12-6B901709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FA7E-73DA-44A4-8CA4-7FE18F02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083D-B598-4D58-BCD9-7920BCF0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AAB3-ABF7-4C20-B6A1-3BE38D71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F7C9-DE8F-4ED9-8FAD-14C58CB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E9D3-676F-409B-A22B-842675A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D254-EB8B-4B15-B01D-6EC2765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AB8C-6576-4F10-908F-62934315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95C-D933-425E-B1F5-6C24227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8A6B-DB1C-4817-8E89-A411E0FA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9763-5C66-446F-A691-EB98814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F680-A896-4E60-AD36-4DBD147B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80C1-3AE4-417F-B180-F4DD9F7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871A-B077-4EAB-8AE9-88EE9BB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A8DF-1F45-4BE5-A487-63A8BA7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19DB-98B5-4ED0-AF11-E5F2A8A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A3D-C5FF-4DEC-B143-F3E3CBF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0F5-96CE-4555-8C9F-0E19CC8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7AA-5B11-4E0C-B2E2-E2A55ED7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541-0567-48C9-BCC5-AB00047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211-81F9-43FF-BAC1-F00148A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24C-218C-421F-8B0A-20073F1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3BDE-E852-4AF9-9007-07FD13D4B0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47B-6B88-4541-B546-F3BE687D57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F9D9-0F77-45CD-8708-AC904032C3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Учебник, страница 77, вопрос 1,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Задания 3.1  и 3.2 выполнить в тетрад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Д/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тр. 74-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Закодировать слов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компьютер, файл, вир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N=2</a:t>
            </a:r>
            <a:r>
              <a:rPr b="0" lang="en-US" sz="4400" spc="-1" strike="noStrike" baseline="30000">
                <a:solidFill>
                  <a:srgbClr val="0000cc"/>
                </a:solidFill>
                <a:latin typeface="Calibri"/>
              </a:rPr>
              <a:t>i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"/>
              </a:rPr>
              <a:t>=&gt;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 256 = 2</a:t>
            </a:r>
            <a:r>
              <a:rPr b="0" lang="en-US" sz="4400" spc="-1" strike="noStrike" baseline="30000">
                <a:solidFill>
                  <a:srgbClr val="0000cc"/>
                </a:solidFill>
                <a:latin typeface="Calibri"/>
              </a:rPr>
              <a:t>i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"/>
              </a:rPr>
              <a:t>=&gt;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 2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8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 =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cc"/>
                </a:solidFill>
                <a:latin typeface="Calibri"/>
              </a:rPr>
              <a:t>i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"/>
              </a:rPr>
              <a:t>=&gt;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  <a:ea typeface="Arial"/>
              </a:rPr>
              <a:t>i= 8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би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Каждому знаку необходимо поставить в соответствии уникальный двоичный код из интерва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т 00000000 до  11111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в десятичном коде от 0 до 2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Компьютер различает знаки по их двоичным код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Таблица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, в которой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всем символам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 компьютерного алфавита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поставлены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 в соответствие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порядковые номера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, называется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таблицей кодировки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еждународным стандартом стала таблица кодировки под названи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ASCI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американский стандартный код для информационного обме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тандартной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в этой таблице является первая половина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 0 до 127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т 00000000  до 01111111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юда входя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вые 33 кода,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(0 до 33),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соответствуют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ерациям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перевод строки, ввод пробела и др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 33 по 127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десятичные коды соответствуют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буквам латинского алфавита, цифрам, знакам препинания и другим символам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стальные 128 кодов, начиная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10000000  и заканчивая 11111111, используются в различных вариантах (например, русский алфави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се символы в таблице размещены по алфавиту, а цифры в порядке возрастания – это правило называется 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принципом последовательного кодирования алфави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ичные коды некоторых символов в различных кодиров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1600200"/>
          <a:ext cx="8362800" cy="4836960"/>
        </p:xfrm>
        <a:graphic>
          <a:graphicData uri="http://schemas.openxmlformats.org/drawingml/2006/table">
            <a:tbl>
              <a:tblPr/>
              <a:tblGrid>
                <a:gridCol w="1108080"/>
                <a:gridCol w="1280880"/>
                <a:gridCol w="1195560"/>
                <a:gridCol w="1193760"/>
                <a:gridCol w="1195200"/>
                <a:gridCol w="1193760"/>
                <a:gridCol w="1195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nd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S-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И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ico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настоящее время существуют пять различных кодовых таблиц для русских бук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Windows</a:t>
            </a: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MS-DOS</a:t>
            </a: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КОИ-8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Ma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I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419640" y="2133720"/>
            <a:ext cx="504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Тексты, созданные в одной кодировке, не будут правильно отражаться в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последние годы широкое распространение получил новый международный стандарт кодирование текстовых символов    </a:t>
            </a: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Unicode</a:t>
            </a:r>
            <a:r>
              <a:rPr b="1" i="1" lang="ru-RU" sz="36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Calibri"/>
              </a:rPr>
              <a:t>Каждому символу в данной кодировке отводится 2 бай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N=  2</a:t>
            </a:r>
            <a:r>
              <a:rPr b="1" i="1" lang="en-US" sz="3600" spc="-1" strike="noStrike" baseline="30000">
                <a:solidFill>
                  <a:srgbClr val="003366"/>
                </a:solidFill>
                <a:latin typeface="Calibri"/>
              </a:rPr>
              <a:t>i </a:t>
            </a: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 =  2</a:t>
            </a:r>
            <a:r>
              <a:rPr b="1" i="1" lang="en-US" sz="3600" spc="-1" strike="noStrike" baseline="30000">
                <a:solidFill>
                  <a:srgbClr val="003366"/>
                </a:solidFill>
                <a:latin typeface="Calibri"/>
              </a:rPr>
              <a:t>16  </a:t>
            </a: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=   65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39:27Z</dcterms:created>
  <dc:creator>....</dc:creator>
  <dc:description/>
  <dc:language>en-US</dc:language>
  <cp:lastModifiedBy>User</cp:lastModifiedBy>
  <dcterms:modified xsi:type="dcterms:W3CDTF">2023-02-15T16:45:35Z</dcterms:modified>
  <cp:revision>4</cp:revision>
  <dc:subject/>
  <dc:title>К13ир1вание текст1в1й инф1рмации</dc:title>
</cp:coreProperties>
</file>