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60D8-F58A-4A8B-BB46-F015C2073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55E5-1D2A-43F5-B116-E4131B08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494A-F160-43C3-85F3-295ED8AB7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F16B-3D80-4B4E-A18E-D2D6F0A0A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62E8-C378-4DDD-AB76-238F4E0E6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6BA4-28BA-493A-8B45-24797BBD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2EC6-55E2-4704-BAC3-F8727FA9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1C35-AF66-4ECA-B66D-30157A89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C481-3312-4E91-8B18-A18F9A3C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B026-5612-4AA8-8D46-5839C56C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A6B6-5981-4102-98BC-E0C7EEEF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E1C8-62DA-47AE-BB6E-429F7F69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60E8-0553-4D38-AD62-67E8CF95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E106-C95E-4BC4-9361-9591D6CE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10AD-B0E3-4E46-A1C6-79A61388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583F-9ACA-4BDB-80AE-9B1B4D046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9791-7B66-47AC-B1FE-E7F4B90CD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70D17-437E-4804-9DB4-AE144AF10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94AB7-E1C7-4033-9CBC-C1559E9E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FB295-989D-4256-AA48-E91BC459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345A8-B18D-4F85-B331-3CEA5EC9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CF0C2-F246-4EF6-847A-3F994FC5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158B-4144-485F-974A-7DE2AA82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BAB9F-1C12-4BC6-BDEA-A401234B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2B65A-FEEA-4933-8449-A34B7862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5C337-1717-48AB-BCC8-ABD38081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B85C3-30AF-406C-8624-E81D0D64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2E941-2CF4-492D-B845-63496B3D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E6657-1DF7-4F23-BCF8-49F7678B9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B12BB-D4C5-4C46-8DC3-8D73D1EE1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2B2E-17D1-4A8F-BECD-CC4F7695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F916-2E4B-4464-8E98-DA362B40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609E-8049-4661-A0FE-B187BD7C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EBDC-9280-4D6B-92FA-8DA54621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B980-8A1A-4413-BF5E-0E5F9654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20E2-4D5D-4AA4-A6D0-6253A888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0B7C-6FEE-4AF4-BC8A-45073955C9B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6 Imagen" descr="Dibujo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" name="Rectangle 10"/>
          <p:cNvGrpSpPr/>
          <p:nvPr/>
        </p:nvGrpSpPr>
        <p:grpSpPr>
          <a:xfrm>
            <a:off x="0" y="0"/>
            <a:ext cx="9144000" cy="7010280"/>
            <a:chOff x="0" y="0"/>
            <a:chExt cx="9144000" cy="7010280"/>
          </a:xfrm>
        </p:grpSpPr>
        <p:pic>
          <p:nvPicPr>
            <p:cNvPr id="7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01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0" y="0"/>
              <a:ext cx="9144000" cy="70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6 Imagen" descr="Dibujo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" name="Rectangle 10"/>
          <p:cNvGrpSpPr/>
          <p:nvPr/>
        </p:nvGrpSpPr>
        <p:grpSpPr>
          <a:xfrm>
            <a:off x="0" y="0"/>
            <a:ext cx="9144000" cy="7010280"/>
            <a:chOff x="0" y="0"/>
            <a:chExt cx="9144000" cy="7010280"/>
          </a:xfrm>
        </p:grpSpPr>
        <p:pic>
          <p:nvPicPr>
            <p:cNvPr id="47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01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0" y="0"/>
              <a:ext cx="9144000" cy="70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6 Imagen" descr="Dibujo.bmp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6037-A3A7-428B-9B05-2B0B27FD21C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6 Imagen" descr="Dibujo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2" name="Rectangle 10"/>
          <p:cNvGrpSpPr/>
          <p:nvPr/>
        </p:nvGrpSpPr>
        <p:grpSpPr>
          <a:xfrm>
            <a:off x="0" y="0"/>
            <a:ext cx="9144000" cy="7010280"/>
            <a:chOff x="0" y="0"/>
            <a:chExt cx="9144000" cy="7010280"/>
          </a:xfrm>
        </p:grpSpPr>
        <p:pic>
          <p:nvPicPr>
            <p:cNvPr id="93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01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0" y="0"/>
              <a:ext cx="9144000" cy="70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689B-D298-4D68-AA50-A035540DEA9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Rectangle 2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7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Учебник, страница 77, вопрос 1,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Задания 3.1  и 3.2 выполнить в тетрадя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alibri"/>
              </a:rPr>
              <a:t>Д/з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Стр. 74-7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Закодировать слов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компьютер, файл, виру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alibri"/>
              </a:rPr>
              <a:t>N=2</a:t>
            </a:r>
            <a:r>
              <a:rPr b="0" lang="en-US" sz="4400" spc="-1" strike="noStrike" baseline="30000">
                <a:solidFill>
                  <a:srgbClr val="0000cc"/>
                </a:solidFill>
                <a:latin typeface="Calibri"/>
              </a:rPr>
              <a:t>i</a:t>
            </a:r>
            <a:r>
              <a:rPr b="0" lang="ru-RU" sz="4400" spc="-1" strike="noStrike" baseline="30000">
                <a:solidFill>
                  <a:srgbClr val="0000cc"/>
                </a:solidFill>
                <a:latin typeface="Calibri"/>
              </a:rPr>
              <a:t>  </a:t>
            </a:r>
            <a:r>
              <a:rPr b="0" lang="en-US" sz="44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c0504d"/>
                </a:solidFill>
                <a:latin typeface="Calibri"/>
                <a:ea typeface="Arial"/>
              </a:rPr>
              <a:t>=&gt;</a:t>
            </a:r>
            <a:r>
              <a:rPr b="0" lang="en-US" sz="44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cc"/>
                </a:solidFill>
                <a:latin typeface="Calibri"/>
              </a:rPr>
              <a:t> 256 = 2</a:t>
            </a:r>
            <a:r>
              <a:rPr b="0" lang="en-US" sz="4400" spc="-1" strike="noStrike" baseline="30000">
                <a:solidFill>
                  <a:srgbClr val="0000cc"/>
                </a:solidFill>
                <a:latin typeface="Calibri"/>
              </a:rPr>
              <a:t>i</a:t>
            </a:r>
            <a:r>
              <a:rPr b="0" lang="ru-RU" sz="4400" spc="-1" strike="noStrike" baseline="30000">
                <a:solidFill>
                  <a:srgbClr val="0000cc"/>
                </a:solidFill>
                <a:latin typeface="Calibri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  <a:ea typeface="Arial"/>
              </a:rPr>
              <a:t>=&gt;</a:t>
            </a:r>
            <a:r>
              <a:rPr b="0" lang="ru-RU" sz="4400" spc="-1" strike="noStrike">
                <a:solidFill>
                  <a:srgbClr val="0000cc"/>
                </a:solidFill>
                <a:latin typeface="Calibri"/>
              </a:rPr>
              <a:t> 2</a:t>
            </a:r>
            <a:r>
              <a:rPr b="0" lang="ru-RU" sz="4400" spc="-1" strike="noStrike" baseline="30000">
                <a:solidFill>
                  <a:srgbClr val="0000cc"/>
                </a:solidFill>
                <a:latin typeface="Calibri"/>
              </a:rPr>
              <a:t>8</a:t>
            </a:r>
            <a:r>
              <a:rPr b="0" lang="ru-RU" sz="4400" spc="-1" strike="noStrike">
                <a:solidFill>
                  <a:srgbClr val="0000cc"/>
                </a:solidFill>
                <a:latin typeface="Calibri"/>
              </a:rPr>
              <a:t> =</a:t>
            </a:r>
            <a:r>
              <a:rPr b="0" lang="ru-RU" sz="4400" spc="-1" strike="noStrike" baseline="30000">
                <a:solidFill>
                  <a:srgbClr val="0000cc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cc"/>
                </a:solidFill>
                <a:latin typeface="Calibri"/>
              </a:rPr>
              <a:t>2</a:t>
            </a:r>
            <a:r>
              <a:rPr b="0" lang="en-US" sz="4400" spc="-1" strike="noStrike" baseline="30000">
                <a:solidFill>
                  <a:srgbClr val="0000cc"/>
                </a:solidFill>
                <a:latin typeface="Calibri"/>
              </a:rPr>
              <a:t>i</a:t>
            </a:r>
            <a:r>
              <a:rPr b="0" lang="ru-RU" sz="4400" spc="-1" strike="noStrike" baseline="30000">
                <a:solidFill>
                  <a:srgbClr val="0000cc"/>
                </a:solidFill>
                <a:latin typeface="Calibri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  <a:ea typeface="Arial"/>
              </a:rPr>
              <a:t>=&gt;</a:t>
            </a:r>
            <a:r>
              <a:rPr b="0" lang="ru-RU" sz="4400" spc="-1" strike="noStrike">
                <a:solidFill>
                  <a:srgbClr val="0000cc"/>
                </a:solidFill>
                <a:latin typeface="Calibri"/>
                <a:ea typeface="Arial"/>
              </a:rPr>
              <a:t> </a:t>
            </a:r>
            <a:r>
              <a:rPr b="0" lang="en-US" sz="4400" spc="-1" strike="noStrike">
                <a:solidFill>
                  <a:srgbClr val="0000cc"/>
                </a:solidFill>
                <a:latin typeface="Calibri"/>
                <a:ea typeface="Arial"/>
              </a:rPr>
              <a:t>i= 8</a:t>
            </a:r>
            <a:r>
              <a:rPr b="0" lang="ru-RU" sz="4400" spc="-1" strike="noStrike">
                <a:solidFill>
                  <a:srgbClr val="0000cc"/>
                </a:solidFill>
                <a:latin typeface="Calibri"/>
                <a:ea typeface="Arial"/>
              </a:rPr>
              <a:t>би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Каждому знаку необходимо поставить в соответствии уникальный двоичный код из интервал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от 00000000 до  111111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(в десятичном коде от 0 до 25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Компьютер различает знаки по их двоичным код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Таблица</a:t>
            </a:r>
            <a:r>
              <a:rPr b="0" lang="ru-RU" sz="3600" spc="-1" strike="noStrike">
                <a:solidFill>
                  <a:srgbClr val="0000cc"/>
                </a:solidFill>
                <a:latin typeface="Calibri"/>
              </a:rPr>
              <a:t>, в которой </a:t>
            </a: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всем символам</a:t>
            </a:r>
            <a:r>
              <a:rPr b="0" lang="ru-RU" sz="3600" spc="-1" strike="noStrike">
                <a:solidFill>
                  <a:srgbClr val="0000cc"/>
                </a:solidFill>
                <a:latin typeface="Calibri"/>
              </a:rPr>
              <a:t> компьютерного алфавита </a:t>
            </a: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поставлены</a:t>
            </a:r>
            <a:r>
              <a:rPr b="0" lang="ru-RU" sz="3600" spc="-1" strike="noStrike">
                <a:solidFill>
                  <a:srgbClr val="0000cc"/>
                </a:solidFill>
                <a:latin typeface="Calibri"/>
              </a:rPr>
              <a:t> в соответствие </a:t>
            </a: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порядковые номера</a:t>
            </a:r>
            <a:r>
              <a:rPr b="0" lang="ru-RU" sz="3600" spc="-1" strike="noStrike">
                <a:solidFill>
                  <a:srgbClr val="0000cc"/>
                </a:solidFill>
                <a:latin typeface="Calibri"/>
              </a:rPr>
              <a:t>, называется </a:t>
            </a: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таблицей кодировки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Международным стандартом стала таблица кодировки под название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Calibri"/>
              </a:rPr>
              <a:t>ASCII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(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американский стандартный код для информационного обмен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тандартной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 в этой таблице является первая половина 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т 0 до 127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, т.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( </a:t>
            </a: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от 00000000  до 01111111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Сюда входя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Первые 33 кода, 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(0 до 33),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 соответствуют 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перациям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(</a:t>
            </a: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перевод строки, ввод пробела и др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 33 по 127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 десятичные коды соответствуют </a:t>
            </a: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буквам латинского алфавита, цифрам, знакам препинания и другим символам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Остальные 128 кодов, начиная 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10000000  и заканчивая 11111111, используются в различных вариантах (например, русский алфави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Все символы в таблице размещены по алфавиту, а цифры в порядке возрастания – это правило называется </a:t>
            </a:r>
            <a:r>
              <a:rPr b="1" i="1" lang="ru-RU" sz="2800" spc="-1" strike="noStrike">
                <a:solidFill>
                  <a:srgbClr val="000066"/>
                </a:solidFill>
                <a:latin typeface="Calibri"/>
              </a:rPr>
              <a:t>принципом последовательного кодирования алфави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сятичные коды некоторых символов в различных кодировк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24000" y="1600200"/>
          <a:ext cx="8362800" cy="4836960"/>
        </p:xfrm>
        <a:graphic>
          <a:graphicData uri="http://schemas.openxmlformats.org/drawingml/2006/table">
            <a:tbl>
              <a:tblPr/>
              <a:tblGrid>
                <a:gridCol w="1108080"/>
                <a:gridCol w="1280880"/>
                <a:gridCol w="1195560"/>
                <a:gridCol w="1193760"/>
                <a:gridCol w="1195200"/>
                <a:gridCol w="1193760"/>
                <a:gridCol w="11955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им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indow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S-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ОИ-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nicod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В настоящее время существуют пять различных кодовых таблиц для русских бук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alibri"/>
              </a:rPr>
              <a:t>Windows</a:t>
            </a:r>
            <a:r>
              <a:rPr b="1" lang="ru-RU" sz="2800" spc="-1" strike="noStrike">
                <a:solidFill>
                  <a:srgbClr val="003366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alibri"/>
              </a:rPr>
              <a:t>MS-DOS</a:t>
            </a:r>
            <a:r>
              <a:rPr b="1" lang="ru-RU" sz="2800" spc="-1" strike="noStrike">
                <a:solidFill>
                  <a:srgbClr val="003366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alibri"/>
              </a:rPr>
              <a:t>КОИ-8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alibri"/>
              </a:rPr>
              <a:t>Mac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alibri"/>
              </a:rPr>
              <a:t>I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3419640" y="2133720"/>
            <a:ext cx="5040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66"/>
                </a:solidFill>
                <a:latin typeface="Arial"/>
              </a:rPr>
              <a:t>Тексты, созданные в одной кодировке, не будут правильно отражаться в друг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В последние годы широкое распространение получил новый международный стандарт кодирование текстовых символов    </a:t>
            </a:r>
            <a:r>
              <a:rPr b="1" i="1" lang="en-US" sz="3600" spc="-1" strike="noStrike">
                <a:solidFill>
                  <a:srgbClr val="003366"/>
                </a:solidFill>
                <a:latin typeface="Calibri"/>
              </a:rPr>
              <a:t>Unicode</a:t>
            </a:r>
            <a:r>
              <a:rPr b="1" i="1" lang="ru-RU" sz="36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66"/>
                </a:solidFill>
                <a:latin typeface="Calibri"/>
              </a:rPr>
              <a:t>Каждому символу в данной кодировке отводится 2 байт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Calibri"/>
              </a:rPr>
              <a:t>N=  2</a:t>
            </a:r>
            <a:r>
              <a:rPr b="1" i="1" lang="en-US" sz="3600" spc="-1" strike="noStrike" baseline="30000">
                <a:solidFill>
                  <a:srgbClr val="003366"/>
                </a:solidFill>
                <a:latin typeface="Calibri"/>
              </a:rPr>
              <a:t>i </a:t>
            </a:r>
            <a:r>
              <a:rPr b="1" i="1" lang="en-US" sz="3600" spc="-1" strike="noStrike">
                <a:solidFill>
                  <a:srgbClr val="003366"/>
                </a:solidFill>
                <a:latin typeface="Calibri"/>
              </a:rPr>
              <a:t> =  2</a:t>
            </a:r>
            <a:r>
              <a:rPr b="1" i="1" lang="en-US" sz="3600" spc="-1" strike="noStrike" baseline="30000">
                <a:solidFill>
                  <a:srgbClr val="003366"/>
                </a:solidFill>
                <a:latin typeface="Calibri"/>
              </a:rPr>
              <a:t>16  </a:t>
            </a:r>
            <a:r>
              <a:rPr b="1" i="1" lang="en-US" sz="3600" spc="-1" strike="noStrike">
                <a:solidFill>
                  <a:srgbClr val="003366"/>
                </a:solidFill>
                <a:latin typeface="Calibri"/>
              </a:rPr>
              <a:t>=   6553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5:39:27Z</dcterms:created>
  <dc:creator>....</dc:creator>
  <dc:description/>
  <dc:language>en-US</dc:language>
  <cp:lastModifiedBy>User</cp:lastModifiedBy>
  <dcterms:modified xsi:type="dcterms:W3CDTF">2023-02-15T16:45:35Z</dcterms:modified>
  <cp:revision>4</cp:revision>
  <dc:subject/>
  <dc:title>К13ир1вание текст1в1й инф1рмации</dc:title>
</cp:coreProperties>
</file>