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ECE-851F-44F8-B872-8C850B02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DA5-8041-41B6-92AC-2E247DDB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B52-2EEA-415F-9B4E-EE97D02C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E09-0F5F-44A0-8A36-A0A5F198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7E5-2E5D-478B-AA9E-C691AEB4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A2F-82FF-4F87-B62B-04AEC0A1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3E6-01FF-4557-AE2B-7D1AC2CF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DA0-391E-488F-911B-1D20C33E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F7A-7991-4E76-B74B-37DDF003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B5F-1169-4212-B3D9-9648FA61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E51-074D-4DD6-9C8C-2B7FCD38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73D-0C01-40CB-BF86-E3FC1D4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A716-7A97-4ABD-9A30-EAB6D83DC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22226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оссийской Федерации дошкольная образовательная организация – детский сад «Солнышко», обособленное структурное подразделение МОУ «Ульканская СОШ №2» Казачинско-Ленский рай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огопедическое мероприятие в старшей групп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вощи. Словообраз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Матвие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рина Генн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ькан 202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спасибо"/>
          <p:cNvPicPr/>
          <p:nvPr/>
        </p:nvPicPr>
        <p:blipFill>
          <a:blip r:embed="rId2"/>
          <a:stretch/>
        </p:blipFill>
        <p:spPr>
          <a:xfrm>
            <a:off x="900000" y="4005360"/>
            <a:ext cx="279720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пражнение «Куча М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345440" cy="5064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гра «Готовим обе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92560" cy="251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840040" y="3790800"/>
            <a:ext cx="2092320" cy="209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012000" y="3443400"/>
            <a:ext cx="219708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пражнение «Какой? Какая? Како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816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пражнение «Повар готовит обе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82480" y="1628640"/>
            <a:ext cx="1973520" cy="246564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3"/>
          <p:cNvSpPr/>
          <p:nvPr/>
        </p:nvSpPr>
        <p:spPr>
          <a:xfrm>
            <a:off x="2514600" y="2700360"/>
            <a:ext cx="420840" cy="2350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2935440" y="2357280"/>
            <a:ext cx="84456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4"/>
          <p:cNvSpPr/>
          <p:nvPr/>
        </p:nvSpPr>
        <p:spPr>
          <a:xfrm>
            <a:off x="3924360" y="2700360"/>
            <a:ext cx="469800" cy="235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4638600" y="2298600"/>
            <a:ext cx="1517760" cy="1038240"/>
          </a:xfrm>
          <a:prstGeom prst="rect">
            <a:avLst/>
          </a:prstGeom>
          <a:ln w="0">
            <a:noFill/>
          </a:ln>
        </p:spPr>
      </p:pic>
      <p:sp>
        <p:nvSpPr>
          <p:cNvPr id="63" name="Стрелка вправо 5"/>
          <p:cNvSpPr/>
          <p:nvPr/>
        </p:nvSpPr>
        <p:spPr>
          <a:xfrm>
            <a:off x="6518160" y="2798640"/>
            <a:ext cx="473040" cy="241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5"/>
          <a:stretch/>
        </p:blipFill>
        <p:spPr>
          <a:xfrm>
            <a:off x="6991200" y="2476440"/>
            <a:ext cx="1336680" cy="83988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право 6"/>
          <p:cNvSpPr/>
          <p:nvPr/>
        </p:nvSpPr>
        <p:spPr>
          <a:xfrm>
            <a:off x="1530360" y="4689360"/>
            <a:ext cx="574560" cy="247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6"/>
          <a:stretch/>
        </p:blipFill>
        <p:spPr>
          <a:xfrm>
            <a:off x="2874960" y="3940200"/>
            <a:ext cx="2500200" cy="149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7"/>
          <a:stretch/>
        </p:blipFill>
        <p:spPr>
          <a:xfrm>
            <a:off x="2759040" y="-8812080"/>
            <a:ext cx="1427040" cy="20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8"/>
          <a:stretch/>
        </p:blipFill>
        <p:spPr>
          <a:xfrm>
            <a:off x="2808360" y="4094280"/>
            <a:ext cx="909720" cy="59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liubavyshka.ru/_ph/26/2/989473366.gif"/>
          <p:cNvPicPr/>
          <p:nvPr/>
        </p:nvPicPr>
        <p:blipFill>
          <a:blip r:embed="rId1"/>
          <a:stretch/>
        </p:blipFill>
        <p:spPr>
          <a:xfrm>
            <a:off x="2340000" y="1773360"/>
            <a:ext cx="467820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5:46:55Z</dcterms:created>
  <dc:creator>Admin</dc:creator>
  <dc:description/>
  <dc:language>en-US</dc:language>
  <cp:lastModifiedBy>Sony</cp:lastModifiedBy>
  <dcterms:modified xsi:type="dcterms:W3CDTF">2023-02-15T11:17:46Z</dcterms:modified>
  <cp:revision>26</cp:revision>
  <dc:subject/>
  <dc:title>Слайд 1</dc:title>
</cp:coreProperties>
</file>