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6.png" ContentType="image/pn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79ED-3B63-48FF-902E-2C28B50B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CE64-7032-40B9-82F8-0A100318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E6B-AA9C-4610-8377-E27A0943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BB5-4B90-4167-AD0D-9BA138D6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07E-D1DA-4C3E-8F15-10CC67EA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7B1-B6D6-40A1-BCDF-69589113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824E-4E06-4B2C-B128-88857156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14F4-3E11-4F20-BFD5-A86C2403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42E-5DCE-4355-A5ED-8AC908D8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076-D1A3-4DA5-BE37-B27823C8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19F-E393-45FF-A930-C3292A03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044-B506-4CB8-AC08-99BB3DE2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A186-19B4-4FCD-B0B1-260802E0C4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22226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инистерство образования и науки Российской Федерации дошкольная образовательная организация – детский сад «Солнышко», обособленное структурное подразделение МОУ «Ульканская СОШ №2» Казачинско-Ленский рай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огопедическое мероприятие в старшей групп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Овощи. Словообразов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 Матвиев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рина Геннад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-лого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ькан 2020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спасибо"/>
          <p:cNvPicPr/>
          <p:nvPr/>
        </p:nvPicPr>
        <p:blipFill>
          <a:blip r:embed="rId2"/>
          <a:stretch/>
        </p:blipFill>
        <p:spPr>
          <a:xfrm>
            <a:off x="900000" y="4005360"/>
            <a:ext cx="2797200" cy="1309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Упражнение «Куча Ма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345440" cy="5064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Игра «Готовим обед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92560" cy="2516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840040" y="3790800"/>
            <a:ext cx="2092320" cy="209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6012000" y="3443400"/>
            <a:ext cx="2197080" cy="2197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Упражнение «Какой? Какая? Како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816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Упражнение «Повар готовит обе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582480" y="1628640"/>
            <a:ext cx="1973520" cy="2465640"/>
          </a:xfrm>
          <a:prstGeom prst="rect">
            <a:avLst/>
          </a:prstGeom>
          <a:ln w="0">
            <a:noFill/>
          </a:ln>
        </p:spPr>
      </p:pic>
      <p:sp>
        <p:nvSpPr>
          <p:cNvPr id="59" name="Стрелка вправо 3"/>
          <p:cNvSpPr/>
          <p:nvPr/>
        </p:nvSpPr>
        <p:spPr>
          <a:xfrm>
            <a:off x="2514600" y="2700360"/>
            <a:ext cx="420840" cy="2350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2935440" y="2357280"/>
            <a:ext cx="844560" cy="113364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право 4"/>
          <p:cNvSpPr/>
          <p:nvPr/>
        </p:nvSpPr>
        <p:spPr>
          <a:xfrm>
            <a:off x="3924360" y="2700360"/>
            <a:ext cx="469800" cy="2350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4"/>
          <a:stretch/>
        </p:blipFill>
        <p:spPr>
          <a:xfrm>
            <a:off x="4638600" y="2298600"/>
            <a:ext cx="1517760" cy="1038240"/>
          </a:xfrm>
          <a:prstGeom prst="rect">
            <a:avLst/>
          </a:prstGeom>
          <a:ln w="0">
            <a:noFill/>
          </a:ln>
        </p:spPr>
      </p:pic>
      <p:sp>
        <p:nvSpPr>
          <p:cNvPr id="63" name="Стрелка вправо 5"/>
          <p:cNvSpPr/>
          <p:nvPr/>
        </p:nvSpPr>
        <p:spPr>
          <a:xfrm>
            <a:off x="6518160" y="2798640"/>
            <a:ext cx="473040" cy="241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5"/>
          <a:stretch/>
        </p:blipFill>
        <p:spPr>
          <a:xfrm>
            <a:off x="6991200" y="2476440"/>
            <a:ext cx="1336680" cy="839880"/>
          </a:xfrm>
          <a:prstGeom prst="rect">
            <a:avLst/>
          </a:prstGeom>
          <a:ln w="0">
            <a:noFill/>
          </a:ln>
        </p:spPr>
      </p:pic>
      <p:sp>
        <p:nvSpPr>
          <p:cNvPr id="65" name="Стрелка вправо 6"/>
          <p:cNvSpPr/>
          <p:nvPr/>
        </p:nvSpPr>
        <p:spPr>
          <a:xfrm>
            <a:off x="1530360" y="4689360"/>
            <a:ext cx="574560" cy="2476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6"/>
          <a:stretch/>
        </p:blipFill>
        <p:spPr>
          <a:xfrm>
            <a:off x="2874960" y="3940200"/>
            <a:ext cx="2500200" cy="1498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7"/>
          <a:stretch/>
        </p:blipFill>
        <p:spPr>
          <a:xfrm>
            <a:off x="2759040" y="-8812080"/>
            <a:ext cx="1427040" cy="201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8"/>
          <a:stretch/>
        </p:blipFill>
        <p:spPr>
          <a:xfrm>
            <a:off x="2808360" y="4094280"/>
            <a:ext cx="909720" cy="59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liubavyshka.ru/_ph/26/2/989473366.gif"/>
          <p:cNvPicPr/>
          <p:nvPr/>
        </p:nvPicPr>
        <p:blipFill>
          <a:blip r:embed="rId1"/>
          <a:stretch/>
        </p:blipFill>
        <p:spPr>
          <a:xfrm>
            <a:off x="2340000" y="1773360"/>
            <a:ext cx="4678200" cy="3671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5:46:55Z</dcterms:created>
  <dc:creator>Admin</dc:creator>
  <dc:description/>
  <dc:language>en-US</dc:language>
  <cp:lastModifiedBy>Sony</cp:lastModifiedBy>
  <dcterms:modified xsi:type="dcterms:W3CDTF">2023-02-15T11:17:46Z</dcterms:modified>
  <cp:revision>26</cp:revision>
  <dc:subject/>
  <dc:title>Слайд 1</dc:title>
</cp:coreProperties>
</file>