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8E6-0858-4B2B-9ABE-F806B5EF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F79-D92F-402C-B666-201143D0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D256-2E17-4AF8-A845-9872D082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6452-760C-4397-AD84-C71A7847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39E-3F69-4BFB-9098-29E5860D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59D-BDD9-4E85-8962-ABBBAA35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CBF9-40F8-4F65-A39C-1C1F98AB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D33F-0712-4EED-902C-EE83F5CE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3B9B-9E95-4E05-898D-97A727B7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0562-8E1B-4067-B263-42F721A0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3D6D-3B45-44C4-8D72-B4416BC5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59EE-1D7B-47D1-A767-AA313EA6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FAF3-4975-40AD-819C-D0563BFBD5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1619280" y="333360"/>
            <a:ext cx="640872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3" descr="Рисунок1mm.pn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844640"/>
            <a:ext cx="5256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ОЕКТ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етско – родительский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портивный клуб «ЗДОРОВЯЧО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11280" y="400536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Вид проекта: долгосроч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( один го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Старшая группа ( 5-7 ле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Составитель: Барбукова М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647640" y="330840"/>
            <a:ext cx="8496360" cy="1008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казенное дошкольное 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ображенский детский са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КЛЮЧИТЕЛЬНЫЙ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8000" y="844560"/>
          <a:ext cx="8929800" cy="5699160"/>
        </p:xfrm>
        <a:graphic>
          <a:graphicData uri="http://schemas.openxmlformats.org/drawingml/2006/table">
            <a:tbl>
              <a:tblPr/>
              <a:tblGrid>
                <a:gridCol w="431640"/>
                <a:gridCol w="2865600"/>
                <a:gridCol w="1317600"/>
                <a:gridCol w="2225520"/>
                <a:gridCol w="2089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ные мероприятия (этапы) реализации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 (периодичность) испол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зультат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е / участ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нкетирование родителей по результатам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нализ изменения представлений родителей о важности здорового образа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/родите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нализ посещаемости детей, наблюдение за двигательной активностью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прель - 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ыявлена положительная дина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, мед. работник /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мещение информации о работе клуба на сайте Д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спространение опыта работы семейного спортивного клу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дители, воспит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зентация на педагогическом совете работы спортивного клуба «Здоровяч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дведение итогов работы клу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ЕСУР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0920" y="907920"/>
          <a:ext cx="8712000" cy="5661000"/>
        </p:xfrm>
        <a:graphic>
          <a:graphicData uri="http://schemas.openxmlformats.org/drawingml/2006/table">
            <a:tbl>
              <a:tblPr/>
              <a:tblGrid>
                <a:gridCol w="1523880"/>
                <a:gridCol w="4284720"/>
                <a:gridCol w="2903400"/>
              </a:tblGrid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сур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териальные ресур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дровые ресур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е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формленный материал, бумага, краски, карандаши, клей, иллюстрации, фотоаппарат,  компьютер, проектор, экран, методическая литература, спортивное оборудование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ортивный з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ь, дети, родители, инструктор по физической культуре, мед. сес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бу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трибуты к играм, картотека игр, подборка мультфильмов о спорте, грамоты , дипло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н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ЖИДАЕМЫЙ РЕЗУЛЬТА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920" y="1628640"/>
            <a:ext cx="837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Функционирование спортивного детско-родительского клуба «Здоровяч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6" descr="sm.aspx.png"/>
          <p:cNvPicPr/>
          <p:nvPr/>
        </p:nvPicPr>
        <p:blipFill>
          <a:blip r:embed="rId1"/>
          <a:stretch/>
        </p:blipFill>
        <p:spPr>
          <a:xfrm>
            <a:off x="2050920" y="3716280"/>
            <a:ext cx="51930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ЭФФЕК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Рисунок1.png"/>
          <p:cNvPicPr/>
          <p:nvPr/>
        </p:nvPicPr>
        <p:blipFill>
          <a:blip r:embed="rId1"/>
          <a:stretch/>
        </p:blipFill>
        <p:spPr>
          <a:xfrm>
            <a:off x="6948360" y="4869000"/>
            <a:ext cx="1778040" cy="2220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еличилась посещаемость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школьники стали более активными, проявляют интерес к подвижным игр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ысилась компетентность родителей в вопросах физического развития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полнение методической копилки группы разнообразными подвижными игр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ысилась компетентность воспитателей и специалистов по взаимодействию с семьё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ИС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4360" y="1052640"/>
            <a:ext cx="7775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ая активность родителей при организации режимных мом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благоприятные погодные усло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удовлетворенность родителей и педагогов работой клу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Рисунок7.png"/>
          <p:cNvPicPr/>
          <p:nvPr/>
        </p:nvPicPr>
        <p:blipFill>
          <a:blip r:embed="rId1"/>
          <a:stretch/>
        </p:blipFill>
        <p:spPr>
          <a:xfrm>
            <a:off x="-324000" y="3716280"/>
            <a:ext cx="4464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54936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80280" indent="-80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гласно ФЗ «Об образовании в РФ» «…дошкольное образование направлено на …сохранение и укрепление здоровья детей дошкольного возраста»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  <a:ea typeface="Times New Roman"/>
              </a:rPr>
              <a:t>(Ст. 64 п.1. ФЗ от 29.12.2012 N 273-ФЗ (ред. от 29.07.2017) «Об образовании в Российской Федерации»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0280" indent="-80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требованию ФГОС ДО п.2.6. одним из направлений развития личности ребенка является физическое развит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0280" indent="-80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  <a:ea typeface="Times New Roman"/>
              </a:rPr>
              <a:t>В ФГОС ДО прописано «…взаимодействие с родителями (законными представителями) по вопросам образования ребенка, непосредственного вовлечения их в образовательную деятельность, в том числе посредством создания образовательных проектов совместно семьей…» (гл. 3 п.3.2.5.5 ОБЩЕГО ПОЛОЖЕНИЯ ФГОС ДО, ПРИКАЗ от 17 октября 2013 г. N 115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0280" indent="-80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692280"/>
            <a:ext cx="9144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старшей группе «Пчелки» МКДОУ «Преображенский детский сад» педагоги, анализируя журнал посещаемости детей, а также в ходе наблюдений выяснили, что дети часто болеют, предпочитают играть в группе в малоподвижные игры. В связи с этим было проведено анкетирование родителей, которое показало, что они недостаточно уделяют внимание физическому развитию детей (несоблюдение режима дня, малоподвижный образ жизни, малое пребывание детей на свежем воздухе). Педагоги пришли к выводу, чт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повысить интерес родителей к различным видам двигательной  деятельности детей. Поэтому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зникла необходимость создания спортивного  детско – родительского клу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ОБЛЕ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достаточное внимание родителей к вопросам физического развития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Рисунок1.png"/>
          <p:cNvPicPr/>
          <p:nvPr/>
        </p:nvPicPr>
        <p:blipFill>
          <a:blip r:embed="rId1"/>
          <a:stretch/>
        </p:blipFill>
        <p:spPr>
          <a:xfrm>
            <a:off x="1332000" y="4137120"/>
            <a:ext cx="680724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Рисунок22.png"/>
          <p:cNvPicPr/>
          <p:nvPr/>
        </p:nvPicPr>
        <p:blipFill>
          <a:blip r:embed="rId1"/>
          <a:stretch/>
        </p:blipFill>
        <p:spPr>
          <a:xfrm>
            <a:off x="468360" y="123840"/>
            <a:ext cx="7980480" cy="6734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050920" y="2492280"/>
            <a:ext cx="48974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здание спортивного детско-родительского клуба «Здоровяч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ысить компетентность родителей в вопросах физического развития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полнить спортивное оборудование и дидактический материал группы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овать информационное сопровождение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ОДГОТОВИТЕЛЬНЫЙ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692280"/>
          <a:ext cx="9144000" cy="6003720"/>
        </p:xfrm>
        <a:graphic>
          <a:graphicData uri="http://schemas.openxmlformats.org/drawingml/2006/table">
            <a:tbl>
              <a:tblPr/>
              <a:tblGrid>
                <a:gridCol w="395280"/>
                <a:gridCol w="2798640"/>
                <a:gridCol w="1449360"/>
                <a:gridCol w="2664000"/>
                <a:gridCol w="183672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ные мероприятия (этапы) реализации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 (периодичность) испол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зультат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е / участ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дбор методической литературы по теме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неде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н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добрана необходимая 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, инструктор по физ. культу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мещение информации на сайте ДОУ  о запуске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неделя сен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формирование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/ род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работка информационного письма - приглашения на семинар - встреч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 нед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н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формационное письмо - пригла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/ род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минар – встреча с родителями  и специалистами «Здоровая семья - здоровый ребёнок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вышение компетентности родителей в вопросах физического развития детей, создание  проектной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, специалисты / род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работка плана мероприятий  спортивного детско – родительского клуба «Здоровяч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работан пл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едагоги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СНОВНОЙ 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692280"/>
          <a:ext cx="9144000" cy="6108480"/>
        </p:xfrm>
        <a:graphic>
          <a:graphicData uri="http://schemas.openxmlformats.org/drawingml/2006/table">
            <a:tbl>
              <a:tblPr/>
              <a:tblGrid>
                <a:gridCol w="324000"/>
                <a:gridCol w="3081240"/>
                <a:gridCol w="1317600"/>
                <a:gridCol w="2225520"/>
                <a:gridCol w="21956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ные мероприятия (этапы) реализации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 (периодичность) испол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зультат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е / участ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4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мещение информации на сайте ДОУ о создании спортивного детско – родительского клуба «Здоровяч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 неделя сен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формирование родителей, создана страница клу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едагоги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нкурс на оригинальное, безопасное спортивное нестандартное оборудование в группу и на учас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-2 неделя ок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готовлено нестандартное 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/ дети, род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ворческая мастерская  «Изготовление буклетов «Здоровяч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 неделя  ок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мен опытом между семьями воспитан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/ дети, род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ями утренних гимнастик и гимнастик пробу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течение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ктивизация родителей к совместной работе по воспитанию физического развити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дители, инструктор по физической культуре/ дети, воспит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1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ние стенгазеты «Как мы провели выходны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-2 неделя но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ктивизация семейного дос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, родители,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ние картотеки игр, «сигнальных картинок» и атрибутов к подвижным игр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полнение дидактических материалов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, родители,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СНОВНОЙ 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0240" y="765000"/>
          <a:ext cx="9155160" cy="5878800"/>
        </p:xfrm>
        <a:graphic>
          <a:graphicData uri="http://schemas.openxmlformats.org/drawingml/2006/table">
            <a:tbl>
              <a:tblPr/>
              <a:tblGrid>
                <a:gridCol w="447480"/>
                <a:gridCol w="2967120"/>
                <a:gridCol w="1319400"/>
                <a:gridCol w="2225520"/>
                <a:gridCol w="2195640"/>
              </a:tblGrid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ные мероприятия (этапы) реализации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 (периодичность) испол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зультат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е / участ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53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здание на участке группы «Снежного спортивного городк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ключение родителей в создание снежного горо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, родители, де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лые олимпийские игры «Зимние забав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н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вышение двигательной активности воспитанников и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, родители, де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стер – класс «Народные подвижные игр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сширение знаний родителей о подвижных народных игр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структор по физ. Культуре, дети, родители, воспит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вместный поход с детьми и родителями на каток (на стадио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 неделя февра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явился интерес к совместному  спортивному досу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 , инстр. по физ. культуре/родители,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вест «Остров здоров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вышение двигательной активности детей и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, дети, род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зентация семейных видеофильмов о здоровом образе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-4 неделя апр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вышение интереса ребенка к двигательной актив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/ дети, род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3T13:22:58Z</dcterms:created>
  <dc:creator>группа Пчёлки</dc:creator>
  <dc:description/>
  <dc:language>en-US</dc:language>
  <cp:lastModifiedBy>123</cp:lastModifiedBy>
  <dcterms:modified xsi:type="dcterms:W3CDTF">2023-02-15T08:13:20Z</dcterms:modified>
  <cp:revision>63</cp:revision>
  <dc:subject/>
  <dc:title>Детско – родительский спортивный клуб «ЗДОРОВЯЧОК»</dc:title>
</cp:coreProperties>
</file>