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78F7-1AF6-44F6-9C76-48C45BB44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82F4-1CF0-40BE-B52A-8D8C7EB2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2A01-C49C-4899-842D-5A1A43CD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4BC0-168D-45C1-A50E-E02FE19D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CEEB-CF51-4C40-BBD7-9A2843D1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FAD4-9395-483D-90F5-4ED46CB5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79B3-29D7-4C56-B3BF-3FB4A436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EEDE-2FD7-46B1-BE0C-9B7787F0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619B-C9A5-453D-84BC-847F657F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8523-2855-475C-858A-9716288A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693E-636E-414A-8EE1-FF0917D0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6B95-CB92-42AF-8EA9-48821599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2759-2F21-4731-B232-D9481A073D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13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cc"/>
                </a:solidFill>
                <a:latin typeface="Calibri"/>
              </a:rPr>
              <a:t>Викторина </a:t>
            </a:r>
            <a:br>
              <a:rPr sz="4400"/>
            </a:br>
            <a:r>
              <a:rPr b="1" i="1" lang="ru-RU" sz="4400" spc="-1" strike="noStrike">
                <a:solidFill>
                  <a:srgbClr val="3333cc"/>
                </a:solidFill>
                <a:latin typeface="Calibri"/>
              </a:rPr>
              <a:t>по окружающему миру</a:t>
            </a:r>
            <a:br>
              <a:rPr sz="4400"/>
            </a:br>
            <a:r>
              <a:rPr b="1" i="1" lang="ru-RU" sz="4400" spc="-1" strike="noStrike">
                <a:solidFill>
                  <a:srgbClr val="3333cc"/>
                </a:solidFill>
                <a:latin typeface="Calibri"/>
              </a:rPr>
              <a:t>(1-4 классы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5219640" y="450864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ндарева Тамара Алекс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Иланская СОШ № 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468360" y="3141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ff"/>
                </a:solidFill>
                <a:latin typeface="Calibri"/>
              </a:rPr>
              <a:t>«ЯВЛЕНИЯ ПРИРОД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03640" y="2170800"/>
            <a:ext cx="3744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2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988400" cy="3672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829800" y="29624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640" y="2204640"/>
            <a:ext cx="56275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2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8289720" cy="417672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3"/>
          <p:cNvSpPr/>
          <p:nvPr/>
        </p:nvSpPr>
        <p:spPr>
          <a:xfrm>
            <a:off x="609480" y="3006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Helvetica Neue"/>
              </a:rPr>
              <a:t>Поздравляем! Вы ответили на вопросы викторины. Ознакомиться с полученными результатами Вы можете ниж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2688840" y="3357720"/>
            <a:ext cx="393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100 % – 1 мес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90-80 % - 2 мес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70-60% - 3 мес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51280" y="1158840"/>
            <a:ext cx="3060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4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8315280" cy="561672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5"/>
          <p:cNvSpPr/>
          <p:nvPr/>
        </p:nvSpPr>
        <p:spPr>
          <a:xfrm>
            <a:off x="611280" y="4221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2543040"/>
            <a:ext cx="396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1"/>
          <a:stretch/>
        </p:blipFill>
        <p:spPr>
          <a:xfrm>
            <a:off x="785880" y="698400"/>
            <a:ext cx="8107200" cy="550872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789120" y="4221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1640" y="234900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717480" y="620640"/>
            <a:ext cx="7559640" cy="51926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2"/>
          <p:cNvSpPr/>
          <p:nvPr/>
        </p:nvSpPr>
        <p:spPr>
          <a:xfrm>
            <a:off x="834840" y="2997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95280" y="1989000"/>
            <a:ext cx="43923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8132760" cy="4464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3"/>
          <p:cNvSpPr/>
          <p:nvPr/>
        </p:nvSpPr>
        <p:spPr>
          <a:xfrm>
            <a:off x="910080" y="3284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84000" y="993600"/>
            <a:ext cx="447372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2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8351640" cy="34574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3"/>
          <p:cNvSpPr/>
          <p:nvPr/>
        </p:nvSpPr>
        <p:spPr>
          <a:xfrm>
            <a:off x="755640" y="278136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0560" y="1773000"/>
            <a:ext cx="54118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2" descr=""/>
          <p:cNvPicPr/>
          <p:nvPr/>
        </p:nvPicPr>
        <p:blipFill>
          <a:blip r:embed="rId1"/>
          <a:stretch/>
        </p:blipFill>
        <p:spPr>
          <a:xfrm>
            <a:off x="684360" y="490680"/>
            <a:ext cx="8280360" cy="460836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3"/>
          <p:cNvSpPr/>
          <p:nvPr/>
        </p:nvSpPr>
        <p:spPr>
          <a:xfrm>
            <a:off x="614160" y="3933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71640" y="2205000"/>
            <a:ext cx="4330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2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8280360" cy="46004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3"/>
          <p:cNvSpPr/>
          <p:nvPr/>
        </p:nvSpPr>
        <p:spPr>
          <a:xfrm>
            <a:off x="902880" y="4365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92000" y="2421000"/>
            <a:ext cx="5554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2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6553440" cy="44150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3"/>
          <p:cNvSpPr/>
          <p:nvPr/>
        </p:nvSpPr>
        <p:spPr>
          <a:xfrm>
            <a:off x="829800" y="2595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09:19:43Z</dcterms:created>
  <dc:creator>Запивалова С.И.</dc:creator>
  <dc:description/>
  <dc:language>en-US</dc:language>
  <cp:lastModifiedBy>Тамара</cp:lastModifiedBy>
  <dcterms:modified xsi:type="dcterms:W3CDTF">2023-02-15T12:05:02Z</dcterms:modified>
  <cp:revision>33</cp:revision>
  <dc:subject/>
  <dc:title>Слайд 1</dc:title>
</cp:coreProperties>
</file>