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DDB-D20D-4ACC-9CE0-75978291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0E6-48BB-4B67-8BC0-7CC2747A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EAC-E391-452C-9069-6411016E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762-0E7F-4530-B528-42F5ADB2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01E-F4CD-4C4A-8DB1-9CE9641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462-0FD3-46E8-99B4-D7391584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B2A-D1E3-4B0D-B092-5D490BC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F30-438E-4A25-862B-47F782A5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5C8-F996-46DF-ACE5-4D1805C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701-3059-4EA6-8584-9CE1E28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917-DFFD-4CE2-A8A6-9156D44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E1C-DDA6-4170-AB1C-1304C7B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3DD2-5DF7-4A2C-A6F3-2C5C7ECF1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3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Викторина 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по окружающему миру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(1-4 класс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5219640" y="4508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ева Тамар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Иланская 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4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Calibri"/>
              </a:rPr>
              <a:t>«ЯВЛЕНИЯ ПРИР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3640" y="2170800"/>
            <a:ext cx="3744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988400" cy="3672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829800" y="2962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5627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8289720" cy="4176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609480" y="3006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Helvetica Neue"/>
              </a:rPr>
              <a:t>Поздравляем! Вы ответили на вопросы викторины. Ознакомиться с полученными результатами Вы можете ниж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2688840" y="3357720"/>
            <a:ext cx="393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00 % – 1 ме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90-80 % - 2 ме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70-60% - 3 ме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51280" y="1158840"/>
            <a:ext cx="3060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8315280" cy="5616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611280" y="422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543040"/>
            <a:ext cx="3960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785880" y="698400"/>
            <a:ext cx="8107200" cy="5508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789120" y="422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1640" y="234900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717480" y="620640"/>
            <a:ext cx="7559640" cy="5192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83484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1989000"/>
            <a:ext cx="4392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8132760" cy="4464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910080" y="328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000" y="993600"/>
            <a:ext cx="4473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8351640" cy="3457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755640" y="27813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1773000"/>
            <a:ext cx="54118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684360" y="4906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614160" y="39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71640" y="2205000"/>
            <a:ext cx="4330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280360" cy="4600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902880" y="436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000" y="2421000"/>
            <a:ext cx="5554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6553440" cy="44150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829800" y="2595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9:19:43Z</dcterms:created>
  <dc:creator>Запивалова С.И.</dc:creator>
  <dc:description/>
  <dc:language>en-US</dc:language>
  <cp:lastModifiedBy>Тамара</cp:lastModifiedBy>
  <dcterms:modified xsi:type="dcterms:W3CDTF">2023-02-15T12:05:02Z</dcterms:modified>
  <cp:revision>33</cp:revision>
  <dc:subject/>
  <dc:title>Слайд 1</dc:title>
</cp:coreProperties>
</file>