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7D446-3175-40DA-A003-1316085D0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467482-E269-4E69-9F04-96843D1D95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A68986-86D5-46C8-9713-47000BC113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2E4-C79E-4C32-B1F4-101B980F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4D7-F7A8-4AC1-9A69-E6FB8EA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47C-C12F-4E7E-BCB9-24B4B2A0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4A2-4F4B-4B7B-94B9-0C1F8544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D12-3DB7-4789-A4B9-CD2AE349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35D-677A-40F6-A53D-5A99A09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C08-9B09-4EBD-9F72-C81FD15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86AB-0507-4A72-9F99-344836D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CB1-512F-4CC6-83FC-A2C68F1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4941000"/>
            <a:ext cx="6980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2844-2D46-4748-A1AA-F4CCAA2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06F7-4471-493A-AF1A-57BE13D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384-52BA-40B0-8D9F-FDF6BE88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F040-3EE6-4184-A1E4-2E5DA94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5528-60C5-40AA-986E-709A539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A4F-E980-46BE-B174-5D5A062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23A2-5DFF-4D61-9EBD-546A0840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DF00-B1BC-44E1-81DA-F7A7A138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DDA-02EB-4355-9784-C7D3212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74-1B21-4836-A786-1B77CC84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5F4-72D3-49C4-8AC1-BF7D2045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4941000"/>
            <a:ext cx="6980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058-1BFC-44B3-8E8D-9442559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D11-B060-49F9-A3B4-6120DB51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756-20D6-44D0-B800-0DAA9C6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61C-CD21-4A67-8BBE-F041964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755720" y="45720"/>
            <a:ext cx="820440" cy="75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A0C26-ABB5-4774-B9EB-34315793F93D}" type="slidenum">
              <a: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755720" y="45720"/>
            <a:ext cx="820440" cy="75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C7AA16-FEFB-4AAC-9FF7-43703C288052}" type="slidenum">
              <a: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7264440" y="6508800"/>
            <a:ext cx="2311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endParaRPr b="0" lang="ru-RU" sz="1200" spc="-1" strike="noStrike">
              <a:solidFill>
                <a:schemeClr val="accent1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2066760" y="1412640"/>
            <a:ext cx="76446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25519"/>
              </a:buClr>
              <a:buFont typeface="Arial"/>
              <a:buChar char="–"/>
            </a:pPr>
            <a:r>
              <a:rPr b="0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25519"/>
              </a:buClr>
              <a:buFont typeface="Arial"/>
              <a:buChar char="–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25519"/>
              </a:buClr>
              <a:buFont typeface="Arial"/>
              <a:buChar char="»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исунок 5"/>
          <p:cNvSpPr/>
          <p:nvPr/>
        </p:nvSpPr>
        <p:spPr>
          <a:xfrm>
            <a:off x="6555960" y="1268640"/>
            <a:ext cx="3018240" cy="237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исунок 4"/>
          <p:cNvSpPr/>
          <p:nvPr/>
        </p:nvSpPr>
        <p:spPr>
          <a:xfrm>
            <a:off x="740520" y="1052640"/>
            <a:ext cx="5440320" cy="3844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0" y="4869000"/>
            <a:ext cx="9905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кологический проект</a:t>
            </a:r>
            <a:br>
              <a:rPr sz="4000"/>
            </a:br>
            <a:r>
              <a:rPr b="1" lang="ru-RU" sz="4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«Свет и тень. Рождение теневого тетра»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26320" y="264600"/>
            <a:ext cx="8831520" cy="51588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МБДОУ «Детский сад №78 комбинированного вида с татарским языком воспитания и обучения» Авиастроительного района города Каз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 flipV="1" rot="10800000">
            <a:off x="6608880" y="3908880"/>
            <a:ext cx="2913120" cy="9421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Подготовили проек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Аглетдинова А.Г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Хабибуллина Р.Ф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Фурашова Г.Р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Экспериментальная деятельность: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ЛНЕЧНАЯ ЛАБОРАТОРИЯ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: показать предметы, какого цвета (темного или светлого) быстрее нагреваются на солнце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ЯРКОСТЬ СВЕТА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: показать степень пропускания цвета разными видами бумаги. Дать объяснение почему черная бумага поглощает свет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2669040" y="2205000"/>
            <a:ext cx="274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5992200" y="2205000"/>
            <a:ext cx="274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4" name="Рисунок 5" descr=""/>
          <p:cNvPicPr/>
          <p:nvPr/>
        </p:nvPicPr>
        <p:blipFill>
          <a:blip r:embed="rId3"/>
          <a:stretch/>
        </p:blipFill>
        <p:spPr>
          <a:xfrm>
            <a:off x="250488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5" name="Рисунок 6" descr=""/>
          <p:cNvPicPr/>
          <p:nvPr/>
        </p:nvPicPr>
        <p:blipFill>
          <a:blip r:embed="rId4"/>
          <a:stretch/>
        </p:blipFill>
        <p:spPr>
          <a:xfrm>
            <a:off x="488088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6" name="Рисунок 7" descr=""/>
          <p:cNvPicPr/>
          <p:nvPr/>
        </p:nvPicPr>
        <p:blipFill>
          <a:blip r:embed="rId5"/>
          <a:stretch/>
        </p:blipFill>
        <p:spPr>
          <a:xfrm>
            <a:off x="725724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00520" y="980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Экспериментальная деятельность:</a:t>
            </a: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ВЕТ ДВИЖЕТСЯ ПО ПРЯМОЙ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: фонарик, два листа картона, две картонные подставки, книги, кнопка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ИСУНОК ТЕНИ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: настольная лампа, фонарик,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грушка (машина), фигура Матрешка,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резанная из картона (собачка)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1"/>
          <a:srcRect l="0" t="14933" r="0" b="14140"/>
          <a:stretch/>
        </p:blipFill>
        <p:spPr>
          <a:xfrm>
            <a:off x="2576880" y="2050200"/>
            <a:ext cx="2895480" cy="212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0" name="Рисунок 9" descr=""/>
          <p:cNvPicPr/>
          <p:nvPr/>
        </p:nvPicPr>
        <p:blipFill>
          <a:blip r:embed="rId2"/>
          <a:srcRect l="0" t="12959" r="0" b="28153"/>
          <a:stretch/>
        </p:blipFill>
        <p:spPr>
          <a:xfrm>
            <a:off x="5961240" y="2050200"/>
            <a:ext cx="2869920" cy="212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1" name="Рисунок 10" descr=""/>
          <p:cNvPicPr/>
          <p:nvPr/>
        </p:nvPicPr>
        <p:blipFill>
          <a:blip r:embed="rId3"/>
          <a:srcRect l="0" t="20962" r="0" b="14969"/>
          <a:stretch/>
        </p:blipFill>
        <p:spPr>
          <a:xfrm>
            <a:off x="5961240" y="4365000"/>
            <a:ext cx="2869920" cy="2090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лись со своей тенью,  создали тень в группе, и узнали как её сделать. Объяснили, что тень - это затемнение света, которое происходит, когда на пути солнечных лучей появляется предмет или животное или человек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rcRect l="1465" t="0" r="1426" b="3014"/>
          <a:stretch/>
        </p:blipFill>
        <p:spPr>
          <a:xfrm>
            <a:off x="2504880" y="2061000"/>
            <a:ext cx="6606360" cy="439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заключительны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Чтобы укрепить взаимодействие родителей и детей, мы привлекли родителей к данной теме, для создания предметно – развивающей среды, в которой данная тема раскрыта шире, более понятна и имеет закрепляющий эффект. Совместно с родителями был организован «Теневой театр». Что является продуктом нашего проекта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4376880" y="2956680"/>
            <a:ext cx="5222160" cy="3642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8" name="Рисунок 3" descr=""/>
          <p:cNvPicPr/>
          <p:nvPr/>
        </p:nvPicPr>
        <p:blipFill>
          <a:blip r:embed="rId2"/>
          <a:srcRect l="-1146" t="3377" r="643" b="20067"/>
          <a:stretch/>
        </p:blipFill>
        <p:spPr>
          <a:xfrm>
            <a:off x="2072520" y="2640960"/>
            <a:ext cx="2589840" cy="2136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5040" y="260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кологический проект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Свет и тень. Рождение теневого тетр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56"/>
          <p:cNvSpPr/>
          <p:nvPr/>
        </p:nvSpPr>
        <p:spPr>
          <a:xfrm>
            <a:off x="2627280" y="2283480"/>
            <a:ext cx="4824000" cy="36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57"/>
          <p:cNvSpPr/>
          <p:nvPr/>
        </p:nvSpPr>
        <p:spPr>
          <a:xfrm rot="3419400">
            <a:off x="2502360" y="1646640"/>
            <a:ext cx="479160" cy="56376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9434d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58"/>
          <p:cNvSpPr/>
          <p:nvPr/>
        </p:nvSpPr>
        <p:spPr>
          <a:xfrm>
            <a:off x="3425760" y="1810800"/>
            <a:ext cx="3677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Вид проекта: 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9"/>
          <p:cNvSpPr/>
          <p:nvPr/>
        </p:nvSpPr>
        <p:spPr>
          <a:xfrm>
            <a:off x="2566440" y="17305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0"/>
          <p:cNvSpPr/>
          <p:nvPr/>
        </p:nvSpPr>
        <p:spPr>
          <a:xfrm>
            <a:off x="2695320" y="3499560"/>
            <a:ext cx="4752000" cy="36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61"/>
          <p:cNvSpPr/>
          <p:nvPr/>
        </p:nvSpPr>
        <p:spPr>
          <a:xfrm rot="3419400">
            <a:off x="2502360" y="2862720"/>
            <a:ext cx="479160" cy="563760"/>
          </a:xfrm>
          <a:prstGeom prst="rect">
            <a:avLst/>
          </a:prstGeom>
          <a:gradFill rotWithShape="0">
            <a:gsLst>
              <a:gs pos="0">
                <a:srgbClr val="feb80a"/>
              </a:gs>
              <a:gs pos="100000">
                <a:srgbClr val="755504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62"/>
          <p:cNvSpPr/>
          <p:nvPr/>
        </p:nvSpPr>
        <p:spPr>
          <a:xfrm>
            <a:off x="2604240" y="29577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3"/>
          <p:cNvSpPr/>
          <p:nvPr/>
        </p:nvSpPr>
        <p:spPr>
          <a:xfrm>
            <a:off x="2742120" y="4856760"/>
            <a:ext cx="4752000" cy="144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4"/>
          <p:cNvSpPr/>
          <p:nvPr/>
        </p:nvSpPr>
        <p:spPr>
          <a:xfrm rot="3419400">
            <a:off x="2502360" y="4221360"/>
            <a:ext cx="479160" cy="563760"/>
          </a:xfrm>
          <a:prstGeom prst="rect">
            <a:avLst/>
          </a:prstGeom>
          <a:gradFill rotWithShape="0">
            <a:gsLst>
              <a:gs pos="0">
                <a:srgbClr val="8dc765"/>
              </a:gs>
              <a:gs pos="100000">
                <a:srgbClr val="415c2e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65"/>
          <p:cNvSpPr/>
          <p:nvPr/>
        </p:nvSpPr>
        <p:spPr>
          <a:xfrm>
            <a:off x="2567880" y="43243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9"/>
          <p:cNvSpPr/>
          <p:nvPr/>
        </p:nvSpPr>
        <p:spPr>
          <a:xfrm>
            <a:off x="3310920" y="2676600"/>
            <a:ext cx="43812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Тип проекта: 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ознава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- 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1"/>
          <p:cNvSpPr/>
          <p:nvPr/>
        </p:nvSpPr>
        <p:spPr>
          <a:xfrm>
            <a:off x="3367440" y="3656520"/>
            <a:ext cx="44420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Цель проекта: 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форм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редста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о свойствах света и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исунок 14"/>
          <p:cNvSpPr/>
          <p:nvPr/>
        </p:nvSpPr>
        <p:spPr>
          <a:xfrm>
            <a:off x="4403160" y="5036760"/>
            <a:ext cx="1932480" cy="156996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исунок 15"/>
          <p:cNvSpPr/>
          <p:nvPr/>
        </p:nvSpPr>
        <p:spPr>
          <a:xfrm>
            <a:off x="1719720" y="5013000"/>
            <a:ext cx="2400840" cy="159336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исунок 1"/>
          <p:cNvSpPr/>
          <p:nvPr/>
        </p:nvSpPr>
        <p:spPr>
          <a:xfrm>
            <a:off x="6640200" y="5036760"/>
            <a:ext cx="2380680" cy="1569960"/>
          </a:xfrm>
          <a:prstGeom prst="roundRect">
            <a:avLst>
              <a:gd name="adj" fmla="val 4167"/>
            </a:avLst>
          </a:prstGeom>
          <a:blipFill rotWithShape="0">
            <a:blip r:embed="rId3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дачи проект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3880" y="1413000"/>
            <a:ext cx="7479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ть детей со свойствами света и тен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ть детей с различными источниками света и правилами безопасного обращения с ним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азвивать творческие способности и познавательный интерес по теме проекта на основе наблюдения, сравнения, анализа, обобщения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ормировать интерес в театрально - игровой деятельност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оспитывать интерес к явлениям природы, а так же самостоятельность, активность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ктуальность тем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8520" y="1052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ебенку - дошкольнику по природе присуща ориентация на познание окружающего мира и экспериментирование с объектами и явлениями реальности. Каждый день мы сталкиваемся с различными физическими явлениями. Одно из самых загадочных их них - это свет и его составляющая тень. Попробуем разобраться, что же такое свет и как появляется тень?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 помощью простых предметов, можно проводить интересные опыты. Перед проведением опытов со светом важно выделить некоторые его свойства. Одно из свойств, света - это прямолинейность его распространения. Только в этом случае возможно образование тени. Тема теней очень интересна, можно играть в теневой театр, можно наблюдать за длиной тени утром, днем и вечером. Для детишек постарше интересно рассматривать проекции объемных предметов. Например, тень конуса может быть треугольником и кругом. Еще одно свойство - это способность света отражаться от преград. Если лучи падают на зеркало, они отражаются так, что мы видим предмет в натуральную величину. Если лучи падают на неровную поверхность, они отражаются во все стороны и делают эту поверхность освещенной. Именно поэтому мы видим предметы, которые сами не светятся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ак показывает практика, знания, полученные во время проведения опытов запоминаются надолго. Китайская пословица гласит: «Расскажи - и я забуду, покажи - и я запомню, дай попробовать - и я пойму». Важно, чтобы каждый ребенок проводил собственные опыты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о оказывает положительное влияние на эмоциональную сферу ребенка, на развитие творческих способностей, на формирование трудовых навыков и укрепление здоровья (за счет повышения общего уровня двигательной активности)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1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3880" y="1413000"/>
            <a:ext cx="7479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гружение в проблему, постановка задач. Формулирует цель и задачи проекта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Цель: </a:t>
            </a: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ормировать представления детей о свойствах света и тени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Задачи: 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познакомить детей со свойствами света и тен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познакомить детей с различными источниками света и правилами безопасного обращения с ним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развивать творческие способности и познавательный интерес по теме проекта на основе наблюдения, сравнения, анализа, обобщения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формировать интерес в театрально - игровой деятельност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воспитывать интерес к явлениям природы, а так же самостоятельность, активность. Входят в проблему. Делятся своими знаниями о живой природе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знакомление детей со свойствами света и тени, с источниками света и правилами безопасного пользования ими. Дать понятие терминам «свет», «тень», «энергия»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вместное прочтение сказки К.И. Чуковский «Краденое солнце», стихотворения Надежды Радченко «Тень меня на прогулку зовет…», беседы по теме «Правила безопасности при обращение с осветительными приборами, разгадывание загадок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3224880" y="1917000"/>
            <a:ext cx="5178600" cy="34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азвитие представления детей о свете и тени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Дидактические игры: «Подбери пару», «Отгадай, чья тень», «Источники света» «Подари солнышку лучики», разрезные картинки «Всё, что светит ярко»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1"/>
          <a:stretch/>
        </p:blipFill>
        <p:spPr>
          <a:xfrm>
            <a:off x="2144520" y="1505880"/>
            <a:ext cx="2664360" cy="2373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4" name="Рисунок 5" descr=""/>
          <p:cNvPicPr/>
          <p:nvPr/>
        </p:nvPicPr>
        <p:blipFill>
          <a:blip r:embed="rId2"/>
          <a:stretch/>
        </p:blipFill>
        <p:spPr>
          <a:xfrm>
            <a:off x="6393240" y="1527120"/>
            <a:ext cx="2664360" cy="2394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5" name="Объект 3" descr=""/>
          <p:cNvPicPr/>
          <p:nvPr/>
        </p:nvPicPr>
        <p:blipFill>
          <a:blip r:embed="rId3"/>
          <a:stretch/>
        </p:blipFill>
        <p:spPr>
          <a:xfrm>
            <a:off x="4232880" y="3501000"/>
            <a:ext cx="2664360" cy="241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4376880" y="2061000"/>
            <a:ext cx="27093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Яркие впечатления и эмоции детей вызывала дидактическая игра: «Ящик ощущений -  это игра на развитие тактильных ощущений и ассоциативно-образного мышления у детей. Дети должны были узнать, что находится там внутри, в темноте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2"/>
          <a:stretch/>
        </p:blipFill>
        <p:spPr>
          <a:xfrm>
            <a:off x="2366280" y="4044960"/>
            <a:ext cx="27021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0" name="Рисунок 9" descr=""/>
          <p:cNvPicPr/>
          <p:nvPr/>
        </p:nvPicPr>
        <p:blipFill>
          <a:blip r:embed="rId3"/>
          <a:stretch/>
        </p:blipFill>
        <p:spPr>
          <a:xfrm>
            <a:off x="6465240" y="4044960"/>
            <a:ext cx="27093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316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Практическая работа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садка лука: 1 горшок поместили в шкаф, 1 поставили на подоконник. Узнали, что без света ничего не будет расти, если даже регулярно поливать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                                                                        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2235600" y="2133000"/>
            <a:ext cx="3148920" cy="4092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4" name="Объект 6" descr=""/>
          <p:cNvPicPr/>
          <p:nvPr/>
        </p:nvPicPr>
        <p:blipFill>
          <a:blip r:embed="rId2"/>
          <a:stretch/>
        </p:blipFill>
        <p:spPr>
          <a:xfrm>
            <a:off x="5889240" y="2077560"/>
            <a:ext cx="1357200" cy="1470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5" name="Объект 7" descr=""/>
          <p:cNvPicPr/>
          <p:nvPr/>
        </p:nvPicPr>
        <p:blipFill>
          <a:blip r:embed="rId3"/>
          <a:srcRect l="74232" t="49896" r="3260" b="9967"/>
          <a:stretch/>
        </p:blipFill>
        <p:spPr>
          <a:xfrm>
            <a:off x="7761240" y="2063520"/>
            <a:ext cx="1367640" cy="148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36" name="Текст 2"/>
          <p:cNvSpPr/>
          <p:nvPr/>
        </p:nvSpPr>
        <p:spPr>
          <a:xfrm>
            <a:off x="5817240" y="3717000"/>
            <a:ext cx="14396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1000"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Лук, который рос на подоконни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Текст 2"/>
          <p:cNvSpPr/>
          <p:nvPr/>
        </p:nvSpPr>
        <p:spPr>
          <a:xfrm>
            <a:off x="7716960" y="3712320"/>
            <a:ext cx="14396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4000"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Лук, который в шкаф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9" descr=""/>
          <p:cNvPicPr/>
          <p:nvPr/>
        </p:nvPicPr>
        <p:blipFill>
          <a:blip r:embed="rId4"/>
          <a:stretch/>
        </p:blipFill>
        <p:spPr>
          <a:xfrm>
            <a:off x="5684400" y="4179240"/>
            <a:ext cx="2220840" cy="1625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9" name="Рисунок 10" descr=""/>
          <p:cNvPicPr/>
          <p:nvPr/>
        </p:nvPicPr>
        <p:blipFill>
          <a:blip r:embed="rId5"/>
          <a:stretch/>
        </p:blipFill>
        <p:spPr>
          <a:xfrm>
            <a:off x="7260480" y="5048280"/>
            <a:ext cx="2352960" cy="1562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HyperlinkBase>https://presentation-creation.ru/powerpoint-templates.html</HyperlinkBase>
  <AppVersion>15.0000</AppVersion>
  <Words>866</Words>
  <Paragraphs>219</Paragraphs>
  <Company>presentation-creation.r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09:09:03Z</dcterms:created>
  <dc:creator>obstinate</dc:creator>
  <dc:description>Шаблон презентации с сайта https://presentation-creation.ru/</dc:description>
  <dc:language>en-US</dc:language>
  <cp:lastModifiedBy>Zh</cp:lastModifiedBy>
  <dcterms:modified xsi:type="dcterms:W3CDTF">2023-02-15T08:29:50Z</dcterms:modified>
  <cp:revision>689</cp:revision>
  <dc:subject/>
  <dc:title>Листья под солнце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Лист A4 (210x297 мм)</vt:lpwstr>
  </property>
  <property fmtid="{D5CDD505-2E9C-101B-9397-08002B2CF9AE}" pid="4" name="Slides">
    <vt:r8>14</vt:r8>
  </property>
</Properties>
</file>