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1485-A692-422D-954F-C9A69A6CA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2500-3538-4140-A9F1-5535ACF22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97A3-C8F7-4B18-B71A-F5FA72FCF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FDD0-C655-430D-88F2-08D85FBC5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E97-7D89-4C32-9D6B-87A6D3F7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B6A-85EC-4267-9136-BE13E00D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1CE-DC7C-478A-BD8D-38D5BF6A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BEE-770F-48B9-A931-7CE031D1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09F-0F2E-4BF7-8FCB-50991D09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665-C597-4402-BBC3-972DB302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48E-97B6-430B-94B5-BAE0F61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E66-7E8F-4491-9AD9-7FE5503C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F34-D5D9-4751-B81B-15393445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F93-6993-4C4A-9B53-949EA1FB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8C0-358D-4FD5-8307-63FD18A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69D-760C-4297-A19E-6DCE23F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5AF-F6C1-47EB-83FE-6587F8D8C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591516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зентация для  дошкольников «80-я годовщина освобождения Тахтамукайского района от немецко-фашистских захватчиков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полнила: воспитатель Сердюкова И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35640" y="6922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врагов поражала смелость маленьких детей, это Муся Пинкензон, он был расстрелян в Усть-Лабинской. Когда немецкий офицер попросил мальчика сыграть на скрипке, он заиграл «Интернационал», память о храбром мальчике живет и сейчас. В г. Усть-Лабинске стоит памятник маленькому скрипа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нит Адыгея и других маленьких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410866-fbf5bd16360fd2da"/>
          <p:cNvPicPr/>
          <p:nvPr/>
        </p:nvPicPr>
        <p:blipFill>
          <a:blip r:embed="rId1"/>
          <a:stretch/>
        </p:blipFill>
        <p:spPr>
          <a:xfrm>
            <a:off x="-28440" y="493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611280" y="4941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. Это бои в городе –герое Новороссий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70563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 .А это бой в Майко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410866-fbf5bd16360fd2da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925560" y="4653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. Именно на таком самолёте громил врагов наш земляк Н.А. Ищ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40626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48765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410866-fbf5bd16360fd2da"/>
          <p:cNvPicPr/>
          <p:nvPr/>
        </p:nvPicPr>
        <p:blipFill>
          <a:blip r:embed="rId1"/>
          <a:stretch/>
        </p:blipFill>
        <p:spPr>
          <a:xfrm>
            <a:off x="179280" y="-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2"/>
          <a:stretch/>
        </p:blipFill>
        <p:spPr>
          <a:xfrm>
            <a:off x="1763640" y="1981080"/>
            <a:ext cx="41418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79280" y="2274840"/>
            <a:ext cx="82803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2"/>
          <a:stretch/>
        </p:blipFill>
        <p:spPr>
          <a:xfrm>
            <a:off x="1187280" y="1947960"/>
            <a:ext cx="54007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184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жесточённые бои велись и на территории Адыг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410866-fbf5bd16360fd2da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84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6481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6551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вместе со взрослыми воевали в партизанских отрядах, устраивали диверсии против вр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6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1410866-fbf5bd16360fd2da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Ирина Сердюкова</cp:lastModifiedBy>
  <dcterms:modified xsi:type="dcterms:W3CDTF">2023-02-15T21:19:11Z</dcterms:modified>
  <cp:revision>26</cp:revision>
  <dc:subject/>
  <dc:title>Слайд 1</dc:title>
</cp:coreProperties>
</file>