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3877-4442-4258-8A02-E44B7ADFD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D5C0-8C0C-47E7-8430-1D2E7B7BFB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2830-F181-461C-8B88-64960FDC91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78FC-3962-4B0F-90D7-E67771189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CAF-F66D-4D1C-8544-57689EBB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E53-EDB0-44AF-92CD-C1C57F2A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8AA-382B-4CE5-A7E7-20F4665B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583-4149-47A4-B4C1-20D7ACC8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89D-32D3-48FA-94DB-65C8EADC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B15-D1C5-4BD5-ABAD-0D88CF4B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167-6701-481A-9826-8EBE2388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F28-C8DC-45B7-BFAC-54D5DF51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8BE-5494-419A-B262-470A13D7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D2E-FA01-49A7-BC4F-B5785020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05B-9049-4DC4-9E08-F7CA11B9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721-92AC-4FA8-BDAB-03FB3A87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F278-1998-43FE-9BC5-171E8F7A2D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5915160"/>
            <a:ext cx="914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езентация для  дошкольников «80-я годовщина освобождения Тахтамукайского района от немецко-фашистских захватчиков»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ыполнила: воспитатель Сердюкова И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48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435640" y="69228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же врагов поражала смелость маленьких детей, это Муся Пинкензон, он был расстрелян в Усть-Лабинской. Когда немецкий офицер попросил мальчика сыграть на скрипке, он заиграл «Интернационал», память о храбром мальчике живет и сейчас. В г. Усть-Лабинске стоит памятник маленькому скрипа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374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мнит Адыгея и других маленьких геро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1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410866-fbf5bd16360fd2da"/>
          <p:cNvPicPr/>
          <p:nvPr/>
        </p:nvPicPr>
        <p:blipFill>
          <a:blip r:embed="rId1"/>
          <a:stretch/>
        </p:blipFill>
        <p:spPr>
          <a:xfrm>
            <a:off x="-28440" y="493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611280" y="49417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жались и на море. Это бои в городе –герое Новороссийс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1403280" y="620640"/>
            <a:ext cx="705636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684360" y="573408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 суше .А это бой в Майко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74002922_41_V_Panteleev_Na_novuye_pozicii_1984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410866-fbf5bd16360fd2da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3bf3994928ba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4032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925560" y="46530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воздухе. Именно на таком самолёте громил врагов наш земляк Н.А. Ищ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502392SovietPictures020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54594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611280" y="5661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партизанских отрядах громили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250920" y="5516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выпадали минуты затишья: солдаты отдыхали, пели песни и писали письма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40626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53341336_1262654265_0_29209_f5e241_orig"/>
          <p:cNvPicPr/>
          <p:nvPr/>
        </p:nvPicPr>
        <p:blipFill>
          <a:blip r:embed="rId2"/>
          <a:stretch/>
        </p:blipFill>
        <p:spPr>
          <a:xfrm>
            <a:off x="468360" y="260280"/>
            <a:ext cx="8180280" cy="5457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539640" y="566100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ие солдатские треугольники приходили с фр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2879_or"/>
          <p:cNvPicPr/>
          <p:nvPr/>
        </p:nvPicPr>
        <p:blipFill>
          <a:blip r:embed="rId2"/>
          <a:stretch/>
        </p:blipFill>
        <p:spPr>
          <a:xfrm>
            <a:off x="539640" y="189000"/>
            <a:ext cx="8137800" cy="5518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539640" y="57340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мая война, которая длилась 4года закончилась в Бер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156360" y="189000"/>
            <a:ext cx="287964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АЯ СВЯЩЕНН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тыре часа утра 22 июня 1941 года войска фашистской Германии напали на нашу Родину. Сотни самолетов  и танков вторглись на нашу землю. Началась Великая Отечественная война. До этого германская армия уже успела завоевать много стран, и от многих городов не осталось камня на камне – было разрушено много городов и сел и дере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48765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1410866-fbf5bd16360fd2da"/>
          <p:cNvPicPr/>
          <p:nvPr/>
        </p:nvPicPr>
        <p:blipFill>
          <a:blip r:embed="rId1"/>
          <a:stretch/>
        </p:blipFill>
        <p:spPr>
          <a:xfrm>
            <a:off x="179280" y="-190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4572000" y="765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долгожданная победа! Солдаты возвращаются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2"/>
          <a:stretch/>
        </p:blipFill>
        <p:spPr>
          <a:xfrm>
            <a:off x="1763640" y="1981080"/>
            <a:ext cx="41418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 не вс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79280" y="2274840"/>
            <a:ext cx="828036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58765454_021"/>
          <p:cNvPicPr/>
          <p:nvPr/>
        </p:nvPicPr>
        <p:blipFill>
          <a:blip r:embed="rId2"/>
          <a:stretch/>
        </p:blipFill>
        <p:spPr>
          <a:xfrm>
            <a:off x="539640" y="0"/>
            <a:ext cx="8209080" cy="5464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79280" y="544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люди не забывали эту войну, помнили тех, кто отдал свою жизнь, чтобы жили мы с вами в мире – во многих городах был зажжен Вечный ого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250920" y="26028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аждого из нас через войну прошли бабушки и дедушки, прабабушки и прадедушки. Они воевали на фронте, трудились день и ночь в тылу – на заводах и фабриках, в колхозах. К сожалению, с каждым годом таких людей становится все и меньше, и поэтому все они должны быть окружены вниманием, почетом и уваж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1" descr=""/>
          <p:cNvPicPr/>
          <p:nvPr/>
        </p:nvPicPr>
        <p:blipFill>
          <a:blip r:embed="rId2"/>
          <a:stretch/>
        </p:blipFill>
        <p:spPr>
          <a:xfrm>
            <a:off x="1187280" y="1947960"/>
            <a:ext cx="54007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611280" y="5084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ащиту Родины встал весь народ: и молодые и старые, женщины и дети. Все, кто остались в тылу рыли окопы, заменили своих мужчин у станков и в поле, шили теплые вещи для фро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1847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жесточённые бои велись и на территории Адыг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80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410866-fbf5bd16360fd2da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840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108000" y="5445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ам небольшого роста ставили подставки, так как они недоставали до станка. Иногда они от голода и усталости падали прямо у ста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1042920" y="1417680"/>
            <a:ext cx="64818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324000" y="5661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быстро становились взрослыми, оказывая посильную помощь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6551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вместе со взрослыми воевали в партизанских отрядах, устраивали диверсии против вр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Объект 3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4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Объект 6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1410866-fbf5bd16360fd2da"/>
          <p:cNvPicPr/>
          <p:nvPr/>
        </p:nvPicPr>
        <p:blipFill>
          <a:blip r:embed="rId2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"/>
          <p:cNvPicPr/>
          <p:nvPr/>
        </p:nvPicPr>
        <p:blipFill>
          <a:blip r:embed="rId3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6:38:11Z</dcterms:created>
  <dc:creator>Пользователь</dc:creator>
  <dc:description/>
  <dc:language>en-US</dc:language>
  <cp:lastModifiedBy>Ирина Сердюкова</cp:lastModifiedBy>
  <dcterms:modified xsi:type="dcterms:W3CDTF">2023-02-15T21:19:11Z</dcterms:modified>
  <cp:revision>26</cp:revision>
  <dc:subject/>
  <dc:title>Слайд 1</dc:title>
</cp:coreProperties>
</file>