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D9F-6C3B-474C-BBE7-48CA58A4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28D-4597-4570-BD22-7AA64E41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5F6-8787-4117-8554-19A27C69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086-92DB-4488-8F0E-8D08B79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0C8-CCA0-4DCD-A5E1-6DA890EE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3E5-1A09-4A3E-9353-28168CF4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F21-EA87-429C-9578-619F51B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FF0-0327-4251-9BDD-9095FCC6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18C-E011-40EF-8795-8FEFA1BD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961-2EB1-4799-A064-DD89121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CE0-BF01-4774-99F4-6D48F655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B44-4176-495E-85AC-696C18E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CDC-239C-40E5-B217-8DE3B96A8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003320" y="836640"/>
            <a:ext cx="613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4" descr="IMG"/>
          <p:cNvPicPr/>
          <p:nvPr/>
        </p:nvPicPr>
        <p:blipFill>
          <a:blip r:embed="rId1"/>
          <a:stretch/>
        </p:blipFill>
        <p:spPr>
          <a:xfrm>
            <a:off x="4162320" y="579600"/>
            <a:ext cx="4946760" cy="4217760"/>
          </a:xfrm>
          <a:prstGeom prst="rect">
            <a:avLst/>
          </a:prstGeom>
          <a:ln w="0">
            <a:noFill/>
          </a:ln>
        </p:spPr>
      </p:pic>
      <p:sp>
        <p:nvSpPr>
          <p:cNvPr id="66" name="WordArt 25"/>
          <p:cNvSpPr txBox="1"/>
          <p:nvPr/>
        </p:nvSpPr>
        <p:spPr>
          <a:xfrm>
            <a:off x="1619280" y="189000"/>
            <a:ext cx="2590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ч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24000" y="1287360"/>
            <a:ext cx="487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ёт бычок, кач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дых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ход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Ох, доска конч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йчас я упа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IMG_0003"/>
          <p:cNvPicPr/>
          <p:nvPr/>
        </p:nvPicPr>
        <p:blipFill>
          <a:blip r:embed="rId1"/>
          <a:stretch/>
        </p:blipFill>
        <p:spPr>
          <a:xfrm>
            <a:off x="4716360" y="835200"/>
            <a:ext cx="4361040" cy="3779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619280" y="11592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324000" y="99216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ть пора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нул быч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ёг в короб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боч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нный ми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ёг в кров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лько слон не хочет сп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ловой кивает сло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слонихе шлёт покл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IMG_0004"/>
          <p:cNvPicPr/>
          <p:nvPr/>
        </p:nvPicPr>
        <p:blipFill>
          <a:blip r:embed="rId1"/>
          <a:stretch/>
        </p:blipFill>
        <p:spPr>
          <a:xfrm>
            <a:off x="4827600" y="584280"/>
            <a:ext cx="4065480" cy="3421080"/>
          </a:xfrm>
          <a:prstGeom prst="rect">
            <a:avLst/>
          </a:prstGeom>
          <a:ln w="0">
            <a:noFill/>
          </a:ln>
        </p:spPr>
      </p:pic>
      <p:sp>
        <p:nvSpPr>
          <p:cNvPr id="72" name="WordArt 7"/>
          <p:cNvSpPr txBox="1"/>
          <p:nvPr/>
        </p:nvSpPr>
        <p:spPr>
          <a:xfrm>
            <a:off x="1979640" y="260280"/>
            <a:ext cx="276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ол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341360"/>
            <a:ext cx="75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лё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троим с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несё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 ле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несёмся над лес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потом вернёмся к ма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IMG_0005"/>
          <p:cNvPicPr/>
          <p:nvPr/>
        </p:nvPicPr>
        <p:blipFill>
          <a:blip r:embed="rId1"/>
          <a:stretch/>
        </p:blipFill>
        <p:spPr>
          <a:xfrm>
            <a:off x="5651640" y="993600"/>
            <a:ext cx="3474720" cy="4091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2916360" y="333360"/>
            <a:ext cx="288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250920" y="981000"/>
            <a:ext cx="619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люблю свою лошад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ешу ей шёрстку глад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ебешком приглажу хвос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верхом поеду в г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IMG_0006"/>
          <p:cNvPicPr/>
          <p:nvPr/>
        </p:nvPicPr>
        <p:blipFill>
          <a:blip r:embed="rId1"/>
          <a:stretch/>
        </p:blipFill>
        <p:spPr>
          <a:xfrm>
            <a:off x="5288040" y="1197000"/>
            <a:ext cx="3816360" cy="396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7"/>
          <p:cNvSpPr txBox="1"/>
          <p:nvPr/>
        </p:nvSpPr>
        <p:spPr>
          <a:xfrm>
            <a:off x="3203640" y="260280"/>
            <a:ext cx="27367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я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539640" y="92880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ша Таня громко плач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нила в речку мяч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Тише, Танечка, не плач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утонет в речке мя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IMG_0007"/>
          <p:cNvPicPr/>
          <p:nvPr/>
        </p:nvPicPr>
        <p:blipFill>
          <a:blip r:embed="rId1"/>
          <a:stretch/>
        </p:blipFill>
        <p:spPr>
          <a:xfrm>
            <a:off x="5508720" y="1227240"/>
            <a:ext cx="3120840" cy="2984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3276720" y="26028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468360" y="99072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йку бросила хозяйк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дождём остался зай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 скамейки слезть не смо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ь до ниточки пром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2627280" y="260280"/>
            <a:ext cx="39607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аб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4" name="Picture 6" descr="IMG_0011"/>
          <p:cNvPicPr/>
          <p:nvPr/>
        </p:nvPicPr>
        <p:blipFill>
          <a:blip r:embed="rId1"/>
          <a:stretch/>
        </p:blipFill>
        <p:spPr>
          <a:xfrm>
            <a:off x="5148360" y="1641600"/>
            <a:ext cx="3936960" cy="3011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324000" y="1077840"/>
            <a:ext cx="583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росская ша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ёвка в ру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яну я кораб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быстрой р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скачут ляг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 мной по пя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осят ме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Прокати,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2411280" y="33336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зов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7" name="Picture 7" descr="IMG_0010"/>
          <p:cNvPicPr/>
          <p:nvPr/>
        </p:nvPicPr>
        <p:blipFill>
          <a:blip r:embed="rId1"/>
          <a:stretch/>
        </p:blipFill>
        <p:spPr>
          <a:xfrm>
            <a:off x="5003640" y="930240"/>
            <a:ext cx="4137120" cy="40831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41360" y="10731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т, напрасно мы реш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атить кота в машин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т кататься не привык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окинул грузов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IMG_0062"/>
          <p:cNvPicPr/>
          <p:nvPr/>
        </p:nvPicPr>
        <p:blipFill>
          <a:blip r:embed="rId1"/>
          <a:stretch/>
        </p:blipFill>
        <p:spPr>
          <a:xfrm>
            <a:off x="900000" y="1700280"/>
            <a:ext cx="179064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MG_0017"/>
          <p:cNvPicPr/>
          <p:nvPr/>
        </p:nvPicPr>
        <p:blipFill>
          <a:blip r:embed="rId2"/>
          <a:stretch/>
        </p:blipFill>
        <p:spPr>
          <a:xfrm>
            <a:off x="3492360" y="1700280"/>
            <a:ext cx="1727280" cy="239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IMG_0032"/>
          <p:cNvPicPr/>
          <p:nvPr/>
        </p:nvPicPr>
        <p:blipFill>
          <a:blip r:embed="rId3"/>
          <a:stretch/>
        </p:blipFill>
        <p:spPr>
          <a:xfrm>
            <a:off x="5867280" y="1700280"/>
            <a:ext cx="1673280" cy="244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G_0027"/>
          <p:cNvPicPr/>
          <p:nvPr/>
        </p:nvPicPr>
        <p:blipFill>
          <a:blip r:embed="rId4"/>
          <a:stretch/>
        </p:blipFill>
        <p:spPr>
          <a:xfrm>
            <a:off x="6877080" y="4292640"/>
            <a:ext cx="196056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MG_0022"/>
          <p:cNvPicPr/>
          <p:nvPr/>
        </p:nvPicPr>
        <p:blipFill>
          <a:blip r:embed="rId5"/>
          <a:stretch/>
        </p:blipFill>
        <p:spPr>
          <a:xfrm>
            <a:off x="4788000" y="4292640"/>
            <a:ext cx="1531800" cy="242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G_0008"/>
          <p:cNvPicPr/>
          <p:nvPr/>
        </p:nvPicPr>
        <p:blipFill>
          <a:blip r:embed="rId6"/>
          <a:stretch/>
        </p:blipFill>
        <p:spPr>
          <a:xfrm>
            <a:off x="395280" y="4292640"/>
            <a:ext cx="1611360" cy="242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IMG_0007"/>
          <p:cNvPicPr/>
          <p:nvPr/>
        </p:nvPicPr>
        <p:blipFill>
          <a:blip r:embed="rId7"/>
          <a:stretch/>
        </p:blipFill>
        <p:spPr>
          <a:xfrm>
            <a:off x="2556000" y="4292640"/>
            <a:ext cx="1541160" cy="2421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1187280" y="260280"/>
            <a:ext cx="67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итаем произ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Л. Бар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900000" y="404640"/>
            <a:ext cx="42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чевая  разминка…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Рамка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1648" y="111648"/>
                </a:moveTo>
                <a:lnTo>
                  <a:pt x="111648" y="6746352"/>
                </a:lnTo>
                <a:lnTo>
                  <a:pt x="9032352" y="6746352"/>
                </a:lnTo>
                <a:lnTo>
                  <a:pt x="9032352" y="111648"/>
                </a:lnTo>
                <a:lnTo>
                  <a:pt x="111648" y="111648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1268280"/>
            <a:ext cx="424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дверях висе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мок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заперти сиде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Щенок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се уш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 одно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 дом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перл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онкурс чтецов &quot;Мои четвероногие друзья&quot;"/>
          <p:cNvPicPr/>
          <p:nvPr/>
        </p:nvPicPr>
        <p:blipFill>
          <a:blip r:embed="rId1"/>
          <a:stretch/>
        </p:blipFill>
        <p:spPr>
          <a:xfrm>
            <a:off x="6443640" y="314280"/>
            <a:ext cx="2232000" cy="30830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46" name="Picture 2" descr="Трезор"/>
          <p:cNvPicPr/>
          <p:nvPr/>
        </p:nvPicPr>
        <p:blipFill>
          <a:blip r:embed="rId2"/>
          <a:stretch/>
        </p:blipFill>
        <p:spPr>
          <a:xfrm>
            <a:off x="4716360" y="3860640"/>
            <a:ext cx="4227480" cy="2721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12"/>
          <p:cNvSpPr/>
          <p:nvPr/>
        </p:nvSpPr>
        <p:spPr>
          <a:xfrm flipH="1">
            <a:off x="2842920" y="1268280"/>
            <a:ext cx="7308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 flipH="1">
            <a:off x="2195640" y="1773360"/>
            <a:ext cx="727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0"/>
          <p:cNvSpPr/>
          <p:nvPr/>
        </p:nvSpPr>
        <p:spPr>
          <a:xfrm flipH="1">
            <a:off x="2916360" y="2205000"/>
            <a:ext cx="71280" cy="22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2"/>
          <p:cNvSpPr/>
          <p:nvPr/>
        </p:nvSpPr>
        <p:spPr>
          <a:xfrm flipH="1">
            <a:off x="1763280" y="4724280"/>
            <a:ext cx="7164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.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11280" y="333360"/>
            <a:ext cx="6840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(что сделал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68360" y="40464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Щенок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Маленький, озор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рвал, перевернул, убежал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Где же 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ывод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зорник, шал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187280" y="189000"/>
            <a:ext cx="669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гния Львовна Бар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Picture 5" descr="pb_015"/>
          <p:cNvPicPr/>
          <p:nvPr/>
        </p:nvPicPr>
        <p:blipFill>
          <a:blip r:embed="rId1"/>
          <a:stretch/>
        </p:blipFill>
        <p:spPr>
          <a:xfrm>
            <a:off x="0" y="1341360"/>
            <a:ext cx="4911840" cy="551664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5148360" y="364500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1906 - 198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0e14a1153f838ecb349e8794b53a7bcc.jpeg"/>
          <p:cNvPicPr/>
          <p:nvPr/>
        </p:nvPicPr>
        <p:blipFill>
          <a:blip r:embed="rId1"/>
          <a:stretch/>
        </p:blipFill>
        <p:spPr>
          <a:xfrm>
            <a:off x="179280" y="147600"/>
            <a:ext cx="876456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539640" y="1989000"/>
            <a:ext cx="813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ихи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шего дет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1200" y="260280"/>
            <a:ext cx="36831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Picture 6" descr="IMG"/>
          <p:cNvPicPr/>
          <p:nvPr/>
        </p:nvPicPr>
        <p:blipFill>
          <a:blip r:embed="rId1"/>
          <a:stretch/>
        </p:blipFill>
        <p:spPr>
          <a:xfrm>
            <a:off x="4859280" y="511200"/>
            <a:ext cx="4334040" cy="4070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539640" y="162864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нили мишку на по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орвали мишке ла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ё равно его не брош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тому что он хорош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8:27:25Z</dcterms:created>
  <dc:creator>user</dc:creator>
  <dc:description/>
  <dc:language>en-US</dc:language>
  <cp:lastModifiedBy>Пользователь</cp:lastModifiedBy>
  <dcterms:modified xsi:type="dcterms:W3CDTF">2023-01-25T12:55:07Z</dcterms:modified>
  <cp:revision>16</cp:revision>
  <dc:subject/>
  <dc:title>Слайд 1</dc:title>
</cp:coreProperties>
</file>