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315-6A3F-4A0B-923F-2AFD5505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4EE-CDD9-45BA-AA55-4DD3F67E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A3B-38EA-4372-BB6A-31629A1F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509-F12C-4F45-B0F8-40524F33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0F1-3F78-4F1F-B30C-3AD1869C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869C-832B-4C2F-8760-1D089D1D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5A46-61D8-4BF2-97F6-F69A6940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FC67-9AEB-4259-834F-AE441762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11B5-B81F-49F0-934D-3F8AEA2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5899-9DE7-49B8-A46E-93C3814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CC56-A235-4F6E-AE93-C7B543A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948-B326-4F0E-898F-FE1DEB3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0BEA-21C0-44A5-B161-F421E01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7D1C-B077-490E-81A5-F69A7E01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BEC-8B32-44DE-B032-9450B4DD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1A9E-C4B2-45ED-B74E-719098DE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3BB0-E16D-404C-B18A-88125145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9CC6-33CD-4824-8229-8050FFF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091F-0947-405F-A596-30149EB5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8743-23AB-4BB8-9117-DCF5B3B0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974E-8352-4004-9500-692352D9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FECE-5161-4093-AF6A-4E001895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5F1-A4B3-498B-A59A-845CA648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2D85-9299-4617-9C7D-945C0C42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4217-7B24-40E7-8F37-E5B2EB0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2B34-1B61-4AC3-A917-8E85390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0C6B-21E7-490A-85CC-5ABCFF64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6BCB-2D93-42F5-BDEE-1D0C410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CBF0-20FB-4F29-97B4-4AEACC9E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C50B-8A23-4AFE-BB09-29F88DE2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C5BE-B2DE-42AE-BB28-746818A3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ACB9-C485-4A16-A7AC-3CE72A45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5A27-7152-49CF-A429-5AEFA7CF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C52-1595-42AE-9D7C-D03C10D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AFA34-2A02-4369-9918-86A35D8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4B91E-2BA2-41FB-923F-CDFE20ED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B3BA-AEA8-45F6-B651-7BD6CAE4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367D-9787-425D-913B-84A32973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9052-B9B2-4FA7-8757-E539A0BA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3ECB-BE1C-4091-B4AF-13FBA7D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766D-55E7-46CF-B701-67F5C1D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D00E-4D70-41AD-920D-B73AF545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7905-B705-4BA3-B41F-008ED7BC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B90-20E5-4789-A4F3-B6B84DC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E01-DFC1-43D3-ADDA-652A7F69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AA5-0D4B-4DBF-B20D-799C757D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8BB-3BA1-4954-AF9D-5FB1B27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40E-6EE5-462B-BD1D-DC7849B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5475-DAA3-4E81-BB3F-911A0279DD5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22B-2217-43A0-876D-E7EA7D05AB8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10B0-2CEB-4FEE-938D-6C28D7E230D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7310-BE69-4F18-9337-743C90CE2D2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1720" y="620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rebuchet MS"/>
              </a:rPr>
              <a:t>Итоговое собеседование как допуск  к ОГЭ</a:t>
            </a:r>
            <a:br>
              <a:rPr sz="54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38360" y="2616120"/>
            <a:ext cx="799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2022-2023    учебном году  устное собеседование  проходит  в штатном  режим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2023   году итоговое собеседование по русскому  языку  пройдет 8  феврал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84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2. Пересказ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Способы включения высказывания 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в текст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1.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68360" y="1844640"/>
            <a:ext cx="8351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редложения с прямой речью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редложения с косвенной  речью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редложения с вводными конструкц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где лучше использовать эту цитату в переска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680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2. </a:t>
            </a:r>
            <a:r>
              <a:rPr b="1" lang="ru-RU" sz="3600" spc="-1" strike="noStrike">
                <a:solidFill>
                  <a:srgbClr val="90c226"/>
                </a:solidFill>
                <a:latin typeface="Arial"/>
              </a:rPr>
              <a:t>Типичные ошибки </a:t>
            </a:r>
            <a:br>
              <a:rPr sz="2900"/>
            </a:br>
            <a:r>
              <a:rPr b="1" lang="ru-RU" sz="3600" spc="-1" strike="noStrike">
                <a:solidFill>
                  <a:srgbClr val="90c226"/>
                </a:solidFill>
                <a:latin typeface="Arial"/>
              </a:rPr>
              <a:t> при пересказе  текс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11280" y="1844640"/>
            <a:ext cx="8001000" cy="40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еоправданно </a:t>
            </a: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длинные паузы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 реч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искажения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в произношении имён собственных и терминов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фактические ошибки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при пересказ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сжатый пересказ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место подробног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пропуски важных микротем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тек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неумение логично включать</a:t>
            </a: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высказывание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 переск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неумение использовать способы цитирования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 реч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где лучше использовать эту цитату в переска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680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2. Пересказ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8360" y="1484280"/>
          <a:ext cx="8229600" cy="5132520"/>
        </p:xfrm>
        <a:graphic>
          <a:graphicData uri="http://schemas.openxmlformats.org/drawingml/2006/table">
            <a:tbl>
              <a:tblPr/>
              <a:tblGrid>
                <a:gridCol w="2098800"/>
                <a:gridCol w="5686200"/>
                <a:gridCol w="444600"/>
              </a:tblGrid>
              <a:tr h="314640">
                <a:tc gridSpan="3">
                  <a:txBody>
                    <a:bodyPr lIns="0" rIns="0" tIns="0" bIns="0" anchor="t">
                      <a:noAutofit/>
                    </a:bodyPr>
                    <a:p>
                      <a:pPr marL="169920"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пересказа текста с включением приведённого высказ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  при пересказе микротем текста  П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сновные микротемы исходного текста сохра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ущена или добавлена одна микротема и 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rowSpan="3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фактологической точности п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казе  П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х ошибок, связанных с пониманием текста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фактические ошибк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высказы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ённое высказывание включено в текст во время пересказа уместно, лог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ённое высказывание включено в текст во время пересказа не уместно и не лог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ённое высказывание не включено в текст во время переск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rowSpan="3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цитирования П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ошибки при цитировани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 grid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 и №2. Чтение. Пересказ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9640" y="1773360"/>
          <a:ext cx="8229600" cy="4757760"/>
        </p:xfrm>
        <a:graphic>
          <a:graphicData uri="http://schemas.openxmlformats.org/drawingml/2006/table">
            <a:tbl>
              <a:tblPr/>
              <a:tblGrid>
                <a:gridCol w="2098800"/>
                <a:gridCol w="5684760"/>
                <a:gridCol w="446040"/>
              </a:tblGrid>
              <a:tr h="323640">
                <a:tc gridSpan="3">
                  <a:txBody>
                    <a:bodyPr lIns="0" rIns="0" tIns="0" bIns="0" anchor="t">
                      <a:noAutofit/>
                    </a:bodyPr>
                    <a:p>
                      <a:pPr marL="169920"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правильности речи (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грамматических норм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х ошибок нет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грамматические ошибк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орфоэпически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эпически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одной орфоэпической 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орфоэпические ошибки (две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речевых но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трёх речевых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речевые ошибки (четыре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ажение с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ажений слов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искажения слов (одно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95280" y="1484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3.  Монологическое  высказы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ся три 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ответствуют трём типам речи: описание (на основе фотографии), повествование (на основе жизненного опыта), рассуждение (ответ на поставленный вопрос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выбрать одну тему их трё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нужно строить в соответствии с выбранным типом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онологическом высказывании нельзя допускать искажений слов, орфоэпических, грамматических и речевых ошибок, нельзя использовать сленг, речевые конструкции должны быть разнообраз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должен состоять из 10 предложений (3 мин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даётся 1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Задание №3. Монолог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39640" y="2133720"/>
            <a:ext cx="849636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Определите тему монологического высказывания (праздник, чтение, спорт, отдых и др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Рассмотрите фотографию очень внимательно.  Как правило, на ней запечатлены люди, совершающие какие-либо действия (или занимающиеся каким-либо видом деятельности). Выделите на снимке главное и ответьте на вопросы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: кто изображён на фотографии и чем он занят?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о чём, возможно, думает? какие чувства скорее всего испытывает?  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Обязательно</a:t>
            </a:r>
            <a:r>
              <a:rPr b="1" i="1" lang="ru-RU" sz="1600" spc="-1" strike="noStrike">
                <a:solidFill>
                  <a:srgbClr val="404040"/>
                </a:solidFill>
                <a:latin typeface="Trebuchet MS"/>
              </a:rPr>
              <a:t> с</a:t>
            </a: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вязывайте свои ответы с темой описани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Обратите внимание на примерный план, предложенный в карточке участника собеседования. Постарайтесь включить все пункты этого плана в свой отв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rebuchet MS"/>
              </a:rPr>
              <a:t>Не забывайте о количественном показателе: не менее 10 фра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Задание №3. Монолог. Описание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539640" y="149868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ишите фотограф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те рассказ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проходит мероприят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инимает участ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ют ребята и взросл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присутствующ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Рисунок 4" descr="http://85.142.162.126/os/docs/BD98FF424631BFE24D6010A4B1266CA8/docs/68AD6DA2BD4DAD954A62C5425B01E320/xs3docsrc68AD6DA2BD4DAD954A62C5425B01E320_2_1499689842.jpg"/>
          <p:cNvPicPr/>
          <p:nvPr/>
        </p:nvPicPr>
        <p:blipFill>
          <a:blip r:embed="rId1"/>
          <a:stretch/>
        </p:blipFill>
        <p:spPr>
          <a:xfrm>
            <a:off x="5076720" y="3789360"/>
            <a:ext cx="3959280" cy="288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Повествова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1189080" y="549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Рисунок 4" descr="C:\Users\Алёна\Desktop\Устное собеседование по рус яз 9 кл\innerimg0.jpg"/>
          <p:cNvPicPr/>
          <p:nvPr/>
        </p:nvPicPr>
        <p:blipFill>
          <a:blip r:embed="rId1"/>
          <a:stretch/>
        </p:blipFill>
        <p:spPr>
          <a:xfrm>
            <a:off x="5148360" y="4005360"/>
            <a:ext cx="3887640" cy="275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13516200" y="2742480"/>
            <a:ext cx="361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ределите тему монологического высказывания (праздник, поход, загородная поездка, учебное мероприятие и др.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берите из событий своей жизни то, о котором будете рассказывать. Ответьте на вопросы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где и когда произошло событие? кто его участники? как событие планировалось, подготавливалось (начиналось)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Затем восстановите последовательность развития события (рассказывая о нём, вы можете использовать сло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начал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зате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 итог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и др.) Обязательно поразмышляйте об отношении участников события к происходившему. Вспомните, чем всё завершилось. Сделайте вывод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ройте повествование, пользуясь примерным планом, предложенным в карточке участника собеседования. Постарайтесь включить все пункты этого плана в свой отв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 забывайте о количественном показателе: не менее 10 фра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Повествова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4960" y="174960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скажите о своём пох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удьте рассказ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, куда и с кем Вы ходили в похо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казалось самым трудным в поход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ачества характера вырабатываются в поход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ход влияет на взаимоотношения в коллекти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Рисунок 4" descr="http://85.142.162.126/os/docs/BD98FF424631BFE24D6010A4B1266CA8/docs/CBF3F571408ABC6A4D310532E33DED12/xs3docsrcCBF3F571408ABC6A4D310532E33DED12_2_1499771848.jpg"/>
          <p:cNvPicPr/>
          <p:nvPr/>
        </p:nvPicPr>
        <p:blipFill>
          <a:blip r:embed="rId1"/>
          <a:stretch/>
        </p:blipFill>
        <p:spPr>
          <a:xfrm>
            <a:off x="4782960" y="4076640"/>
            <a:ext cx="427356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Рассужде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12720" y="2060640"/>
            <a:ext cx="849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13516920" y="2696040"/>
            <a:ext cx="361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ределите тему монологического высказывания и главный вопрос, на который вам предстоит ответить (они сформулированы в карточке участника собеседования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помните, как строится текст-рассуждение. Сформулируйт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ези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мысль, которую вы будете обосновывать), подберит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оказательст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примеры, которыми подтверждается тезис), сделайт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Используйте сложноподчинённые предложения, которые позволяют выразить значения причины, цели, следствия и др. Помните, что ваше высказывание не должно быть категоричным (достичь этого помогают вводные конструкц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я дума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мне представляет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озмож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ероят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-видимом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 др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ройте рассуждение, пользуясь примерным планом, предложенным в карточке участника собеседования. Постарайтесь включить все пункты этого плана в свой отве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Основные требования проведения ИС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95280" y="2205000"/>
            <a:ext cx="8366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удитория должна быть обеспечена звукозаписывающей аппаратуро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обеседование только с одним участником в одной аудитории в один момент времен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а одного участника отводится 15-16 мин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частник должен набрать 10-20 баллов для зачёта (допуска к ОГЭ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. Монолог. Рассуждение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900000" y="2205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ли нужно следовать мо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        </a:t>
            </a:r>
            <a:r>
              <a:rPr b="1" lang="ru-RU" sz="3200" spc="-1" strike="noStrike">
                <a:solidFill>
                  <a:srgbClr val="b00000"/>
                </a:solidFill>
                <a:latin typeface="Trebuchet MS"/>
              </a:rPr>
              <a:t>Задание №3. Монолог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773360"/>
          <a:ext cx="8640720" cy="4619520"/>
        </p:xfrm>
        <a:graphic>
          <a:graphicData uri="http://schemas.openxmlformats.org/drawingml/2006/table">
            <a:tbl>
              <a:tblPr/>
              <a:tblGrid>
                <a:gridCol w="1871640"/>
                <a:gridCol w="6205320"/>
                <a:gridCol w="563760"/>
              </a:tblGrid>
              <a:tr h="299880">
                <a:tc gridSpan="3">
                  <a:txBody>
                    <a:bodyPr lIns="0" rIns="0" tIns="0" bIns="0" anchor="t">
                      <a:noAutofit/>
                    </a:bodyPr>
                    <a:p>
                      <a:pPr marL="79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монологического высказывания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коммуникативной 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справился с коммуникативной задачей. Приведено не менее 10 фраз по теме высказывания. Фактические ошибки 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уемый предпринял попытку справиться с коммуникативной задаче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л фактические ошиб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ёл менее 10 фраз по теме высказ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ёт условий речев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 учт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е учт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оформление монологического высказ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азывание характеризуется смысловой цельностью, речевой связностью и последовательностью изложения: логические ошибки отсутствуют, последовательность изложения не наруш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ние нелогично, изложение непоследовательно. Присутствуют логические ошибки (одна и боле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gridSpan="2"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95280" y="14842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4.  Диа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тся темы для диалога (или участник сам выбирает тему, например, рассказ о своём увлечении)  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седник должен «разговорить» ребёнка, расположить к се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ограничений участника и экзаменатора в вопросах и отв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г и диалог оценивается вме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4. Диалог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95280" y="171288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те участие в обсуждении вопроса: «Компьютерные игры: за и против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юбите ли Вы играть в компьютерные игры? А Ваши друзь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положительные стороны Вы видите в увлечении компьютерными игр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чему многие считают, что компьютерные игры приносят вред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гут ли компьютерные игры быть единственной формой досуг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оветуйте своим сверстникам, как правильно организовать свой дос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4. Диалог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95280" y="148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90400" y="2276640"/>
          <a:ext cx="8250480" cy="3009600"/>
        </p:xfrm>
        <a:graphic>
          <a:graphicData uri="http://schemas.openxmlformats.org/drawingml/2006/table">
            <a:tbl>
              <a:tblPr/>
              <a:tblGrid>
                <a:gridCol w="1687680"/>
                <a:gridCol w="6119640"/>
                <a:gridCol w="443160"/>
              </a:tblGrid>
              <a:tr h="4014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диалога (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справился с коммуникативной задачей. Даны ответы на все вопросы в диало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на вопросы не 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ы односложные отв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2"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ёт условий речев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тены условия речев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е у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gridSpan="2"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за всё за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3 и №4. Монолог. Диалог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95280" y="148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01560" y="1484280"/>
          <a:ext cx="8229600" cy="4846680"/>
        </p:xfrm>
        <a:graphic>
          <a:graphicData uri="http://schemas.openxmlformats.org/drawingml/2006/table">
            <a:tbl>
              <a:tblPr/>
              <a:tblGrid>
                <a:gridCol w="2097360"/>
                <a:gridCol w="5686200"/>
                <a:gridCol w="446040"/>
              </a:tblGrid>
              <a:tr h="324000">
                <a:tc gridSpan="3">
                  <a:txBody>
                    <a:bodyPr lIns="0" rIns="0" tIns="0" bIns="0" anchor="t">
                      <a:noAutofit/>
                    </a:bodyPr>
                    <a:p>
                      <a:pPr marL="169920" algn="ctr">
                        <a:lnSpc>
                          <a:spcPts val="165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правильности речи (Р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грамматических норм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х ошибок нет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грамматические ошибки (одна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орфоэпически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эпически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двух орфоэпических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орфоэпические ошибки (три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речевых но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х ошибок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не более трёх речевых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речевые ошибки (четыре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 row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оформление 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в целом отличается богатством и точностью словаря, используются разнообразные синтаксические констр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отличается бедностью и/или неточностью словаря, и/или используются однотипные синтаксические констр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2"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1560" y="2781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rebuchet MS"/>
              </a:rPr>
              <a:t>Спасибо за внимание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95280" y="148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1720" y="21420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rebuchet MS"/>
              </a:rPr>
              <a:t>СТРУКТУРА  ИТОГОВОГО  СОБЕСЕДОВАНИЯ</a:t>
            </a:r>
            <a:br>
              <a:rPr sz="4400"/>
            </a:br>
            <a:br>
              <a:rPr sz="29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85840" y="1571760"/>
            <a:ext cx="8643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 собеседование  по русскому  языку  состоит из двух  частей,    включающих  в себя  4 зад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Чтение вслух небольшого  текста. Время на подготовку – до 2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 2.  Пересказать прочитанный текст, дополнив  его  высказыванием.  Чтение вслух небольшого  текста. Время на подготовку – до 2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 3:  выбрать один из  трех предложенных вариантов для беседы: описание фотографии,  повествование на основе жизненного  опыта, рассуждение по поставленному  вопросу.  Время на подготовку   -   1 мину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    Диалог по теме предыдущего  за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время ответа – 15-16 минут, включая время на подготов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Arial"/>
              </a:rPr>
              <a:t>Типичные ошибки при чтении текста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92200" y="1844640"/>
            <a:ext cx="8001000" cy="79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умение пользоваться дополнительными графическими обозначениями – орфоэпические ошибки допускаются в словах, в которых стоит знак удар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ая постановка удар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кажения в чтении имён собственных, терминов, научной и публицистической лекси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грамматических ошибок при склонении имён числитель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ленный темп чтения, монотонная интонац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ое прочтение окончания зависимого сло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на слов по смысл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на целых слов по оптическому сходст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пуски: а) слов; б) слогов; в) бук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становки: а) слов; б) слогов; в) букв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50920" y="1268280"/>
            <a:ext cx="87850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1. Чтение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 текста 170-180 сл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научного характера (физика, география, биология, астрономия, научные исследования, биография писателя, учёного, путешественника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сте много терминов, собственных имён, имён числительных в виде цифр (их нужно уметь склонять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я текст, обучающийся должен соблюдать орфоэпические, грамматические  и  речевые  нормы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ть искажений при произнесении слов (1 искажение – 0 баллов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интонацию (перечисление, обособленные члены и т.п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в среднем темпе (1сек. = 2слова, 152 слова – 1мин. 20сек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к чтению даётся – 2 мин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6520" y="779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. Чтение</a:t>
            </a:r>
            <a:br>
              <a:rPr sz="2900"/>
            </a:b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-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Внимательно прочитайте текст. Постарайтесь представить то, о чём в нём говорится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Определите тему, основную мысль, основной тон высказывания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Подумайте, с какой целью вы будете читать этот текст, в чём будете убеждать своих слушателей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Обращайте внимание на знаки препинания: они указывают на места логических пауз и их длительность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Найдите слова, на которые падает логическое ударение. 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Прочитайте предложенный отрывок про себя, разделив каждое предложение на смысловые отрезки, чтобы при чтении вслух использовать правильную интонацию.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Прочитайте текст сначала шёпотом, а потом вслух. 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-Не торопитесь при чтении текста, выдерживайте средний темп речи.</a:t>
            </a:r>
            <a:br>
              <a:rPr sz="16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Рисунок 3" descr="http://85.142.162.126/os/docs/BD98FF424631BFE24D6010A4B1266CA8/questions/APR16.bank.IX.01.18/innerimg0.jpg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6800" y="764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. Чтение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24000" y="1557360"/>
            <a:ext cx="871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 прочитайте текст вслух. У Вас есть 2 минуты на подготовк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ывок из статьи Ибрагимхалила Магомедова «В иголках круглый год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 – тонко организованная натура, если можно так сказать. Она, жительница просторов, начинает болеть, чахнуть, если ей приходится дышать загрязнённым городским воздух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и ели появились на Земле около 300 миллионов лет назад. Это были крупные деревья с развитой древесной системой и листьями, некоторые из них достигали метра. Свой современный вид ель обрела в меловом периоде мезозойской эры, 100–130 миллионов лет назад. Отпечатки её игольчатых листьев в геологических отложениях встречаются вместе с окаменевшими останками гигантских яще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ели, относящиеся к семейству сосновых, произрастают во всех зонах умеренного климата Европы, Азии и Северной Америки. Из 40 видов этого хвойного растения в России встречается восемь. Взрослые ели в благоприятных условиях достигают 40–45 метров в высоту, ствол прямой, стройный. Диаметр самых крупных деревьев – более метра. Цветут ели в мае. Плодоносят 25–30 лет. Ели – долгожители, некоторые из них живут до 500 л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Рисунок 3" descr="http://85.142.162.126/os/docs/BD98FF424631BFE24D6010A4B1266CA8/questions/APR16.bank.IX.16.20/innerimg0.jpg"/>
          <p:cNvPicPr/>
          <p:nvPr/>
        </p:nvPicPr>
        <p:blipFill>
          <a:blip r:embed="rId1"/>
          <a:stretch/>
        </p:blipFill>
        <p:spPr>
          <a:xfrm>
            <a:off x="7667640" y="36360"/>
            <a:ext cx="1471680" cy="152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Задание №1. Чтение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1916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1960" y="1916280"/>
          <a:ext cx="8641080" cy="3127320"/>
        </p:xfrm>
        <a:graphic>
          <a:graphicData uri="http://schemas.openxmlformats.org/drawingml/2006/table">
            <a:tbl>
              <a:tblPr/>
              <a:tblGrid>
                <a:gridCol w="1408320"/>
                <a:gridCol w="6669000"/>
                <a:gridCol w="563760"/>
              </a:tblGrid>
              <a:tr h="299880">
                <a:tc gridSpan="3">
                  <a:txBody>
                    <a:bodyPr lIns="0" rIns="0" tIns="0" bIns="0" anchor="t">
                      <a:noAutofit/>
                    </a:bodyPr>
                    <a:p>
                      <a:pPr marL="79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 чтения вслу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 соответствует пунктуационному оформлению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 не соответствует пунктуационному оформлению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ч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чтения соответствует коммуникативной задач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чтения не соответствует коммуникативной задач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gridSpan="2"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68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rebuchet MS"/>
              </a:rPr>
              <a:t>Модели  заданий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72960" y="836640"/>
            <a:ext cx="866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№2.  Перес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 пересказ прочитанного текста из Задания №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найти ключевые слова, составить план, выделить микро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й текст убир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сказ нужно включить предложенную цитату, используя разные способы цит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у нужно включить так, чтобы это было уместно и логич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у можно зачит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итировании нужно сказать, чьё это высказы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казе нельзя допускать искажений слов, орфоэпических, грамматических и речевых ошиб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ть фактических ошиб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готовку к пересказу даётся  до 2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23-01-24T18:58:40Z</dcterms:modified>
  <cp:revision>109</cp:revision>
  <dc:subject/>
  <dc:title>Слайд 1</dc:title>
</cp:coreProperties>
</file>