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219-2BA9-45B9-99AD-6BDD7F6B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12F-7250-4DCF-BFE7-632E294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CB7-43E0-48F4-9F19-E24F5E96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19F-8E75-43F1-9D6E-E3AC0A55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8C5-0561-4072-9EB1-3AA36083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D66A-2EBE-4AC6-A55A-2FC74BA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E27-876E-4230-A347-2194CADA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09CE-EF98-41C0-A101-8457C38B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144F-0B57-43E4-9782-FE20F07E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005-112A-41DB-9253-75C1767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0C6-E31F-46EC-BF68-9E94584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8E6-66D9-440F-BAC3-47D8D38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642-ED11-40A3-BCF7-3EB3432A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36C-F348-4CD7-A9CA-2D0931B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D77-12D2-4F97-A720-D11E26B9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7B4-E9FB-48CC-B3CB-6718DA48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82E-76DE-44C2-A3A0-FCB6A162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A613-A225-4FD4-AEC5-351E3AA5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9445-754B-48C4-A6E0-2B653541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6372-A669-4BA0-A01B-070CA8B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20C4-1021-449A-840F-C9053EE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E7B1-4E15-4CDA-8F72-4E0FDA93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A10-7CD5-4577-8AC6-AF31580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1AC0-F1F1-4785-96DA-BDC03D7E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18E1-3889-4101-A7AF-01DFF3F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1CC07-EC2D-4E31-9C05-AF6155B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DBED-4377-444F-AD76-68ABA6A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6D7F-608A-46A8-B344-6E9B4D0D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1168-E61D-4331-B869-14C4F618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AD81-80C4-4824-B1AB-38BD783D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2D97-0AB8-4995-A518-150C504A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D32C-4A60-4AAC-96C3-2257017A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805F-0E1F-4575-93CC-2D58CE72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FBB-814D-4F3E-9EF9-A364FC6C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5E20-1375-4CA3-8A8B-1C318D58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D78E-FFC7-4479-A22D-32BAD08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0CF3-CB14-4A4B-BAF4-89D8D01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B02F-9CCA-4F35-B6C7-CBED268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7D9E-EDAC-450D-8687-65E536F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7006-94CB-42B4-8C96-8017582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C2BC-5E3C-48DF-BC9E-787F26F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3375-FD1B-425C-8E3B-4DDDDDEC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D406-038E-48DB-A7FC-6D7765F2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EA2-7879-4F2A-968F-0717CDED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0A9-A4D5-4609-99D0-47353C7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219-4650-4E62-B581-3718378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06B-F9F0-4A38-BA56-64F85BF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71C-CAED-4EC1-B38E-463C8C8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2EB4-FA54-4297-B3FD-91A22D5B40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5085-7482-45B8-827F-F8E44DF734B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5EB-B269-44C4-8FFC-1670CD9B25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D26-08D1-48A4-8C2D-AE944528B40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1720" y="620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rebuchet MS"/>
              </a:rPr>
              <a:t>Итоговое собеседование как допуск  к ОГЭ</a:t>
            </a:r>
            <a:br>
              <a:rPr sz="54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38360" y="2616120"/>
            <a:ext cx="799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2022-2023    учебном году  устное собеседование  проходит  в штатном  режим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2023   году итоговое собеседование по русскому  языку  пройдет 8  феврал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84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Пересказ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Способы включения высказывания 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в текст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1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68360" y="1844640"/>
            <a:ext cx="8351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прямой речью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косвенной  речью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вводными конструкц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где лучше использовать эту цитату в переска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68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</a:t>
            </a:r>
            <a:r>
              <a:rPr b="1" lang="ru-RU" sz="3600" spc="-1" strike="noStrike">
                <a:solidFill>
                  <a:srgbClr val="90c226"/>
                </a:solidFill>
                <a:latin typeface="Arial"/>
              </a:rPr>
              <a:t>Типичные ошибки </a:t>
            </a:r>
            <a:br>
              <a:rPr sz="2900"/>
            </a:br>
            <a:r>
              <a:rPr b="1" lang="ru-RU" sz="3600" spc="-1" strike="noStrike">
                <a:solidFill>
                  <a:srgbClr val="90c226"/>
                </a:solidFill>
                <a:latin typeface="Arial"/>
              </a:rPr>
              <a:t> при пересказе  тек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11280" y="1844640"/>
            <a:ext cx="800100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правданно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длинные паузы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реч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искажения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в произношении имён собственных и термино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фактические ошибки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при пересказ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сжатый пересказ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место подробног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пропуски важных микротем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тек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неумение логично включать</a:t>
            </a: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высказывание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 переск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неумение использовать способы цитирования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ре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где лучше использовать эту цитату в переска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68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Пересказ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1484280"/>
          <a:ext cx="8229600" cy="5132520"/>
        </p:xfrm>
        <a:graphic>
          <a:graphicData uri="http://schemas.openxmlformats.org/drawingml/2006/table">
            <a:tbl>
              <a:tblPr/>
              <a:tblGrid>
                <a:gridCol w="2098800"/>
                <a:gridCol w="5686200"/>
                <a:gridCol w="444600"/>
              </a:tblGrid>
              <a:tr h="31464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ересказа текста с включением приведённого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  при пересказе микротем текста  П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сновные микротемы исходного текста сохра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ущена или добавлена одна микротема и 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rowSpan="3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фактологической точности п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казе  П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х ошибок, связанных с пониманием текста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фак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высказы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включено в текст во время пересказа уместно, лог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включено в текст во время пересказа не уместно и не лог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не включено в текст во время переск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rowSpan="3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цитирования П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шибки при цитировани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 и №2. Чтение. Пересказ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9640" y="1773360"/>
          <a:ext cx="8229600" cy="4757760"/>
        </p:xfrm>
        <a:graphic>
          <a:graphicData uri="http://schemas.openxmlformats.org/drawingml/2006/table">
            <a:tbl>
              <a:tblPr/>
              <a:tblGrid>
                <a:gridCol w="2098800"/>
                <a:gridCol w="5684760"/>
                <a:gridCol w="446040"/>
              </a:tblGrid>
              <a:tr h="32364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(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чески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одной орфоэпической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дв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речевы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трёх речевы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жение с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жений слов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искажения слов (одно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95280" y="1484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3.  Монологическое  высказы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ся три 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ответствуют трём типам речи: описание (на основе фотографии), повествование (на основе жизненного опыта), рассуждение (ответ на поставленный вопро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ыбрать одну тему их трё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нужно строить в соответствии с выбранным типом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нологическом высказывании нельзя допускать искажений слов, орфоэпических, грамматических и речевых ошибок, нельзя использовать сленг, речевые конструкции должны быть разнообраз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должен состоять из 10 предложений (3 мин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даётся 1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9640" y="2133720"/>
            <a:ext cx="849636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пределите тему монологического высказывания (праздник, чтение, спорт, отдых и др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Рассмотрите фотографию очень внимательно.  Как правило, на ней запечатлены люди, совершающие какие-либо действия (или занимающиеся каким-либо видом деятельности). Выделите на снимке главное и ответьте на вопросы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: кто изображён на фотографии и чем он занят?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о чём, возможно, думает? какие чувства скорее всего испытывает? 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бязательно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с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вязывайте свои ответы с темой описани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братите внимание на примерный план, предложенный в карточке участника собеседования. Постарайтесь включить все пункты этого плана в свой от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Не забывайте о количественном показателе: не менее 10 фр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. Описани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39640" y="149868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ишите фотограф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рассказ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оходит мероприят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нимает участ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ют ребята и взросл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присутствующ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Рисунок 4" descr="http://85.142.162.126/os/docs/BD98FF424631BFE24D6010A4B1266CA8/docs/68AD6DA2BD4DAD954A62C5425B01E320/xs3docsrc68AD6DA2BD4DAD954A62C5425B01E320_2_1499689842.jpg"/>
          <p:cNvPicPr/>
          <p:nvPr/>
        </p:nvPicPr>
        <p:blipFill>
          <a:blip r:embed="rId1"/>
          <a:stretch/>
        </p:blipFill>
        <p:spPr>
          <a:xfrm>
            <a:off x="5076720" y="3789360"/>
            <a:ext cx="395928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Повествова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1189080" y="549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Рисунок 4" descr="C:\Users\Алёна\Desktop\Устное собеседование по рус яз 9 кл\innerimg0.jpg"/>
          <p:cNvPicPr/>
          <p:nvPr/>
        </p:nvPicPr>
        <p:blipFill>
          <a:blip r:embed="rId1"/>
          <a:stretch/>
        </p:blipFill>
        <p:spPr>
          <a:xfrm>
            <a:off x="5148360" y="4005360"/>
            <a:ext cx="3887640" cy="275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13516200" y="2742480"/>
            <a:ext cx="361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ределите тему монологического высказывания (праздник, поход, загородная поездка, учебное мероприятие и др.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ерите из событий своей жизни то, о котором будете рассказывать. Ответьте на вопросы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где и когда произошло событие? кто его участники? как событие планировалось, подготавливалось (начиналось)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Затем восстановите последовательность развития события (рассказывая о нём, вы можете использовать сло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начал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зат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 итог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и др.) Обязательно поразмышляйте об отношении участников события к происходившему. Вспомните, чем всё завершилось. Сделайте вывод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ройте повествование, пользуясь примерным планом, предложенным в карточке участника собеседования. Постарайтесь включить все пункты этого плана в свой отв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 забывайте о количественном показателе: не менее 10 фра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Повествова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4960" y="174960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скажите о своём пох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рассказ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, куда и с кем Вы ходили в похо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алось самым трудным в поход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ачества характера вырабатываются в поход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ход влияет на взаимоотношения в коллекти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Рисунок 4" descr="http://85.142.162.126/os/docs/BD98FF424631BFE24D6010A4B1266CA8/docs/CBF3F571408ABC6A4D310532E33DED12/xs3docsrcCBF3F571408ABC6A4D310532E33DED12_2_1499771848.jpg"/>
          <p:cNvPicPr/>
          <p:nvPr/>
        </p:nvPicPr>
        <p:blipFill>
          <a:blip r:embed="rId1"/>
          <a:stretch/>
        </p:blipFill>
        <p:spPr>
          <a:xfrm>
            <a:off x="4782960" y="4076640"/>
            <a:ext cx="42735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Рассужде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2720" y="2060640"/>
            <a:ext cx="84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13516920" y="2696040"/>
            <a:ext cx="361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ределите тему монологического высказывания и главный вопрос, на который вам предстоит ответить (они сформулированы в карточке участника собеседования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помните, как строится текст-рассуждение. Сформулируй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ези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мысль, которую вы будете обосновывать), подбери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оказатель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примеры, которыми подтверждается тезис), сделай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Используйте сложноподчинённые предложения, которые позволяют выразить значения причины, цели, следствия и др. Помните, что ваше высказывание не должно быть категоричным (достичь этого помогают вводные конструкц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я дума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мне представляет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озмож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ероят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-видимо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ройте рассуждение, пользуясь примерным планом, предложенным в карточке участника собеседования. Постарайтесь включить все пункты этого плана в свой отве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Основные требования проведения ИС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2205000"/>
            <a:ext cx="8366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удитория должна быть обеспечена звукозаписывающей аппаратуро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беседование только с одним участником в одной аудитории в один момент времен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а одного участника отводится 15-16 мин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частник должен набрать 10-20 баллов для зачёта (допуска к ОГЭ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Рассужде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00000" y="2205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ли нужно следовать м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773360"/>
          <a:ext cx="8640720" cy="4619520"/>
        </p:xfrm>
        <a:graphic>
          <a:graphicData uri="http://schemas.openxmlformats.org/drawingml/2006/table">
            <a:tbl>
              <a:tblPr/>
              <a:tblGrid>
                <a:gridCol w="1871640"/>
                <a:gridCol w="6205320"/>
                <a:gridCol w="563760"/>
              </a:tblGrid>
              <a:tr h="299880">
                <a:tc gridSpan="3">
                  <a:txBody>
                    <a:bodyPr lIns="0" rIns="0" tIns="0" bIns="0" anchor="t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монологического высказывания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коммуникативной 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Приведено не менее 10 фраз по теме высказывания. Фактические ошибки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ый предпринял попытку справиться с коммуникативной задаче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 фактические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ёл менее 10 фраз по теме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 учт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оформление монологического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азывание характеризуется смысловой цельностью, речевой связностью и последовательностью изложения: логические ошибки отсутствуют, последовательность изложения не наруш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е нелогично, изложение непоследовательно. Присутствуют логические ошибки (одна и боле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2"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95280" y="14842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4.  Диа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тся темы для диалога (или участник сам выбирает тему, например, рассказ о своём увлечении)  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седник должен «разговорить» ребёнка, расположить к с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граничений участника и экзаменатора в вопросах и отв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 и диалог оценивается в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4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95280" y="171288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те участие в обсуждении вопроса: «Компьютерные игры: за и против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юбите ли Вы играть в компьютерные игры? А Ваши друзь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положительные стороны Вы видите в увлечении компьютерными игр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многие считают, что компьютерные игры приносят вре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гут ли компьютерные игры быть единственной формой досуг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оветуйте своим сверстникам, как правильно организовать свой дос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4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90400" y="2276640"/>
          <a:ext cx="8250480" cy="3009600"/>
        </p:xfrm>
        <a:graphic>
          <a:graphicData uri="http://schemas.openxmlformats.org/drawingml/2006/table">
            <a:tbl>
              <a:tblPr/>
              <a:tblGrid>
                <a:gridCol w="1687680"/>
                <a:gridCol w="6119640"/>
                <a:gridCol w="443160"/>
              </a:tblGrid>
              <a:tr h="4014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диалога (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Даны ответы на все вопросы в диало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опросы не 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ы односложные отв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2"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тены условия речев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2"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за всё за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 и №4. Монолог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1560" y="1484280"/>
          <a:ext cx="8229600" cy="4846680"/>
        </p:xfrm>
        <a:graphic>
          <a:graphicData uri="http://schemas.openxmlformats.org/drawingml/2006/table">
            <a:tbl>
              <a:tblPr/>
              <a:tblGrid>
                <a:gridCol w="2097360"/>
                <a:gridCol w="5686200"/>
                <a:gridCol w="446040"/>
              </a:tblGrid>
              <a:tr h="32400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(Р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чески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двух орфоэпически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три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речевы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трёх речевы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оформление 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в целом отличается богатством и точностью словаря, используются разнообразные синтаксические ко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отличается бедностью и/или неточностью словаря, и/или используются однотипные синтаксические ко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1560" y="2781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rebuchet MS"/>
              </a:rPr>
              <a:t>Спасибо за внимани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1720" y="2142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rebuchet MS"/>
              </a:rPr>
              <a:t>СТРУКТУРА  ИТОГОВОГО  СОБЕСЕДОВАНИЯ</a:t>
            </a:r>
            <a:br>
              <a:rPr sz="4400"/>
            </a:br>
            <a:br>
              <a:rPr sz="29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85840" y="1571760"/>
            <a:ext cx="8643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 собеседование  по русскому  языку  состоит из двух  частей,    включающих  в себя  4 зад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Чтение вслух небольшого  текста. Время на подготовку – до 2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 2.  Пересказать прочитанный текст, дополнив  его  высказыванием.  Чтение вслух небольшого  текста. Время на подготовку – до 2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 3:  выбрать один из  трех предложенных вариантов для беседы: описание фотографии,  повествование на основе жизненного  опыта, рассуждение по поставленному  вопросу.  Время на подготовку   -   1 мину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   Диалог по теме предыдущего  за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время ответа – 15-16 минут, включая время на подготов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Типичные ошибки при чтении текста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92200" y="1844640"/>
            <a:ext cx="8001000" cy="79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мение пользоваться дополнительными графическими обозначениями – орфоэпические ошибки допускаются в словах, в которых стоит знак уда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ая постановка уда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кажения в чтении имён собственных, терминов, научной и публицистической лекс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грамматических ошибок при склонении имён числитель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ленный темп чтения, монотонная интонац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ое прочтение окончания зависимого сло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на слов по смысл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на целых слов по оптическому сход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пуски: а) слов; б) слогов; в) бук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становки: а) слов; б) слогов; в) букв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50920" y="1268280"/>
            <a:ext cx="87850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1. Чтение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 текста 170-180 сл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научного характера (физика, география, биология, астрономия, научные исследования, биография писателя, учёного, путешественника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е много терминов, собственных имён, имён числительных в виде цифр (их нужно уметь склонять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я текст, обучающийся должен соблюдать орфоэпические, грамматические  и  речевые  нормы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искажений при произнесении слов (1 искажение – 0 баллов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интонацию (перечисление, обособленные члены и т.п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в среднем темпе (1сек. = 2слова, 152 слова – 1мин. 20сек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к чтению даётся – 2 мин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6520" y="779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-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Внимательно прочитайте текст. Постарайтесь представить то, о чём в нём говорится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Определите тему, основную мысль, основной тон высказывания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одумайте, с какой целью вы будете читать этот текст, в чём будете убеждать своих слушателей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Обращайте внимание на знаки препинания: они указывают на места логических пауз и их длительность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Найдите слова, на которые падает логическое ударение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рочитайте предложенный отрывок про себя, разделив каждое предложение на смысловые отрезки, чтобы при чтении вслух использовать правильную интонацию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рочитайте текст сначала шёпотом, а потом вслух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Не торопитесь при чтении текста, выдерживайте средний темп речи.</a:t>
            </a:r>
            <a:br>
              <a:rPr sz="16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Рисунок 3" descr="http://85.142.162.126/os/docs/BD98FF424631BFE24D6010A4B1266CA8/questions/APR16.bank.IX.01.18/innerimg0.jpg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680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24000" y="1557360"/>
            <a:ext cx="871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 прочитайте текст вслух. У Вас есть 2 минуты на подготовк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ывок из статьи Ибрагимхалила Магомедова «В иголках круглый го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 – тонко организованная натура, если можно так сказать. Она, жительница просторов, начинает болеть, чахнуть, если ей приходится дышать загрязнённым городским воздух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и ели появились на Земле около 300 миллионов лет назад. Это были крупные деревья с развитой древесной системой и листьями, некоторые из них достигали метра. Свой современный вид ель обрела в меловом периоде мезозойской эры, 100–130 миллионов лет назад. Отпечатки её игольчатых листьев в геологических отложениях встречаются вместе с окаменевшими останками гигантских яще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ели, относящиеся к семейству сосновых, произрастают во всех зонах умеренного климата Европы, Азии и Северной Америки. Из 40 видов этого хвойного растения в России встречается восемь. Взрослые ели в благоприятных условиях достигают 40–45 метров в высоту, ствол прямой, стройный. Диаметр самых крупных деревьев – более метра. Цветут ели в мае. Плодоносят 25–30 лет. Ели – долгожители, некоторые из них живут до 500 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Рисунок 3" descr="http://85.142.162.126/os/docs/BD98FF424631BFE24D6010A4B1266CA8/questions/APR16.bank.IX.16.20/innerimg0.jpg"/>
          <p:cNvPicPr/>
          <p:nvPr/>
        </p:nvPicPr>
        <p:blipFill>
          <a:blip r:embed="rId1"/>
          <a:stretch/>
        </p:blipFill>
        <p:spPr>
          <a:xfrm>
            <a:off x="7667640" y="36360"/>
            <a:ext cx="1471680" cy="152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1916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1960" y="1916280"/>
          <a:ext cx="8641080" cy="3127320"/>
        </p:xfrm>
        <a:graphic>
          <a:graphicData uri="http://schemas.openxmlformats.org/drawingml/2006/table">
            <a:tbl>
              <a:tblPr/>
              <a:tblGrid>
                <a:gridCol w="1408320"/>
                <a:gridCol w="6669000"/>
                <a:gridCol w="563760"/>
              </a:tblGrid>
              <a:tr h="299880">
                <a:tc gridSpan="3">
                  <a:txBody>
                    <a:bodyPr lIns="0" rIns="0" tIns="0" bIns="0" anchor="t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чтения вслу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 соответствует пунктуационному оформлению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 не соответствует пунктуационному оформлению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 соответствует коммуникативной задач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 не соответствует коммуникативной задач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2"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68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72960" y="836640"/>
            <a:ext cx="866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2.  Перес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пересказ прочитанного текста из Задания №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найти ключевые слова, составить план, выделить микро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й текст убир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сказ нужно включить предложенную цитату, используя разные способы цит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у нужно включить так, чтобы это было уместно и логич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у можно зачит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итировании нужно сказать, чьё это высказы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казе нельзя допускать искажений слов, орфоэпических, грамматических и речевых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фактических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к пересказу даётся  до 2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23-01-24T18:58:40Z</dcterms:modified>
  <cp:revision>109</cp:revision>
  <dc:subject/>
  <dc:title>Слайд 1</dc:title>
</cp:coreProperties>
</file>