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E3F-467A-4F01-BEEC-2159DB99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11C-DCBD-4D90-96D9-0A8D5653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2BF-96BE-4DCB-B546-C3B03F16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234-A9E1-4B5C-8DD6-1EFF9AD6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C87-F71C-4639-9F30-E3A4FE46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EF5-88AC-4B7C-8B4E-BEC40C7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DA0-FDA0-4241-AB9C-F774658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202-35F7-48EB-9C37-B023733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DA0-8F87-47BC-A35E-28A71DF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B4E-8595-4555-BB02-F3FFB34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877-CA52-4F9B-9255-1BCEAA6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CB4-4D18-497B-AA25-5678382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C54-D1B5-4FBE-94AF-BB762B75B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22:21Z</dcterms:created>
  <dc:creator>Сергей</dc:creator>
  <dc:description/>
  <dc:language>en-US</dc:language>
  <cp:lastModifiedBy>Svetlana Neroda</cp:lastModifiedBy>
  <dcterms:modified xsi:type="dcterms:W3CDTF">2006-06-27T05:43:48Z</dcterms:modified>
  <cp:revision>1</cp:revision>
  <dc:subject/>
  <dc:title>Слайд 1</dc:title>
</cp:coreProperties>
</file>