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03F-C24B-4A8E-BB30-EA1EFE9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7C9-08DA-4D32-9A29-B91CFD5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021-3C07-4FB3-A75F-FB91255D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75E-010B-4EEA-A36E-94C27AF9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82-B63C-4698-82CA-9F84BE78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0D3-4986-4B36-8057-A2D9E58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AB3-7895-4E39-B6B0-3C9E1C5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1AE-8BE7-483B-90F7-4626CE4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766-6162-405D-B80B-1D60F81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FE2-EE19-4CBC-9BB1-679C581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8E4-75C8-445A-91B5-3170E86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3A1-98EE-4CAC-82ED-0DBEA5A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BE4-7084-4CA9-A14E-912BB76FB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22:21Z</dcterms:created>
  <dc:creator>Сергей</dc:creator>
  <dc:description/>
  <dc:language>en-US</dc:language>
  <cp:lastModifiedBy>Svetlana Neroda</cp:lastModifiedBy>
  <dcterms:modified xsi:type="dcterms:W3CDTF">2006-06-27T05:43:48Z</dcterms:modified>
  <cp:revision>1</cp:revision>
  <dc:subject/>
  <dc:title>Слайд 1</dc:title>
</cp:coreProperties>
</file>