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E52-A7BF-4FBA-B3C7-831BFE96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CB9-68F9-43E6-A09F-E145F16E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C0C-3AAC-4CB4-88E6-92E31D11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39B-F457-45AC-B424-2E4CFF4F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B30-70CB-46B1-9746-902FBFD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1B1-2982-4D96-B8E4-5408767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4F3-DAA3-494A-8609-4457E490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3EA-640F-4360-9C53-E38C76DA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E30-B194-455A-8859-B4D6FE7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135-786F-4AE0-B3C7-A8FA03B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97F-7ABE-4412-8D47-EC8A6AF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ABE-C122-4141-9CCD-E2A7378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FCBD-344D-495F-8378-C6195C1B5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22:21Z</dcterms:created>
  <dc:creator>Сергей</dc:creator>
  <dc:description/>
  <dc:language>en-US</dc:language>
  <cp:lastModifiedBy>Svetlana Neroda</cp:lastModifiedBy>
  <dcterms:modified xsi:type="dcterms:W3CDTF">2006-06-27T05:43:48Z</dcterms:modified>
  <cp:revision>1</cp:revision>
  <dc:subject/>
  <dc:title>Слайд 1</dc:title>
</cp:coreProperties>
</file>