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A3A-F1FB-4547-9DA9-2322792B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339-CD68-4CA5-B2E1-7709D914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6DD-D97F-486C-A147-7626F3A7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26F-FBBE-4A96-97DE-117EDF08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281-1294-4C6A-9C45-A2776588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5B3-4952-4C52-8270-5921BCBB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FA1-EBC1-40E5-80E9-8D1B5545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946-5E3A-4958-8BD5-DA30DF0C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B6A-B71E-4F41-882E-227F4D84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463-A6D8-4D5A-B108-99371C1A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074-5407-4FBB-A6BF-F1012764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162F-1410-43BC-9D8B-9BB426DD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2078-2E55-460F-8CC7-837BD3D7B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1:22:21Z</dcterms:created>
  <dc:creator>Сергей</dc:creator>
  <dc:description/>
  <dc:language>en-US</dc:language>
  <cp:lastModifiedBy>Svetlana Neroda</cp:lastModifiedBy>
  <dcterms:modified xsi:type="dcterms:W3CDTF">2006-06-27T05:43:48Z</dcterms:modified>
  <cp:revision>1</cp:revision>
  <dc:subject/>
  <dc:title>Слайд 1</dc:title>
</cp:coreProperties>
</file>